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469-BB39-4CAA-A28C-57EA4B31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B96-F0C9-440A-A75C-69121D1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769-A376-4DAD-AE09-9B26CD78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219-B0A1-40D1-B1F4-E7FA9218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9D3-E8B3-468D-9617-0F4C818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A74-4BD7-4097-92BB-C7DA886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3A2-1E7E-4255-B5D8-C8433DCD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6D6-EE49-4893-896F-E6FE19E5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51A-16E6-4263-8074-8DD0D0F6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26D-88E8-4537-B958-DB4EAE0E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FDC-54C4-405E-8185-AD571C82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FAA-DFFF-44DF-89F6-614AF6E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682A-374B-4828-A552-CC3639CFD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352320" y="365760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Capitulo II.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21920" y="294840"/>
            <a:ext cx="9451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sujeto a una restricción de util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49480" y="2982960"/>
            <a:ext cx="2819520" cy="3159000"/>
          </a:xfrm>
          <a:custGeom>
            <a:avLst/>
            <a:gdLst/>
            <a:ahLst/>
            <a:rect l="l" t="t" r="r" b="b"/>
            <a:pathLst>
              <a:path w="1776" h="1990">
                <a:moveTo>
                  <a:pt x="1747" y="1971"/>
                </a:moveTo>
                <a:lnTo>
                  <a:pt x="1747" y="1971"/>
                </a:lnTo>
                <a:lnTo>
                  <a:pt x="1426" y="1960"/>
                </a:lnTo>
                <a:lnTo>
                  <a:pt x="1228" y="1941"/>
                </a:lnTo>
                <a:lnTo>
                  <a:pt x="967" y="1882"/>
                </a:lnTo>
                <a:lnTo>
                  <a:pt x="908" y="1842"/>
                </a:lnTo>
                <a:lnTo>
                  <a:pt x="810" y="1802"/>
                </a:lnTo>
                <a:lnTo>
                  <a:pt x="719" y="1732"/>
                </a:lnTo>
                <a:lnTo>
                  <a:pt x="628" y="1643"/>
                </a:lnTo>
                <a:lnTo>
                  <a:pt x="548" y="1552"/>
                </a:lnTo>
                <a:lnTo>
                  <a:pt x="480" y="1463"/>
                </a:lnTo>
                <a:lnTo>
                  <a:pt x="390" y="1295"/>
                </a:lnTo>
                <a:lnTo>
                  <a:pt x="330" y="1165"/>
                </a:lnTo>
                <a:lnTo>
                  <a:pt x="280" y="1035"/>
                </a:lnTo>
                <a:lnTo>
                  <a:pt x="209" y="857"/>
                </a:lnTo>
                <a:lnTo>
                  <a:pt x="170" y="767"/>
                </a:lnTo>
                <a:lnTo>
                  <a:pt x="119" y="597"/>
                </a:lnTo>
                <a:lnTo>
                  <a:pt x="70" y="399"/>
                </a:lnTo>
                <a:lnTo>
                  <a:pt x="30" y="229"/>
                </a:lnTo>
                <a:lnTo>
                  <a:pt x="14" y="140"/>
                </a:lnTo>
                <a:lnTo>
                  <a:pt x="8" y="71"/>
                </a:lnTo>
                <a:lnTo>
                  <a:pt x="0" y="30"/>
                </a:lnTo>
                <a:lnTo>
                  <a:pt x="0" y="0"/>
                </a:lnTo>
                <a:lnTo>
                  <a:pt x="330" y="40"/>
                </a:lnTo>
                <a:lnTo>
                  <a:pt x="658" y="9"/>
                </a:lnTo>
                <a:lnTo>
                  <a:pt x="879" y="50"/>
                </a:lnTo>
                <a:lnTo>
                  <a:pt x="1208" y="30"/>
                </a:lnTo>
                <a:lnTo>
                  <a:pt x="1387" y="80"/>
                </a:lnTo>
                <a:lnTo>
                  <a:pt x="1556" y="170"/>
                </a:lnTo>
                <a:lnTo>
                  <a:pt x="1616" y="429"/>
                </a:lnTo>
                <a:lnTo>
                  <a:pt x="1598" y="757"/>
                </a:lnTo>
                <a:lnTo>
                  <a:pt x="1776" y="1244"/>
                </a:lnTo>
                <a:lnTo>
                  <a:pt x="1776" y="1582"/>
                </a:lnTo>
                <a:lnTo>
                  <a:pt x="1717" y="1812"/>
                </a:lnTo>
                <a:lnTo>
                  <a:pt x="1747" y="1990"/>
                </a:lnTo>
                <a:lnTo>
                  <a:pt x="1747" y="1971"/>
                </a:lnTo>
                <a:lnTo>
                  <a:pt x="1747" y="197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400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27400" y="2571840"/>
            <a:ext cx="4356000" cy="4471920"/>
          </a:xfrm>
          <a:custGeom>
            <a:avLst/>
            <a:gdLst/>
            <a:ahLst/>
            <a:rect l="l" t="t" r="r" b="b"/>
            <a:pathLst>
              <a:path w="2744" h="2817">
                <a:moveTo>
                  <a:pt x="0" y="0"/>
                </a:moveTo>
                <a:lnTo>
                  <a:pt x="0" y="2816"/>
                </a:lnTo>
                <a:lnTo>
                  <a:pt x="2743" y="2816"/>
                </a:lnTo>
              </a:path>
            </a:pathLst>
          </a:custGeom>
          <a:noFill/>
          <a:ln w="4752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1040" y="2941560"/>
            <a:ext cx="2871720" cy="3178080"/>
          </a:xfrm>
          <a:custGeom>
            <a:avLst/>
            <a:gdLst/>
            <a:ahLst/>
            <a:rect l="l" t="t" r="r" b="b"/>
            <a:pathLst>
              <a:path w="1809" h="2002">
                <a:moveTo>
                  <a:pt x="0" y="0"/>
                </a:moveTo>
                <a:lnTo>
                  <a:pt x="1" y="18"/>
                </a:lnTo>
                <a:lnTo>
                  <a:pt x="2" y="31"/>
                </a:lnTo>
                <a:lnTo>
                  <a:pt x="2" y="41"/>
                </a:lnTo>
                <a:lnTo>
                  <a:pt x="4" y="49"/>
                </a:lnTo>
                <a:lnTo>
                  <a:pt x="4" y="56"/>
                </a:lnTo>
                <a:lnTo>
                  <a:pt x="4" y="61"/>
                </a:lnTo>
                <a:lnTo>
                  <a:pt x="4" y="65"/>
                </a:lnTo>
                <a:lnTo>
                  <a:pt x="6" y="66"/>
                </a:lnTo>
                <a:lnTo>
                  <a:pt x="6" y="69"/>
                </a:lnTo>
                <a:lnTo>
                  <a:pt x="6" y="71"/>
                </a:lnTo>
                <a:lnTo>
                  <a:pt x="6" y="73"/>
                </a:lnTo>
                <a:lnTo>
                  <a:pt x="7" y="75"/>
                </a:lnTo>
                <a:lnTo>
                  <a:pt x="7" y="78"/>
                </a:lnTo>
                <a:lnTo>
                  <a:pt x="8" y="83"/>
                </a:lnTo>
                <a:lnTo>
                  <a:pt x="8" y="89"/>
                </a:lnTo>
                <a:lnTo>
                  <a:pt x="10" y="96"/>
                </a:lnTo>
                <a:lnTo>
                  <a:pt x="10" y="107"/>
                </a:lnTo>
                <a:lnTo>
                  <a:pt x="12" y="119"/>
                </a:lnTo>
                <a:lnTo>
                  <a:pt x="14" y="135"/>
                </a:lnTo>
                <a:lnTo>
                  <a:pt x="18" y="153"/>
                </a:lnTo>
                <a:lnTo>
                  <a:pt x="21" y="173"/>
                </a:lnTo>
                <a:lnTo>
                  <a:pt x="25" y="194"/>
                </a:lnTo>
                <a:lnTo>
                  <a:pt x="29" y="217"/>
                </a:lnTo>
                <a:lnTo>
                  <a:pt x="34" y="240"/>
                </a:lnTo>
                <a:lnTo>
                  <a:pt x="38" y="265"/>
                </a:lnTo>
                <a:lnTo>
                  <a:pt x="44" y="290"/>
                </a:lnTo>
                <a:lnTo>
                  <a:pt x="49" y="317"/>
                </a:lnTo>
                <a:lnTo>
                  <a:pt x="55" y="342"/>
                </a:lnTo>
                <a:lnTo>
                  <a:pt x="60" y="368"/>
                </a:lnTo>
                <a:lnTo>
                  <a:pt x="66" y="394"/>
                </a:lnTo>
                <a:lnTo>
                  <a:pt x="72" y="419"/>
                </a:lnTo>
                <a:lnTo>
                  <a:pt x="77" y="443"/>
                </a:lnTo>
                <a:lnTo>
                  <a:pt x="82" y="468"/>
                </a:lnTo>
                <a:lnTo>
                  <a:pt x="88" y="493"/>
                </a:lnTo>
                <a:lnTo>
                  <a:pt x="94" y="520"/>
                </a:lnTo>
                <a:lnTo>
                  <a:pt x="102" y="546"/>
                </a:lnTo>
                <a:lnTo>
                  <a:pt x="108" y="574"/>
                </a:lnTo>
                <a:lnTo>
                  <a:pt x="116" y="601"/>
                </a:lnTo>
                <a:lnTo>
                  <a:pt x="124" y="629"/>
                </a:lnTo>
                <a:lnTo>
                  <a:pt x="132" y="655"/>
                </a:lnTo>
                <a:lnTo>
                  <a:pt x="139" y="681"/>
                </a:lnTo>
                <a:lnTo>
                  <a:pt x="147" y="707"/>
                </a:lnTo>
                <a:lnTo>
                  <a:pt x="154" y="731"/>
                </a:lnTo>
                <a:lnTo>
                  <a:pt x="162" y="753"/>
                </a:lnTo>
                <a:lnTo>
                  <a:pt x="167" y="774"/>
                </a:lnTo>
                <a:lnTo>
                  <a:pt x="174" y="791"/>
                </a:lnTo>
                <a:lnTo>
                  <a:pt x="180" y="808"/>
                </a:lnTo>
                <a:lnTo>
                  <a:pt x="186" y="820"/>
                </a:lnTo>
                <a:lnTo>
                  <a:pt x="191" y="834"/>
                </a:lnTo>
                <a:lnTo>
                  <a:pt x="196" y="847"/>
                </a:lnTo>
                <a:lnTo>
                  <a:pt x="204" y="864"/>
                </a:lnTo>
                <a:lnTo>
                  <a:pt x="211" y="881"/>
                </a:lnTo>
                <a:lnTo>
                  <a:pt x="218" y="900"/>
                </a:lnTo>
                <a:lnTo>
                  <a:pt x="226" y="919"/>
                </a:lnTo>
                <a:lnTo>
                  <a:pt x="235" y="939"/>
                </a:lnTo>
                <a:lnTo>
                  <a:pt x="244" y="959"/>
                </a:lnTo>
                <a:lnTo>
                  <a:pt x="252" y="980"/>
                </a:lnTo>
                <a:lnTo>
                  <a:pt x="261" y="1001"/>
                </a:lnTo>
                <a:lnTo>
                  <a:pt x="269" y="1021"/>
                </a:lnTo>
                <a:lnTo>
                  <a:pt x="278" y="1040"/>
                </a:lnTo>
                <a:lnTo>
                  <a:pt x="286" y="1060"/>
                </a:lnTo>
                <a:lnTo>
                  <a:pt x="294" y="1079"/>
                </a:lnTo>
                <a:lnTo>
                  <a:pt x="302" y="1097"/>
                </a:lnTo>
                <a:lnTo>
                  <a:pt x="310" y="1112"/>
                </a:lnTo>
                <a:lnTo>
                  <a:pt x="316" y="1129"/>
                </a:lnTo>
                <a:lnTo>
                  <a:pt x="324" y="1146"/>
                </a:lnTo>
                <a:lnTo>
                  <a:pt x="331" y="1165"/>
                </a:lnTo>
                <a:lnTo>
                  <a:pt x="341" y="1183"/>
                </a:lnTo>
                <a:lnTo>
                  <a:pt x="348" y="1203"/>
                </a:lnTo>
                <a:lnTo>
                  <a:pt x="358" y="1221"/>
                </a:lnTo>
                <a:lnTo>
                  <a:pt x="366" y="1241"/>
                </a:lnTo>
                <a:lnTo>
                  <a:pt x="376" y="1259"/>
                </a:lnTo>
                <a:lnTo>
                  <a:pt x="383" y="1279"/>
                </a:lnTo>
                <a:lnTo>
                  <a:pt x="392" y="1297"/>
                </a:lnTo>
                <a:lnTo>
                  <a:pt x="400" y="1314"/>
                </a:lnTo>
                <a:lnTo>
                  <a:pt x="409" y="1331"/>
                </a:lnTo>
                <a:lnTo>
                  <a:pt x="415" y="1346"/>
                </a:lnTo>
                <a:lnTo>
                  <a:pt x="422" y="1361"/>
                </a:lnTo>
                <a:lnTo>
                  <a:pt x="428" y="1373"/>
                </a:lnTo>
                <a:lnTo>
                  <a:pt x="434" y="1383"/>
                </a:lnTo>
                <a:lnTo>
                  <a:pt x="439" y="1394"/>
                </a:lnTo>
                <a:lnTo>
                  <a:pt x="444" y="1405"/>
                </a:lnTo>
                <a:lnTo>
                  <a:pt x="451" y="1419"/>
                </a:lnTo>
                <a:lnTo>
                  <a:pt x="459" y="1431"/>
                </a:lnTo>
                <a:lnTo>
                  <a:pt x="467" y="1446"/>
                </a:lnTo>
                <a:lnTo>
                  <a:pt x="477" y="1460"/>
                </a:lnTo>
                <a:lnTo>
                  <a:pt x="486" y="1475"/>
                </a:lnTo>
                <a:lnTo>
                  <a:pt x="496" y="1489"/>
                </a:lnTo>
                <a:lnTo>
                  <a:pt x="506" y="1504"/>
                </a:lnTo>
                <a:lnTo>
                  <a:pt x="516" y="1519"/>
                </a:lnTo>
                <a:lnTo>
                  <a:pt x="525" y="1534"/>
                </a:lnTo>
                <a:lnTo>
                  <a:pt x="536" y="1547"/>
                </a:lnTo>
                <a:lnTo>
                  <a:pt x="545" y="1561"/>
                </a:lnTo>
                <a:lnTo>
                  <a:pt x="555" y="1573"/>
                </a:lnTo>
                <a:lnTo>
                  <a:pt x="564" y="1585"/>
                </a:lnTo>
                <a:lnTo>
                  <a:pt x="574" y="1595"/>
                </a:lnTo>
                <a:lnTo>
                  <a:pt x="582" y="1606"/>
                </a:lnTo>
                <a:lnTo>
                  <a:pt x="591" y="1617"/>
                </a:lnTo>
                <a:lnTo>
                  <a:pt x="602" y="1629"/>
                </a:lnTo>
                <a:lnTo>
                  <a:pt x="613" y="1640"/>
                </a:lnTo>
                <a:lnTo>
                  <a:pt x="624" y="1653"/>
                </a:lnTo>
                <a:lnTo>
                  <a:pt x="636" y="1664"/>
                </a:lnTo>
                <a:lnTo>
                  <a:pt x="647" y="1677"/>
                </a:lnTo>
                <a:lnTo>
                  <a:pt x="660" y="1688"/>
                </a:lnTo>
                <a:lnTo>
                  <a:pt x="672" y="1701"/>
                </a:lnTo>
                <a:lnTo>
                  <a:pt x="684" y="1713"/>
                </a:lnTo>
                <a:lnTo>
                  <a:pt x="695" y="1724"/>
                </a:lnTo>
                <a:lnTo>
                  <a:pt x="708" y="1734"/>
                </a:lnTo>
                <a:lnTo>
                  <a:pt x="718" y="1744"/>
                </a:lnTo>
                <a:lnTo>
                  <a:pt x="730" y="1752"/>
                </a:lnTo>
                <a:lnTo>
                  <a:pt x="739" y="1761"/>
                </a:lnTo>
                <a:lnTo>
                  <a:pt x="749" y="1767"/>
                </a:lnTo>
                <a:lnTo>
                  <a:pt x="756" y="1774"/>
                </a:lnTo>
                <a:lnTo>
                  <a:pt x="765" y="1780"/>
                </a:lnTo>
                <a:lnTo>
                  <a:pt x="774" y="1787"/>
                </a:lnTo>
                <a:lnTo>
                  <a:pt x="783" y="1792"/>
                </a:lnTo>
                <a:lnTo>
                  <a:pt x="791" y="1800"/>
                </a:lnTo>
                <a:lnTo>
                  <a:pt x="800" y="1805"/>
                </a:lnTo>
                <a:lnTo>
                  <a:pt x="809" y="1812"/>
                </a:lnTo>
                <a:lnTo>
                  <a:pt x="819" y="1817"/>
                </a:lnTo>
                <a:lnTo>
                  <a:pt x="826" y="1823"/>
                </a:lnTo>
                <a:lnTo>
                  <a:pt x="834" y="1829"/>
                </a:lnTo>
                <a:lnTo>
                  <a:pt x="840" y="1835"/>
                </a:lnTo>
                <a:lnTo>
                  <a:pt x="848" y="1839"/>
                </a:lnTo>
                <a:lnTo>
                  <a:pt x="854" y="1843"/>
                </a:lnTo>
                <a:lnTo>
                  <a:pt x="859" y="1847"/>
                </a:lnTo>
                <a:lnTo>
                  <a:pt x="863" y="1849"/>
                </a:lnTo>
                <a:lnTo>
                  <a:pt x="868" y="1850"/>
                </a:lnTo>
                <a:lnTo>
                  <a:pt x="870" y="1854"/>
                </a:lnTo>
                <a:lnTo>
                  <a:pt x="874" y="1856"/>
                </a:lnTo>
                <a:lnTo>
                  <a:pt x="878" y="1859"/>
                </a:lnTo>
                <a:lnTo>
                  <a:pt x="884" y="1861"/>
                </a:lnTo>
                <a:lnTo>
                  <a:pt x="889" y="1865"/>
                </a:lnTo>
                <a:lnTo>
                  <a:pt x="896" y="1868"/>
                </a:lnTo>
                <a:lnTo>
                  <a:pt x="902" y="1871"/>
                </a:lnTo>
                <a:lnTo>
                  <a:pt x="909" y="1873"/>
                </a:lnTo>
                <a:lnTo>
                  <a:pt x="915" y="1877"/>
                </a:lnTo>
                <a:lnTo>
                  <a:pt x="922" y="1880"/>
                </a:lnTo>
                <a:lnTo>
                  <a:pt x="930" y="1884"/>
                </a:lnTo>
                <a:lnTo>
                  <a:pt x="937" y="1886"/>
                </a:lnTo>
                <a:lnTo>
                  <a:pt x="944" y="1890"/>
                </a:lnTo>
                <a:lnTo>
                  <a:pt x="951" y="1891"/>
                </a:lnTo>
                <a:lnTo>
                  <a:pt x="958" y="1895"/>
                </a:lnTo>
                <a:lnTo>
                  <a:pt x="965" y="1897"/>
                </a:lnTo>
                <a:lnTo>
                  <a:pt x="972" y="1900"/>
                </a:lnTo>
                <a:lnTo>
                  <a:pt x="980" y="1903"/>
                </a:lnTo>
                <a:lnTo>
                  <a:pt x="988" y="1907"/>
                </a:lnTo>
                <a:lnTo>
                  <a:pt x="998" y="1909"/>
                </a:lnTo>
                <a:lnTo>
                  <a:pt x="1008" y="1913"/>
                </a:lnTo>
                <a:lnTo>
                  <a:pt x="1020" y="1917"/>
                </a:lnTo>
                <a:lnTo>
                  <a:pt x="1031" y="1920"/>
                </a:lnTo>
                <a:lnTo>
                  <a:pt x="1044" y="1922"/>
                </a:lnTo>
                <a:lnTo>
                  <a:pt x="1055" y="1926"/>
                </a:lnTo>
                <a:lnTo>
                  <a:pt x="1068" y="1929"/>
                </a:lnTo>
                <a:lnTo>
                  <a:pt x="1079" y="1933"/>
                </a:lnTo>
                <a:lnTo>
                  <a:pt x="1092" y="1936"/>
                </a:lnTo>
                <a:lnTo>
                  <a:pt x="1103" y="1939"/>
                </a:lnTo>
                <a:lnTo>
                  <a:pt x="1115" y="1941"/>
                </a:lnTo>
                <a:lnTo>
                  <a:pt x="1125" y="1945"/>
                </a:lnTo>
                <a:lnTo>
                  <a:pt x="1136" y="1947"/>
                </a:lnTo>
                <a:lnTo>
                  <a:pt x="1146" y="1950"/>
                </a:lnTo>
                <a:lnTo>
                  <a:pt x="1157" y="1952"/>
                </a:lnTo>
                <a:lnTo>
                  <a:pt x="1168" y="1955"/>
                </a:lnTo>
                <a:lnTo>
                  <a:pt x="1181" y="1957"/>
                </a:lnTo>
                <a:lnTo>
                  <a:pt x="1194" y="1961"/>
                </a:lnTo>
                <a:lnTo>
                  <a:pt x="1207" y="1963"/>
                </a:lnTo>
                <a:lnTo>
                  <a:pt x="1220" y="1965"/>
                </a:lnTo>
                <a:lnTo>
                  <a:pt x="1234" y="1967"/>
                </a:lnTo>
                <a:lnTo>
                  <a:pt x="1247" y="1971"/>
                </a:lnTo>
                <a:lnTo>
                  <a:pt x="1260" y="1973"/>
                </a:lnTo>
                <a:lnTo>
                  <a:pt x="1273" y="1975"/>
                </a:lnTo>
                <a:lnTo>
                  <a:pt x="1286" y="1977"/>
                </a:lnTo>
                <a:lnTo>
                  <a:pt x="1297" y="1979"/>
                </a:lnTo>
                <a:lnTo>
                  <a:pt x="1308" y="1981"/>
                </a:lnTo>
                <a:lnTo>
                  <a:pt x="1318" y="1983"/>
                </a:lnTo>
                <a:lnTo>
                  <a:pt x="1328" y="1983"/>
                </a:lnTo>
                <a:lnTo>
                  <a:pt x="1336" y="1985"/>
                </a:lnTo>
                <a:lnTo>
                  <a:pt x="1346" y="1985"/>
                </a:lnTo>
                <a:lnTo>
                  <a:pt x="1356" y="1987"/>
                </a:lnTo>
                <a:lnTo>
                  <a:pt x="1368" y="1987"/>
                </a:lnTo>
                <a:lnTo>
                  <a:pt x="1380" y="1989"/>
                </a:lnTo>
                <a:lnTo>
                  <a:pt x="1393" y="1989"/>
                </a:lnTo>
                <a:lnTo>
                  <a:pt x="1406" y="1991"/>
                </a:lnTo>
                <a:lnTo>
                  <a:pt x="1422" y="1991"/>
                </a:lnTo>
                <a:lnTo>
                  <a:pt x="1434" y="1993"/>
                </a:lnTo>
                <a:lnTo>
                  <a:pt x="1448" y="1993"/>
                </a:lnTo>
                <a:lnTo>
                  <a:pt x="1461" y="1995"/>
                </a:lnTo>
                <a:lnTo>
                  <a:pt x="1476" y="1995"/>
                </a:lnTo>
                <a:lnTo>
                  <a:pt x="1488" y="1996"/>
                </a:lnTo>
                <a:lnTo>
                  <a:pt x="1501" y="1996"/>
                </a:lnTo>
                <a:lnTo>
                  <a:pt x="1512" y="1997"/>
                </a:lnTo>
                <a:lnTo>
                  <a:pt x="1524" y="1997"/>
                </a:lnTo>
                <a:lnTo>
                  <a:pt x="1534" y="1999"/>
                </a:lnTo>
                <a:lnTo>
                  <a:pt x="1545" y="1999"/>
                </a:lnTo>
                <a:lnTo>
                  <a:pt x="1558" y="1999"/>
                </a:lnTo>
                <a:lnTo>
                  <a:pt x="1570" y="1999"/>
                </a:lnTo>
                <a:lnTo>
                  <a:pt x="1584" y="2000"/>
                </a:lnTo>
                <a:lnTo>
                  <a:pt x="1598" y="2000"/>
                </a:lnTo>
                <a:lnTo>
                  <a:pt x="1610" y="2000"/>
                </a:lnTo>
                <a:lnTo>
                  <a:pt x="1626" y="2000"/>
                </a:lnTo>
                <a:lnTo>
                  <a:pt x="1639" y="2001"/>
                </a:lnTo>
                <a:lnTo>
                  <a:pt x="1652" y="2001"/>
                </a:lnTo>
                <a:lnTo>
                  <a:pt x="1665" y="2001"/>
                </a:lnTo>
                <a:lnTo>
                  <a:pt x="1678" y="2001"/>
                </a:lnTo>
                <a:lnTo>
                  <a:pt x="1689" y="2001"/>
                </a:lnTo>
                <a:lnTo>
                  <a:pt x="1700" y="2001"/>
                </a:lnTo>
                <a:lnTo>
                  <a:pt x="1710" y="2001"/>
                </a:lnTo>
                <a:lnTo>
                  <a:pt x="1720" y="2001"/>
                </a:lnTo>
                <a:lnTo>
                  <a:pt x="1726" y="2001"/>
                </a:lnTo>
                <a:lnTo>
                  <a:pt x="1732" y="2001"/>
                </a:lnTo>
                <a:lnTo>
                  <a:pt x="1735" y="2001"/>
                </a:lnTo>
                <a:lnTo>
                  <a:pt x="1739" y="2001"/>
                </a:lnTo>
                <a:lnTo>
                  <a:pt x="1741" y="2001"/>
                </a:lnTo>
                <a:lnTo>
                  <a:pt x="1743" y="2001"/>
                </a:lnTo>
                <a:lnTo>
                  <a:pt x="1745" y="2001"/>
                </a:lnTo>
                <a:lnTo>
                  <a:pt x="1746" y="2001"/>
                </a:lnTo>
                <a:lnTo>
                  <a:pt x="1748" y="2001"/>
                </a:lnTo>
                <a:lnTo>
                  <a:pt x="1752" y="2001"/>
                </a:lnTo>
                <a:lnTo>
                  <a:pt x="1756" y="2001"/>
                </a:lnTo>
                <a:lnTo>
                  <a:pt x="1762" y="2001"/>
                </a:lnTo>
                <a:lnTo>
                  <a:pt x="1769" y="2001"/>
                </a:lnTo>
                <a:lnTo>
                  <a:pt x="1780" y="2001"/>
                </a:lnTo>
                <a:lnTo>
                  <a:pt x="1792" y="2001"/>
                </a:lnTo>
                <a:lnTo>
                  <a:pt x="1808" y="2001"/>
                </a:lnTo>
              </a:path>
            </a:pathLst>
          </a:custGeom>
          <a:noFill/>
          <a:ln w="4752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2209680"/>
            <a:ext cx="21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c1c2"/>
                </a:solidFill>
                <a:latin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2079720"/>
            <a:ext cx="63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5720" y="6858000"/>
            <a:ext cx="636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4597560"/>
            <a:ext cx="3673440" cy="2447640"/>
          </a:xfrm>
          <a:prstGeom prst="line">
            <a:avLst/>
          </a:prstGeom>
          <a:ln w="442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33520"/>
            <a:ext cx="94518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te enfoque alternativo se llama el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du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48360" y="1969920"/>
            <a:ext cx="5172120" cy="3197520"/>
            <a:chOff x="5148360" y="1969920"/>
            <a:chExt cx="5172120" cy="3197520"/>
          </a:xfrm>
        </p:grpSpPr>
        <p:sp>
          <p:nvSpPr>
            <p:cNvPr id="285" name=""/>
            <p:cNvSpPr/>
            <p:nvPr/>
          </p:nvSpPr>
          <p:spPr>
            <a:xfrm flipV="1">
              <a:off x="5148360" y="2060280"/>
              <a:ext cx="4346640" cy="310680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92680" y="3473280"/>
              <a:ext cx="231156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sujeto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0000" y="1969920"/>
              <a:ext cx="3840480" cy="13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55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i="1" lang="en-US" sz="5500" spc="-1" strike="noStrike">
                  <a:solidFill>
                    <a:srgbClr val="ff0000"/>
                  </a:solidFill>
                  <a:latin typeface="Times New Roman"/>
                </a:rPr>
                <a:t>p x 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56440" y="2063880"/>
              <a:ext cx="34308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18200" y="2854440"/>
              <a:ext cx="19368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3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GB" sz="3000" spc="-1" strike="noStrike">
                  <a:solidFill>
                    <a:srgbClr val="ff0000"/>
                  </a:solidFill>
                  <a:latin typeface="Times New Roman"/>
                </a:rPr>
                <a:t>=1   </a:t>
              </a:r>
              <a:r>
                <a:rPr b="0" i="1" lang="en-GB" sz="3000" spc="-1" strike="noStrike">
                  <a:solidFill>
                    <a:srgbClr val="ff0000"/>
                  </a:solidFill>
                  <a:latin typeface="Times New Roman"/>
                </a:rPr>
                <a:t> i     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0640" y="3971880"/>
              <a:ext cx="3168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5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55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5500" spc="-1" strike="noStrike">
                  <a:solidFill>
                    <a:srgbClr val="ff0000"/>
                  </a:solidFill>
                  <a:latin typeface="Times New Roman"/>
                </a:rPr>
                <a:t>) </a:t>
              </a:r>
              <a:r>
                <a:rPr b="0" lang="en-US" sz="5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</a:t>
              </a:r>
              <a:r>
                <a:rPr b="0" i="1" lang="en-US" sz="5500" spc="-1" strike="noStrike">
                  <a:solidFill>
                    <a:srgbClr val="ff0000"/>
                  </a:solidFill>
                  <a:latin typeface="Times New Roman"/>
                </a:rPr>
                <a:t> u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21480" y="2222640"/>
              <a:ext cx="841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349360" y="3449520"/>
            <a:ext cx="5113080" cy="4298040"/>
            <a:chOff x="2349360" y="3449520"/>
            <a:chExt cx="5113080" cy="4298040"/>
          </a:xfrm>
        </p:grpSpPr>
        <p:grpSp>
          <p:nvGrpSpPr>
            <p:cNvPr id="293" name=""/>
            <p:cNvGrpSpPr/>
            <p:nvPr/>
          </p:nvGrpSpPr>
          <p:grpSpPr>
            <a:xfrm>
              <a:off x="4478400" y="6127920"/>
              <a:ext cx="2984040" cy="1619640"/>
              <a:chOff x="4478400" y="6127920"/>
              <a:chExt cx="2984040" cy="1619640"/>
            </a:xfrm>
          </p:grpSpPr>
          <p:sp>
            <p:nvSpPr>
              <p:cNvPr id="294" name=""/>
              <p:cNvSpPr/>
              <p:nvPr/>
            </p:nvSpPr>
            <p:spPr>
              <a:xfrm>
                <a:off x="4478400" y="6127920"/>
                <a:ext cx="1630440" cy="861840"/>
              </a:xfrm>
              <a:custGeom>
                <a:avLst/>
                <a:gdLst/>
                <a:ahLst/>
                <a:rect l="l" t="t" r="r" b="b"/>
                <a:pathLst>
                  <a:path w="1027" h="543">
                    <a:moveTo>
                      <a:pt x="1026" y="120"/>
                    </a:moveTo>
                    <a:lnTo>
                      <a:pt x="422" y="472"/>
                    </a:lnTo>
                    <a:lnTo>
                      <a:pt x="502" y="542"/>
                    </a:lnTo>
                    <a:lnTo>
                      <a:pt x="19" y="506"/>
                    </a:lnTo>
                    <a:lnTo>
                      <a:pt x="0" y="232"/>
                    </a:lnTo>
                    <a:lnTo>
                      <a:pt x="77" y="280"/>
                    </a:lnTo>
                    <a:lnTo>
                      <a:pt x="842" y="0"/>
                    </a:lnTo>
                    <a:lnTo>
                      <a:pt x="1026" y="120"/>
                    </a:lnTo>
                    <a:lnTo>
                      <a:pt x="1026" y="12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1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246400">
                <a:off x="5208120" y="6553080"/>
                <a:ext cx="2183040" cy="8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reducir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costo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349360" y="3449520"/>
              <a:ext cx="5035320" cy="3611520"/>
              <a:chOff x="2349360" y="3449520"/>
              <a:chExt cx="5035320" cy="3611520"/>
            </a:xfrm>
          </p:grpSpPr>
          <p:sp>
            <p:nvSpPr>
              <p:cNvPr id="297" name=""/>
              <p:cNvSpPr/>
              <p:nvPr/>
            </p:nvSpPr>
            <p:spPr>
              <a:xfrm>
                <a:off x="2362320" y="4597560"/>
                <a:ext cx="3673440" cy="244764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2349360" y="3998880"/>
                <a:ext cx="4230720" cy="286848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51160" y="5113440"/>
                <a:ext cx="3036960" cy="194472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52600" y="5537160"/>
                <a:ext cx="2378160" cy="152388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2350800" y="3449520"/>
                <a:ext cx="5033880" cy="341496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4102200" y="5562720"/>
            <a:ext cx="4698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9480"/>
            <a:ext cx="9453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solución al problema du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5562720"/>
            <a:ext cx="1065240" cy="1066680"/>
          </a:xfrm>
          <a:custGeom>
            <a:avLst/>
            <a:gdLst/>
            <a:ahLst/>
            <a:rect l="l" t="t" r="r" b="b"/>
            <a:pathLst>
              <a:path w="499" h="500">
                <a:moveTo>
                  <a:pt x="55" y="96"/>
                </a:moveTo>
                <a:lnTo>
                  <a:pt x="27" y="138"/>
                </a:lnTo>
                <a:lnTo>
                  <a:pt x="9" y="181"/>
                </a:lnTo>
                <a:lnTo>
                  <a:pt x="0" y="224"/>
                </a:lnTo>
                <a:lnTo>
                  <a:pt x="0" y="266"/>
                </a:lnTo>
                <a:lnTo>
                  <a:pt x="5" y="308"/>
                </a:lnTo>
                <a:lnTo>
                  <a:pt x="20" y="347"/>
                </a:lnTo>
                <a:lnTo>
                  <a:pt x="39" y="383"/>
                </a:lnTo>
                <a:lnTo>
                  <a:pt x="65" y="415"/>
                </a:lnTo>
                <a:lnTo>
                  <a:pt x="95" y="444"/>
                </a:lnTo>
                <a:lnTo>
                  <a:pt x="128" y="467"/>
                </a:lnTo>
                <a:lnTo>
                  <a:pt x="166" y="485"/>
                </a:lnTo>
                <a:lnTo>
                  <a:pt x="206" y="495"/>
                </a:lnTo>
                <a:lnTo>
                  <a:pt x="248" y="499"/>
                </a:lnTo>
                <a:lnTo>
                  <a:pt x="292" y="495"/>
                </a:lnTo>
                <a:lnTo>
                  <a:pt x="337" y="482"/>
                </a:lnTo>
                <a:lnTo>
                  <a:pt x="381" y="458"/>
                </a:lnTo>
                <a:lnTo>
                  <a:pt x="420" y="429"/>
                </a:lnTo>
                <a:lnTo>
                  <a:pt x="451" y="395"/>
                </a:lnTo>
                <a:lnTo>
                  <a:pt x="474" y="358"/>
                </a:lnTo>
                <a:lnTo>
                  <a:pt x="489" y="318"/>
                </a:lnTo>
                <a:lnTo>
                  <a:pt x="497" y="277"/>
                </a:lnTo>
                <a:lnTo>
                  <a:pt x="498" y="236"/>
                </a:lnTo>
                <a:lnTo>
                  <a:pt x="491" y="195"/>
                </a:lnTo>
                <a:lnTo>
                  <a:pt x="479" y="155"/>
                </a:lnTo>
                <a:lnTo>
                  <a:pt x="460" y="119"/>
                </a:lnTo>
                <a:lnTo>
                  <a:pt x="437" y="86"/>
                </a:lnTo>
                <a:lnTo>
                  <a:pt x="407" y="57"/>
                </a:lnTo>
                <a:lnTo>
                  <a:pt x="374" y="32"/>
                </a:lnTo>
                <a:lnTo>
                  <a:pt x="335" y="14"/>
                </a:lnTo>
                <a:lnTo>
                  <a:pt x="293" y="3"/>
                </a:lnTo>
                <a:lnTo>
                  <a:pt x="247" y="0"/>
                </a:lnTo>
                <a:lnTo>
                  <a:pt x="198" y="5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65440" y="1478160"/>
            <a:ext cx="3900600" cy="1692360"/>
          </a:xfrm>
          <a:prstGeom prst="wedgeEllipseCallout">
            <a:avLst>
              <a:gd name="adj1" fmla="val -39314"/>
              <a:gd name="adj2" fmla="val 114245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Conjunto restri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Per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87800" y="1392120"/>
            <a:ext cx="1552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0" spc="-1" strike="noStrike">
                <a:solidFill>
                  <a:srgbClr val="00c1c2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65760" y="2873520"/>
            <a:ext cx="1552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0" spc="-1" strike="noStrike">
                <a:solidFill>
                  <a:srgbClr val="00c1c2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72160" y="4280040"/>
            <a:ext cx="1552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0" spc="-1" strike="noStrike">
                <a:solidFill>
                  <a:srgbClr val="00c1c2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9880" y="4191120"/>
            <a:ext cx="83185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onde hemos visto antes  el problema dual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722160" y="633240"/>
            <a:ext cx="945360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inimización de costos de la empres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392200" y="2292480"/>
            <a:ext cx="5182920" cy="5455080"/>
            <a:chOff x="2392200" y="2292480"/>
            <a:chExt cx="5182920" cy="5455080"/>
          </a:xfrm>
        </p:grpSpPr>
        <p:sp>
          <p:nvSpPr>
            <p:cNvPr id="313" name=""/>
            <p:cNvSpPr/>
            <p:nvPr/>
          </p:nvSpPr>
          <p:spPr>
            <a:xfrm>
              <a:off x="7197840" y="6931080"/>
              <a:ext cx="123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0360" y="7108920"/>
              <a:ext cx="712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92200" y="2409840"/>
              <a:ext cx="123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76520" y="2585880"/>
              <a:ext cx="712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541600" y="2776320"/>
              <a:ext cx="0" cy="43225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41600" y="7099200"/>
              <a:ext cx="4570560" cy="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41600" y="4581360"/>
              <a:ext cx="3740040" cy="2517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56120" y="2859120"/>
              <a:ext cx="2960640" cy="3314520"/>
            </a:xfrm>
            <a:custGeom>
              <a:avLst/>
              <a:gdLst/>
              <a:ahLst/>
              <a:rect l="l" t="t" r="r" b="b"/>
              <a:pathLst>
                <a:path w="1865" h="2088">
                  <a:moveTo>
                    <a:pt x="1832" y="2067"/>
                  </a:moveTo>
                  <a:lnTo>
                    <a:pt x="1832" y="2067"/>
                  </a:lnTo>
                  <a:lnTo>
                    <a:pt x="1498" y="2056"/>
                  </a:lnTo>
                  <a:lnTo>
                    <a:pt x="1288" y="2035"/>
                  </a:lnTo>
                  <a:lnTo>
                    <a:pt x="1016" y="1972"/>
                  </a:lnTo>
                  <a:lnTo>
                    <a:pt x="953" y="1931"/>
                  </a:lnTo>
                  <a:lnTo>
                    <a:pt x="848" y="1889"/>
                  </a:lnTo>
                  <a:lnTo>
                    <a:pt x="754" y="1816"/>
                  </a:lnTo>
                  <a:lnTo>
                    <a:pt x="660" y="1722"/>
                  </a:lnTo>
                  <a:lnTo>
                    <a:pt x="576" y="1629"/>
                  </a:lnTo>
                  <a:lnTo>
                    <a:pt x="503" y="1534"/>
                  </a:lnTo>
                  <a:lnTo>
                    <a:pt x="408" y="1357"/>
                  </a:lnTo>
                  <a:lnTo>
                    <a:pt x="346" y="1221"/>
                  </a:lnTo>
                  <a:lnTo>
                    <a:pt x="294" y="1085"/>
                  </a:lnTo>
                  <a:lnTo>
                    <a:pt x="220" y="898"/>
                  </a:lnTo>
                  <a:lnTo>
                    <a:pt x="178" y="804"/>
                  </a:lnTo>
                  <a:lnTo>
                    <a:pt x="126" y="626"/>
                  </a:lnTo>
                  <a:lnTo>
                    <a:pt x="74" y="418"/>
                  </a:lnTo>
                  <a:lnTo>
                    <a:pt x="32" y="241"/>
                  </a:lnTo>
                  <a:lnTo>
                    <a:pt x="32" y="94"/>
                  </a:lnTo>
                  <a:lnTo>
                    <a:pt x="11" y="4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46" y="42"/>
                  </a:lnTo>
                  <a:lnTo>
                    <a:pt x="691" y="10"/>
                  </a:lnTo>
                  <a:lnTo>
                    <a:pt x="922" y="53"/>
                  </a:lnTo>
                  <a:lnTo>
                    <a:pt x="1267" y="31"/>
                  </a:lnTo>
                  <a:lnTo>
                    <a:pt x="1456" y="83"/>
                  </a:lnTo>
                  <a:lnTo>
                    <a:pt x="1634" y="178"/>
                  </a:lnTo>
                  <a:lnTo>
                    <a:pt x="1696" y="449"/>
                  </a:lnTo>
                  <a:lnTo>
                    <a:pt x="1675" y="793"/>
                  </a:lnTo>
                  <a:lnTo>
                    <a:pt x="1864" y="1305"/>
                  </a:lnTo>
                  <a:lnTo>
                    <a:pt x="1864" y="1659"/>
                  </a:lnTo>
                  <a:lnTo>
                    <a:pt x="1801" y="1899"/>
                  </a:lnTo>
                  <a:lnTo>
                    <a:pt x="1832" y="2087"/>
                  </a:lnTo>
                  <a:lnTo>
                    <a:pt x="1832" y="2067"/>
                  </a:lnTo>
                  <a:lnTo>
                    <a:pt x="1832" y="2067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56120" y="2859120"/>
              <a:ext cx="2909880" cy="3298680"/>
            </a:xfrm>
            <a:custGeom>
              <a:avLst/>
              <a:gdLst/>
              <a:ahLst/>
              <a:rect l="l" t="t" r="r" b="b"/>
              <a:pathLst>
                <a:path w="1833" h="2078">
                  <a:moveTo>
                    <a:pt x="0" y="0"/>
                  </a:moveTo>
                  <a:lnTo>
                    <a:pt x="1" y="19"/>
                  </a:lnTo>
                  <a:lnTo>
                    <a:pt x="3" y="32"/>
                  </a:lnTo>
                  <a:lnTo>
                    <a:pt x="3" y="43"/>
                  </a:lnTo>
                  <a:lnTo>
                    <a:pt x="5" y="51"/>
                  </a:lnTo>
                  <a:lnTo>
                    <a:pt x="5" y="59"/>
                  </a:lnTo>
                  <a:lnTo>
                    <a:pt x="5" y="63"/>
                  </a:lnTo>
                  <a:lnTo>
                    <a:pt x="5" y="67"/>
                  </a:lnTo>
                  <a:lnTo>
                    <a:pt x="7" y="69"/>
                  </a:lnTo>
                  <a:lnTo>
                    <a:pt x="7" y="71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7" y="77"/>
                  </a:lnTo>
                  <a:lnTo>
                    <a:pt x="7" y="81"/>
                  </a:lnTo>
                  <a:lnTo>
                    <a:pt x="8" y="85"/>
                  </a:lnTo>
                  <a:lnTo>
                    <a:pt x="9" y="92"/>
                  </a:lnTo>
                  <a:lnTo>
                    <a:pt x="10" y="100"/>
                  </a:lnTo>
                  <a:lnTo>
                    <a:pt x="11" y="111"/>
                  </a:lnTo>
                  <a:lnTo>
                    <a:pt x="13" y="125"/>
                  </a:lnTo>
                  <a:lnTo>
                    <a:pt x="15" y="141"/>
                  </a:lnTo>
                  <a:lnTo>
                    <a:pt x="18" y="159"/>
                  </a:lnTo>
                  <a:lnTo>
                    <a:pt x="22" y="180"/>
                  </a:lnTo>
                  <a:lnTo>
                    <a:pt x="26" y="201"/>
                  </a:lnTo>
                  <a:lnTo>
                    <a:pt x="29" y="225"/>
                  </a:lnTo>
                  <a:lnTo>
                    <a:pt x="35" y="249"/>
                  </a:lnTo>
                  <a:lnTo>
                    <a:pt x="39" y="275"/>
                  </a:lnTo>
                  <a:lnTo>
                    <a:pt x="45" y="302"/>
                  </a:lnTo>
                  <a:lnTo>
                    <a:pt x="50" y="329"/>
                  </a:lnTo>
                  <a:lnTo>
                    <a:pt x="56" y="355"/>
                  </a:lnTo>
                  <a:lnTo>
                    <a:pt x="62" y="383"/>
                  </a:lnTo>
                  <a:lnTo>
                    <a:pt x="67" y="409"/>
                  </a:lnTo>
                  <a:lnTo>
                    <a:pt x="73" y="435"/>
                  </a:lnTo>
                  <a:lnTo>
                    <a:pt x="78" y="459"/>
                  </a:lnTo>
                  <a:lnTo>
                    <a:pt x="84" y="485"/>
                  </a:lnTo>
                  <a:lnTo>
                    <a:pt x="90" y="511"/>
                  </a:lnTo>
                  <a:lnTo>
                    <a:pt x="96" y="539"/>
                  </a:lnTo>
                  <a:lnTo>
                    <a:pt x="104" y="567"/>
                  </a:lnTo>
                  <a:lnTo>
                    <a:pt x="110" y="596"/>
                  </a:lnTo>
                  <a:lnTo>
                    <a:pt x="118" y="624"/>
                  </a:lnTo>
                  <a:lnTo>
                    <a:pt x="125" y="653"/>
                  </a:lnTo>
                  <a:lnTo>
                    <a:pt x="134" y="680"/>
                  </a:lnTo>
                  <a:lnTo>
                    <a:pt x="142" y="708"/>
                  </a:lnTo>
                  <a:lnTo>
                    <a:pt x="149" y="733"/>
                  </a:lnTo>
                  <a:lnTo>
                    <a:pt x="156" y="759"/>
                  </a:lnTo>
                  <a:lnTo>
                    <a:pt x="164" y="781"/>
                  </a:lnTo>
                  <a:lnTo>
                    <a:pt x="170" y="803"/>
                  </a:lnTo>
                  <a:lnTo>
                    <a:pt x="177" y="821"/>
                  </a:lnTo>
                  <a:lnTo>
                    <a:pt x="183" y="838"/>
                  </a:lnTo>
                  <a:lnTo>
                    <a:pt x="189" y="851"/>
                  </a:lnTo>
                  <a:lnTo>
                    <a:pt x="194" y="865"/>
                  </a:lnTo>
                  <a:lnTo>
                    <a:pt x="200" y="880"/>
                  </a:lnTo>
                  <a:lnTo>
                    <a:pt x="206" y="897"/>
                  </a:lnTo>
                  <a:lnTo>
                    <a:pt x="214" y="914"/>
                  </a:lnTo>
                  <a:lnTo>
                    <a:pt x="221" y="934"/>
                  </a:lnTo>
                  <a:lnTo>
                    <a:pt x="230" y="953"/>
                  </a:lnTo>
                  <a:lnTo>
                    <a:pt x="238" y="974"/>
                  </a:lnTo>
                  <a:lnTo>
                    <a:pt x="247" y="995"/>
                  </a:lnTo>
                  <a:lnTo>
                    <a:pt x="254" y="1017"/>
                  </a:lnTo>
                  <a:lnTo>
                    <a:pt x="264" y="1038"/>
                  </a:lnTo>
                  <a:lnTo>
                    <a:pt x="272" y="1059"/>
                  </a:lnTo>
                  <a:lnTo>
                    <a:pt x="282" y="1080"/>
                  </a:lnTo>
                  <a:lnTo>
                    <a:pt x="290" y="1101"/>
                  </a:lnTo>
                  <a:lnTo>
                    <a:pt x="299" y="1119"/>
                  </a:lnTo>
                  <a:lnTo>
                    <a:pt x="306" y="1137"/>
                  </a:lnTo>
                  <a:lnTo>
                    <a:pt x="314" y="1153"/>
                  </a:lnTo>
                  <a:lnTo>
                    <a:pt x="321" y="1172"/>
                  </a:lnTo>
                  <a:lnTo>
                    <a:pt x="328" y="1189"/>
                  </a:lnTo>
                  <a:lnTo>
                    <a:pt x="336" y="1208"/>
                  </a:lnTo>
                  <a:lnTo>
                    <a:pt x="345" y="1227"/>
                  </a:lnTo>
                  <a:lnTo>
                    <a:pt x="352" y="1247"/>
                  </a:lnTo>
                  <a:lnTo>
                    <a:pt x="362" y="1267"/>
                  </a:lnTo>
                  <a:lnTo>
                    <a:pt x="371" y="1288"/>
                  </a:lnTo>
                  <a:lnTo>
                    <a:pt x="380" y="1307"/>
                  </a:lnTo>
                  <a:lnTo>
                    <a:pt x="388" y="1326"/>
                  </a:lnTo>
                  <a:lnTo>
                    <a:pt x="397" y="1345"/>
                  </a:lnTo>
                  <a:lnTo>
                    <a:pt x="405" y="1364"/>
                  </a:lnTo>
                  <a:lnTo>
                    <a:pt x="414" y="1381"/>
                  </a:lnTo>
                  <a:lnTo>
                    <a:pt x="420" y="1397"/>
                  </a:lnTo>
                  <a:lnTo>
                    <a:pt x="428" y="1411"/>
                  </a:lnTo>
                  <a:lnTo>
                    <a:pt x="434" y="1424"/>
                  </a:lnTo>
                  <a:lnTo>
                    <a:pt x="440" y="1435"/>
                  </a:lnTo>
                  <a:lnTo>
                    <a:pt x="445" y="1447"/>
                  </a:lnTo>
                  <a:lnTo>
                    <a:pt x="451" y="1459"/>
                  </a:lnTo>
                  <a:lnTo>
                    <a:pt x="458" y="1472"/>
                  </a:lnTo>
                  <a:lnTo>
                    <a:pt x="466" y="1485"/>
                  </a:lnTo>
                  <a:lnTo>
                    <a:pt x="474" y="1500"/>
                  </a:lnTo>
                  <a:lnTo>
                    <a:pt x="484" y="1515"/>
                  </a:lnTo>
                  <a:lnTo>
                    <a:pt x="493" y="1530"/>
                  </a:lnTo>
                  <a:lnTo>
                    <a:pt x="504" y="1545"/>
                  </a:lnTo>
                  <a:lnTo>
                    <a:pt x="513" y="1561"/>
                  </a:lnTo>
                  <a:lnTo>
                    <a:pt x="523" y="1576"/>
                  </a:lnTo>
                  <a:lnTo>
                    <a:pt x="532" y="1591"/>
                  </a:lnTo>
                  <a:lnTo>
                    <a:pt x="543" y="1605"/>
                  </a:lnTo>
                  <a:lnTo>
                    <a:pt x="553" y="1620"/>
                  </a:lnTo>
                  <a:lnTo>
                    <a:pt x="563" y="1632"/>
                  </a:lnTo>
                  <a:lnTo>
                    <a:pt x="572" y="1644"/>
                  </a:lnTo>
                  <a:lnTo>
                    <a:pt x="582" y="1655"/>
                  </a:lnTo>
                  <a:lnTo>
                    <a:pt x="590" y="1666"/>
                  </a:lnTo>
                  <a:lnTo>
                    <a:pt x="600" y="1677"/>
                  </a:lnTo>
                  <a:lnTo>
                    <a:pt x="610" y="1689"/>
                  </a:lnTo>
                  <a:lnTo>
                    <a:pt x="621" y="1701"/>
                  </a:lnTo>
                  <a:lnTo>
                    <a:pt x="633" y="1714"/>
                  </a:lnTo>
                  <a:lnTo>
                    <a:pt x="644" y="1726"/>
                  </a:lnTo>
                  <a:lnTo>
                    <a:pt x="657" y="1739"/>
                  </a:lnTo>
                  <a:lnTo>
                    <a:pt x="670" y="1751"/>
                  </a:lnTo>
                  <a:lnTo>
                    <a:pt x="681" y="1765"/>
                  </a:lnTo>
                  <a:lnTo>
                    <a:pt x="694" y="1776"/>
                  </a:lnTo>
                  <a:lnTo>
                    <a:pt x="706" y="1787"/>
                  </a:lnTo>
                  <a:lnTo>
                    <a:pt x="718" y="1798"/>
                  </a:lnTo>
                  <a:lnTo>
                    <a:pt x="729" y="1809"/>
                  </a:lnTo>
                  <a:lnTo>
                    <a:pt x="740" y="1817"/>
                  </a:lnTo>
                  <a:lnTo>
                    <a:pt x="749" y="1825"/>
                  </a:lnTo>
                  <a:lnTo>
                    <a:pt x="759" y="1832"/>
                  </a:lnTo>
                  <a:lnTo>
                    <a:pt x="767" y="1839"/>
                  </a:lnTo>
                  <a:lnTo>
                    <a:pt x="776" y="1846"/>
                  </a:lnTo>
                  <a:lnTo>
                    <a:pt x="784" y="1854"/>
                  </a:lnTo>
                  <a:lnTo>
                    <a:pt x="794" y="1859"/>
                  </a:lnTo>
                  <a:lnTo>
                    <a:pt x="802" y="1867"/>
                  </a:lnTo>
                  <a:lnTo>
                    <a:pt x="812" y="1872"/>
                  </a:lnTo>
                  <a:lnTo>
                    <a:pt x="820" y="1879"/>
                  </a:lnTo>
                  <a:lnTo>
                    <a:pt x="830" y="1885"/>
                  </a:lnTo>
                  <a:lnTo>
                    <a:pt x="837" y="1891"/>
                  </a:lnTo>
                  <a:lnTo>
                    <a:pt x="845" y="1897"/>
                  </a:lnTo>
                  <a:lnTo>
                    <a:pt x="852" y="1902"/>
                  </a:lnTo>
                  <a:lnTo>
                    <a:pt x="860" y="1907"/>
                  </a:lnTo>
                  <a:lnTo>
                    <a:pt x="865" y="1912"/>
                  </a:lnTo>
                  <a:lnTo>
                    <a:pt x="871" y="1915"/>
                  </a:lnTo>
                  <a:lnTo>
                    <a:pt x="875" y="1918"/>
                  </a:lnTo>
                  <a:lnTo>
                    <a:pt x="880" y="1920"/>
                  </a:lnTo>
                  <a:lnTo>
                    <a:pt x="882" y="1923"/>
                  </a:lnTo>
                  <a:lnTo>
                    <a:pt x="886" y="1925"/>
                  </a:lnTo>
                  <a:lnTo>
                    <a:pt x="891" y="1929"/>
                  </a:lnTo>
                  <a:lnTo>
                    <a:pt x="896" y="1931"/>
                  </a:lnTo>
                  <a:lnTo>
                    <a:pt x="902" y="1934"/>
                  </a:lnTo>
                  <a:lnTo>
                    <a:pt x="908" y="1937"/>
                  </a:lnTo>
                  <a:lnTo>
                    <a:pt x="915" y="1941"/>
                  </a:lnTo>
                  <a:lnTo>
                    <a:pt x="922" y="1943"/>
                  </a:lnTo>
                  <a:lnTo>
                    <a:pt x="928" y="1947"/>
                  </a:lnTo>
                  <a:lnTo>
                    <a:pt x="936" y="1950"/>
                  </a:lnTo>
                  <a:lnTo>
                    <a:pt x="943" y="1954"/>
                  </a:lnTo>
                  <a:lnTo>
                    <a:pt x="951" y="1957"/>
                  </a:lnTo>
                  <a:lnTo>
                    <a:pt x="957" y="1960"/>
                  </a:lnTo>
                  <a:lnTo>
                    <a:pt x="964" y="1962"/>
                  </a:lnTo>
                  <a:lnTo>
                    <a:pt x="972" y="1965"/>
                  </a:lnTo>
                  <a:lnTo>
                    <a:pt x="979" y="1967"/>
                  </a:lnTo>
                  <a:lnTo>
                    <a:pt x="985" y="1971"/>
                  </a:lnTo>
                  <a:lnTo>
                    <a:pt x="993" y="1974"/>
                  </a:lnTo>
                  <a:lnTo>
                    <a:pt x="1002" y="1978"/>
                  </a:lnTo>
                  <a:lnTo>
                    <a:pt x="1013" y="1980"/>
                  </a:lnTo>
                  <a:lnTo>
                    <a:pt x="1023" y="1983"/>
                  </a:lnTo>
                  <a:lnTo>
                    <a:pt x="1034" y="1987"/>
                  </a:lnTo>
                  <a:lnTo>
                    <a:pt x="1045" y="1991"/>
                  </a:lnTo>
                  <a:lnTo>
                    <a:pt x="1058" y="1994"/>
                  </a:lnTo>
                  <a:lnTo>
                    <a:pt x="1070" y="1998"/>
                  </a:lnTo>
                  <a:lnTo>
                    <a:pt x="1082" y="2001"/>
                  </a:lnTo>
                  <a:lnTo>
                    <a:pt x="1094" y="2005"/>
                  </a:lnTo>
                  <a:lnTo>
                    <a:pt x="1107" y="2009"/>
                  </a:lnTo>
                  <a:lnTo>
                    <a:pt x="1118" y="2012"/>
                  </a:lnTo>
                  <a:lnTo>
                    <a:pt x="1130" y="2014"/>
                  </a:lnTo>
                  <a:lnTo>
                    <a:pt x="1140" y="2017"/>
                  </a:lnTo>
                  <a:lnTo>
                    <a:pt x="1152" y="2019"/>
                  </a:lnTo>
                  <a:lnTo>
                    <a:pt x="1161" y="2023"/>
                  </a:lnTo>
                  <a:lnTo>
                    <a:pt x="1172" y="2025"/>
                  </a:lnTo>
                  <a:lnTo>
                    <a:pt x="1184" y="2028"/>
                  </a:lnTo>
                  <a:lnTo>
                    <a:pt x="1197" y="2030"/>
                  </a:lnTo>
                  <a:lnTo>
                    <a:pt x="1210" y="2034"/>
                  </a:lnTo>
                  <a:lnTo>
                    <a:pt x="1223" y="2036"/>
                  </a:lnTo>
                  <a:lnTo>
                    <a:pt x="1236" y="2039"/>
                  </a:lnTo>
                  <a:lnTo>
                    <a:pt x="1251" y="2041"/>
                  </a:lnTo>
                  <a:lnTo>
                    <a:pt x="1264" y="2045"/>
                  </a:lnTo>
                  <a:lnTo>
                    <a:pt x="1277" y="2047"/>
                  </a:lnTo>
                  <a:lnTo>
                    <a:pt x="1290" y="2049"/>
                  </a:lnTo>
                  <a:lnTo>
                    <a:pt x="1304" y="2051"/>
                  </a:lnTo>
                  <a:lnTo>
                    <a:pt x="1315" y="2053"/>
                  </a:lnTo>
                  <a:lnTo>
                    <a:pt x="1326" y="2055"/>
                  </a:lnTo>
                  <a:lnTo>
                    <a:pt x="1336" y="2057"/>
                  </a:lnTo>
                  <a:lnTo>
                    <a:pt x="1346" y="2057"/>
                  </a:lnTo>
                  <a:lnTo>
                    <a:pt x="1354" y="2058"/>
                  </a:lnTo>
                  <a:lnTo>
                    <a:pt x="1364" y="2059"/>
                  </a:lnTo>
                  <a:lnTo>
                    <a:pt x="1374" y="2061"/>
                  </a:lnTo>
                  <a:lnTo>
                    <a:pt x="1387" y="2061"/>
                  </a:lnTo>
                  <a:lnTo>
                    <a:pt x="1400" y="2063"/>
                  </a:lnTo>
                  <a:lnTo>
                    <a:pt x="1413" y="2063"/>
                  </a:lnTo>
                  <a:lnTo>
                    <a:pt x="1426" y="2065"/>
                  </a:lnTo>
                  <a:lnTo>
                    <a:pt x="1441" y="2065"/>
                  </a:lnTo>
                  <a:lnTo>
                    <a:pt x="1454" y="2067"/>
                  </a:lnTo>
                  <a:lnTo>
                    <a:pt x="1468" y="2067"/>
                  </a:lnTo>
                  <a:lnTo>
                    <a:pt x="1481" y="2069"/>
                  </a:lnTo>
                  <a:lnTo>
                    <a:pt x="1496" y="2069"/>
                  </a:lnTo>
                  <a:lnTo>
                    <a:pt x="1508" y="2071"/>
                  </a:lnTo>
                  <a:lnTo>
                    <a:pt x="1521" y="2071"/>
                  </a:lnTo>
                  <a:lnTo>
                    <a:pt x="1532" y="2071"/>
                  </a:lnTo>
                  <a:lnTo>
                    <a:pt x="1545" y="2071"/>
                  </a:lnTo>
                  <a:lnTo>
                    <a:pt x="1556" y="2073"/>
                  </a:lnTo>
                  <a:lnTo>
                    <a:pt x="1567" y="2073"/>
                  </a:lnTo>
                  <a:lnTo>
                    <a:pt x="1579" y="2073"/>
                  </a:lnTo>
                  <a:lnTo>
                    <a:pt x="1592" y="2073"/>
                  </a:lnTo>
                  <a:lnTo>
                    <a:pt x="1606" y="2075"/>
                  </a:lnTo>
                  <a:lnTo>
                    <a:pt x="1619" y="2075"/>
                  </a:lnTo>
                  <a:lnTo>
                    <a:pt x="1632" y="2075"/>
                  </a:lnTo>
                  <a:lnTo>
                    <a:pt x="1647" y="2075"/>
                  </a:lnTo>
                  <a:lnTo>
                    <a:pt x="1660" y="2077"/>
                  </a:lnTo>
                  <a:lnTo>
                    <a:pt x="1674" y="2077"/>
                  </a:lnTo>
                  <a:lnTo>
                    <a:pt x="1687" y="2077"/>
                  </a:lnTo>
                  <a:lnTo>
                    <a:pt x="1700" y="2077"/>
                  </a:lnTo>
                  <a:lnTo>
                    <a:pt x="1712" y="2077"/>
                  </a:lnTo>
                  <a:lnTo>
                    <a:pt x="1723" y="2077"/>
                  </a:lnTo>
                  <a:lnTo>
                    <a:pt x="1733" y="2077"/>
                  </a:lnTo>
                  <a:lnTo>
                    <a:pt x="1743" y="2077"/>
                  </a:lnTo>
                  <a:lnTo>
                    <a:pt x="1750" y="2077"/>
                  </a:lnTo>
                  <a:lnTo>
                    <a:pt x="1755" y="2077"/>
                  </a:lnTo>
                  <a:lnTo>
                    <a:pt x="1759" y="2077"/>
                  </a:lnTo>
                  <a:lnTo>
                    <a:pt x="1763" y="2077"/>
                  </a:lnTo>
                  <a:lnTo>
                    <a:pt x="1764" y="2077"/>
                  </a:lnTo>
                  <a:lnTo>
                    <a:pt x="1766" y="2077"/>
                  </a:lnTo>
                  <a:lnTo>
                    <a:pt x="1768" y="2077"/>
                  </a:lnTo>
                  <a:lnTo>
                    <a:pt x="1771" y="2077"/>
                  </a:lnTo>
                  <a:lnTo>
                    <a:pt x="1773" y="2077"/>
                  </a:lnTo>
                  <a:lnTo>
                    <a:pt x="1776" y="2077"/>
                  </a:lnTo>
                  <a:lnTo>
                    <a:pt x="1780" y="2077"/>
                  </a:lnTo>
                  <a:lnTo>
                    <a:pt x="1786" y="2077"/>
                  </a:lnTo>
                  <a:lnTo>
                    <a:pt x="1793" y="2077"/>
                  </a:lnTo>
                  <a:lnTo>
                    <a:pt x="1804" y="2077"/>
                  </a:lnTo>
                  <a:lnTo>
                    <a:pt x="1816" y="2077"/>
                  </a:lnTo>
                  <a:lnTo>
                    <a:pt x="1832" y="2077"/>
                  </a:lnTo>
                </a:path>
              </a:pathLst>
            </a:custGeom>
            <a:noFill/>
            <a:ln w="3168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539800" y="4037040"/>
              <a:ext cx="4228920" cy="286848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40160" y="5151600"/>
              <a:ext cx="3038400" cy="194436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0360" y="5875200"/>
              <a:ext cx="2998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z*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78200" y="2292480"/>
              <a:ext cx="6541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ff8100"/>
                  </a:solidFill>
                  <a:latin typeface="Times New Roman"/>
                </a:rPr>
                <a:t>Q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57760" y="4394160"/>
              <a:ext cx="142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41600" y="5575320"/>
              <a:ext cx="2376360" cy="152388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2539800" y="3487320"/>
              <a:ext cx="5035320" cy="341460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65480" y="5308560"/>
              <a:ext cx="792360" cy="792360"/>
            </a:xfrm>
            <a:custGeom>
              <a:avLst/>
              <a:gdLst/>
              <a:ahLst/>
              <a:rect l="l" t="t" r="r" b="b"/>
              <a:pathLst>
                <a:path w="499" h="499">
                  <a:moveTo>
                    <a:pt x="55" y="401"/>
                  </a:moveTo>
                  <a:lnTo>
                    <a:pt x="27" y="360"/>
                  </a:lnTo>
                  <a:lnTo>
                    <a:pt x="9" y="318"/>
                  </a:lnTo>
                  <a:lnTo>
                    <a:pt x="0" y="275"/>
                  </a:lnTo>
                  <a:lnTo>
                    <a:pt x="0" y="232"/>
                  </a:lnTo>
                  <a:lnTo>
                    <a:pt x="5" y="192"/>
                  </a:lnTo>
                  <a:lnTo>
                    <a:pt x="20" y="153"/>
                  </a:lnTo>
                  <a:lnTo>
                    <a:pt x="39" y="117"/>
                  </a:lnTo>
                  <a:lnTo>
                    <a:pt x="65" y="83"/>
                  </a:lnTo>
                  <a:lnTo>
                    <a:pt x="95" y="56"/>
                  </a:lnTo>
                  <a:lnTo>
                    <a:pt x="128" y="32"/>
                  </a:lnTo>
                  <a:lnTo>
                    <a:pt x="166" y="14"/>
                  </a:lnTo>
                  <a:lnTo>
                    <a:pt x="206" y="3"/>
                  </a:lnTo>
                  <a:lnTo>
                    <a:pt x="248" y="0"/>
                  </a:lnTo>
                  <a:lnTo>
                    <a:pt x="292" y="4"/>
                  </a:lnTo>
                  <a:lnTo>
                    <a:pt x="337" y="17"/>
                  </a:lnTo>
                  <a:lnTo>
                    <a:pt x="381" y="39"/>
                  </a:lnTo>
                  <a:lnTo>
                    <a:pt x="420" y="70"/>
                  </a:lnTo>
                  <a:lnTo>
                    <a:pt x="451" y="104"/>
                  </a:lnTo>
                  <a:lnTo>
                    <a:pt x="474" y="141"/>
                  </a:lnTo>
                  <a:lnTo>
                    <a:pt x="489" y="180"/>
                  </a:lnTo>
                  <a:lnTo>
                    <a:pt x="497" y="222"/>
                  </a:lnTo>
                  <a:lnTo>
                    <a:pt x="498" y="263"/>
                  </a:lnTo>
                  <a:lnTo>
                    <a:pt x="491" y="304"/>
                  </a:lnTo>
                  <a:lnTo>
                    <a:pt x="479" y="342"/>
                  </a:lnTo>
                  <a:lnTo>
                    <a:pt x="460" y="380"/>
                  </a:lnTo>
                  <a:lnTo>
                    <a:pt x="437" y="414"/>
                  </a:lnTo>
                  <a:lnTo>
                    <a:pt x="407" y="444"/>
                  </a:lnTo>
                  <a:lnTo>
                    <a:pt x="374" y="467"/>
                  </a:lnTo>
                  <a:lnTo>
                    <a:pt x="335" y="485"/>
                  </a:lnTo>
                  <a:lnTo>
                    <a:pt x="293" y="496"/>
                  </a:lnTo>
                  <a:lnTo>
                    <a:pt x="247" y="498"/>
                  </a:lnTo>
                  <a:lnTo>
                    <a:pt x="198" y="492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4478400" y="6127920"/>
              <a:ext cx="2984040" cy="1619640"/>
              <a:chOff x="4478400" y="6127920"/>
              <a:chExt cx="2984040" cy="1619640"/>
            </a:xfrm>
          </p:grpSpPr>
          <p:sp>
            <p:nvSpPr>
              <p:cNvPr id="331" name=""/>
              <p:cNvSpPr/>
              <p:nvPr/>
            </p:nvSpPr>
            <p:spPr>
              <a:xfrm>
                <a:off x="4478400" y="6127920"/>
                <a:ext cx="1630440" cy="861840"/>
              </a:xfrm>
              <a:custGeom>
                <a:avLst/>
                <a:gdLst/>
                <a:ahLst/>
                <a:rect l="l" t="t" r="r" b="b"/>
                <a:pathLst>
                  <a:path w="1027" h="543">
                    <a:moveTo>
                      <a:pt x="1026" y="120"/>
                    </a:moveTo>
                    <a:lnTo>
                      <a:pt x="422" y="472"/>
                    </a:lnTo>
                    <a:lnTo>
                      <a:pt x="502" y="542"/>
                    </a:lnTo>
                    <a:lnTo>
                      <a:pt x="19" y="506"/>
                    </a:lnTo>
                    <a:lnTo>
                      <a:pt x="0" y="232"/>
                    </a:lnTo>
                    <a:lnTo>
                      <a:pt x="77" y="280"/>
                    </a:lnTo>
                    <a:lnTo>
                      <a:pt x="842" y="0"/>
                    </a:lnTo>
                    <a:lnTo>
                      <a:pt x="1026" y="120"/>
                    </a:lnTo>
                    <a:lnTo>
                      <a:pt x="1026" y="12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1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0246400">
                <a:off x="5208120" y="6553080"/>
                <a:ext cx="2183040" cy="8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reducir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costo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os tipos de minimización de costo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-195120" y="1755720"/>
            <a:ext cx="9861480" cy="5926320"/>
            <a:chOff x="-195120" y="1755720"/>
            <a:chExt cx="9861480" cy="5926320"/>
          </a:xfrm>
        </p:grpSpPr>
        <p:grpSp>
          <p:nvGrpSpPr>
            <p:cNvPr id="335" name=""/>
            <p:cNvGrpSpPr/>
            <p:nvPr/>
          </p:nvGrpSpPr>
          <p:grpSpPr>
            <a:xfrm>
              <a:off x="-195120" y="1919160"/>
              <a:ext cx="9402480" cy="5762880"/>
              <a:chOff x="-195120" y="1919160"/>
              <a:chExt cx="9402480" cy="5762880"/>
            </a:xfrm>
          </p:grpSpPr>
          <p:sp>
            <p:nvSpPr>
              <p:cNvPr id="336" name=""/>
              <p:cNvSpPr/>
              <p:nvPr/>
            </p:nvSpPr>
            <p:spPr>
              <a:xfrm>
                <a:off x="-195120" y="2298600"/>
                <a:ext cx="9402480" cy="5383440"/>
              </a:xfrm>
              <a:custGeom>
                <a:avLst/>
                <a:gdLst/>
                <a:ahLst/>
                <a:rect l="l" t="t" r="r" b="b"/>
                <a:pathLst>
                  <a:path w="5923" h="3391">
                    <a:moveTo>
                      <a:pt x="209" y="0"/>
                    </a:moveTo>
                    <a:lnTo>
                      <a:pt x="209" y="0"/>
                    </a:lnTo>
                    <a:lnTo>
                      <a:pt x="154" y="3"/>
                    </a:lnTo>
                    <a:lnTo>
                      <a:pt x="107" y="29"/>
                    </a:lnTo>
                    <a:lnTo>
                      <a:pt x="69" y="56"/>
                    </a:lnTo>
                    <a:lnTo>
                      <a:pt x="39" y="86"/>
                    </a:lnTo>
                    <a:lnTo>
                      <a:pt x="13" y="119"/>
                    </a:lnTo>
                    <a:lnTo>
                      <a:pt x="2" y="159"/>
                    </a:lnTo>
                    <a:lnTo>
                      <a:pt x="0" y="199"/>
                    </a:lnTo>
                    <a:lnTo>
                      <a:pt x="2" y="217"/>
                    </a:lnTo>
                    <a:lnTo>
                      <a:pt x="2" y="231"/>
                    </a:lnTo>
                    <a:lnTo>
                      <a:pt x="2" y="3230"/>
                    </a:lnTo>
                    <a:lnTo>
                      <a:pt x="11" y="3267"/>
                    </a:lnTo>
                    <a:lnTo>
                      <a:pt x="27" y="3305"/>
                    </a:lnTo>
                    <a:lnTo>
                      <a:pt x="55" y="3335"/>
                    </a:lnTo>
                    <a:lnTo>
                      <a:pt x="95" y="3361"/>
                    </a:lnTo>
                    <a:lnTo>
                      <a:pt x="136" y="3382"/>
                    </a:lnTo>
                    <a:lnTo>
                      <a:pt x="185" y="3387"/>
                    </a:lnTo>
                    <a:lnTo>
                      <a:pt x="232" y="3390"/>
                    </a:lnTo>
                    <a:lnTo>
                      <a:pt x="5657" y="3390"/>
                    </a:lnTo>
                    <a:lnTo>
                      <a:pt x="5668" y="3390"/>
                    </a:lnTo>
                    <a:lnTo>
                      <a:pt x="5713" y="3387"/>
                    </a:lnTo>
                    <a:lnTo>
                      <a:pt x="5774" y="3383"/>
                    </a:lnTo>
                    <a:lnTo>
                      <a:pt x="5809" y="3371"/>
                    </a:lnTo>
                    <a:lnTo>
                      <a:pt x="5848" y="3349"/>
                    </a:lnTo>
                    <a:lnTo>
                      <a:pt x="5882" y="3319"/>
                    </a:lnTo>
                    <a:lnTo>
                      <a:pt x="5907" y="3286"/>
                    </a:lnTo>
                    <a:lnTo>
                      <a:pt x="5922" y="3246"/>
                    </a:lnTo>
                    <a:lnTo>
                      <a:pt x="5922" y="3208"/>
                    </a:lnTo>
                    <a:lnTo>
                      <a:pt x="5922" y="3185"/>
                    </a:lnTo>
                    <a:lnTo>
                      <a:pt x="5915" y="3185"/>
                    </a:lnTo>
                    <a:lnTo>
                      <a:pt x="5922" y="184"/>
                    </a:lnTo>
                    <a:lnTo>
                      <a:pt x="5913" y="146"/>
                    </a:lnTo>
                    <a:lnTo>
                      <a:pt x="5892" y="110"/>
                    </a:lnTo>
                    <a:lnTo>
                      <a:pt x="5865" y="76"/>
                    </a:lnTo>
                    <a:lnTo>
                      <a:pt x="5828" y="48"/>
                    </a:lnTo>
                    <a:lnTo>
                      <a:pt x="5784" y="30"/>
                    </a:lnTo>
                    <a:lnTo>
                      <a:pt x="5739" y="20"/>
                    </a:lnTo>
                    <a:lnTo>
                      <a:pt x="5689" y="14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46840" y="1987560"/>
                <a:ext cx="3033720" cy="333360"/>
              </a:xfrm>
              <a:custGeom>
                <a:avLst/>
                <a:gdLst/>
                <a:ahLst/>
                <a:rect l="l" t="t" r="r" b="b"/>
                <a:pathLst>
                  <a:path w="1911" h="210">
                    <a:moveTo>
                      <a:pt x="1734" y="28"/>
                    </a:moveTo>
                    <a:lnTo>
                      <a:pt x="1734" y="28"/>
                    </a:lnTo>
                    <a:lnTo>
                      <a:pt x="1703" y="10"/>
                    </a:lnTo>
                    <a:lnTo>
                      <a:pt x="1666" y="1"/>
                    </a:lnTo>
                    <a:lnTo>
                      <a:pt x="1638" y="0"/>
                    </a:lnTo>
                    <a:lnTo>
                      <a:pt x="1640" y="0"/>
                    </a:lnTo>
                    <a:lnTo>
                      <a:pt x="278" y="0"/>
                    </a:lnTo>
                    <a:lnTo>
                      <a:pt x="254" y="0"/>
                    </a:lnTo>
                    <a:lnTo>
                      <a:pt x="236" y="2"/>
                    </a:lnTo>
                    <a:lnTo>
                      <a:pt x="216" y="8"/>
                    </a:lnTo>
                    <a:lnTo>
                      <a:pt x="192" y="18"/>
                    </a:lnTo>
                    <a:lnTo>
                      <a:pt x="181" y="28"/>
                    </a:lnTo>
                    <a:lnTo>
                      <a:pt x="148" y="66"/>
                    </a:lnTo>
                    <a:lnTo>
                      <a:pt x="108" y="136"/>
                    </a:lnTo>
                    <a:lnTo>
                      <a:pt x="63" y="182"/>
                    </a:lnTo>
                    <a:lnTo>
                      <a:pt x="0" y="209"/>
                    </a:lnTo>
                    <a:lnTo>
                      <a:pt x="1910" y="209"/>
                    </a:lnTo>
                    <a:lnTo>
                      <a:pt x="1844" y="174"/>
                    </a:lnTo>
                    <a:lnTo>
                      <a:pt x="1808" y="136"/>
                    </a:lnTo>
                    <a:lnTo>
                      <a:pt x="1762" y="57"/>
                    </a:lnTo>
                    <a:lnTo>
                      <a:pt x="1734" y="28"/>
                    </a:lnTo>
                    <a:lnTo>
                      <a:pt x="1734" y="28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36760" y="1943280"/>
                <a:ext cx="3216600" cy="377640"/>
              </a:xfrm>
              <a:custGeom>
                <a:avLst/>
                <a:gdLst/>
                <a:ahLst/>
                <a:rect l="l" t="t" r="r" b="b"/>
                <a:pathLst>
                  <a:path w="2026" h="238">
                    <a:moveTo>
                      <a:pt x="1838" y="46"/>
                    </a:moveTo>
                    <a:lnTo>
                      <a:pt x="1838" y="46"/>
                    </a:lnTo>
                    <a:lnTo>
                      <a:pt x="1807" y="25"/>
                    </a:lnTo>
                    <a:lnTo>
                      <a:pt x="1766" y="4"/>
                    </a:lnTo>
                    <a:lnTo>
                      <a:pt x="1737" y="0"/>
                    </a:lnTo>
                    <a:lnTo>
                      <a:pt x="295" y="3"/>
                    </a:lnTo>
                    <a:lnTo>
                      <a:pt x="270" y="3"/>
                    </a:lnTo>
                    <a:lnTo>
                      <a:pt x="249" y="6"/>
                    </a:lnTo>
                    <a:lnTo>
                      <a:pt x="229" y="13"/>
                    </a:lnTo>
                    <a:lnTo>
                      <a:pt x="207" y="21"/>
                    </a:lnTo>
                    <a:lnTo>
                      <a:pt x="194" y="29"/>
                    </a:lnTo>
                    <a:lnTo>
                      <a:pt x="191" y="33"/>
                    </a:lnTo>
                    <a:lnTo>
                      <a:pt x="156" y="73"/>
                    </a:lnTo>
                    <a:lnTo>
                      <a:pt x="114" y="148"/>
                    </a:lnTo>
                    <a:lnTo>
                      <a:pt x="66" y="196"/>
                    </a:lnTo>
                    <a:lnTo>
                      <a:pt x="0" y="224"/>
                    </a:lnTo>
                    <a:lnTo>
                      <a:pt x="2025" y="237"/>
                    </a:lnTo>
                    <a:lnTo>
                      <a:pt x="1956" y="200"/>
                    </a:lnTo>
                    <a:lnTo>
                      <a:pt x="1917" y="160"/>
                    </a:lnTo>
                    <a:lnTo>
                      <a:pt x="1869" y="76"/>
                    </a:lnTo>
                    <a:lnTo>
                      <a:pt x="1838" y="46"/>
                    </a:lnTo>
                    <a:lnTo>
                      <a:pt x="1838" y="4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3680" y="1919160"/>
                <a:ext cx="3241440" cy="384480"/>
              </a:xfrm>
              <a:custGeom>
                <a:avLst/>
                <a:gdLst/>
                <a:ahLst/>
                <a:rect l="l" t="t" r="r" b="b"/>
                <a:pathLst>
                  <a:path w="2042" h="242">
                    <a:moveTo>
                      <a:pt x="1849" y="35"/>
                    </a:moveTo>
                    <a:lnTo>
                      <a:pt x="1849" y="35"/>
                    </a:lnTo>
                    <a:lnTo>
                      <a:pt x="1816" y="13"/>
                    </a:lnTo>
                    <a:lnTo>
                      <a:pt x="1776" y="1"/>
                    </a:lnTo>
                    <a:lnTo>
                      <a:pt x="1746" y="0"/>
                    </a:lnTo>
                    <a:lnTo>
                      <a:pt x="1748" y="0"/>
                    </a:lnTo>
                    <a:lnTo>
                      <a:pt x="306" y="0"/>
                    </a:lnTo>
                    <a:lnTo>
                      <a:pt x="278" y="0"/>
                    </a:lnTo>
                    <a:lnTo>
                      <a:pt x="260" y="3"/>
                    </a:lnTo>
                    <a:lnTo>
                      <a:pt x="239" y="10"/>
                    </a:lnTo>
                    <a:lnTo>
                      <a:pt x="219" y="18"/>
                    </a:lnTo>
                    <a:lnTo>
                      <a:pt x="204" y="29"/>
                    </a:lnTo>
                    <a:lnTo>
                      <a:pt x="202" y="35"/>
                    </a:lnTo>
                    <a:lnTo>
                      <a:pt x="167" y="82"/>
                    </a:lnTo>
                    <a:lnTo>
                      <a:pt x="125" y="167"/>
                    </a:lnTo>
                    <a:lnTo>
                      <a:pt x="0" y="238"/>
                    </a:lnTo>
                    <a:lnTo>
                      <a:pt x="2041" y="241"/>
                    </a:lnTo>
                    <a:lnTo>
                      <a:pt x="1927" y="167"/>
                    </a:lnTo>
                    <a:lnTo>
                      <a:pt x="1880" y="70"/>
                    </a:lnTo>
                    <a:lnTo>
                      <a:pt x="1849" y="35"/>
                    </a:lnTo>
                    <a:lnTo>
                      <a:pt x="1849" y="35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-88920" y="2135160"/>
              <a:ext cx="9402840" cy="5384880"/>
            </a:xfrm>
            <a:custGeom>
              <a:avLst/>
              <a:gdLst/>
              <a:ahLst/>
              <a:rect l="l" t="t" r="r" b="b"/>
              <a:pathLst>
                <a:path w="5923" h="3392">
                  <a:moveTo>
                    <a:pt x="210" y="0"/>
                  </a:moveTo>
                  <a:lnTo>
                    <a:pt x="210" y="0"/>
                  </a:lnTo>
                  <a:lnTo>
                    <a:pt x="154" y="4"/>
                  </a:lnTo>
                  <a:lnTo>
                    <a:pt x="107" y="26"/>
                  </a:lnTo>
                  <a:lnTo>
                    <a:pt x="69" y="57"/>
                  </a:lnTo>
                  <a:lnTo>
                    <a:pt x="39" y="86"/>
                  </a:lnTo>
                  <a:lnTo>
                    <a:pt x="14" y="119"/>
                  </a:lnTo>
                  <a:lnTo>
                    <a:pt x="2" y="159"/>
                  </a:lnTo>
                  <a:lnTo>
                    <a:pt x="0" y="199"/>
                  </a:lnTo>
                  <a:lnTo>
                    <a:pt x="2" y="218"/>
                  </a:lnTo>
                  <a:lnTo>
                    <a:pt x="2" y="232"/>
                  </a:lnTo>
                  <a:lnTo>
                    <a:pt x="2" y="3230"/>
                  </a:lnTo>
                  <a:lnTo>
                    <a:pt x="11" y="3267"/>
                  </a:lnTo>
                  <a:lnTo>
                    <a:pt x="27" y="3305"/>
                  </a:lnTo>
                  <a:lnTo>
                    <a:pt x="56" y="3334"/>
                  </a:lnTo>
                  <a:lnTo>
                    <a:pt x="95" y="3362"/>
                  </a:lnTo>
                  <a:lnTo>
                    <a:pt x="136" y="3382"/>
                  </a:lnTo>
                  <a:lnTo>
                    <a:pt x="185" y="3387"/>
                  </a:lnTo>
                  <a:lnTo>
                    <a:pt x="232" y="3391"/>
                  </a:lnTo>
                  <a:lnTo>
                    <a:pt x="5658" y="3391"/>
                  </a:lnTo>
                  <a:lnTo>
                    <a:pt x="5668" y="3391"/>
                  </a:lnTo>
                  <a:lnTo>
                    <a:pt x="5714" y="3387"/>
                  </a:lnTo>
                  <a:lnTo>
                    <a:pt x="5775" y="3383"/>
                  </a:lnTo>
                  <a:lnTo>
                    <a:pt x="5810" y="3371"/>
                  </a:lnTo>
                  <a:lnTo>
                    <a:pt x="5848" y="3349"/>
                  </a:lnTo>
                  <a:lnTo>
                    <a:pt x="5882" y="3319"/>
                  </a:lnTo>
                  <a:lnTo>
                    <a:pt x="5906" y="3286"/>
                  </a:lnTo>
                  <a:lnTo>
                    <a:pt x="5922" y="3246"/>
                  </a:lnTo>
                  <a:lnTo>
                    <a:pt x="5922" y="3208"/>
                  </a:lnTo>
                  <a:lnTo>
                    <a:pt x="5922" y="3186"/>
                  </a:lnTo>
                  <a:lnTo>
                    <a:pt x="5916" y="3186"/>
                  </a:lnTo>
                  <a:lnTo>
                    <a:pt x="5922" y="184"/>
                  </a:lnTo>
                  <a:lnTo>
                    <a:pt x="5913" y="146"/>
                  </a:lnTo>
                  <a:lnTo>
                    <a:pt x="5893" y="109"/>
                  </a:lnTo>
                  <a:lnTo>
                    <a:pt x="5866" y="76"/>
                  </a:lnTo>
                  <a:lnTo>
                    <a:pt x="5828" y="48"/>
                  </a:lnTo>
                  <a:lnTo>
                    <a:pt x="5783" y="29"/>
                  </a:lnTo>
                  <a:lnTo>
                    <a:pt x="5738" y="21"/>
                  </a:lnTo>
                  <a:lnTo>
                    <a:pt x="5689" y="15"/>
                  </a:lnTo>
                  <a:lnTo>
                    <a:pt x="210" y="0"/>
                  </a:lnTo>
                  <a:lnTo>
                    <a:pt x="210" y="0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77760" y="2135160"/>
              <a:ext cx="9402840" cy="5384880"/>
            </a:xfrm>
            <a:custGeom>
              <a:avLst/>
              <a:gdLst/>
              <a:ahLst/>
              <a:rect l="l" t="t" r="r" b="b"/>
              <a:pathLst>
                <a:path w="5923" h="3392">
                  <a:moveTo>
                    <a:pt x="211" y="0"/>
                  </a:moveTo>
                  <a:lnTo>
                    <a:pt x="211" y="0"/>
                  </a:lnTo>
                  <a:lnTo>
                    <a:pt x="155" y="4"/>
                  </a:lnTo>
                  <a:lnTo>
                    <a:pt x="109" y="29"/>
                  </a:lnTo>
                  <a:lnTo>
                    <a:pt x="70" y="57"/>
                  </a:lnTo>
                  <a:lnTo>
                    <a:pt x="39" y="86"/>
                  </a:lnTo>
                  <a:lnTo>
                    <a:pt x="14" y="119"/>
                  </a:lnTo>
                  <a:lnTo>
                    <a:pt x="2" y="159"/>
                  </a:lnTo>
                  <a:lnTo>
                    <a:pt x="0" y="199"/>
                  </a:lnTo>
                  <a:lnTo>
                    <a:pt x="2" y="218"/>
                  </a:lnTo>
                  <a:lnTo>
                    <a:pt x="2" y="232"/>
                  </a:lnTo>
                  <a:lnTo>
                    <a:pt x="2" y="3230"/>
                  </a:lnTo>
                  <a:lnTo>
                    <a:pt x="12" y="3267"/>
                  </a:lnTo>
                  <a:lnTo>
                    <a:pt x="29" y="3305"/>
                  </a:lnTo>
                  <a:lnTo>
                    <a:pt x="56" y="3334"/>
                  </a:lnTo>
                  <a:lnTo>
                    <a:pt x="96" y="3362"/>
                  </a:lnTo>
                  <a:lnTo>
                    <a:pt x="137" y="3382"/>
                  </a:lnTo>
                  <a:lnTo>
                    <a:pt x="185" y="3387"/>
                  </a:lnTo>
                  <a:lnTo>
                    <a:pt x="233" y="3391"/>
                  </a:lnTo>
                  <a:lnTo>
                    <a:pt x="5658" y="3391"/>
                  </a:lnTo>
                  <a:lnTo>
                    <a:pt x="5670" y="3391"/>
                  </a:lnTo>
                  <a:lnTo>
                    <a:pt x="5715" y="3387"/>
                  </a:lnTo>
                  <a:lnTo>
                    <a:pt x="5775" y="3383"/>
                  </a:lnTo>
                  <a:lnTo>
                    <a:pt x="5811" y="3371"/>
                  </a:lnTo>
                  <a:lnTo>
                    <a:pt x="5849" y="3349"/>
                  </a:lnTo>
                  <a:lnTo>
                    <a:pt x="5882" y="3319"/>
                  </a:lnTo>
                  <a:lnTo>
                    <a:pt x="5908" y="3286"/>
                  </a:lnTo>
                  <a:lnTo>
                    <a:pt x="5922" y="3246"/>
                  </a:lnTo>
                  <a:lnTo>
                    <a:pt x="5922" y="3208"/>
                  </a:lnTo>
                  <a:lnTo>
                    <a:pt x="5922" y="3186"/>
                  </a:lnTo>
                  <a:lnTo>
                    <a:pt x="5916" y="3186"/>
                  </a:lnTo>
                  <a:lnTo>
                    <a:pt x="5922" y="184"/>
                  </a:lnTo>
                  <a:lnTo>
                    <a:pt x="5914" y="146"/>
                  </a:lnTo>
                  <a:lnTo>
                    <a:pt x="5895" y="109"/>
                  </a:lnTo>
                  <a:lnTo>
                    <a:pt x="5866" y="76"/>
                  </a:lnTo>
                  <a:lnTo>
                    <a:pt x="5829" y="48"/>
                  </a:lnTo>
                  <a:lnTo>
                    <a:pt x="5785" y="29"/>
                  </a:lnTo>
                  <a:lnTo>
                    <a:pt x="5740" y="21"/>
                  </a:lnTo>
                  <a:lnTo>
                    <a:pt x="5690" y="15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920" y="2125800"/>
              <a:ext cx="9404280" cy="5421240"/>
            </a:xfrm>
            <a:custGeom>
              <a:avLst/>
              <a:gdLst/>
              <a:ahLst/>
              <a:rect l="l" t="t" r="r" b="b"/>
              <a:pathLst>
                <a:path w="5924" h="3415">
                  <a:moveTo>
                    <a:pt x="202" y="6"/>
                  </a:moveTo>
                  <a:lnTo>
                    <a:pt x="155" y="27"/>
                  </a:lnTo>
                  <a:lnTo>
                    <a:pt x="113" y="44"/>
                  </a:lnTo>
                  <a:lnTo>
                    <a:pt x="71" y="66"/>
                  </a:lnTo>
                  <a:lnTo>
                    <a:pt x="40" y="96"/>
                  </a:lnTo>
                  <a:lnTo>
                    <a:pt x="15" y="129"/>
                  </a:lnTo>
                  <a:lnTo>
                    <a:pt x="3" y="169"/>
                  </a:lnTo>
                  <a:lnTo>
                    <a:pt x="0" y="210"/>
                  </a:lnTo>
                  <a:lnTo>
                    <a:pt x="3" y="228"/>
                  </a:lnTo>
                  <a:lnTo>
                    <a:pt x="3" y="241"/>
                  </a:lnTo>
                  <a:lnTo>
                    <a:pt x="3" y="3253"/>
                  </a:lnTo>
                  <a:lnTo>
                    <a:pt x="11" y="3290"/>
                  </a:lnTo>
                  <a:lnTo>
                    <a:pt x="28" y="3328"/>
                  </a:lnTo>
                  <a:lnTo>
                    <a:pt x="57" y="3358"/>
                  </a:lnTo>
                  <a:lnTo>
                    <a:pt x="96" y="3385"/>
                  </a:lnTo>
                  <a:lnTo>
                    <a:pt x="138" y="3405"/>
                  </a:lnTo>
                  <a:lnTo>
                    <a:pt x="187" y="3411"/>
                  </a:lnTo>
                  <a:lnTo>
                    <a:pt x="234" y="3414"/>
                  </a:lnTo>
                  <a:lnTo>
                    <a:pt x="5659" y="3414"/>
                  </a:lnTo>
                  <a:lnTo>
                    <a:pt x="5670" y="3414"/>
                  </a:lnTo>
                  <a:lnTo>
                    <a:pt x="5716" y="3410"/>
                  </a:lnTo>
                  <a:lnTo>
                    <a:pt x="5777" y="3406"/>
                  </a:lnTo>
                  <a:lnTo>
                    <a:pt x="5811" y="3393"/>
                  </a:lnTo>
                  <a:lnTo>
                    <a:pt x="5849" y="3372"/>
                  </a:lnTo>
                  <a:lnTo>
                    <a:pt x="5884" y="3341"/>
                  </a:lnTo>
                  <a:lnTo>
                    <a:pt x="5909" y="3309"/>
                  </a:lnTo>
                  <a:lnTo>
                    <a:pt x="5923" y="3270"/>
                  </a:lnTo>
                  <a:lnTo>
                    <a:pt x="5923" y="3231"/>
                  </a:lnTo>
                  <a:lnTo>
                    <a:pt x="5923" y="208"/>
                  </a:lnTo>
                  <a:lnTo>
                    <a:pt x="5914" y="169"/>
                  </a:lnTo>
                  <a:lnTo>
                    <a:pt x="5895" y="133"/>
                  </a:lnTo>
                  <a:lnTo>
                    <a:pt x="5867" y="99"/>
                  </a:lnTo>
                  <a:lnTo>
                    <a:pt x="5830" y="72"/>
                  </a:lnTo>
                  <a:lnTo>
                    <a:pt x="5784" y="48"/>
                  </a:lnTo>
                  <a:lnTo>
                    <a:pt x="5740" y="29"/>
                  </a:lnTo>
                  <a:lnTo>
                    <a:pt x="5707" y="16"/>
                  </a:lnTo>
                  <a:lnTo>
                    <a:pt x="5675" y="7"/>
                  </a:lnTo>
                  <a:lnTo>
                    <a:pt x="5636" y="0"/>
                  </a:lnTo>
                  <a:lnTo>
                    <a:pt x="202" y="6"/>
                  </a:lnTo>
                  <a:lnTo>
                    <a:pt x="202" y="6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440" y="2135160"/>
              <a:ext cx="9404640" cy="5384880"/>
            </a:xfrm>
            <a:custGeom>
              <a:avLst/>
              <a:gdLst/>
              <a:ahLst/>
              <a:rect l="l" t="t" r="r" b="b"/>
              <a:pathLst>
                <a:path w="5924" h="3392">
                  <a:moveTo>
                    <a:pt x="212" y="0"/>
                  </a:moveTo>
                  <a:lnTo>
                    <a:pt x="212" y="0"/>
                  </a:lnTo>
                  <a:lnTo>
                    <a:pt x="156" y="4"/>
                  </a:lnTo>
                  <a:lnTo>
                    <a:pt x="112" y="21"/>
                  </a:lnTo>
                  <a:lnTo>
                    <a:pt x="70" y="43"/>
                  </a:lnTo>
                  <a:lnTo>
                    <a:pt x="39" y="73"/>
                  </a:lnTo>
                  <a:lnTo>
                    <a:pt x="14" y="119"/>
                  </a:lnTo>
                  <a:lnTo>
                    <a:pt x="3" y="159"/>
                  </a:lnTo>
                  <a:lnTo>
                    <a:pt x="0" y="199"/>
                  </a:lnTo>
                  <a:lnTo>
                    <a:pt x="3" y="218"/>
                  </a:lnTo>
                  <a:lnTo>
                    <a:pt x="3" y="232"/>
                  </a:lnTo>
                  <a:lnTo>
                    <a:pt x="3" y="3230"/>
                  </a:lnTo>
                  <a:lnTo>
                    <a:pt x="11" y="3267"/>
                  </a:lnTo>
                  <a:lnTo>
                    <a:pt x="28" y="3305"/>
                  </a:lnTo>
                  <a:lnTo>
                    <a:pt x="56" y="3334"/>
                  </a:lnTo>
                  <a:lnTo>
                    <a:pt x="96" y="3362"/>
                  </a:lnTo>
                  <a:lnTo>
                    <a:pt x="138" y="3382"/>
                  </a:lnTo>
                  <a:lnTo>
                    <a:pt x="186" y="3387"/>
                  </a:lnTo>
                  <a:lnTo>
                    <a:pt x="234" y="3391"/>
                  </a:lnTo>
                  <a:lnTo>
                    <a:pt x="5658" y="3391"/>
                  </a:lnTo>
                  <a:lnTo>
                    <a:pt x="5669" y="3391"/>
                  </a:lnTo>
                  <a:lnTo>
                    <a:pt x="5715" y="3387"/>
                  </a:lnTo>
                  <a:lnTo>
                    <a:pt x="5776" y="3383"/>
                  </a:lnTo>
                  <a:lnTo>
                    <a:pt x="5810" y="3371"/>
                  </a:lnTo>
                  <a:lnTo>
                    <a:pt x="5850" y="3349"/>
                  </a:lnTo>
                  <a:lnTo>
                    <a:pt x="5883" y="3319"/>
                  </a:lnTo>
                  <a:lnTo>
                    <a:pt x="5908" y="3286"/>
                  </a:lnTo>
                  <a:lnTo>
                    <a:pt x="5923" y="3246"/>
                  </a:lnTo>
                  <a:lnTo>
                    <a:pt x="5923" y="3208"/>
                  </a:lnTo>
                  <a:lnTo>
                    <a:pt x="5923" y="3186"/>
                  </a:lnTo>
                  <a:lnTo>
                    <a:pt x="5916" y="3186"/>
                  </a:lnTo>
                  <a:lnTo>
                    <a:pt x="5923" y="184"/>
                  </a:lnTo>
                  <a:lnTo>
                    <a:pt x="5914" y="146"/>
                  </a:lnTo>
                  <a:lnTo>
                    <a:pt x="5894" y="109"/>
                  </a:lnTo>
                  <a:lnTo>
                    <a:pt x="5867" y="76"/>
                  </a:lnTo>
                  <a:lnTo>
                    <a:pt x="5830" y="48"/>
                  </a:lnTo>
                  <a:lnTo>
                    <a:pt x="5784" y="29"/>
                  </a:lnTo>
                  <a:lnTo>
                    <a:pt x="5740" y="21"/>
                  </a:lnTo>
                  <a:lnTo>
                    <a:pt x="5690" y="15"/>
                  </a:lnTo>
                  <a:lnTo>
                    <a:pt x="212" y="0"/>
                  </a:lnTo>
                  <a:lnTo>
                    <a:pt x="212" y="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1200" y="2125800"/>
              <a:ext cx="9404280" cy="5421240"/>
            </a:xfrm>
            <a:custGeom>
              <a:avLst/>
              <a:gdLst/>
              <a:ahLst/>
              <a:rect l="l" t="t" r="r" b="b"/>
              <a:pathLst>
                <a:path w="5924" h="3415">
                  <a:moveTo>
                    <a:pt x="201" y="6"/>
                  </a:moveTo>
                  <a:lnTo>
                    <a:pt x="155" y="27"/>
                  </a:lnTo>
                  <a:lnTo>
                    <a:pt x="113" y="44"/>
                  </a:lnTo>
                  <a:lnTo>
                    <a:pt x="70" y="66"/>
                  </a:lnTo>
                  <a:lnTo>
                    <a:pt x="39" y="96"/>
                  </a:lnTo>
                  <a:lnTo>
                    <a:pt x="14" y="129"/>
                  </a:lnTo>
                  <a:lnTo>
                    <a:pt x="3" y="169"/>
                  </a:lnTo>
                  <a:lnTo>
                    <a:pt x="0" y="210"/>
                  </a:lnTo>
                  <a:lnTo>
                    <a:pt x="3" y="228"/>
                  </a:lnTo>
                  <a:lnTo>
                    <a:pt x="3" y="241"/>
                  </a:lnTo>
                  <a:lnTo>
                    <a:pt x="3" y="3253"/>
                  </a:lnTo>
                  <a:lnTo>
                    <a:pt x="11" y="3290"/>
                  </a:lnTo>
                  <a:lnTo>
                    <a:pt x="28" y="3328"/>
                  </a:lnTo>
                  <a:lnTo>
                    <a:pt x="57" y="3358"/>
                  </a:lnTo>
                  <a:lnTo>
                    <a:pt x="96" y="3385"/>
                  </a:lnTo>
                  <a:lnTo>
                    <a:pt x="137" y="3405"/>
                  </a:lnTo>
                  <a:lnTo>
                    <a:pt x="186" y="3411"/>
                  </a:lnTo>
                  <a:lnTo>
                    <a:pt x="234" y="3414"/>
                  </a:lnTo>
                  <a:lnTo>
                    <a:pt x="5658" y="3414"/>
                  </a:lnTo>
                  <a:lnTo>
                    <a:pt x="5669" y="3414"/>
                  </a:lnTo>
                  <a:lnTo>
                    <a:pt x="5715" y="3410"/>
                  </a:lnTo>
                  <a:lnTo>
                    <a:pt x="5775" y="3406"/>
                  </a:lnTo>
                  <a:lnTo>
                    <a:pt x="5810" y="3393"/>
                  </a:lnTo>
                  <a:lnTo>
                    <a:pt x="5850" y="3372"/>
                  </a:lnTo>
                  <a:lnTo>
                    <a:pt x="5884" y="3341"/>
                  </a:lnTo>
                  <a:lnTo>
                    <a:pt x="5908" y="3309"/>
                  </a:lnTo>
                  <a:lnTo>
                    <a:pt x="5923" y="3270"/>
                  </a:lnTo>
                  <a:lnTo>
                    <a:pt x="5923" y="3231"/>
                  </a:lnTo>
                  <a:lnTo>
                    <a:pt x="5923" y="208"/>
                  </a:lnTo>
                  <a:lnTo>
                    <a:pt x="5914" y="169"/>
                  </a:lnTo>
                  <a:lnTo>
                    <a:pt x="5894" y="133"/>
                  </a:lnTo>
                  <a:lnTo>
                    <a:pt x="5867" y="99"/>
                  </a:lnTo>
                  <a:lnTo>
                    <a:pt x="5830" y="72"/>
                  </a:lnTo>
                  <a:lnTo>
                    <a:pt x="5784" y="48"/>
                  </a:lnTo>
                  <a:lnTo>
                    <a:pt x="5740" y="29"/>
                  </a:lnTo>
                  <a:lnTo>
                    <a:pt x="5707" y="16"/>
                  </a:lnTo>
                  <a:lnTo>
                    <a:pt x="5674" y="7"/>
                  </a:lnTo>
                  <a:lnTo>
                    <a:pt x="5636" y="0"/>
                  </a:lnTo>
                  <a:lnTo>
                    <a:pt x="201" y="6"/>
                  </a:lnTo>
                  <a:lnTo>
                    <a:pt x="201" y="6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66000" y="1824120"/>
              <a:ext cx="3031920" cy="333360"/>
            </a:xfrm>
            <a:custGeom>
              <a:avLst/>
              <a:gdLst/>
              <a:ahLst/>
              <a:rect l="l" t="t" r="r" b="b"/>
              <a:pathLst>
                <a:path w="1910" h="210">
                  <a:moveTo>
                    <a:pt x="1734" y="28"/>
                  </a:moveTo>
                  <a:lnTo>
                    <a:pt x="1734" y="28"/>
                  </a:lnTo>
                  <a:lnTo>
                    <a:pt x="1704" y="11"/>
                  </a:lnTo>
                  <a:lnTo>
                    <a:pt x="1666" y="0"/>
                  </a:lnTo>
                  <a:lnTo>
                    <a:pt x="1637" y="0"/>
                  </a:lnTo>
                  <a:lnTo>
                    <a:pt x="1639" y="0"/>
                  </a:lnTo>
                  <a:lnTo>
                    <a:pt x="278" y="0"/>
                  </a:lnTo>
                  <a:lnTo>
                    <a:pt x="253" y="0"/>
                  </a:lnTo>
                  <a:lnTo>
                    <a:pt x="235" y="2"/>
                  </a:lnTo>
                  <a:lnTo>
                    <a:pt x="216" y="9"/>
                  </a:lnTo>
                  <a:lnTo>
                    <a:pt x="192" y="18"/>
                  </a:lnTo>
                  <a:lnTo>
                    <a:pt x="181" y="28"/>
                  </a:lnTo>
                  <a:lnTo>
                    <a:pt x="148" y="67"/>
                  </a:lnTo>
                  <a:lnTo>
                    <a:pt x="108" y="136"/>
                  </a:lnTo>
                  <a:lnTo>
                    <a:pt x="63" y="183"/>
                  </a:lnTo>
                  <a:lnTo>
                    <a:pt x="0" y="209"/>
                  </a:lnTo>
                  <a:lnTo>
                    <a:pt x="1909" y="209"/>
                  </a:lnTo>
                  <a:lnTo>
                    <a:pt x="1844" y="175"/>
                  </a:lnTo>
                  <a:lnTo>
                    <a:pt x="1807" y="136"/>
                  </a:lnTo>
                  <a:lnTo>
                    <a:pt x="1762" y="58"/>
                  </a:lnTo>
                  <a:lnTo>
                    <a:pt x="1734" y="28"/>
                  </a:lnTo>
                  <a:lnTo>
                    <a:pt x="1734" y="28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55920" y="1781280"/>
              <a:ext cx="3218040" cy="376200"/>
            </a:xfrm>
            <a:custGeom>
              <a:avLst/>
              <a:gdLst/>
              <a:ahLst/>
              <a:rect l="l" t="t" r="r" b="b"/>
              <a:pathLst>
                <a:path w="2027" h="237">
                  <a:moveTo>
                    <a:pt x="1838" y="46"/>
                  </a:moveTo>
                  <a:lnTo>
                    <a:pt x="1838" y="46"/>
                  </a:lnTo>
                  <a:lnTo>
                    <a:pt x="1806" y="24"/>
                  </a:lnTo>
                  <a:lnTo>
                    <a:pt x="1766" y="5"/>
                  </a:lnTo>
                  <a:lnTo>
                    <a:pt x="1738" y="0"/>
                  </a:lnTo>
                  <a:lnTo>
                    <a:pt x="295" y="2"/>
                  </a:lnTo>
                  <a:lnTo>
                    <a:pt x="270" y="2"/>
                  </a:lnTo>
                  <a:lnTo>
                    <a:pt x="250" y="5"/>
                  </a:lnTo>
                  <a:lnTo>
                    <a:pt x="229" y="11"/>
                  </a:lnTo>
                  <a:lnTo>
                    <a:pt x="207" y="20"/>
                  </a:lnTo>
                  <a:lnTo>
                    <a:pt x="194" y="27"/>
                  </a:lnTo>
                  <a:lnTo>
                    <a:pt x="192" y="32"/>
                  </a:lnTo>
                  <a:lnTo>
                    <a:pt x="156" y="72"/>
                  </a:lnTo>
                  <a:lnTo>
                    <a:pt x="115" y="146"/>
                  </a:lnTo>
                  <a:lnTo>
                    <a:pt x="66" y="195"/>
                  </a:lnTo>
                  <a:lnTo>
                    <a:pt x="0" y="222"/>
                  </a:lnTo>
                  <a:lnTo>
                    <a:pt x="2026" y="236"/>
                  </a:lnTo>
                  <a:lnTo>
                    <a:pt x="1956" y="199"/>
                  </a:lnTo>
                  <a:lnTo>
                    <a:pt x="1918" y="160"/>
                  </a:lnTo>
                  <a:lnTo>
                    <a:pt x="1869" y="75"/>
                  </a:lnTo>
                  <a:lnTo>
                    <a:pt x="1838" y="46"/>
                  </a:lnTo>
                  <a:lnTo>
                    <a:pt x="1838" y="46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0280" y="2125800"/>
              <a:ext cx="9406080" cy="5421240"/>
            </a:xfrm>
            <a:custGeom>
              <a:avLst/>
              <a:gdLst/>
              <a:ahLst/>
              <a:rect l="l" t="t" r="r" b="b"/>
              <a:pathLst>
                <a:path w="5925" h="3415">
                  <a:moveTo>
                    <a:pt x="202" y="6"/>
                  </a:moveTo>
                  <a:lnTo>
                    <a:pt x="156" y="27"/>
                  </a:lnTo>
                  <a:lnTo>
                    <a:pt x="113" y="44"/>
                  </a:lnTo>
                  <a:lnTo>
                    <a:pt x="70" y="66"/>
                  </a:lnTo>
                  <a:lnTo>
                    <a:pt x="40" y="96"/>
                  </a:lnTo>
                  <a:lnTo>
                    <a:pt x="15" y="129"/>
                  </a:lnTo>
                  <a:lnTo>
                    <a:pt x="4" y="169"/>
                  </a:lnTo>
                  <a:lnTo>
                    <a:pt x="0" y="210"/>
                  </a:lnTo>
                  <a:lnTo>
                    <a:pt x="4" y="228"/>
                  </a:lnTo>
                  <a:lnTo>
                    <a:pt x="4" y="241"/>
                  </a:lnTo>
                  <a:lnTo>
                    <a:pt x="4" y="3253"/>
                  </a:lnTo>
                  <a:lnTo>
                    <a:pt x="12" y="3290"/>
                  </a:lnTo>
                  <a:lnTo>
                    <a:pt x="28" y="3328"/>
                  </a:lnTo>
                  <a:lnTo>
                    <a:pt x="57" y="3358"/>
                  </a:lnTo>
                  <a:lnTo>
                    <a:pt x="97" y="3385"/>
                  </a:lnTo>
                  <a:lnTo>
                    <a:pt x="138" y="3405"/>
                  </a:lnTo>
                  <a:lnTo>
                    <a:pt x="186" y="3411"/>
                  </a:lnTo>
                  <a:lnTo>
                    <a:pt x="234" y="3414"/>
                  </a:lnTo>
                  <a:lnTo>
                    <a:pt x="5658" y="3414"/>
                  </a:lnTo>
                  <a:lnTo>
                    <a:pt x="5669" y="3414"/>
                  </a:lnTo>
                  <a:lnTo>
                    <a:pt x="5715" y="3410"/>
                  </a:lnTo>
                  <a:lnTo>
                    <a:pt x="5777" y="3406"/>
                  </a:lnTo>
                  <a:lnTo>
                    <a:pt x="5811" y="3393"/>
                  </a:lnTo>
                  <a:lnTo>
                    <a:pt x="5849" y="3372"/>
                  </a:lnTo>
                  <a:lnTo>
                    <a:pt x="5884" y="3341"/>
                  </a:lnTo>
                  <a:lnTo>
                    <a:pt x="5908" y="3309"/>
                  </a:lnTo>
                  <a:lnTo>
                    <a:pt x="5924" y="3270"/>
                  </a:lnTo>
                  <a:lnTo>
                    <a:pt x="5924" y="3231"/>
                  </a:lnTo>
                  <a:lnTo>
                    <a:pt x="5924" y="208"/>
                  </a:lnTo>
                  <a:lnTo>
                    <a:pt x="5915" y="169"/>
                  </a:lnTo>
                  <a:lnTo>
                    <a:pt x="5895" y="133"/>
                  </a:lnTo>
                  <a:lnTo>
                    <a:pt x="5867" y="99"/>
                  </a:lnTo>
                  <a:lnTo>
                    <a:pt x="5831" y="72"/>
                  </a:lnTo>
                  <a:lnTo>
                    <a:pt x="5784" y="48"/>
                  </a:lnTo>
                  <a:lnTo>
                    <a:pt x="5741" y="29"/>
                  </a:lnTo>
                  <a:lnTo>
                    <a:pt x="5706" y="16"/>
                  </a:lnTo>
                  <a:lnTo>
                    <a:pt x="5674" y="7"/>
                  </a:lnTo>
                  <a:lnTo>
                    <a:pt x="5636" y="0"/>
                  </a:lnTo>
                  <a:lnTo>
                    <a:pt x="202" y="6"/>
                  </a:lnTo>
                  <a:lnTo>
                    <a:pt x="202" y="6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87760" y="1862280"/>
              <a:ext cx="333360" cy="279360"/>
            </a:xfrm>
            <a:custGeom>
              <a:avLst/>
              <a:gdLst/>
              <a:ahLst/>
              <a:rect l="l" t="t" r="r" b="b"/>
              <a:pathLst>
                <a:path w="210" h="176">
                  <a:moveTo>
                    <a:pt x="0" y="32"/>
                  </a:moveTo>
                  <a:lnTo>
                    <a:pt x="34" y="101"/>
                  </a:lnTo>
                  <a:lnTo>
                    <a:pt x="147" y="175"/>
                  </a:lnTo>
                  <a:lnTo>
                    <a:pt x="209" y="174"/>
                  </a:lnTo>
                  <a:lnTo>
                    <a:pt x="95" y="100"/>
                  </a:lnTo>
                  <a:lnTo>
                    <a:pt x="58" y="67"/>
                  </a:lnTo>
                  <a:lnTo>
                    <a:pt x="28" y="0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4280" y="1755720"/>
              <a:ext cx="3240000" cy="384120"/>
            </a:xfrm>
            <a:custGeom>
              <a:avLst/>
              <a:gdLst/>
              <a:ahLst/>
              <a:rect l="l" t="t" r="r" b="b"/>
              <a:pathLst>
                <a:path w="2041" h="242">
                  <a:moveTo>
                    <a:pt x="1848" y="34"/>
                  </a:moveTo>
                  <a:lnTo>
                    <a:pt x="1848" y="34"/>
                  </a:lnTo>
                  <a:lnTo>
                    <a:pt x="1815" y="13"/>
                  </a:lnTo>
                  <a:lnTo>
                    <a:pt x="1775" y="2"/>
                  </a:lnTo>
                  <a:lnTo>
                    <a:pt x="1745" y="0"/>
                  </a:lnTo>
                  <a:lnTo>
                    <a:pt x="1746" y="0"/>
                  </a:lnTo>
                  <a:lnTo>
                    <a:pt x="304" y="0"/>
                  </a:lnTo>
                  <a:lnTo>
                    <a:pt x="278" y="0"/>
                  </a:lnTo>
                  <a:lnTo>
                    <a:pt x="259" y="4"/>
                  </a:lnTo>
                  <a:lnTo>
                    <a:pt x="238" y="10"/>
                  </a:lnTo>
                  <a:lnTo>
                    <a:pt x="218" y="20"/>
                  </a:lnTo>
                  <a:lnTo>
                    <a:pt x="203" y="29"/>
                  </a:lnTo>
                  <a:lnTo>
                    <a:pt x="201" y="34"/>
                  </a:lnTo>
                  <a:lnTo>
                    <a:pt x="165" y="82"/>
                  </a:lnTo>
                  <a:lnTo>
                    <a:pt x="123" y="167"/>
                  </a:lnTo>
                  <a:lnTo>
                    <a:pt x="0" y="237"/>
                  </a:lnTo>
                  <a:lnTo>
                    <a:pt x="2040" y="241"/>
                  </a:lnTo>
                  <a:lnTo>
                    <a:pt x="1926" y="167"/>
                  </a:lnTo>
                  <a:lnTo>
                    <a:pt x="1879" y="70"/>
                  </a:lnTo>
                  <a:lnTo>
                    <a:pt x="1848" y="34"/>
                  </a:lnTo>
                  <a:lnTo>
                    <a:pt x="1848" y="34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23040" y="1855800"/>
              <a:ext cx="311040" cy="271440"/>
            </a:xfrm>
            <a:custGeom>
              <a:avLst/>
              <a:gdLst/>
              <a:ahLst/>
              <a:rect l="l" t="t" r="r" b="b"/>
              <a:pathLst>
                <a:path w="196" h="171">
                  <a:moveTo>
                    <a:pt x="0" y="28"/>
                  </a:moveTo>
                  <a:lnTo>
                    <a:pt x="21" y="67"/>
                  </a:lnTo>
                  <a:lnTo>
                    <a:pt x="43" y="105"/>
                  </a:lnTo>
                  <a:lnTo>
                    <a:pt x="85" y="152"/>
                  </a:lnTo>
                  <a:lnTo>
                    <a:pt x="121" y="170"/>
                  </a:lnTo>
                  <a:lnTo>
                    <a:pt x="195" y="170"/>
                  </a:lnTo>
                  <a:lnTo>
                    <a:pt x="114" y="125"/>
                  </a:lnTo>
                  <a:lnTo>
                    <a:pt x="67" y="71"/>
                  </a:lnTo>
                  <a:lnTo>
                    <a:pt x="27" y="0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8960" y="2108160"/>
              <a:ext cx="8454960" cy="23760"/>
            </a:xfrm>
            <a:custGeom>
              <a:avLst/>
              <a:gdLst/>
              <a:ahLst/>
              <a:rect l="l" t="t" r="r" b="b"/>
              <a:pathLst>
                <a:path w="5326" h="15">
                  <a:moveTo>
                    <a:pt x="0" y="14"/>
                  </a:moveTo>
                  <a:lnTo>
                    <a:pt x="5325" y="12"/>
                  </a:lnTo>
                  <a:lnTo>
                    <a:pt x="5303" y="0"/>
                  </a:lnTo>
                  <a:lnTo>
                    <a:pt x="23" y="2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933480" y="2430360"/>
            <a:ext cx="842652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La similitud entre los dos problemas no es mera casua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Podemos usarla para ahorrarnos trabaj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TODOS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los resultados del problema de la empresa que obtuvimos para la etapa 1 pueden ser utilizad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Sólo necesitamos traducirlos en forma intelige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1120" y="2362320"/>
            <a:ext cx="2189160" cy="119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" y="4191120"/>
            <a:ext cx="2286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portunidades 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927520" y="5315040"/>
            <a:ext cx="4539960" cy="552240"/>
            <a:chOff x="2927520" y="5315040"/>
            <a:chExt cx="4539960" cy="552240"/>
          </a:xfrm>
        </p:grpSpPr>
        <p:sp>
          <p:nvSpPr>
            <p:cNvPr id="360" name=""/>
            <p:cNvSpPr/>
            <p:nvPr/>
          </p:nvSpPr>
          <p:spPr>
            <a:xfrm>
              <a:off x="407844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275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958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60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2752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44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9588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368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s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96080" y="403848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81480" y="4419720"/>
            <a:ext cx="2411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5943600"/>
            <a:ext cx="2038320" cy="119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ecciones de la empre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739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cuación de Slutsk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051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mal y D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mal y D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586728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cuación de Slutsk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5410080"/>
            <a:ext cx="248616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El óptimo del Consumid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parando la minimización de costos de la empres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0760" y="2286000"/>
            <a:ext cx="5183280" cy="5461560"/>
            <a:chOff x="50760" y="2286000"/>
            <a:chExt cx="5183280" cy="5461560"/>
          </a:xfrm>
        </p:grpSpPr>
        <p:sp>
          <p:nvSpPr>
            <p:cNvPr id="390" name=""/>
            <p:cNvSpPr/>
            <p:nvPr/>
          </p:nvSpPr>
          <p:spPr>
            <a:xfrm>
              <a:off x="4856040" y="6924600"/>
              <a:ext cx="12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38560" y="7102440"/>
              <a:ext cx="716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760" y="2403360"/>
              <a:ext cx="12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5080" y="2579760"/>
              <a:ext cx="712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00160" y="2770200"/>
              <a:ext cx="0" cy="4322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0160" y="7093080"/>
              <a:ext cx="4570200" cy="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160" y="4575240"/>
              <a:ext cx="3740040" cy="2517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4320" y="2852640"/>
              <a:ext cx="2960640" cy="3314880"/>
            </a:xfrm>
            <a:custGeom>
              <a:avLst/>
              <a:gdLst/>
              <a:ahLst/>
              <a:rect l="l" t="t" r="r" b="b"/>
              <a:pathLst>
                <a:path w="1865" h="2088">
                  <a:moveTo>
                    <a:pt x="1832" y="2067"/>
                  </a:moveTo>
                  <a:lnTo>
                    <a:pt x="1832" y="2067"/>
                  </a:lnTo>
                  <a:lnTo>
                    <a:pt x="1498" y="2056"/>
                  </a:lnTo>
                  <a:lnTo>
                    <a:pt x="1288" y="2035"/>
                  </a:lnTo>
                  <a:lnTo>
                    <a:pt x="1016" y="1972"/>
                  </a:lnTo>
                  <a:lnTo>
                    <a:pt x="953" y="1931"/>
                  </a:lnTo>
                  <a:lnTo>
                    <a:pt x="848" y="1889"/>
                  </a:lnTo>
                  <a:lnTo>
                    <a:pt x="754" y="1816"/>
                  </a:lnTo>
                  <a:lnTo>
                    <a:pt x="660" y="1722"/>
                  </a:lnTo>
                  <a:lnTo>
                    <a:pt x="576" y="1629"/>
                  </a:lnTo>
                  <a:lnTo>
                    <a:pt x="503" y="1534"/>
                  </a:lnTo>
                  <a:lnTo>
                    <a:pt x="408" y="1357"/>
                  </a:lnTo>
                  <a:lnTo>
                    <a:pt x="346" y="1221"/>
                  </a:lnTo>
                  <a:lnTo>
                    <a:pt x="294" y="1085"/>
                  </a:lnTo>
                  <a:lnTo>
                    <a:pt x="220" y="898"/>
                  </a:lnTo>
                  <a:lnTo>
                    <a:pt x="178" y="804"/>
                  </a:lnTo>
                  <a:lnTo>
                    <a:pt x="126" y="626"/>
                  </a:lnTo>
                  <a:lnTo>
                    <a:pt x="74" y="418"/>
                  </a:lnTo>
                  <a:lnTo>
                    <a:pt x="32" y="241"/>
                  </a:lnTo>
                  <a:lnTo>
                    <a:pt x="32" y="94"/>
                  </a:lnTo>
                  <a:lnTo>
                    <a:pt x="11" y="4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46" y="42"/>
                  </a:lnTo>
                  <a:lnTo>
                    <a:pt x="691" y="10"/>
                  </a:lnTo>
                  <a:lnTo>
                    <a:pt x="922" y="53"/>
                  </a:lnTo>
                  <a:lnTo>
                    <a:pt x="1267" y="31"/>
                  </a:lnTo>
                  <a:lnTo>
                    <a:pt x="1456" y="83"/>
                  </a:lnTo>
                  <a:lnTo>
                    <a:pt x="1634" y="178"/>
                  </a:lnTo>
                  <a:lnTo>
                    <a:pt x="1696" y="449"/>
                  </a:lnTo>
                  <a:lnTo>
                    <a:pt x="1675" y="793"/>
                  </a:lnTo>
                  <a:lnTo>
                    <a:pt x="1864" y="1305"/>
                  </a:lnTo>
                  <a:lnTo>
                    <a:pt x="1864" y="1659"/>
                  </a:lnTo>
                  <a:lnTo>
                    <a:pt x="1801" y="1899"/>
                  </a:lnTo>
                  <a:lnTo>
                    <a:pt x="1832" y="2087"/>
                  </a:lnTo>
                  <a:lnTo>
                    <a:pt x="1832" y="2067"/>
                  </a:lnTo>
                  <a:lnTo>
                    <a:pt x="1832" y="2067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4320" y="2852640"/>
              <a:ext cx="2909880" cy="3299040"/>
            </a:xfrm>
            <a:custGeom>
              <a:avLst/>
              <a:gdLst/>
              <a:ahLst/>
              <a:rect l="l" t="t" r="r" b="b"/>
              <a:pathLst>
                <a:path w="1833" h="2078">
                  <a:moveTo>
                    <a:pt x="0" y="0"/>
                  </a:moveTo>
                  <a:lnTo>
                    <a:pt x="1" y="19"/>
                  </a:lnTo>
                  <a:lnTo>
                    <a:pt x="3" y="32"/>
                  </a:lnTo>
                  <a:lnTo>
                    <a:pt x="3" y="43"/>
                  </a:lnTo>
                  <a:lnTo>
                    <a:pt x="5" y="51"/>
                  </a:lnTo>
                  <a:lnTo>
                    <a:pt x="5" y="59"/>
                  </a:lnTo>
                  <a:lnTo>
                    <a:pt x="5" y="63"/>
                  </a:lnTo>
                  <a:lnTo>
                    <a:pt x="5" y="67"/>
                  </a:lnTo>
                  <a:lnTo>
                    <a:pt x="7" y="69"/>
                  </a:lnTo>
                  <a:lnTo>
                    <a:pt x="7" y="71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7" y="77"/>
                  </a:lnTo>
                  <a:lnTo>
                    <a:pt x="7" y="81"/>
                  </a:lnTo>
                  <a:lnTo>
                    <a:pt x="8" y="85"/>
                  </a:lnTo>
                  <a:lnTo>
                    <a:pt x="9" y="92"/>
                  </a:lnTo>
                  <a:lnTo>
                    <a:pt x="10" y="100"/>
                  </a:lnTo>
                  <a:lnTo>
                    <a:pt x="11" y="111"/>
                  </a:lnTo>
                  <a:lnTo>
                    <a:pt x="13" y="125"/>
                  </a:lnTo>
                  <a:lnTo>
                    <a:pt x="15" y="141"/>
                  </a:lnTo>
                  <a:lnTo>
                    <a:pt x="18" y="159"/>
                  </a:lnTo>
                  <a:lnTo>
                    <a:pt x="22" y="180"/>
                  </a:lnTo>
                  <a:lnTo>
                    <a:pt x="26" y="201"/>
                  </a:lnTo>
                  <a:lnTo>
                    <a:pt x="29" y="225"/>
                  </a:lnTo>
                  <a:lnTo>
                    <a:pt x="35" y="249"/>
                  </a:lnTo>
                  <a:lnTo>
                    <a:pt x="39" y="275"/>
                  </a:lnTo>
                  <a:lnTo>
                    <a:pt x="45" y="302"/>
                  </a:lnTo>
                  <a:lnTo>
                    <a:pt x="50" y="329"/>
                  </a:lnTo>
                  <a:lnTo>
                    <a:pt x="56" y="355"/>
                  </a:lnTo>
                  <a:lnTo>
                    <a:pt x="62" y="383"/>
                  </a:lnTo>
                  <a:lnTo>
                    <a:pt x="67" y="409"/>
                  </a:lnTo>
                  <a:lnTo>
                    <a:pt x="73" y="435"/>
                  </a:lnTo>
                  <a:lnTo>
                    <a:pt x="78" y="459"/>
                  </a:lnTo>
                  <a:lnTo>
                    <a:pt x="84" y="485"/>
                  </a:lnTo>
                  <a:lnTo>
                    <a:pt x="90" y="511"/>
                  </a:lnTo>
                  <a:lnTo>
                    <a:pt x="96" y="539"/>
                  </a:lnTo>
                  <a:lnTo>
                    <a:pt x="104" y="567"/>
                  </a:lnTo>
                  <a:lnTo>
                    <a:pt x="110" y="596"/>
                  </a:lnTo>
                  <a:lnTo>
                    <a:pt x="118" y="624"/>
                  </a:lnTo>
                  <a:lnTo>
                    <a:pt x="125" y="653"/>
                  </a:lnTo>
                  <a:lnTo>
                    <a:pt x="134" y="680"/>
                  </a:lnTo>
                  <a:lnTo>
                    <a:pt x="142" y="708"/>
                  </a:lnTo>
                  <a:lnTo>
                    <a:pt x="149" y="733"/>
                  </a:lnTo>
                  <a:lnTo>
                    <a:pt x="156" y="759"/>
                  </a:lnTo>
                  <a:lnTo>
                    <a:pt x="164" y="781"/>
                  </a:lnTo>
                  <a:lnTo>
                    <a:pt x="170" y="803"/>
                  </a:lnTo>
                  <a:lnTo>
                    <a:pt x="177" y="821"/>
                  </a:lnTo>
                  <a:lnTo>
                    <a:pt x="183" y="838"/>
                  </a:lnTo>
                  <a:lnTo>
                    <a:pt x="189" y="851"/>
                  </a:lnTo>
                  <a:lnTo>
                    <a:pt x="194" y="865"/>
                  </a:lnTo>
                  <a:lnTo>
                    <a:pt x="200" y="880"/>
                  </a:lnTo>
                  <a:lnTo>
                    <a:pt x="206" y="897"/>
                  </a:lnTo>
                  <a:lnTo>
                    <a:pt x="214" y="914"/>
                  </a:lnTo>
                  <a:lnTo>
                    <a:pt x="221" y="934"/>
                  </a:lnTo>
                  <a:lnTo>
                    <a:pt x="230" y="953"/>
                  </a:lnTo>
                  <a:lnTo>
                    <a:pt x="238" y="974"/>
                  </a:lnTo>
                  <a:lnTo>
                    <a:pt x="247" y="995"/>
                  </a:lnTo>
                  <a:lnTo>
                    <a:pt x="254" y="1017"/>
                  </a:lnTo>
                  <a:lnTo>
                    <a:pt x="264" y="1038"/>
                  </a:lnTo>
                  <a:lnTo>
                    <a:pt x="272" y="1059"/>
                  </a:lnTo>
                  <a:lnTo>
                    <a:pt x="282" y="1080"/>
                  </a:lnTo>
                  <a:lnTo>
                    <a:pt x="290" y="1101"/>
                  </a:lnTo>
                  <a:lnTo>
                    <a:pt x="299" y="1119"/>
                  </a:lnTo>
                  <a:lnTo>
                    <a:pt x="306" y="1137"/>
                  </a:lnTo>
                  <a:lnTo>
                    <a:pt x="314" y="1153"/>
                  </a:lnTo>
                  <a:lnTo>
                    <a:pt x="321" y="1172"/>
                  </a:lnTo>
                  <a:lnTo>
                    <a:pt x="328" y="1189"/>
                  </a:lnTo>
                  <a:lnTo>
                    <a:pt x="336" y="1208"/>
                  </a:lnTo>
                  <a:lnTo>
                    <a:pt x="345" y="1227"/>
                  </a:lnTo>
                  <a:lnTo>
                    <a:pt x="352" y="1247"/>
                  </a:lnTo>
                  <a:lnTo>
                    <a:pt x="362" y="1267"/>
                  </a:lnTo>
                  <a:lnTo>
                    <a:pt x="371" y="1288"/>
                  </a:lnTo>
                  <a:lnTo>
                    <a:pt x="380" y="1307"/>
                  </a:lnTo>
                  <a:lnTo>
                    <a:pt x="388" y="1326"/>
                  </a:lnTo>
                  <a:lnTo>
                    <a:pt x="397" y="1345"/>
                  </a:lnTo>
                  <a:lnTo>
                    <a:pt x="405" y="1364"/>
                  </a:lnTo>
                  <a:lnTo>
                    <a:pt x="414" y="1381"/>
                  </a:lnTo>
                  <a:lnTo>
                    <a:pt x="420" y="1397"/>
                  </a:lnTo>
                  <a:lnTo>
                    <a:pt x="428" y="1411"/>
                  </a:lnTo>
                  <a:lnTo>
                    <a:pt x="434" y="1424"/>
                  </a:lnTo>
                  <a:lnTo>
                    <a:pt x="440" y="1435"/>
                  </a:lnTo>
                  <a:lnTo>
                    <a:pt x="445" y="1447"/>
                  </a:lnTo>
                  <a:lnTo>
                    <a:pt x="451" y="1459"/>
                  </a:lnTo>
                  <a:lnTo>
                    <a:pt x="458" y="1472"/>
                  </a:lnTo>
                  <a:lnTo>
                    <a:pt x="466" y="1485"/>
                  </a:lnTo>
                  <a:lnTo>
                    <a:pt x="474" y="1500"/>
                  </a:lnTo>
                  <a:lnTo>
                    <a:pt x="484" y="1515"/>
                  </a:lnTo>
                  <a:lnTo>
                    <a:pt x="493" y="1530"/>
                  </a:lnTo>
                  <a:lnTo>
                    <a:pt x="504" y="1545"/>
                  </a:lnTo>
                  <a:lnTo>
                    <a:pt x="513" y="1561"/>
                  </a:lnTo>
                  <a:lnTo>
                    <a:pt x="523" y="1576"/>
                  </a:lnTo>
                  <a:lnTo>
                    <a:pt x="532" y="1591"/>
                  </a:lnTo>
                  <a:lnTo>
                    <a:pt x="543" y="1605"/>
                  </a:lnTo>
                  <a:lnTo>
                    <a:pt x="553" y="1620"/>
                  </a:lnTo>
                  <a:lnTo>
                    <a:pt x="563" y="1632"/>
                  </a:lnTo>
                  <a:lnTo>
                    <a:pt x="572" y="1644"/>
                  </a:lnTo>
                  <a:lnTo>
                    <a:pt x="582" y="1655"/>
                  </a:lnTo>
                  <a:lnTo>
                    <a:pt x="590" y="1666"/>
                  </a:lnTo>
                  <a:lnTo>
                    <a:pt x="600" y="1677"/>
                  </a:lnTo>
                  <a:lnTo>
                    <a:pt x="610" y="1689"/>
                  </a:lnTo>
                  <a:lnTo>
                    <a:pt x="621" y="1701"/>
                  </a:lnTo>
                  <a:lnTo>
                    <a:pt x="633" y="1714"/>
                  </a:lnTo>
                  <a:lnTo>
                    <a:pt x="644" y="1726"/>
                  </a:lnTo>
                  <a:lnTo>
                    <a:pt x="657" y="1739"/>
                  </a:lnTo>
                  <a:lnTo>
                    <a:pt x="670" y="1751"/>
                  </a:lnTo>
                  <a:lnTo>
                    <a:pt x="681" y="1765"/>
                  </a:lnTo>
                  <a:lnTo>
                    <a:pt x="694" y="1776"/>
                  </a:lnTo>
                  <a:lnTo>
                    <a:pt x="706" y="1787"/>
                  </a:lnTo>
                  <a:lnTo>
                    <a:pt x="718" y="1798"/>
                  </a:lnTo>
                  <a:lnTo>
                    <a:pt x="729" y="1809"/>
                  </a:lnTo>
                  <a:lnTo>
                    <a:pt x="740" y="1817"/>
                  </a:lnTo>
                  <a:lnTo>
                    <a:pt x="749" y="1825"/>
                  </a:lnTo>
                  <a:lnTo>
                    <a:pt x="759" y="1832"/>
                  </a:lnTo>
                  <a:lnTo>
                    <a:pt x="767" y="1839"/>
                  </a:lnTo>
                  <a:lnTo>
                    <a:pt x="776" y="1846"/>
                  </a:lnTo>
                  <a:lnTo>
                    <a:pt x="784" y="1854"/>
                  </a:lnTo>
                  <a:lnTo>
                    <a:pt x="794" y="1859"/>
                  </a:lnTo>
                  <a:lnTo>
                    <a:pt x="802" y="1867"/>
                  </a:lnTo>
                  <a:lnTo>
                    <a:pt x="812" y="1872"/>
                  </a:lnTo>
                  <a:lnTo>
                    <a:pt x="820" y="1879"/>
                  </a:lnTo>
                  <a:lnTo>
                    <a:pt x="830" y="1885"/>
                  </a:lnTo>
                  <a:lnTo>
                    <a:pt x="837" y="1891"/>
                  </a:lnTo>
                  <a:lnTo>
                    <a:pt x="845" y="1897"/>
                  </a:lnTo>
                  <a:lnTo>
                    <a:pt x="852" y="1902"/>
                  </a:lnTo>
                  <a:lnTo>
                    <a:pt x="860" y="1907"/>
                  </a:lnTo>
                  <a:lnTo>
                    <a:pt x="865" y="1912"/>
                  </a:lnTo>
                  <a:lnTo>
                    <a:pt x="871" y="1915"/>
                  </a:lnTo>
                  <a:lnTo>
                    <a:pt x="875" y="1918"/>
                  </a:lnTo>
                  <a:lnTo>
                    <a:pt x="880" y="1920"/>
                  </a:lnTo>
                  <a:lnTo>
                    <a:pt x="882" y="1923"/>
                  </a:lnTo>
                  <a:lnTo>
                    <a:pt x="886" y="1925"/>
                  </a:lnTo>
                  <a:lnTo>
                    <a:pt x="891" y="1929"/>
                  </a:lnTo>
                  <a:lnTo>
                    <a:pt x="896" y="1931"/>
                  </a:lnTo>
                  <a:lnTo>
                    <a:pt x="902" y="1934"/>
                  </a:lnTo>
                  <a:lnTo>
                    <a:pt x="908" y="1937"/>
                  </a:lnTo>
                  <a:lnTo>
                    <a:pt x="915" y="1941"/>
                  </a:lnTo>
                  <a:lnTo>
                    <a:pt x="922" y="1943"/>
                  </a:lnTo>
                  <a:lnTo>
                    <a:pt x="928" y="1947"/>
                  </a:lnTo>
                  <a:lnTo>
                    <a:pt x="936" y="1950"/>
                  </a:lnTo>
                  <a:lnTo>
                    <a:pt x="943" y="1954"/>
                  </a:lnTo>
                  <a:lnTo>
                    <a:pt x="951" y="1957"/>
                  </a:lnTo>
                  <a:lnTo>
                    <a:pt x="957" y="1960"/>
                  </a:lnTo>
                  <a:lnTo>
                    <a:pt x="964" y="1962"/>
                  </a:lnTo>
                  <a:lnTo>
                    <a:pt x="972" y="1965"/>
                  </a:lnTo>
                  <a:lnTo>
                    <a:pt x="979" y="1967"/>
                  </a:lnTo>
                  <a:lnTo>
                    <a:pt x="985" y="1971"/>
                  </a:lnTo>
                  <a:lnTo>
                    <a:pt x="993" y="1974"/>
                  </a:lnTo>
                  <a:lnTo>
                    <a:pt x="1002" y="1978"/>
                  </a:lnTo>
                  <a:lnTo>
                    <a:pt x="1013" y="1980"/>
                  </a:lnTo>
                  <a:lnTo>
                    <a:pt x="1023" y="1983"/>
                  </a:lnTo>
                  <a:lnTo>
                    <a:pt x="1034" y="1987"/>
                  </a:lnTo>
                  <a:lnTo>
                    <a:pt x="1045" y="1991"/>
                  </a:lnTo>
                  <a:lnTo>
                    <a:pt x="1058" y="1994"/>
                  </a:lnTo>
                  <a:lnTo>
                    <a:pt x="1070" y="1998"/>
                  </a:lnTo>
                  <a:lnTo>
                    <a:pt x="1082" y="2001"/>
                  </a:lnTo>
                  <a:lnTo>
                    <a:pt x="1094" y="2005"/>
                  </a:lnTo>
                  <a:lnTo>
                    <a:pt x="1107" y="2009"/>
                  </a:lnTo>
                  <a:lnTo>
                    <a:pt x="1118" y="2012"/>
                  </a:lnTo>
                  <a:lnTo>
                    <a:pt x="1130" y="2014"/>
                  </a:lnTo>
                  <a:lnTo>
                    <a:pt x="1140" y="2017"/>
                  </a:lnTo>
                  <a:lnTo>
                    <a:pt x="1152" y="2019"/>
                  </a:lnTo>
                  <a:lnTo>
                    <a:pt x="1161" y="2023"/>
                  </a:lnTo>
                  <a:lnTo>
                    <a:pt x="1172" y="2025"/>
                  </a:lnTo>
                  <a:lnTo>
                    <a:pt x="1184" y="2028"/>
                  </a:lnTo>
                  <a:lnTo>
                    <a:pt x="1197" y="2030"/>
                  </a:lnTo>
                  <a:lnTo>
                    <a:pt x="1210" y="2034"/>
                  </a:lnTo>
                  <a:lnTo>
                    <a:pt x="1223" y="2036"/>
                  </a:lnTo>
                  <a:lnTo>
                    <a:pt x="1236" y="2039"/>
                  </a:lnTo>
                  <a:lnTo>
                    <a:pt x="1251" y="2041"/>
                  </a:lnTo>
                  <a:lnTo>
                    <a:pt x="1264" y="2045"/>
                  </a:lnTo>
                  <a:lnTo>
                    <a:pt x="1277" y="2047"/>
                  </a:lnTo>
                  <a:lnTo>
                    <a:pt x="1290" y="2049"/>
                  </a:lnTo>
                  <a:lnTo>
                    <a:pt x="1304" y="2051"/>
                  </a:lnTo>
                  <a:lnTo>
                    <a:pt x="1315" y="2053"/>
                  </a:lnTo>
                  <a:lnTo>
                    <a:pt x="1326" y="2055"/>
                  </a:lnTo>
                  <a:lnTo>
                    <a:pt x="1336" y="2057"/>
                  </a:lnTo>
                  <a:lnTo>
                    <a:pt x="1346" y="2057"/>
                  </a:lnTo>
                  <a:lnTo>
                    <a:pt x="1354" y="2058"/>
                  </a:lnTo>
                  <a:lnTo>
                    <a:pt x="1364" y="2059"/>
                  </a:lnTo>
                  <a:lnTo>
                    <a:pt x="1374" y="2061"/>
                  </a:lnTo>
                  <a:lnTo>
                    <a:pt x="1387" y="2061"/>
                  </a:lnTo>
                  <a:lnTo>
                    <a:pt x="1400" y="2063"/>
                  </a:lnTo>
                  <a:lnTo>
                    <a:pt x="1413" y="2063"/>
                  </a:lnTo>
                  <a:lnTo>
                    <a:pt x="1426" y="2065"/>
                  </a:lnTo>
                  <a:lnTo>
                    <a:pt x="1441" y="2065"/>
                  </a:lnTo>
                  <a:lnTo>
                    <a:pt x="1454" y="2067"/>
                  </a:lnTo>
                  <a:lnTo>
                    <a:pt x="1468" y="2067"/>
                  </a:lnTo>
                  <a:lnTo>
                    <a:pt x="1481" y="2069"/>
                  </a:lnTo>
                  <a:lnTo>
                    <a:pt x="1496" y="2069"/>
                  </a:lnTo>
                  <a:lnTo>
                    <a:pt x="1508" y="2071"/>
                  </a:lnTo>
                  <a:lnTo>
                    <a:pt x="1521" y="2071"/>
                  </a:lnTo>
                  <a:lnTo>
                    <a:pt x="1532" y="2071"/>
                  </a:lnTo>
                  <a:lnTo>
                    <a:pt x="1545" y="2071"/>
                  </a:lnTo>
                  <a:lnTo>
                    <a:pt x="1556" y="2073"/>
                  </a:lnTo>
                  <a:lnTo>
                    <a:pt x="1567" y="2073"/>
                  </a:lnTo>
                  <a:lnTo>
                    <a:pt x="1579" y="2073"/>
                  </a:lnTo>
                  <a:lnTo>
                    <a:pt x="1592" y="2073"/>
                  </a:lnTo>
                  <a:lnTo>
                    <a:pt x="1606" y="2075"/>
                  </a:lnTo>
                  <a:lnTo>
                    <a:pt x="1619" y="2075"/>
                  </a:lnTo>
                  <a:lnTo>
                    <a:pt x="1632" y="2075"/>
                  </a:lnTo>
                  <a:lnTo>
                    <a:pt x="1647" y="2075"/>
                  </a:lnTo>
                  <a:lnTo>
                    <a:pt x="1660" y="2077"/>
                  </a:lnTo>
                  <a:lnTo>
                    <a:pt x="1674" y="2077"/>
                  </a:lnTo>
                  <a:lnTo>
                    <a:pt x="1687" y="2077"/>
                  </a:lnTo>
                  <a:lnTo>
                    <a:pt x="1700" y="2077"/>
                  </a:lnTo>
                  <a:lnTo>
                    <a:pt x="1712" y="2077"/>
                  </a:lnTo>
                  <a:lnTo>
                    <a:pt x="1723" y="2077"/>
                  </a:lnTo>
                  <a:lnTo>
                    <a:pt x="1733" y="2077"/>
                  </a:lnTo>
                  <a:lnTo>
                    <a:pt x="1743" y="2077"/>
                  </a:lnTo>
                  <a:lnTo>
                    <a:pt x="1750" y="2077"/>
                  </a:lnTo>
                  <a:lnTo>
                    <a:pt x="1755" y="2077"/>
                  </a:lnTo>
                  <a:lnTo>
                    <a:pt x="1759" y="2077"/>
                  </a:lnTo>
                  <a:lnTo>
                    <a:pt x="1763" y="2077"/>
                  </a:lnTo>
                  <a:lnTo>
                    <a:pt x="1764" y="2077"/>
                  </a:lnTo>
                  <a:lnTo>
                    <a:pt x="1766" y="2077"/>
                  </a:lnTo>
                  <a:lnTo>
                    <a:pt x="1768" y="2077"/>
                  </a:lnTo>
                  <a:lnTo>
                    <a:pt x="1771" y="2077"/>
                  </a:lnTo>
                  <a:lnTo>
                    <a:pt x="1773" y="2077"/>
                  </a:lnTo>
                  <a:lnTo>
                    <a:pt x="1776" y="2077"/>
                  </a:lnTo>
                  <a:lnTo>
                    <a:pt x="1780" y="2077"/>
                  </a:lnTo>
                  <a:lnTo>
                    <a:pt x="1786" y="2077"/>
                  </a:lnTo>
                  <a:lnTo>
                    <a:pt x="1793" y="2077"/>
                  </a:lnTo>
                  <a:lnTo>
                    <a:pt x="1804" y="2077"/>
                  </a:lnTo>
                  <a:lnTo>
                    <a:pt x="1816" y="2077"/>
                  </a:lnTo>
                  <a:lnTo>
                    <a:pt x="1832" y="2077"/>
                  </a:lnTo>
                </a:path>
              </a:pathLst>
            </a:custGeom>
            <a:noFill/>
            <a:ln w="3168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198360" y="4030200"/>
              <a:ext cx="4229280" cy="286884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8360" y="5145120"/>
              <a:ext cx="3038400" cy="194472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98560" y="5869080"/>
              <a:ext cx="300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z*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6400" y="2286000"/>
              <a:ext cx="6541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ff8100"/>
                  </a:solidFill>
                  <a:latin typeface="Times New Roman"/>
                </a:rPr>
                <a:t>Q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16320" y="4387680"/>
              <a:ext cx="142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0160" y="5568840"/>
              <a:ext cx="2376360" cy="152424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198360" y="3481200"/>
              <a:ext cx="5035680" cy="3414600"/>
            </a:xfrm>
            <a:prstGeom prst="line">
              <a:avLst/>
            </a:prstGeom>
            <a:ln w="936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24040" y="5302080"/>
              <a:ext cx="792000" cy="792360"/>
            </a:xfrm>
            <a:custGeom>
              <a:avLst/>
              <a:gdLst/>
              <a:ahLst/>
              <a:rect l="l" t="t" r="r" b="b"/>
              <a:pathLst>
                <a:path w="499" h="499">
                  <a:moveTo>
                    <a:pt x="55" y="401"/>
                  </a:moveTo>
                  <a:lnTo>
                    <a:pt x="27" y="360"/>
                  </a:lnTo>
                  <a:lnTo>
                    <a:pt x="9" y="318"/>
                  </a:lnTo>
                  <a:lnTo>
                    <a:pt x="0" y="275"/>
                  </a:lnTo>
                  <a:lnTo>
                    <a:pt x="0" y="232"/>
                  </a:lnTo>
                  <a:lnTo>
                    <a:pt x="5" y="192"/>
                  </a:lnTo>
                  <a:lnTo>
                    <a:pt x="20" y="153"/>
                  </a:lnTo>
                  <a:lnTo>
                    <a:pt x="39" y="117"/>
                  </a:lnTo>
                  <a:lnTo>
                    <a:pt x="65" y="83"/>
                  </a:lnTo>
                  <a:lnTo>
                    <a:pt x="95" y="56"/>
                  </a:lnTo>
                  <a:lnTo>
                    <a:pt x="128" y="32"/>
                  </a:lnTo>
                  <a:lnTo>
                    <a:pt x="166" y="14"/>
                  </a:lnTo>
                  <a:lnTo>
                    <a:pt x="206" y="3"/>
                  </a:lnTo>
                  <a:lnTo>
                    <a:pt x="248" y="0"/>
                  </a:lnTo>
                  <a:lnTo>
                    <a:pt x="292" y="4"/>
                  </a:lnTo>
                  <a:lnTo>
                    <a:pt x="337" y="17"/>
                  </a:lnTo>
                  <a:lnTo>
                    <a:pt x="381" y="39"/>
                  </a:lnTo>
                  <a:lnTo>
                    <a:pt x="420" y="70"/>
                  </a:lnTo>
                  <a:lnTo>
                    <a:pt x="451" y="104"/>
                  </a:lnTo>
                  <a:lnTo>
                    <a:pt x="474" y="141"/>
                  </a:lnTo>
                  <a:lnTo>
                    <a:pt x="489" y="180"/>
                  </a:lnTo>
                  <a:lnTo>
                    <a:pt x="497" y="222"/>
                  </a:lnTo>
                  <a:lnTo>
                    <a:pt x="498" y="263"/>
                  </a:lnTo>
                  <a:lnTo>
                    <a:pt x="491" y="304"/>
                  </a:lnTo>
                  <a:lnTo>
                    <a:pt x="479" y="342"/>
                  </a:lnTo>
                  <a:lnTo>
                    <a:pt x="460" y="380"/>
                  </a:lnTo>
                  <a:lnTo>
                    <a:pt x="437" y="414"/>
                  </a:lnTo>
                  <a:lnTo>
                    <a:pt x="407" y="444"/>
                  </a:lnTo>
                  <a:lnTo>
                    <a:pt x="374" y="467"/>
                  </a:lnTo>
                  <a:lnTo>
                    <a:pt x="335" y="485"/>
                  </a:lnTo>
                  <a:lnTo>
                    <a:pt x="293" y="496"/>
                  </a:lnTo>
                  <a:lnTo>
                    <a:pt x="247" y="498"/>
                  </a:lnTo>
                  <a:lnTo>
                    <a:pt x="198" y="492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116080" y="6127920"/>
              <a:ext cx="2984040" cy="1619640"/>
              <a:chOff x="2116080" y="6127920"/>
              <a:chExt cx="2984040" cy="1619640"/>
            </a:xfrm>
          </p:grpSpPr>
          <p:sp>
            <p:nvSpPr>
              <p:cNvPr id="408" name=""/>
              <p:cNvSpPr/>
              <p:nvPr/>
            </p:nvSpPr>
            <p:spPr>
              <a:xfrm>
                <a:off x="2116080" y="6127920"/>
                <a:ext cx="1630440" cy="861840"/>
              </a:xfrm>
              <a:custGeom>
                <a:avLst/>
                <a:gdLst/>
                <a:ahLst/>
                <a:rect l="l" t="t" r="r" b="b"/>
                <a:pathLst>
                  <a:path w="1027" h="543">
                    <a:moveTo>
                      <a:pt x="1026" y="120"/>
                    </a:moveTo>
                    <a:lnTo>
                      <a:pt x="422" y="472"/>
                    </a:lnTo>
                    <a:lnTo>
                      <a:pt x="502" y="542"/>
                    </a:lnTo>
                    <a:lnTo>
                      <a:pt x="19" y="506"/>
                    </a:lnTo>
                    <a:lnTo>
                      <a:pt x="0" y="232"/>
                    </a:lnTo>
                    <a:lnTo>
                      <a:pt x="77" y="280"/>
                    </a:lnTo>
                    <a:lnTo>
                      <a:pt x="842" y="0"/>
                    </a:lnTo>
                    <a:lnTo>
                      <a:pt x="1026" y="120"/>
                    </a:lnTo>
                    <a:lnTo>
                      <a:pt x="1026" y="12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1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246400">
                <a:off x="2845800" y="6553080"/>
                <a:ext cx="2183040" cy="8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reducir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costo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994280" y="2209680"/>
            <a:ext cx="5135040" cy="5667840"/>
            <a:chOff x="4994280" y="2209680"/>
            <a:chExt cx="5135040" cy="5667840"/>
          </a:xfrm>
        </p:grpSpPr>
        <p:sp>
          <p:nvSpPr>
            <p:cNvPr id="411" name=""/>
            <p:cNvSpPr/>
            <p:nvPr/>
          </p:nvSpPr>
          <p:spPr>
            <a:xfrm>
              <a:off x="5616360" y="3112920"/>
              <a:ext cx="2819520" cy="3159000"/>
            </a:xfrm>
            <a:custGeom>
              <a:avLst/>
              <a:gdLst/>
              <a:ahLst/>
              <a:rect l="l" t="t" r="r" b="b"/>
              <a:pathLst>
                <a:path w="1776" h="1990">
                  <a:moveTo>
                    <a:pt x="1747" y="1971"/>
                  </a:moveTo>
                  <a:lnTo>
                    <a:pt x="1747" y="1971"/>
                  </a:lnTo>
                  <a:lnTo>
                    <a:pt x="1426" y="1960"/>
                  </a:lnTo>
                  <a:lnTo>
                    <a:pt x="1228" y="1941"/>
                  </a:lnTo>
                  <a:lnTo>
                    <a:pt x="967" y="1882"/>
                  </a:lnTo>
                  <a:lnTo>
                    <a:pt x="908" y="1842"/>
                  </a:lnTo>
                  <a:lnTo>
                    <a:pt x="810" y="1802"/>
                  </a:lnTo>
                  <a:lnTo>
                    <a:pt x="719" y="1732"/>
                  </a:lnTo>
                  <a:lnTo>
                    <a:pt x="628" y="1643"/>
                  </a:lnTo>
                  <a:lnTo>
                    <a:pt x="548" y="1552"/>
                  </a:lnTo>
                  <a:lnTo>
                    <a:pt x="480" y="1463"/>
                  </a:lnTo>
                  <a:lnTo>
                    <a:pt x="390" y="1295"/>
                  </a:lnTo>
                  <a:lnTo>
                    <a:pt x="330" y="1165"/>
                  </a:lnTo>
                  <a:lnTo>
                    <a:pt x="280" y="1035"/>
                  </a:lnTo>
                  <a:lnTo>
                    <a:pt x="209" y="857"/>
                  </a:lnTo>
                  <a:lnTo>
                    <a:pt x="170" y="767"/>
                  </a:lnTo>
                  <a:lnTo>
                    <a:pt x="119" y="597"/>
                  </a:lnTo>
                  <a:lnTo>
                    <a:pt x="70" y="399"/>
                  </a:lnTo>
                  <a:lnTo>
                    <a:pt x="30" y="229"/>
                  </a:lnTo>
                  <a:lnTo>
                    <a:pt x="14" y="140"/>
                  </a:lnTo>
                  <a:lnTo>
                    <a:pt x="8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0" y="40"/>
                  </a:lnTo>
                  <a:lnTo>
                    <a:pt x="658" y="9"/>
                  </a:lnTo>
                  <a:lnTo>
                    <a:pt x="879" y="50"/>
                  </a:lnTo>
                  <a:lnTo>
                    <a:pt x="1208" y="30"/>
                  </a:lnTo>
                  <a:lnTo>
                    <a:pt x="1387" y="80"/>
                  </a:lnTo>
                  <a:lnTo>
                    <a:pt x="1556" y="170"/>
                  </a:lnTo>
                  <a:lnTo>
                    <a:pt x="1616" y="429"/>
                  </a:lnTo>
                  <a:lnTo>
                    <a:pt x="1598" y="757"/>
                  </a:lnTo>
                  <a:lnTo>
                    <a:pt x="1776" y="1244"/>
                  </a:lnTo>
                  <a:lnTo>
                    <a:pt x="1776" y="1582"/>
                  </a:lnTo>
                  <a:lnTo>
                    <a:pt x="1717" y="1812"/>
                  </a:lnTo>
                  <a:lnTo>
                    <a:pt x="1747" y="1990"/>
                  </a:lnTo>
                  <a:lnTo>
                    <a:pt x="1747" y="1971"/>
                  </a:lnTo>
                  <a:lnTo>
                    <a:pt x="1747" y="1971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100000">
                  <a:srgbClr val="400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4280" y="2701800"/>
              <a:ext cx="4356000" cy="4471920"/>
            </a:xfrm>
            <a:custGeom>
              <a:avLst/>
              <a:gdLst/>
              <a:ahLst/>
              <a:rect l="l" t="t" r="r" b="b"/>
              <a:pathLst>
                <a:path w="2744" h="2817">
                  <a:moveTo>
                    <a:pt x="0" y="0"/>
                  </a:moveTo>
                  <a:lnTo>
                    <a:pt x="0" y="2816"/>
                  </a:lnTo>
                  <a:lnTo>
                    <a:pt x="2743" y="281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7920" y="3071520"/>
              <a:ext cx="2871720" cy="3178080"/>
            </a:xfrm>
            <a:custGeom>
              <a:avLst/>
              <a:gdLst/>
              <a:ahLst/>
              <a:rect l="l" t="t" r="r" b="b"/>
              <a:pathLst>
                <a:path w="1809" h="2002">
                  <a:moveTo>
                    <a:pt x="0" y="0"/>
                  </a:moveTo>
                  <a:lnTo>
                    <a:pt x="1" y="18"/>
                  </a:lnTo>
                  <a:lnTo>
                    <a:pt x="2" y="31"/>
                  </a:lnTo>
                  <a:lnTo>
                    <a:pt x="2" y="41"/>
                  </a:lnTo>
                  <a:lnTo>
                    <a:pt x="4" y="49"/>
                  </a:lnTo>
                  <a:lnTo>
                    <a:pt x="4" y="56"/>
                  </a:lnTo>
                  <a:lnTo>
                    <a:pt x="4" y="61"/>
                  </a:lnTo>
                  <a:lnTo>
                    <a:pt x="4" y="65"/>
                  </a:lnTo>
                  <a:lnTo>
                    <a:pt x="6" y="66"/>
                  </a:lnTo>
                  <a:lnTo>
                    <a:pt x="6" y="69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7" y="75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10" y="96"/>
                  </a:lnTo>
                  <a:lnTo>
                    <a:pt x="10" y="107"/>
                  </a:lnTo>
                  <a:lnTo>
                    <a:pt x="12" y="119"/>
                  </a:lnTo>
                  <a:lnTo>
                    <a:pt x="14" y="135"/>
                  </a:lnTo>
                  <a:lnTo>
                    <a:pt x="18" y="153"/>
                  </a:lnTo>
                  <a:lnTo>
                    <a:pt x="21" y="173"/>
                  </a:lnTo>
                  <a:lnTo>
                    <a:pt x="25" y="194"/>
                  </a:lnTo>
                  <a:lnTo>
                    <a:pt x="29" y="217"/>
                  </a:lnTo>
                  <a:lnTo>
                    <a:pt x="34" y="240"/>
                  </a:lnTo>
                  <a:lnTo>
                    <a:pt x="38" y="265"/>
                  </a:lnTo>
                  <a:lnTo>
                    <a:pt x="44" y="290"/>
                  </a:lnTo>
                  <a:lnTo>
                    <a:pt x="49" y="317"/>
                  </a:lnTo>
                  <a:lnTo>
                    <a:pt x="55" y="342"/>
                  </a:lnTo>
                  <a:lnTo>
                    <a:pt x="60" y="368"/>
                  </a:lnTo>
                  <a:lnTo>
                    <a:pt x="66" y="394"/>
                  </a:lnTo>
                  <a:lnTo>
                    <a:pt x="72" y="419"/>
                  </a:lnTo>
                  <a:lnTo>
                    <a:pt x="77" y="443"/>
                  </a:lnTo>
                  <a:lnTo>
                    <a:pt x="82" y="468"/>
                  </a:lnTo>
                  <a:lnTo>
                    <a:pt x="88" y="493"/>
                  </a:lnTo>
                  <a:lnTo>
                    <a:pt x="94" y="520"/>
                  </a:lnTo>
                  <a:lnTo>
                    <a:pt x="102" y="546"/>
                  </a:lnTo>
                  <a:lnTo>
                    <a:pt x="108" y="574"/>
                  </a:lnTo>
                  <a:lnTo>
                    <a:pt x="116" y="601"/>
                  </a:lnTo>
                  <a:lnTo>
                    <a:pt x="124" y="629"/>
                  </a:lnTo>
                  <a:lnTo>
                    <a:pt x="132" y="655"/>
                  </a:lnTo>
                  <a:lnTo>
                    <a:pt x="139" y="681"/>
                  </a:lnTo>
                  <a:lnTo>
                    <a:pt x="147" y="707"/>
                  </a:lnTo>
                  <a:lnTo>
                    <a:pt x="154" y="731"/>
                  </a:lnTo>
                  <a:lnTo>
                    <a:pt x="162" y="753"/>
                  </a:lnTo>
                  <a:lnTo>
                    <a:pt x="167" y="774"/>
                  </a:lnTo>
                  <a:lnTo>
                    <a:pt x="174" y="791"/>
                  </a:lnTo>
                  <a:lnTo>
                    <a:pt x="180" y="808"/>
                  </a:lnTo>
                  <a:lnTo>
                    <a:pt x="186" y="820"/>
                  </a:lnTo>
                  <a:lnTo>
                    <a:pt x="191" y="834"/>
                  </a:lnTo>
                  <a:lnTo>
                    <a:pt x="196" y="847"/>
                  </a:lnTo>
                  <a:lnTo>
                    <a:pt x="204" y="864"/>
                  </a:lnTo>
                  <a:lnTo>
                    <a:pt x="211" y="881"/>
                  </a:lnTo>
                  <a:lnTo>
                    <a:pt x="218" y="900"/>
                  </a:lnTo>
                  <a:lnTo>
                    <a:pt x="226" y="919"/>
                  </a:lnTo>
                  <a:lnTo>
                    <a:pt x="235" y="939"/>
                  </a:lnTo>
                  <a:lnTo>
                    <a:pt x="244" y="959"/>
                  </a:lnTo>
                  <a:lnTo>
                    <a:pt x="252" y="980"/>
                  </a:lnTo>
                  <a:lnTo>
                    <a:pt x="261" y="1001"/>
                  </a:lnTo>
                  <a:lnTo>
                    <a:pt x="269" y="1021"/>
                  </a:lnTo>
                  <a:lnTo>
                    <a:pt x="278" y="1040"/>
                  </a:lnTo>
                  <a:lnTo>
                    <a:pt x="286" y="1060"/>
                  </a:lnTo>
                  <a:lnTo>
                    <a:pt x="294" y="1079"/>
                  </a:lnTo>
                  <a:lnTo>
                    <a:pt x="302" y="1097"/>
                  </a:lnTo>
                  <a:lnTo>
                    <a:pt x="310" y="1112"/>
                  </a:lnTo>
                  <a:lnTo>
                    <a:pt x="316" y="1129"/>
                  </a:lnTo>
                  <a:lnTo>
                    <a:pt x="324" y="1146"/>
                  </a:lnTo>
                  <a:lnTo>
                    <a:pt x="331" y="1165"/>
                  </a:lnTo>
                  <a:lnTo>
                    <a:pt x="341" y="1183"/>
                  </a:lnTo>
                  <a:lnTo>
                    <a:pt x="348" y="1203"/>
                  </a:lnTo>
                  <a:lnTo>
                    <a:pt x="358" y="1221"/>
                  </a:lnTo>
                  <a:lnTo>
                    <a:pt x="366" y="1241"/>
                  </a:lnTo>
                  <a:lnTo>
                    <a:pt x="376" y="1259"/>
                  </a:lnTo>
                  <a:lnTo>
                    <a:pt x="383" y="1279"/>
                  </a:lnTo>
                  <a:lnTo>
                    <a:pt x="392" y="1297"/>
                  </a:lnTo>
                  <a:lnTo>
                    <a:pt x="400" y="1314"/>
                  </a:lnTo>
                  <a:lnTo>
                    <a:pt x="409" y="1331"/>
                  </a:lnTo>
                  <a:lnTo>
                    <a:pt x="415" y="1346"/>
                  </a:lnTo>
                  <a:lnTo>
                    <a:pt x="422" y="1361"/>
                  </a:lnTo>
                  <a:lnTo>
                    <a:pt x="428" y="1373"/>
                  </a:lnTo>
                  <a:lnTo>
                    <a:pt x="434" y="1383"/>
                  </a:lnTo>
                  <a:lnTo>
                    <a:pt x="439" y="1394"/>
                  </a:lnTo>
                  <a:lnTo>
                    <a:pt x="444" y="1405"/>
                  </a:lnTo>
                  <a:lnTo>
                    <a:pt x="451" y="1419"/>
                  </a:lnTo>
                  <a:lnTo>
                    <a:pt x="459" y="1431"/>
                  </a:lnTo>
                  <a:lnTo>
                    <a:pt x="467" y="1446"/>
                  </a:lnTo>
                  <a:lnTo>
                    <a:pt x="477" y="1460"/>
                  </a:lnTo>
                  <a:lnTo>
                    <a:pt x="486" y="1475"/>
                  </a:lnTo>
                  <a:lnTo>
                    <a:pt x="496" y="1489"/>
                  </a:lnTo>
                  <a:lnTo>
                    <a:pt x="506" y="1504"/>
                  </a:lnTo>
                  <a:lnTo>
                    <a:pt x="516" y="1519"/>
                  </a:lnTo>
                  <a:lnTo>
                    <a:pt x="525" y="1534"/>
                  </a:lnTo>
                  <a:lnTo>
                    <a:pt x="536" y="1547"/>
                  </a:lnTo>
                  <a:lnTo>
                    <a:pt x="545" y="1561"/>
                  </a:lnTo>
                  <a:lnTo>
                    <a:pt x="555" y="1573"/>
                  </a:lnTo>
                  <a:lnTo>
                    <a:pt x="564" y="1585"/>
                  </a:lnTo>
                  <a:lnTo>
                    <a:pt x="574" y="1595"/>
                  </a:lnTo>
                  <a:lnTo>
                    <a:pt x="582" y="1606"/>
                  </a:lnTo>
                  <a:lnTo>
                    <a:pt x="591" y="1617"/>
                  </a:lnTo>
                  <a:lnTo>
                    <a:pt x="602" y="1629"/>
                  </a:lnTo>
                  <a:lnTo>
                    <a:pt x="613" y="1640"/>
                  </a:lnTo>
                  <a:lnTo>
                    <a:pt x="624" y="1653"/>
                  </a:lnTo>
                  <a:lnTo>
                    <a:pt x="636" y="1664"/>
                  </a:lnTo>
                  <a:lnTo>
                    <a:pt x="647" y="1677"/>
                  </a:lnTo>
                  <a:lnTo>
                    <a:pt x="660" y="1688"/>
                  </a:lnTo>
                  <a:lnTo>
                    <a:pt x="672" y="1701"/>
                  </a:lnTo>
                  <a:lnTo>
                    <a:pt x="684" y="1713"/>
                  </a:lnTo>
                  <a:lnTo>
                    <a:pt x="695" y="1724"/>
                  </a:lnTo>
                  <a:lnTo>
                    <a:pt x="708" y="1734"/>
                  </a:lnTo>
                  <a:lnTo>
                    <a:pt x="718" y="1744"/>
                  </a:lnTo>
                  <a:lnTo>
                    <a:pt x="730" y="1752"/>
                  </a:lnTo>
                  <a:lnTo>
                    <a:pt x="739" y="1761"/>
                  </a:lnTo>
                  <a:lnTo>
                    <a:pt x="749" y="1767"/>
                  </a:lnTo>
                  <a:lnTo>
                    <a:pt x="756" y="1774"/>
                  </a:lnTo>
                  <a:lnTo>
                    <a:pt x="765" y="1780"/>
                  </a:lnTo>
                  <a:lnTo>
                    <a:pt x="774" y="1787"/>
                  </a:lnTo>
                  <a:lnTo>
                    <a:pt x="783" y="1792"/>
                  </a:lnTo>
                  <a:lnTo>
                    <a:pt x="791" y="1800"/>
                  </a:lnTo>
                  <a:lnTo>
                    <a:pt x="800" y="1805"/>
                  </a:lnTo>
                  <a:lnTo>
                    <a:pt x="809" y="1812"/>
                  </a:lnTo>
                  <a:lnTo>
                    <a:pt x="819" y="1817"/>
                  </a:lnTo>
                  <a:lnTo>
                    <a:pt x="826" y="1823"/>
                  </a:lnTo>
                  <a:lnTo>
                    <a:pt x="834" y="1829"/>
                  </a:lnTo>
                  <a:lnTo>
                    <a:pt x="840" y="1835"/>
                  </a:lnTo>
                  <a:lnTo>
                    <a:pt x="848" y="1839"/>
                  </a:lnTo>
                  <a:lnTo>
                    <a:pt x="854" y="1843"/>
                  </a:lnTo>
                  <a:lnTo>
                    <a:pt x="859" y="1847"/>
                  </a:lnTo>
                  <a:lnTo>
                    <a:pt x="863" y="1849"/>
                  </a:lnTo>
                  <a:lnTo>
                    <a:pt x="868" y="1850"/>
                  </a:lnTo>
                  <a:lnTo>
                    <a:pt x="870" y="1854"/>
                  </a:lnTo>
                  <a:lnTo>
                    <a:pt x="874" y="1856"/>
                  </a:lnTo>
                  <a:lnTo>
                    <a:pt x="878" y="1859"/>
                  </a:lnTo>
                  <a:lnTo>
                    <a:pt x="884" y="1861"/>
                  </a:lnTo>
                  <a:lnTo>
                    <a:pt x="889" y="1865"/>
                  </a:lnTo>
                  <a:lnTo>
                    <a:pt x="896" y="1868"/>
                  </a:lnTo>
                  <a:lnTo>
                    <a:pt x="902" y="1871"/>
                  </a:lnTo>
                  <a:lnTo>
                    <a:pt x="909" y="1873"/>
                  </a:lnTo>
                  <a:lnTo>
                    <a:pt x="915" y="1877"/>
                  </a:lnTo>
                  <a:lnTo>
                    <a:pt x="922" y="1880"/>
                  </a:lnTo>
                  <a:lnTo>
                    <a:pt x="930" y="1884"/>
                  </a:lnTo>
                  <a:lnTo>
                    <a:pt x="937" y="1886"/>
                  </a:lnTo>
                  <a:lnTo>
                    <a:pt x="944" y="1890"/>
                  </a:lnTo>
                  <a:lnTo>
                    <a:pt x="951" y="1891"/>
                  </a:lnTo>
                  <a:lnTo>
                    <a:pt x="958" y="1895"/>
                  </a:lnTo>
                  <a:lnTo>
                    <a:pt x="965" y="1897"/>
                  </a:lnTo>
                  <a:lnTo>
                    <a:pt x="972" y="1900"/>
                  </a:lnTo>
                  <a:lnTo>
                    <a:pt x="980" y="1903"/>
                  </a:lnTo>
                  <a:lnTo>
                    <a:pt x="988" y="1907"/>
                  </a:lnTo>
                  <a:lnTo>
                    <a:pt x="998" y="1909"/>
                  </a:lnTo>
                  <a:lnTo>
                    <a:pt x="1008" y="1913"/>
                  </a:lnTo>
                  <a:lnTo>
                    <a:pt x="1020" y="1917"/>
                  </a:lnTo>
                  <a:lnTo>
                    <a:pt x="1031" y="1920"/>
                  </a:lnTo>
                  <a:lnTo>
                    <a:pt x="1044" y="1922"/>
                  </a:lnTo>
                  <a:lnTo>
                    <a:pt x="1055" y="1926"/>
                  </a:lnTo>
                  <a:lnTo>
                    <a:pt x="1068" y="1929"/>
                  </a:lnTo>
                  <a:lnTo>
                    <a:pt x="1079" y="1933"/>
                  </a:lnTo>
                  <a:lnTo>
                    <a:pt x="1092" y="1936"/>
                  </a:lnTo>
                  <a:lnTo>
                    <a:pt x="1103" y="1939"/>
                  </a:lnTo>
                  <a:lnTo>
                    <a:pt x="1115" y="1941"/>
                  </a:lnTo>
                  <a:lnTo>
                    <a:pt x="1125" y="1945"/>
                  </a:lnTo>
                  <a:lnTo>
                    <a:pt x="1136" y="1947"/>
                  </a:lnTo>
                  <a:lnTo>
                    <a:pt x="1146" y="1950"/>
                  </a:lnTo>
                  <a:lnTo>
                    <a:pt x="1157" y="1952"/>
                  </a:lnTo>
                  <a:lnTo>
                    <a:pt x="1168" y="1955"/>
                  </a:lnTo>
                  <a:lnTo>
                    <a:pt x="1181" y="1957"/>
                  </a:lnTo>
                  <a:lnTo>
                    <a:pt x="1194" y="1961"/>
                  </a:lnTo>
                  <a:lnTo>
                    <a:pt x="1207" y="1963"/>
                  </a:lnTo>
                  <a:lnTo>
                    <a:pt x="1220" y="1965"/>
                  </a:lnTo>
                  <a:lnTo>
                    <a:pt x="1234" y="1967"/>
                  </a:lnTo>
                  <a:lnTo>
                    <a:pt x="1247" y="1971"/>
                  </a:lnTo>
                  <a:lnTo>
                    <a:pt x="1260" y="1973"/>
                  </a:lnTo>
                  <a:lnTo>
                    <a:pt x="1273" y="1975"/>
                  </a:lnTo>
                  <a:lnTo>
                    <a:pt x="1286" y="1977"/>
                  </a:lnTo>
                  <a:lnTo>
                    <a:pt x="1297" y="1979"/>
                  </a:lnTo>
                  <a:lnTo>
                    <a:pt x="1308" y="1981"/>
                  </a:lnTo>
                  <a:lnTo>
                    <a:pt x="1318" y="1983"/>
                  </a:lnTo>
                  <a:lnTo>
                    <a:pt x="1328" y="1983"/>
                  </a:lnTo>
                  <a:lnTo>
                    <a:pt x="1336" y="1985"/>
                  </a:lnTo>
                  <a:lnTo>
                    <a:pt x="1346" y="1985"/>
                  </a:lnTo>
                  <a:lnTo>
                    <a:pt x="1356" y="1987"/>
                  </a:lnTo>
                  <a:lnTo>
                    <a:pt x="1368" y="1987"/>
                  </a:lnTo>
                  <a:lnTo>
                    <a:pt x="1380" y="1989"/>
                  </a:lnTo>
                  <a:lnTo>
                    <a:pt x="1393" y="1989"/>
                  </a:lnTo>
                  <a:lnTo>
                    <a:pt x="1406" y="1991"/>
                  </a:lnTo>
                  <a:lnTo>
                    <a:pt x="1422" y="1991"/>
                  </a:lnTo>
                  <a:lnTo>
                    <a:pt x="1434" y="1993"/>
                  </a:lnTo>
                  <a:lnTo>
                    <a:pt x="1448" y="1993"/>
                  </a:lnTo>
                  <a:lnTo>
                    <a:pt x="1461" y="1995"/>
                  </a:lnTo>
                  <a:lnTo>
                    <a:pt x="1476" y="1995"/>
                  </a:lnTo>
                  <a:lnTo>
                    <a:pt x="1488" y="1996"/>
                  </a:lnTo>
                  <a:lnTo>
                    <a:pt x="1501" y="1996"/>
                  </a:lnTo>
                  <a:lnTo>
                    <a:pt x="1512" y="1997"/>
                  </a:lnTo>
                  <a:lnTo>
                    <a:pt x="1524" y="1997"/>
                  </a:lnTo>
                  <a:lnTo>
                    <a:pt x="1534" y="1999"/>
                  </a:lnTo>
                  <a:lnTo>
                    <a:pt x="1545" y="1999"/>
                  </a:lnTo>
                  <a:lnTo>
                    <a:pt x="1558" y="1999"/>
                  </a:lnTo>
                  <a:lnTo>
                    <a:pt x="1570" y="1999"/>
                  </a:lnTo>
                  <a:lnTo>
                    <a:pt x="1584" y="2000"/>
                  </a:lnTo>
                  <a:lnTo>
                    <a:pt x="1598" y="2000"/>
                  </a:lnTo>
                  <a:lnTo>
                    <a:pt x="1610" y="2000"/>
                  </a:lnTo>
                  <a:lnTo>
                    <a:pt x="1626" y="2000"/>
                  </a:lnTo>
                  <a:lnTo>
                    <a:pt x="1639" y="2001"/>
                  </a:lnTo>
                  <a:lnTo>
                    <a:pt x="1652" y="2001"/>
                  </a:lnTo>
                  <a:lnTo>
                    <a:pt x="1665" y="2001"/>
                  </a:lnTo>
                  <a:lnTo>
                    <a:pt x="1678" y="2001"/>
                  </a:lnTo>
                  <a:lnTo>
                    <a:pt x="1689" y="2001"/>
                  </a:lnTo>
                  <a:lnTo>
                    <a:pt x="1700" y="2001"/>
                  </a:lnTo>
                  <a:lnTo>
                    <a:pt x="1710" y="2001"/>
                  </a:lnTo>
                  <a:lnTo>
                    <a:pt x="1720" y="2001"/>
                  </a:lnTo>
                  <a:lnTo>
                    <a:pt x="1726" y="2001"/>
                  </a:lnTo>
                  <a:lnTo>
                    <a:pt x="1732" y="2001"/>
                  </a:lnTo>
                  <a:lnTo>
                    <a:pt x="1735" y="2001"/>
                  </a:lnTo>
                  <a:lnTo>
                    <a:pt x="1739" y="2001"/>
                  </a:lnTo>
                  <a:lnTo>
                    <a:pt x="1741" y="2001"/>
                  </a:lnTo>
                  <a:lnTo>
                    <a:pt x="1743" y="2001"/>
                  </a:lnTo>
                  <a:lnTo>
                    <a:pt x="1745" y="2001"/>
                  </a:lnTo>
                  <a:lnTo>
                    <a:pt x="1746" y="2001"/>
                  </a:lnTo>
                  <a:lnTo>
                    <a:pt x="1748" y="2001"/>
                  </a:lnTo>
                  <a:lnTo>
                    <a:pt x="1752" y="2001"/>
                  </a:lnTo>
                  <a:lnTo>
                    <a:pt x="1756" y="2001"/>
                  </a:lnTo>
                  <a:lnTo>
                    <a:pt x="1762" y="2001"/>
                  </a:lnTo>
                  <a:lnTo>
                    <a:pt x="1769" y="2001"/>
                  </a:lnTo>
                  <a:lnTo>
                    <a:pt x="1780" y="2001"/>
                  </a:lnTo>
                  <a:lnTo>
                    <a:pt x="1792" y="2001"/>
                  </a:lnTo>
                  <a:lnTo>
                    <a:pt x="1808" y="2001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62360" y="2339640"/>
              <a:ext cx="219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4000" spc="-1" strike="noStrike">
                  <a:solidFill>
                    <a:srgbClr val="00c1c2"/>
                  </a:solidFill>
                  <a:latin typeface="Times New Roman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78160" y="2209680"/>
              <a:ext cx="6368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372600" y="6987960"/>
              <a:ext cx="636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29200" y="4727520"/>
              <a:ext cx="3673440" cy="2447640"/>
            </a:xfrm>
            <a:prstGeom prst="line">
              <a:avLst/>
            </a:prstGeom>
            <a:ln w="4428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7145280" y="6257880"/>
              <a:ext cx="2984040" cy="1619640"/>
              <a:chOff x="7145280" y="6257880"/>
              <a:chExt cx="2984040" cy="1619640"/>
            </a:xfrm>
          </p:grpSpPr>
          <p:sp>
            <p:nvSpPr>
              <p:cNvPr id="419" name=""/>
              <p:cNvSpPr/>
              <p:nvPr/>
            </p:nvSpPr>
            <p:spPr>
              <a:xfrm>
                <a:off x="7145280" y="6257880"/>
                <a:ext cx="1630440" cy="861840"/>
              </a:xfrm>
              <a:custGeom>
                <a:avLst/>
                <a:gdLst/>
                <a:ahLst/>
                <a:rect l="l" t="t" r="r" b="b"/>
                <a:pathLst>
                  <a:path w="1027" h="543">
                    <a:moveTo>
                      <a:pt x="1026" y="120"/>
                    </a:moveTo>
                    <a:lnTo>
                      <a:pt x="422" y="472"/>
                    </a:lnTo>
                    <a:lnTo>
                      <a:pt x="502" y="542"/>
                    </a:lnTo>
                    <a:lnTo>
                      <a:pt x="19" y="506"/>
                    </a:lnTo>
                    <a:lnTo>
                      <a:pt x="0" y="232"/>
                    </a:lnTo>
                    <a:lnTo>
                      <a:pt x="77" y="280"/>
                    </a:lnTo>
                    <a:lnTo>
                      <a:pt x="842" y="0"/>
                    </a:lnTo>
                    <a:lnTo>
                      <a:pt x="1026" y="120"/>
                    </a:lnTo>
                    <a:lnTo>
                      <a:pt x="1026" y="12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1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246400">
                <a:off x="7875000" y="6683040"/>
                <a:ext cx="2183040" cy="8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reducir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costo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016240" y="3579480"/>
              <a:ext cx="5035320" cy="3611520"/>
              <a:chOff x="5016240" y="3579480"/>
              <a:chExt cx="5035320" cy="361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5029200" y="4727520"/>
                <a:ext cx="3673440" cy="244764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5016240" y="4128840"/>
                <a:ext cx="4230720" cy="286848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18040" y="5243400"/>
                <a:ext cx="3036960" cy="194472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19480" y="5667120"/>
                <a:ext cx="2378160" cy="152388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5017680" y="3579480"/>
                <a:ext cx="5033880" cy="341496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769080" y="5692680"/>
              <a:ext cx="4698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0000"/>
                </a:buClr>
                <a:buSzPct val="9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76760" y="5692680"/>
              <a:ext cx="1065240" cy="1066680"/>
            </a:xfrm>
            <a:custGeom>
              <a:avLst/>
              <a:gdLst/>
              <a:ahLst/>
              <a:rect l="l" t="t" r="r" b="b"/>
              <a:pathLst>
                <a:path w="499" h="500">
                  <a:moveTo>
                    <a:pt x="55" y="96"/>
                  </a:moveTo>
                  <a:lnTo>
                    <a:pt x="27" y="138"/>
                  </a:lnTo>
                  <a:lnTo>
                    <a:pt x="9" y="181"/>
                  </a:lnTo>
                  <a:lnTo>
                    <a:pt x="0" y="224"/>
                  </a:lnTo>
                  <a:lnTo>
                    <a:pt x="0" y="266"/>
                  </a:lnTo>
                  <a:lnTo>
                    <a:pt x="5" y="308"/>
                  </a:lnTo>
                  <a:lnTo>
                    <a:pt x="20" y="347"/>
                  </a:lnTo>
                  <a:lnTo>
                    <a:pt x="39" y="383"/>
                  </a:lnTo>
                  <a:lnTo>
                    <a:pt x="65" y="415"/>
                  </a:lnTo>
                  <a:lnTo>
                    <a:pt x="95" y="444"/>
                  </a:lnTo>
                  <a:lnTo>
                    <a:pt x="128" y="467"/>
                  </a:lnTo>
                  <a:lnTo>
                    <a:pt x="166" y="485"/>
                  </a:lnTo>
                  <a:lnTo>
                    <a:pt x="206" y="495"/>
                  </a:lnTo>
                  <a:lnTo>
                    <a:pt x="248" y="499"/>
                  </a:lnTo>
                  <a:lnTo>
                    <a:pt x="292" y="495"/>
                  </a:lnTo>
                  <a:lnTo>
                    <a:pt x="337" y="482"/>
                  </a:lnTo>
                  <a:lnTo>
                    <a:pt x="381" y="458"/>
                  </a:lnTo>
                  <a:lnTo>
                    <a:pt x="420" y="429"/>
                  </a:lnTo>
                  <a:lnTo>
                    <a:pt x="451" y="395"/>
                  </a:lnTo>
                  <a:lnTo>
                    <a:pt x="474" y="358"/>
                  </a:lnTo>
                  <a:lnTo>
                    <a:pt x="489" y="318"/>
                  </a:lnTo>
                  <a:lnTo>
                    <a:pt x="497" y="277"/>
                  </a:lnTo>
                  <a:lnTo>
                    <a:pt x="498" y="236"/>
                  </a:lnTo>
                  <a:lnTo>
                    <a:pt x="491" y="195"/>
                  </a:lnTo>
                  <a:lnTo>
                    <a:pt x="479" y="155"/>
                  </a:lnTo>
                  <a:lnTo>
                    <a:pt x="460" y="119"/>
                  </a:lnTo>
                  <a:lnTo>
                    <a:pt x="437" y="86"/>
                  </a:lnTo>
                  <a:lnTo>
                    <a:pt x="407" y="57"/>
                  </a:lnTo>
                  <a:lnTo>
                    <a:pt x="374" y="32"/>
                  </a:lnTo>
                  <a:lnTo>
                    <a:pt x="335" y="14"/>
                  </a:lnTo>
                  <a:lnTo>
                    <a:pt x="293" y="3"/>
                  </a:lnTo>
                  <a:lnTo>
                    <a:pt x="247" y="0"/>
                  </a:lnTo>
                  <a:lnTo>
                    <a:pt x="198" y="5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495680" y="1752480"/>
            <a:ext cx="5943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para el consumido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1828800"/>
            <a:ext cx="8920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la diferencia está solo en la nota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2971800"/>
            <a:ext cx="7250040" cy="3828960"/>
          </a:xfrm>
          <a:prstGeom prst="ellipse">
            <a:avLst/>
          </a:prstGeom>
          <a:solidFill>
            <a:srgbClr val="ffffc2"/>
          </a:solidFill>
          <a:ln w="4752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de modo que las funci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solución y las funcion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de respuesta deb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ser las mism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0"/>
            <a:ext cx="9372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pasemos las formalidades de la solu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4504680"/>
            <a:ext cx="2666880" cy="1417320"/>
          </a:xfrm>
          <a:prstGeom prst="wedgeRoundRectCallout">
            <a:avLst>
              <a:gd name="adj1" fmla="val 51416"/>
              <a:gd name="adj2" fmla="val 71912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10000"/>
                </a:solidFill>
                <a:latin typeface="Times New Roman"/>
              </a:rPr>
              <a:t>Use las C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7480" y="2231280"/>
            <a:ext cx="3429000" cy="1417320"/>
          </a:xfrm>
          <a:prstGeom prst="wedgeRoundRectCallout">
            <a:avLst>
              <a:gd name="adj1" fmla="val -68884"/>
              <a:gd name="adj2" fmla="val 246875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10000"/>
                </a:solidFill>
                <a:latin typeface="Times New Roman"/>
              </a:rPr>
              <a:t>En x* encontram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 flipV="1">
            <a:off x="1093680" y="3196800"/>
            <a:ext cx="7435800" cy="285768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4752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i tanto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o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on comprad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11240" y="3213000"/>
            <a:ext cx="5708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re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MS    =     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920960" y="3457440"/>
            <a:ext cx="6426000" cy="2105280"/>
            <a:chOff x="1920960" y="3457440"/>
            <a:chExt cx="6426000" cy="2105280"/>
          </a:xfrm>
        </p:grpSpPr>
        <p:sp>
          <p:nvSpPr>
            <p:cNvPr id="439" name=""/>
            <p:cNvSpPr/>
            <p:nvPr/>
          </p:nvSpPr>
          <p:spPr>
            <a:xfrm>
              <a:off x="1920960" y="3608280"/>
              <a:ext cx="25304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_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16520" y="3608280"/>
              <a:ext cx="25304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8520" y="4017960"/>
              <a:ext cx="601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62080" y="3457440"/>
              <a:ext cx="502452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95000" y="904680"/>
            <a:ext cx="9451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conjunto de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+1  condicion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52480" y="2263680"/>
            <a:ext cx="45594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...   ...   ..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65440" y="4861080"/>
            <a:ext cx="487836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44840" y="4106880"/>
            <a:ext cx="40734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5889600"/>
            <a:ext cx="5486400" cy="188280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Restricción de utilidad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99360" y="2133720"/>
            <a:ext cx="3657600" cy="388620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uno para cada bien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38080"/>
            <a:ext cx="94518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si las curvas de indifere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can los ej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6607080"/>
            <a:ext cx="4559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9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2286000"/>
            <a:ext cx="4114800" cy="36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...   ...   ..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8160" y="2666520"/>
            <a:ext cx="2476440" cy="2257920"/>
            <a:chOff x="38160" y="2666520"/>
            <a:chExt cx="2476440" cy="2257920"/>
          </a:xfrm>
        </p:grpSpPr>
        <p:sp>
          <p:nvSpPr>
            <p:cNvPr id="453" name=""/>
            <p:cNvSpPr/>
            <p:nvPr/>
          </p:nvSpPr>
          <p:spPr>
            <a:xfrm flipV="1">
              <a:off x="1363680" y="2666520"/>
              <a:ext cx="514440" cy="514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14440" y="3463920"/>
              <a:ext cx="579600" cy="65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63680" y="3895560"/>
              <a:ext cx="547560" cy="1028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160" y="3130560"/>
              <a:ext cx="2476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multiplicadores de  Lag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867280" y="2803680"/>
            <a:ext cx="685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257800" y="2666880"/>
            <a:ext cx="5790960" cy="4424400"/>
            <a:chOff x="5257800" y="2666880"/>
            <a:chExt cx="5790960" cy="4424400"/>
          </a:xfrm>
        </p:grpSpPr>
        <p:sp>
          <p:nvSpPr>
            <p:cNvPr id="459" name=""/>
            <p:cNvSpPr/>
            <p:nvPr/>
          </p:nvSpPr>
          <p:spPr>
            <a:xfrm>
              <a:off x="5319360" y="2666880"/>
              <a:ext cx="5729400" cy="4424400"/>
            </a:xfrm>
            <a:custGeom>
              <a:avLst/>
              <a:gdLst/>
              <a:ahLst/>
              <a:rect l="l" t="t" r="r" b="b"/>
              <a:pathLst>
                <a:path w="3248" h="2787">
                  <a:moveTo>
                    <a:pt x="3247" y="1368"/>
                  </a:moveTo>
                  <a:lnTo>
                    <a:pt x="3247" y="1368"/>
                  </a:lnTo>
                  <a:lnTo>
                    <a:pt x="1333" y="0"/>
                  </a:lnTo>
                  <a:lnTo>
                    <a:pt x="1557" y="684"/>
                  </a:lnTo>
                  <a:lnTo>
                    <a:pt x="0" y="684"/>
                  </a:lnTo>
                  <a:lnTo>
                    <a:pt x="0" y="2149"/>
                  </a:lnTo>
                  <a:lnTo>
                    <a:pt x="1557" y="2149"/>
                  </a:lnTo>
                  <a:lnTo>
                    <a:pt x="1333" y="2786"/>
                  </a:lnTo>
                  <a:lnTo>
                    <a:pt x="3247" y="1368"/>
                  </a:lnTo>
                  <a:lnTo>
                    <a:pt x="3247" y="13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57800" y="4279680"/>
              <a:ext cx="56235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6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6800" spc="-1" strike="noStrike">
                  <a:solidFill>
                    <a:srgbClr val="000000"/>
                  </a:solidFill>
                  <a:latin typeface="Arial"/>
                </a:rPr>
                <a:t>Resultado 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solu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2057400"/>
            <a:ext cx="9448920" cy="50436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Obtenemos un valor de costo mínimo (gasto mínimo) para cada bien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...para el multiplicador de Lagrange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...y , por supuesto, para el costo total mínimo (gasto total mínimo)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Cada uno de ellos puede ser escrito en función del precio (</a:t>
            </a:r>
            <a:r>
              <a:rPr b="1" lang="en-GB" sz="33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)  y de la utilidad (</a:t>
            </a:r>
            <a:r>
              <a:rPr b="0" i="1" lang="en-GB" sz="3300" spc="-1" strike="noStrike">
                <a:solidFill>
                  <a:srgbClr val="000066"/>
                </a:solidFill>
                <a:latin typeface="Times New Roman"/>
              </a:rPr>
              <a:t>u)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846680" y="2057400"/>
            <a:ext cx="5211720" cy="4424400"/>
            <a:chOff x="4846680" y="2057400"/>
            <a:chExt cx="5211720" cy="4424400"/>
          </a:xfrm>
        </p:grpSpPr>
        <p:sp>
          <p:nvSpPr>
            <p:cNvPr id="464" name=""/>
            <p:cNvSpPr/>
            <p:nvPr/>
          </p:nvSpPr>
          <p:spPr>
            <a:xfrm>
              <a:off x="4902120" y="2057400"/>
              <a:ext cx="5156280" cy="4424400"/>
            </a:xfrm>
            <a:custGeom>
              <a:avLst/>
              <a:gdLst/>
              <a:ahLst/>
              <a:rect l="l" t="t" r="r" b="b"/>
              <a:pathLst>
                <a:path w="3248" h="2787">
                  <a:moveTo>
                    <a:pt x="3247" y="1368"/>
                  </a:moveTo>
                  <a:lnTo>
                    <a:pt x="3247" y="1368"/>
                  </a:lnTo>
                  <a:lnTo>
                    <a:pt x="1333" y="0"/>
                  </a:lnTo>
                  <a:lnTo>
                    <a:pt x="1557" y="684"/>
                  </a:lnTo>
                  <a:lnTo>
                    <a:pt x="0" y="684"/>
                  </a:lnTo>
                  <a:lnTo>
                    <a:pt x="0" y="2149"/>
                  </a:lnTo>
                  <a:lnTo>
                    <a:pt x="1557" y="2149"/>
                  </a:lnTo>
                  <a:lnTo>
                    <a:pt x="1333" y="2786"/>
                  </a:lnTo>
                  <a:lnTo>
                    <a:pt x="3247" y="1368"/>
                  </a:lnTo>
                  <a:lnTo>
                    <a:pt x="3247" y="13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46680" y="3670200"/>
              <a:ext cx="5060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6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GB" sz="6900" spc="-1" strike="noStrike">
                  <a:solidFill>
                    <a:srgbClr val="000000"/>
                  </a:solidFill>
                  <a:latin typeface="Arial"/>
                </a:rPr>
                <a:t>Veamos...</a:t>
              </a:r>
              <a:endParaRPr b="0" lang="en-US" sz="6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solución es la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función de costo del consumidor o su función de gasto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2666880"/>
            <a:ext cx="38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5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)  :=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5360" y="4762440"/>
            <a:ext cx="6626880" cy="2470320"/>
          </a:xfrm>
          <a:prstGeom prst="wedgeRoundRectCallout">
            <a:avLst>
              <a:gd name="adj1" fmla="val -36444"/>
              <a:gd name="adj2" fmla="val -100689"/>
              <a:gd name="adj3" fmla="val 16667"/>
            </a:avLst>
          </a:prstGeom>
          <a:solidFill>
            <a:srgbClr val="fff63d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vector 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pricios de los bi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5480" y="4305240"/>
            <a:ext cx="3689640" cy="2470320"/>
          </a:xfrm>
          <a:prstGeom prst="wedgeRoundRectCallout">
            <a:avLst>
              <a:gd name="adj1" fmla="val -69615"/>
              <a:gd name="adj2" fmla="val -79083"/>
              <a:gd name="adj3" fmla="val 16667"/>
            </a:avLst>
          </a:prstGeom>
          <a:solidFill>
            <a:srgbClr val="fff63d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Nivel de Util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2590920"/>
            <a:ext cx="4191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5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GB" sz="5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GB" sz="5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3581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600"/>
            <a:ext cx="8821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l Consumidor: La Optimiz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icroeconomía II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17840" y="6270480"/>
            <a:ext cx="1217880" cy="414360"/>
            <a:chOff x="4317840" y="6270480"/>
            <a:chExt cx="1217880" cy="414360"/>
          </a:xfrm>
        </p:grpSpPr>
        <p:sp>
          <p:nvSpPr>
            <p:cNvPr id="45" name=""/>
            <p:cNvSpPr/>
            <p:nvPr/>
          </p:nvSpPr>
          <p:spPr>
            <a:xfrm>
              <a:off x="4317840" y="6272280"/>
              <a:ext cx="27000" cy="407880"/>
            </a:xfrm>
            <a:custGeom>
              <a:avLst/>
              <a:gdLst/>
              <a:ahLst/>
              <a:rect l="l" t="t" r="r" b="b"/>
              <a:pathLst>
                <a:path w="17" h="257">
                  <a:moveTo>
                    <a:pt x="0" y="0"/>
                  </a:moveTo>
                  <a:lnTo>
                    <a:pt x="16" y="190"/>
                  </a:lnTo>
                  <a:lnTo>
                    <a:pt x="13" y="253"/>
                  </a:lnTo>
                  <a:lnTo>
                    <a:pt x="10" y="25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c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9640" y="6270480"/>
              <a:ext cx="1216080" cy="304920"/>
            </a:xfrm>
            <a:custGeom>
              <a:avLst/>
              <a:gdLst/>
              <a:ahLst/>
              <a:rect l="l" t="t" r="r" b="b"/>
              <a:pathLst>
                <a:path w="766" h="192">
                  <a:moveTo>
                    <a:pt x="0" y="1"/>
                  </a:moveTo>
                  <a:lnTo>
                    <a:pt x="6" y="190"/>
                  </a:lnTo>
                  <a:lnTo>
                    <a:pt x="765" y="191"/>
                  </a:lnTo>
                  <a:lnTo>
                    <a:pt x="733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0880" y="6286680"/>
              <a:ext cx="155520" cy="118800"/>
            </a:xfrm>
            <a:custGeom>
              <a:avLst/>
              <a:gdLst/>
              <a:ahLst/>
              <a:rect l="l" t="t" r="r" b="b"/>
              <a:pathLst>
                <a:path w="98" h="75">
                  <a:moveTo>
                    <a:pt x="18" y="2"/>
                  </a:moveTo>
                  <a:lnTo>
                    <a:pt x="18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8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6" y="6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4" y="2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6" y="21"/>
                  </a:lnTo>
                  <a:lnTo>
                    <a:pt x="86" y="21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4" y="35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6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9" y="44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9" y="46"/>
                  </a:lnTo>
                  <a:lnTo>
                    <a:pt x="91" y="46"/>
                  </a:lnTo>
                  <a:lnTo>
                    <a:pt x="91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4" y="48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96" y="53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7" y="54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8" y="56"/>
                  </a:lnTo>
                  <a:lnTo>
                    <a:pt x="88" y="56"/>
                  </a:lnTo>
                  <a:lnTo>
                    <a:pt x="88" y="56"/>
                  </a:lnTo>
                  <a:lnTo>
                    <a:pt x="88" y="55"/>
                  </a:lnTo>
                  <a:lnTo>
                    <a:pt x="86" y="56"/>
                  </a:lnTo>
                  <a:lnTo>
                    <a:pt x="85" y="56"/>
                  </a:lnTo>
                  <a:lnTo>
                    <a:pt x="83" y="56"/>
                  </a:lnTo>
                  <a:lnTo>
                    <a:pt x="82" y="56"/>
                  </a:lnTo>
                  <a:lnTo>
                    <a:pt x="81" y="56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3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9" y="56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9" y="58"/>
                  </a:lnTo>
                  <a:lnTo>
                    <a:pt x="69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1" y="60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5" y="62"/>
                  </a:lnTo>
                  <a:lnTo>
                    <a:pt x="73" y="64"/>
                  </a:lnTo>
                  <a:lnTo>
                    <a:pt x="73" y="65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8" y="68"/>
                  </a:lnTo>
                  <a:lnTo>
                    <a:pt x="66" y="70"/>
                  </a:lnTo>
                  <a:lnTo>
                    <a:pt x="65" y="70"/>
                  </a:lnTo>
                  <a:lnTo>
                    <a:pt x="62" y="72"/>
                  </a:lnTo>
                  <a:lnTo>
                    <a:pt x="61" y="72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3" y="74"/>
                  </a:lnTo>
                  <a:lnTo>
                    <a:pt x="51" y="74"/>
                  </a:lnTo>
                  <a:lnTo>
                    <a:pt x="50" y="74"/>
                  </a:lnTo>
                  <a:lnTo>
                    <a:pt x="47" y="74"/>
                  </a:lnTo>
                  <a:lnTo>
                    <a:pt x="45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8" y="73"/>
                  </a:lnTo>
                  <a:lnTo>
                    <a:pt x="36" y="72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30" y="70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4" y="66"/>
                  </a:lnTo>
                  <a:lnTo>
                    <a:pt x="22" y="66"/>
                  </a:lnTo>
                  <a:lnTo>
                    <a:pt x="21" y="64"/>
                  </a:lnTo>
                  <a:lnTo>
                    <a:pt x="19" y="64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52760" y="628956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4" y="30"/>
                  </a:moveTo>
                  <a:lnTo>
                    <a:pt x="74" y="32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69" y="54"/>
                  </a:lnTo>
                  <a:lnTo>
                    <a:pt x="69" y="54"/>
                  </a:lnTo>
                  <a:lnTo>
                    <a:pt x="69" y="54"/>
                  </a:lnTo>
                  <a:lnTo>
                    <a:pt x="69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0" y="67"/>
                  </a:lnTo>
                  <a:lnTo>
                    <a:pt x="50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3" y="66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8"/>
                  </a:lnTo>
                  <a:lnTo>
                    <a:pt x="74" y="28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73640" y="631332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5" y="4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3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8" y="35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3" y="33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3" y="26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71920" y="6288120"/>
              <a:ext cx="101520" cy="8244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0" y="34"/>
                  </a:moveTo>
                  <a:lnTo>
                    <a:pt x="10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1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20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7" y="49"/>
                  </a:lnTo>
                  <a:lnTo>
                    <a:pt x="27" y="49"/>
                  </a:lnTo>
                  <a:lnTo>
                    <a:pt x="29" y="49"/>
                  </a:lnTo>
                  <a:lnTo>
                    <a:pt x="29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6" y="51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5" y="49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5" y="45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7" y="39"/>
                  </a:lnTo>
                  <a:lnTo>
                    <a:pt x="39" y="39"/>
                  </a:lnTo>
                  <a:lnTo>
                    <a:pt x="41" y="39"/>
                  </a:lnTo>
                  <a:lnTo>
                    <a:pt x="43" y="39"/>
                  </a:lnTo>
                  <a:lnTo>
                    <a:pt x="45" y="39"/>
                  </a:lnTo>
                  <a:lnTo>
                    <a:pt x="46" y="39"/>
                  </a:lnTo>
                  <a:lnTo>
                    <a:pt x="50" y="39"/>
                  </a:lnTo>
                  <a:lnTo>
                    <a:pt x="52" y="40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0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3" y="39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9" y="39"/>
                  </a:lnTo>
                  <a:lnTo>
                    <a:pt x="59" y="38"/>
                  </a:lnTo>
                  <a:lnTo>
                    <a:pt x="57" y="38"/>
                  </a:lnTo>
                  <a:lnTo>
                    <a:pt x="55" y="37"/>
                  </a:lnTo>
                  <a:lnTo>
                    <a:pt x="53" y="37"/>
                  </a:lnTo>
                  <a:lnTo>
                    <a:pt x="51" y="35"/>
                  </a:lnTo>
                  <a:lnTo>
                    <a:pt x="47" y="35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2" y="33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0" y="34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8080" y="6394320"/>
              <a:ext cx="84240" cy="6372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6" y="24"/>
                  </a:moveTo>
                  <a:lnTo>
                    <a:pt x="25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1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7" y="17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1" y="21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4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32320" y="6291360"/>
              <a:ext cx="965160" cy="4680"/>
            </a:xfrm>
            <a:custGeom>
              <a:avLst/>
              <a:gdLst/>
              <a:ahLst/>
              <a:rect l="l" t="t" r="r" b="b"/>
              <a:pathLst>
                <a:path w="608" h="3">
                  <a:moveTo>
                    <a:pt x="0" y="0"/>
                  </a:moveTo>
                  <a:lnTo>
                    <a:pt x="6" y="2"/>
                  </a:lnTo>
                  <a:lnTo>
                    <a:pt x="26" y="2"/>
                  </a:lnTo>
                  <a:lnTo>
                    <a:pt x="55" y="2"/>
                  </a:lnTo>
                  <a:lnTo>
                    <a:pt x="94" y="2"/>
                  </a:lnTo>
                  <a:lnTo>
                    <a:pt x="139" y="2"/>
                  </a:lnTo>
                  <a:lnTo>
                    <a:pt x="191" y="2"/>
                  </a:lnTo>
                  <a:lnTo>
                    <a:pt x="246" y="2"/>
                  </a:lnTo>
                  <a:lnTo>
                    <a:pt x="304" y="2"/>
                  </a:lnTo>
                  <a:lnTo>
                    <a:pt x="359" y="2"/>
                  </a:lnTo>
                  <a:lnTo>
                    <a:pt x="414" y="2"/>
                  </a:lnTo>
                  <a:lnTo>
                    <a:pt x="464" y="2"/>
                  </a:lnTo>
                  <a:lnTo>
                    <a:pt x="511" y="1"/>
                  </a:lnTo>
                  <a:lnTo>
                    <a:pt x="550" y="1"/>
                  </a:lnTo>
                  <a:lnTo>
                    <a:pt x="580" y="1"/>
                  </a:lnTo>
                  <a:lnTo>
                    <a:pt x="599" y="1"/>
                  </a:lnTo>
                  <a:lnTo>
                    <a:pt x="607" y="0"/>
                  </a:lnTo>
                </a:path>
              </a:pathLst>
            </a:custGeom>
            <a:noFill/>
            <a:ln w="31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46560" y="6391440"/>
              <a:ext cx="127080" cy="6192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75360" y="6405480"/>
              <a:ext cx="68040" cy="30240"/>
            </a:xfrm>
            <a:prstGeom prst="ellipse">
              <a:avLst/>
            </a:prstGeom>
            <a:solidFill>
              <a:srgbClr val="80ff8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84600" y="6372360"/>
              <a:ext cx="136800" cy="6336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75160" y="630540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" y="5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8" y="36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65720" y="6489720"/>
              <a:ext cx="66600" cy="6192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76880" y="649764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3" y="3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410000" y="6550200"/>
              <a:ext cx="1041480" cy="144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6311880"/>
              <a:ext cx="579240" cy="239760"/>
            </a:xfrm>
            <a:custGeom>
              <a:avLst/>
              <a:gdLst/>
              <a:ahLst/>
              <a:rect l="l" t="t" r="r" b="b"/>
              <a:pathLst>
                <a:path w="365" h="151">
                  <a:moveTo>
                    <a:pt x="228" y="1"/>
                  </a:moveTo>
                  <a:lnTo>
                    <a:pt x="228" y="1"/>
                  </a:lnTo>
                  <a:lnTo>
                    <a:pt x="230" y="1"/>
                  </a:lnTo>
                  <a:lnTo>
                    <a:pt x="231" y="1"/>
                  </a:lnTo>
                  <a:lnTo>
                    <a:pt x="233" y="1"/>
                  </a:lnTo>
                  <a:lnTo>
                    <a:pt x="235" y="1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0" y="1"/>
                  </a:lnTo>
                  <a:lnTo>
                    <a:pt x="242" y="1"/>
                  </a:lnTo>
                  <a:lnTo>
                    <a:pt x="244" y="1"/>
                  </a:lnTo>
                  <a:lnTo>
                    <a:pt x="246" y="1"/>
                  </a:lnTo>
                  <a:lnTo>
                    <a:pt x="247" y="1"/>
                  </a:lnTo>
                  <a:lnTo>
                    <a:pt x="248" y="1"/>
                  </a:lnTo>
                  <a:lnTo>
                    <a:pt x="250" y="1"/>
                  </a:lnTo>
                  <a:lnTo>
                    <a:pt x="251" y="1"/>
                  </a:lnTo>
                  <a:lnTo>
                    <a:pt x="253" y="1"/>
                  </a:lnTo>
                  <a:lnTo>
                    <a:pt x="253" y="2"/>
                  </a:lnTo>
                  <a:lnTo>
                    <a:pt x="253" y="4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5" y="8"/>
                  </a:lnTo>
                  <a:lnTo>
                    <a:pt x="255" y="9"/>
                  </a:lnTo>
                  <a:lnTo>
                    <a:pt x="255" y="11"/>
                  </a:lnTo>
                  <a:lnTo>
                    <a:pt x="256" y="11"/>
                  </a:lnTo>
                  <a:lnTo>
                    <a:pt x="255" y="13"/>
                  </a:lnTo>
                  <a:lnTo>
                    <a:pt x="255" y="15"/>
                  </a:lnTo>
                  <a:lnTo>
                    <a:pt x="255" y="17"/>
                  </a:lnTo>
                  <a:lnTo>
                    <a:pt x="255" y="18"/>
                  </a:lnTo>
                  <a:lnTo>
                    <a:pt x="254" y="19"/>
                  </a:lnTo>
                  <a:lnTo>
                    <a:pt x="254" y="20"/>
                  </a:lnTo>
                  <a:lnTo>
                    <a:pt x="254" y="21"/>
                  </a:lnTo>
                  <a:lnTo>
                    <a:pt x="254" y="21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1" y="22"/>
                  </a:lnTo>
                  <a:lnTo>
                    <a:pt x="251" y="22"/>
                  </a:lnTo>
                  <a:lnTo>
                    <a:pt x="249" y="22"/>
                  </a:lnTo>
                  <a:lnTo>
                    <a:pt x="249" y="22"/>
                  </a:lnTo>
                  <a:lnTo>
                    <a:pt x="247" y="22"/>
                  </a:lnTo>
                  <a:lnTo>
                    <a:pt x="247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40" y="22"/>
                  </a:lnTo>
                  <a:lnTo>
                    <a:pt x="240" y="22"/>
                  </a:lnTo>
                  <a:lnTo>
                    <a:pt x="240" y="22"/>
                  </a:lnTo>
                  <a:lnTo>
                    <a:pt x="240" y="22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9"/>
                  </a:lnTo>
                  <a:lnTo>
                    <a:pt x="240" y="29"/>
                  </a:lnTo>
                  <a:lnTo>
                    <a:pt x="240" y="29"/>
                  </a:lnTo>
                  <a:lnTo>
                    <a:pt x="240" y="29"/>
                  </a:lnTo>
                  <a:lnTo>
                    <a:pt x="240" y="31"/>
                  </a:lnTo>
                  <a:lnTo>
                    <a:pt x="241" y="33"/>
                  </a:lnTo>
                  <a:lnTo>
                    <a:pt x="241" y="35"/>
                  </a:lnTo>
                  <a:lnTo>
                    <a:pt x="243" y="36"/>
                  </a:lnTo>
                  <a:lnTo>
                    <a:pt x="243" y="38"/>
                  </a:lnTo>
                  <a:lnTo>
                    <a:pt x="245" y="38"/>
                  </a:lnTo>
                  <a:lnTo>
                    <a:pt x="245" y="39"/>
                  </a:lnTo>
                  <a:lnTo>
                    <a:pt x="247" y="39"/>
                  </a:lnTo>
                  <a:lnTo>
                    <a:pt x="247" y="40"/>
                  </a:lnTo>
                  <a:lnTo>
                    <a:pt x="248" y="40"/>
                  </a:lnTo>
                  <a:lnTo>
                    <a:pt x="248" y="42"/>
                  </a:lnTo>
                  <a:lnTo>
                    <a:pt x="250" y="42"/>
                  </a:lnTo>
                  <a:lnTo>
                    <a:pt x="250" y="44"/>
                  </a:lnTo>
                  <a:lnTo>
                    <a:pt x="250" y="44"/>
                  </a:lnTo>
                  <a:lnTo>
                    <a:pt x="250" y="46"/>
                  </a:lnTo>
                  <a:lnTo>
                    <a:pt x="252" y="46"/>
                  </a:lnTo>
                  <a:lnTo>
                    <a:pt x="252" y="48"/>
                  </a:lnTo>
                  <a:lnTo>
                    <a:pt x="252" y="49"/>
                  </a:lnTo>
                  <a:lnTo>
                    <a:pt x="252" y="51"/>
                  </a:lnTo>
                  <a:lnTo>
                    <a:pt x="254" y="51"/>
                  </a:lnTo>
                  <a:lnTo>
                    <a:pt x="254" y="53"/>
                  </a:lnTo>
                  <a:lnTo>
                    <a:pt x="254" y="53"/>
                  </a:lnTo>
                  <a:lnTo>
                    <a:pt x="254" y="54"/>
                  </a:lnTo>
                  <a:lnTo>
                    <a:pt x="256" y="54"/>
                  </a:lnTo>
                  <a:lnTo>
                    <a:pt x="256" y="56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59"/>
                  </a:lnTo>
                  <a:lnTo>
                    <a:pt x="257" y="61"/>
                  </a:lnTo>
                  <a:lnTo>
                    <a:pt x="258" y="61"/>
                  </a:lnTo>
                  <a:lnTo>
                    <a:pt x="257" y="63"/>
                  </a:lnTo>
                  <a:lnTo>
                    <a:pt x="257" y="64"/>
                  </a:lnTo>
                  <a:lnTo>
                    <a:pt x="257" y="66"/>
                  </a:lnTo>
                  <a:lnTo>
                    <a:pt x="257" y="66"/>
                  </a:lnTo>
                  <a:lnTo>
                    <a:pt x="257" y="68"/>
                  </a:lnTo>
                  <a:lnTo>
                    <a:pt x="257" y="69"/>
                  </a:lnTo>
                  <a:lnTo>
                    <a:pt x="257" y="71"/>
                  </a:lnTo>
                  <a:lnTo>
                    <a:pt x="257" y="71"/>
                  </a:lnTo>
                  <a:lnTo>
                    <a:pt x="256" y="73"/>
                  </a:lnTo>
                  <a:lnTo>
                    <a:pt x="256" y="75"/>
                  </a:lnTo>
                  <a:lnTo>
                    <a:pt x="256" y="77"/>
                  </a:lnTo>
                  <a:lnTo>
                    <a:pt x="256" y="78"/>
                  </a:lnTo>
                  <a:lnTo>
                    <a:pt x="256" y="80"/>
                  </a:lnTo>
                  <a:lnTo>
                    <a:pt x="256" y="80"/>
                  </a:lnTo>
                  <a:lnTo>
                    <a:pt x="256" y="81"/>
                  </a:lnTo>
                  <a:lnTo>
                    <a:pt x="256" y="81"/>
                  </a:lnTo>
                  <a:lnTo>
                    <a:pt x="255" y="83"/>
                  </a:lnTo>
                  <a:lnTo>
                    <a:pt x="255" y="84"/>
                  </a:lnTo>
                  <a:lnTo>
                    <a:pt x="254" y="86"/>
                  </a:lnTo>
                  <a:lnTo>
                    <a:pt x="254" y="87"/>
                  </a:lnTo>
                  <a:lnTo>
                    <a:pt x="252" y="90"/>
                  </a:lnTo>
                  <a:lnTo>
                    <a:pt x="252" y="92"/>
                  </a:lnTo>
                  <a:lnTo>
                    <a:pt x="250" y="94"/>
                  </a:lnTo>
                  <a:lnTo>
                    <a:pt x="250" y="96"/>
                  </a:lnTo>
                  <a:lnTo>
                    <a:pt x="248" y="99"/>
                  </a:lnTo>
                  <a:lnTo>
                    <a:pt x="248" y="100"/>
                  </a:lnTo>
                  <a:lnTo>
                    <a:pt x="246" y="102"/>
                  </a:lnTo>
                  <a:lnTo>
                    <a:pt x="246" y="104"/>
                  </a:lnTo>
                  <a:lnTo>
                    <a:pt x="245" y="106"/>
                  </a:lnTo>
                  <a:lnTo>
                    <a:pt x="245" y="107"/>
                  </a:lnTo>
                  <a:lnTo>
                    <a:pt x="245" y="107"/>
                  </a:lnTo>
                  <a:lnTo>
                    <a:pt x="246" y="107"/>
                  </a:lnTo>
                  <a:lnTo>
                    <a:pt x="246" y="107"/>
                  </a:lnTo>
                  <a:lnTo>
                    <a:pt x="246" y="107"/>
                  </a:lnTo>
                  <a:lnTo>
                    <a:pt x="246" y="107"/>
                  </a:lnTo>
                  <a:lnTo>
                    <a:pt x="247" y="106"/>
                  </a:lnTo>
                  <a:lnTo>
                    <a:pt x="247" y="106"/>
                  </a:lnTo>
                  <a:lnTo>
                    <a:pt x="249" y="104"/>
                  </a:lnTo>
                  <a:lnTo>
                    <a:pt x="251" y="103"/>
                  </a:lnTo>
                  <a:lnTo>
                    <a:pt x="253" y="101"/>
                  </a:lnTo>
                  <a:lnTo>
                    <a:pt x="253" y="101"/>
                  </a:lnTo>
                  <a:lnTo>
                    <a:pt x="255" y="99"/>
                  </a:lnTo>
                  <a:lnTo>
                    <a:pt x="256" y="99"/>
                  </a:lnTo>
                  <a:lnTo>
                    <a:pt x="258" y="97"/>
                  </a:lnTo>
                  <a:lnTo>
                    <a:pt x="258" y="97"/>
                  </a:lnTo>
                  <a:lnTo>
                    <a:pt x="260" y="96"/>
                  </a:lnTo>
                  <a:lnTo>
                    <a:pt x="260" y="96"/>
                  </a:lnTo>
                  <a:lnTo>
                    <a:pt x="262" y="95"/>
                  </a:lnTo>
                  <a:lnTo>
                    <a:pt x="262" y="96"/>
                  </a:lnTo>
                  <a:lnTo>
                    <a:pt x="262" y="96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9"/>
                  </a:lnTo>
                  <a:lnTo>
                    <a:pt x="262" y="99"/>
                  </a:lnTo>
                  <a:lnTo>
                    <a:pt x="262" y="99"/>
                  </a:lnTo>
                  <a:lnTo>
                    <a:pt x="263" y="99"/>
                  </a:lnTo>
                  <a:lnTo>
                    <a:pt x="263" y="100"/>
                  </a:lnTo>
                  <a:lnTo>
                    <a:pt x="263" y="100"/>
                  </a:lnTo>
                  <a:lnTo>
                    <a:pt x="263" y="101"/>
                  </a:lnTo>
                  <a:lnTo>
                    <a:pt x="263" y="101"/>
                  </a:lnTo>
                  <a:lnTo>
                    <a:pt x="263" y="102"/>
                  </a:lnTo>
                  <a:lnTo>
                    <a:pt x="263" y="102"/>
                  </a:lnTo>
                  <a:lnTo>
                    <a:pt x="263" y="102"/>
                  </a:lnTo>
                  <a:lnTo>
                    <a:pt x="265" y="102"/>
                  </a:lnTo>
                  <a:lnTo>
                    <a:pt x="265" y="104"/>
                  </a:lnTo>
                  <a:lnTo>
                    <a:pt x="265" y="104"/>
                  </a:lnTo>
                  <a:lnTo>
                    <a:pt x="265" y="104"/>
                  </a:lnTo>
                  <a:lnTo>
                    <a:pt x="267" y="104"/>
                  </a:lnTo>
                  <a:lnTo>
                    <a:pt x="267" y="105"/>
                  </a:lnTo>
                  <a:lnTo>
                    <a:pt x="268" y="105"/>
                  </a:lnTo>
                  <a:lnTo>
                    <a:pt x="269" y="105"/>
                  </a:lnTo>
                  <a:lnTo>
                    <a:pt x="271" y="105"/>
                  </a:lnTo>
                  <a:lnTo>
                    <a:pt x="271" y="107"/>
                  </a:lnTo>
                  <a:lnTo>
                    <a:pt x="273" y="107"/>
                  </a:lnTo>
                  <a:lnTo>
                    <a:pt x="273" y="107"/>
                  </a:lnTo>
                  <a:lnTo>
                    <a:pt x="275" y="107"/>
                  </a:lnTo>
                  <a:lnTo>
                    <a:pt x="275" y="107"/>
                  </a:lnTo>
                  <a:lnTo>
                    <a:pt x="276" y="107"/>
                  </a:lnTo>
                  <a:lnTo>
                    <a:pt x="276" y="107"/>
                  </a:lnTo>
                  <a:lnTo>
                    <a:pt x="277" y="107"/>
                  </a:lnTo>
                  <a:lnTo>
                    <a:pt x="276" y="109"/>
                  </a:lnTo>
                  <a:lnTo>
                    <a:pt x="276" y="109"/>
                  </a:lnTo>
                  <a:lnTo>
                    <a:pt x="274" y="109"/>
                  </a:lnTo>
                  <a:lnTo>
                    <a:pt x="274" y="109"/>
                  </a:lnTo>
                  <a:lnTo>
                    <a:pt x="272" y="109"/>
                  </a:lnTo>
                  <a:lnTo>
                    <a:pt x="272" y="109"/>
                  </a:lnTo>
                  <a:lnTo>
                    <a:pt x="270" y="109"/>
                  </a:lnTo>
                  <a:lnTo>
                    <a:pt x="270" y="109"/>
                  </a:lnTo>
                  <a:lnTo>
                    <a:pt x="268" y="110"/>
                  </a:lnTo>
                  <a:lnTo>
                    <a:pt x="268" y="110"/>
                  </a:lnTo>
                  <a:lnTo>
                    <a:pt x="266" y="110"/>
                  </a:lnTo>
                  <a:lnTo>
                    <a:pt x="266" y="110"/>
                  </a:lnTo>
                  <a:lnTo>
                    <a:pt x="265" y="111"/>
                  </a:lnTo>
                  <a:lnTo>
                    <a:pt x="265" y="111"/>
                  </a:lnTo>
                  <a:lnTo>
                    <a:pt x="265" y="111"/>
                  </a:lnTo>
                  <a:lnTo>
                    <a:pt x="265" y="111"/>
                  </a:lnTo>
                  <a:lnTo>
                    <a:pt x="265" y="113"/>
                  </a:lnTo>
                  <a:lnTo>
                    <a:pt x="265" y="113"/>
                  </a:lnTo>
                  <a:lnTo>
                    <a:pt x="265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8" y="113"/>
                  </a:lnTo>
                  <a:lnTo>
                    <a:pt x="268" y="113"/>
                  </a:lnTo>
                  <a:lnTo>
                    <a:pt x="270" y="113"/>
                  </a:lnTo>
                  <a:lnTo>
                    <a:pt x="270" y="114"/>
                  </a:lnTo>
                  <a:lnTo>
                    <a:pt x="272" y="114"/>
                  </a:lnTo>
                  <a:lnTo>
                    <a:pt x="272" y="114"/>
                  </a:lnTo>
                  <a:lnTo>
                    <a:pt x="274" y="114"/>
                  </a:lnTo>
                  <a:lnTo>
                    <a:pt x="274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77" y="114"/>
                  </a:lnTo>
                  <a:lnTo>
                    <a:pt x="277" y="116"/>
                  </a:lnTo>
                  <a:lnTo>
                    <a:pt x="277" y="116"/>
                  </a:lnTo>
                  <a:lnTo>
                    <a:pt x="277" y="116"/>
                  </a:lnTo>
                  <a:lnTo>
                    <a:pt x="279" y="116"/>
                  </a:lnTo>
                  <a:lnTo>
                    <a:pt x="279" y="118"/>
                  </a:lnTo>
                  <a:lnTo>
                    <a:pt x="280" y="118"/>
                  </a:lnTo>
                  <a:lnTo>
                    <a:pt x="280" y="118"/>
                  </a:lnTo>
                  <a:lnTo>
                    <a:pt x="282" y="118"/>
                  </a:lnTo>
                  <a:lnTo>
                    <a:pt x="282" y="120"/>
                  </a:lnTo>
                  <a:lnTo>
                    <a:pt x="282" y="120"/>
                  </a:lnTo>
                  <a:lnTo>
                    <a:pt x="282" y="120"/>
                  </a:lnTo>
                  <a:lnTo>
                    <a:pt x="283" y="120"/>
                  </a:lnTo>
                  <a:lnTo>
                    <a:pt x="283" y="122"/>
                  </a:lnTo>
                  <a:lnTo>
                    <a:pt x="283" y="122"/>
                  </a:lnTo>
                  <a:lnTo>
                    <a:pt x="283" y="122"/>
                  </a:lnTo>
                  <a:lnTo>
                    <a:pt x="284" y="122"/>
                  </a:lnTo>
                  <a:lnTo>
                    <a:pt x="282" y="124"/>
                  </a:lnTo>
                  <a:lnTo>
                    <a:pt x="282" y="124"/>
                  </a:lnTo>
                  <a:lnTo>
                    <a:pt x="282" y="124"/>
                  </a:lnTo>
                  <a:lnTo>
                    <a:pt x="282" y="124"/>
                  </a:lnTo>
                  <a:lnTo>
                    <a:pt x="280" y="124"/>
                  </a:lnTo>
                  <a:lnTo>
                    <a:pt x="280" y="124"/>
                  </a:lnTo>
                  <a:lnTo>
                    <a:pt x="278" y="124"/>
                  </a:lnTo>
                  <a:lnTo>
                    <a:pt x="278" y="124"/>
                  </a:lnTo>
                  <a:lnTo>
                    <a:pt x="277" y="126"/>
                  </a:lnTo>
                  <a:lnTo>
                    <a:pt x="277" y="126"/>
                  </a:lnTo>
                  <a:lnTo>
                    <a:pt x="275" y="126"/>
                  </a:lnTo>
                  <a:lnTo>
                    <a:pt x="275" y="126"/>
                  </a:lnTo>
                  <a:lnTo>
                    <a:pt x="274" y="126"/>
                  </a:lnTo>
                  <a:lnTo>
                    <a:pt x="274" y="126"/>
                  </a:lnTo>
                  <a:lnTo>
                    <a:pt x="274" y="126"/>
                  </a:lnTo>
                  <a:lnTo>
                    <a:pt x="275" y="126"/>
                  </a:lnTo>
                  <a:lnTo>
                    <a:pt x="275" y="127"/>
                  </a:lnTo>
                  <a:lnTo>
                    <a:pt x="275" y="127"/>
                  </a:lnTo>
                  <a:lnTo>
                    <a:pt x="275" y="127"/>
                  </a:lnTo>
                  <a:lnTo>
                    <a:pt x="276" y="127"/>
                  </a:lnTo>
                  <a:lnTo>
                    <a:pt x="276" y="127"/>
                  </a:lnTo>
                  <a:lnTo>
                    <a:pt x="278" y="127"/>
                  </a:lnTo>
                  <a:lnTo>
                    <a:pt x="278" y="127"/>
                  </a:lnTo>
                  <a:lnTo>
                    <a:pt x="280" y="127"/>
                  </a:lnTo>
                  <a:lnTo>
                    <a:pt x="280" y="127"/>
                  </a:lnTo>
                  <a:lnTo>
                    <a:pt x="282" y="127"/>
                  </a:lnTo>
                  <a:lnTo>
                    <a:pt x="283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7" y="127"/>
                  </a:lnTo>
                  <a:lnTo>
                    <a:pt x="287" y="127"/>
                  </a:lnTo>
                  <a:lnTo>
                    <a:pt x="289" y="126"/>
                  </a:lnTo>
                  <a:lnTo>
                    <a:pt x="290" y="126"/>
                  </a:lnTo>
                  <a:lnTo>
                    <a:pt x="292" y="126"/>
                  </a:lnTo>
                  <a:lnTo>
                    <a:pt x="294" y="126"/>
                  </a:lnTo>
                  <a:lnTo>
                    <a:pt x="295" y="126"/>
                  </a:lnTo>
                  <a:lnTo>
                    <a:pt x="297" y="126"/>
                  </a:lnTo>
                  <a:lnTo>
                    <a:pt x="299" y="126"/>
                  </a:lnTo>
                  <a:lnTo>
                    <a:pt x="301" y="126"/>
                  </a:lnTo>
                  <a:lnTo>
                    <a:pt x="304" y="126"/>
                  </a:lnTo>
                  <a:lnTo>
                    <a:pt x="305" y="126"/>
                  </a:lnTo>
                  <a:lnTo>
                    <a:pt x="307" y="126"/>
                  </a:lnTo>
                  <a:lnTo>
                    <a:pt x="309" y="126"/>
                  </a:lnTo>
                  <a:lnTo>
                    <a:pt x="311" y="126"/>
                  </a:lnTo>
                  <a:lnTo>
                    <a:pt x="312" y="126"/>
                  </a:lnTo>
                  <a:lnTo>
                    <a:pt x="314" y="126"/>
                  </a:lnTo>
                  <a:lnTo>
                    <a:pt x="316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20" y="126"/>
                  </a:lnTo>
                  <a:lnTo>
                    <a:pt x="320" y="126"/>
                  </a:lnTo>
                  <a:lnTo>
                    <a:pt x="321" y="126"/>
                  </a:lnTo>
                  <a:lnTo>
                    <a:pt x="321" y="126"/>
                  </a:lnTo>
                  <a:lnTo>
                    <a:pt x="323" y="124"/>
                  </a:lnTo>
                  <a:lnTo>
                    <a:pt x="323" y="124"/>
                  </a:lnTo>
                  <a:lnTo>
                    <a:pt x="323" y="124"/>
                  </a:lnTo>
                  <a:lnTo>
                    <a:pt x="323" y="124"/>
                  </a:lnTo>
                  <a:lnTo>
                    <a:pt x="325" y="124"/>
                  </a:lnTo>
                  <a:lnTo>
                    <a:pt x="325" y="124"/>
                  </a:lnTo>
                  <a:lnTo>
                    <a:pt x="326" y="124"/>
                  </a:lnTo>
                  <a:lnTo>
                    <a:pt x="326" y="124"/>
                  </a:lnTo>
                  <a:lnTo>
                    <a:pt x="328" y="123"/>
                  </a:lnTo>
                  <a:lnTo>
                    <a:pt x="328" y="125"/>
                  </a:lnTo>
                  <a:lnTo>
                    <a:pt x="328" y="125"/>
                  </a:lnTo>
                  <a:lnTo>
                    <a:pt x="328" y="126"/>
                  </a:lnTo>
                  <a:lnTo>
                    <a:pt x="330" y="126"/>
                  </a:lnTo>
                  <a:lnTo>
                    <a:pt x="330" y="127"/>
                  </a:lnTo>
                  <a:lnTo>
                    <a:pt x="330" y="127"/>
                  </a:lnTo>
                  <a:lnTo>
                    <a:pt x="330" y="128"/>
                  </a:lnTo>
                  <a:lnTo>
                    <a:pt x="332" y="128"/>
                  </a:lnTo>
                  <a:lnTo>
                    <a:pt x="332" y="130"/>
                  </a:lnTo>
                  <a:lnTo>
                    <a:pt x="332" y="130"/>
                  </a:lnTo>
                  <a:lnTo>
                    <a:pt x="332" y="131"/>
                  </a:lnTo>
                  <a:lnTo>
                    <a:pt x="334" y="131"/>
                  </a:lnTo>
                  <a:lnTo>
                    <a:pt x="334" y="133"/>
                  </a:lnTo>
                  <a:lnTo>
                    <a:pt x="335" y="133"/>
                  </a:lnTo>
                  <a:lnTo>
                    <a:pt x="335" y="133"/>
                  </a:lnTo>
                  <a:lnTo>
                    <a:pt x="337" y="133"/>
                  </a:lnTo>
                  <a:lnTo>
                    <a:pt x="337" y="135"/>
                  </a:lnTo>
                  <a:lnTo>
                    <a:pt x="337" y="135"/>
                  </a:lnTo>
                  <a:lnTo>
                    <a:pt x="337" y="135"/>
                  </a:lnTo>
                  <a:lnTo>
                    <a:pt x="338" y="135"/>
                  </a:lnTo>
                  <a:lnTo>
                    <a:pt x="338" y="136"/>
                  </a:lnTo>
                  <a:lnTo>
                    <a:pt x="338" y="136"/>
                  </a:lnTo>
                  <a:lnTo>
                    <a:pt x="338" y="136"/>
                  </a:lnTo>
                  <a:lnTo>
                    <a:pt x="340" y="136"/>
                  </a:lnTo>
                  <a:lnTo>
                    <a:pt x="340" y="137"/>
                  </a:lnTo>
                  <a:lnTo>
                    <a:pt x="340" y="137"/>
                  </a:lnTo>
                  <a:lnTo>
                    <a:pt x="340" y="137"/>
                  </a:lnTo>
                  <a:lnTo>
                    <a:pt x="342" y="137"/>
                  </a:lnTo>
                  <a:lnTo>
                    <a:pt x="342" y="137"/>
                  </a:lnTo>
                  <a:lnTo>
                    <a:pt x="343" y="137"/>
                  </a:lnTo>
                  <a:lnTo>
                    <a:pt x="343" y="137"/>
                  </a:lnTo>
                  <a:lnTo>
                    <a:pt x="345" y="137"/>
                  </a:lnTo>
                  <a:lnTo>
                    <a:pt x="345" y="139"/>
                  </a:lnTo>
                  <a:lnTo>
                    <a:pt x="345" y="139"/>
                  </a:lnTo>
                  <a:lnTo>
                    <a:pt x="345" y="139"/>
                  </a:lnTo>
                  <a:lnTo>
                    <a:pt x="345" y="139"/>
                  </a:lnTo>
                  <a:lnTo>
                    <a:pt x="345" y="140"/>
                  </a:lnTo>
                  <a:lnTo>
                    <a:pt x="345" y="140"/>
                  </a:lnTo>
                  <a:lnTo>
                    <a:pt x="345" y="140"/>
                  </a:lnTo>
                  <a:lnTo>
                    <a:pt x="345" y="140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6" y="142"/>
                  </a:lnTo>
                  <a:lnTo>
                    <a:pt x="346" y="144"/>
                  </a:lnTo>
                  <a:lnTo>
                    <a:pt x="348" y="144"/>
                  </a:lnTo>
                  <a:lnTo>
                    <a:pt x="348" y="144"/>
                  </a:lnTo>
                  <a:lnTo>
                    <a:pt x="350" y="144"/>
                  </a:lnTo>
                  <a:lnTo>
                    <a:pt x="351" y="144"/>
                  </a:lnTo>
                  <a:lnTo>
                    <a:pt x="353" y="144"/>
                  </a:lnTo>
                  <a:lnTo>
                    <a:pt x="355" y="144"/>
                  </a:lnTo>
                  <a:lnTo>
                    <a:pt x="356" y="144"/>
                  </a:lnTo>
                  <a:lnTo>
                    <a:pt x="356" y="145"/>
                  </a:lnTo>
                  <a:lnTo>
                    <a:pt x="358" y="145"/>
                  </a:lnTo>
                  <a:lnTo>
                    <a:pt x="360" y="145"/>
                  </a:lnTo>
                  <a:lnTo>
                    <a:pt x="362" y="145"/>
                  </a:lnTo>
                  <a:lnTo>
                    <a:pt x="362" y="145"/>
                  </a:lnTo>
                  <a:lnTo>
                    <a:pt x="363" y="145"/>
                  </a:lnTo>
                  <a:lnTo>
                    <a:pt x="363" y="145"/>
                  </a:lnTo>
                  <a:lnTo>
                    <a:pt x="364" y="145"/>
                  </a:lnTo>
                  <a:lnTo>
                    <a:pt x="363" y="147"/>
                  </a:lnTo>
                  <a:lnTo>
                    <a:pt x="363" y="147"/>
                  </a:lnTo>
                  <a:lnTo>
                    <a:pt x="362" y="147"/>
                  </a:lnTo>
                  <a:lnTo>
                    <a:pt x="362" y="147"/>
                  </a:lnTo>
                  <a:lnTo>
                    <a:pt x="360" y="147"/>
                  </a:lnTo>
                  <a:lnTo>
                    <a:pt x="360" y="147"/>
                  </a:lnTo>
                  <a:lnTo>
                    <a:pt x="359" y="147"/>
                  </a:lnTo>
                  <a:lnTo>
                    <a:pt x="359" y="147"/>
                  </a:lnTo>
                  <a:lnTo>
                    <a:pt x="357" y="148"/>
                  </a:lnTo>
                  <a:lnTo>
                    <a:pt x="356" y="148"/>
                  </a:lnTo>
                  <a:lnTo>
                    <a:pt x="355" y="148"/>
                  </a:lnTo>
                  <a:lnTo>
                    <a:pt x="355" y="148"/>
                  </a:lnTo>
                  <a:lnTo>
                    <a:pt x="353" y="148"/>
                  </a:lnTo>
                  <a:lnTo>
                    <a:pt x="353" y="148"/>
                  </a:lnTo>
                  <a:lnTo>
                    <a:pt x="352" y="148"/>
                  </a:lnTo>
                  <a:lnTo>
                    <a:pt x="352" y="148"/>
                  </a:lnTo>
                  <a:lnTo>
                    <a:pt x="350" y="150"/>
                  </a:lnTo>
                  <a:lnTo>
                    <a:pt x="348" y="150"/>
                  </a:lnTo>
                  <a:lnTo>
                    <a:pt x="346" y="150"/>
                  </a:lnTo>
                  <a:lnTo>
                    <a:pt x="346" y="150"/>
                  </a:lnTo>
                  <a:lnTo>
                    <a:pt x="344" y="150"/>
                  </a:lnTo>
                  <a:lnTo>
                    <a:pt x="342" y="150"/>
                  </a:lnTo>
                  <a:lnTo>
                    <a:pt x="340" y="150"/>
                  </a:lnTo>
                  <a:lnTo>
                    <a:pt x="340" y="150"/>
                  </a:lnTo>
                  <a:lnTo>
                    <a:pt x="338" y="150"/>
                  </a:lnTo>
                  <a:lnTo>
                    <a:pt x="336" y="150"/>
                  </a:lnTo>
                  <a:lnTo>
                    <a:pt x="335" y="150"/>
                  </a:lnTo>
                  <a:lnTo>
                    <a:pt x="335" y="150"/>
                  </a:lnTo>
                  <a:lnTo>
                    <a:pt x="333" y="150"/>
                  </a:lnTo>
                  <a:lnTo>
                    <a:pt x="332" y="150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14" y="150"/>
                  </a:lnTo>
                  <a:lnTo>
                    <a:pt x="294" y="150"/>
                  </a:lnTo>
                  <a:lnTo>
                    <a:pt x="272" y="150"/>
                  </a:lnTo>
                  <a:lnTo>
                    <a:pt x="249" y="150"/>
                  </a:lnTo>
                  <a:lnTo>
                    <a:pt x="224" y="150"/>
                  </a:lnTo>
                  <a:lnTo>
                    <a:pt x="199" y="150"/>
                  </a:lnTo>
                  <a:lnTo>
                    <a:pt x="172" y="150"/>
                  </a:lnTo>
                  <a:lnTo>
                    <a:pt x="148" y="150"/>
                  </a:lnTo>
                  <a:lnTo>
                    <a:pt x="122" y="150"/>
                  </a:lnTo>
                  <a:lnTo>
                    <a:pt x="99" y="150"/>
                  </a:lnTo>
                  <a:lnTo>
                    <a:pt x="76" y="150"/>
                  </a:lnTo>
                  <a:lnTo>
                    <a:pt x="56" y="150"/>
                  </a:lnTo>
                  <a:lnTo>
                    <a:pt x="38" y="150"/>
                  </a:lnTo>
                  <a:lnTo>
                    <a:pt x="24" y="150"/>
                  </a:lnTo>
                  <a:lnTo>
                    <a:pt x="13" y="150"/>
                  </a:lnTo>
                  <a:lnTo>
                    <a:pt x="6" y="148"/>
                  </a:lnTo>
                  <a:lnTo>
                    <a:pt x="5" y="148"/>
                  </a:lnTo>
                  <a:lnTo>
                    <a:pt x="5" y="148"/>
                  </a:lnTo>
                  <a:lnTo>
                    <a:pt x="5" y="148"/>
                  </a:lnTo>
                  <a:lnTo>
                    <a:pt x="5" y="148"/>
                  </a:lnTo>
                  <a:lnTo>
                    <a:pt x="3" y="148"/>
                  </a:lnTo>
                  <a:lnTo>
                    <a:pt x="3" y="148"/>
                  </a:lnTo>
                  <a:lnTo>
                    <a:pt x="3" y="148"/>
                  </a:lnTo>
                  <a:lnTo>
                    <a:pt x="3" y="146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2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3" y="137"/>
                  </a:lnTo>
                  <a:lnTo>
                    <a:pt x="3" y="137"/>
                  </a:lnTo>
                  <a:lnTo>
                    <a:pt x="5" y="137"/>
                  </a:lnTo>
                  <a:lnTo>
                    <a:pt x="6" y="137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1" y="135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14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1" y="126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4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6" y="121"/>
                  </a:lnTo>
                  <a:lnTo>
                    <a:pt x="26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9"/>
                  </a:lnTo>
                  <a:lnTo>
                    <a:pt x="31" y="119"/>
                  </a:lnTo>
                  <a:lnTo>
                    <a:pt x="32" y="119"/>
                  </a:lnTo>
                  <a:lnTo>
                    <a:pt x="32" y="119"/>
                  </a:lnTo>
                  <a:lnTo>
                    <a:pt x="34" y="118"/>
                  </a:lnTo>
                  <a:lnTo>
                    <a:pt x="34" y="119"/>
                  </a:lnTo>
                  <a:lnTo>
                    <a:pt x="36" y="119"/>
                  </a:lnTo>
                  <a:lnTo>
                    <a:pt x="38" y="119"/>
                  </a:lnTo>
                  <a:lnTo>
                    <a:pt x="40" y="119"/>
                  </a:lnTo>
                  <a:lnTo>
                    <a:pt x="42" y="120"/>
                  </a:lnTo>
                  <a:lnTo>
                    <a:pt x="44" y="120"/>
                  </a:lnTo>
                  <a:lnTo>
                    <a:pt x="46" y="120"/>
                  </a:lnTo>
                  <a:lnTo>
                    <a:pt x="48" y="120"/>
                  </a:lnTo>
                  <a:lnTo>
                    <a:pt x="50" y="122"/>
                  </a:lnTo>
                  <a:lnTo>
                    <a:pt x="52" y="122"/>
                  </a:lnTo>
                  <a:lnTo>
                    <a:pt x="54" y="122"/>
                  </a:lnTo>
                  <a:lnTo>
                    <a:pt x="56" y="122"/>
                  </a:lnTo>
                  <a:lnTo>
                    <a:pt x="58" y="123"/>
                  </a:lnTo>
                  <a:lnTo>
                    <a:pt x="60" y="123"/>
                  </a:lnTo>
                  <a:lnTo>
                    <a:pt x="61" y="123"/>
                  </a:lnTo>
                  <a:lnTo>
                    <a:pt x="63" y="123"/>
                  </a:lnTo>
                  <a:lnTo>
                    <a:pt x="63" y="124"/>
                  </a:lnTo>
                  <a:lnTo>
                    <a:pt x="65" y="124"/>
                  </a:lnTo>
                  <a:lnTo>
                    <a:pt x="66" y="124"/>
                  </a:lnTo>
                  <a:lnTo>
                    <a:pt x="68" y="124"/>
                  </a:lnTo>
                  <a:lnTo>
                    <a:pt x="70" y="124"/>
                  </a:lnTo>
                  <a:lnTo>
                    <a:pt x="72" y="124"/>
                  </a:lnTo>
                  <a:lnTo>
                    <a:pt x="74" y="124"/>
                  </a:lnTo>
                  <a:lnTo>
                    <a:pt x="76" y="124"/>
                  </a:lnTo>
                  <a:lnTo>
                    <a:pt x="78" y="124"/>
                  </a:lnTo>
                  <a:lnTo>
                    <a:pt x="80" y="124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4" y="124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87" y="122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84" y="122"/>
                  </a:lnTo>
                  <a:lnTo>
                    <a:pt x="84" y="122"/>
                  </a:lnTo>
                  <a:lnTo>
                    <a:pt x="82" y="122"/>
                  </a:lnTo>
                  <a:lnTo>
                    <a:pt x="81" y="122"/>
                  </a:lnTo>
                  <a:lnTo>
                    <a:pt x="79" y="122"/>
                  </a:lnTo>
                  <a:lnTo>
                    <a:pt x="79" y="122"/>
                  </a:lnTo>
                  <a:lnTo>
                    <a:pt x="77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3" y="120"/>
                  </a:lnTo>
                  <a:lnTo>
                    <a:pt x="71" y="120"/>
                  </a:lnTo>
                  <a:lnTo>
                    <a:pt x="71" y="120"/>
                  </a:lnTo>
                  <a:lnTo>
                    <a:pt x="70" y="120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73" y="116"/>
                  </a:lnTo>
                  <a:lnTo>
                    <a:pt x="73" y="116"/>
                  </a:lnTo>
                  <a:lnTo>
                    <a:pt x="73" y="116"/>
                  </a:lnTo>
                  <a:lnTo>
                    <a:pt x="73" y="116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8" y="109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80" y="110"/>
                  </a:lnTo>
                  <a:lnTo>
                    <a:pt x="80" y="111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4" y="111"/>
                  </a:lnTo>
                  <a:lnTo>
                    <a:pt x="84" y="113"/>
                  </a:lnTo>
                  <a:lnTo>
                    <a:pt x="85" y="113"/>
                  </a:lnTo>
                  <a:lnTo>
                    <a:pt x="85" y="113"/>
                  </a:lnTo>
                  <a:lnTo>
                    <a:pt x="87" y="113"/>
                  </a:lnTo>
                  <a:lnTo>
                    <a:pt x="87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0" y="113"/>
                  </a:lnTo>
                  <a:lnTo>
                    <a:pt x="88" y="113"/>
                  </a:lnTo>
                  <a:lnTo>
                    <a:pt x="88" y="113"/>
                  </a:lnTo>
                  <a:lnTo>
                    <a:pt x="88" y="113"/>
                  </a:lnTo>
                  <a:lnTo>
                    <a:pt x="88" y="112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5" y="112"/>
                  </a:lnTo>
                  <a:lnTo>
                    <a:pt x="85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1" y="110"/>
                  </a:lnTo>
                  <a:lnTo>
                    <a:pt x="81" y="108"/>
                  </a:lnTo>
                  <a:lnTo>
                    <a:pt x="80" y="108"/>
                  </a:lnTo>
                  <a:lnTo>
                    <a:pt x="80" y="107"/>
                  </a:lnTo>
                  <a:lnTo>
                    <a:pt x="80" y="107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0" y="105"/>
                  </a:lnTo>
                  <a:lnTo>
                    <a:pt x="80" y="105"/>
                  </a:lnTo>
                  <a:lnTo>
                    <a:pt x="80" y="105"/>
                  </a:lnTo>
                  <a:lnTo>
                    <a:pt x="80" y="105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85" y="100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8" y="102"/>
                  </a:lnTo>
                  <a:lnTo>
                    <a:pt x="90" y="102"/>
                  </a:lnTo>
                  <a:lnTo>
                    <a:pt x="90" y="103"/>
                  </a:lnTo>
                  <a:lnTo>
                    <a:pt x="91" y="103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7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96" y="99"/>
                  </a:lnTo>
                  <a:lnTo>
                    <a:pt x="94" y="99"/>
                  </a:lnTo>
                  <a:lnTo>
                    <a:pt x="94" y="99"/>
                  </a:lnTo>
                  <a:lnTo>
                    <a:pt x="94" y="99"/>
                  </a:lnTo>
                  <a:lnTo>
                    <a:pt x="94" y="97"/>
                  </a:lnTo>
                  <a:lnTo>
                    <a:pt x="94" y="97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94" y="94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2" y="92"/>
                  </a:lnTo>
                  <a:lnTo>
                    <a:pt x="91" y="92"/>
                  </a:lnTo>
                  <a:lnTo>
                    <a:pt x="91" y="92"/>
                  </a:lnTo>
                  <a:lnTo>
                    <a:pt x="91" y="92"/>
                  </a:lnTo>
                  <a:lnTo>
                    <a:pt x="91" y="90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89" y="88"/>
                  </a:lnTo>
                  <a:lnTo>
                    <a:pt x="88" y="88"/>
                  </a:lnTo>
                  <a:lnTo>
                    <a:pt x="88" y="87"/>
                  </a:lnTo>
                  <a:lnTo>
                    <a:pt x="88" y="87"/>
                  </a:lnTo>
                  <a:lnTo>
                    <a:pt x="88" y="85"/>
                  </a:lnTo>
                  <a:lnTo>
                    <a:pt x="86" y="85"/>
                  </a:lnTo>
                  <a:lnTo>
                    <a:pt x="86" y="83"/>
                  </a:lnTo>
                  <a:lnTo>
                    <a:pt x="86" y="82"/>
                  </a:lnTo>
                  <a:lnTo>
                    <a:pt x="86" y="80"/>
                  </a:lnTo>
                  <a:lnTo>
                    <a:pt x="85" y="79"/>
                  </a:lnTo>
                  <a:lnTo>
                    <a:pt x="85" y="78"/>
                  </a:lnTo>
                  <a:lnTo>
                    <a:pt x="85" y="76"/>
                  </a:lnTo>
                  <a:lnTo>
                    <a:pt x="85" y="74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4" y="69"/>
                  </a:lnTo>
                  <a:lnTo>
                    <a:pt x="84" y="68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6" y="61"/>
                  </a:lnTo>
                  <a:lnTo>
                    <a:pt x="86" y="61"/>
                  </a:lnTo>
                  <a:lnTo>
                    <a:pt x="86" y="60"/>
                  </a:lnTo>
                  <a:lnTo>
                    <a:pt x="86" y="59"/>
                  </a:lnTo>
                  <a:lnTo>
                    <a:pt x="87" y="57"/>
                  </a:lnTo>
                  <a:lnTo>
                    <a:pt x="87" y="55"/>
                  </a:lnTo>
                  <a:lnTo>
                    <a:pt x="87" y="53"/>
                  </a:lnTo>
                  <a:lnTo>
                    <a:pt x="87" y="51"/>
                  </a:lnTo>
                  <a:lnTo>
                    <a:pt x="89" y="49"/>
                  </a:lnTo>
                  <a:lnTo>
                    <a:pt x="89" y="48"/>
                  </a:lnTo>
                  <a:lnTo>
                    <a:pt x="89" y="46"/>
                  </a:lnTo>
                  <a:lnTo>
                    <a:pt x="89" y="44"/>
                  </a:lnTo>
                  <a:lnTo>
                    <a:pt x="91" y="42"/>
                  </a:lnTo>
                  <a:lnTo>
                    <a:pt x="91" y="42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8" y="31"/>
                  </a:lnTo>
                  <a:lnTo>
                    <a:pt x="98" y="31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2" y="27"/>
                  </a:lnTo>
                  <a:lnTo>
                    <a:pt x="104" y="25"/>
                  </a:lnTo>
                  <a:lnTo>
                    <a:pt x="106" y="23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19"/>
                  </a:lnTo>
                  <a:lnTo>
                    <a:pt x="101" y="21"/>
                  </a:lnTo>
                  <a:lnTo>
                    <a:pt x="101" y="21"/>
                  </a:lnTo>
                  <a:lnTo>
                    <a:pt x="100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4"/>
                  </a:lnTo>
                  <a:lnTo>
                    <a:pt x="86" y="12"/>
                  </a:lnTo>
                  <a:lnTo>
                    <a:pt x="87" y="11"/>
                  </a:lnTo>
                  <a:lnTo>
                    <a:pt x="87" y="10"/>
                  </a:lnTo>
                  <a:lnTo>
                    <a:pt x="87" y="8"/>
                  </a:lnTo>
                  <a:lnTo>
                    <a:pt x="87" y="6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4" y="0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1"/>
                  </a:lnTo>
                  <a:lnTo>
                    <a:pt x="130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8" y="1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90" y="1"/>
                  </a:lnTo>
                  <a:lnTo>
                    <a:pt x="202" y="1"/>
                  </a:lnTo>
                  <a:lnTo>
                    <a:pt x="214" y="1"/>
                  </a:lnTo>
                  <a:lnTo>
                    <a:pt x="228" y="1"/>
                  </a:lnTo>
                  <a:lnTo>
                    <a:pt x="228" y="1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0160" y="645804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23" y="0"/>
                  </a:move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8" y="17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51400" y="6396120"/>
              <a:ext cx="14616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63" y="23"/>
                  </a:moveTo>
                  <a:lnTo>
                    <a:pt x="63" y="23"/>
                  </a:lnTo>
                  <a:lnTo>
                    <a:pt x="63" y="22"/>
                  </a:lnTo>
                  <a:lnTo>
                    <a:pt x="63" y="21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4" y="16"/>
                  </a:lnTo>
                  <a:lnTo>
                    <a:pt x="64" y="14"/>
                  </a:lnTo>
                  <a:lnTo>
                    <a:pt x="65" y="12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7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39" y="32"/>
                  </a:lnTo>
                  <a:lnTo>
                    <a:pt x="41" y="32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3" y="35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1" y="43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5" y="42"/>
                  </a:lnTo>
                  <a:lnTo>
                    <a:pt x="31" y="42"/>
                  </a:lnTo>
                  <a:lnTo>
                    <a:pt x="28" y="40"/>
                  </a:lnTo>
                  <a:lnTo>
                    <a:pt x="24" y="39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6" y="32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5" y="41"/>
                  </a:lnTo>
                  <a:lnTo>
                    <a:pt x="15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41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5" y="46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47" y="49"/>
                  </a:lnTo>
                  <a:lnTo>
                    <a:pt x="47" y="49"/>
                  </a:lnTo>
                  <a:lnTo>
                    <a:pt x="47" y="49"/>
                  </a:lnTo>
                  <a:lnTo>
                    <a:pt x="47" y="49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8" y="52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5" y="47"/>
                  </a:lnTo>
                  <a:lnTo>
                    <a:pt x="53" y="47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lnTo>
                    <a:pt x="55" y="43"/>
                  </a:lnTo>
                  <a:lnTo>
                    <a:pt x="57" y="41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4" y="40"/>
                  </a:lnTo>
                  <a:lnTo>
                    <a:pt x="66" y="40"/>
                  </a:lnTo>
                  <a:lnTo>
                    <a:pt x="69" y="40"/>
                  </a:lnTo>
                  <a:lnTo>
                    <a:pt x="71" y="40"/>
                  </a:lnTo>
                  <a:lnTo>
                    <a:pt x="75" y="39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4" y="39"/>
                  </a:lnTo>
                  <a:lnTo>
                    <a:pt x="86" y="39"/>
                  </a:lnTo>
                  <a:lnTo>
                    <a:pt x="88" y="39"/>
                  </a:lnTo>
                  <a:lnTo>
                    <a:pt x="89" y="39"/>
                  </a:lnTo>
                  <a:lnTo>
                    <a:pt x="91" y="37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89" y="37"/>
                  </a:lnTo>
                  <a:lnTo>
                    <a:pt x="89" y="36"/>
                  </a:lnTo>
                  <a:lnTo>
                    <a:pt x="88" y="36"/>
                  </a:lnTo>
                  <a:lnTo>
                    <a:pt x="86" y="36"/>
                  </a:lnTo>
                  <a:lnTo>
                    <a:pt x="85" y="36"/>
                  </a:lnTo>
                  <a:lnTo>
                    <a:pt x="85" y="34"/>
                  </a:lnTo>
                  <a:lnTo>
                    <a:pt x="83" y="34"/>
                  </a:lnTo>
                  <a:lnTo>
                    <a:pt x="81" y="34"/>
                  </a:lnTo>
                  <a:lnTo>
                    <a:pt x="79" y="34"/>
                  </a:lnTo>
                  <a:lnTo>
                    <a:pt x="78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1" y="31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9" y="30"/>
                  </a:lnTo>
                  <a:lnTo>
                    <a:pt x="61" y="30"/>
                  </a:lnTo>
                  <a:lnTo>
                    <a:pt x="63" y="28"/>
                  </a:lnTo>
                  <a:lnTo>
                    <a:pt x="65" y="28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8" y="23"/>
                  </a:lnTo>
                  <a:lnTo>
                    <a:pt x="80" y="23"/>
                  </a:lnTo>
                  <a:lnTo>
                    <a:pt x="82" y="21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4" y="16"/>
                  </a:lnTo>
                  <a:lnTo>
                    <a:pt x="83" y="16"/>
                  </a:lnTo>
                  <a:lnTo>
                    <a:pt x="83" y="16"/>
                  </a:lnTo>
                  <a:lnTo>
                    <a:pt x="83" y="16"/>
                  </a:lnTo>
                  <a:lnTo>
                    <a:pt x="83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79" y="14"/>
                  </a:lnTo>
                  <a:lnTo>
                    <a:pt x="79" y="13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1"/>
                  </a:lnTo>
                  <a:lnTo>
                    <a:pt x="76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3" y="23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1240" y="6315120"/>
              <a:ext cx="260280" cy="2095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00720" y="6494400"/>
              <a:ext cx="68040" cy="6192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3320" y="6507000"/>
              <a:ext cx="42840" cy="399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3" y="3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6335640"/>
              <a:ext cx="225360" cy="19368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141" y="89"/>
                  </a:moveTo>
                  <a:lnTo>
                    <a:pt x="139" y="89"/>
                  </a:lnTo>
                  <a:lnTo>
                    <a:pt x="139" y="89"/>
                  </a:lnTo>
                  <a:lnTo>
                    <a:pt x="138" y="89"/>
                  </a:lnTo>
                  <a:lnTo>
                    <a:pt x="138" y="88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34" y="88"/>
                  </a:lnTo>
                  <a:lnTo>
                    <a:pt x="134" y="86"/>
                  </a:lnTo>
                  <a:lnTo>
                    <a:pt x="132" y="86"/>
                  </a:lnTo>
                  <a:lnTo>
                    <a:pt x="131" y="86"/>
                  </a:lnTo>
                  <a:lnTo>
                    <a:pt x="129" y="86"/>
                  </a:lnTo>
                  <a:lnTo>
                    <a:pt x="129" y="85"/>
                  </a:lnTo>
                  <a:lnTo>
                    <a:pt x="128" y="85"/>
                  </a:lnTo>
                  <a:lnTo>
                    <a:pt x="128" y="85"/>
                  </a:lnTo>
                  <a:lnTo>
                    <a:pt x="127" y="85"/>
                  </a:lnTo>
                  <a:lnTo>
                    <a:pt x="127" y="84"/>
                  </a:lnTo>
                  <a:lnTo>
                    <a:pt x="125" y="84"/>
                  </a:lnTo>
                  <a:lnTo>
                    <a:pt x="123" y="84"/>
                  </a:lnTo>
                  <a:lnTo>
                    <a:pt x="121" y="84"/>
                  </a:lnTo>
                  <a:lnTo>
                    <a:pt x="120" y="84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5" y="84"/>
                  </a:lnTo>
                  <a:lnTo>
                    <a:pt x="113" y="82"/>
                  </a:lnTo>
                  <a:lnTo>
                    <a:pt x="111" y="82"/>
                  </a:lnTo>
                  <a:lnTo>
                    <a:pt x="109" y="82"/>
                  </a:lnTo>
                  <a:lnTo>
                    <a:pt x="107" y="82"/>
                  </a:lnTo>
                  <a:lnTo>
                    <a:pt x="105" y="82"/>
                  </a:lnTo>
                  <a:lnTo>
                    <a:pt x="103" y="82"/>
                  </a:lnTo>
                  <a:lnTo>
                    <a:pt x="102" y="82"/>
                  </a:lnTo>
                  <a:lnTo>
                    <a:pt x="101" y="82"/>
                  </a:lnTo>
                  <a:lnTo>
                    <a:pt x="101" y="8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9" y="79"/>
                  </a:lnTo>
                  <a:lnTo>
                    <a:pt x="97" y="79"/>
                  </a:lnTo>
                  <a:lnTo>
                    <a:pt x="97" y="79"/>
                  </a:lnTo>
                  <a:lnTo>
                    <a:pt x="97" y="79"/>
                  </a:lnTo>
                  <a:lnTo>
                    <a:pt x="97" y="77"/>
                  </a:lnTo>
                  <a:lnTo>
                    <a:pt x="95" y="77"/>
                  </a:lnTo>
                  <a:lnTo>
                    <a:pt x="95" y="77"/>
                  </a:lnTo>
                  <a:lnTo>
                    <a:pt x="95" y="77"/>
                  </a:lnTo>
                  <a:lnTo>
                    <a:pt x="95" y="75"/>
                  </a:lnTo>
                  <a:lnTo>
                    <a:pt x="95" y="75"/>
                  </a:lnTo>
                  <a:lnTo>
                    <a:pt x="95" y="74"/>
                  </a:lnTo>
                  <a:lnTo>
                    <a:pt x="95" y="74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8" y="69"/>
                  </a:lnTo>
                  <a:lnTo>
                    <a:pt x="98" y="69"/>
                  </a:lnTo>
                  <a:lnTo>
                    <a:pt x="98" y="69"/>
                  </a:lnTo>
                  <a:lnTo>
                    <a:pt x="98" y="69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3" y="64"/>
                  </a:lnTo>
                  <a:lnTo>
                    <a:pt x="103" y="64"/>
                  </a:lnTo>
                  <a:lnTo>
                    <a:pt x="105" y="63"/>
                  </a:lnTo>
                  <a:lnTo>
                    <a:pt x="105" y="63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7" y="59"/>
                  </a:lnTo>
                  <a:lnTo>
                    <a:pt x="107" y="59"/>
                  </a:lnTo>
                  <a:lnTo>
                    <a:pt x="109" y="57"/>
                  </a:lnTo>
                  <a:lnTo>
                    <a:pt x="109" y="57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09" y="53"/>
                  </a:lnTo>
                  <a:lnTo>
                    <a:pt x="109" y="53"/>
                  </a:lnTo>
                  <a:lnTo>
                    <a:pt x="109" y="52"/>
                  </a:lnTo>
                  <a:lnTo>
                    <a:pt x="109" y="52"/>
                  </a:lnTo>
                  <a:lnTo>
                    <a:pt x="111" y="50"/>
                  </a:lnTo>
                  <a:lnTo>
                    <a:pt x="111" y="50"/>
                  </a:lnTo>
                  <a:lnTo>
                    <a:pt x="111" y="50"/>
                  </a:lnTo>
                  <a:lnTo>
                    <a:pt x="111" y="50"/>
                  </a:lnTo>
                  <a:lnTo>
                    <a:pt x="113" y="50"/>
                  </a:lnTo>
                  <a:lnTo>
                    <a:pt x="113" y="50"/>
                  </a:lnTo>
                  <a:lnTo>
                    <a:pt x="113" y="50"/>
                  </a:lnTo>
                  <a:lnTo>
                    <a:pt x="113" y="50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7" y="48"/>
                  </a:lnTo>
                  <a:lnTo>
                    <a:pt x="117" y="48"/>
                  </a:lnTo>
                  <a:lnTo>
                    <a:pt x="119" y="47"/>
                  </a:lnTo>
                  <a:lnTo>
                    <a:pt x="119" y="47"/>
                  </a:lnTo>
                  <a:lnTo>
                    <a:pt x="119" y="47"/>
                  </a:lnTo>
                  <a:lnTo>
                    <a:pt x="119" y="47"/>
                  </a:lnTo>
                  <a:lnTo>
                    <a:pt x="120" y="47"/>
                  </a:lnTo>
                  <a:lnTo>
                    <a:pt x="120" y="47"/>
                  </a:lnTo>
                  <a:lnTo>
                    <a:pt x="120" y="47"/>
                  </a:lnTo>
                  <a:lnTo>
                    <a:pt x="120" y="47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5" y="44"/>
                  </a:lnTo>
                  <a:lnTo>
                    <a:pt x="125" y="44"/>
                  </a:lnTo>
                  <a:lnTo>
                    <a:pt x="126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0"/>
                  </a:lnTo>
                  <a:lnTo>
                    <a:pt x="125" y="40"/>
                  </a:lnTo>
                  <a:lnTo>
                    <a:pt x="125" y="40"/>
                  </a:lnTo>
                  <a:lnTo>
                    <a:pt x="125" y="40"/>
                  </a:lnTo>
                  <a:lnTo>
                    <a:pt x="125" y="39"/>
                  </a:lnTo>
                  <a:lnTo>
                    <a:pt x="125" y="39"/>
                  </a:lnTo>
                  <a:lnTo>
                    <a:pt x="125" y="39"/>
                  </a:lnTo>
                  <a:lnTo>
                    <a:pt x="125" y="3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29"/>
                  </a:lnTo>
                  <a:lnTo>
                    <a:pt x="123" y="29"/>
                  </a:lnTo>
                  <a:lnTo>
                    <a:pt x="123" y="29"/>
                  </a:lnTo>
                  <a:lnTo>
                    <a:pt x="123" y="29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21" y="27"/>
                  </a:lnTo>
                  <a:lnTo>
                    <a:pt x="120" y="27"/>
                  </a:lnTo>
                  <a:lnTo>
                    <a:pt x="120" y="25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8" y="24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6" y="22"/>
                  </a:lnTo>
                  <a:lnTo>
                    <a:pt x="115" y="22"/>
                  </a:lnTo>
                  <a:lnTo>
                    <a:pt x="115" y="21"/>
                  </a:lnTo>
                  <a:lnTo>
                    <a:pt x="115" y="21"/>
                  </a:lnTo>
                  <a:lnTo>
                    <a:pt x="115" y="19"/>
                  </a:lnTo>
                  <a:lnTo>
                    <a:pt x="113" y="19"/>
                  </a:lnTo>
                  <a:lnTo>
                    <a:pt x="113" y="19"/>
                  </a:lnTo>
                  <a:lnTo>
                    <a:pt x="111" y="19"/>
                  </a:lnTo>
                  <a:lnTo>
                    <a:pt x="111" y="17"/>
                  </a:lnTo>
                  <a:lnTo>
                    <a:pt x="109" y="17"/>
                  </a:lnTo>
                  <a:lnTo>
                    <a:pt x="109" y="16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6" y="14"/>
                  </a:lnTo>
                  <a:lnTo>
                    <a:pt x="106" y="13"/>
                  </a:lnTo>
                  <a:lnTo>
                    <a:pt x="104" y="13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4" y="9"/>
                  </a:lnTo>
                  <a:lnTo>
                    <a:pt x="102" y="9"/>
                  </a:lnTo>
                  <a:lnTo>
                    <a:pt x="102" y="9"/>
                  </a:lnTo>
                  <a:lnTo>
                    <a:pt x="101" y="9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9" y="8"/>
                  </a:lnTo>
                  <a:lnTo>
                    <a:pt x="98" y="8"/>
                  </a:lnTo>
                  <a:lnTo>
                    <a:pt x="98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92" y="5"/>
                  </a:lnTo>
                  <a:lnTo>
                    <a:pt x="91" y="5"/>
                  </a:lnTo>
                  <a:lnTo>
                    <a:pt x="91" y="3"/>
                  </a:lnTo>
                  <a:lnTo>
                    <a:pt x="89" y="3"/>
                  </a:lnTo>
                  <a:lnTo>
                    <a:pt x="89" y="3"/>
                  </a:lnTo>
                  <a:lnTo>
                    <a:pt x="88" y="3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79" y="1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59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5" y="74"/>
                  </a:lnTo>
                  <a:lnTo>
                    <a:pt x="15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1" y="81"/>
                  </a:lnTo>
                  <a:lnTo>
                    <a:pt x="21" y="82"/>
                  </a:lnTo>
                  <a:lnTo>
                    <a:pt x="23" y="82"/>
                  </a:lnTo>
                  <a:lnTo>
                    <a:pt x="23" y="8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18" y="85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10" y="89"/>
                  </a:lnTo>
                  <a:lnTo>
                    <a:pt x="10" y="89"/>
                  </a:lnTo>
                  <a:lnTo>
                    <a:pt x="8" y="89"/>
                  </a:lnTo>
                  <a:lnTo>
                    <a:pt x="8" y="89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3" y="92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7" y="94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10" y="97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11" y="99"/>
                  </a:lnTo>
                  <a:lnTo>
                    <a:pt x="11" y="101"/>
                  </a:lnTo>
                  <a:lnTo>
                    <a:pt x="12" y="101"/>
                  </a:lnTo>
                  <a:lnTo>
                    <a:pt x="12" y="101"/>
                  </a:lnTo>
                  <a:lnTo>
                    <a:pt x="14" y="101"/>
                  </a:lnTo>
                  <a:lnTo>
                    <a:pt x="14" y="103"/>
                  </a:lnTo>
                  <a:lnTo>
                    <a:pt x="15" y="103"/>
                  </a:lnTo>
                  <a:lnTo>
                    <a:pt x="15" y="103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20" y="104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2" y="108"/>
                  </a:lnTo>
                  <a:lnTo>
                    <a:pt x="23" y="108"/>
                  </a:lnTo>
                  <a:lnTo>
                    <a:pt x="23" y="108"/>
                  </a:lnTo>
                  <a:lnTo>
                    <a:pt x="25" y="108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7" y="111"/>
                  </a:lnTo>
                  <a:lnTo>
                    <a:pt x="29" y="111"/>
                  </a:lnTo>
                  <a:lnTo>
                    <a:pt x="29" y="111"/>
                  </a:lnTo>
                  <a:lnTo>
                    <a:pt x="30" y="111"/>
                  </a:lnTo>
                  <a:lnTo>
                    <a:pt x="30" y="113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8" y="115"/>
                  </a:lnTo>
                  <a:lnTo>
                    <a:pt x="38" y="117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42" y="117"/>
                  </a:lnTo>
                  <a:lnTo>
                    <a:pt x="42" y="117"/>
                  </a:lnTo>
                  <a:lnTo>
                    <a:pt x="44" y="117"/>
                  </a:lnTo>
                  <a:lnTo>
                    <a:pt x="46" y="117"/>
                  </a:lnTo>
                  <a:lnTo>
                    <a:pt x="48" y="117"/>
                  </a:lnTo>
                  <a:lnTo>
                    <a:pt x="48" y="119"/>
                  </a:lnTo>
                  <a:lnTo>
                    <a:pt x="50" y="119"/>
                  </a:lnTo>
                  <a:lnTo>
                    <a:pt x="51" y="119"/>
                  </a:lnTo>
                  <a:lnTo>
                    <a:pt x="53" y="119"/>
                  </a:lnTo>
                  <a:lnTo>
                    <a:pt x="55" y="120"/>
                  </a:lnTo>
                  <a:lnTo>
                    <a:pt x="57" y="120"/>
                  </a:lnTo>
                  <a:lnTo>
                    <a:pt x="58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5" y="121"/>
                  </a:lnTo>
                  <a:lnTo>
                    <a:pt x="67" y="121"/>
                  </a:lnTo>
                  <a:lnTo>
                    <a:pt x="69" y="121"/>
                  </a:lnTo>
                  <a:lnTo>
                    <a:pt x="69" y="121"/>
                  </a:lnTo>
                  <a:lnTo>
                    <a:pt x="71" y="121"/>
                  </a:lnTo>
                  <a:lnTo>
                    <a:pt x="73" y="121"/>
                  </a:lnTo>
                  <a:lnTo>
                    <a:pt x="75" y="121"/>
                  </a:lnTo>
                  <a:lnTo>
                    <a:pt x="75" y="121"/>
                  </a:lnTo>
                  <a:lnTo>
                    <a:pt x="76" y="121"/>
                  </a:lnTo>
                  <a:lnTo>
                    <a:pt x="76" y="121"/>
                  </a:lnTo>
                  <a:lnTo>
                    <a:pt x="78" y="121"/>
                  </a:lnTo>
                  <a:lnTo>
                    <a:pt x="78" y="121"/>
                  </a:lnTo>
                  <a:lnTo>
                    <a:pt x="79" y="121"/>
                  </a:lnTo>
                  <a:lnTo>
                    <a:pt x="81" y="121"/>
                  </a:lnTo>
                  <a:lnTo>
                    <a:pt x="83" y="121"/>
                  </a:lnTo>
                  <a:lnTo>
                    <a:pt x="83" y="121"/>
                  </a:lnTo>
                  <a:lnTo>
                    <a:pt x="85" y="121"/>
                  </a:lnTo>
                  <a:lnTo>
                    <a:pt x="85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9" y="121"/>
                  </a:lnTo>
                  <a:lnTo>
                    <a:pt x="90" y="121"/>
                  </a:lnTo>
                  <a:lnTo>
                    <a:pt x="92" y="119"/>
                  </a:lnTo>
                  <a:lnTo>
                    <a:pt x="92" y="119"/>
                  </a:lnTo>
                  <a:lnTo>
                    <a:pt x="94" y="119"/>
                  </a:lnTo>
                  <a:lnTo>
                    <a:pt x="95" y="119"/>
                  </a:lnTo>
                  <a:lnTo>
                    <a:pt x="97" y="118"/>
                  </a:lnTo>
                  <a:lnTo>
                    <a:pt x="97" y="118"/>
                  </a:lnTo>
                  <a:lnTo>
                    <a:pt x="98" y="118"/>
                  </a:lnTo>
                  <a:lnTo>
                    <a:pt x="100" y="118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104" y="116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7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14" y="111"/>
                  </a:lnTo>
                  <a:lnTo>
                    <a:pt x="114" y="111"/>
                  </a:lnTo>
                  <a:lnTo>
                    <a:pt x="116" y="111"/>
                  </a:lnTo>
                  <a:lnTo>
                    <a:pt x="116" y="111"/>
                  </a:lnTo>
                  <a:lnTo>
                    <a:pt x="118" y="109"/>
                  </a:lnTo>
                  <a:lnTo>
                    <a:pt x="118" y="109"/>
                  </a:lnTo>
                  <a:lnTo>
                    <a:pt x="119" y="109"/>
                  </a:lnTo>
                  <a:lnTo>
                    <a:pt x="119" y="109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3" y="107"/>
                  </a:lnTo>
                  <a:lnTo>
                    <a:pt x="123" y="107"/>
                  </a:lnTo>
                  <a:lnTo>
                    <a:pt x="125" y="105"/>
                  </a:lnTo>
                  <a:lnTo>
                    <a:pt x="125" y="105"/>
                  </a:lnTo>
                  <a:lnTo>
                    <a:pt x="125" y="105"/>
                  </a:lnTo>
                  <a:lnTo>
                    <a:pt x="125" y="105"/>
                  </a:lnTo>
                  <a:lnTo>
                    <a:pt x="127" y="103"/>
                  </a:lnTo>
                  <a:lnTo>
                    <a:pt x="127" y="103"/>
                  </a:lnTo>
                  <a:lnTo>
                    <a:pt x="129" y="101"/>
                  </a:lnTo>
                  <a:lnTo>
                    <a:pt x="129" y="101"/>
                  </a:lnTo>
                  <a:lnTo>
                    <a:pt x="131" y="99"/>
                  </a:lnTo>
                  <a:lnTo>
                    <a:pt x="131" y="99"/>
                  </a:lnTo>
                  <a:lnTo>
                    <a:pt x="133" y="97"/>
                  </a:lnTo>
                  <a:lnTo>
                    <a:pt x="133" y="97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7" y="94"/>
                  </a:lnTo>
                  <a:lnTo>
                    <a:pt x="137" y="94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1" y="89"/>
                  </a:lnTo>
                  <a:lnTo>
                    <a:pt x="141" y="89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8120" y="634032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44"/>
                  </a:move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3" y="53"/>
                  </a:lnTo>
                  <a:lnTo>
                    <a:pt x="13" y="54"/>
                  </a:lnTo>
                  <a:lnTo>
                    <a:pt x="13" y="54"/>
                  </a:lnTo>
                  <a:lnTo>
                    <a:pt x="13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6" y="54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33800" y="6342120"/>
              <a:ext cx="49320" cy="7776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30" y="47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1880" y="6437160"/>
              <a:ext cx="98640" cy="349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8" y="0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4" y="15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61" y="16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13280" y="6384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9" y="1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32360" y="6410160"/>
              <a:ext cx="22320" cy="82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8600" y="638964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1"/>
                  </a:move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3800" y="64231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24360" y="640224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5" y="22"/>
                  </a:moveTo>
                  <a:lnTo>
                    <a:pt x="43" y="22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5" y="22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638496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638820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94200" y="6437160"/>
              <a:ext cx="73080" cy="302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1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37040" y="642924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3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29040" y="6443640"/>
              <a:ext cx="109800" cy="8424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38" y="28"/>
                  </a:moveTo>
                  <a:lnTo>
                    <a:pt x="36" y="28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11" y="40"/>
                  </a:lnTo>
                  <a:lnTo>
                    <a:pt x="12" y="41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31" y="49"/>
                  </a:lnTo>
                  <a:lnTo>
                    <a:pt x="33" y="49"/>
                  </a:lnTo>
                  <a:lnTo>
                    <a:pt x="35" y="49"/>
                  </a:lnTo>
                  <a:lnTo>
                    <a:pt x="36" y="51"/>
                  </a:lnTo>
                  <a:lnTo>
                    <a:pt x="38" y="51"/>
                  </a:lnTo>
                  <a:lnTo>
                    <a:pt x="40" y="51"/>
                  </a:lnTo>
                  <a:lnTo>
                    <a:pt x="43" y="51"/>
                  </a:lnTo>
                  <a:lnTo>
                    <a:pt x="45" y="52"/>
                  </a:lnTo>
                  <a:lnTo>
                    <a:pt x="47" y="52"/>
                  </a:lnTo>
                  <a:lnTo>
                    <a:pt x="49" y="52"/>
                  </a:lnTo>
                  <a:lnTo>
                    <a:pt x="53" y="52"/>
                  </a:lnTo>
                  <a:lnTo>
                    <a:pt x="55" y="52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2" y="52"/>
                  </a:lnTo>
                  <a:lnTo>
                    <a:pt x="63" y="52"/>
                  </a:lnTo>
                  <a:lnTo>
                    <a:pt x="65" y="52"/>
                  </a:lnTo>
                  <a:lnTo>
                    <a:pt x="66" y="52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2" y="44"/>
                  </a:lnTo>
                  <a:lnTo>
                    <a:pt x="60" y="42"/>
                  </a:lnTo>
                  <a:lnTo>
                    <a:pt x="56" y="40"/>
                  </a:lnTo>
                  <a:lnTo>
                    <a:pt x="55" y="37"/>
                  </a:lnTo>
                  <a:lnTo>
                    <a:pt x="51" y="37"/>
                  </a:lnTo>
                  <a:lnTo>
                    <a:pt x="48" y="35"/>
                  </a:lnTo>
                  <a:lnTo>
                    <a:pt x="45" y="33"/>
                  </a:lnTo>
                  <a:lnTo>
                    <a:pt x="44" y="31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9" y="29"/>
                  </a:lnTo>
                  <a:lnTo>
                    <a:pt x="39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37040" y="6467400"/>
              <a:ext cx="95400" cy="586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59" y="8"/>
                  </a:moveTo>
                  <a:lnTo>
                    <a:pt x="58" y="8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29" y="28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4" y="20"/>
                  </a:lnTo>
                  <a:lnTo>
                    <a:pt x="45" y="19"/>
                  </a:lnTo>
                  <a:lnTo>
                    <a:pt x="49" y="18"/>
                  </a:lnTo>
                  <a:lnTo>
                    <a:pt x="51" y="16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7" y="11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59" y="8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17960" y="6383160"/>
              <a:ext cx="1764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1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334040" y="6570000"/>
              <a:ext cx="1196640" cy="612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343400" y="6578640"/>
              <a:ext cx="1176480" cy="648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334040" y="6588000"/>
              <a:ext cx="1196640" cy="792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343400" y="6597000"/>
              <a:ext cx="1176480" cy="111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335480" y="6606360"/>
              <a:ext cx="1197000" cy="1116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6616800"/>
              <a:ext cx="1176480" cy="93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330800" y="6625440"/>
              <a:ext cx="1197000" cy="1260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340160" y="6638760"/>
              <a:ext cx="1176480" cy="648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330800" y="6646320"/>
              <a:ext cx="1197000" cy="612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340160" y="6654240"/>
              <a:ext cx="1176480" cy="1260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329000" y="6667560"/>
              <a:ext cx="1197000" cy="936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340160" y="6676920"/>
              <a:ext cx="1176480" cy="792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-590400" y="25560"/>
            <a:ext cx="11063160" cy="7877160"/>
            <a:chOff x="-590400" y="25560"/>
            <a:chExt cx="11063160" cy="7877160"/>
          </a:xfrm>
        </p:grpSpPr>
        <p:sp>
          <p:nvSpPr>
            <p:cNvPr id="473" name=""/>
            <p:cNvSpPr/>
            <p:nvPr/>
          </p:nvSpPr>
          <p:spPr>
            <a:xfrm>
              <a:off x="-565200" y="25560"/>
              <a:ext cx="1960560" cy="7875360"/>
            </a:xfrm>
            <a:custGeom>
              <a:avLst/>
              <a:gdLst/>
              <a:ahLst/>
              <a:rect l="l" t="t" r="r" b="b"/>
              <a:pathLst>
                <a:path w="1235" h="4961">
                  <a:moveTo>
                    <a:pt x="0" y="4960"/>
                  </a:moveTo>
                  <a:lnTo>
                    <a:pt x="0" y="0"/>
                  </a:lnTo>
                  <a:lnTo>
                    <a:pt x="1234" y="819"/>
                  </a:lnTo>
                  <a:lnTo>
                    <a:pt x="1234" y="3871"/>
                  </a:lnTo>
                  <a:lnTo>
                    <a:pt x="0" y="4960"/>
                  </a:lnTo>
                  <a:lnTo>
                    <a:pt x="0" y="4960"/>
                  </a:lnTo>
                </a:path>
              </a:pathLst>
            </a:custGeom>
            <a:solidFill>
              <a:srgbClr val="0000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-565200" y="25560"/>
              <a:ext cx="11037960" cy="1301760"/>
            </a:xfrm>
            <a:custGeom>
              <a:avLst/>
              <a:gdLst/>
              <a:ahLst/>
              <a:rect l="l" t="t" r="r" b="b"/>
              <a:pathLst>
                <a:path w="6953" h="820">
                  <a:moveTo>
                    <a:pt x="0" y="0"/>
                  </a:moveTo>
                  <a:lnTo>
                    <a:pt x="6952" y="0"/>
                  </a:lnTo>
                  <a:lnTo>
                    <a:pt x="5726" y="819"/>
                  </a:lnTo>
                  <a:lnTo>
                    <a:pt x="1236" y="81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524800" y="28440"/>
              <a:ext cx="1944720" cy="7874280"/>
            </a:xfrm>
            <a:custGeom>
              <a:avLst/>
              <a:gdLst/>
              <a:ahLst/>
              <a:rect l="l" t="t" r="r" b="b"/>
              <a:pathLst>
                <a:path w="1225" h="4960">
                  <a:moveTo>
                    <a:pt x="1224" y="0"/>
                  </a:moveTo>
                  <a:lnTo>
                    <a:pt x="1224" y="4959"/>
                  </a:lnTo>
                  <a:lnTo>
                    <a:pt x="0" y="3869"/>
                  </a:lnTo>
                  <a:lnTo>
                    <a:pt x="0" y="816"/>
                  </a:lnTo>
                  <a:lnTo>
                    <a:pt x="1224" y="0"/>
                  </a:lnTo>
                  <a:lnTo>
                    <a:pt x="1224" y="0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590400" y="6170760"/>
              <a:ext cx="11059920" cy="1731960"/>
            </a:xfrm>
            <a:custGeom>
              <a:avLst/>
              <a:gdLst/>
              <a:ahLst/>
              <a:rect l="l" t="t" r="r" b="b"/>
              <a:pathLst>
                <a:path w="6967" h="1091">
                  <a:moveTo>
                    <a:pt x="6966" y="1090"/>
                  </a:moveTo>
                  <a:lnTo>
                    <a:pt x="0" y="1090"/>
                  </a:lnTo>
                  <a:lnTo>
                    <a:pt x="1250" y="0"/>
                  </a:lnTo>
                  <a:lnTo>
                    <a:pt x="5742" y="0"/>
                  </a:lnTo>
                  <a:lnTo>
                    <a:pt x="6966" y="1090"/>
                  </a:lnTo>
                  <a:lnTo>
                    <a:pt x="6966" y="1090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1393920" y="1323000"/>
              <a:ext cx="7134120" cy="4848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7960" y="565200"/>
              <a:ext cx="942660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54000" y="1039680"/>
              <a:ext cx="799776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4440" y="7175520"/>
              <a:ext cx="942012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50760" y="6534000"/>
              <a:ext cx="799956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-565200" y="569520"/>
              <a:ext cx="1952640" cy="1111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-565200" y="1293480"/>
              <a:ext cx="1952640" cy="841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-565200" y="2015640"/>
              <a:ext cx="1952640" cy="54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-565200" y="2739960"/>
              <a:ext cx="1952640" cy="2779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-565200" y="3441600"/>
              <a:ext cx="1967040" cy="5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3360" y="3889080"/>
              <a:ext cx="1324080" cy="29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3360" y="4343040"/>
              <a:ext cx="1338480" cy="568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3360" y="4771800"/>
              <a:ext cx="1324080" cy="865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63360" y="5240160"/>
              <a:ext cx="1324080" cy="1213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63360" y="5695920"/>
              <a:ext cx="1338480" cy="1481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440" y="30240"/>
              <a:ext cx="17258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9320" y="30240"/>
              <a:ext cx="14972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01760" y="30240"/>
              <a:ext cx="126684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27080" y="30240"/>
              <a:ext cx="104940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49520" y="30240"/>
              <a:ext cx="83340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73400" y="30240"/>
              <a:ext cx="60480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95840" y="30240"/>
              <a:ext cx="39204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08480" y="30240"/>
              <a:ext cx="2318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927320" y="25560"/>
              <a:ext cx="3240" cy="1279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353200" y="29880"/>
              <a:ext cx="22212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762520" y="29880"/>
              <a:ext cx="43668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156360" y="29880"/>
              <a:ext cx="665280" cy="129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548400" y="30240"/>
              <a:ext cx="89712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927840" y="29880"/>
              <a:ext cx="105264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323120" y="30240"/>
              <a:ext cx="12794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729560" y="29880"/>
              <a:ext cx="1496880" cy="129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8123400" y="29880"/>
              <a:ext cx="1725480" cy="129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8515440" y="568440"/>
              <a:ext cx="1479600" cy="1125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8515440" y="1293480"/>
              <a:ext cx="1479600" cy="841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515440" y="2014200"/>
              <a:ext cx="1479600" cy="560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515440" y="2738160"/>
              <a:ext cx="1479600" cy="25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515440" y="3441600"/>
              <a:ext cx="1479600" cy="5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8515080" y="3902040"/>
              <a:ext cx="1955880" cy="285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8515080" y="4343040"/>
              <a:ext cx="1955880" cy="568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8515080" y="4784760"/>
              <a:ext cx="1955880" cy="851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8515080" y="5240160"/>
              <a:ext cx="1955880" cy="1213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8515080" y="5695920"/>
              <a:ext cx="1955880" cy="147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50400" y="6137280"/>
              <a:ext cx="169704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43960" y="6149880"/>
              <a:ext cx="14792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3120" y="6149880"/>
              <a:ext cx="127800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27840" y="6137280"/>
              <a:ext cx="105084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48400" y="6137280"/>
              <a:ext cx="89712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56360" y="6137280"/>
              <a:ext cx="66528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49920" y="6149880"/>
              <a:ext cx="4478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53200" y="6137280"/>
              <a:ext cx="22212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927680" y="6149880"/>
              <a:ext cx="1728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327560" y="6149880"/>
              <a:ext cx="22536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94040" y="6124680"/>
              <a:ext cx="395280" cy="1776240"/>
            </a:xfrm>
            <a:custGeom>
              <a:avLst/>
              <a:gdLst/>
              <a:ahLst/>
              <a:rect l="l" t="t" r="r" b="b"/>
              <a:pathLst>
                <a:path w="249" h="1119">
                  <a:moveTo>
                    <a:pt x="0" y="1118"/>
                  </a:moveTo>
                  <a:lnTo>
                    <a:pt x="248" y="0"/>
                  </a:lnTo>
                  <a:lnTo>
                    <a:pt x="248" y="16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171960" y="6149880"/>
              <a:ext cx="5936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2548080" y="6149880"/>
              <a:ext cx="8222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927080" y="6149880"/>
              <a:ext cx="103680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301760" y="6149880"/>
              <a:ext cx="12668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79320" y="6149880"/>
              <a:ext cx="14684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5440" y="6149880"/>
              <a:ext cx="171288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37960" y="565200"/>
              <a:ext cx="0" cy="6610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952560" y="1038240"/>
              <a:ext cx="0" cy="5492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9664560" y="565200"/>
              <a:ext cx="0" cy="6610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8950320" y="1039680"/>
              <a:ext cx="0" cy="5494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413000" y="1701720"/>
            <a:ext cx="7121520" cy="36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160200" indent="-16020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No decreciente en precios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reciente en al menos un pre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reciente en utili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oncava en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Homogenea de grado uno en 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El Lema de Shepha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880" y="190440"/>
            <a:ext cx="9475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ffff00"/>
                </a:solidFill>
                <a:latin typeface="Times New Roman"/>
              </a:rPr>
              <a:t>La función de costos tiene las mismas propiedades que las de la empres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9753480" cy="5639040"/>
          </a:xfrm>
          <a:prstGeom prst="rect">
            <a:avLst/>
          </a:prstGeom>
          <a:gradFill rotWithShape="0">
            <a:gsLst>
              <a:gs pos="0">
                <a:srgbClr val="ffffc2"/>
              </a:gs>
              <a:gs pos="50000">
                <a:srgbClr val="ffffff"/>
              </a:gs>
              <a:gs pos="100000">
                <a:srgbClr val="ffffc2"/>
              </a:gs>
            </a:gsLst>
            <a:lin ang="8100000"/>
          </a:gradFill>
          <a:ln w="1270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0" rIns="0" tIns="0" bIns="0" anchor="t">
            <a:normAutofit/>
          </a:bodyPr>
          <a:p>
            <a:pPr marL="1319040" indent="-1319040">
              <a:spcBef>
                <a:spcPts val="2251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l Lema de Shephard da la demanda como función de los precios y el nivel de utili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19040" indent="-1319040">
              <a:spcBef>
                <a:spcPts val="2251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Las propiedades de la función solución determina la conducta de las funciónes respue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19040" indent="-1319040">
              <a:spcBef>
                <a:spcPts val="2251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Los resultados del </a:t>
            </a:r>
            <a:r>
              <a:rPr b="1" i="1" lang="en-GB" sz="3600" spc="-1" strike="noStrike">
                <a:solidFill>
                  <a:srgbClr val="000080"/>
                </a:solidFill>
                <a:latin typeface="Times New Roman"/>
              </a:rPr>
              <a:t>corto plazo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pueden usarse para modelar restricciones laterales tales como el raciona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453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por supuesto otro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ultados se siguen: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46040" y="3045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tiene clar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3360" y="1738800"/>
            <a:ext cx="9931680" cy="614988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0840" y="1387440"/>
            <a:ext cx="3629160" cy="6445440"/>
            <a:chOff x="3390840" y="1387440"/>
            <a:chExt cx="3629160" cy="6445440"/>
          </a:xfrm>
        </p:grpSpPr>
        <p:sp>
          <p:nvSpPr>
            <p:cNvPr id="547" name=""/>
            <p:cNvSpPr/>
            <p:nvPr/>
          </p:nvSpPr>
          <p:spPr>
            <a:xfrm>
              <a:off x="4524480" y="6337440"/>
              <a:ext cx="1338120" cy="1495440"/>
            </a:xfrm>
            <a:custGeom>
              <a:avLst/>
              <a:gdLst/>
              <a:ahLst/>
              <a:rect l="l" t="t" r="r" b="b"/>
              <a:pathLst>
                <a:path w="843" h="942">
                  <a:moveTo>
                    <a:pt x="223" y="930"/>
                  </a:moveTo>
                  <a:lnTo>
                    <a:pt x="162" y="856"/>
                  </a:lnTo>
                  <a:lnTo>
                    <a:pt x="132" y="853"/>
                  </a:lnTo>
                  <a:lnTo>
                    <a:pt x="109" y="843"/>
                  </a:lnTo>
                  <a:lnTo>
                    <a:pt x="86" y="833"/>
                  </a:lnTo>
                  <a:lnTo>
                    <a:pt x="73" y="823"/>
                  </a:lnTo>
                  <a:lnTo>
                    <a:pt x="64" y="812"/>
                  </a:lnTo>
                  <a:lnTo>
                    <a:pt x="57" y="796"/>
                  </a:lnTo>
                  <a:lnTo>
                    <a:pt x="58" y="777"/>
                  </a:lnTo>
                  <a:lnTo>
                    <a:pt x="54" y="762"/>
                  </a:lnTo>
                  <a:lnTo>
                    <a:pt x="49" y="750"/>
                  </a:lnTo>
                  <a:lnTo>
                    <a:pt x="26" y="727"/>
                  </a:lnTo>
                  <a:lnTo>
                    <a:pt x="19" y="715"/>
                  </a:lnTo>
                  <a:lnTo>
                    <a:pt x="15" y="704"/>
                  </a:lnTo>
                  <a:lnTo>
                    <a:pt x="19" y="690"/>
                  </a:lnTo>
                  <a:lnTo>
                    <a:pt x="22" y="682"/>
                  </a:lnTo>
                  <a:lnTo>
                    <a:pt x="37" y="659"/>
                  </a:lnTo>
                  <a:lnTo>
                    <a:pt x="50" y="634"/>
                  </a:lnTo>
                  <a:lnTo>
                    <a:pt x="52" y="610"/>
                  </a:lnTo>
                  <a:lnTo>
                    <a:pt x="44" y="587"/>
                  </a:lnTo>
                  <a:lnTo>
                    <a:pt x="28" y="564"/>
                  </a:lnTo>
                  <a:lnTo>
                    <a:pt x="13" y="539"/>
                  </a:lnTo>
                  <a:lnTo>
                    <a:pt x="19" y="516"/>
                  </a:lnTo>
                  <a:lnTo>
                    <a:pt x="39" y="496"/>
                  </a:lnTo>
                  <a:lnTo>
                    <a:pt x="54" y="471"/>
                  </a:lnTo>
                  <a:lnTo>
                    <a:pt x="46" y="448"/>
                  </a:lnTo>
                  <a:lnTo>
                    <a:pt x="25" y="425"/>
                  </a:lnTo>
                  <a:lnTo>
                    <a:pt x="16" y="405"/>
                  </a:lnTo>
                  <a:lnTo>
                    <a:pt x="15" y="378"/>
                  </a:lnTo>
                  <a:lnTo>
                    <a:pt x="30" y="355"/>
                  </a:lnTo>
                  <a:lnTo>
                    <a:pt x="39" y="332"/>
                  </a:lnTo>
                  <a:lnTo>
                    <a:pt x="39" y="308"/>
                  </a:lnTo>
                  <a:lnTo>
                    <a:pt x="29" y="286"/>
                  </a:lnTo>
                  <a:lnTo>
                    <a:pt x="13" y="260"/>
                  </a:lnTo>
                  <a:lnTo>
                    <a:pt x="12" y="239"/>
                  </a:lnTo>
                  <a:lnTo>
                    <a:pt x="19" y="215"/>
                  </a:lnTo>
                  <a:lnTo>
                    <a:pt x="36" y="190"/>
                  </a:lnTo>
                  <a:lnTo>
                    <a:pt x="46" y="164"/>
                  </a:lnTo>
                  <a:lnTo>
                    <a:pt x="33" y="140"/>
                  </a:lnTo>
                  <a:lnTo>
                    <a:pt x="13" y="118"/>
                  </a:lnTo>
                  <a:lnTo>
                    <a:pt x="5" y="94"/>
                  </a:lnTo>
                  <a:lnTo>
                    <a:pt x="3" y="73"/>
                  </a:lnTo>
                  <a:lnTo>
                    <a:pt x="2" y="49"/>
                  </a:lnTo>
                  <a:lnTo>
                    <a:pt x="2" y="23"/>
                  </a:lnTo>
                  <a:lnTo>
                    <a:pt x="0" y="0"/>
                  </a:lnTo>
                  <a:lnTo>
                    <a:pt x="842" y="0"/>
                  </a:lnTo>
                  <a:lnTo>
                    <a:pt x="834" y="18"/>
                  </a:lnTo>
                  <a:lnTo>
                    <a:pt x="834" y="43"/>
                  </a:lnTo>
                  <a:lnTo>
                    <a:pt x="834" y="66"/>
                  </a:lnTo>
                  <a:lnTo>
                    <a:pt x="832" y="90"/>
                  </a:lnTo>
                  <a:lnTo>
                    <a:pt x="824" y="116"/>
                  </a:lnTo>
                  <a:lnTo>
                    <a:pt x="803" y="140"/>
                  </a:lnTo>
                  <a:lnTo>
                    <a:pt x="794" y="154"/>
                  </a:lnTo>
                  <a:lnTo>
                    <a:pt x="792" y="168"/>
                  </a:lnTo>
                  <a:lnTo>
                    <a:pt x="798" y="189"/>
                  </a:lnTo>
                  <a:lnTo>
                    <a:pt x="810" y="211"/>
                  </a:lnTo>
                  <a:lnTo>
                    <a:pt x="824" y="235"/>
                  </a:lnTo>
                  <a:lnTo>
                    <a:pt x="826" y="247"/>
                  </a:lnTo>
                  <a:lnTo>
                    <a:pt x="824" y="258"/>
                  </a:lnTo>
                  <a:lnTo>
                    <a:pt x="810" y="282"/>
                  </a:lnTo>
                  <a:lnTo>
                    <a:pt x="800" y="302"/>
                  </a:lnTo>
                  <a:lnTo>
                    <a:pt x="794" y="314"/>
                  </a:lnTo>
                  <a:lnTo>
                    <a:pt x="796" y="342"/>
                  </a:lnTo>
                  <a:lnTo>
                    <a:pt x="803" y="354"/>
                  </a:lnTo>
                  <a:lnTo>
                    <a:pt x="820" y="378"/>
                  </a:lnTo>
                  <a:lnTo>
                    <a:pt x="822" y="393"/>
                  </a:lnTo>
                  <a:lnTo>
                    <a:pt x="818" y="409"/>
                  </a:lnTo>
                  <a:lnTo>
                    <a:pt x="804" y="428"/>
                  </a:lnTo>
                  <a:lnTo>
                    <a:pt x="788" y="446"/>
                  </a:lnTo>
                  <a:lnTo>
                    <a:pt x="782" y="458"/>
                  </a:lnTo>
                  <a:lnTo>
                    <a:pt x="781" y="471"/>
                  </a:lnTo>
                  <a:lnTo>
                    <a:pt x="786" y="482"/>
                  </a:lnTo>
                  <a:lnTo>
                    <a:pt x="794" y="496"/>
                  </a:lnTo>
                  <a:lnTo>
                    <a:pt x="818" y="516"/>
                  </a:lnTo>
                  <a:lnTo>
                    <a:pt x="822" y="524"/>
                  </a:lnTo>
                  <a:lnTo>
                    <a:pt x="823" y="539"/>
                  </a:lnTo>
                  <a:lnTo>
                    <a:pt x="810" y="563"/>
                  </a:lnTo>
                  <a:lnTo>
                    <a:pt x="792" y="585"/>
                  </a:lnTo>
                  <a:lnTo>
                    <a:pt x="784" y="609"/>
                  </a:lnTo>
                  <a:lnTo>
                    <a:pt x="785" y="632"/>
                  </a:lnTo>
                  <a:lnTo>
                    <a:pt x="796" y="656"/>
                  </a:lnTo>
                  <a:lnTo>
                    <a:pt x="812" y="680"/>
                  </a:lnTo>
                  <a:lnTo>
                    <a:pt x="816" y="689"/>
                  </a:lnTo>
                  <a:lnTo>
                    <a:pt x="820" y="703"/>
                  </a:lnTo>
                  <a:lnTo>
                    <a:pt x="818" y="715"/>
                  </a:lnTo>
                  <a:lnTo>
                    <a:pt x="810" y="726"/>
                  </a:lnTo>
                  <a:lnTo>
                    <a:pt x="788" y="749"/>
                  </a:lnTo>
                  <a:lnTo>
                    <a:pt x="778" y="774"/>
                  </a:lnTo>
                  <a:lnTo>
                    <a:pt x="772" y="796"/>
                  </a:lnTo>
                  <a:lnTo>
                    <a:pt x="764" y="820"/>
                  </a:lnTo>
                  <a:lnTo>
                    <a:pt x="754" y="835"/>
                  </a:lnTo>
                  <a:lnTo>
                    <a:pt x="744" y="842"/>
                  </a:lnTo>
                  <a:lnTo>
                    <a:pt x="721" y="857"/>
                  </a:lnTo>
                  <a:lnTo>
                    <a:pt x="670" y="861"/>
                  </a:lnTo>
                  <a:lnTo>
                    <a:pt x="620" y="931"/>
                  </a:lnTo>
                  <a:lnTo>
                    <a:pt x="522" y="941"/>
                  </a:lnTo>
                  <a:lnTo>
                    <a:pt x="418" y="941"/>
                  </a:lnTo>
                  <a:lnTo>
                    <a:pt x="335" y="941"/>
                  </a:lnTo>
                  <a:lnTo>
                    <a:pt x="223" y="930"/>
                  </a:lnTo>
                  <a:lnTo>
                    <a:pt x="223" y="930"/>
                  </a:lnTo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40320" y="6348240"/>
              <a:ext cx="1278000" cy="19080"/>
            </a:xfrm>
            <a:custGeom>
              <a:avLst/>
              <a:gdLst/>
              <a:ahLst/>
              <a:rect l="l" t="t" r="r" b="b"/>
              <a:pathLst>
                <a:path w="805" h="12">
                  <a:moveTo>
                    <a:pt x="802" y="0"/>
                  </a:moveTo>
                  <a:lnTo>
                    <a:pt x="804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40320" y="6357960"/>
              <a:ext cx="117360" cy="21888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63" y="2"/>
                  </a:moveTo>
                  <a:lnTo>
                    <a:pt x="63" y="4"/>
                  </a:lnTo>
                  <a:lnTo>
                    <a:pt x="64" y="6"/>
                  </a:lnTo>
                  <a:lnTo>
                    <a:pt x="63" y="9"/>
                  </a:lnTo>
                  <a:lnTo>
                    <a:pt x="63" y="11"/>
                  </a:lnTo>
                  <a:lnTo>
                    <a:pt x="61" y="16"/>
                  </a:lnTo>
                  <a:lnTo>
                    <a:pt x="60" y="20"/>
                  </a:lnTo>
                  <a:lnTo>
                    <a:pt x="58" y="24"/>
                  </a:lnTo>
                  <a:lnTo>
                    <a:pt x="58" y="28"/>
                  </a:lnTo>
                  <a:lnTo>
                    <a:pt x="56" y="33"/>
                  </a:lnTo>
                  <a:lnTo>
                    <a:pt x="54" y="37"/>
                  </a:lnTo>
                  <a:lnTo>
                    <a:pt x="54" y="42"/>
                  </a:lnTo>
                  <a:lnTo>
                    <a:pt x="54" y="46"/>
                  </a:lnTo>
                  <a:lnTo>
                    <a:pt x="54" y="50"/>
                  </a:lnTo>
                  <a:lnTo>
                    <a:pt x="54" y="53"/>
                  </a:lnTo>
                  <a:lnTo>
                    <a:pt x="56" y="56"/>
                  </a:lnTo>
                  <a:lnTo>
                    <a:pt x="60" y="58"/>
                  </a:lnTo>
                  <a:lnTo>
                    <a:pt x="60" y="60"/>
                  </a:lnTo>
                  <a:lnTo>
                    <a:pt x="61" y="62"/>
                  </a:lnTo>
                  <a:lnTo>
                    <a:pt x="60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69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1" y="73"/>
                  </a:lnTo>
                  <a:lnTo>
                    <a:pt x="49" y="75"/>
                  </a:lnTo>
                  <a:lnTo>
                    <a:pt x="47" y="77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3" y="80"/>
                  </a:lnTo>
                  <a:lnTo>
                    <a:pt x="43" y="82"/>
                  </a:lnTo>
                  <a:lnTo>
                    <a:pt x="43" y="83"/>
                  </a:lnTo>
                  <a:lnTo>
                    <a:pt x="43" y="85"/>
                  </a:lnTo>
                  <a:lnTo>
                    <a:pt x="44" y="85"/>
                  </a:lnTo>
                  <a:lnTo>
                    <a:pt x="46" y="88"/>
                  </a:lnTo>
                  <a:lnTo>
                    <a:pt x="48" y="89"/>
                  </a:lnTo>
                  <a:lnTo>
                    <a:pt x="50" y="93"/>
                  </a:lnTo>
                  <a:lnTo>
                    <a:pt x="54" y="97"/>
                  </a:lnTo>
                  <a:lnTo>
                    <a:pt x="57" y="100"/>
                  </a:lnTo>
                  <a:lnTo>
                    <a:pt x="61" y="103"/>
                  </a:lnTo>
                  <a:lnTo>
                    <a:pt x="63" y="107"/>
                  </a:lnTo>
                  <a:lnTo>
                    <a:pt x="66" y="111"/>
                  </a:lnTo>
                  <a:lnTo>
                    <a:pt x="68" y="115"/>
                  </a:lnTo>
                  <a:lnTo>
                    <a:pt x="71" y="118"/>
                  </a:lnTo>
                  <a:lnTo>
                    <a:pt x="71" y="122"/>
                  </a:lnTo>
                  <a:lnTo>
                    <a:pt x="73" y="125"/>
                  </a:lnTo>
                  <a:lnTo>
                    <a:pt x="73" y="127"/>
                  </a:lnTo>
                  <a:lnTo>
                    <a:pt x="73" y="128"/>
                  </a:lnTo>
                  <a:lnTo>
                    <a:pt x="70" y="130"/>
                  </a:lnTo>
                  <a:lnTo>
                    <a:pt x="68" y="131"/>
                  </a:lnTo>
                  <a:lnTo>
                    <a:pt x="66" y="133"/>
                  </a:lnTo>
                  <a:lnTo>
                    <a:pt x="64" y="133"/>
                  </a:lnTo>
                  <a:lnTo>
                    <a:pt x="61" y="135"/>
                  </a:lnTo>
                  <a:lnTo>
                    <a:pt x="59" y="135"/>
                  </a:lnTo>
                  <a:lnTo>
                    <a:pt x="56" y="136"/>
                  </a:lnTo>
                  <a:lnTo>
                    <a:pt x="54" y="136"/>
                  </a:lnTo>
                  <a:lnTo>
                    <a:pt x="50" y="137"/>
                  </a:lnTo>
                  <a:lnTo>
                    <a:pt x="48" y="137"/>
                  </a:lnTo>
                  <a:lnTo>
                    <a:pt x="46" y="137"/>
                  </a:lnTo>
                  <a:lnTo>
                    <a:pt x="44" y="137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9" y="137"/>
                  </a:lnTo>
                  <a:lnTo>
                    <a:pt x="39" y="135"/>
                  </a:lnTo>
                  <a:lnTo>
                    <a:pt x="37" y="135"/>
                  </a:lnTo>
                  <a:lnTo>
                    <a:pt x="37" y="135"/>
                  </a:lnTo>
                  <a:lnTo>
                    <a:pt x="36" y="135"/>
                  </a:lnTo>
                  <a:lnTo>
                    <a:pt x="36" y="134"/>
                  </a:lnTo>
                  <a:lnTo>
                    <a:pt x="34" y="134"/>
                  </a:lnTo>
                  <a:lnTo>
                    <a:pt x="34" y="132"/>
                  </a:lnTo>
                  <a:lnTo>
                    <a:pt x="33" y="131"/>
                  </a:lnTo>
                  <a:lnTo>
                    <a:pt x="33" y="129"/>
                  </a:lnTo>
                  <a:lnTo>
                    <a:pt x="31" y="129"/>
                  </a:lnTo>
                  <a:lnTo>
                    <a:pt x="31" y="128"/>
                  </a:lnTo>
                  <a:lnTo>
                    <a:pt x="29" y="126"/>
                  </a:lnTo>
                  <a:lnTo>
                    <a:pt x="29" y="124"/>
                  </a:lnTo>
                  <a:lnTo>
                    <a:pt x="27" y="123"/>
                  </a:lnTo>
                  <a:lnTo>
                    <a:pt x="27" y="121"/>
                  </a:lnTo>
                  <a:lnTo>
                    <a:pt x="26" y="119"/>
                  </a:lnTo>
                  <a:lnTo>
                    <a:pt x="26" y="117"/>
                  </a:lnTo>
                  <a:lnTo>
                    <a:pt x="24" y="117"/>
                  </a:lnTo>
                  <a:lnTo>
                    <a:pt x="24" y="116"/>
                  </a:lnTo>
                  <a:lnTo>
                    <a:pt x="22" y="116"/>
                  </a:lnTo>
                  <a:lnTo>
                    <a:pt x="22" y="114"/>
                  </a:lnTo>
                  <a:lnTo>
                    <a:pt x="20" y="114"/>
                  </a:lnTo>
                  <a:lnTo>
                    <a:pt x="20" y="112"/>
                  </a:lnTo>
                  <a:lnTo>
                    <a:pt x="18" y="111"/>
                  </a:lnTo>
                  <a:lnTo>
                    <a:pt x="18" y="109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2" y="103"/>
                  </a:lnTo>
                  <a:lnTo>
                    <a:pt x="12" y="101"/>
                  </a:lnTo>
                  <a:lnTo>
                    <a:pt x="11" y="99"/>
                  </a:lnTo>
                  <a:lnTo>
                    <a:pt x="11" y="98"/>
                  </a:lnTo>
                  <a:lnTo>
                    <a:pt x="9" y="96"/>
                  </a:lnTo>
                  <a:lnTo>
                    <a:pt x="8" y="94"/>
                  </a:lnTo>
                  <a:lnTo>
                    <a:pt x="6" y="92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4" y="87"/>
                  </a:lnTo>
                  <a:lnTo>
                    <a:pt x="3" y="85"/>
                  </a:lnTo>
                  <a:lnTo>
                    <a:pt x="3" y="83"/>
                  </a:lnTo>
                  <a:lnTo>
                    <a:pt x="2" y="83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63" y="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56040" y="6373800"/>
              <a:ext cx="662040" cy="201600"/>
            </a:xfrm>
            <a:custGeom>
              <a:avLst/>
              <a:gdLst/>
              <a:ahLst/>
              <a:rect l="l" t="t" r="r" b="b"/>
              <a:pathLst>
                <a:path w="417" h="127">
                  <a:moveTo>
                    <a:pt x="2" y="20"/>
                  </a:moveTo>
                  <a:lnTo>
                    <a:pt x="2" y="22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1" y="29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19" y="37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3" y="45"/>
                  </a:lnTo>
                  <a:lnTo>
                    <a:pt x="25" y="45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0" y="60"/>
                  </a:lnTo>
                  <a:lnTo>
                    <a:pt x="19" y="62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5" y="71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11" y="80"/>
                  </a:lnTo>
                  <a:lnTo>
                    <a:pt x="9" y="84"/>
                  </a:lnTo>
                  <a:lnTo>
                    <a:pt x="9" y="86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11" y="95"/>
                  </a:lnTo>
                  <a:lnTo>
                    <a:pt x="11" y="97"/>
                  </a:lnTo>
                  <a:lnTo>
                    <a:pt x="13" y="98"/>
                  </a:lnTo>
                  <a:lnTo>
                    <a:pt x="15" y="102"/>
                  </a:lnTo>
                  <a:lnTo>
                    <a:pt x="17" y="104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2" y="111"/>
                  </a:lnTo>
                  <a:lnTo>
                    <a:pt x="24" y="113"/>
                  </a:lnTo>
                  <a:lnTo>
                    <a:pt x="26" y="115"/>
                  </a:lnTo>
                  <a:lnTo>
                    <a:pt x="28" y="117"/>
                  </a:lnTo>
                  <a:lnTo>
                    <a:pt x="30" y="118"/>
                  </a:lnTo>
                  <a:lnTo>
                    <a:pt x="32" y="119"/>
                  </a:lnTo>
                  <a:lnTo>
                    <a:pt x="34" y="121"/>
                  </a:lnTo>
                  <a:lnTo>
                    <a:pt x="37" y="121"/>
                  </a:lnTo>
                  <a:lnTo>
                    <a:pt x="41" y="123"/>
                  </a:lnTo>
                  <a:lnTo>
                    <a:pt x="47" y="125"/>
                  </a:lnTo>
                  <a:lnTo>
                    <a:pt x="53" y="126"/>
                  </a:lnTo>
                  <a:lnTo>
                    <a:pt x="60" y="126"/>
                  </a:lnTo>
                  <a:lnTo>
                    <a:pt x="67" y="126"/>
                  </a:lnTo>
                  <a:lnTo>
                    <a:pt x="75" y="126"/>
                  </a:lnTo>
                  <a:lnTo>
                    <a:pt x="82" y="126"/>
                  </a:lnTo>
                  <a:lnTo>
                    <a:pt x="91" y="124"/>
                  </a:lnTo>
                  <a:lnTo>
                    <a:pt x="98" y="124"/>
                  </a:lnTo>
                  <a:lnTo>
                    <a:pt x="106" y="122"/>
                  </a:lnTo>
                  <a:lnTo>
                    <a:pt x="113" y="122"/>
                  </a:lnTo>
                  <a:lnTo>
                    <a:pt x="121" y="120"/>
                  </a:lnTo>
                  <a:lnTo>
                    <a:pt x="127" y="120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7" y="117"/>
                  </a:lnTo>
                  <a:lnTo>
                    <a:pt x="154" y="118"/>
                  </a:lnTo>
                  <a:lnTo>
                    <a:pt x="162" y="118"/>
                  </a:lnTo>
                  <a:lnTo>
                    <a:pt x="171" y="118"/>
                  </a:lnTo>
                  <a:lnTo>
                    <a:pt x="180" y="118"/>
                  </a:lnTo>
                  <a:lnTo>
                    <a:pt x="189" y="118"/>
                  </a:lnTo>
                  <a:lnTo>
                    <a:pt x="200" y="117"/>
                  </a:lnTo>
                  <a:lnTo>
                    <a:pt x="210" y="117"/>
                  </a:lnTo>
                  <a:lnTo>
                    <a:pt x="221" y="115"/>
                  </a:lnTo>
                  <a:lnTo>
                    <a:pt x="231" y="115"/>
                  </a:lnTo>
                  <a:lnTo>
                    <a:pt x="241" y="114"/>
                  </a:lnTo>
                  <a:lnTo>
                    <a:pt x="251" y="114"/>
                  </a:lnTo>
                  <a:lnTo>
                    <a:pt x="262" y="112"/>
                  </a:lnTo>
                  <a:lnTo>
                    <a:pt x="271" y="112"/>
                  </a:lnTo>
                  <a:lnTo>
                    <a:pt x="280" y="110"/>
                  </a:lnTo>
                  <a:lnTo>
                    <a:pt x="287" y="109"/>
                  </a:lnTo>
                  <a:lnTo>
                    <a:pt x="296" y="107"/>
                  </a:lnTo>
                  <a:lnTo>
                    <a:pt x="300" y="108"/>
                  </a:lnTo>
                  <a:lnTo>
                    <a:pt x="305" y="108"/>
                  </a:lnTo>
                  <a:lnTo>
                    <a:pt x="311" y="108"/>
                  </a:lnTo>
                  <a:lnTo>
                    <a:pt x="317" y="108"/>
                  </a:lnTo>
                  <a:lnTo>
                    <a:pt x="323" y="108"/>
                  </a:lnTo>
                  <a:lnTo>
                    <a:pt x="330" y="108"/>
                  </a:lnTo>
                  <a:lnTo>
                    <a:pt x="337" y="108"/>
                  </a:lnTo>
                  <a:lnTo>
                    <a:pt x="344" y="108"/>
                  </a:lnTo>
                  <a:lnTo>
                    <a:pt x="350" y="108"/>
                  </a:lnTo>
                  <a:lnTo>
                    <a:pt x="357" y="108"/>
                  </a:lnTo>
                  <a:lnTo>
                    <a:pt x="362" y="108"/>
                  </a:lnTo>
                  <a:lnTo>
                    <a:pt x="369" y="106"/>
                  </a:lnTo>
                  <a:lnTo>
                    <a:pt x="372" y="105"/>
                  </a:lnTo>
                  <a:lnTo>
                    <a:pt x="377" y="103"/>
                  </a:lnTo>
                  <a:lnTo>
                    <a:pt x="379" y="99"/>
                  </a:lnTo>
                  <a:lnTo>
                    <a:pt x="382" y="95"/>
                  </a:lnTo>
                  <a:lnTo>
                    <a:pt x="382" y="94"/>
                  </a:lnTo>
                  <a:lnTo>
                    <a:pt x="382" y="92"/>
                  </a:lnTo>
                  <a:lnTo>
                    <a:pt x="381" y="90"/>
                  </a:lnTo>
                  <a:lnTo>
                    <a:pt x="381" y="88"/>
                  </a:lnTo>
                  <a:lnTo>
                    <a:pt x="379" y="87"/>
                  </a:lnTo>
                  <a:lnTo>
                    <a:pt x="377" y="85"/>
                  </a:lnTo>
                  <a:lnTo>
                    <a:pt x="375" y="83"/>
                  </a:lnTo>
                  <a:lnTo>
                    <a:pt x="374" y="79"/>
                  </a:lnTo>
                  <a:lnTo>
                    <a:pt x="371" y="77"/>
                  </a:lnTo>
                  <a:lnTo>
                    <a:pt x="369" y="75"/>
                  </a:lnTo>
                  <a:lnTo>
                    <a:pt x="367" y="73"/>
                  </a:lnTo>
                  <a:lnTo>
                    <a:pt x="366" y="70"/>
                  </a:lnTo>
                  <a:lnTo>
                    <a:pt x="364" y="68"/>
                  </a:lnTo>
                  <a:lnTo>
                    <a:pt x="363" y="66"/>
                  </a:lnTo>
                  <a:lnTo>
                    <a:pt x="363" y="64"/>
                  </a:lnTo>
                  <a:lnTo>
                    <a:pt x="364" y="61"/>
                  </a:lnTo>
                  <a:lnTo>
                    <a:pt x="364" y="58"/>
                  </a:lnTo>
                  <a:lnTo>
                    <a:pt x="366" y="55"/>
                  </a:lnTo>
                  <a:lnTo>
                    <a:pt x="369" y="51"/>
                  </a:lnTo>
                  <a:lnTo>
                    <a:pt x="373" y="45"/>
                  </a:lnTo>
                  <a:lnTo>
                    <a:pt x="377" y="41"/>
                  </a:lnTo>
                  <a:lnTo>
                    <a:pt x="381" y="36"/>
                  </a:lnTo>
                  <a:lnTo>
                    <a:pt x="387" y="30"/>
                  </a:lnTo>
                  <a:lnTo>
                    <a:pt x="393" y="25"/>
                  </a:lnTo>
                  <a:lnTo>
                    <a:pt x="397" y="21"/>
                  </a:lnTo>
                  <a:lnTo>
                    <a:pt x="402" y="16"/>
                  </a:lnTo>
                  <a:lnTo>
                    <a:pt x="406" y="12"/>
                  </a:lnTo>
                  <a:lnTo>
                    <a:pt x="410" y="8"/>
                  </a:lnTo>
                  <a:lnTo>
                    <a:pt x="412" y="6"/>
                  </a:lnTo>
                  <a:lnTo>
                    <a:pt x="415" y="3"/>
                  </a:lnTo>
                  <a:lnTo>
                    <a:pt x="415" y="1"/>
                  </a:lnTo>
                  <a:lnTo>
                    <a:pt x="416" y="0"/>
                  </a:lnTo>
                  <a:lnTo>
                    <a:pt x="395" y="2"/>
                  </a:lnTo>
                  <a:lnTo>
                    <a:pt x="371" y="2"/>
                  </a:lnTo>
                  <a:lnTo>
                    <a:pt x="343" y="4"/>
                  </a:lnTo>
                  <a:lnTo>
                    <a:pt x="312" y="4"/>
                  </a:lnTo>
                  <a:lnTo>
                    <a:pt x="277" y="6"/>
                  </a:lnTo>
                  <a:lnTo>
                    <a:pt x="243" y="8"/>
                  </a:lnTo>
                  <a:lnTo>
                    <a:pt x="207" y="10"/>
                  </a:lnTo>
                  <a:lnTo>
                    <a:pt x="173" y="10"/>
                  </a:lnTo>
                  <a:lnTo>
                    <a:pt x="139" y="12"/>
                  </a:lnTo>
                  <a:lnTo>
                    <a:pt x="106" y="14"/>
                  </a:lnTo>
                  <a:lnTo>
                    <a:pt x="77" y="16"/>
                  </a:lnTo>
                  <a:lnTo>
                    <a:pt x="51" y="17"/>
                  </a:lnTo>
                  <a:lnTo>
                    <a:pt x="29" y="19"/>
                  </a:lnTo>
                  <a:lnTo>
                    <a:pt x="13" y="20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45080" y="6534000"/>
              <a:ext cx="950760" cy="203400"/>
            </a:xfrm>
            <a:custGeom>
              <a:avLst/>
              <a:gdLst/>
              <a:ahLst/>
              <a:rect l="l" t="t" r="r" b="b"/>
              <a:pathLst>
                <a:path w="599" h="128">
                  <a:moveTo>
                    <a:pt x="145" y="54"/>
                  </a:moveTo>
                  <a:lnTo>
                    <a:pt x="143" y="55"/>
                  </a:lnTo>
                  <a:lnTo>
                    <a:pt x="139" y="56"/>
                  </a:lnTo>
                  <a:lnTo>
                    <a:pt x="133" y="58"/>
                  </a:lnTo>
                  <a:lnTo>
                    <a:pt x="126" y="58"/>
                  </a:lnTo>
                  <a:lnTo>
                    <a:pt x="116" y="62"/>
                  </a:lnTo>
                  <a:lnTo>
                    <a:pt x="108" y="64"/>
                  </a:lnTo>
                  <a:lnTo>
                    <a:pt x="97" y="65"/>
                  </a:lnTo>
                  <a:lnTo>
                    <a:pt x="88" y="67"/>
                  </a:lnTo>
                  <a:lnTo>
                    <a:pt x="76" y="70"/>
                  </a:lnTo>
                  <a:lnTo>
                    <a:pt x="66" y="72"/>
                  </a:lnTo>
                  <a:lnTo>
                    <a:pt x="57" y="74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6" y="79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5" y="82"/>
                  </a:lnTo>
                  <a:lnTo>
                    <a:pt x="24" y="84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5" y="88"/>
                  </a:lnTo>
                  <a:lnTo>
                    <a:pt x="54" y="88"/>
                  </a:lnTo>
                  <a:lnTo>
                    <a:pt x="62" y="90"/>
                  </a:lnTo>
                  <a:lnTo>
                    <a:pt x="70" y="90"/>
                  </a:lnTo>
                  <a:lnTo>
                    <a:pt x="77" y="90"/>
                  </a:lnTo>
                  <a:lnTo>
                    <a:pt x="85" y="90"/>
                  </a:lnTo>
                  <a:lnTo>
                    <a:pt x="91" y="92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02" y="92"/>
                  </a:lnTo>
                  <a:lnTo>
                    <a:pt x="100" y="94"/>
                  </a:lnTo>
                  <a:lnTo>
                    <a:pt x="96" y="94"/>
                  </a:lnTo>
                  <a:lnTo>
                    <a:pt x="90" y="96"/>
                  </a:lnTo>
                  <a:lnTo>
                    <a:pt x="84" y="96"/>
                  </a:lnTo>
                  <a:lnTo>
                    <a:pt x="75" y="99"/>
                  </a:lnTo>
                  <a:lnTo>
                    <a:pt x="66" y="101"/>
                  </a:lnTo>
                  <a:lnTo>
                    <a:pt x="57" y="103"/>
                  </a:lnTo>
                  <a:lnTo>
                    <a:pt x="48" y="105"/>
                  </a:lnTo>
                  <a:lnTo>
                    <a:pt x="38" y="108"/>
                  </a:lnTo>
                  <a:lnTo>
                    <a:pt x="28" y="110"/>
                  </a:lnTo>
                  <a:lnTo>
                    <a:pt x="20" y="113"/>
                  </a:lnTo>
                  <a:lnTo>
                    <a:pt x="13" y="115"/>
                  </a:lnTo>
                  <a:lnTo>
                    <a:pt x="7" y="118"/>
                  </a:lnTo>
                  <a:lnTo>
                    <a:pt x="2" y="120"/>
                  </a:lnTo>
                  <a:lnTo>
                    <a:pt x="0" y="122"/>
                  </a:lnTo>
                  <a:lnTo>
                    <a:pt x="1" y="123"/>
                  </a:lnTo>
                  <a:lnTo>
                    <a:pt x="2" y="125"/>
                  </a:lnTo>
                  <a:lnTo>
                    <a:pt x="4" y="126"/>
                  </a:lnTo>
                  <a:lnTo>
                    <a:pt x="7" y="127"/>
                  </a:lnTo>
                  <a:lnTo>
                    <a:pt x="11" y="127"/>
                  </a:lnTo>
                  <a:lnTo>
                    <a:pt x="15" y="127"/>
                  </a:lnTo>
                  <a:lnTo>
                    <a:pt x="20" y="127"/>
                  </a:lnTo>
                  <a:lnTo>
                    <a:pt x="26" y="127"/>
                  </a:lnTo>
                  <a:lnTo>
                    <a:pt x="32" y="126"/>
                  </a:lnTo>
                  <a:lnTo>
                    <a:pt x="36" y="126"/>
                  </a:lnTo>
                  <a:lnTo>
                    <a:pt x="42" y="126"/>
                  </a:lnTo>
                  <a:lnTo>
                    <a:pt x="48" y="126"/>
                  </a:lnTo>
                  <a:lnTo>
                    <a:pt x="54" y="125"/>
                  </a:lnTo>
                  <a:lnTo>
                    <a:pt x="58" y="125"/>
                  </a:lnTo>
                  <a:lnTo>
                    <a:pt x="63" y="125"/>
                  </a:lnTo>
                  <a:lnTo>
                    <a:pt x="67" y="125"/>
                  </a:lnTo>
                  <a:lnTo>
                    <a:pt x="72" y="123"/>
                  </a:lnTo>
                  <a:lnTo>
                    <a:pt x="76" y="125"/>
                  </a:lnTo>
                  <a:lnTo>
                    <a:pt x="82" y="125"/>
                  </a:lnTo>
                  <a:lnTo>
                    <a:pt x="89" y="125"/>
                  </a:lnTo>
                  <a:lnTo>
                    <a:pt x="98" y="123"/>
                  </a:lnTo>
                  <a:lnTo>
                    <a:pt x="106" y="123"/>
                  </a:lnTo>
                  <a:lnTo>
                    <a:pt x="115" y="121"/>
                  </a:lnTo>
                  <a:lnTo>
                    <a:pt x="124" y="119"/>
                  </a:lnTo>
                  <a:lnTo>
                    <a:pt x="135" y="117"/>
                  </a:lnTo>
                  <a:lnTo>
                    <a:pt x="144" y="116"/>
                  </a:lnTo>
                  <a:lnTo>
                    <a:pt x="153" y="115"/>
                  </a:lnTo>
                  <a:lnTo>
                    <a:pt x="161" y="113"/>
                  </a:lnTo>
                  <a:lnTo>
                    <a:pt x="170" y="112"/>
                  </a:lnTo>
                  <a:lnTo>
                    <a:pt x="176" y="112"/>
                  </a:lnTo>
                  <a:lnTo>
                    <a:pt x="182" y="110"/>
                  </a:lnTo>
                  <a:lnTo>
                    <a:pt x="187" y="110"/>
                  </a:lnTo>
                  <a:lnTo>
                    <a:pt x="190" y="108"/>
                  </a:lnTo>
                  <a:lnTo>
                    <a:pt x="197" y="109"/>
                  </a:lnTo>
                  <a:lnTo>
                    <a:pt x="204" y="109"/>
                  </a:lnTo>
                  <a:lnTo>
                    <a:pt x="212" y="109"/>
                  </a:lnTo>
                  <a:lnTo>
                    <a:pt x="222" y="109"/>
                  </a:lnTo>
                  <a:lnTo>
                    <a:pt x="231" y="109"/>
                  </a:lnTo>
                  <a:lnTo>
                    <a:pt x="241" y="109"/>
                  </a:lnTo>
                  <a:lnTo>
                    <a:pt x="250" y="109"/>
                  </a:lnTo>
                  <a:lnTo>
                    <a:pt x="262" y="107"/>
                  </a:lnTo>
                  <a:lnTo>
                    <a:pt x="271" y="107"/>
                  </a:lnTo>
                  <a:lnTo>
                    <a:pt x="281" y="106"/>
                  </a:lnTo>
                  <a:lnTo>
                    <a:pt x="290" y="106"/>
                  </a:lnTo>
                  <a:lnTo>
                    <a:pt x="301" y="105"/>
                  </a:lnTo>
                  <a:lnTo>
                    <a:pt x="309" y="105"/>
                  </a:lnTo>
                  <a:lnTo>
                    <a:pt x="319" y="104"/>
                  </a:lnTo>
                  <a:lnTo>
                    <a:pt x="326" y="104"/>
                  </a:lnTo>
                  <a:lnTo>
                    <a:pt x="334" y="103"/>
                  </a:lnTo>
                  <a:lnTo>
                    <a:pt x="339" y="103"/>
                  </a:lnTo>
                  <a:lnTo>
                    <a:pt x="345" y="103"/>
                  </a:lnTo>
                  <a:lnTo>
                    <a:pt x="351" y="103"/>
                  </a:lnTo>
                  <a:lnTo>
                    <a:pt x="358" y="102"/>
                  </a:lnTo>
                  <a:lnTo>
                    <a:pt x="366" y="102"/>
                  </a:lnTo>
                  <a:lnTo>
                    <a:pt x="373" y="101"/>
                  </a:lnTo>
                  <a:lnTo>
                    <a:pt x="380" y="101"/>
                  </a:lnTo>
                  <a:lnTo>
                    <a:pt x="389" y="99"/>
                  </a:lnTo>
                  <a:lnTo>
                    <a:pt x="396" y="99"/>
                  </a:lnTo>
                  <a:lnTo>
                    <a:pt x="404" y="98"/>
                  </a:lnTo>
                  <a:lnTo>
                    <a:pt x="411" y="98"/>
                  </a:lnTo>
                  <a:lnTo>
                    <a:pt x="418" y="96"/>
                  </a:lnTo>
                  <a:lnTo>
                    <a:pt x="424" y="96"/>
                  </a:lnTo>
                  <a:lnTo>
                    <a:pt x="431" y="95"/>
                  </a:lnTo>
                  <a:lnTo>
                    <a:pt x="436" y="95"/>
                  </a:lnTo>
                  <a:lnTo>
                    <a:pt x="442" y="94"/>
                  </a:lnTo>
                  <a:lnTo>
                    <a:pt x="449" y="94"/>
                  </a:lnTo>
                  <a:lnTo>
                    <a:pt x="458" y="94"/>
                  </a:lnTo>
                  <a:lnTo>
                    <a:pt x="468" y="94"/>
                  </a:lnTo>
                  <a:lnTo>
                    <a:pt x="480" y="92"/>
                  </a:lnTo>
                  <a:lnTo>
                    <a:pt x="491" y="92"/>
                  </a:lnTo>
                  <a:lnTo>
                    <a:pt x="503" y="91"/>
                  </a:lnTo>
                  <a:lnTo>
                    <a:pt x="514" y="90"/>
                  </a:lnTo>
                  <a:lnTo>
                    <a:pt x="527" y="88"/>
                  </a:lnTo>
                  <a:lnTo>
                    <a:pt x="538" y="87"/>
                  </a:lnTo>
                  <a:lnTo>
                    <a:pt x="550" y="85"/>
                  </a:lnTo>
                  <a:lnTo>
                    <a:pt x="560" y="84"/>
                  </a:lnTo>
                  <a:lnTo>
                    <a:pt x="570" y="80"/>
                  </a:lnTo>
                  <a:lnTo>
                    <a:pt x="578" y="76"/>
                  </a:lnTo>
                  <a:lnTo>
                    <a:pt x="586" y="73"/>
                  </a:lnTo>
                  <a:lnTo>
                    <a:pt x="592" y="68"/>
                  </a:lnTo>
                  <a:lnTo>
                    <a:pt x="598" y="62"/>
                  </a:lnTo>
                  <a:lnTo>
                    <a:pt x="596" y="62"/>
                  </a:lnTo>
                  <a:lnTo>
                    <a:pt x="596" y="61"/>
                  </a:lnTo>
                  <a:lnTo>
                    <a:pt x="595" y="61"/>
                  </a:lnTo>
                  <a:lnTo>
                    <a:pt x="595" y="59"/>
                  </a:lnTo>
                  <a:lnTo>
                    <a:pt x="593" y="58"/>
                  </a:lnTo>
                  <a:lnTo>
                    <a:pt x="592" y="56"/>
                  </a:lnTo>
                  <a:lnTo>
                    <a:pt x="591" y="55"/>
                  </a:lnTo>
                  <a:lnTo>
                    <a:pt x="591" y="53"/>
                  </a:lnTo>
                  <a:lnTo>
                    <a:pt x="589" y="51"/>
                  </a:lnTo>
                  <a:lnTo>
                    <a:pt x="589" y="49"/>
                  </a:lnTo>
                  <a:lnTo>
                    <a:pt x="588" y="47"/>
                  </a:lnTo>
                  <a:lnTo>
                    <a:pt x="588" y="45"/>
                  </a:lnTo>
                  <a:lnTo>
                    <a:pt x="587" y="44"/>
                  </a:lnTo>
                  <a:lnTo>
                    <a:pt x="587" y="42"/>
                  </a:lnTo>
                  <a:lnTo>
                    <a:pt x="587" y="40"/>
                  </a:lnTo>
                  <a:lnTo>
                    <a:pt x="588" y="37"/>
                  </a:lnTo>
                  <a:lnTo>
                    <a:pt x="586" y="36"/>
                  </a:lnTo>
                  <a:lnTo>
                    <a:pt x="586" y="34"/>
                  </a:lnTo>
                  <a:lnTo>
                    <a:pt x="586" y="32"/>
                  </a:lnTo>
                  <a:lnTo>
                    <a:pt x="586" y="28"/>
                  </a:lnTo>
                  <a:lnTo>
                    <a:pt x="586" y="27"/>
                  </a:lnTo>
                  <a:lnTo>
                    <a:pt x="586" y="23"/>
                  </a:lnTo>
                  <a:lnTo>
                    <a:pt x="586" y="20"/>
                  </a:lnTo>
                  <a:lnTo>
                    <a:pt x="588" y="16"/>
                  </a:lnTo>
                  <a:lnTo>
                    <a:pt x="588" y="14"/>
                  </a:lnTo>
                  <a:lnTo>
                    <a:pt x="588" y="11"/>
                  </a:lnTo>
                  <a:lnTo>
                    <a:pt x="588" y="9"/>
                  </a:lnTo>
                  <a:lnTo>
                    <a:pt x="590" y="6"/>
                  </a:lnTo>
                  <a:lnTo>
                    <a:pt x="590" y="4"/>
                  </a:lnTo>
                  <a:lnTo>
                    <a:pt x="591" y="2"/>
                  </a:lnTo>
                  <a:lnTo>
                    <a:pt x="591" y="2"/>
                  </a:lnTo>
                  <a:lnTo>
                    <a:pt x="592" y="0"/>
                  </a:lnTo>
                  <a:lnTo>
                    <a:pt x="582" y="4"/>
                  </a:lnTo>
                  <a:lnTo>
                    <a:pt x="573" y="6"/>
                  </a:lnTo>
                  <a:lnTo>
                    <a:pt x="564" y="8"/>
                  </a:lnTo>
                  <a:lnTo>
                    <a:pt x="554" y="10"/>
                  </a:lnTo>
                  <a:lnTo>
                    <a:pt x="544" y="14"/>
                  </a:lnTo>
                  <a:lnTo>
                    <a:pt x="534" y="16"/>
                  </a:lnTo>
                  <a:lnTo>
                    <a:pt x="525" y="20"/>
                  </a:lnTo>
                  <a:lnTo>
                    <a:pt x="516" y="22"/>
                  </a:lnTo>
                  <a:lnTo>
                    <a:pt x="506" y="25"/>
                  </a:lnTo>
                  <a:lnTo>
                    <a:pt x="496" y="27"/>
                  </a:lnTo>
                  <a:lnTo>
                    <a:pt x="487" y="29"/>
                  </a:lnTo>
                  <a:lnTo>
                    <a:pt x="479" y="31"/>
                  </a:lnTo>
                  <a:lnTo>
                    <a:pt x="471" y="33"/>
                  </a:lnTo>
                  <a:lnTo>
                    <a:pt x="463" y="34"/>
                  </a:lnTo>
                  <a:lnTo>
                    <a:pt x="456" y="34"/>
                  </a:lnTo>
                  <a:lnTo>
                    <a:pt x="451" y="34"/>
                  </a:lnTo>
                  <a:lnTo>
                    <a:pt x="441" y="35"/>
                  </a:lnTo>
                  <a:lnTo>
                    <a:pt x="430" y="35"/>
                  </a:lnTo>
                  <a:lnTo>
                    <a:pt x="416" y="37"/>
                  </a:lnTo>
                  <a:lnTo>
                    <a:pt x="404" y="37"/>
                  </a:lnTo>
                  <a:lnTo>
                    <a:pt x="387" y="38"/>
                  </a:lnTo>
                  <a:lnTo>
                    <a:pt x="372" y="39"/>
                  </a:lnTo>
                  <a:lnTo>
                    <a:pt x="356" y="41"/>
                  </a:lnTo>
                  <a:lnTo>
                    <a:pt x="339" y="41"/>
                  </a:lnTo>
                  <a:lnTo>
                    <a:pt x="322" y="43"/>
                  </a:lnTo>
                  <a:lnTo>
                    <a:pt x="306" y="44"/>
                  </a:lnTo>
                  <a:lnTo>
                    <a:pt x="289" y="46"/>
                  </a:lnTo>
                  <a:lnTo>
                    <a:pt x="274" y="46"/>
                  </a:lnTo>
                  <a:lnTo>
                    <a:pt x="259" y="48"/>
                  </a:lnTo>
                  <a:lnTo>
                    <a:pt x="247" y="48"/>
                  </a:lnTo>
                  <a:lnTo>
                    <a:pt x="236" y="49"/>
                  </a:lnTo>
                  <a:lnTo>
                    <a:pt x="228" y="49"/>
                  </a:lnTo>
                  <a:lnTo>
                    <a:pt x="222" y="51"/>
                  </a:lnTo>
                  <a:lnTo>
                    <a:pt x="219" y="51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1" y="54"/>
                  </a:lnTo>
                  <a:lnTo>
                    <a:pt x="210" y="54"/>
                  </a:lnTo>
                  <a:lnTo>
                    <a:pt x="208" y="56"/>
                  </a:lnTo>
                  <a:lnTo>
                    <a:pt x="206" y="56"/>
                  </a:lnTo>
                  <a:lnTo>
                    <a:pt x="203" y="58"/>
                  </a:lnTo>
                  <a:lnTo>
                    <a:pt x="201" y="58"/>
                  </a:lnTo>
                  <a:lnTo>
                    <a:pt x="199" y="59"/>
                  </a:lnTo>
                  <a:lnTo>
                    <a:pt x="197" y="59"/>
                  </a:lnTo>
                  <a:lnTo>
                    <a:pt x="193" y="60"/>
                  </a:lnTo>
                  <a:lnTo>
                    <a:pt x="191" y="60"/>
                  </a:lnTo>
                  <a:lnTo>
                    <a:pt x="188" y="60"/>
                  </a:lnTo>
                  <a:lnTo>
                    <a:pt x="184" y="59"/>
                  </a:lnTo>
                  <a:lnTo>
                    <a:pt x="181" y="59"/>
                  </a:lnTo>
                  <a:lnTo>
                    <a:pt x="180" y="59"/>
                  </a:lnTo>
                  <a:lnTo>
                    <a:pt x="176" y="59"/>
                  </a:lnTo>
                  <a:lnTo>
                    <a:pt x="174" y="58"/>
                  </a:lnTo>
                  <a:lnTo>
                    <a:pt x="170" y="58"/>
                  </a:lnTo>
                  <a:lnTo>
                    <a:pt x="168" y="56"/>
                  </a:lnTo>
                  <a:lnTo>
                    <a:pt x="164" y="56"/>
                  </a:lnTo>
                  <a:lnTo>
                    <a:pt x="162" y="55"/>
                  </a:lnTo>
                  <a:lnTo>
                    <a:pt x="158" y="55"/>
                  </a:lnTo>
                  <a:lnTo>
                    <a:pt x="156" y="54"/>
                  </a:lnTo>
                  <a:lnTo>
                    <a:pt x="153" y="54"/>
                  </a:lnTo>
                  <a:lnTo>
                    <a:pt x="151" y="53"/>
                  </a:lnTo>
                  <a:lnTo>
                    <a:pt x="148" y="53"/>
                  </a:lnTo>
                  <a:lnTo>
                    <a:pt x="146" y="53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5" y="54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30840" y="7431120"/>
              <a:ext cx="708120" cy="217440"/>
            </a:xfrm>
            <a:custGeom>
              <a:avLst/>
              <a:gdLst/>
              <a:ahLst/>
              <a:rect l="l" t="t" r="r" b="b"/>
              <a:pathLst>
                <a:path w="446" h="137">
                  <a:moveTo>
                    <a:pt x="1" y="9"/>
                  </a:moveTo>
                  <a:lnTo>
                    <a:pt x="2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8" y="2"/>
                  </a:lnTo>
                  <a:lnTo>
                    <a:pt x="76" y="3"/>
                  </a:lnTo>
                  <a:lnTo>
                    <a:pt x="85" y="5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5" y="11"/>
                  </a:lnTo>
                  <a:lnTo>
                    <a:pt x="126" y="13"/>
                  </a:lnTo>
                  <a:lnTo>
                    <a:pt x="137" y="15"/>
                  </a:lnTo>
                  <a:lnTo>
                    <a:pt x="147" y="18"/>
                  </a:lnTo>
                  <a:lnTo>
                    <a:pt x="158" y="20"/>
                  </a:lnTo>
                  <a:lnTo>
                    <a:pt x="168" y="22"/>
                  </a:lnTo>
                  <a:lnTo>
                    <a:pt x="179" y="24"/>
                  </a:lnTo>
                  <a:lnTo>
                    <a:pt x="188" y="26"/>
                  </a:lnTo>
                  <a:lnTo>
                    <a:pt x="197" y="28"/>
                  </a:lnTo>
                  <a:lnTo>
                    <a:pt x="205" y="28"/>
                  </a:lnTo>
                  <a:lnTo>
                    <a:pt x="214" y="28"/>
                  </a:lnTo>
                  <a:lnTo>
                    <a:pt x="221" y="29"/>
                  </a:lnTo>
                  <a:lnTo>
                    <a:pt x="230" y="29"/>
                  </a:lnTo>
                  <a:lnTo>
                    <a:pt x="240" y="29"/>
                  </a:lnTo>
                  <a:lnTo>
                    <a:pt x="250" y="28"/>
                  </a:lnTo>
                  <a:lnTo>
                    <a:pt x="261" y="28"/>
                  </a:lnTo>
                  <a:lnTo>
                    <a:pt x="272" y="26"/>
                  </a:lnTo>
                  <a:lnTo>
                    <a:pt x="283" y="26"/>
                  </a:lnTo>
                  <a:lnTo>
                    <a:pt x="296" y="25"/>
                  </a:lnTo>
                  <a:lnTo>
                    <a:pt x="307" y="25"/>
                  </a:lnTo>
                  <a:lnTo>
                    <a:pt x="318" y="23"/>
                  </a:lnTo>
                  <a:lnTo>
                    <a:pt x="329" y="23"/>
                  </a:lnTo>
                  <a:lnTo>
                    <a:pt x="341" y="21"/>
                  </a:lnTo>
                  <a:lnTo>
                    <a:pt x="351" y="21"/>
                  </a:lnTo>
                  <a:lnTo>
                    <a:pt x="361" y="19"/>
                  </a:lnTo>
                  <a:lnTo>
                    <a:pt x="371" y="19"/>
                  </a:lnTo>
                  <a:lnTo>
                    <a:pt x="380" y="18"/>
                  </a:lnTo>
                  <a:lnTo>
                    <a:pt x="382" y="18"/>
                  </a:lnTo>
                  <a:lnTo>
                    <a:pt x="386" y="18"/>
                  </a:lnTo>
                  <a:lnTo>
                    <a:pt x="389" y="18"/>
                  </a:lnTo>
                  <a:lnTo>
                    <a:pt x="394" y="18"/>
                  </a:lnTo>
                  <a:lnTo>
                    <a:pt x="397" y="18"/>
                  </a:lnTo>
                  <a:lnTo>
                    <a:pt x="403" y="18"/>
                  </a:lnTo>
                  <a:lnTo>
                    <a:pt x="406" y="18"/>
                  </a:lnTo>
                  <a:lnTo>
                    <a:pt x="412" y="17"/>
                  </a:lnTo>
                  <a:lnTo>
                    <a:pt x="416" y="18"/>
                  </a:lnTo>
                  <a:lnTo>
                    <a:pt x="420" y="18"/>
                  </a:lnTo>
                  <a:lnTo>
                    <a:pt x="424" y="18"/>
                  </a:lnTo>
                  <a:lnTo>
                    <a:pt x="427" y="18"/>
                  </a:lnTo>
                  <a:lnTo>
                    <a:pt x="429" y="18"/>
                  </a:lnTo>
                  <a:lnTo>
                    <a:pt x="433" y="18"/>
                  </a:lnTo>
                  <a:lnTo>
                    <a:pt x="434" y="18"/>
                  </a:lnTo>
                  <a:lnTo>
                    <a:pt x="435" y="18"/>
                  </a:lnTo>
                  <a:lnTo>
                    <a:pt x="434" y="19"/>
                  </a:lnTo>
                  <a:lnTo>
                    <a:pt x="432" y="19"/>
                  </a:lnTo>
                  <a:lnTo>
                    <a:pt x="429" y="19"/>
                  </a:lnTo>
                  <a:lnTo>
                    <a:pt x="426" y="19"/>
                  </a:lnTo>
                  <a:lnTo>
                    <a:pt x="421" y="21"/>
                  </a:lnTo>
                  <a:lnTo>
                    <a:pt x="417" y="21"/>
                  </a:lnTo>
                  <a:lnTo>
                    <a:pt x="413" y="21"/>
                  </a:lnTo>
                  <a:lnTo>
                    <a:pt x="409" y="21"/>
                  </a:lnTo>
                  <a:lnTo>
                    <a:pt x="403" y="23"/>
                  </a:lnTo>
                  <a:lnTo>
                    <a:pt x="399" y="23"/>
                  </a:lnTo>
                  <a:lnTo>
                    <a:pt x="395" y="24"/>
                  </a:lnTo>
                  <a:lnTo>
                    <a:pt x="391" y="24"/>
                  </a:lnTo>
                  <a:lnTo>
                    <a:pt x="387" y="26"/>
                  </a:lnTo>
                  <a:lnTo>
                    <a:pt x="385" y="26"/>
                  </a:lnTo>
                  <a:lnTo>
                    <a:pt x="383" y="28"/>
                  </a:lnTo>
                  <a:lnTo>
                    <a:pt x="383" y="28"/>
                  </a:lnTo>
                  <a:lnTo>
                    <a:pt x="383" y="32"/>
                  </a:lnTo>
                  <a:lnTo>
                    <a:pt x="385" y="34"/>
                  </a:lnTo>
                  <a:lnTo>
                    <a:pt x="387" y="36"/>
                  </a:lnTo>
                  <a:lnTo>
                    <a:pt x="392" y="37"/>
                  </a:lnTo>
                  <a:lnTo>
                    <a:pt x="396" y="39"/>
                  </a:lnTo>
                  <a:lnTo>
                    <a:pt x="401" y="41"/>
                  </a:lnTo>
                  <a:lnTo>
                    <a:pt x="407" y="43"/>
                  </a:lnTo>
                  <a:lnTo>
                    <a:pt x="414" y="45"/>
                  </a:lnTo>
                  <a:lnTo>
                    <a:pt x="419" y="48"/>
                  </a:lnTo>
                  <a:lnTo>
                    <a:pt x="425" y="50"/>
                  </a:lnTo>
                  <a:lnTo>
                    <a:pt x="430" y="52"/>
                  </a:lnTo>
                  <a:lnTo>
                    <a:pt x="436" y="54"/>
                  </a:lnTo>
                  <a:lnTo>
                    <a:pt x="439" y="56"/>
                  </a:lnTo>
                  <a:lnTo>
                    <a:pt x="443" y="57"/>
                  </a:lnTo>
                  <a:lnTo>
                    <a:pt x="444" y="59"/>
                  </a:lnTo>
                  <a:lnTo>
                    <a:pt x="445" y="61"/>
                  </a:lnTo>
                  <a:lnTo>
                    <a:pt x="443" y="66"/>
                  </a:lnTo>
                  <a:lnTo>
                    <a:pt x="438" y="69"/>
                  </a:lnTo>
                  <a:lnTo>
                    <a:pt x="432" y="72"/>
                  </a:lnTo>
                  <a:lnTo>
                    <a:pt x="424" y="74"/>
                  </a:lnTo>
                  <a:lnTo>
                    <a:pt x="413" y="76"/>
                  </a:lnTo>
                  <a:lnTo>
                    <a:pt x="403" y="77"/>
                  </a:lnTo>
                  <a:lnTo>
                    <a:pt x="390" y="78"/>
                  </a:lnTo>
                  <a:lnTo>
                    <a:pt x="379" y="78"/>
                  </a:lnTo>
                  <a:lnTo>
                    <a:pt x="365" y="80"/>
                  </a:lnTo>
                  <a:lnTo>
                    <a:pt x="352" y="80"/>
                  </a:lnTo>
                  <a:lnTo>
                    <a:pt x="339" y="81"/>
                  </a:lnTo>
                  <a:lnTo>
                    <a:pt x="327" y="81"/>
                  </a:lnTo>
                  <a:lnTo>
                    <a:pt x="315" y="83"/>
                  </a:lnTo>
                  <a:lnTo>
                    <a:pt x="305" y="84"/>
                  </a:lnTo>
                  <a:lnTo>
                    <a:pt x="296" y="86"/>
                  </a:lnTo>
                  <a:lnTo>
                    <a:pt x="289" y="87"/>
                  </a:lnTo>
                  <a:lnTo>
                    <a:pt x="285" y="90"/>
                  </a:lnTo>
                  <a:lnTo>
                    <a:pt x="281" y="92"/>
                  </a:lnTo>
                  <a:lnTo>
                    <a:pt x="278" y="94"/>
                  </a:lnTo>
                  <a:lnTo>
                    <a:pt x="275" y="96"/>
                  </a:lnTo>
                  <a:lnTo>
                    <a:pt x="271" y="100"/>
                  </a:lnTo>
                  <a:lnTo>
                    <a:pt x="268" y="103"/>
                  </a:lnTo>
                  <a:lnTo>
                    <a:pt x="264" y="107"/>
                  </a:lnTo>
                  <a:lnTo>
                    <a:pt x="262" y="109"/>
                  </a:lnTo>
                  <a:lnTo>
                    <a:pt x="258" y="113"/>
                  </a:lnTo>
                  <a:lnTo>
                    <a:pt x="255" y="115"/>
                  </a:lnTo>
                  <a:lnTo>
                    <a:pt x="251" y="119"/>
                  </a:lnTo>
                  <a:lnTo>
                    <a:pt x="248" y="121"/>
                  </a:lnTo>
                  <a:lnTo>
                    <a:pt x="244" y="124"/>
                  </a:lnTo>
                  <a:lnTo>
                    <a:pt x="241" y="125"/>
                  </a:lnTo>
                  <a:lnTo>
                    <a:pt x="237" y="127"/>
                  </a:lnTo>
                  <a:lnTo>
                    <a:pt x="235" y="127"/>
                  </a:lnTo>
                  <a:lnTo>
                    <a:pt x="227" y="130"/>
                  </a:lnTo>
                  <a:lnTo>
                    <a:pt x="217" y="132"/>
                  </a:lnTo>
                  <a:lnTo>
                    <a:pt x="207" y="134"/>
                  </a:lnTo>
                  <a:lnTo>
                    <a:pt x="196" y="134"/>
                  </a:lnTo>
                  <a:lnTo>
                    <a:pt x="183" y="136"/>
                  </a:lnTo>
                  <a:lnTo>
                    <a:pt x="171" y="136"/>
                  </a:lnTo>
                  <a:lnTo>
                    <a:pt x="158" y="136"/>
                  </a:lnTo>
                  <a:lnTo>
                    <a:pt x="147" y="135"/>
                  </a:lnTo>
                  <a:lnTo>
                    <a:pt x="133" y="135"/>
                  </a:lnTo>
                  <a:lnTo>
                    <a:pt x="122" y="133"/>
                  </a:lnTo>
                  <a:lnTo>
                    <a:pt x="110" y="131"/>
                  </a:lnTo>
                  <a:lnTo>
                    <a:pt x="99" y="128"/>
                  </a:lnTo>
                  <a:lnTo>
                    <a:pt x="89" y="125"/>
                  </a:lnTo>
                  <a:lnTo>
                    <a:pt x="80" y="121"/>
                  </a:lnTo>
                  <a:lnTo>
                    <a:pt x="72" y="116"/>
                  </a:lnTo>
                  <a:lnTo>
                    <a:pt x="66" y="111"/>
                  </a:lnTo>
                  <a:lnTo>
                    <a:pt x="64" y="109"/>
                  </a:lnTo>
                  <a:lnTo>
                    <a:pt x="64" y="107"/>
                  </a:lnTo>
                  <a:lnTo>
                    <a:pt x="63" y="106"/>
                  </a:lnTo>
                  <a:lnTo>
                    <a:pt x="63" y="103"/>
                  </a:lnTo>
                  <a:lnTo>
                    <a:pt x="62" y="101"/>
                  </a:lnTo>
                  <a:lnTo>
                    <a:pt x="62" y="97"/>
                  </a:lnTo>
                  <a:lnTo>
                    <a:pt x="62" y="96"/>
                  </a:lnTo>
                  <a:lnTo>
                    <a:pt x="62" y="92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4"/>
                  </a:lnTo>
                  <a:lnTo>
                    <a:pt x="61" y="81"/>
                  </a:lnTo>
                  <a:lnTo>
                    <a:pt x="61" y="79"/>
                  </a:lnTo>
                  <a:lnTo>
                    <a:pt x="61" y="76"/>
                  </a:lnTo>
                  <a:lnTo>
                    <a:pt x="61" y="75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61" y="67"/>
                  </a:lnTo>
                  <a:lnTo>
                    <a:pt x="61" y="67"/>
                  </a:lnTo>
                  <a:lnTo>
                    <a:pt x="61" y="66"/>
                  </a:lnTo>
                  <a:lnTo>
                    <a:pt x="61" y="64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61" y="60"/>
                  </a:lnTo>
                  <a:lnTo>
                    <a:pt x="61" y="59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4"/>
                  </a:lnTo>
                  <a:lnTo>
                    <a:pt x="59" y="53"/>
                  </a:lnTo>
                  <a:lnTo>
                    <a:pt x="57" y="51"/>
                  </a:lnTo>
                  <a:lnTo>
                    <a:pt x="53" y="49"/>
                  </a:lnTo>
                  <a:lnTo>
                    <a:pt x="51" y="47"/>
                  </a:lnTo>
                  <a:lnTo>
                    <a:pt x="47" y="46"/>
                  </a:lnTo>
                  <a:lnTo>
                    <a:pt x="43" y="45"/>
                  </a:lnTo>
                  <a:lnTo>
                    <a:pt x="39" y="43"/>
                  </a:lnTo>
                  <a:lnTo>
                    <a:pt x="36" y="41"/>
                  </a:lnTo>
                  <a:lnTo>
                    <a:pt x="31" y="41"/>
                  </a:lnTo>
                  <a:lnTo>
                    <a:pt x="27" y="39"/>
                  </a:lnTo>
                  <a:lnTo>
                    <a:pt x="23" y="37"/>
                  </a:lnTo>
                  <a:lnTo>
                    <a:pt x="20" y="35"/>
                  </a:lnTo>
                  <a:lnTo>
                    <a:pt x="16" y="34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53080" y="7240680"/>
              <a:ext cx="923760" cy="171360"/>
            </a:xfrm>
            <a:custGeom>
              <a:avLst/>
              <a:gdLst/>
              <a:ahLst/>
              <a:rect l="l" t="t" r="r" b="b"/>
              <a:pathLst>
                <a:path w="582" h="108">
                  <a:moveTo>
                    <a:pt x="0" y="75"/>
                  </a:moveTo>
                  <a:lnTo>
                    <a:pt x="0" y="75"/>
                  </a:lnTo>
                  <a:lnTo>
                    <a:pt x="4" y="73"/>
                  </a:lnTo>
                  <a:lnTo>
                    <a:pt x="8" y="71"/>
                  </a:lnTo>
                  <a:lnTo>
                    <a:pt x="15" y="69"/>
                  </a:lnTo>
                  <a:lnTo>
                    <a:pt x="23" y="69"/>
                  </a:lnTo>
                  <a:lnTo>
                    <a:pt x="32" y="67"/>
                  </a:lnTo>
                  <a:lnTo>
                    <a:pt x="42" y="65"/>
                  </a:lnTo>
                  <a:lnTo>
                    <a:pt x="53" y="63"/>
                  </a:lnTo>
                  <a:lnTo>
                    <a:pt x="63" y="63"/>
                  </a:lnTo>
                  <a:lnTo>
                    <a:pt x="74" y="61"/>
                  </a:lnTo>
                  <a:lnTo>
                    <a:pt x="84" y="61"/>
                  </a:lnTo>
                  <a:lnTo>
                    <a:pt x="95" y="60"/>
                  </a:lnTo>
                  <a:lnTo>
                    <a:pt x="103" y="60"/>
                  </a:lnTo>
                  <a:lnTo>
                    <a:pt x="112" y="58"/>
                  </a:lnTo>
                  <a:lnTo>
                    <a:pt x="119" y="58"/>
                  </a:lnTo>
                  <a:lnTo>
                    <a:pt x="125" y="56"/>
                  </a:lnTo>
                  <a:lnTo>
                    <a:pt x="168" y="52"/>
                  </a:lnTo>
                  <a:lnTo>
                    <a:pt x="211" y="47"/>
                  </a:lnTo>
                  <a:lnTo>
                    <a:pt x="251" y="42"/>
                  </a:lnTo>
                  <a:lnTo>
                    <a:pt x="291" y="37"/>
                  </a:lnTo>
                  <a:lnTo>
                    <a:pt x="328" y="32"/>
                  </a:lnTo>
                  <a:lnTo>
                    <a:pt x="364" y="27"/>
                  </a:lnTo>
                  <a:lnTo>
                    <a:pt x="397" y="21"/>
                  </a:lnTo>
                  <a:lnTo>
                    <a:pt x="429" y="16"/>
                  </a:lnTo>
                  <a:lnTo>
                    <a:pt x="456" y="12"/>
                  </a:lnTo>
                  <a:lnTo>
                    <a:pt x="482" y="8"/>
                  </a:lnTo>
                  <a:lnTo>
                    <a:pt x="504" y="5"/>
                  </a:lnTo>
                  <a:lnTo>
                    <a:pt x="523" y="2"/>
                  </a:lnTo>
                  <a:lnTo>
                    <a:pt x="538" y="1"/>
                  </a:lnTo>
                  <a:lnTo>
                    <a:pt x="550" y="0"/>
                  </a:lnTo>
                  <a:lnTo>
                    <a:pt x="557" y="0"/>
                  </a:lnTo>
                  <a:lnTo>
                    <a:pt x="561" y="0"/>
                  </a:lnTo>
                  <a:lnTo>
                    <a:pt x="560" y="2"/>
                  </a:lnTo>
                  <a:lnTo>
                    <a:pt x="558" y="4"/>
                  </a:lnTo>
                  <a:lnTo>
                    <a:pt x="555" y="8"/>
                  </a:lnTo>
                  <a:lnTo>
                    <a:pt x="553" y="10"/>
                  </a:lnTo>
                  <a:lnTo>
                    <a:pt x="550" y="15"/>
                  </a:lnTo>
                  <a:lnTo>
                    <a:pt x="546" y="19"/>
                  </a:lnTo>
                  <a:lnTo>
                    <a:pt x="542" y="24"/>
                  </a:lnTo>
                  <a:lnTo>
                    <a:pt x="538" y="28"/>
                  </a:lnTo>
                  <a:lnTo>
                    <a:pt x="533" y="33"/>
                  </a:lnTo>
                  <a:lnTo>
                    <a:pt x="530" y="39"/>
                  </a:lnTo>
                  <a:lnTo>
                    <a:pt x="526" y="43"/>
                  </a:lnTo>
                  <a:lnTo>
                    <a:pt x="523" y="47"/>
                  </a:lnTo>
                  <a:lnTo>
                    <a:pt x="519" y="51"/>
                  </a:lnTo>
                  <a:lnTo>
                    <a:pt x="517" y="55"/>
                  </a:lnTo>
                  <a:lnTo>
                    <a:pt x="516" y="58"/>
                  </a:lnTo>
                  <a:lnTo>
                    <a:pt x="516" y="59"/>
                  </a:lnTo>
                  <a:lnTo>
                    <a:pt x="517" y="61"/>
                  </a:lnTo>
                  <a:lnTo>
                    <a:pt x="520" y="63"/>
                  </a:lnTo>
                  <a:lnTo>
                    <a:pt x="523" y="65"/>
                  </a:lnTo>
                  <a:lnTo>
                    <a:pt x="527" y="67"/>
                  </a:lnTo>
                  <a:lnTo>
                    <a:pt x="532" y="69"/>
                  </a:lnTo>
                  <a:lnTo>
                    <a:pt x="537" y="70"/>
                  </a:lnTo>
                  <a:lnTo>
                    <a:pt x="543" y="72"/>
                  </a:lnTo>
                  <a:lnTo>
                    <a:pt x="550" y="72"/>
                  </a:lnTo>
                  <a:lnTo>
                    <a:pt x="555" y="74"/>
                  </a:lnTo>
                  <a:lnTo>
                    <a:pt x="561" y="74"/>
                  </a:lnTo>
                  <a:lnTo>
                    <a:pt x="565" y="76"/>
                  </a:lnTo>
                  <a:lnTo>
                    <a:pt x="571" y="76"/>
                  </a:lnTo>
                  <a:lnTo>
                    <a:pt x="574" y="78"/>
                  </a:lnTo>
                  <a:lnTo>
                    <a:pt x="578" y="78"/>
                  </a:lnTo>
                  <a:lnTo>
                    <a:pt x="580" y="79"/>
                  </a:lnTo>
                  <a:lnTo>
                    <a:pt x="581" y="79"/>
                  </a:lnTo>
                  <a:lnTo>
                    <a:pt x="580" y="81"/>
                  </a:lnTo>
                  <a:lnTo>
                    <a:pt x="578" y="83"/>
                  </a:lnTo>
                  <a:lnTo>
                    <a:pt x="575" y="85"/>
                  </a:lnTo>
                  <a:lnTo>
                    <a:pt x="571" y="86"/>
                  </a:lnTo>
                  <a:lnTo>
                    <a:pt x="566" y="88"/>
                  </a:lnTo>
                  <a:lnTo>
                    <a:pt x="560" y="88"/>
                  </a:lnTo>
                  <a:lnTo>
                    <a:pt x="554" y="89"/>
                  </a:lnTo>
                  <a:lnTo>
                    <a:pt x="548" y="89"/>
                  </a:lnTo>
                  <a:lnTo>
                    <a:pt x="541" y="91"/>
                  </a:lnTo>
                  <a:lnTo>
                    <a:pt x="534" y="91"/>
                  </a:lnTo>
                  <a:lnTo>
                    <a:pt x="527" y="92"/>
                  </a:lnTo>
                  <a:lnTo>
                    <a:pt x="522" y="92"/>
                  </a:lnTo>
                  <a:lnTo>
                    <a:pt x="514" y="93"/>
                  </a:lnTo>
                  <a:lnTo>
                    <a:pt x="509" y="93"/>
                  </a:lnTo>
                  <a:lnTo>
                    <a:pt x="504" y="93"/>
                  </a:lnTo>
                  <a:lnTo>
                    <a:pt x="500" y="93"/>
                  </a:lnTo>
                  <a:lnTo>
                    <a:pt x="493" y="93"/>
                  </a:lnTo>
                  <a:lnTo>
                    <a:pt x="486" y="93"/>
                  </a:lnTo>
                  <a:lnTo>
                    <a:pt x="479" y="93"/>
                  </a:lnTo>
                  <a:lnTo>
                    <a:pt x="472" y="93"/>
                  </a:lnTo>
                  <a:lnTo>
                    <a:pt x="462" y="93"/>
                  </a:lnTo>
                  <a:lnTo>
                    <a:pt x="454" y="93"/>
                  </a:lnTo>
                  <a:lnTo>
                    <a:pt x="445" y="93"/>
                  </a:lnTo>
                  <a:lnTo>
                    <a:pt x="437" y="93"/>
                  </a:lnTo>
                  <a:lnTo>
                    <a:pt x="428" y="93"/>
                  </a:lnTo>
                  <a:lnTo>
                    <a:pt x="419" y="93"/>
                  </a:lnTo>
                  <a:lnTo>
                    <a:pt x="410" y="93"/>
                  </a:lnTo>
                  <a:lnTo>
                    <a:pt x="403" y="93"/>
                  </a:lnTo>
                  <a:lnTo>
                    <a:pt x="395" y="93"/>
                  </a:lnTo>
                  <a:lnTo>
                    <a:pt x="387" y="93"/>
                  </a:lnTo>
                  <a:lnTo>
                    <a:pt x="380" y="93"/>
                  </a:lnTo>
                  <a:lnTo>
                    <a:pt x="374" y="93"/>
                  </a:lnTo>
                  <a:lnTo>
                    <a:pt x="369" y="95"/>
                  </a:lnTo>
                  <a:lnTo>
                    <a:pt x="366" y="95"/>
                  </a:lnTo>
                  <a:lnTo>
                    <a:pt x="360" y="96"/>
                  </a:lnTo>
                  <a:lnTo>
                    <a:pt x="356" y="96"/>
                  </a:lnTo>
                  <a:lnTo>
                    <a:pt x="350" y="98"/>
                  </a:lnTo>
                  <a:lnTo>
                    <a:pt x="345" y="98"/>
                  </a:lnTo>
                  <a:lnTo>
                    <a:pt x="339" y="99"/>
                  </a:lnTo>
                  <a:lnTo>
                    <a:pt x="334" y="99"/>
                  </a:lnTo>
                  <a:lnTo>
                    <a:pt x="329" y="101"/>
                  </a:lnTo>
                  <a:lnTo>
                    <a:pt x="323" y="103"/>
                  </a:lnTo>
                  <a:lnTo>
                    <a:pt x="317" y="105"/>
                  </a:lnTo>
                  <a:lnTo>
                    <a:pt x="312" y="105"/>
                  </a:lnTo>
                  <a:lnTo>
                    <a:pt x="307" y="107"/>
                  </a:lnTo>
                  <a:lnTo>
                    <a:pt x="302" y="107"/>
                  </a:lnTo>
                  <a:lnTo>
                    <a:pt x="298" y="107"/>
                  </a:lnTo>
                  <a:lnTo>
                    <a:pt x="295" y="107"/>
                  </a:lnTo>
                  <a:lnTo>
                    <a:pt x="289" y="107"/>
                  </a:lnTo>
                  <a:lnTo>
                    <a:pt x="283" y="107"/>
                  </a:lnTo>
                  <a:lnTo>
                    <a:pt x="277" y="107"/>
                  </a:lnTo>
                  <a:lnTo>
                    <a:pt x="271" y="107"/>
                  </a:lnTo>
                  <a:lnTo>
                    <a:pt x="264" y="107"/>
                  </a:lnTo>
                  <a:lnTo>
                    <a:pt x="258" y="105"/>
                  </a:lnTo>
                  <a:lnTo>
                    <a:pt x="251" y="103"/>
                  </a:lnTo>
                  <a:lnTo>
                    <a:pt x="246" y="101"/>
                  </a:lnTo>
                  <a:lnTo>
                    <a:pt x="238" y="101"/>
                  </a:lnTo>
                  <a:lnTo>
                    <a:pt x="232" y="99"/>
                  </a:lnTo>
                  <a:lnTo>
                    <a:pt x="225" y="98"/>
                  </a:lnTo>
                  <a:lnTo>
                    <a:pt x="220" y="97"/>
                  </a:lnTo>
                  <a:lnTo>
                    <a:pt x="213" y="97"/>
                  </a:lnTo>
                  <a:lnTo>
                    <a:pt x="208" y="95"/>
                  </a:lnTo>
                  <a:lnTo>
                    <a:pt x="202" y="95"/>
                  </a:lnTo>
                  <a:lnTo>
                    <a:pt x="198" y="93"/>
                  </a:lnTo>
                  <a:lnTo>
                    <a:pt x="190" y="93"/>
                  </a:lnTo>
                  <a:lnTo>
                    <a:pt x="183" y="93"/>
                  </a:lnTo>
                  <a:lnTo>
                    <a:pt x="175" y="93"/>
                  </a:lnTo>
                  <a:lnTo>
                    <a:pt x="168" y="93"/>
                  </a:lnTo>
                  <a:lnTo>
                    <a:pt x="158" y="93"/>
                  </a:lnTo>
                  <a:lnTo>
                    <a:pt x="151" y="93"/>
                  </a:lnTo>
                  <a:lnTo>
                    <a:pt x="142" y="93"/>
                  </a:lnTo>
                  <a:lnTo>
                    <a:pt x="134" y="91"/>
                  </a:lnTo>
                  <a:lnTo>
                    <a:pt x="125" y="91"/>
                  </a:lnTo>
                  <a:lnTo>
                    <a:pt x="116" y="91"/>
                  </a:lnTo>
                  <a:lnTo>
                    <a:pt x="108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5" y="89"/>
                  </a:lnTo>
                  <a:lnTo>
                    <a:pt x="77" y="89"/>
                  </a:lnTo>
                  <a:lnTo>
                    <a:pt x="72" y="87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7"/>
                  </a:lnTo>
                  <a:lnTo>
                    <a:pt x="55" y="86"/>
                  </a:lnTo>
                  <a:lnTo>
                    <a:pt x="48" y="86"/>
                  </a:lnTo>
                  <a:lnTo>
                    <a:pt x="42" y="85"/>
                  </a:lnTo>
                  <a:lnTo>
                    <a:pt x="36" y="85"/>
                  </a:lnTo>
                  <a:lnTo>
                    <a:pt x="30" y="83"/>
                  </a:lnTo>
                  <a:lnTo>
                    <a:pt x="24" y="83"/>
                  </a:lnTo>
                  <a:lnTo>
                    <a:pt x="18" y="81"/>
                  </a:lnTo>
                  <a:lnTo>
                    <a:pt x="12" y="81"/>
                  </a:lnTo>
                  <a:lnTo>
                    <a:pt x="8" y="79"/>
                  </a:lnTo>
                  <a:lnTo>
                    <a:pt x="4" y="79"/>
                  </a:lnTo>
                  <a:lnTo>
                    <a:pt x="2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5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6240" y="6696000"/>
              <a:ext cx="965160" cy="222480"/>
            </a:xfrm>
            <a:custGeom>
              <a:avLst/>
              <a:gdLst/>
              <a:ahLst/>
              <a:rect l="l" t="t" r="r" b="b"/>
              <a:pathLst>
                <a:path w="608" h="140">
                  <a:moveTo>
                    <a:pt x="192" y="40"/>
                  </a:moveTo>
                  <a:lnTo>
                    <a:pt x="194" y="40"/>
                  </a:lnTo>
                  <a:lnTo>
                    <a:pt x="200" y="40"/>
                  </a:lnTo>
                  <a:lnTo>
                    <a:pt x="207" y="40"/>
                  </a:lnTo>
                  <a:lnTo>
                    <a:pt x="216" y="38"/>
                  </a:lnTo>
                  <a:lnTo>
                    <a:pt x="225" y="38"/>
                  </a:lnTo>
                  <a:lnTo>
                    <a:pt x="236" y="36"/>
                  </a:lnTo>
                  <a:lnTo>
                    <a:pt x="247" y="36"/>
                  </a:lnTo>
                  <a:lnTo>
                    <a:pt x="259" y="34"/>
                  </a:lnTo>
                  <a:lnTo>
                    <a:pt x="269" y="34"/>
                  </a:lnTo>
                  <a:lnTo>
                    <a:pt x="281" y="33"/>
                  </a:lnTo>
                  <a:lnTo>
                    <a:pt x="290" y="33"/>
                  </a:lnTo>
                  <a:lnTo>
                    <a:pt x="300" y="31"/>
                  </a:lnTo>
                  <a:lnTo>
                    <a:pt x="309" y="31"/>
                  </a:lnTo>
                  <a:lnTo>
                    <a:pt x="316" y="30"/>
                  </a:lnTo>
                  <a:lnTo>
                    <a:pt x="321" y="30"/>
                  </a:lnTo>
                  <a:lnTo>
                    <a:pt x="326" y="28"/>
                  </a:lnTo>
                  <a:lnTo>
                    <a:pt x="330" y="28"/>
                  </a:lnTo>
                  <a:lnTo>
                    <a:pt x="338" y="27"/>
                  </a:lnTo>
                  <a:lnTo>
                    <a:pt x="348" y="27"/>
                  </a:lnTo>
                  <a:lnTo>
                    <a:pt x="361" y="25"/>
                  </a:lnTo>
                  <a:lnTo>
                    <a:pt x="374" y="25"/>
                  </a:lnTo>
                  <a:lnTo>
                    <a:pt x="390" y="23"/>
                  </a:lnTo>
                  <a:lnTo>
                    <a:pt x="406" y="21"/>
                  </a:lnTo>
                  <a:lnTo>
                    <a:pt x="423" y="20"/>
                  </a:lnTo>
                  <a:lnTo>
                    <a:pt x="439" y="20"/>
                  </a:lnTo>
                  <a:lnTo>
                    <a:pt x="456" y="18"/>
                  </a:lnTo>
                  <a:lnTo>
                    <a:pt x="471" y="16"/>
                  </a:lnTo>
                  <a:lnTo>
                    <a:pt x="487" y="14"/>
                  </a:lnTo>
                  <a:lnTo>
                    <a:pt x="500" y="14"/>
                  </a:lnTo>
                  <a:lnTo>
                    <a:pt x="512" y="13"/>
                  </a:lnTo>
                  <a:lnTo>
                    <a:pt x="522" y="13"/>
                  </a:lnTo>
                  <a:lnTo>
                    <a:pt x="530" y="11"/>
                  </a:lnTo>
                  <a:lnTo>
                    <a:pt x="533" y="11"/>
                  </a:lnTo>
                  <a:lnTo>
                    <a:pt x="537" y="10"/>
                  </a:lnTo>
                  <a:lnTo>
                    <a:pt x="541" y="10"/>
                  </a:lnTo>
                  <a:lnTo>
                    <a:pt x="547" y="8"/>
                  </a:lnTo>
                  <a:lnTo>
                    <a:pt x="551" y="8"/>
                  </a:lnTo>
                  <a:lnTo>
                    <a:pt x="557" y="6"/>
                  </a:lnTo>
                  <a:lnTo>
                    <a:pt x="563" y="6"/>
                  </a:lnTo>
                  <a:lnTo>
                    <a:pt x="568" y="4"/>
                  </a:lnTo>
                  <a:lnTo>
                    <a:pt x="572" y="4"/>
                  </a:lnTo>
                  <a:lnTo>
                    <a:pt x="577" y="3"/>
                  </a:lnTo>
                  <a:lnTo>
                    <a:pt x="581" y="3"/>
                  </a:lnTo>
                  <a:lnTo>
                    <a:pt x="585" y="1"/>
                  </a:lnTo>
                  <a:lnTo>
                    <a:pt x="587" y="1"/>
                  </a:lnTo>
                  <a:lnTo>
                    <a:pt x="591" y="1"/>
                  </a:lnTo>
                  <a:lnTo>
                    <a:pt x="592" y="1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3" y="0"/>
                  </a:lnTo>
                  <a:lnTo>
                    <a:pt x="591" y="1"/>
                  </a:lnTo>
                  <a:lnTo>
                    <a:pt x="589" y="2"/>
                  </a:lnTo>
                  <a:lnTo>
                    <a:pt x="585" y="5"/>
                  </a:lnTo>
                  <a:lnTo>
                    <a:pt x="581" y="8"/>
                  </a:lnTo>
                  <a:lnTo>
                    <a:pt x="575" y="11"/>
                  </a:lnTo>
                  <a:lnTo>
                    <a:pt x="572" y="15"/>
                  </a:lnTo>
                  <a:lnTo>
                    <a:pt x="566" y="21"/>
                  </a:lnTo>
                  <a:lnTo>
                    <a:pt x="561" y="24"/>
                  </a:lnTo>
                  <a:lnTo>
                    <a:pt x="555" y="29"/>
                  </a:lnTo>
                  <a:lnTo>
                    <a:pt x="552" y="32"/>
                  </a:lnTo>
                  <a:lnTo>
                    <a:pt x="548" y="36"/>
                  </a:lnTo>
                  <a:lnTo>
                    <a:pt x="545" y="40"/>
                  </a:lnTo>
                  <a:lnTo>
                    <a:pt x="543" y="43"/>
                  </a:lnTo>
                  <a:lnTo>
                    <a:pt x="544" y="45"/>
                  </a:lnTo>
                  <a:lnTo>
                    <a:pt x="544" y="49"/>
                  </a:lnTo>
                  <a:lnTo>
                    <a:pt x="546" y="51"/>
                  </a:lnTo>
                  <a:lnTo>
                    <a:pt x="547" y="54"/>
                  </a:lnTo>
                  <a:lnTo>
                    <a:pt x="551" y="56"/>
                  </a:lnTo>
                  <a:lnTo>
                    <a:pt x="554" y="59"/>
                  </a:lnTo>
                  <a:lnTo>
                    <a:pt x="557" y="61"/>
                  </a:lnTo>
                  <a:lnTo>
                    <a:pt x="561" y="62"/>
                  </a:lnTo>
                  <a:lnTo>
                    <a:pt x="567" y="63"/>
                  </a:lnTo>
                  <a:lnTo>
                    <a:pt x="571" y="65"/>
                  </a:lnTo>
                  <a:lnTo>
                    <a:pt x="576" y="66"/>
                  </a:lnTo>
                  <a:lnTo>
                    <a:pt x="581" y="67"/>
                  </a:lnTo>
                  <a:lnTo>
                    <a:pt x="587" y="67"/>
                  </a:lnTo>
                  <a:lnTo>
                    <a:pt x="591" y="68"/>
                  </a:lnTo>
                  <a:lnTo>
                    <a:pt x="596" y="68"/>
                  </a:lnTo>
                  <a:lnTo>
                    <a:pt x="601" y="68"/>
                  </a:lnTo>
                  <a:lnTo>
                    <a:pt x="607" y="68"/>
                  </a:lnTo>
                  <a:lnTo>
                    <a:pt x="605" y="70"/>
                  </a:lnTo>
                  <a:lnTo>
                    <a:pt x="605" y="70"/>
                  </a:lnTo>
                  <a:lnTo>
                    <a:pt x="603" y="71"/>
                  </a:lnTo>
                  <a:lnTo>
                    <a:pt x="602" y="71"/>
                  </a:lnTo>
                  <a:lnTo>
                    <a:pt x="598" y="72"/>
                  </a:lnTo>
                  <a:lnTo>
                    <a:pt x="595" y="74"/>
                  </a:lnTo>
                  <a:lnTo>
                    <a:pt x="591" y="76"/>
                  </a:lnTo>
                  <a:lnTo>
                    <a:pt x="587" y="76"/>
                  </a:lnTo>
                  <a:lnTo>
                    <a:pt x="582" y="78"/>
                  </a:lnTo>
                  <a:lnTo>
                    <a:pt x="576" y="79"/>
                  </a:lnTo>
                  <a:lnTo>
                    <a:pt x="569" y="81"/>
                  </a:lnTo>
                  <a:lnTo>
                    <a:pt x="564" y="81"/>
                  </a:lnTo>
                  <a:lnTo>
                    <a:pt x="555" y="82"/>
                  </a:lnTo>
                  <a:lnTo>
                    <a:pt x="548" y="82"/>
                  </a:lnTo>
                  <a:lnTo>
                    <a:pt x="539" y="82"/>
                  </a:lnTo>
                  <a:lnTo>
                    <a:pt x="530" y="82"/>
                  </a:lnTo>
                  <a:lnTo>
                    <a:pt x="524" y="83"/>
                  </a:lnTo>
                  <a:lnTo>
                    <a:pt x="520" y="83"/>
                  </a:lnTo>
                  <a:lnTo>
                    <a:pt x="515" y="83"/>
                  </a:lnTo>
                  <a:lnTo>
                    <a:pt x="509" y="83"/>
                  </a:lnTo>
                  <a:lnTo>
                    <a:pt x="503" y="83"/>
                  </a:lnTo>
                  <a:lnTo>
                    <a:pt x="497" y="83"/>
                  </a:lnTo>
                  <a:lnTo>
                    <a:pt x="491" y="83"/>
                  </a:lnTo>
                  <a:lnTo>
                    <a:pt x="486" y="82"/>
                  </a:lnTo>
                  <a:lnTo>
                    <a:pt x="479" y="82"/>
                  </a:lnTo>
                  <a:lnTo>
                    <a:pt x="473" y="82"/>
                  </a:lnTo>
                  <a:lnTo>
                    <a:pt x="468" y="82"/>
                  </a:lnTo>
                  <a:lnTo>
                    <a:pt x="462" y="81"/>
                  </a:lnTo>
                  <a:lnTo>
                    <a:pt x="456" y="82"/>
                  </a:lnTo>
                  <a:lnTo>
                    <a:pt x="451" y="82"/>
                  </a:lnTo>
                  <a:lnTo>
                    <a:pt x="446" y="82"/>
                  </a:lnTo>
                  <a:lnTo>
                    <a:pt x="443" y="82"/>
                  </a:lnTo>
                  <a:lnTo>
                    <a:pt x="435" y="84"/>
                  </a:lnTo>
                  <a:lnTo>
                    <a:pt x="427" y="86"/>
                  </a:lnTo>
                  <a:lnTo>
                    <a:pt x="415" y="88"/>
                  </a:lnTo>
                  <a:lnTo>
                    <a:pt x="402" y="89"/>
                  </a:lnTo>
                  <a:lnTo>
                    <a:pt x="387" y="92"/>
                  </a:lnTo>
                  <a:lnTo>
                    <a:pt x="372" y="94"/>
                  </a:lnTo>
                  <a:lnTo>
                    <a:pt x="355" y="96"/>
                  </a:lnTo>
                  <a:lnTo>
                    <a:pt x="339" y="98"/>
                  </a:lnTo>
                  <a:lnTo>
                    <a:pt x="321" y="101"/>
                  </a:lnTo>
                  <a:lnTo>
                    <a:pt x="304" y="102"/>
                  </a:lnTo>
                  <a:lnTo>
                    <a:pt x="287" y="104"/>
                  </a:lnTo>
                  <a:lnTo>
                    <a:pt x="272" y="106"/>
                  </a:lnTo>
                  <a:lnTo>
                    <a:pt x="257" y="108"/>
                  </a:lnTo>
                  <a:lnTo>
                    <a:pt x="243" y="108"/>
                  </a:lnTo>
                  <a:lnTo>
                    <a:pt x="232" y="109"/>
                  </a:lnTo>
                  <a:lnTo>
                    <a:pt x="223" y="108"/>
                  </a:lnTo>
                  <a:lnTo>
                    <a:pt x="212" y="110"/>
                  </a:lnTo>
                  <a:lnTo>
                    <a:pt x="199" y="112"/>
                  </a:lnTo>
                  <a:lnTo>
                    <a:pt x="184" y="114"/>
                  </a:lnTo>
                  <a:lnTo>
                    <a:pt x="169" y="116"/>
                  </a:lnTo>
                  <a:lnTo>
                    <a:pt x="153" y="120"/>
                  </a:lnTo>
                  <a:lnTo>
                    <a:pt x="136" y="122"/>
                  </a:lnTo>
                  <a:lnTo>
                    <a:pt x="119" y="124"/>
                  </a:lnTo>
                  <a:lnTo>
                    <a:pt x="102" y="126"/>
                  </a:lnTo>
                  <a:lnTo>
                    <a:pt x="85" y="130"/>
                  </a:lnTo>
                  <a:lnTo>
                    <a:pt x="69" y="132"/>
                  </a:lnTo>
                  <a:lnTo>
                    <a:pt x="56" y="134"/>
                  </a:lnTo>
                  <a:lnTo>
                    <a:pt x="44" y="136"/>
                  </a:lnTo>
                  <a:lnTo>
                    <a:pt x="33" y="138"/>
                  </a:lnTo>
                  <a:lnTo>
                    <a:pt x="26" y="138"/>
                  </a:lnTo>
                  <a:lnTo>
                    <a:pt x="20" y="139"/>
                  </a:lnTo>
                  <a:lnTo>
                    <a:pt x="20" y="139"/>
                  </a:lnTo>
                  <a:lnTo>
                    <a:pt x="21" y="139"/>
                  </a:lnTo>
                  <a:lnTo>
                    <a:pt x="24" y="138"/>
                  </a:lnTo>
                  <a:lnTo>
                    <a:pt x="29" y="137"/>
                  </a:lnTo>
                  <a:lnTo>
                    <a:pt x="36" y="135"/>
                  </a:lnTo>
                  <a:lnTo>
                    <a:pt x="43" y="133"/>
                  </a:lnTo>
                  <a:lnTo>
                    <a:pt x="51" y="130"/>
                  </a:lnTo>
                  <a:lnTo>
                    <a:pt x="61" y="129"/>
                  </a:lnTo>
                  <a:lnTo>
                    <a:pt x="70" y="125"/>
                  </a:lnTo>
                  <a:lnTo>
                    <a:pt x="78" y="123"/>
                  </a:lnTo>
                  <a:lnTo>
                    <a:pt x="87" y="119"/>
                  </a:lnTo>
                  <a:lnTo>
                    <a:pt x="95" y="117"/>
                  </a:lnTo>
                  <a:lnTo>
                    <a:pt x="101" y="113"/>
                  </a:lnTo>
                  <a:lnTo>
                    <a:pt x="106" y="111"/>
                  </a:lnTo>
                  <a:lnTo>
                    <a:pt x="109" y="108"/>
                  </a:lnTo>
                  <a:lnTo>
                    <a:pt x="111" y="105"/>
                  </a:lnTo>
                  <a:lnTo>
                    <a:pt x="111" y="101"/>
                  </a:lnTo>
                  <a:lnTo>
                    <a:pt x="107" y="101"/>
                  </a:lnTo>
                  <a:lnTo>
                    <a:pt x="103" y="99"/>
                  </a:lnTo>
                  <a:lnTo>
                    <a:pt x="96" y="98"/>
                  </a:lnTo>
                  <a:lnTo>
                    <a:pt x="89" y="96"/>
                  </a:lnTo>
                  <a:lnTo>
                    <a:pt x="79" y="96"/>
                  </a:lnTo>
                  <a:lnTo>
                    <a:pt x="71" y="95"/>
                  </a:lnTo>
                  <a:lnTo>
                    <a:pt x="61" y="95"/>
                  </a:lnTo>
                  <a:lnTo>
                    <a:pt x="51" y="93"/>
                  </a:lnTo>
                  <a:lnTo>
                    <a:pt x="41" y="93"/>
                  </a:lnTo>
                  <a:lnTo>
                    <a:pt x="31" y="93"/>
                  </a:lnTo>
                  <a:lnTo>
                    <a:pt x="23" y="93"/>
                  </a:lnTo>
                  <a:lnTo>
                    <a:pt x="16" y="93"/>
                  </a:lnTo>
                  <a:lnTo>
                    <a:pt x="9" y="93"/>
                  </a:lnTo>
                  <a:lnTo>
                    <a:pt x="4" y="93"/>
                  </a:lnTo>
                  <a:lnTo>
                    <a:pt x="1" y="93"/>
                  </a:lnTo>
                  <a:lnTo>
                    <a:pt x="0" y="92"/>
                  </a:lnTo>
                  <a:lnTo>
                    <a:pt x="1" y="92"/>
                  </a:lnTo>
                  <a:lnTo>
                    <a:pt x="5" y="91"/>
                  </a:lnTo>
                  <a:lnTo>
                    <a:pt x="9" y="89"/>
                  </a:lnTo>
                  <a:lnTo>
                    <a:pt x="18" y="86"/>
                  </a:lnTo>
                  <a:lnTo>
                    <a:pt x="27" y="84"/>
                  </a:lnTo>
                  <a:lnTo>
                    <a:pt x="37" y="81"/>
                  </a:lnTo>
                  <a:lnTo>
                    <a:pt x="49" y="78"/>
                  </a:lnTo>
                  <a:lnTo>
                    <a:pt x="63" y="74"/>
                  </a:lnTo>
                  <a:lnTo>
                    <a:pt x="77" y="71"/>
                  </a:lnTo>
                  <a:lnTo>
                    <a:pt x="92" y="67"/>
                  </a:lnTo>
                  <a:lnTo>
                    <a:pt x="107" y="63"/>
                  </a:lnTo>
                  <a:lnTo>
                    <a:pt x="125" y="58"/>
                  </a:lnTo>
                  <a:lnTo>
                    <a:pt x="141" y="54"/>
                  </a:lnTo>
                  <a:lnTo>
                    <a:pt x="158" y="50"/>
                  </a:lnTo>
                  <a:lnTo>
                    <a:pt x="175" y="46"/>
                  </a:lnTo>
                  <a:lnTo>
                    <a:pt x="192" y="40"/>
                  </a:lnTo>
                  <a:lnTo>
                    <a:pt x="192" y="4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9080" y="6869160"/>
              <a:ext cx="928440" cy="204840"/>
            </a:xfrm>
            <a:custGeom>
              <a:avLst/>
              <a:gdLst/>
              <a:ahLst/>
              <a:rect l="l" t="t" r="r" b="b"/>
              <a:pathLst>
                <a:path w="585" h="129">
                  <a:moveTo>
                    <a:pt x="0" y="54"/>
                  </a:moveTo>
                  <a:lnTo>
                    <a:pt x="0" y="55"/>
                  </a:lnTo>
                  <a:lnTo>
                    <a:pt x="2" y="55"/>
                  </a:lnTo>
                  <a:lnTo>
                    <a:pt x="6" y="57"/>
                  </a:lnTo>
                  <a:lnTo>
                    <a:pt x="11" y="57"/>
                  </a:lnTo>
                  <a:lnTo>
                    <a:pt x="16" y="59"/>
                  </a:lnTo>
                  <a:lnTo>
                    <a:pt x="22" y="61"/>
                  </a:lnTo>
                  <a:lnTo>
                    <a:pt x="30" y="63"/>
                  </a:lnTo>
                  <a:lnTo>
                    <a:pt x="38" y="63"/>
                  </a:lnTo>
                  <a:lnTo>
                    <a:pt x="46" y="65"/>
                  </a:lnTo>
                  <a:lnTo>
                    <a:pt x="53" y="67"/>
                  </a:lnTo>
                  <a:lnTo>
                    <a:pt x="60" y="68"/>
                  </a:lnTo>
                  <a:lnTo>
                    <a:pt x="69" y="69"/>
                  </a:lnTo>
                  <a:lnTo>
                    <a:pt x="75" y="71"/>
                  </a:lnTo>
                  <a:lnTo>
                    <a:pt x="82" y="71"/>
                  </a:lnTo>
                  <a:lnTo>
                    <a:pt x="88" y="71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8" y="70"/>
                  </a:lnTo>
                  <a:lnTo>
                    <a:pt x="101" y="70"/>
                  </a:lnTo>
                  <a:lnTo>
                    <a:pt x="105" y="68"/>
                  </a:lnTo>
                  <a:lnTo>
                    <a:pt x="109" y="67"/>
                  </a:lnTo>
                  <a:lnTo>
                    <a:pt x="112" y="65"/>
                  </a:lnTo>
                  <a:lnTo>
                    <a:pt x="116" y="63"/>
                  </a:lnTo>
                  <a:lnTo>
                    <a:pt x="121" y="61"/>
                  </a:lnTo>
                  <a:lnTo>
                    <a:pt x="125" y="61"/>
                  </a:lnTo>
                  <a:lnTo>
                    <a:pt x="129" y="60"/>
                  </a:lnTo>
                  <a:lnTo>
                    <a:pt x="132" y="58"/>
                  </a:lnTo>
                  <a:lnTo>
                    <a:pt x="136" y="56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4"/>
                  </a:lnTo>
                  <a:lnTo>
                    <a:pt x="149" y="52"/>
                  </a:lnTo>
                  <a:lnTo>
                    <a:pt x="152" y="52"/>
                  </a:lnTo>
                  <a:lnTo>
                    <a:pt x="156" y="52"/>
                  </a:lnTo>
                  <a:lnTo>
                    <a:pt x="160" y="52"/>
                  </a:lnTo>
                  <a:lnTo>
                    <a:pt x="164" y="52"/>
                  </a:lnTo>
                  <a:lnTo>
                    <a:pt x="168" y="52"/>
                  </a:lnTo>
                  <a:lnTo>
                    <a:pt x="173" y="52"/>
                  </a:lnTo>
                  <a:lnTo>
                    <a:pt x="177" y="52"/>
                  </a:lnTo>
                  <a:lnTo>
                    <a:pt x="182" y="51"/>
                  </a:lnTo>
                  <a:lnTo>
                    <a:pt x="186" y="51"/>
                  </a:lnTo>
                  <a:lnTo>
                    <a:pt x="191" y="51"/>
                  </a:lnTo>
                  <a:lnTo>
                    <a:pt x="195" y="51"/>
                  </a:lnTo>
                  <a:lnTo>
                    <a:pt x="200" y="51"/>
                  </a:lnTo>
                  <a:lnTo>
                    <a:pt x="204" y="51"/>
                  </a:lnTo>
                  <a:lnTo>
                    <a:pt x="208" y="51"/>
                  </a:lnTo>
                  <a:lnTo>
                    <a:pt x="212" y="51"/>
                  </a:lnTo>
                  <a:lnTo>
                    <a:pt x="215" y="50"/>
                  </a:lnTo>
                  <a:lnTo>
                    <a:pt x="220" y="50"/>
                  </a:lnTo>
                  <a:lnTo>
                    <a:pt x="226" y="50"/>
                  </a:lnTo>
                  <a:lnTo>
                    <a:pt x="234" y="50"/>
                  </a:lnTo>
                  <a:lnTo>
                    <a:pt x="243" y="48"/>
                  </a:lnTo>
                  <a:lnTo>
                    <a:pt x="252" y="48"/>
                  </a:lnTo>
                  <a:lnTo>
                    <a:pt x="261" y="48"/>
                  </a:lnTo>
                  <a:lnTo>
                    <a:pt x="270" y="48"/>
                  </a:lnTo>
                  <a:lnTo>
                    <a:pt x="280" y="47"/>
                  </a:lnTo>
                  <a:lnTo>
                    <a:pt x="288" y="47"/>
                  </a:lnTo>
                  <a:lnTo>
                    <a:pt x="298" y="47"/>
                  </a:lnTo>
                  <a:lnTo>
                    <a:pt x="305" y="48"/>
                  </a:lnTo>
                  <a:lnTo>
                    <a:pt x="313" y="48"/>
                  </a:lnTo>
                  <a:lnTo>
                    <a:pt x="318" y="50"/>
                  </a:lnTo>
                  <a:lnTo>
                    <a:pt x="323" y="50"/>
                  </a:lnTo>
                  <a:lnTo>
                    <a:pt x="326" y="51"/>
                  </a:lnTo>
                  <a:lnTo>
                    <a:pt x="329" y="52"/>
                  </a:lnTo>
                  <a:lnTo>
                    <a:pt x="328" y="54"/>
                  </a:lnTo>
                  <a:lnTo>
                    <a:pt x="327" y="56"/>
                  </a:lnTo>
                  <a:lnTo>
                    <a:pt x="324" y="58"/>
                  </a:lnTo>
                  <a:lnTo>
                    <a:pt x="322" y="59"/>
                  </a:lnTo>
                  <a:lnTo>
                    <a:pt x="318" y="61"/>
                  </a:lnTo>
                  <a:lnTo>
                    <a:pt x="314" y="63"/>
                  </a:lnTo>
                  <a:lnTo>
                    <a:pt x="311" y="65"/>
                  </a:lnTo>
                  <a:lnTo>
                    <a:pt x="307" y="67"/>
                  </a:lnTo>
                  <a:lnTo>
                    <a:pt x="302" y="69"/>
                  </a:lnTo>
                  <a:lnTo>
                    <a:pt x="298" y="71"/>
                  </a:lnTo>
                  <a:lnTo>
                    <a:pt x="293" y="73"/>
                  </a:lnTo>
                  <a:lnTo>
                    <a:pt x="289" y="75"/>
                  </a:lnTo>
                  <a:lnTo>
                    <a:pt x="285" y="77"/>
                  </a:lnTo>
                  <a:lnTo>
                    <a:pt x="281" y="77"/>
                  </a:lnTo>
                  <a:lnTo>
                    <a:pt x="277" y="78"/>
                  </a:lnTo>
                  <a:lnTo>
                    <a:pt x="275" y="78"/>
                  </a:lnTo>
                  <a:lnTo>
                    <a:pt x="270" y="80"/>
                  </a:lnTo>
                  <a:lnTo>
                    <a:pt x="266" y="80"/>
                  </a:lnTo>
                  <a:lnTo>
                    <a:pt x="260" y="81"/>
                  </a:lnTo>
                  <a:lnTo>
                    <a:pt x="256" y="81"/>
                  </a:lnTo>
                  <a:lnTo>
                    <a:pt x="250" y="81"/>
                  </a:lnTo>
                  <a:lnTo>
                    <a:pt x="245" y="81"/>
                  </a:lnTo>
                  <a:lnTo>
                    <a:pt x="239" y="81"/>
                  </a:lnTo>
                  <a:lnTo>
                    <a:pt x="234" y="81"/>
                  </a:lnTo>
                  <a:lnTo>
                    <a:pt x="228" y="81"/>
                  </a:lnTo>
                  <a:lnTo>
                    <a:pt x="222" y="81"/>
                  </a:lnTo>
                  <a:lnTo>
                    <a:pt x="216" y="81"/>
                  </a:lnTo>
                  <a:lnTo>
                    <a:pt x="212" y="81"/>
                  </a:lnTo>
                  <a:lnTo>
                    <a:pt x="206" y="82"/>
                  </a:lnTo>
                  <a:lnTo>
                    <a:pt x="202" y="82"/>
                  </a:lnTo>
                  <a:lnTo>
                    <a:pt x="197" y="82"/>
                  </a:lnTo>
                  <a:lnTo>
                    <a:pt x="194" y="82"/>
                  </a:lnTo>
                  <a:lnTo>
                    <a:pt x="188" y="83"/>
                  </a:lnTo>
                  <a:lnTo>
                    <a:pt x="184" y="83"/>
                  </a:lnTo>
                  <a:lnTo>
                    <a:pt x="177" y="83"/>
                  </a:lnTo>
                  <a:lnTo>
                    <a:pt x="172" y="83"/>
                  </a:lnTo>
                  <a:lnTo>
                    <a:pt x="164" y="83"/>
                  </a:lnTo>
                  <a:lnTo>
                    <a:pt x="158" y="83"/>
                  </a:lnTo>
                  <a:lnTo>
                    <a:pt x="151" y="83"/>
                  </a:lnTo>
                  <a:lnTo>
                    <a:pt x="146" y="83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5" y="87"/>
                  </a:lnTo>
                  <a:lnTo>
                    <a:pt x="119" y="87"/>
                  </a:lnTo>
                  <a:lnTo>
                    <a:pt x="114" y="89"/>
                  </a:lnTo>
                  <a:lnTo>
                    <a:pt x="109" y="91"/>
                  </a:lnTo>
                  <a:lnTo>
                    <a:pt x="104" y="94"/>
                  </a:lnTo>
                  <a:lnTo>
                    <a:pt x="101" y="96"/>
                  </a:lnTo>
                  <a:lnTo>
                    <a:pt x="99" y="98"/>
                  </a:lnTo>
                  <a:lnTo>
                    <a:pt x="97" y="99"/>
                  </a:lnTo>
                  <a:lnTo>
                    <a:pt x="92" y="101"/>
                  </a:lnTo>
                  <a:lnTo>
                    <a:pt x="86" y="101"/>
                  </a:lnTo>
                  <a:lnTo>
                    <a:pt x="78" y="105"/>
                  </a:lnTo>
                  <a:lnTo>
                    <a:pt x="70" y="107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4" y="113"/>
                  </a:lnTo>
                  <a:lnTo>
                    <a:pt x="36" y="115"/>
                  </a:lnTo>
                  <a:lnTo>
                    <a:pt x="29" y="117"/>
                  </a:lnTo>
                  <a:lnTo>
                    <a:pt x="22" y="119"/>
                  </a:lnTo>
                  <a:lnTo>
                    <a:pt x="16" y="121"/>
                  </a:lnTo>
                  <a:lnTo>
                    <a:pt x="12" y="122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12" y="125"/>
                  </a:lnTo>
                  <a:lnTo>
                    <a:pt x="18" y="126"/>
                  </a:lnTo>
                  <a:lnTo>
                    <a:pt x="24" y="128"/>
                  </a:lnTo>
                  <a:lnTo>
                    <a:pt x="34" y="128"/>
                  </a:lnTo>
                  <a:lnTo>
                    <a:pt x="45" y="128"/>
                  </a:lnTo>
                  <a:lnTo>
                    <a:pt x="57" y="128"/>
                  </a:lnTo>
                  <a:lnTo>
                    <a:pt x="69" y="128"/>
                  </a:lnTo>
                  <a:lnTo>
                    <a:pt x="82" y="126"/>
                  </a:lnTo>
                  <a:lnTo>
                    <a:pt x="94" y="126"/>
                  </a:lnTo>
                  <a:lnTo>
                    <a:pt x="107" y="124"/>
                  </a:lnTo>
                  <a:lnTo>
                    <a:pt x="119" y="124"/>
                  </a:lnTo>
                  <a:lnTo>
                    <a:pt x="130" y="122"/>
                  </a:lnTo>
                  <a:lnTo>
                    <a:pt x="140" y="122"/>
                  </a:lnTo>
                  <a:lnTo>
                    <a:pt x="148" y="121"/>
                  </a:lnTo>
                  <a:lnTo>
                    <a:pt x="155" y="121"/>
                  </a:lnTo>
                  <a:lnTo>
                    <a:pt x="159" y="119"/>
                  </a:lnTo>
                  <a:lnTo>
                    <a:pt x="164" y="119"/>
                  </a:lnTo>
                  <a:lnTo>
                    <a:pt x="170" y="119"/>
                  </a:lnTo>
                  <a:lnTo>
                    <a:pt x="177" y="119"/>
                  </a:lnTo>
                  <a:lnTo>
                    <a:pt x="184" y="119"/>
                  </a:lnTo>
                  <a:lnTo>
                    <a:pt x="192" y="119"/>
                  </a:lnTo>
                  <a:lnTo>
                    <a:pt x="199" y="119"/>
                  </a:lnTo>
                  <a:lnTo>
                    <a:pt x="207" y="119"/>
                  </a:lnTo>
                  <a:lnTo>
                    <a:pt x="216" y="119"/>
                  </a:lnTo>
                  <a:lnTo>
                    <a:pt x="224" y="119"/>
                  </a:lnTo>
                  <a:lnTo>
                    <a:pt x="232" y="119"/>
                  </a:lnTo>
                  <a:lnTo>
                    <a:pt x="239" y="119"/>
                  </a:lnTo>
                  <a:lnTo>
                    <a:pt x="248" y="119"/>
                  </a:lnTo>
                  <a:lnTo>
                    <a:pt x="255" y="119"/>
                  </a:lnTo>
                  <a:lnTo>
                    <a:pt x="262" y="119"/>
                  </a:lnTo>
                  <a:lnTo>
                    <a:pt x="268" y="119"/>
                  </a:lnTo>
                  <a:lnTo>
                    <a:pt x="275" y="119"/>
                  </a:lnTo>
                  <a:lnTo>
                    <a:pt x="276" y="121"/>
                  </a:lnTo>
                  <a:lnTo>
                    <a:pt x="278" y="121"/>
                  </a:lnTo>
                  <a:lnTo>
                    <a:pt x="280" y="121"/>
                  </a:lnTo>
                  <a:lnTo>
                    <a:pt x="283" y="121"/>
                  </a:lnTo>
                  <a:lnTo>
                    <a:pt x="285" y="123"/>
                  </a:lnTo>
                  <a:lnTo>
                    <a:pt x="289" y="123"/>
                  </a:lnTo>
                  <a:lnTo>
                    <a:pt x="291" y="123"/>
                  </a:lnTo>
                  <a:lnTo>
                    <a:pt x="294" y="123"/>
                  </a:lnTo>
                  <a:lnTo>
                    <a:pt x="296" y="125"/>
                  </a:lnTo>
                  <a:lnTo>
                    <a:pt x="300" y="125"/>
                  </a:lnTo>
                  <a:lnTo>
                    <a:pt x="302" y="125"/>
                  </a:lnTo>
                  <a:lnTo>
                    <a:pt x="305" y="125"/>
                  </a:lnTo>
                  <a:lnTo>
                    <a:pt x="307" y="125"/>
                  </a:lnTo>
                  <a:lnTo>
                    <a:pt x="310" y="125"/>
                  </a:lnTo>
                  <a:lnTo>
                    <a:pt x="312" y="125"/>
                  </a:lnTo>
                  <a:lnTo>
                    <a:pt x="314" y="125"/>
                  </a:lnTo>
                  <a:lnTo>
                    <a:pt x="318" y="125"/>
                  </a:lnTo>
                  <a:lnTo>
                    <a:pt x="323" y="125"/>
                  </a:lnTo>
                  <a:lnTo>
                    <a:pt x="327" y="125"/>
                  </a:lnTo>
                  <a:lnTo>
                    <a:pt x="333" y="124"/>
                  </a:lnTo>
                  <a:lnTo>
                    <a:pt x="338" y="124"/>
                  </a:lnTo>
                  <a:lnTo>
                    <a:pt x="344" y="122"/>
                  </a:lnTo>
                  <a:lnTo>
                    <a:pt x="350" y="121"/>
                  </a:lnTo>
                  <a:lnTo>
                    <a:pt x="356" y="119"/>
                  </a:lnTo>
                  <a:lnTo>
                    <a:pt x="361" y="119"/>
                  </a:lnTo>
                  <a:lnTo>
                    <a:pt x="366" y="117"/>
                  </a:lnTo>
                  <a:lnTo>
                    <a:pt x="372" y="116"/>
                  </a:lnTo>
                  <a:lnTo>
                    <a:pt x="378" y="114"/>
                  </a:lnTo>
                  <a:lnTo>
                    <a:pt x="382" y="114"/>
                  </a:lnTo>
                  <a:lnTo>
                    <a:pt x="388" y="112"/>
                  </a:lnTo>
                  <a:lnTo>
                    <a:pt x="392" y="111"/>
                  </a:lnTo>
                  <a:lnTo>
                    <a:pt x="398" y="109"/>
                  </a:lnTo>
                  <a:lnTo>
                    <a:pt x="402" y="109"/>
                  </a:lnTo>
                  <a:lnTo>
                    <a:pt x="409" y="108"/>
                  </a:lnTo>
                  <a:lnTo>
                    <a:pt x="415" y="108"/>
                  </a:lnTo>
                  <a:lnTo>
                    <a:pt x="422" y="106"/>
                  </a:lnTo>
                  <a:lnTo>
                    <a:pt x="430" y="106"/>
                  </a:lnTo>
                  <a:lnTo>
                    <a:pt x="438" y="104"/>
                  </a:lnTo>
                  <a:lnTo>
                    <a:pt x="445" y="103"/>
                  </a:lnTo>
                  <a:lnTo>
                    <a:pt x="454" y="101"/>
                  </a:lnTo>
                  <a:lnTo>
                    <a:pt x="462" y="101"/>
                  </a:lnTo>
                  <a:lnTo>
                    <a:pt x="469" y="99"/>
                  </a:lnTo>
                  <a:lnTo>
                    <a:pt x="477" y="99"/>
                  </a:lnTo>
                  <a:lnTo>
                    <a:pt x="486" y="97"/>
                  </a:lnTo>
                  <a:lnTo>
                    <a:pt x="492" y="97"/>
                  </a:lnTo>
                  <a:lnTo>
                    <a:pt x="499" y="95"/>
                  </a:lnTo>
                  <a:lnTo>
                    <a:pt x="505" y="94"/>
                  </a:lnTo>
                  <a:lnTo>
                    <a:pt x="512" y="92"/>
                  </a:lnTo>
                  <a:lnTo>
                    <a:pt x="514" y="92"/>
                  </a:lnTo>
                  <a:lnTo>
                    <a:pt x="518" y="91"/>
                  </a:lnTo>
                  <a:lnTo>
                    <a:pt x="522" y="91"/>
                  </a:lnTo>
                  <a:lnTo>
                    <a:pt x="527" y="89"/>
                  </a:lnTo>
                  <a:lnTo>
                    <a:pt x="532" y="89"/>
                  </a:lnTo>
                  <a:lnTo>
                    <a:pt x="537" y="88"/>
                  </a:lnTo>
                  <a:lnTo>
                    <a:pt x="543" y="86"/>
                  </a:lnTo>
                  <a:lnTo>
                    <a:pt x="548" y="84"/>
                  </a:lnTo>
                  <a:lnTo>
                    <a:pt x="552" y="84"/>
                  </a:lnTo>
                  <a:lnTo>
                    <a:pt x="558" y="82"/>
                  </a:lnTo>
                  <a:lnTo>
                    <a:pt x="562" y="80"/>
                  </a:lnTo>
                  <a:lnTo>
                    <a:pt x="566" y="78"/>
                  </a:lnTo>
                  <a:lnTo>
                    <a:pt x="568" y="78"/>
                  </a:lnTo>
                  <a:lnTo>
                    <a:pt x="572" y="76"/>
                  </a:lnTo>
                  <a:lnTo>
                    <a:pt x="573" y="74"/>
                  </a:lnTo>
                  <a:lnTo>
                    <a:pt x="574" y="72"/>
                  </a:lnTo>
                  <a:lnTo>
                    <a:pt x="573" y="72"/>
                  </a:lnTo>
                  <a:lnTo>
                    <a:pt x="572" y="72"/>
                  </a:lnTo>
                  <a:lnTo>
                    <a:pt x="568" y="72"/>
                  </a:lnTo>
                  <a:lnTo>
                    <a:pt x="567" y="71"/>
                  </a:lnTo>
                  <a:lnTo>
                    <a:pt x="563" y="71"/>
                  </a:lnTo>
                  <a:lnTo>
                    <a:pt x="560" y="71"/>
                  </a:lnTo>
                  <a:lnTo>
                    <a:pt x="556" y="71"/>
                  </a:lnTo>
                  <a:lnTo>
                    <a:pt x="553" y="70"/>
                  </a:lnTo>
                  <a:lnTo>
                    <a:pt x="548" y="70"/>
                  </a:lnTo>
                  <a:lnTo>
                    <a:pt x="545" y="70"/>
                  </a:lnTo>
                  <a:lnTo>
                    <a:pt x="541" y="70"/>
                  </a:lnTo>
                  <a:lnTo>
                    <a:pt x="538" y="68"/>
                  </a:lnTo>
                  <a:lnTo>
                    <a:pt x="535" y="68"/>
                  </a:lnTo>
                  <a:lnTo>
                    <a:pt x="533" y="66"/>
                  </a:lnTo>
                  <a:lnTo>
                    <a:pt x="532" y="65"/>
                  </a:lnTo>
                  <a:lnTo>
                    <a:pt x="532" y="63"/>
                  </a:lnTo>
                  <a:lnTo>
                    <a:pt x="531" y="61"/>
                  </a:lnTo>
                  <a:lnTo>
                    <a:pt x="532" y="58"/>
                  </a:lnTo>
                  <a:lnTo>
                    <a:pt x="534" y="54"/>
                  </a:lnTo>
                  <a:lnTo>
                    <a:pt x="537" y="49"/>
                  </a:lnTo>
                  <a:lnTo>
                    <a:pt x="541" y="45"/>
                  </a:lnTo>
                  <a:lnTo>
                    <a:pt x="546" y="40"/>
                  </a:lnTo>
                  <a:lnTo>
                    <a:pt x="550" y="35"/>
                  </a:lnTo>
                  <a:lnTo>
                    <a:pt x="556" y="30"/>
                  </a:lnTo>
                  <a:lnTo>
                    <a:pt x="560" y="26"/>
                  </a:lnTo>
                  <a:lnTo>
                    <a:pt x="566" y="21"/>
                  </a:lnTo>
                  <a:lnTo>
                    <a:pt x="570" y="18"/>
                  </a:lnTo>
                  <a:lnTo>
                    <a:pt x="575" y="13"/>
                  </a:lnTo>
                  <a:lnTo>
                    <a:pt x="577" y="11"/>
                  </a:lnTo>
                  <a:lnTo>
                    <a:pt x="580" y="9"/>
                  </a:lnTo>
                  <a:lnTo>
                    <a:pt x="582" y="7"/>
                  </a:lnTo>
                  <a:lnTo>
                    <a:pt x="584" y="6"/>
                  </a:lnTo>
                  <a:lnTo>
                    <a:pt x="575" y="3"/>
                  </a:lnTo>
                  <a:lnTo>
                    <a:pt x="557" y="0"/>
                  </a:lnTo>
                  <a:lnTo>
                    <a:pt x="530" y="0"/>
                  </a:lnTo>
                  <a:lnTo>
                    <a:pt x="496" y="0"/>
                  </a:lnTo>
                  <a:lnTo>
                    <a:pt x="455" y="2"/>
                  </a:lnTo>
                  <a:lnTo>
                    <a:pt x="410" y="4"/>
                  </a:lnTo>
                  <a:lnTo>
                    <a:pt x="361" y="8"/>
                  </a:lnTo>
                  <a:lnTo>
                    <a:pt x="311" y="11"/>
                  </a:lnTo>
                  <a:lnTo>
                    <a:pt x="258" y="17"/>
                  </a:lnTo>
                  <a:lnTo>
                    <a:pt x="208" y="21"/>
                  </a:lnTo>
                  <a:lnTo>
                    <a:pt x="160" y="27"/>
                  </a:lnTo>
                  <a:lnTo>
                    <a:pt x="116" y="32"/>
                  </a:lnTo>
                  <a:lnTo>
                    <a:pt x="75" y="38"/>
                  </a:lnTo>
                  <a:lnTo>
                    <a:pt x="42" y="43"/>
                  </a:lnTo>
                  <a:lnTo>
                    <a:pt x="16" y="49"/>
                  </a:ln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53080" y="7072200"/>
              <a:ext cx="892080" cy="204840"/>
            </a:xfrm>
            <a:custGeom>
              <a:avLst/>
              <a:gdLst/>
              <a:ahLst/>
              <a:rect l="l" t="t" r="r" b="b"/>
              <a:pathLst>
                <a:path w="562" h="129">
                  <a:moveTo>
                    <a:pt x="4" y="61"/>
                  </a:moveTo>
                  <a:lnTo>
                    <a:pt x="7" y="61"/>
                  </a:lnTo>
                  <a:lnTo>
                    <a:pt x="18" y="59"/>
                  </a:lnTo>
                  <a:lnTo>
                    <a:pt x="35" y="57"/>
                  </a:lnTo>
                  <a:lnTo>
                    <a:pt x="58" y="53"/>
                  </a:lnTo>
                  <a:lnTo>
                    <a:pt x="85" y="49"/>
                  </a:lnTo>
                  <a:lnTo>
                    <a:pt x="114" y="45"/>
                  </a:lnTo>
                  <a:lnTo>
                    <a:pt x="147" y="41"/>
                  </a:lnTo>
                  <a:lnTo>
                    <a:pt x="181" y="37"/>
                  </a:lnTo>
                  <a:lnTo>
                    <a:pt x="214" y="33"/>
                  </a:lnTo>
                  <a:lnTo>
                    <a:pt x="247" y="29"/>
                  </a:lnTo>
                  <a:lnTo>
                    <a:pt x="278" y="26"/>
                  </a:lnTo>
                  <a:lnTo>
                    <a:pt x="307" y="22"/>
                  </a:lnTo>
                  <a:lnTo>
                    <a:pt x="331" y="20"/>
                  </a:lnTo>
                  <a:lnTo>
                    <a:pt x="351" y="17"/>
                  </a:lnTo>
                  <a:lnTo>
                    <a:pt x="366" y="16"/>
                  </a:lnTo>
                  <a:lnTo>
                    <a:pt x="374" y="15"/>
                  </a:lnTo>
                  <a:lnTo>
                    <a:pt x="381" y="15"/>
                  </a:lnTo>
                  <a:lnTo>
                    <a:pt x="389" y="15"/>
                  </a:lnTo>
                  <a:lnTo>
                    <a:pt x="398" y="15"/>
                  </a:lnTo>
                  <a:lnTo>
                    <a:pt x="408" y="13"/>
                  </a:lnTo>
                  <a:lnTo>
                    <a:pt x="418" y="13"/>
                  </a:lnTo>
                  <a:lnTo>
                    <a:pt x="428" y="11"/>
                  </a:lnTo>
                  <a:lnTo>
                    <a:pt x="438" y="10"/>
                  </a:lnTo>
                  <a:lnTo>
                    <a:pt x="450" y="8"/>
                  </a:lnTo>
                  <a:lnTo>
                    <a:pt x="459" y="8"/>
                  </a:lnTo>
                  <a:lnTo>
                    <a:pt x="469" y="6"/>
                  </a:lnTo>
                  <a:lnTo>
                    <a:pt x="478" y="5"/>
                  </a:lnTo>
                  <a:lnTo>
                    <a:pt x="487" y="3"/>
                  </a:lnTo>
                  <a:lnTo>
                    <a:pt x="494" y="3"/>
                  </a:lnTo>
                  <a:lnTo>
                    <a:pt x="501" y="1"/>
                  </a:lnTo>
                  <a:lnTo>
                    <a:pt x="506" y="1"/>
                  </a:lnTo>
                  <a:lnTo>
                    <a:pt x="512" y="0"/>
                  </a:lnTo>
                  <a:lnTo>
                    <a:pt x="510" y="1"/>
                  </a:lnTo>
                  <a:lnTo>
                    <a:pt x="509" y="1"/>
                  </a:lnTo>
                  <a:lnTo>
                    <a:pt x="506" y="3"/>
                  </a:lnTo>
                  <a:lnTo>
                    <a:pt x="504" y="4"/>
                  </a:lnTo>
                  <a:lnTo>
                    <a:pt x="500" y="7"/>
                  </a:lnTo>
                  <a:lnTo>
                    <a:pt x="496" y="9"/>
                  </a:lnTo>
                  <a:lnTo>
                    <a:pt x="492" y="12"/>
                  </a:lnTo>
                  <a:lnTo>
                    <a:pt x="488" y="14"/>
                  </a:lnTo>
                  <a:lnTo>
                    <a:pt x="482" y="18"/>
                  </a:lnTo>
                  <a:lnTo>
                    <a:pt x="478" y="21"/>
                  </a:lnTo>
                  <a:lnTo>
                    <a:pt x="474" y="25"/>
                  </a:lnTo>
                  <a:lnTo>
                    <a:pt x="470" y="28"/>
                  </a:lnTo>
                  <a:lnTo>
                    <a:pt x="466" y="31"/>
                  </a:lnTo>
                  <a:lnTo>
                    <a:pt x="464" y="35"/>
                  </a:lnTo>
                  <a:lnTo>
                    <a:pt x="462" y="38"/>
                  </a:lnTo>
                  <a:lnTo>
                    <a:pt x="462" y="40"/>
                  </a:lnTo>
                  <a:lnTo>
                    <a:pt x="462" y="44"/>
                  </a:lnTo>
                  <a:lnTo>
                    <a:pt x="463" y="46"/>
                  </a:lnTo>
                  <a:lnTo>
                    <a:pt x="465" y="49"/>
                  </a:lnTo>
                  <a:lnTo>
                    <a:pt x="468" y="51"/>
                  </a:lnTo>
                  <a:lnTo>
                    <a:pt x="470" y="55"/>
                  </a:lnTo>
                  <a:lnTo>
                    <a:pt x="474" y="57"/>
                  </a:lnTo>
                  <a:lnTo>
                    <a:pt x="478" y="58"/>
                  </a:lnTo>
                  <a:lnTo>
                    <a:pt x="482" y="60"/>
                  </a:lnTo>
                  <a:lnTo>
                    <a:pt x="486" y="63"/>
                  </a:lnTo>
                  <a:lnTo>
                    <a:pt x="490" y="65"/>
                  </a:lnTo>
                  <a:lnTo>
                    <a:pt x="493" y="67"/>
                  </a:lnTo>
                  <a:lnTo>
                    <a:pt x="499" y="68"/>
                  </a:lnTo>
                  <a:lnTo>
                    <a:pt x="503" y="70"/>
                  </a:lnTo>
                  <a:lnTo>
                    <a:pt x="506" y="71"/>
                  </a:lnTo>
                  <a:lnTo>
                    <a:pt x="510" y="73"/>
                  </a:lnTo>
                  <a:lnTo>
                    <a:pt x="513" y="73"/>
                  </a:lnTo>
                  <a:lnTo>
                    <a:pt x="515" y="74"/>
                  </a:lnTo>
                  <a:lnTo>
                    <a:pt x="518" y="74"/>
                  </a:lnTo>
                  <a:lnTo>
                    <a:pt x="521" y="74"/>
                  </a:lnTo>
                  <a:lnTo>
                    <a:pt x="524" y="74"/>
                  </a:lnTo>
                  <a:lnTo>
                    <a:pt x="528" y="74"/>
                  </a:lnTo>
                  <a:lnTo>
                    <a:pt x="532" y="73"/>
                  </a:lnTo>
                  <a:lnTo>
                    <a:pt x="536" y="73"/>
                  </a:lnTo>
                  <a:lnTo>
                    <a:pt x="541" y="71"/>
                  </a:lnTo>
                  <a:lnTo>
                    <a:pt x="544" y="71"/>
                  </a:lnTo>
                  <a:lnTo>
                    <a:pt x="548" y="69"/>
                  </a:lnTo>
                  <a:lnTo>
                    <a:pt x="551" y="69"/>
                  </a:lnTo>
                  <a:lnTo>
                    <a:pt x="554" y="68"/>
                  </a:lnTo>
                  <a:lnTo>
                    <a:pt x="556" y="68"/>
                  </a:lnTo>
                  <a:lnTo>
                    <a:pt x="559" y="67"/>
                  </a:lnTo>
                  <a:lnTo>
                    <a:pt x="560" y="67"/>
                  </a:lnTo>
                  <a:lnTo>
                    <a:pt x="561" y="66"/>
                  </a:lnTo>
                  <a:lnTo>
                    <a:pt x="559" y="68"/>
                  </a:lnTo>
                  <a:lnTo>
                    <a:pt x="556" y="68"/>
                  </a:lnTo>
                  <a:lnTo>
                    <a:pt x="551" y="70"/>
                  </a:lnTo>
                  <a:lnTo>
                    <a:pt x="544" y="71"/>
                  </a:lnTo>
                  <a:lnTo>
                    <a:pt x="536" y="73"/>
                  </a:lnTo>
                  <a:lnTo>
                    <a:pt x="527" y="75"/>
                  </a:lnTo>
                  <a:lnTo>
                    <a:pt x="516" y="76"/>
                  </a:lnTo>
                  <a:lnTo>
                    <a:pt x="507" y="78"/>
                  </a:lnTo>
                  <a:lnTo>
                    <a:pt x="496" y="81"/>
                  </a:lnTo>
                  <a:lnTo>
                    <a:pt x="485" y="83"/>
                  </a:lnTo>
                  <a:lnTo>
                    <a:pt x="473" y="85"/>
                  </a:lnTo>
                  <a:lnTo>
                    <a:pt x="464" y="87"/>
                  </a:lnTo>
                  <a:lnTo>
                    <a:pt x="454" y="89"/>
                  </a:lnTo>
                  <a:lnTo>
                    <a:pt x="445" y="91"/>
                  </a:lnTo>
                  <a:lnTo>
                    <a:pt x="436" y="93"/>
                  </a:lnTo>
                  <a:lnTo>
                    <a:pt x="431" y="93"/>
                  </a:lnTo>
                  <a:lnTo>
                    <a:pt x="420" y="95"/>
                  </a:lnTo>
                  <a:lnTo>
                    <a:pt x="410" y="96"/>
                  </a:lnTo>
                  <a:lnTo>
                    <a:pt x="397" y="98"/>
                  </a:lnTo>
                  <a:lnTo>
                    <a:pt x="385" y="99"/>
                  </a:lnTo>
                  <a:lnTo>
                    <a:pt x="372" y="101"/>
                  </a:lnTo>
                  <a:lnTo>
                    <a:pt x="358" y="103"/>
                  </a:lnTo>
                  <a:lnTo>
                    <a:pt x="344" y="105"/>
                  </a:lnTo>
                  <a:lnTo>
                    <a:pt x="331" y="105"/>
                  </a:lnTo>
                  <a:lnTo>
                    <a:pt x="316" y="106"/>
                  </a:lnTo>
                  <a:lnTo>
                    <a:pt x="302" y="107"/>
                  </a:lnTo>
                  <a:lnTo>
                    <a:pt x="289" y="109"/>
                  </a:lnTo>
                  <a:lnTo>
                    <a:pt x="276" y="109"/>
                  </a:lnTo>
                  <a:lnTo>
                    <a:pt x="262" y="111"/>
                  </a:lnTo>
                  <a:lnTo>
                    <a:pt x="251" y="111"/>
                  </a:lnTo>
                  <a:lnTo>
                    <a:pt x="240" y="112"/>
                  </a:lnTo>
                  <a:lnTo>
                    <a:pt x="231" y="112"/>
                  </a:lnTo>
                  <a:lnTo>
                    <a:pt x="224" y="114"/>
                  </a:lnTo>
                  <a:lnTo>
                    <a:pt x="218" y="114"/>
                  </a:lnTo>
                  <a:lnTo>
                    <a:pt x="210" y="114"/>
                  </a:lnTo>
                  <a:lnTo>
                    <a:pt x="202" y="114"/>
                  </a:lnTo>
                  <a:lnTo>
                    <a:pt x="193" y="115"/>
                  </a:lnTo>
                  <a:lnTo>
                    <a:pt x="185" y="115"/>
                  </a:lnTo>
                  <a:lnTo>
                    <a:pt x="176" y="115"/>
                  </a:lnTo>
                  <a:lnTo>
                    <a:pt x="168" y="115"/>
                  </a:lnTo>
                  <a:lnTo>
                    <a:pt x="159" y="116"/>
                  </a:lnTo>
                  <a:lnTo>
                    <a:pt x="150" y="116"/>
                  </a:lnTo>
                  <a:lnTo>
                    <a:pt x="141" y="116"/>
                  </a:lnTo>
                  <a:lnTo>
                    <a:pt x="133" y="116"/>
                  </a:lnTo>
                  <a:lnTo>
                    <a:pt x="125" y="116"/>
                  </a:lnTo>
                  <a:lnTo>
                    <a:pt x="118" y="116"/>
                  </a:lnTo>
                  <a:lnTo>
                    <a:pt x="111" y="116"/>
                  </a:lnTo>
                  <a:lnTo>
                    <a:pt x="105" y="116"/>
                  </a:lnTo>
                  <a:lnTo>
                    <a:pt x="99" y="117"/>
                  </a:lnTo>
                  <a:lnTo>
                    <a:pt x="93" y="117"/>
                  </a:lnTo>
                  <a:lnTo>
                    <a:pt x="85" y="119"/>
                  </a:lnTo>
                  <a:lnTo>
                    <a:pt x="78" y="119"/>
                  </a:lnTo>
                  <a:lnTo>
                    <a:pt x="68" y="121"/>
                  </a:lnTo>
                  <a:lnTo>
                    <a:pt x="60" y="121"/>
                  </a:lnTo>
                  <a:lnTo>
                    <a:pt x="51" y="123"/>
                  </a:lnTo>
                  <a:lnTo>
                    <a:pt x="43" y="123"/>
                  </a:lnTo>
                  <a:lnTo>
                    <a:pt x="34" y="125"/>
                  </a:lnTo>
                  <a:lnTo>
                    <a:pt x="25" y="125"/>
                  </a:lnTo>
                  <a:lnTo>
                    <a:pt x="18" y="127"/>
                  </a:lnTo>
                  <a:lnTo>
                    <a:pt x="12" y="127"/>
                  </a:lnTo>
                  <a:lnTo>
                    <a:pt x="7" y="128"/>
                  </a:lnTo>
                  <a:lnTo>
                    <a:pt x="3" y="128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3" y="127"/>
                  </a:lnTo>
                  <a:lnTo>
                    <a:pt x="7" y="127"/>
                  </a:lnTo>
                  <a:lnTo>
                    <a:pt x="14" y="126"/>
                  </a:lnTo>
                  <a:lnTo>
                    <a:pt x="21" y="125"/>
                  </a:lnTo>
                  <a:lnTo>
                    <a:pt x="30" y="123"/>
                  </a:lnTo>
                  <a:lnTo>
                    <a:pt x="40" y="121"/>
                  </a:lnTo>
                  <a:lnTo>
                    <a:pt x="52" y="118"/>
                  </a:lnTo>
                  <a:lnTo>
                    <a:pt x="63" y="116"/>
                  </a:lnTo>
                  <a:lnTo>
                    <a:pt x="75" y="115"/>
                  </a:lnTo>
                  <a:lnTo>
                    <a:pt x="88" y="113"/>
                  </a:lnTo>
                  <a:lnTo>
                    <a:pt x="101" y="109"/>
                  </a:lnTo>
                  <a:lnTo>
                    <a:pt x="113" y="107"/>
                  </a:lnTo>
                  <a:lnTo>
                    <a:pt x="126" y="106"/>
                  </a:lnTo>
                  <a:lnTo>
                    <a:pt x="139" y="104"/>
                  </a:lnTo>
                  <a:lnTo>
                    <a:pt x="152" y="100"/>
                  </a:lnTo>
                  <a:lnTo>
                    <a:pt x="170" y="98"/>
                  </a:lnTo>
                  <a:lnTo>
                    <a:pt x="186" y="95"/>
                  </a:lnTo>
                  <a:lnTo>
                    <a:pt x="200" y="93"/>
                  </a:lnTo>
                  <a:lnTo>
                    <a:pt x="212" y="90"/>
                  </a:lnTo>
                  <a:lnTo>
                    <a:pt x="222" y="88"/>
                  </a:lnTo>
                  <a:lnTo>
                    <a:pt x="231" y="86"/>
                  </a:lnTo>
                  <a:lnTo>
                    <a:pt x="238" y="85"/>
                  </a:lnTo>
                  <a:lnTo>
                    <a:pt x="245" y="83"/>
                  </a:lnTo>
                  <a:lnTo>
                    <a:pt x="249" y="83"/>
                  </a:lnTo>
                  <a:lnTo>
                    <a:pt x="254" y="81"/>
                  </a:lnTo>
                  <a:lnTo>
                    <a:pt x="257" y="79"/>
                  </a:lnTo>
                  <a:lnTo>
                    <a:pt x="260" y="77"/>
                  </a:lnTo>
                  <a:lnTo>
                    <a:pt x="262" y="75"/>
                  </a:lnTo>
                  <a:lnTo>
                    <a:pt x="266" y="73"/>
                  </a:lnTo>
                  <a:lnTo>
                    <a:pt x="269" y="71"/>
                  </a:lnTo>
                  <a:lnTo>
                    <a:pt x="272" y="69"/>
                  </a:lnTo>
                  <a:lnTo>
                    <a:pt x="270" y="67"/>
                  </a:lnTo>
                  <a:lnTo>
                    <a:pt x="265" y="65"/>
                  </a:lnTo>
                  <a:lnTo>
                    <a:pt x="257" y="63"/>
                  </a:lnTo>
                  <a:lnTo>
                    <a:pt x="246" y="61"/>
                  </a:lnTo>
                  <a:lnTo>
                    <a:pt x="232" y="61"/>
                  </a:lnTo>
                  <a:lnTo>
                    <a:pt x="219" y="59"/>
                  </a:lnTo>
                  <a:lnTo>
                    <a:pt x="202" y="59"/>
                  </a:lnTo>
                  <a:lnTo>
                    <a:pt x="186" y="58"/>
                  </a:lnTo>
                  <a:lnTo>
                    <a:pt x="168" y="58"/>
                  </a:lnTo>
                  <a:lnTo>
                    <a:pt x="151" y="58"/>
                  </a:lnTo>
                  <a:lnTo>
                    <a:pt x="133" y="58"/>
                  </a:lnTo>
                  <a:lnTo>
                    <a:pt x="116" y="57"/>
                  </a:lnTo>
                  <a:lnTo>
                    <a:pt x="100" y="57"/>
                  </a:lnTo>
                  <a:lnTo>
                    <a:pt x="85" y="57"/>
                  </a:lnTo>
                  <a:lnTo>
                    <a:pt x="73" y="57"/>
                  </a:lnTo>
                  <a:lnTo>
                    <a:pt x="63" y="57"/>
                  </a:lnTo>
                  <a:lnTo>
                    <a:pt x="59" y="58"/>
                  </a:lnTo>
                  <a:lnTo>
                    <a:pt x="55" y="58"/>
                  </a:lnTo>
                  <a:lnTo>
                    <a:pt x="50" y="58"/>
                  </a:lnTo>
                  <a:lnTo>
                    <a:pt x="46" y="58"/>
                  </a:lnTo>
                  <a:lnTo>
                    <a:pt x="41" y="59"/>
                  </a:lnTo>
                  <a:lnTo>
                    <a:pt x="36" y="59"/>
                  </a:lnTo>
                  <a:lnTo>
                    <a:pt x="31" y="59"/>
                  </a:lnTo>
                  <a:lnTo>
                    <a:pt x="27" y="59"/>
                  </a:lnTo>
                  <a:lnTo>
                    <a:pt x="22" y="61"/>
                  </a:lnTo>
                  <a:lnTo>
                    <a:pt x="17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8560" y="6367320"/>
              <a:ext cx="241200" cy="701640"/>
            </a:xfrm>
            <a:custGeom>
              <a:avLst/>
              <a:gdLst/>
              <a:ahLst/>
              <a:rect l="l" t="t" r="r" b="b"/>
              <a:pathLst>
                <a:path w="152" h="442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7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17" y="13"/>
                  </a:lnTo>
                  <a:lnTo>
                    <a:pt x="21" y="17"/>
                  </a:lnTo>
                  <a:lnTo>
                    <a:pt x="24" y="19"/>
                  </a:lnTo>
                  <a:lnTo>
                    <a:pt x="28" y="23"/>
                  </a:lnTo>
                  <a:lnTo>
                    <a:pt x="33" y="25"/>
                  </a:lnTo>
                  <a:lnTo>
                    <a:pt x="37" y="29"/>
                  </a:lnTo>
                  <a:lnTo>
                    <a:pt x="41" y="31"/>
                  </a:lnTo>
                  <a:lnTo>
                    <a:pt x="44" y="34"/>
                  </a:lnTo>
                  <a:lnTo>
                    <a:pt x="49" y="35"/>
                  </a:lnTo>
                  <a:lnTo>
                    <a:pt x="50" y="39"/>
                  </a:lnTo>
                  <a:lnTo>
                    <a:pt x="52" y="41"/>
                  </a:lnTo>
                  <a:lnTo>
                    <a:pt x="54" y="44"/>
                  </a:lnTo>
                  <a:lnTo>
                    <a:pt x="56" y="46"/>
                  </a:lnTo>
                  <a:lnTo>
                    <a:pt x="56" y="50"/>
                  </a:lnTo>
                  <a:lnTo>
                    <a:pt x="58" y="52"/>
                  </a:lnTo>
                  <a:lnTo>
                    <a:pt x="58" y="54"/>
                  </a:lnTo>
                  <a:lnTo>
                    <a:pt x="60" y="56"/>
                  </a:lnTo>
                  <a:lnTo>
                    <a:pt x="60" y="59"/>
                  </a:lnTo>
                  <a:lnTo>
                    <a:pt x="60" y="61"/>
                  </a:lnTo>
                  <a:lnTo>
                    <a:pt x="60" y="63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1" y="70"/>
                  </a:lnTo>
                  <a:lnTo>
                    <a:pt x="60" y="72"/>
                  </a:lnTo>
                  <a:lnTo>
                    <a:pt x="60" y="74"/>
                  </a:lnTo>
                  <a:lnTo>
                    <a:pt x="58" y="75"/>
                  </a:lnTo>
                  <a:lnTo>
                    <a:pt x="58" y="77"/>
                  </a:lnTo>
                  <a:lnTo>
                    <a:pt x="56" y="79"/>
                  </a:lnTo>
                  <a:lnTo>
                    <a:pt x="54" y="81"/>
                  </a:lnTo>
                  <a:lnTo>
                    <a:pt x="52" y="82"/>
                  </a:lnTo>
                  <a:lnTo>
                    <a:pt x="51" y="82"/>
                  </a:lnTo>
                  <a:lnTo>
                    <a:pt x="50" y="84"/>
                  </a:lnTo>
                  <a:lnTo>
                    <a:pt x="48" y="86"/>
                  </a:lnTo>
                  <a:lnTo>
                    <a:pt x="46" y="88"/>
                  </a:lnTo>
                  <a:lnTo>
                    <a:pt x="44" y="88"/>
                  </a:lnTo>
                  <a:lnTo>
                    <a:pt x="43" y="90"/>
                  </a:lnTo>
                  <a:lnTo>
                    <a:pt x="42" y="90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39" y="93"/>
                  </a:lnTo>
                  <a:lnTo>
                    <a:pt x="38" y="94"/>
                  </a:lnTo>
                  <a:lnTo>
                    <a:pt x="36" y="96"/>
                  </a:lnTo>
                  <a:lnTo>
                    <a:pt x="34" y="96"/>
                  </a:lnTo>
                  <a:lnTo>
                    <a:pt x="33" y="98"/>
                  </a:lnTo>
                  <a:lnTo>
                    <a:pt x="31" y="98"/>
                  </a:lnTo>
                  <a:lnTo>
                    <a:pt x="29" y="99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4" y="101"/>
                  </a:lnTo>
                  <a:lnTo>
                    <a:pt x="22" y="101"/>
                  </a:lnTo>
                  <a:lnTo>
                    <a:pt x="21" y="101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20" y="109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4" y="118"/>
                  </a:lnTo>
                  <a:lnTo>
                    <a:pt x="26" y="121"/>
                  </a:lnTo>
                  <a:lnTo>
                    <a:pt x="28" y="125"/>
                  </a:lnTo>
                  <a:lnTo>
                    <a:pt x="31" y="127"/>
                  </a:lnTo>
                  <a:lnTo>
                    <a:pt x="33" y="130"/>
                  </a:lnTo>
                  <a:lnTo>
                    <a:pt x="35" y="134"/>
                  </a:lnTo>
                  <a:lnTo>
                    <a:pt x="37" y="138"/>
                  </a:lnTo>
                  <a:lnTo>
                    <a:pt x="40" y="140"/>
                  </a:lnTo>
                  <a:lnTo>
                    <a:pt x="41" y="143"/>
                  </a:lnTo>
                  <a:lnTo>
                    <a:pt x="43" y="145"/>
                  </a:lnTo>
                  <a:lnTo>
                    <a:pt x="43" y="147"/>
                  </a:lnTo>
                  <a:lnTo>
                    <a:pt x="45" y="149"/>
                  </a:lnTo>
                  <a:lnTo>
                    <a:pt x="45" y="150"/>
                  </a:lnTo>
                  <a:lnTo>
                    <a:pt x="45" y="152"/>
                  </a:lnTo>
                  <a:lnTo>
                    <a:pt x="45" y="154"/>
                  </a:lnTo>
                  <a:lnTo>
                    <a:pt x="46" y="155"/>
                  </a:lnTo>
                  <a:lnTo>
                    <a:pt x="46" y="157"/>
                  </a:lnTo>
                  <a:lnTo>
                    <a:pt x="46" y="159"/>
                  </a:lnTo>
                  <a:lnTo>
                    <a:pt x="46" y="161"/>
                  </a:lnTo>
                  <a:lnTo>
                    <a:pt x="48" y="163"/>
                  </a:lnTo>
                  <a:lnTo>
                    <a:pt x="46" y="166"/>
                  </a:lnTo>
                  <a:lnTo>
                    <a:pt x="46" y="168"/>
                  </a:lnTo>
                  <a:lnTo>
                    <a:pt x="46" y="170"/>
                  </a:lnTo>
                  <a:lnTo>
                    <a:pt x="46" y="171"/>
                  </a:lnTo>
                  <a:lnTo>
                    <a:pt x="45" y="173"/>
                  </a:lnTo>
                  <a:lnTo>
                    <a:pt x="45" y="175"/>
                  </a:lnTo>
                  <a:lnTo>
                    <a:pt x="45" y="177"/>
                  </a:lnTo>
                  <a:lnTo>
                    <a:pt x="45" y="178"/>
                  </a:lnTo>
                  <a:lnTo>
                    <a:pt x="44" y="180"/>
                  </a:lnTo>
                  <a:lnTo>
                    <a:pt x="44" y="181"/>
                  </a:lnTo>
                  <a:lnTo>
                    <a:pt x="43" y="183"/>
                  </a:lnTo>
                  <a:lnTo>
                    <a:pt x="43" y="183"/>
                  </a:lnTo>
                  <a:lnTo>
                    <a:pt x="41" y="185"/>
                  </a:lnTo>
                  <a:lnTo>
                    <a:pt x="40" y="186"/>
                  </a:lnTo>
                  <a:lnTo>
                    <a:pt x="38" y="188"/>
                  </a:lnTo>
                  <a:lnTo>
                    <a:pt x="38" y="188"/>
                  </a:lnTo>
                  <a:lnTo>
                    <a:pt x="36" y="190"/>
                  </a:lnTo>
                  <a:lnTo>
                    <a:pt x="36" y="191"/>
                  </a:lnTo>
                  <a:lnTo>
                    <a:pt x="34" y="193"/>
                  </a:lnTo>
                  <a:lnTo>
                    <a:pt x="34" y="193"/>
                  </a:lnTo>
                  <a:lnTo>
                    <a:pt x="33" y="195"/>
                  </a:lnTo>
                  <a:lnTo>
                    <a:pt x="33" y="196"/>
                  </a:lnTo>
                  <a:lnTo>
                    <a:pt x="33" y="198"/>
                  </a:lnTo>
                  <a:lnTo>
                    <a:pt x="33" y="198"/>
                  </a:lnTo>
                  <a:lnTo>
                    <a:pt x="33" y="200"/>
                  </a:lnTo>
                  <a:lnTo>
                    <a:pt x="34" y="201"/>
                  </a:lnTo>
                  <a:lnTo>
                    <a:pt x="36" y="203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5"/>
                  </a:lnTo>
                  <a:lnTo>
                    <a:pt x="44" y="205"/>
                  </a:lnTo>
                  <a:lnTo>
                    <a:pt x="48" y="205"/>
                  </a:lnTo>
                  <a:lnTo>
                    <a:pt x="50" y="207"/>
                  </a:lnTo>
                  <a:lnTo>
                    <a:pt x="51" y="207"/>
                  </a:lnTo>
                  <a:lnTo>
                    <a:pt x="53" y="207"/>
                  </a:lnTo>
                  <a:lnTo>
                    <a:pt x="56" y="207"/>
                  </a:lnTo>
                  <a:lnTo>
                    <a:pt x="57" y="209"/>
                  </a:lnTo>
                  <a:lnTo>
                    <a:pt x="59" y="209"/>
                  </a:lnTo>
                  <a:lnTo>
                    <a:pt x="60" y="210"/>
                  </a:lnTo>
                  <a:lnTo>
                    <a:pt x="61" y="210"/>
                  </a:lnTo>
                  <a:lnTo>
                    <a:pt x="61" y="213"/>
                  </a:lnTo>
                  <a:lnTo>
                    <a:pt x="61" y="215"/>
                  </a:lnTo>
                  <a:lnTo>
                    <a:pt x="60" y="217"/>
                  </a:lnTo>
                  <a:lnTo>
                    <a:pt x="60" y="218"/>
                  </a:lnTo>
                  <a:lnTo>
                    <a:pt x="58" y="221"/>
                  </a:lnTo>
                  <a:lnTo>
                    <a:pt x="57" y="223"/>
                  </a:lnTo>
                  <a:lnTo>
                    <a:pt x="55" y="225"/>
                  </a:lnTo>
                  <a:lnTo>
                    <a:pt x="55" y="227"/>
                  </a:lnTo>
                  <a:lnTo>
                    <a:pt x="53" y="231"/>
                  </a:lnTo>
                  <a:lnTo>
                    <a:pt x="51" y="233"/>
                  </a:lnTo>
                  <a:lnTo>
                    <a:pt x="50" y="235"/>
                  </a:lnTo>
                  <a:lnTo>
                    <a:pt x="48" y="237"/>
                  </a:lnTo>
                  <a:lnTo>
                    <a:pt x="46" y="239"/>
                  </a:lnTo>
                  <a:lnTo>
                    <a:pt x="45" y="241"/>
                  </a:lnTo>
                  <a:lnTo>
                    <a:pt x="43" y="243"/>
                  </a:lnTo>
                  <a:lnTo>
                    <a:pt x="43" y="244"/>
                  </a:lnTo>
                  <a:lnTo>
                    <a:pt x="41" y="246"/>
                  </a:lnTo>
                  <a:lnTo>
                    <a:pt x="41" y="246"/>
                  </a:lnTo>
                  <a:lnTo>
                    <a:pt x="40" y="248"/>
                  </a:lnTo>
                  <a:lnTo>
                    <a:pt x="40" y="248"/>
                  </a:lnTo>
                  <a:lnTo>
                    <a:pt x="38" y="249"/>
                  </a:lnTo>
                  <a:lnTo>
                    <a:pt x="37" y="249"/>
                  </a:lnTo>
                  <a:lnTo>
                    <a:pt x="35" y="250"/>
                  </a:lnTo>
                  <a:lnTo>
                    <a:pt x="35" y="250"/>
                  </a:lnTo>
                  <a:lnTo>
                    <a:pt x="33" y="252"/>
                  </a:lnTo>
                  <a:lnTo>
                    <a:pt x="33" y="252"/>
                  </a:lnTo>
                  <a:lnTo>
                    <a:pt x="31" y="254"/>
                  </a:lnTo>
                  <a:lnTo>
                    <a:pt x="31" y="254"/>
                  </a:lnTo>
                  <a:lnTo>
                    <a:pt x="30" y="256"/>
                  </a:lnTo>
                  <a:lnTo>
                    <a:pt x="30" y="256"/>
                  </a:lnTo>
                  <a:lnTo>
                    <a:pt x="30" y="257"/>
                  </a:lnTo>
                  <a:lnTo>
                    <a:pt x="30" y="257"/>
                  </a:lnTo>
                  <a:lnTo>
                    <a:pt x="30" y="259"/>
                  </a:lnTo>
                  <a:lnTo>
                    <a:pt x="30" y="261"/>
                  </a:lnTo>
                  <a:lnTo>
                    <a:pt x="32" y="263"/>
                  </a:lnTo>
                  <a:lnTo>
                    <a:pt x="34" y="265"/>
                  </a:lnTo>
                  <a:lnTo>
                    <a:pt x="37" y="267"/>
                  </a:lnTo>
                  <a:lnTo>
                    <a:pt x="41" y="269"/>
                  </a:lnTo>
                  <a:lnTo>
                    <a:pt x="44" y="271"/>
                  </a:lnTo>
                  <a:lnTo>
                    <a:pt x="48" y="271"/>
                  </a:lnTo>
                  <a:lnTo>
                    <a:pt x="51" y="273"/>
                  </a:lnTo>
                  <a:lnTo>
                    <a:pt x="55" y="275"/>
                  </a:lnTo>
                  <a:lnTo>
                    <a:pt x="58" y="277"/>
                  </a:lnTo>
                  <a:lnTo>
                    <a:pt x="62" y="278"/>
                  </a:lnTo>
                  <a:lnTo>
                    <a:pt x="64" y="281"/>
                  </a:lnTo>
                  <a:lnTo>
                    <a:pt x="67" y="283"/>
                  </a:lnTo>
                  <a:lnTo>
                    <a:pt x="69" y="287"/>
                  </a:lnTo>
                  <a:lnTo>
                    <a:pt x="71" y="289"/>
                  </a:lnTo>
                  <a:lnTo>
                    <a:pt x="70" y="291"/>
                  </a:lnTo>
                  <a:lnTo>
                    <a:pt x="69" y="293"/>
                  </a:lnTo>
                  <a:lnTo>
                    <a:pt x="67" y="295"/>
                  </a:lnTo>
                  <a:lnTo>
                    <a:pt x="66" y="296"/>
                  </a:lnTo>
                  <a:lnTo>
                    <a:pt x="64" y="298"/>
                  </a:lnTo>
                  <a:lnTo>
                    <a:pt x="62" y="299"/>
                  </a:lnTo>
                  <a:lnTo>
                    <a:pt x="60" y="301"/>
                  </a:lnTo>
                  <a:lnTo>
                    <a:pt x="58" y="303"/>
                  </a:lnTo>
                  <a:lnTo>
                    <a:pt x="55" y="305"/>
                  </a:lnTo>
                  <a:lnTo>
                    <a:pt x="53" y="307"/>
                  </a:lnTo>
                  <a:lnTo>
                    <a:pt x="51" y="309"/>
                  </a:lnTo>
                  <a:lnTo>
                    <a:pt x="50" y="311"/>
                  </a:lnTo>
                  <a:lnTo>
                    <a:pt x="48" y="313"/>
                  </a:lnTo>
                  <a:lnTo>
                    <a:pt x="48" y="315"/>
                  </a:lnTo>
                  <a:lnTo>
                    <a:pt x="48" y="316"/>
                  </a:lnTo>
                  <a:lnTo>
                    <a:pt x="49" y="318"/>
                  </a:lnTo>
                  <a:lnTo>
                    <a:pt x="49" y="321"/>
                  </a:lnTo>
                  <a:lnTo>
                    <a:pt x="51" y="323"/>
                  </a:lnTo>
                  <a:lnTo>
                    <a:pt x="52" y="325"/>
                  </a:lnTo>
                  <a:lnTo>
                    <a:pt x="55" y="327"/>
                  </a:lnTo>
                  <a:lnTo>
                    <a:pt x="57" y="331"/>
                  </a:lnTo>
                  <a:lnTo>
                    <a:pt x="61" y="333"/>
                  </a:lnTo>
                  <a:lnTo>
                    <a:pt x="64" y="336"/>
                  </a:lnTo>
                  <a:lnTo>
                    <a:pt x="68" y="338"/>
                  </a:lnTo>
                  <a:lnTo>
                    <a:pt x="70" y="342"/>
                  </a:lnTo>
                  <a:lnTo>
                    <a:pt x="73" y="345"/>
                  </a:lnTo>
                  <a:lnTo>
                    <a:pt x="75" y="349"/>
                  </a:lnTo>
                  <a:lnTo>
                    <a:pt x="79" y="351"/>
                  </a:lnTo>
                  <a:lnTo>
                    <a:pt x="81" y="354"/>
                  </a:lnTo>
                  <a:lnTo>
                    <a:pt x="82" y="356"/>
                  </a:lnTo>
                  <a:lnTo>
                    <a:pt x="83" y="357"/>
                  </a:lnTo>
                  <a:lnTo>
                    <a:pt x="84" y="359"/>
                  </a:lnTo>
                  <a:lnTo>
                    <a:pt x="83" y="363"/>
                  </a:lnTo>
                  <a:lnTo>
                    <a:pt x="83" y="366"/>
                  </a:lnTo>
                  <a:lnTo>
                    <a:pt x="81" y="369"/>
                  </a:lnTo>
                  <a:lnTo>
                    <a:pt x="81" y="371"/>
                  </a:lnTo>
                  <a:lnTo>
                    <a:pt x="80" y="375"/>
                  </a:lnTo>
                  <a:lnTo>
                    <a:pt x="78" y="377"/>
                  </a:lnTo>
                  <a:lnTo>
                    <a:pt x="76" y="381"/>
                  </a:lnTo>
                  <a:lnTo>
                    <a:pt x="74" y="383"/>
                  </a:lnTo>
                  <a:lnTo>
                    <a:pt x="71" y="386"/>
                  </a:lnTo>
                  <a:lnTo>
                    <a:pt x="70" y="388"/>
                  </a:lnTo>
                  <a:lnTo>
                    <a:pt x="68" y="391"/>
                  </a:lnTo>
                  <a:lnTo>
                    <a:pt x="66" y="393"/>
                  </a:lnTo>
                  <a:lnTo>
                    <a:pt x="64" y="394"/>
                  </a:lnTo>
                  <a:lnTo>
                    <a:pt x="62" y="396"/>
                  </a:lnTo>
                  <a:lnTo>
                    <a:pt x="61" y="398"/>
                  </a:lnTo>
                  <a:lnTo>
                    <a:pt x="61" y="399"/>
                  </a:lnTo>
                  <a:lnTo>
                    <a:pt x="58" y="403"/>
                  </a:lnTo>
                  <a:lnTo>
                    <a:pt x="56" y="406"/>
                  </a:lnTo>
                  <a:lnTo>
                    <a:pt x="52" y="410"/>
                  </a:lnTo>
                  <a:lnTo>
                    <a:pt x="48" y="412"/>
                  </a:lnTo>
                  <a:lnTo>
                    <a:pt x="43" y="415"/>
                  </a:lnTo>
                  <a:lnTo>
                    <a:pt x="38" y="419"/>
                  </a:lnTo>
                  <a:lnTo>
                    <a:pt x="33" y="423"/>
                  </a:lnTo>
                  <a:lnTo>
                    <a:pt x="28" y="425"/>
                  </a:lnTo>
                  <a:lnTo>
                    <a:pt x="23" y="429"/>
                  </a:lnTo>
                  <a:lnTo>
                    <a:pt x="18" y="431"/>
                  </a:lnTo>
                  <a:lnTo>
                    <a:pt x="13" y="434"/>
                  </a:lnTo>
                  <a:lnTo>
                    <a:pt x="10" y="436"/>
                  </a:lnTo>
                  <a:lnTo>
                    <a:pt x="6" y="438"/>
                  </a:lnTo>
                  <a:lnTo>
                    <a:pt x="3" y="440"/>
                  </a:lnTo>
                  <a:lnTo>
                    <a:pt x="2" y="441"/>
                  </a:lnTo>
                  <a:lnTo>
                    <a:pt x="2" y="441"/>
                  </a:lnTo>
                  <a:lnTo>
                    <a:pt x="2" y="441"/>
                  </a:lnTo>
                  <a:lnTo>
                    <a:pt x="3" y="441"/>
                  </a:lnTo>
                  <a:lnTo>
                    <a:pt x="6" y="441"/>
                  </a:lnTo>
                  <a:lnTo>
                    <a:pt x="11" y="441"/>
                  </a:lnTo>
                  <a:lnTo>
                    <a:pt x="15" y="441"/>
                  </a:lnTo>
                  <a:lnTo>
                    <a:pt x="21" y="439"/>
                  </a:lnTo>
                  <a:lnTo>
                    <a:pt x="26" y="438"/>
                  </a:lnTo>
                  <a:lnTo>
                    <a:pt x="34" y="436"/>
                  </a:lnTo>
                  <a:lnTo>
                    <a:pt x="40" y="435"/>
                  </a:lnTo>
                  <a:lnTo>
                    <a:pt x="46" y="433"/>
                  </a:lnTo>
                  <a:lnTo>
                    <a:pt x="52" y="431"/>
                  </a:lnTo>
                  <a:lnTo>
                    <a:pt x="60" y="429"/>
                  </a:lnTo>
                  <a:lnTo>
                    <a:pt x="64" y="427"/>
                  </a:lnTo>
                  <a:lnTo>
                    <a:pt x="70" y="424"/>
                  </a:lnTo>
                  <a:lnTo>
                    <a:pt x="74" y="421"/>
                  </a:lnTo>
                  <a:lnTo>
                    <a:pt x="80" y="417"/>
                  </a:lnTo>
                  <a:lnTo>
                    <a:pt x="82" y="415"/>
                  </a:lnTo>
                  <a:lnTo>
                    <a:pt x="86" y="414"/>
                  </a:lnTo>
                  <a:lnTo>
                    <a:pt x="90" y="412"/>
                  </a:lnTo>
                  <a:lnTo>
                    <a:pt x="94" y="408"/>
                  </a:lnTo>
                  <a:lnTo>
                    <a:pt x="98" y="406"/>
                  </a:lnTo>
                  <a:lnTo>
                    <a:pt x="102" y="403"/>
                  </a:lnTo>
                  <a:lnTo>
                    <a:pt x="106" y="399"/>
                  </a:lnTo>
                  <a:lnTo>
                    <a:pt x="111" y="395"/>
                  </a:lnTo>
                  <a:lnTo>
                    <a:pt x="115" y="393"/>
                  </a:lnTo>
                  <a:lnTo>
                    <a:pt x="119" y="389"/>
                  </a:lnTo>
                  <a:lnTo>
                    <a:pt x="122" y="385"/>
                  </a:lnTo>
                  <a:lnTo>
                    <a:pt x="126" y="381"/>
                  </a:lnTo>
                  <a:lnTo>
                    <a:pt x="128" y="377"/>
                  </a:lnTo>
                  <a:lnTo>
                    <a:pt x="130" y="374"/>
                  </a:lnTo>
                  <a:lnTo>
                    <a:pt x="131" y="370"/>
                  </a:lnTo>
                  <a:lnTo>
                    <a:pt x="132" y="366"/>
                  </a:lnTo>
                  <a:lnTo>
                    <a:pt x="131" y="364"/>
                  </a:lnTo>
                  <a:lnTo>
                    <a:pt x="131" y="363"/>
                  </a:lnTo>
                  <a:lnTo>
                    <a:pt x="129" y="361"/>
                  </a:lnTo>
                  <a:lnTo>
                    <a:pt x="129" y="358"/>
                  </a:lnTo>
                  <a:lnTo>
                    <a:pt x="127" y="356"/>
                  </a:lnTo>
                  <a:lnTo>
                    <a:pt x="125" y="353"/>
                  </a:lnTo>
                  <a:lnTo>
                    <a:pt x="123" y="351"/>
                  </a:lnTo>
                  <a:lnTo>
                    <a:pt x="121" y="347"/>
                  </a:lnTo>
                  <a:lnTo>
                    <a:pt x="118" y="346"/>
                  </a:lnTo>
                  <a:lnTo>
                    <a:pt x="116" y="344"/>
                  </a:lnTo>
                  <a:lnTo>
                    <a:pt x="114" y="342"/>
                  </a:lnTo>
                  <a:lnTo>
                    <a:pt x="112" y="338"/>
                  </a:lnTo>
                  <a:lnTo>
                    <a:pt x="111" y="336"/>
                  </a:lnTo>
                  <a:lnTo>
                    <a:pt x="109" y="334"/>
                  </a:lnTo>
                  <a:lnTo>
                    <a:pt x="108" y="332"/>
                  </a:lnTo>
                  <a:lnTo>
                    <a:pt x="108" y="329"/>
                  </a:lnTo>
                  <a:lnTo>
                    <a:pt x="106" y="323"/>
                  </a:lnTo>
                  <a:lnTo>
                    <a:pt x="106" y="317"/>
                  </a:lnTo>
                  <a:lnTo>
                    <a:pt x="104" y="313"/>
                  </a:lnTo>
                  <a:lnTo>
                    <a:pt x="104" y="307"/>
                  </a:lnTo>
                  <a:lnTo>
                    <a:pt x="104" y="303"/>
                  </a:lnTo>
                  <a:lnTo>
                    <a:pt x="104" y="298"/>
                  </a:lnTo>
                  <a:lnTo>
                    <a:pt x="104" y="295"/>
                  </a:lnTo>
                  <a:lnTo>
                    <a:pt x="106" y="289"/>
                  </a:lnTo>
                  <a:lnTo>
                    <a:pt x="106" y="287"/>
                  </a:lnTo>
                  <a:lnTo>
                    <a:pt x="106" y="283"/>
                  </a:lnTo>
                  <a:lnTo>
                    <a:pt x="106" y="280"/>
                  </a:lnTo>
                  <a:lnTo>
                    <a:pt x="108" y="277"/>
                  </a:lnTo>
                  <a:lnTo>
                    <a:pt x="108" y="275"/>
                  </a:lnTo>
                  <a:lnTo>
                    <a:pt x="110" y="271"/>
                  </a:lnTo>
                  <a:lnTo>
                    <a:pt x="111" y="267"/>
                  </a:lnTo>
                  <a:lnTo>
                    <a:pt x="112" y="263"/>
                  </a:lnTo>
                  <a:lnTo>
                    <a:pt x="112" y="261"/>
                  </a:lnTo>
                  <a:lnTo>
                    <a:pt x="114" y="259"/>
                  </a:lnTo>
                  <a:lnTo>
                    <a:pt x="114" y="257"/>
                  </a:lnTo>
                  <a:lnTo>
                    <a:pt x="116" y="253"/>
                  </a:lnTo>
                  <a:lnTo>
                    <a:pt x="116" y="251"/>
                  </a:lnTo>
                  <a:lnTo>
                    <a:pt x="118" y="248"/>
                  </a:lnTo>
                  <a:lnTo>
                    <a:pt x="120" y="245"/>
                  </a:lnTo>
                  <a:lnTo>
                    <a:pt x="122" y="241"/>
                  </a:lnTo>
                  <a:lnTo>
                    <a:pt x="122" y="239"/>
                  </a:lnTo>
                  <a:lnTo>
                    <a:pt x="124" y="235"/>
                  </a:lnTo>
                  <a:lnTo>
                    <a:pt x="125" y="232"/>
                  </a:lnTo>
                  <a:lnTo>
                    <a:pt x="127" y="228"/>
                  </a:lnTo>
                  <a:lnTo>
                    <a:pt x="127" y="227"/>
                  </a:lnTo>
                  <a:lnTo>
                    <a:pt x="129" y="223"/>
                  </a:lnTo>
                  <a:lnTo>
                    <a:pt x="129" y="221"/>
                  </a:lnTo>
                  <a:lnTo>
                    <a:pt x="130" y="218"/>
                  </a:lnTo>
                  <a:lnTo>
                    <a:pt x="129" y="216"/>
                  </a:lnTo>
                  <a:lnTo>
                    <a:pt x="129" y="214"/>
                  </a:lnTo>
                  <a:lnTo>
                    <a:pt x="127" y="212"/>
                  </a:lnTo>
                  <a:lnTo>
                    <a:pt x="127" y="209"/>
                  </a:lnTo>
                  <a:lnTo>
                    <a:pt x="125" y="207"/>
                  </a:lnTo>
                  <a:lnTo>
                    <a:pt x="124" y="203"/>
                  </a:lnTo>
                  <a:lnTo>
                    <a:pt x="122" y="201"/>
                  </a:lnTo>
                  <a:lnTo>
                    <a:pt x="122" y="198"/>
                  </a:lnTo>
                  <a:lnTo>
                    <a:pt x="120" y="196"/>
                  </a:lnTo>
                  <a:lnTo>
                    <a:pt x="118" y="193"/>
                  </a:lnTo>
                  <a:lnTo>
                    <a:pt x="116" y="191"/>
                  </a:lnTo>
                  <a:lnTo>
                    <a:pt x="116" y="187"/>
                  </a:lnTo>
                  <a:lnTo>
                    <a:pt x="114" y="185"/>
                  </a:lnTo>
                  <a:lnTo>
                    <a:pt x="114" y="183"/>
                  </a:lnTo>
                  <a:lnTo>
                    <a:pt x="112" y="181"/>
                  </a:lnTo>
                  <a:lnTo>
                    <a:pt x="112" y="178"/>
                  </a:lnTo>
                  <a:lnTo>
                    <a:pt x="111" y="176"/>
                  </a:lnTo>
                  <a:lnTo>
                    <a:pt x="111" y="173"/>
                  </a:lnTo>
                  <a:lnTo>
                    <a:pt x="109" y="171"/>
                  </a:lnTo>
                  <a:lnTo>
                    <a:pt x="109" y="168"/>
                  </a:lnTo>
                  <a:lnTo>
                    <a:pt x="107" y="166"/>
                  </a:lnTo>
                  <a:lnTo>
                    <a:pt x="107" y="162"/>
                  </a:lnTo>
                  <a:lnTo>
                    <a:pt x="105" y="159"/>
                  </a:lnTo>
                  <a:lnTo>
                    <a:pt x="105" y="155"/>
                  </a:lnTo>
                  <a:lnTo>
                    <a:pt x="103" y="153"/>
                  </a:lnTo>
                  <a:lnTo>
                    <a:pt x="103" y="149"/>
                  </a:lnTo>
                  <a:lnTo>
                    <a:pt x="102" y="145"/>
                  </a:lnTo>
                  <a:lnTo>
                    <a:pt x="102" y="142"/>
                  </a:lnTo>
                  <a:lnTo>
                    <a:pt x="102" y="140"/>
                  </a:lnTo>
                  <a:lnTo>
                    <a:pt x="102" y="136"/>
                  </a:lnTo>
                  <a:lnTo>
                    <a:pt x="102" y="133"/>
                  </a:lnTo>
                  <a:lnTo>
                    <a:pt x="102" y="129"/>
                  </a:lnTo>
                  <a:lnTo>
                    <a:pt x="102" y="127"/>
                  </a:lnTo>
                  <a:lnTo>
                    <a:pt x="104" y="125"/>
                  </a:lnTo>
                  <a:lnTo>
                    <a:pt x="106" y="123"/>
                  </a:lnTo>
                  <a:lnTo>
                    <a:pt x="108" y="119"/>
                  </a:lnTo>
                  <a:lnTo>
                    <a:pt x="110" y="117"/>
                  </a:lnTo>
                  <a:lnTo>
                    <a:pt x="113" y="113"/>
                  </a:lnTo>
                  <a:lnTo>
                    <a:pt x="116" y="111"/>
                  </a:lnTo>
                  <a:lnTo>
                    <a:pt x="119" y="107"/>
                  </a:lnTo>
                  <a:lnTo>
                    <a:pt x="121" y="105"/>
                  </a:lnTo>
                  <a:lnTo>
                    <a:pt x="125" y="101"/>
                  </a:lnTo>
                  <a:lnTo>
                    <a:pt x="127" y="98"/>
                  </a:lnTo>
                  <a:lnTo>
                    <a:pt x="130" y="94"/>
                  </a:lnTo>
                  <a:lnTo>
                    <a:pt x="132" y="92"/>
                  </a:lnTo>
                  <a:lnTo>
                    <a:pt x="135" y="89"/>
                  </a:lnTo>
                  <a:lnTo>
                    <a:pt x="137" y="87"/>
                  </a:lnTo>
                  <a:lnTo>
                    <a:pt x="139" y="83"/>
                  </a:lnTo>
                  <a:lnTo>
                    <a:pt x="139" y="81"/>
                  </a:lnTo>
                  <a:lnTo>
                    <a:pt x="140" y="76"/>
                  </a:lnTo>
                  <a:lnTo>
                    <a:pt x="142" y="71"/>
                  </a:lnTo>
                  <a:lnTo>
                    <a:pt x="144" y="65"/>
                  </a:lnTo>
                  <a:lnTo>
                    <a:pt x="144" y="59"/>
                  </a:lnTo>
                  <a:lnTo>
                    <a:pt x="146" y="52"/>
                  </a:lnTo>
                  <a:lnTo>
                    <a:pt x="147" y="44"/>
                  </a:lnTo>
                  <a:lnTo>
                    <a:pt x="149" y="37"/>
                  </a:lnTo>
                  <a:lnTo>
                    <a:pt x="149" y="31"/>
                  </a:lnTo>
                  <a:lnTo>
                    <a:pt x="150" y="24"/>
                  </a:lnTo>
                  <a:lnTo>
                    <a:pt x="150" y="18"/>
                  </a:lnTo>
                  <a:lnTo>
                    <a:pt x="151" y="11"/>
                  </a:lnTo>
                  <a:lnTo>
                    <a:pt x="150" y="7"/>
                  </a:lnTo>
                  <a:lnTo>
                    <a:pt x="150" y="4"/>
                  </a:lnTo>
                  <a:lnTo>
                    <a:pt x="149" y="1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9" y="0"/>
                  </a:lnTo>
                  <a:lnTo>
                    <a:pt x="130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65520" y="6756480"/>
              <a:ext cx="87480" cy="16020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29" y="24"/>
                  </a:moveTo>
                  <a:lnTo>
                    <a:pt x="28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3" y="46"/>
                  </a:lnTo>
                  <a:lnTo>
                    <a:pt x="34" y="48"/>
                  </a:lnTo>
                  <a:lnTo>
                    <a:pt x="35" y="50"/>
                  </a:lnTo>
                  <a:lnTo>
                    <a:pt x="37" y="50"/>
                  </a:lnTo>
                  <a:lnTo>
                    <a:pt x="38" y="51"/>
                  </a:lnTo>
                  <a:lnTo>
                    <a:pt x="40" y="53"/>
                  </a:lnTo>
                  <a:lnTo>
                    <a:pt x="44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8"/>
                  </a:lnTo>
                  <a:lnTo>
                    <a:pt x="48" y="58"/>
                  </a:lnTo>
                  <a:lnTo>
                    <a:pt x="48" y="60"/>
                  </a:lnTo>
                  <a:lnTo>
                    <a:pt x="49" y="61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1" y="65"/>
                  </a:lnTo>
                  <a:lnTo>
                    <a:pt x="51" y="67"/>
                  </a:lnTo>
                  <a:lnTo>
                    <a:pt x="51" y="69"/>
                  </a:lnTo>
                  <a:lnTo>
                    <a:pt x="53" y="70"/>
                  </a:lnTo>
                  <a:lnTo>
                    <a:pt x="53" y="72"/>
                  </a:lnTo>
                  <a:lnTo>
                    <a:pt x="53" y="73"/>
                  </a:lnTo>
                  <a:lnTo>
                    <a:pt x="53" y="75"/>
                  </a:lnTo>
                  <a:lnTo>
                    <a:pt x="54" y="75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0" y="87"/>
                  </a:lnTo>
                  <a:lnTo>
                    <a:pt x="38" y="87"/>
                  </a:lnTo>
                  <a:lnTo>
                    <a:pt x="36" y="89"/>
                  </a:lnTo>
                  <a:lnTo>
                    <a:pt x="34" y="89"/>
                  </a:lnTo>
                  <a:lnTo>
                    <a:pt x="30" y="91"/>
                  </a:lnTo>
                  <a:lnTo>
                    <a:pt x="28" y="91"/>
                  </a:lnTo>
                  <a:lnTo>
                    <a:pt x="26" y="93"/>
                  </a:lnTo>
                  <a:lnTo>
                    <a:pt x="24" y="93"/>
                  </a:lnTo>
                  <a:lnTo>
                    <a:pt x="20" y="95"/>
                  </a:lnTo>
                  <a:lnTo>
                    <a:pt x="18" y="96"/>
                  </a:lnTo>
                  <a:lnTo>
                    <a:pt x="14" y="98"/>
                  </a:lnTo>
                  <a:lnTo>
                    <a:pt x="12" y="98"/>
                  </a:lnTo>
                  <a:lnTo>
                    <a:pt x="10" y="100"/>
                  </a:lnTo>
                  <a:lnTo>
                    <a:pt x="8" y="100"/>
                  </a:lnTo>
                  <a:lnTo>
                    <a:pt x="6" y="100"/>
                  </a:lnTo>
                  <a:lnTo>
                    <a:pt x="5" y="100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6" y="96"/>
                  </a:lnTo>
                  <a:lnTo>
                    <a:pt x="6" y="94"/>
                  </a:lnTo>
                  <a:lnTo>
                    <a:pt x="7" y="92"/>
                  </a:lnTo>
                  <a:lnTo>
                    <a:pt x="8" y="91"/>
                  </a:lnTo>
                  <a:lnTo>
                    <a:pt x="10" y="87"/>
                  </a:lnTo>
                  <a:lnTo>
                    <a:pt x="10" y="85"/>
                  </a:lnTo>
                  <a:lnTo>
                    <a:pt x="12" y="82"/>
                  </a:lnTo>
                  <a:lnTo>
                    <a:pt x="14" y="81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3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7" y="8"/>
                  </a:lnTo>
                  <a:lnTo>
                    <a:pt x="38" y="10"/>
                  </a:lnTo>
                  <a:lnTo>
                    <a:pt x="37" y="14"/>
                  </a:lnTo>
                  <a:lnTo>
                    <a:pt x="36" y="17"/>
                  </a:lnTo>
                  <a:lnTo>
                    <a:pt x="33" y="21"/>
                  </a:lnTo>
                  <a:lnTo>
                    <a:pt x="29" y="24"/>
                  </a:lnTo>
                  <a:lnTo>
                    <a:pt x="29" y="24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81360" y="7010280"/>
              <a:ext cx="120960" cy="14292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60" y="24"/>
                  </a:moveTo>
                  <a:lnTo>
                    <a:pt x="59" y="26"/>
                  </a:lnTo>
                  <a:lnTo>
                    <a:pt x="59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7" y="37"/>
                  </a:lnTo>
                  <a:lnTo>
                    <a:pt x="58" y="39"/>
                  </a:lnTo>
                  <a:lnTo>
                    <a:pt x="60" y="40"/>
                  </a:lnTo>
                  <a:lnTo>
                    <a:pt x="64" y="42"/>
                  </a:lnTo>
                  <a:lnTo>
                    <a:pt x="67" y="44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71" y="53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71" y="56"/>
                  </a:lnTo>
                  <a:lnTo>
                    <a:pt x="73" y="56"/>
                  </a:lnTo>
                  <a:lnTo>
                    <a:pt x="73" y="57"/>
                  </a:lnTo>
                  <a:lnTo>
                    <a:pt x="73" y="57"/>
                  </a:lnTo>
                  <a:lnTo>
                    <a:pt x="73" y="59"/>
                  </a:lnTo>
                  <a:lnTo>
                    <a:pt x="74" y="59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4" y="63"/>
                  </a:lnTo>
                  <a:lnTo>
                    <a:pt x="75" y="63"/>
                  </a:lnTo>
                  <a:lnTo>
                    <a:pt x="75" y="65"/>
                  </a:lnTo>
                  <a:lnTo>
                    <a:pt x="75" y="67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5" y="70"/>
                  </a:lnTo>
                  <a:lnTo>
                    <a:pt x="75" y="70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3" y="74"/>
                  </a:lnTo>
                  <a:lnTo>
                    <a:pt x="73" y="75"/>
                  </a:lnTo>
                  <a:lnTo>
                    <a:pt x="72" y="77"/>
                  </a:lnTo>
                  <a:lnTo>
                    <a:pt x="72" y="77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61" y="86"/>
                  </a:lnTo>
                  <a:lnTo>
                    <a:pt x="59" y="86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1" y="88"/>
                  </a:lnTo>
                  <a:lnTo>
                    <a:pt x="48" y="88"/>
                  </a:lnTo>
                  <a:lnTo>
                    <a:pt x="44" y="88"/>
                  </a:lnTo>
                  <a:lnTo>
                    <a:pt x="42" y="88"/>
                  </a:lnTo>
                  <a:lnTo>
                    <a:pt x="36" y="89"/>
                  </a:lnTo>
                  <a:lnTo>
                    <a:pt x="32" y="89"/>
                  </a:lnTo>
                  <a:lnTo>
                    <a:pt x="27" y="89"/>
                  </a:lnTo>
                  <a:lnTo>
                    <a:pt x="24" y="88"/>
                  </a:lnTo>
                  <a:lnTo>
                    <a:pt x="18" y="88"/>
                  </a:lnTo>
                  <a:lnTo>
                    <a:pt x="14" y="87"/>
                  </a:lnTo>
                  <a:lnTo>
                    <a:pt x="8" y="86"/>
                  </a:lnTo>
                  <a:lnTo>
                    <a:pt x="5" y="84"/>
                  </a:lnTo>
                  <a:lnTo>
                    <a:pt x="5" y="84"/>
                  </a:lnTo>
                  <a:lnTo>
                    <a:pt x="5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9" y="79"/>
                  </a:lnTo>
                  <a:lnTo>
                    <a:pt x="9" y="78"/>
                  </a:lnTo>
                  <a:lnTo>
                    <a:pt x="11" y="77"/>
                  </a:lnTo>
                  <a:lnTo>
                    <a:pt x="11" y="76"/>
                  </a:lnTo>
                  <a:lnTo>
                    <a:pt x="13" y="74"/>
                  </a:lnTo>
                  <a:lnTo>
                    <a:pt x="14" y="72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7" y="64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3" y="52"/>
                  </a:lnTo>
                  <a:lnTo>
                    <a:pt x="23" y="50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5" y="42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4" y="9"/>
                  </a:lnTo>
                  <a:lnTo>
                    <a:pt x="29" y="10"/>
                  </a:lnTo>
                  <a:lnTo>
                    <a:pt x="36" y="11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2" y="14"/>
                  </a:lnTo>
                  <a:lnTo>
                    <a:pt x="56" y="14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4" y="18"/>
                  </a:lnTo>
                  <a:lnTo>
                    <a:pt x="64" y="19"/>
                  </a:lnTo>
                  <a:lnTo>
                    <a:pt x="63" y="22"/>
                  </a:lnTo>
                  <a:lnTo>
                    <a:pt x="60" y="24"/>
                  </a:lnTo>
                  <a:lnTo>
                    <a:pt x="60" y="24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97560" y="7246800"/>
              <a:ext cx="96840" cy="133560"/>
            </a:xfrm>
            <a:custGeom>
              <a:avLst/>
              <a:gdLst/>
              <a:ahLst/>
              <a:rect l="l" t="t" r="r" b="b"/>
              <a:pathLst>
                <a:path w="61" h="84">
                  <a:moveTo>
                    <a:pt x="55" y="52"/>
                  </a:moveTo>
                  <a:lnTo>
                    <a:pt x="53" y="52"/>
                  </a:lnTo>
                  <a:lnTo>
                    <a:pt x="52" y="51"/>
                  </a:lnTo>
                  <a:lnTo>
                    <a:pt x="50" y="51"/>
                  </a:lnTo>
                  <a:lnTo>
                    <a:pt x="49" y="49"/>
                  </a:lnTo>
                  <a:lnTo>
                    <a:pt x="46" y="47"/>
                  </a:lnTo>
                  <a:lnTo>
                    <a:pt x="44" y="46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7" y="41"/>
                  </a:lnTo>
                  <a:lnTo>
                    <a:pt x="35" y="39"/>
                  </a:lnTo>
                  <a:lnTo>
                    <a:pt x="34" y="37"/>
                  </a:lnTo>
                  <a:lnTo>
                    <a:pt x="32" y="35"/>
                  </a:lnTo>
                  <a:lnTo>
                    <a:pt x="30" y="35"/>
                  </a:lnTo>
                  <a:lnTo>
                    <a:pt x="30" y="33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7" y="28"/>
                  </a:lnTo>
                  <a:lnTo>
                    <a:pt x="38" y="28"/>
                  </a:lnTo>
                  <a:lnTo>
                    <a:pt x="42" y="27"/>
                  </a:lnTo>
                  <a:lnTo>
                    <a:pt x="45" y="27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5" y="18"/>
                  </a:lnTo>
                  <a:lnTo>
                    <a:pt x="53" y="16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0" y="13"/>
                  </a:lnTo>
                  <a:lnTo>
                    <a:pt x="37" y="11"/>
                  </a:lnTo>
                  <a:lnTo>
                    <a:pt x="33" y="11"/>
                  </a:lnTo>
                  <a:lnTo>
                    <a:pt x="29" y="9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6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4" y="34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3" y="41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0" y="59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2" y="79"/>
                  </a:lnTo>
                  <a:lnTo>
                    <a:pt x="2" y="81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2" y="83"/>
                  </a:lnTo>
                  <a:lnTo>
                    <a:pt x="4" y="83"/>
                  </a:lnTo>
                  <a:lnTo>
                    <a:pt x="7" y="83"/>
                  </a:lnTo>
                  <a:lnTo>
                    <a:pt x="13" y="83"/>
                  </a:lnTo>
                  <a:lnTo>
                    <a:pt x="18" y="83"/>
                  </a:lnTo>
                  <a:lnTo>
                    <a:pt x="24" y="81"/>
                  </a:lnTo>
                  <a:lnTo>
                    <a:pt x="30" y="79"/>
                  </a:lnTo>
                  <a:lnTo>
                    <a:pt x="38" y="77"/>
                  </a:lnTo>
                  <a:lnTo>
                    <a:pt x="43" y="75"/>
                  </a:lnTo>
                  <a:lnTo>
                    <a:pt x="48" y="73"/>
                  </a:lnTo>
                  <a:lnTo>
                    <a:pt x="53" y="71"/>
                  </a:lnTo>
                  <a:lnTo>
                    <a:pt x="57" y="67"/>
                  </a:lnTo>
                  <a:lnTo>
                    <a:pt x="59" y="64"/>
                  </a:lnTo>
                  <a:lnTo>
                    <a:pt x="60" y="61"/>
                  </a:lnTo>
                  <a:lnTo>
                    <a:pt x="58" y="57"/>
                  </a:lnTo>
                  <a:lnTo>
                    <a:pt x="55" y="52"/>
                  </a:lnTo>
                  <a:lnTo>
                    <a:pt x="55" y="5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589640" y="747720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50" y="15"/>
                  </a:moveTo>
                  <a:lnTo>
                    <a:pt x="49" y="16"/>
                  </a:lnTo>
                  <a:lnTo>
                    <a:pt x="49" y="16"/>
                  </a:lnTo>
                  <a:lnTo>
                    <a:pt x="47" y="17"/>
                  </a:lnTo>
                  <a:lnTo>
                    <a:pt x="46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6"/>
                  </a:lnTo>
                  <a:lnTo>
                    <a:pt x="34" y="27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9" y="40"/>
                  </a:lnTo>
                  <a:lnTo>
                    <a:pt x="41" y="40"/>
                  </a:lnTo>
                  <a:lnTo>
                    <a:pt x="43" y="40"/>
                  </a:lnTo>
                  <a:lnTo>
                    <a:pt x="47" y="40"/>
                  </a:lnTo>
                  <a:lnTo>
                    <a:pt x="50" y="41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60" y="44"/>
                  </a:lnTo>
                  <a:lnTo>
                    <a:pt x="62" y="46"/>
                  </a:lnTo>
                  <a:lnTo>
                    <a:pt x="65" y="47"/>
                  </a:lnTo>
                  <a:lnTo>
                    <a:pt x="67" y="50"/>
                  </a:lnTo>
                  <a:lnTo>
                    <a:pt x="69" y="53"/>
                  </a:lnTo>
                  <a:lnTo>
                    <a:pt x="69" y="57"/>
                  </a:lnTo>
                  <a:lnTo>
                    <a:pt x="70" y="60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5" y="67"/>
                  </a:lnTo>
                  <a:lnTo>
                    <a:pt x="63" y="68"/>
                  </a:lnTo>
                  <a:lnTo>
                    <a:pt x="59" y="70"/>
                  </a:lnTo>
                  <a:lnTo>
                    <a:pt x="56" y="70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9" y="74"/>
                  </a:lnTo>
                  <a:lnTo>
                    <a:pt x="35" y="74"/>
                  </a:lnTo>
                  <a:lnTo>
                    <a:pt x="31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24" y="71"/>
                  </a:lnTo>
                  <a:lnTo>
                    <a:pt x="24" y="70"/>
                  </a:lnTo>
                  <a:lnTo>
                    <a:pt x="24" y="68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17" y="40"/>
                  </a:lnTo>
                  <a:lnTo>
                    <a:pt x="17" y="37"/>
                  </a:lnTo>
                  <a:lnTo>
                    <a:pt x="15" y="36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9" y="8"/>
                  </a:lnTo>
                  <a:lnTo>
                    <a:pt x="15" y="6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3" y="5"/>
                  </a:lnTo>
                  <a:lnTo>
                    <a:pt x="54" y="7"/>
                  </a:lnTo>
                  <a:lnTo>
                    <a:pt x="53" y="11"/>
                  </a:lnTo>
                  <a:lnTo>
                    <a:pt x="50" y="15"/>
                  </a:lnTo>
                  <a:lnTo>
                    <a:pt x="50" y="15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99040" y="6735600"/>
              <a:ext cx="433440" cy="101880"/>
            </a:xfrm>
            <a:custGeom>
              <a:avLst/>
              <a:gdLst/>
              <a:ahLst/>
              <a:rect l="l" t="t" r="r" b="b"/>
              <a:pathLst>
                <a:path w="273" h="64">
                  <a:moveTo>
                    <a:pt x="246" y="0"/>
                  </a:moveTo>
                  <a:lnTo>
                    <a:pt x="243" y="0"/>
                  </a:lnTo>
                  <a:lnTo>
                    <a:pt x="241" y="0"/>
                  </a:lnTo>
                  <a:lnTo>
                    <a:pt x="238" y="0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30" y="0"/>
                  </a:lnTo>
                  <a:lnTo>
                    <a:pt x="227" y="0"/>
                  </a:lnTo>
                  <a:lnTo>
                    <a:pt x="225" y="0"/>
                  </a:lnTo>
                  <a:lnTo>
                    <a:pt x="221" y="1"/>
                  </a:lnTo>
                  <a:lnTo>
                    <a:pt x="218" y="1"/>
                  </a:lnTo>
                  <a:lnTo>
                    <a:pt x="214" y="1"/>
                  </a:lnTo>
                  <a:lnTo>
                    <a:pt x="212" y="1"/>
                  </a:lnTo>
                  <a:lnTo>
                    <a:pt x="209" y="1"/>
                  </a:lnTo>
                  <a:lnTo>
                    <a:pt x="207" y="1"/>
                  </a:lnTo>
                  <a:lnTo>
                    <a:pt x="206" y="1"/>
                  </a:lnTo>
                  <a:lnTo>
                    <a:pt x="204" y="1"/>
                  </a:lnTo>
                  <a:lnTo>
                    <a:pt x="200" y="3"/>
                  </a:lnTo>
                  <a:lnTo>
                    <a:pt x="197" y="3"/>
                  </a:lnTo>
                  <a:lnTo>
                    <a:pt x="194" y="3"/>
                  </a:lnTo>
                  <a:lnTo>
                    <a:pt x="192" y="3"/>
                  </a:lnTo>
                  <a:lnTo>
                    <a:pt x="188" y="5"/>
                  </a:lnTo>
                  <a:lnTo>
                    <a:pt x="184" y="5"/>
                  </a:lnTo>
                  <a:lnTo>
                    <a:pt x="180" y="5"/>
                  </a:lnTo>
                  <a:lnTo>
                    <a:pt x="177" y="5"/>
                  </a:lnTo>
                  <a:lnTo>
                    <a:pt x="174" y="7"/>
                  </a:lnTo>
                  <a:lnTo>
                    <a:pt x="170" y="7"/>
                  </a:lnTo>
                  <a:lnTo>
                    <a:pt x="166" y="7"/>
                  </a:lnTo>
                  <a:lnTo>
                    <a:pt x="162" y="7"/>
                  </a:lnTo>
                  <a:lnTo>
                    <a:pt x="159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50" y="8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2" y="10"/>
                  </a:lnTo>
                  <a:lnTo>
                    <a:pt x="140" y="10"/>
                  </a:lnTo>
                  <a:lnTo>
                    <a:pt x="137" y="12"/>
                  </a:lnTo>
                  <a:lnTo>
                    <a:pt x="134" y="12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4" y="14"/>
                  </a:lnTo>
                  <a:lnTo>
                    <a:pt x="120" y="14"/>
                  </a:lnTo>
                  <a:lnTo>
                    <a:pt x="117" y="14"/>
                  </a:lnTo>
                  <a:lnTo>
                    <a:pt x="114" y="14"/>
                  </a:lnTo>
                  <a:lnTo>
                    <a:pt x="111" y="15"/>
                  </a:lnTo>
                  <a:lnTo>
                    <a:pt x="109" y="15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0" y="17"/>
                  </a:lnTo>
                  <a:lnTo>
                    <a:pt x="96" y="17"/>
                  </a:lnTo>
                  <a:lnTo>
                    <a:pt x="92" y="17"/>
                  </a:lnTo>
                  <a:lnTo>
                    <a:pt x="88" y="17"/>
                  </a:lnTo>
                  <a:lnTo>
                    <a:pt x="82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8" y="18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8" y="20"/>
                  </a:lnTo>
                  <a:lnTo>
                    <a:pt x="44" y="20"/>
                  </a:lnTo>
                  <a:lnTo>
                    <a:pt x="40" y="20"/>
                  </a:lnTo>
                  <a:lnTo>
                    <a:pt x="36" y="20"/>
                  </a:lnTo>
                  <a:lnTo>
                    <a:pt x="33" y="20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25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3" y="26"/>
                  </a:lnTo>
                  <a:lnTo>
                    <a:pt x="18" y="26"/>
                  </a:lnTo>
                  <a:lnTo>
                    <a:pt x="24" y="26"/>
                  </a:lnTo>
                  <a:lnTo>
                    <a:pt x="30" y="26"/>
                  </a:lnTo>
                  <a:lnTo>
                    <a:pt x="34" y="27"/>
                  </a:lnTo>
                  <a:lnTo>
                    <a:pt x="40" y="27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5" y="29"/>
                  </a:lnTo>
                  <a:lnTo>
                    <a:pt x="61" y="29"/>
                  </a:lnTo>
                  <a:lnTo>
                    <a:pt x="64" y="31"/>
                  </a:lnTo>
                  <a:lnTo>
                    <a:pt x="68" y="31"/>
                  </a:lnTo>
                  <a:lnTo>
                    <a:pt x="68" y="33"/>
                  </a:lnTo>
                  <a:lnTo>
                    <a:pt x="69" y="33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1" y="36"/>
                  </a:lnTo>
                  <a:lnTo>
                    <a:pt x="72" y="36"/>
                  </a:lnTo>
                  <a:lnTo>
                    <a:pt x="72" y="37"/>
                  </a:lnTo>
                  <a:lnTo>
                    <a:pt x="74" y="37"/>
                  </a:lnTo>
                  <a:lnTo>
                    <a:pt x="74" y="39"/>
                  </a:lnTo>
                  <a:lnTo>
                    <a:pt x="75" y="39"/>
                  </a:lnTo>
                  <a:lnTo>
                    <a:pt x="75" y="41"/>
                  </a:lnTo>
                  <a:lnTo>
                    <a:pt x="77" y="41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4" y="47"/>
                  </a:lnTo>
                  <a:lnTo>
                    <a:pt x="74" y="47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69" y="49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4" y="51"/>
                  </a:lnTo>
                  <a:lnTo>
                    <a:pt x="62" y="51"/>
                  </a:lnTo>
                  <a:lnTo>
                    <a:pt x="59" y="53"/>
                  </a:lnTo>
                  <a:lnTo>
                    <a:pt x="57" y="53"/>
                  </a:lnTo>
                  <a:lnTo>
                    <a:pt x="53" y="54"/>
                  </a:lnTo>
                  <a:lnTo>
                    <a:pt x="51" y="54"/>
                  </a:lnTo>
                  <a:lnTo>
                    <a:pt x="48" y="54"/>
                  </a:lnTo>
                  <a:lnTo>
                    <a:pt x="46" y="54"/>
                  </a:lnTo>
                  <a:lnTo>
                    <a:pt x="42" y="56"/>
                  </a:lnTo>
                  <a:lnTo>
                    <a:pt x="39" y="56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23" y="58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2" y="63"/>
                  </a:lnTo>
                  <a:lnTo>
                    <a:pt x="4" y="63"/>
                  </a:lnTo>
                  <a:lnTo>
                    <a:pt x="8" y="63"/>
                  </a:lnTo>
                  <a:lnTo>
                    <a:pt x="12" y="63"/>
                  </a:lnTo>
                  <a:lnTo>
                    <a:pt x="18" y="63"/>
                  </a:lnTo>
                  <a:lnTo>
                    <a:pt x="23" y="63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3" y="62"/>
                  </a:lnTo>
                  <a:lnTo>
                    <a:pt x="49" y="62"/>
                  </a:lnTo>
                  <a:lnTo>
                    <a:pt x="56" y="61"/>
                  </a:lnTo>
                  <a:lnTo>
                    <a:pt x="62" y="61"/>
                  </a:lnTo>
                  <a:lnTo>
                    <a:pt x="68" y="61"/>
                  </a:lnTo>
                  <a:lnTo>
                    <a:pt x="72" y="61"/>
                  </a:lnTo>
                  <a:lnTo>
                    <a:pt x="77" y="59"/>
                  </a:lnTo>
                  <a:lnTo>
                    <a:pt x="79" y="59"/>
                  </a:lnTo>
                  <a:lnTo>
                    <a:pt x="82" y="59"/>
                  </a:lnTo>
                  <a:lnTo>
                    <a:pt x="84" y="59"/>
                  </a:lnTo>
                  <a:lnTo>
                    <a:pt x="88" y="57"/>
                  </a:lnTo>
                  <a:lnTo>
                    <a:pt x="92" y="57"/>
                  </a:lnTo>
                  <a:lnTo>
                    <a:pt x="96" y="56"/>
                  </a:lnTo>
                  <a:lnTo>
                    <a:pt x="99" y="56"/>
                  </a:lnTo>
                  <a:lnTo>
                    <a:pt x="104" y="54"/>
                  </a:lnTo>
                  <a:lnTo>
                    <a:pt x="108" y="54"/>
                  </a:lnTo>
                  <a:lnTo>
                    <a:pt x="112" y="53"/>
                  </a:lnTo>
                  <a:lnTo>
                    <a:pt x="116" y="53"/>
                  </a:lnTo>
                  <a:lnTo>
                    <a:pt x="119" y="51"/>
                  </a:lnTo>
                  <a:lnTo>
                    <a:pt x="122" y="51"/>
                  </a:lnTo>
                  <a:lnTo>
                    <a:pt x="126" y="49"/>
                  </a:lnTo>
                  <a:lnTo>
                    <a:pt x="129" y="49"/>
                  </a:lnTo>
                  <a:lnTo>
                    <a:pt x="132" y="47"/>
                  </a:lnTo>
                  <a:lnTo>
                    <a:pt x="134" y="47"/>
                  </a:lnTo>
                  <a:lnTo>
                    <a:pt x="138" y="47"/>
                  </a:lnTo>
                  <a:lnTo>
                    <a:pt x="139" y="47"/>
                  </a:lnTo>
                  <a:lnTo>
                    <a:pt x="143" y="47"/>
                  </a:lnTo>
                  <a:lnTo>
                    <a:pt x="146" y="47"/>
                  </a:lnTo>
                  <a:lnTo>
                    <a:pt x="150" y="47"/>
                  </a:lnTo>
                  <a:lnTo>
                    <a:pt x="154" y="47"/>
                  </a:lnTo>
                  <a:lnTo>
                    <a:pt x="158" y="46"/>
                  </a:lnTo>
                  <a:lnTo>
                    <a:pt x="160" y="46"/>
                  </a:lnTo>
                  <a:lnTo>
                    <a:pt x="164" y="46"/>
                  </a:lnTo>
                  <a:lnTo>
                    <a:pt x="167" y="46"/>
                  </a:lnTo>
                  <a:lnTo>
                    <a:pt x="171" y="45"/>
                  </a:lnTo>
                  <a:lnTo>
                    <a:pt x="173" y="45"/>
                  </a:lnTo>
                  <a:lnTo>
                    <a:pt x="177" y="45"/>
                  </a:lnTo>
                  <a:lnTo>
                    <a:pt x="179" y="45"/>
                  </a:lnTo>
                  <a:lnTo>
                    <a:pt x="183" y="43"/>
                  </a:lnTo>
                  <a:lnTo>
                    <a:pt x="185" y="43"/>
                  </a:lnTo>
                  <a:lnTo>
                    <a:pt x="187" y="43"/>
                  </a:lnTo>
                  <a:lnTo>
                    <a:pt x="189" y="43"/>
                  </a:lnTo>
                  <a:lnTo>
                    <a:pt x="192" y="43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200" y="43"/>
                  </a:lnTo>
                  <a:lnTo>
                    <a:pt x="204" y="43"/>
                  </a:lnTo>
                  <a:lnTo>
                    <a:pt x="206" y="43"/>
                  </a:lnTo>
                  <a:lnTo>
                    <a:pt x="210" y="43"/>
                  </a:lnTo>
                  <a:lnTo>
                    <a:pt x="212" y="43"/>
                  </a:lnTo>
                  <a:lnTo>
                    <a:pt x="216" y="43"/>
                  </a:lnTo>
                  <a:lnTo>
                    <a:pt x="218" y="43"/>
                  </a:lnTo>
                  <a:lnTo>
                    <a:pt x="221" y="43"/>
                  </a:lnTo>
                  <a:lnTo>
                    <a:pt x="223" y="43"/>
                  </a:lnTo>
                  <a:lnTo>
                    <a:pt x="227" y="43"/>
                  </a:lnTo>
                  <a:lnTo>
                    <a:pt x="228" y="45"/>
                  </a:lnTo>
                  <a:lnTo>
                    <a:pt x="231" y="45"/>
                  </a:lnTo>
                  <a:lnTo>
                    <a:pt x="234" y="45"/>
                  </a:lnTo>
                  <a:lnTo>
                    <a:pt x="238" y="45"/>
                  </a:lnTo>
                  <a:lnTo>
                    <a:pt x="242" y="45"/>
                  </a:lnTo>
                  <a:lnTo>
                    <a:pt x="245" y="45"/>
                  </a:lnTo>
                  <a:lnTo>
                    <a:pt x="249" y="45"/>
                  </a:lnTo>
                  <a:lnTo>
                    <a:pt x="254" y="45"/>
                  </a:lnTo>
                  <a:lnTo>
                    <a:pt x="256" y="45"/>
                  </a:lnTo>
                  <a:lnTo>
                    <a:pt x="260" y="45"/>
                  </a:lnTo>
                  <a:lnTo>
                    <a:pt x="262" y="45"/>
                  </a:lnTo>
                  <a:lnTo>
                    <a:pt x="266" y="45"/>
                  </a:lnTo>
                  <a:lnTo>
                    <a:pt x="268" y="45"/>
                  </a:lnTo>
                  <a:lnTo>
                    <a:pt x="270" y="45"/>
                  </a:lnTo>
                  <a:lnTo>
                    <a:pt x="271" y="45"/>
                  </a:lnTo>
                  <a:lnTo>
                    <a:pt x="272" y="43"/>
                  </a:lnTo>
                  <a:lnTo>
                    <a:pt x="271" y="43"/>
                  </a:lnTo>
                  <a:lnTo>
                    <a:pt x="271" y="43"/>
                  </a:lnTo>
                  <a:lnTo>
                    <a:pt x="269" y="43"/>
                  </a:lnTo>
                  <a:lnTo>
                    <a:pt x="269" y="43"/>
                  </a:lnTo>
                  <a:lnTo>
                    <a:pt x="267" y="43"/>
                  </a:lnTo>
                  <a:lnTo>
                    <a:pt x="266" y="43"/>
                  </a:lnTo>
                  <a:lnTo>
                    <a:pt x="264" y="43"/>
                  </a:lnTo>
                  <a:lnTo>
                    <a:pt x="263" y="41"/>
                  </a:lnTo>
                  <a:lnTo>
                    <a:pt x="260" y="41"/>
                  </a:lnTo>
                  <a:lnTo>
                    <a:pt x="258" y="41"/>
                  </a:lnTo>
                  <a:lnTo>
                    <a:pt x="257" y="41"/>
                  </a:lnTo>
                  <a:lnTo>
                    <a:pt x="255" y="39"/>
                  </a:lnTo>
                  <a:lnTo>
                    <a:pt x="253" y="39"/>
                  </a:lnTo>
                  <a:lnTo>
                    <a:pt x="252" y="39"/>
                  </a:lnTo>
                  <a:lnTo>
                    <a:pt x="250" y="39"/>
                  </a:lnTo>
                  <a:lnTo>
                    <a:pt x="250" y="37"/>
                  </a:lnTo>
                  <a:lnTo>
                    <a:pt x="248" y="37"/>
                  </a:lnTo>
                  <a:lnTo>
                    <a:pt x="248" y="36"/>
                  </a:lnTo>
                  <a:lnTo>
                    <a:pt x="248" y="36"/>
                  </a:lnTo>
                  <a:lnTo>
                    <a:pt x="248" y="35"/>
                  </a:lnTo>
                  <a:lnTo>
                    <a:pt x="246" y="35"/>
                  </a:lnTo>
                  <a:lnTo>
                    <a:pt x="246" y="33"/>
                  </a:lnTo>
                  <a:lnTo>
                    <a:pt x="246" y="33"/>
                  </a:lnTo>
                  <a:lnTo>
                    <a:pt x="246" y="31"/>
                  </a:lnTo>
                  <a:lnTo>
                    <a:pt x="244" y="31"/>
                  </a:lnTo>
                  <a:lnTo>
                    <a:pt x="244" y="29"/>
                  </a:lnTo>
                  <a:lnTo>
                    <a:pt x="244" y="29"/>
                  </a:lnTo>
                  <a:lnTo>
                    <a:pt x="244" y="27"/>
                  </a:lnTo>
                  <a:lnTo>
                    <a:pt x="244" y="27"/>
                  </a:lnTo>
                  <a:lnTo>
                    <a:pt x="244" y="25"/>
                  </a:lnTo>
                  <a:lnTo>
                    <a:pt x="244" y="25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1"/>
                  </a:lnTo>
                  <a:lnTo>
                    <a:pt x="244" y="21"/>
                  </a:lnTo>
                  <a:lnTo>
                    <a:pt x="244" y="20"/>
                  </a:lnTo>
                  <a:lnTo>
                    <a:pt x="244" y="20"/>
                  </a:lnTo>
                  <a:lnTo>
                    <a:pt x="245" y="18"/>
                  </a:lnTo>
                  <a:lnTo>
                    <a:pt x="245" y="18"/>
                  </a:lnTo>
                  <a:lnTo>
                    <a:pt x="245" y="17"/>
                  </a:lnTo>
                  <a:lnTo>
                    <a:pt x="245" y="17"/>
                  </a:lnTo>
                  <a:lnTo>
                    <a:pt x="246" y="16"/>
                  </a:lnTo>
                  <a:lnTo>
                    <a:pt x="246" y="16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8" y="12"/>
                  </a:lnTo>
                  <a:lnTo>
                    <a:pt x="248" y="12"/>
                  </a:lnTo>
                  <a:lnTo>
                    <a:pt x="248" y="12"/>
                  </a:lnTo>
                  <a:lnTo>
                    <a:pt x="248" y="12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9" y="9"/>
                  </a:lnTo>
                  <a:lnTo>
                    <a:pt x="249" y="9"/>
                  </a:lnTo>
                  <a:lnTo>
                    <a:pt x="251" y="7"/>
                  </a:lnTo>
                  <a:lnTo>
                    <a:pt x="251" y="7"/>
                  </a:lnTo>
                  <a:lnTo>
                    <a:pt x="251" y="6"/>
                  </a:lnTo>
                  <a:lnTo>
                    <a:pt x="251" y="6"/>
                  </a:lnTo>
                  <a:lnTo>
                    <a:pt x="252" y="5"/>
                  </a:lnTo>
                  <a:lnTo>
                    <a:pt x="252" y="5"/>
                  </a:lnTo>
                  <a:lnTo>
                    <a:pt x="252" y="3"/>
                  </a:lnTo>
                  <a:lnTo>
                    <a:pt x="252" y="3"/>
                  </a:lnTo>
                  <a:lnTo>
                    <a:pt x="253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0" y="1"/>
                  </a:lnTo>
                  <a:lnTo>
                    <a:pt x="250" y="1"/>
                  </a:lnTo>
                  <a:lnTo>
                    <a:pt x="250" y="1"/>
                  </a:lnTo>
                  <a:lnTo>
                    <a:pt x="250" y="1"/>
                  </a:lnTo>
                  <a:lnTo>
                    <a:pt x="248" y="1"/>
                  </a:lnTo>
                  <a:lnTo>
                    <a:pt x="248" y="1"/>
                  </a:lnTo>
                  <a:lnTo>
                    <a:pt x="247" y="1"/>
                  </a:lnTo>
                  <a:lnTo>
                    <a:pt x="247" y="1"/>
                  </a:lnTo>
                  <a:lnTo>
                    <a:pt x="246" y="1"/>
                  </a:lnTo>
                  <a:lnTo>
                    <a:pt x="246" y="1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46" y="0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13360" y="6889680"/>
              <a:ext cx="566640" cy="157320"/>
            </a:xfrm>
            <a:custGeom>
              <a:avLst/>
              <a:gdLst/>
              <a:ahLst/>
              <a:rect l="l" t="t" r="r" b="b"/>
              <a:pathLst>
                <a:path w="357" h="99">
                  <a:moveTo>
                    <a:pt x="229" y="6"/>
                  </a:moveTo>
                  <a:lnTo>
                    <a:pt x="220" y="7"/>
                  </a:lnTo>
                  <a:lnTo>
                    <a:pt x="208" y="7"/>
                  </a:lnTo>
                  <a:lnTo>
                    <a:pt x="193" y="8"/>
                  </a:lnTo>
                  <a:lnTo>
                    <a:pt x="177" y="8"/>
                  </a:lnTo>
                  <a:lnTo>
                    <a:pt x="158" y="10"/>
                  </a:lnTo>
                  <a:lnTo>
                    <a:pt x="140" y="11"/>
                  </a:lnTo>
                  <a:lnTo>
                    <a:pt x="119" y="13"/>
                  </a:lnTo>
                  <a:lnTo>
                    <a:pt x="100" y="13"/>
                  </a:lnTo>
                  <a:lnTo>
                    <a:pt x="80" y="15"/>
                  </a:lnTo>
                  <a:lnTo>
                    <a:pt x="62" y="16"/>
                  </a:lnTo>
                  <a:lnTo>
                    <a:pt x="44" y="18"/>
                  </a:lnTo>
                  <a:lnTo>
                    <a:pt x="30" y="18"/>
                  </a:lnTo>
                  <a:lnTo>
                    <a:pt x="17" y="20"/>
                  </a:lnTo>
                  <a:lnTo>
                    <a:pt x="7" y="20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20" y="21"/>
                  </a:lnTo>
                  <a:lnTo>
                    <a:pt x="26" y="21"/>
                  </a:lnTo>
                  <a:lnTo>
                    <a:pt x="30" y="21"/>
                  </a:lnTo>
                  <a:lnTo>
                    <a:pt x="36" y="21"/>
                  </a:lnTo>
                  <a:lnTo>
                    <a:pt x="42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7" y="21"/>
                  </a:lnTo>
                  <a:lnTo>
                    <a:pt x="80" y="21"/>
                  </a:lnTo>
                  <a:lnTo>
                    <a:pt x="84" y="21"/>
                  </a:lnTo>
                  <a:lnTo>
                    <a:pt x="87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8" y="20"/>
                  </a:lnTo>
                  <a:lnTo>
                    <a:pt x="102" y="20"/>
                  </a:lnTo>
                  <a:lnTo>
                    <a:pt x="105" y="20"/>
                  </a:lnTo>
                  <a:lnTo>
                    <a:pt x="107" y="21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18" y="22"/>
                  </a:lnTo>
                  <a:lnTo>
                    <a:pt x="120" y="22"/>
                  </a:lnTo>
                  <a:lnTo>
                    <a:pt x="122" y="22"/>
                  </a:lnTo>
                  <a:lnTo>
                    <a:pt x="124" y="22"/>
                  </a:lnTo>
                  <a:lnTo>
                    <a:pt x="126" y="22"/>
                  </a:lnTo>
                  <a:lnTo>
                    <a:pt x="129" y="22"/>
                  </a:lnTo>
                  <a:lnTo>
                    <a:pt x="131" y="22"/>
                  </a:lnTo>
                  <a:lnTo>
                    <a:pt x="135" y="22"/>
                  </a:lnTo>
                  <a:lnTo>
                    <a:pt x="136" y="24"/>
                  </a:lnTo>
                  <a:lnTo>
                    <a:pt x="138" y="24"/>
                  </a:lnTo>
                  <a:lnTo>
                    <a:pt x="140" y="26"/>
                  </a:lnTo>
                  <a:lnTo>
                    <a:pt x="143" y="26"/>
                  </a:lnTo>
                  <a:lnTo>
                    <a:pt x="145" y="27"/>
                  </a:lnTo>
                  <a:lnTo>
                    <a:pt x="146" y="28"/>
                  </a:lnTo>
                  <a:lnTo>
                    <a:pt x="148" y="30"/>
                  </a:lnTo>
                  <a:lnTo>
                    <a:pt x="150" y="30"/>
                  </a:lnTo>
                  <a:lnTo>
                    <a:pt x="148" y="32"/>
                  </a:lnTo>
                  <a:lnTo>
                    <a:pt x="148" y="32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5"/>
                  </a:lnTo>
                  <a:lnTo>
                    <a:pt x="148" y="35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6" y="39"/>
                  </a:lnTo>
                  <a:lnTo>
                    <a:pt x="146" y="40"/>
                  </a:lnTo>
                  <a:lnTo>
                    <a:pt x="146" y="42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45"/>
                  </a:lnTo>
                  <a:lnTo>
                    <a:pt x="146" y="45"/>
                  </a:lnTo>
                  <a:lnTo>
                    <a:pt x="144" y="47"/>
                  </a:lnTo>
                  <a:lnTo>
                    <a:pt x="143" y="48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0" y="52"/>
                  </a:lnTo>
                  <a:lnTo>
                    <a:pt x="138" y="53"/>
                  </a:lnTo>
                  <a:lnTo>
                    <a:pt x="136" y="55"/>
                  </a:lnTo>
                  <a:lnTo>
                    <a:pt x="136" y="55"/>
                  </a:lnTo>
                  <a:lnTo>
                    <a:pt x="134" y="57"/>
                  </a:lnTo>
                  <a:lnTo>
                    <a:pt x="132" y="58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28" y="62"/>
                  </a:lnTo>
                  <a:lnTo>
                    <a:pt x="126" y="62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3" y="64"/>
                  </a:lnTo>
                  <a:lnTo>
                    <a:pt x="122" y="64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5" y="68"/>
                  </a:lnTo>
                  <a:lnTo>
                    <a:pt x="114" y="68"/>
                  </a:lnTo>
                  <a:lnTo>
                    <a:pt x="112" y="69"/>
                  </a:lnTo>
                  <a:lnTo>
                    <a:pt x="110" y="69"/>
                  </a:lnTo>
                  <a:lnTo>
                    <a:pt x="106" y="71"/>
                  </a:lnTo>
                  <a:lnTo>
                    <a:pt x="105" y="71"/>
                  </a:lnTo>
                  <a:lnTo>
                    <a:pt x="103" y="73"/>
                  </a:lnTo>
                  <a:lnTo>
                    <a:pt x="101" y="73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5" y="75"/>
                  </a:lnTo>
                  <a:lnTo>
                    <a:pt x="95" y="75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7" y="78"/>
                  </a:lnTo>
                  <a:lnTo>
                    <a:pt x="85" y="78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76" y="80"/>
                  </a:lnTo>
                  <a:lnTo>
                    <a:pt x="74" y="80"/>
                  </a:lnTo>
                  <a:lnTo>
                    <a:pt x="70" y="82"/>
                  </a:lnTo>
                  <a:lnTo>
                    <a:pt x="68" y="82"/>
                  </a:lnTo>
                  <a:lnTo>
                    <a:pt x="66" y="82"/>
                  </a:lnTo>
                  <a:lnTo>
                    <a:pt x="64" y="82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6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68" y="88"/>
                  </a:lnTo>
                  <a:lnTo>
                    <a:pt x="72" y="90"/>
                  </a:lnTo>
                  <a:lnTo>
                    <a:pt x="77" y="91"/>
                  </a:lnTo>
                  <a:lnTo>
                    <a:pt x="82" y="93"/>
                  </a:lnTo>
                  <a:lnTo>
                    <a:pt x="87" y="93"/>
                  </a:lnTo>
                  <a:lnTo>
                    <a:pt x="91" y="95"/>
                  </a:lnTo>
                  <a:lnTo>
                    <a:pt x="96" y="95"/>
                  </a:lnTo>
                  <a:lnTo>
                    <a:pt x="101" y="97"/>
                  </a:lnTo>
                  <a:lnTo>
                    <a:pt x="106" y="97"/>
                  </a:lnTo>
                  <a:lnTo>
                    <a:pt x="110" y="98"/>
                  </a:lnTo>
                  <a:lnTo>
                    <a:pt x="115" y="98"/>
                  </a:lnTo>
                  <a:lnTo>
                    <a:pt x="117" y="98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22" y="98"/>
                  </a:lnTo>
                  <a:lnTo>
                    <a:pt x="123" y="98"/>
                  </a:lnTo>
                  <a:lnTo>
                    <a:pt x="125" y="98"/>
                  </a:lnTo>
                  <a:lnTo>
                    <a:pt x="126" y="98"/>
                  </a:lnTo>
                  <a:lnTo>
                    <a:pt x="128" y="98"/>
                  </a:lnTo>
                  <a:lnTo>
                    <a:pt x="130" y="98"/>
                  </a:lnTo>
                  <a:lnTo>
                    <a:pt x="132" y="97"/>
                  </a:lnTo>
                  <a:lnTo>
                    <a:pt x="134" y="97"/>
                  </a:lnTo>
                  <a:lnTo>
                    <a:pt x="135" y="97"/>
                  </a:lnTo>
                  <a:lnTo>
                    <a:pt x="137" y="97"/>
                  </a:lnTo>
                  <a:lnTo>
                    <a:pt x="139" y="96"/>
                  </a:lnTo>
                  <a:lnTo>
                    <a:pt x="140" y="96"/>
                  </a:lnTo>
                  <a:lnTo>
                    <a:pt x="142" y="96"/>
                  </a:lnTo>
                  <a:lnTo>
                    <a:pt x="144" y="96"/>
                  </a:lnTo>
                  <a:lnTo>
                    <a:pt x="146" y="94"/>
                  </a:lnTo>
                  <a:lnTo>
                    <a:pt x="147" y="94"/>
                  </a:lnTo>
                  <a:lnTo>
                    <a:pt x="149" y="94"/>
                  </a:lnTo>
                  <a:lnTo>
                    <a:pt x="151" y="94"/>
                  </a:lnTo>
                  <a:lnTo>
                    <a:pt x="153" y="93"/>
                  </a:lnTo>
                  <a:lnTo>
                    <a:pt x="155" y="93"/>
                  </a:lnTo>
                  <a:lnTo>
                    <a:pt x="158" y="92"/>
                  </a:lnTo>
                  <a:lnTo>
                    <a:pt x="160" y="92"/>
                  </a:lnTo>
                  <a:lnTo>
                    <a:pt x="163" y="90"/>
                  </a:lnTo>
                  <a:lnTo>
                    <a:pt x="165" y="90"/>
                  </a:lnTo>
                  <a:lnTo>
                    <a:pt x="168" y="89"/>
                  </a:lnTo>
                  <a:lnTo>
                    <a:pt x="170" y="89"/>
                  </a:lnTo>
                  <a:lnTo>
                    <a:pt x="173" y="87"/>
                  </a:lnTo>
                  <a:lnTo>
                    <a:pt x="175" y="87"/>
                  </a:lnTo>
                  <a:lnTo>
                    <a:pt x="177" y="86"/>
                  </a:lnTo>
                  <a:lnTo>
                    <a:pt x="179" y="86"/>
                  </a:lnTo>
                  <a:lnTo>
                    <a:pt x="182" y="84"/>
                  </a:lnTo>
                  <a:lnTo>
                    <a:pt x="184" y="84"/>
                  </a:lnTo>
                  <a:lnTo>
                    <a:pt x="187" y="84"/>
                  </a:lnTo>
                  <a:lnTo>
                    <a:pt x="189" y="84"/>
                  </a:lnTo>
                  <a:lnTo>
                    <a:pt x="193" y="84"/>
                  </a:lnTo>
                  <a:lnTo>
                    <a:pt x="195" y="84"/>
                  </a:lnTo>
                  <a:lnTo>
                    <a:pt x="199" y="84"/>
                  </a:lnTo>
                  <a:lnTo>
                    <a:pt x="203" y="84"/>
                  </a:lnTo>
                  <a:lnTo>
                    <a:pt x="206" y="82"/>
                  </a:lnTo>
                  <a:lnTo>
                    <a:pt x="208" y="82"/>
                  </a:lnTo>
                  <a:lnTo>
                    <a:pt x="212" y="82"/>
                  </a:lnTo>
                  <a:lnTo>
                    <a:pt x="214" y="82"/>
                  </a:lnTo>
                  <a:lnTo>
                    <a:pt x="218" y="82"/>
                  </a:lnTo>
                  <a:lnTo>
                    <a:pt x="220" y="82"/>
                  </a:lnTo>
                  <a:lnTo>
                    <a:pt x="223" y="82"/>
                  </a:lnTo>
                  <a:lnTo>
                    <a:pt x="224" y="82"/>
                  </a:lnTo>
                  <a:lnTo>
                    <a:pt x="228" y="80"/>
                  </a:lnTo>
                  <a:lnTo>
                    <a:pt x="230" y="80"/>
                  </a:lnTo>
                  <a:lnTo>
                    <a:pt x="232" y="80"/>
                  </a:lnTo>
                  <a:lnTo>
                    <a:pt x="234" y="80"/>
                  </a:lnTo>
                  <a:lnTo>
                    <a:pt x="238" y="80"/>
                  </a:lnTo>
                  <a:lnTo>
                    <a:pt x="240" y="80"/>
                  </a:lnTo>
                  <a:lnTo>
                    <a:pt x="244" y="80"/>
                  </a:lnTo>
                  <a:lnTo>
                    <a:pt x="248" y="80"/>
                  </a:lnTo>
                  <a:lnTo>
                    <a:pt x="251" y="79"/>
                  </a:lnTo>
                  <a:lnTo>
                    <a:pt x="253" y="79"/>
                  </a:lnTo>
                  <a:lnTo>
                    <a:pt x="257" y="79"/>
                  </a:lnTo>
                  <a:lnTo>
                    <a:pt x="260" y="79"/>
                  </a:lnTo>
                  <a:lnTo>
                    <a:pt x="264" y="78"/>
                  </a:lnTo>
                  <a:lnTo>
                    <a:pt x="266" y="78"/>
                  </a:lnTo>
                  <a:lnTo>
                    <a:pt x="270" y="78"/>
                  </a:lnTo>
                  <a:lnTo>
                    <a:pt x="271" y="78"/>
                  </a:lnTo>
                  <a:lnTo>
                    <a:pt x="274" y="77"/>
                  </a:lnTo>
                  <a:lnTo>
                    <a:pt x="276" y="77"/>
                  </a:lnTo>
                  <a:lnTo>
                    <a:pt x="280" y="77"/>
                  </a:lnTo>
                  <a:lnTo>
                    <a:pt x="281" y="77"/>
                  </a:lnTo>
                  <a:lnTo>
                    <a:pt x="285" y="76"/>
                  </a:lnTo>
                  <a:lnTo>
                    <a:pt x="287" y="76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4"/>
                  </a:lnTo>
                  <a:lnTo>
                    <a:pt x="299" y="74"/>
                  </a:lnTo>
                  <a:lnTo>
                    <a:pt x="303" y="74"/>
                  </a:lnTo>
                  <a:lnTo>
                    <a:pt x="306" y="74"/>
                  </a:lnTo>
                  <a:lnTo>
                    <a:pt x="309" y="72"/>
                  </a:lnTo>
                  <a:lnTo>
                    <a:pt x="311" y="72"/>
                  </a:lnTo>
                  <a:lnTo>
                    <a:pt x="314" y="70"/>
                  </a:lnTo>
                  <a:lnTo>
                    <a:pt x="316" y="70"/>
                  </a:lnTo>
                  <a:lnTo>
                    <a:pt x="319" y="68"/>
                  </a:lnTo>
                  <a:lnTo>
                    <a:pt x="319" y="68"/>
                  </a:lnTo>
                  <a:lnTo>
                    <a:pt x="319" y="68"/>
                  </a:lnTo>
                  <a:lnTo>
                    <a:pt x="319" y="68"/>
                  </a:lnTo>
                  <a:lnTo>
                    <a:pt x="320" y="68"/>
                  </a:lnTo>
                  <a:lnTo>
                    <a:pt x="320" y="68"/>
                  </a:lnTo>
                  <a:lnTo>
                    <a:pt x="321" y="68"/>
                  </a:lnTo>
                  <a:lnTo>
                    <a:pt x="321" y="68"/>
                  </a:lnTo>
                  <a:lnTo>
                    <a:pt x="323" y="66"/>
                  </a:lnTo>
                  <a:lnTo>
                    <a:pt x="323" y="66"/>
                  </a:lnTo>
                  <a:lnTo>
                    <a:pt x="324" y="66"/>
                  </a:lnTo>
                  <a:lnTo>
                    <a:pt x="324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6" y="64"/>
                  </a:lnTo>
                  <a:lnTo>
                    <a:pt x="326" y="64"/>
                  </a:lnTo>
                  <a:lnTo>
                    <a:pt x="325" y="64"/>
                  </a:lnTo>
                  <a:lnTo>
                    <a:pt x="325" y="64"/>
                  </a:lnTo>
                  <a:lnTo>
                    <a:pt x="323" y="64"/>
                  </a:lnTo>
                  <a:lnTo>
                    <a:pt x="322" y="64"/>
                  </a:lnTo>
                  <a:lnTo>
                    <a:pt x="320" y="64"/>
                  </a:lnTo>
                  <a:lnTo>
                    <a:pt x="320" y="63"/>
                  </a:lnTo>
                  <a:lnTo>
                    <a:pt x="318" y="63"/>
                  </a:lnTo>
                  <a:lnTo>
                    <a:pt x="317" y="63"/>
                  </a:lnTo>
                  <a:lnTo>
                    <a:pt x="315" y="63"/>
                  </a:lnTo>
                  <a:lnTo>
                    <a:pt x="315" y="63"/>
                  </a:lnTo>
                  <a:lnTo>
                    <a:pt x="314" y="63"/>
                  </a:lnTo>
                  <a:lnTo>
                    <a:pt x="314" y="63"/>
                  </a:lnTo>
                  <a:lnTo>
                    <a:pt x="314" y="63"/>
                  </a:lnTo>
                  <a:lnTo>
                    <a:pt x="314" y="61"/>
                  </a:lnTo>
                  <a:lnTo>
                    <a:pt x="313" y="61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3" y="58"/>
                  </a:lnTo>
                  <a:lnTo>
                    <a:pt x="313" y="58"/>
                  </a:lnTo>
                  <a:lnTo>
                    <a:pt x="313" y="57"/>
                  </a:lnTo>
                  <a:lnTo>
                    <a:pt x="313" y="57"/>
                  </a:lnTo>
                  <a:lnTo>
                    <a:pt x="313" y="55"/>
                  </a:lnTo>
                  <a:lnTo>
                    <a:pt x="313" y="55"/>
                  </a:lnTo>
                  <a:lnTo>
                    <a:pt x="313" y="53"/>
                  </a:lnTo>
                  <a:lnTo>
                    <a:pt x="313" y="53"/>
                  </a:lnTo>
                  <a:lnTo>
                    <a:pt x="313" y="51"/>
                  </a:lnTo>
                  <a:lnTo>
                    <a:pt x="313" y="51"/>
                  </a:lnTo>
                  <a:lnTo>
                    <a:pt x="313" y="49"/>
                  </a:lnTo>
                  <a:lnTo>
                    <a:pt x="313" y="48"/>
                  </a:lnTo>
                  <a:lnTo>
                    <a:pt x="314" y="47"/>
                  </a:lnTo>
                  <a:lnTo>
                    <a:pt x="314" y="47"/>
                  </a:lnTo>
                  <a:lnTo>
                    <a:pt x="314" y="47"/>
                  </a:lnTo>
                  <a:lnTo>
                    <a:pt x="314" y="47"/>
                  </a:lnTo>
                  <a:lnTo>
                    <a:pt x="316" y="45"/>
                  </a:lnTo>
                  <a:lnTo>
                    <a:pt x="316" y="45"/>
                  </a:lnTo>
                  <a:lnTo>
                    <a:pt x="316" y="43"/>
                  </a:lnTo>
                  <a:lnTo>
                    <a:pt x="316" y="43"/>
                  </a:lnTo>
                  <a:lnTo>
                    <a:pt x="318" y="41"/>
                  </a:lnTo>
                  <a:lnTo>
                    <a:pt x="318" y="41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19" y="38"/>
                  </a:lnTo>
                  <a:lnTo>
                    <a:pt x="319" y="38"/>
                  </a:lnTo>
                  <a:lnTo>
                    <a:pt x="320" y="37"/>
                  </a:lnTo>
                  <a:lnTo>
                    <a:pt x="320" y="37"/>
                  </a:lnTo>
                  <a:lnTo>
                    <a:pt x="322" y="35"/>
                  </a:lnTo>
                  <a:lnTo>
                    <a:pt x="322" y="35"/>
                  </a:lnTo>
                  <a:lnTo>
                    <a:pt x="322" y="34"/>
                  </a:lnTo>
                  <a:lnTo>
                    <a:pt x="322" y="34"/>
                  </a:lnTo>
                  <a:lnTo>
                    <a:pt x="323" y="32"/>
                  </a:lnTo>
                  <a:lnTo>
                    <a:pt x="323" y="31"/>
                  </a:lnTo>
                  <a:lnTo>
                    <a:pt x="325" y="29"/>
                  </a:lnTo>
                  <a:lnTo>
                    <a:pt x="326" y="27"/>
                  </a:lnTo>
                  <a:lnTo>
                    <a:pt x="328" y="26"/>
                  </a:lnTo>
                  <a:lnTo>
                    <a:pt x="328" y="26"/>
                  </a:lnTo>
                  <a:lnTo>
                    <a:pt x="330" y="24"/>
                  </a:lnTo>
                  <a:lnTo>
                    <a:pt x="330" y="22"/>
                  </a:lnTo>
                  <a:lnTo>
                    <a:pt x="332" y="20"/>
                  </a:lnTo>
                  <a:lnTo>
                    <a:pt x="332" y="20"/>
                  </a:lnTo>
                  <a:lnTo>
                    <a:pt x="333" y="19"/>
                  </a:lnTo>
                  <a:lnTo>
                    <a:pt x="333" y="19"/>
                  </a:lnTo>
                  <a:lnTo>
                    <a:pt x="334" y="18"/>
                  </a:lnTo>
                  <a:lnTo>
                    <a:pt x="334" y="18"/>
                  </a:lnTo>
                  <a:lnTo>
                    <a:pt x="335" y="17"/>
                  </a:lnTo>
                  <a:lnTo>
                    <a:pt x="336" y="17"/>
                  </a:lnTo>
                  <a:lnTo>
                    <a:pt x="338" y="16"/>
                  </a:lnTo>
                  <a:lnTo>
                    <a:pt x="339" y="14"/>
                  </a:lnTo>
                  <a:lnTo>
                    <a:pt x="340" y="12"/>
                  </a:lnTo>
                  <a:lnTo>
                    <a:pt x="342" y="10"/>
                  </a:lnTo>
                  <a:lnTo>
                    <a:pt x="346" y="8"/>
                  </a:lnTo>
                  <a:lnTo>
                    <a:pt x="347" y="8"/>
                  </a:lnTo>
                  <a:lnTo>
                    <a:pt x="349" y="7"/>
                  </a:lnTo>
                  <a:lnTo>
                    <a:pt x="350" y="5"/>
                  </a:lnTo>
                  <a:lnTo>
                    <a:pt x="352" y="3"/>
                  </a:lnTo>
                  <a:lnTo>
                    <a:pt x="353" y="3"/>
                  </a:lnTo>
                  <a:lnTo>
                    <a:pt x="355" y="1"/>
                  </a:lnTo>
                  <a:lnTo>
                    <a:pt x="355" y="1"/>
                  </a:lnTo>
                  <a:lnTo>
                    <a:pt x="356" y="0"/>
                  </a:lnTo>
                  <a:lnTo>
                    <a:pt x="354" y="0"/>
                  </a:lnTo>
                  <a:lnTo>
                    <a:pt x="352" y="0"/>
                  </a:lnTo>
                  <a:lnTo>
                    <a:pt x="349" y="0"/>
                  </a:lnTo>
                  <a:lnTo>
                    <a:pt x="346" y="0"/>
                  </a:lnTo>
                  <a:lnTo>
                    <a:pt x="340" y="2"/>
                  </a:lnTo>
                  <a:lnTo>
                    <a:pt x="334" y="2"/>
                  </a:lnTo>
                  <a:lnTo>
                    <a:pt x="328" y="2"/>
                  </a:lnTo>
                  <a:lnTo>
                    <a:pt x="321" y="2"/>
                  </a:lnTo>
                  <a:lnTo>
                    <a:pt x="311" y="4"/>
                  </a:lnTo>
                  <a:lnTo>
                    <a:pt x="302" y="4"/>
                  </a:lnTo>
                  <a:lnTo>
                    <a:pt x="291" y="6"/>
                  </a:lnTo>
                  <a:lnTo>
                    <a:pt x="281" y="6"/>
                  </a:lnTo>
                  <a:lnTo>
                    <a:pt x="268" y="6"/>
                  </a:lnTo>
                  <a:lnTo>
                    <a:pt x="256" y="6"/>
                  </a:lnTo>
                  <a:lnTo>
                    <a:pt x="242" y="6"/>
                  </a:lnTo>
                  <a:lnTo>
                    <a:pt x="229" y="6"/>
                  </a:lnTo>
                  <a:lnTo>
                    <a:pt x="229" y="6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10200" y="7104240"/>
              <a:ext cx="392040" cy="133200"/>
            </a:xfrm>
            <a:custGeom>
              <a:avLst/>
              <a:gdLst/>
              <a:ahLst/>
              <a:rect l="l" t="t" r="r" b="b"/>
              <a:pathLst>
                <a:path w="247" h="84">
                  <a:moveTo>
                    <a:pt x="228" y="1"/>
                  </a:moveTo>
                  <a:lnTo>
                    <a:pt x="226" y="1"/>
                  </a:lnTo>
                  <a:lnTo>
                    <a:pt x="225" y="1"/>
                  </a:lnTo>
                  <a:lnTo>
                    <a:pt x="223" y="1"/>
                  </a:lnTo>
                  <a:lnTo>
                    <a:pt x="221" y="0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7" y="1"/>
                  </a:lnTo>
                  <a:lnTo>
                    <a:pt x="205" y="1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5" y="1"/>
                  </a:lnTo>
                  <a:lnTo>
                    <a:pt x="193" y="1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5" y="3"/>
                  </a:lnTo>
                  <a:lnTo>
                    <a:pt x="182" y="3"/>
                  </a:lnTo>
                  <a:lnTo>
                    <a:pt x="179" y="3"/>
                  </a:lnTo>
                  <a:lnTo>
                    <a:pt x="175" y="3"/>
                  </a:lnTo>
                  <a:lnTo>
                    <a:pt x="170" y="5"/>
                  </a:lnTo>
                  <a:lnTo>
                    <a:pt x="166" y="5"/>
                  </a:lnTo>
                  <a:lnTo>
                    <a:pt x="161" y="7"/>
                  </a:lnTo>
                  <a:lnTo>
                    <a:pt x="157" y="7"/>
                  </a:lnTo>
                  <a:lnTo>
                    <a:pt x="152" y="8"/>
                  </a:lnTo>
                  <a:lnTo>
                    <a:pt x="147" y="8"/>
                  </a:lnTo>
                  <a:lnTo>
                    <a:pt x="142" y="9"/>
                  </a:lnTo>
                  <a:lnTo>
                    <a:pt x="139" y="9"/>
                  </a:lnTo>
                  <a:lnTo>
                    <a:pt x="134" y="10"/>
                  </a:lnTo>
                  <a:lnTo>
                    <a:pt x="131" y="10"/>
                  </a:lnTo>
                  <a:lnTo>
                    <a:pt x="127" y="10"/>
                  </a:lnTo>
                  <a:lnTo>
                    <a:pt x="125" y="10"/>
                  </a:lnTo>
                  <a:lnTo>
                    <a:pt x="122" y="11"/>
                  </a:lnTo>
                  <a:lnTo>
                    <a:pt x="120" y="11"/>
                  </a:lnTo>
                  <a:lnTo>
                    <a:pt x="117" y="11"/>
                  </a:lnTo>
                  <a:lnTo>
                    <a:pt x="115" y="11"/>
                  </a:lnTo>
                  <a:lnTo>
                    <a:pt x="111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99" y="14"/>
                  </a:lnTo>
                  <a:lnTo>
                    <a:pt x="95" y="14"/>
                  </a:lnTo>
                  <a:lnTo>
                    <a:pt x="92" y="14"/>
                  </a:lnTo>
                  <a:lnTo>
                    <a:pt x="90" y="14"/>
                  </a:lnTo>
                  <a:lnTo>
                    <a:pt x="86" y="15"/>
                  </a:lnTo>
                  <a:lnTo>
                    <a:pt x="84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7" y="17"/>
                  </a:lnTo>
                  <a:lnTo>
                    <a:pt x="73" y="17"/>
                  </a:lnTo>
                  <a:lnTo>
                    <a:pt x="68" y="17"/>
                  </a:lnTo>
                  <a:lnTo>
                    <a:pt x="63" y="17"/>
                  </a:lnTo>
                  <a:lnTo>
                    <a:pt x="55" y="18"/>
                  </a:lnTo>
                  <a:lnTo>
                    <a:pt x="49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29" y="20"/>
                  </a:lnTo>
                  <a:lnTo>
                    <a:pt x="22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9" y="27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21" y="29"/>
                  </a:lnTo>
                  <a:lnTo>
                    <a:pt x="24" y="31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3" y="33"/>
                  </a:lnTo>
                  <a:lnTo>
                    <a:pt x="35" y="35"/>
                  </a:lnTo>
                  <a:lnTo>
                    <a:pt x="38" y="35"/>
                  </a:lnTo>
                  <a:lnTo>
                    <a:pt x="39" y="37"/>
                  </a:lnTo>
                  <a:lnTo>
                    <a:pt x="41" y="37"/>
                  </a:lnTo>
                  <a:lnTo>
                    <a:pt x="43" y="37"/>
                  </a:lnTo>
                  <a:lnTo>
                    <a:pt x="45" y="37"/>
                  </a:lnTo>
                  <a:lnTo>
                    <a:pt x="47" y="38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5" y="38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1" y="41"/>
                  </a:lnTo>
                  <a:lnTo>
                    <a:pt x="64" y="41"/>
                  </a:lnTo>
                  <a:lnTo>
                    <a:pt x="65" y="43"/>
                  </a:lnTo>
                  <a:lnTo>
                    <a:pt x="67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69" y="47"/>
                  </a:lnTo>
                  <a:lnTo>
                    <a:pt x="67" y="47"/>
                  </a:lnTo>
                  <a:lnTo>
                    <a:pt x="64" y="49"/>
                  </a:lnTo>
                  <a:lnTo>
                    <a:pt x="60" y="51"/>
                  </a:lnTo>
                  <a:lnTo>
                    <a:pt x="54" y="55"/>
                  </a:lnTo>
                  <a:lnTo>
                    <a:pt x="49" y="57"/>
                  </a:lnTo>
                  <a:lnTo>
                    <a:pt x="44" y="61"/>
                  </a:lnTo>
                  <a:lnTo>
                    <a:pt x="38" y="63"/>
                  </a:lnTo>
                  <a:lnTo>
                    <a:pt x="31" y="66"/>
                  </a:lnTo>
                  <a:lnTo>
                    <a:pt x="26" y="69"/>
                  </a:lnTo>
                  <a:lnTo>
                    <a:pt x="20" y="73"/>
                  </a:lnTo>
                  <a:lnTo>
                    <a:pt x="16" y="75"/>
                  </a:lnTo>
                  <a:lnTo>
                    <a:pt x="11" y="77"/>
                  </a:lnTo>
                  <a:lnTo>
                    <a:pt x="8" y="79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6" y="82"/>
                  </a:lnTo>
                  <a:lnTo>
                    <a:pt x="9" y="83"/>
                  </a:lnTo>
                  <a:lnTo>
                    <a:pt x="13" y="83"/>
                  </a:lnTo>
                  <a:lnTo>
                    <a:pt x="19" y="83"/>
                  </a:lnTo>
                  <a:lnTo>
                    <a:pt x="24" y="83"/>
                  </a:lnTo>
                  <a:lnTo>
                    <a:pt x="31" y="81"/>
                  </a:lnTo>
                  <a:lnTo>
                    <a:pt x="39" y="81"/>
                  </a:lnTo>
                  <a:lnTo>
                    <a:pt x="47" y="79"/>
                  </a:lnTo>
                  <a:lnTo>
                    <a:pt x="55" y="79"/>
                  </a:lnTo>
                  <a:lnTo>
                    <a:pt x="63" y="78"/>
                  </a:lnTo>
                  <a:lnTo>
                    <a:pt x="71" y="78"/>
                  </a:lnTo>
                  <a:lnTo>
                    <a:pt x="79" y="76"/>
                  </a:lnTo>
                  <a:lnTo>
                    <a:pt x="84" y="76"/>
                  </a:lnTo>
                  <a:lnTo>
                    <a:pt x="91" y="75"/>
                  </a:lnTo>
                  <a:lnTo>
                    <a:pt x="95" y="75"/>
                  </a:lnTo>
                  <a:lnTo>
                    <a:pt x="101" y="73"/>
                  </a:lnTo>
                  <a:lnTo>
                    <a:pt x="102" y="73"/>
                  </a:lnTo>
                  <a:lnTo>
                    <a:pt x="105" y="73"/>
                  </a:lnTo>
                  <a:lnTo>
                    <a:pt x="107" y="73"/>
                  </a:lnTo>
                  <a:lnTo>
                    <a:pt x="111" y="73"/>
                  </a:lnTo>
                  <a:lnTo>
                    <a:pt x="113" y="73"/>
                  </a:lnTo>
                  <a:lnTo>
                    <a:pt x="117" y="73"/>
                  </a:lnTo>
                  <a:lnTo>
                    <a:pt x="121" y="73"/>
                  </a:lnTo>
                  <a:lnTo>
                    <a:pt x="125" y="72"/>
                  </a:lnTo>
                  <a:lnTo>
                    <a:pt x="127" y="72"/>
                  </a:lnTo>
                  <a:lnTo>
                    <a:pt x="131" y="72"/>
                  </a:lnTo>
                  <a:lnTo>
                    <a:pt x="133" y="72"/>
                  </a:lnTo>
                  <a:lnTo>
                    <a:pt x="137" y="72"/>
                  </a:lnTo>
                  <a:lnTo>
                    <a:pt x="139" y="72"/>
                  </a:lnTo>
                  <a:lnTo>
                    <a:pt x="143" y="72"/>
                  </a:lnTo>
                  <a:lnTo>
                    <a:pt x="145" y="72"/>
                  </a:lnTo>
                  <a:lnTo>
                    <a:pt x="148" y="71"/>
                  </a:lnTo>
                  <a:lnTo>
                    <a:pt x="150" y="71"/>
                  </a:lnTo>
                  <a:lnTo>
                    <a:pt x="153" y="71"/>
                  </a:lnTo>
                  <a:lnTo>
                    <a:pt x="155" y="71"/>
                  </a:lnTo>
                  <a:lnTo>
                    <a:pt x="159" y="69"/>
                  </a:lnTo>
                  <a:lnTo>
                    <a:pt x="161" y="69"/>
                  </a:lnTo>
                  <a:lnTo>
                    <a:pt x="165" y="68"/>
                  </a:lnTo>
                  <a:lnTo>
                    <a:pt x="169" y="68"/>
                  </a:lnTo>
                  <a:lnTo>
                    <a:pt x="172" y="66"/>
                  </a:lnTo>
                  <a:lnTo>
                    <a:pt x="174" y="66"/>
                  </a:lnTo>
                  <a:lnTo>
                    <a:pt x="178" y="66"/>
                  </a:lnTo>
                  <a:lnTo>
                    <a:pt x="182" y="66"/>
                  </a:lnTo>
                  <a:lnTo>
                    <a:pt x="185" y="65"/>
                  </a:lnTo>
                  <a:lnTo>
                    <a:pt x="187" y="65"/>
                  </a:lnTo>
                  <a:lnTo>
                    <a:pt x="191" y="64"/>
                  </a:lnTo>
                  <a:lnTo>
                    <a:pt x="193" y="64"/>
                  </a:lnTo>
                  <a:lnTo>
                    <a:pt x="197" y="63"/>
                  </a:lnTo>
                  <a:lnTo>
                    <a:pt x="199" y="63"/>
                  </a:lnTo>
                  <a:lnTo>
                    <a:pt x="201" y="63"/>
                  </a:lnTo>
                  <a:lnTo>
                    <a:pt x="205" y="63"/>
                  </a:lnTo>
                  <a:lnTo>
                    <a:pt x="209" y="63"/>
                  </a:lnTo>
                  <a:lnTo>
                    <a:pt x="212" y="63"/>
                  </a:lnTo>
                  <a:lnTo>
                    <a:pt x="216" y="63"/>
                  </a:lnTo>
                  <a:lnTo>
                    <a:pt x="220" y="63"/>
                  </a:lnTo>
                  <a:lnTo>
                    <a:pt x="225" y="61"/>
                  </a:lnTo>
                  <a:lnTo>
                    <a:pt x="228" y="61"/>
                  </a:lnTo>
                  <a:lnTo>
                    <a:pt x="231" y="61"/>
                  </a:lnTo>
                  <a:lnTo>
                    <a:pt x="235" y="61"/>
                  </a:lnTo>
                  <a:lnTo>
                    <a:pt x="238" y="59"/>
                  </a:lnTo>
                  <a:lnTo>
                    <a:pt x="240" y="58"/>
                  </a:lnTo>
                  <a:lnTo>
                    <a:pt x="243" y="56"/>
                  </a:lnTo>
                  <a:lnTo>
                    <a:pt x="244" y="55"/>
                  </a:lnTo>
                  <a:lnTo>
                    <a:pt x="246" y="53"/>
                  </a:lnTo>
                  <a:lnTo>
                    <a:pt x="245" y="53"/>
                  </a:lnTo>
                  <a:lnTo>
                    <a:pt x="245" y="53"/>
                  </a:lnTo>
                  <a:lnTo>
                    <a:pt x="244" y="53"/>
                  </a:lnTo>
                  <a:lnTo>
                    <a:pt x="244" y="51"/>
                  </a:lnTo>
                  <a:lnTo>
                    <a:pt x="242" y="51"/>
                  </a:lnTo>
                  <a:lnTo>
                    <a:pt x="242" y="49"/>
                  </a:lnTo>
                  <a:lnTo>
                    <a:pt x="241" y="49"/>
                  </a:lnTo>
                  <a:lnTo>
                    <a:pt x="241" y="47"/>
                  </a:lnTo>
                  <a:lnTo>
                    <a:pt x="239" y="47"/>
                  </a:lnTo>
                  <a:lnTo>
                    <a:pt x="238" y="46"/>
                  </a:lnTo>
                  <a:lnTo>
                    <a:pt x="237" y="46"/>
                  </a:lnTo>
                  <a:lnTo>
                    <a:pt x="237" y="44"/>
                  </a:lnTo>
                  <a:lnTo>
                    <a:pt x="235" y="44"/>
                  </a:lnTo>
                  <a:lnTo>
                    <a:pt x="235" y="43"/>
                  </a:lnTo>
                  <a:lnTo>
                    <a:pt x="233" y="43"/>
                  </a:lnTo>
                  <a:lnTo>
                    <a:pt x="233" y="41"/>
                  </a:lnTo>
                  <a:lnTo>
                    <a:pt x="231" y="41"/>
                  </a:lnTo>
                  <a:lnTo>
                    <a:pt x="230" y="41"/>
                  </a:lnTo>
                  <a:lnTo>
                    <a:pt x="229" y="41"/>
                  </a:lnTo>
                  <a:lnTo>
                    <a:pt x="229" y="39"/>
                  </a:lnTo>
                  <a:lnTo>
                    <a:pt x="227" y="39"/>
                  </a:lnTo>
                  <a:lnTo>
                    <a:pt x="225" y="38"/>
                  </a:lnTo>
                  <a:lnTo>
                    <a:pt x="223" y="38"/>
                  </a:lnTo>
                  <a:lnTo>
                    <a:pt x="223" y="37"/>
                  </a:lnTo>
                  <a:lnTo>
                    <a:pt x="221" y="37"/>
                  </a:lnTo>
                  <a:lnTo>
                    <a:pt x="219" y="37"/>
                  </a:lnTo>
                  <a:lnTo>
                    <a:pt x="217" y="37"/>
                  </a:lnTo>
                  <a:lnTo>
                    <a:pt x="217" y="35"/>
                  </a:lnTo>
                  <a:lnTo>
                    <a:pt x="215" y="35"/>
                  </a:lnTo>
                  <a:lnTo>
                    <a:pt x="215" y="33"/>
                  </a:lnTo>
                  <a:lnTo>
                    <a:pt x="213" y="33"/>
                  </a:lnTo>
                  <a:lnTo>
                    <a:pt x="213" y="31"/>
                  </a:lnTo>
                  <a:lnTo>
                    <a:pt x="213" y="31"/>
                  </a:lnTo>
                  <a:lnTo>
                    <a:pt x="213" y="29"/>
                  </a:lnTo>
                  <a:lnTo>
                    <a:pt x="213" y="29"/>
                  </a:lnTo>
                  <a:lnTo>
                    <a:pt x="214" y="28"/>
                  </a:lnTo>
                  <a:lnTo>
                    <a:pt x="214" y="28"/>
                  </a:lnTo>
                  <a:lnTo>
                    <a:pt x="214" y="26"/>
                  </a:lnTo>
                  <a:lnTo>
                    <a:pt x="214" y="25"/>
                  </a:lnTo>
                  <a:lnTo>
                    <a:pt x="216" y="23"/>
                  </a:lnTo>
                  <a:lnTo>
                    <a:pt x="216" y="23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19" y="19"/>
                  </a:lnTo>
                  <a:lnTo>
                    <a:pt x="219" y="19"/>
                  </a:lnTo>
                  <a:lnTo>
                    <a:pt x="220" y="17"/>
                  </a:lnTo>
                  <a:lnTo>
                    <a:pt x="220" y="17"/>
                  </a:lnTo>
                  <a:lnTo>
                    <a:pt x="220" y="16"/>
                  </a:lnTo>
                  <a:lnTo>
                    <a:pt x="220" y="16"/>
                  </a:lnTo>
                  <a:lnTo>
                    <a:pt x="221" y="14"/>
                  </a:lnTo>
                  <a:lnTo>
                    <a:pt x="221" y="14"/>
                  </a:lnTo>
                  <a:lnTo>
                    <a:pt x="223" y="12"/>
                  </a:lnTo>
                  <a:lnTo>
                    <a:pt x="223" y="11"/>
                  </a:lnTo>
                  <a:lnTo>
                    <a:pt x="225" y="9"/>
                  </a:lnTo>
                  <a:lnTo>
                    <a:pt x="225" y="9"/>
                  </a:lnTo>
                  <a:lnTo>
                    <a:pt x="225" y="8"/>
                  </a:lnTo>
                  <a:lnTo>
                    <a:pt x="225" y="8"/>
                  </a:lnTo>
                  <a:lnTo>
                    <a:pt x="227" y="6"/>
                  </a:lnTo>
                  <a:lnTo>
                    <a:pt x="227" y="6"/>
                  </a:lnTo>
                  <a:lnTo>
                    <a:pt x="227" y="4"/>
                  </a:lnTo>
                  <a:lnTo>
                    <a:pt x="227" y="3"/>
                  </a:lnTo>
                  <a:lnTo>
                    <a:pt x="228" y="1"/>
                  </a:lnTo>
                  <a:lnTo>
                    <a:pt x="228" y="1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95720" y="7264440"/>
              <a:ext cx="592200" cy="125280"/>
            </a:xfrm>
            <a:custGeom>
              <a:avLst/>
              <a:gdLst/>
              <a:ahLst/>
              <a:rect l="l" t="t" r="r" b="b"/>
              <a:pathLst>
                <a:path w="373" h="79">
                  <a:moveTo>
                    <a:pt x="209" y="25"/>
                  </a:moveTo>
                  <a:lnTo>
                    <a:pt x="204" y="26"/>
                  </a:lnTo>
                  <a:lnTo>
                    <a:pt x="200" y="26"/>
                  </a:lnTo>
                  <a:lnTo>
                    <a:pt x="194" y="28"/>
                  </a:lnTo>
                  <a:lnTo>
                    <a:pt x="190" y="28"/>
                  </a:lnTo>
                  <a:lnTo>
                    <a:pt x="184" y="30"/>
                  </a:lnTo>
                  <a:lnTo>
                    <a:pt x="179" y="30"/>
                  </a:lnTo>
                  <a:lnTo>
                    <a:pt x="173" y="30"/>
                  </a:lnTo>
                  <a:lnTo>
                    <a:pt x="168" y="30"/>
                  </a:lnTo>
                  <a:lnTo>
                    <a:pt x="163" y="32"/>
                  </a:lnTo>
                  <a:lnTo>
                    <a:pt x="157" y="32"/>
                  </a:lnTo>
                  <a:lnTo>
                    <a:pt x="151" y="33"/>
                  </a:lnTo>
                  <a:lnTo>
                    <a:pt x="146" y="33"/>
                  </a:lnTo>
                  <a:lnTo>
                    <a:pt x="141" y="35"/>
                  </a:lnTo>
                  <a:lnTo>
                    <a:pt x="136" y="35"/>
                  </a:lnTo>
                  <a:lnTo>
                    <a:pt x="132" y="35"/>
                  </a:lnTo>
                  <a:lnTo>
                    <a:pt x="128" y="35"/>
                  </a:lnTo>
                  <a:lnTo>
                    <a:pt x="124" y="36"/>
                  </a:lnTo>
                  <a:lnTo>
                    <a:pt x="120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6" y="38"/>
                  </a:lnTo>
                  <a:lnTo>
                    <a:pt x="101" y="38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86" y="40"/>
                  </a:lnTo>
                  <a:lnTo>
                    <a:pt x="81" y="40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5" y="41"/>
                  </a:lnTo>
                  <a:lnTo>
                    <a:pt x="61" y="41"/>
                  </a:lnTo>
                  <a:lnTo>
                    <a:pt x="58" y="41"/>
                  </a:lnTo>
                  <a:lnTo>
                    <a:pt x="55" y="41"/>
                  </a:lnTo>
                  <a:lnTo>
                    <a:pt x="51" y="43"/>
                  </a:lnTo>
                  <a:lnTo>
                    <a:pt x="48" y="43"/>
                  </a:lnTo>
                  <a:lnTo>
                    <a:pt x="44" y="43"/>
                  </a:lnTo>
                  <a:lnTo>
                    <a:pt x="40" y="43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6" y="45"/>
                  </a:lnTo>
                  <a:lnTo>
                    <a:pt x="22" y="45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3" y="50"/>
                  </a:lnTo>
                  <a:lnTo>
                    <a:pt x="1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8" y="55"/>
                  </a:lnTo>
                  <a:lnTo>
                    <a:pt x="20" y="55"/>
                  </a:lnTo>
                  <a:lnTo>
                    <a:pt x="24" y="55"/>
                  </a:lnTo>
                  <a:lnTo>
                    <a:pt x="26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3" y="55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8" y="56"/>
                  </a:lnTo>
                  <a:lnTo>
                    <a:pt x="41" y="56"/>
                  </a:lnTo>
                  <a:lnTo>
                    <a:pt x="43" y="57"/>
                  </a:lnTo>
                  <a:lnTo>
                    <a:pt x="45" y="57"/>
                  </a:lnTo>
                  <a:lnTo>
                    <a:pt x="47" y="57"/>
                  </a:lnTo>
                  <a:lnTo>
                    <a:pt x="51" y="57"/>
                  </a:lnTo>
                  <a:lnTo>
                    <a:pt x="53" y="59"/>
                  </a:lnTo>
                  <a:lnTo>
                    <a:pt x="55" y="59"/>
                  </a:lnTo>
                  <a:lnTo>
                    <a:pt x="57" y="59"/>
                  </a:lnTo>
                  <a:lnTo>
                    <a:pt x="60" y="59"/>
                  </a:lnTo>
                  <a:lnTo>
                    <a:pt x="62" y="60"/>
                  </a:lnTo>
                  <a:lnTo>
                    <a:pt x="64" y="60"/>
                  </a:lnTo>
                  <a:lnTo>
                    <a:pt x="66" y="60"/>
                  </a:lnTo>
                  <a:lnTo>
                    <a:pt x="69" y="60"/>
                  </a:lnTo>
                  <a:lnTo>
                    <a:pt x="71" y="62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9" y="62"/>
                  </a:lnTo>
                  <a:lnTo>
                    <a:pt x="81" y="64"/>
                  </a:lnTo>
                  <a:lnTo>
                    <a:pt x="85" y="64"/>
                  </a:lnTo>
                  <a:lnTo>
                    <a:pt x="88" y="65"/>
                  </a:lnTo>
                  <a:lnTo>
                    <a:pt x="91" y="65"/>
                  </a:lnTo>
                  <a:lnTo>
                    <a:pt x="93" y="67"/>
                  </a:lnTo>
                  <a:lnTo>
                    <a:pt x="97" y="67"/>
                  </a:lnTo>
                  <a:lnTo>
                    <a:pt x="99" y="69"/>
                  </a:lnTo>
                  <a:lnTo>
                    <a:pt x="103" y="69"/>
                  </a:lnTo>
                  <a:lnTo>
                    <a:pt x="105" y="70"/>
                  </a:lnTo>
                  <a:lnTo>
                    <a:pt x="108" y="70"/>
                  </a:lnTo>
                  <a:lnTo>
                    <a:pt x="110" y="70"/>
                  </a:lnTo>
                  <a:lnTo>
                    <a:pt x="113" y="70"/>
                  </a:lnTo>
                  <a:lnTo>
                    <a:pt x="115" y="72"/>
                  </a:lnTo>
                  <a:lnTo>
                    <a:pt x="117" y="72"/>
                  </a:lnTo>
                  <a:lnTo>
                    <a:pt x="119" y="73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7" y="75"/>
                  </a:lnTo>
                  <a:lnTo>
                    <a:pt x="130" y="75"/>
                  </a:lnTo>
                  <a:lnTo>
                    <a:pt x="134" y="75"/>
                  </a:lnTo>
                  <a:lnTo>
                    <a:pt x="136" y="77"/>
                  </a:lnTo>
                  <a:lnTo>
                    <a:pt x="139" y="77"/>
                  </a:lnTo>
                  <a:lnTo>
                    <a:pt x="141" y="77"/>
                  </a:lnTo>
                  <a:lnTo>
                    <a:pt x="145" y="77"/>
                  </a:lnTo>
                  <a:lnTo>
                    <a:pt x="147" y="78"/>
                  </a:lnTo>
                  <a:lnTo>
                    <a:pt x="150" y="78"/>
                  </a:lnTo>
                  <a:lnTo>
                    <a:pt x="152" y="78"/>
                  </a:lnTo>
                  <a:lnTo>
                    <a:pt x="155" y="78"/>
                  </a:lnTo>
                  <a:lnTo>
                    <a:pt x="157" y="78"/>
                  </a:lnTo>
                  <a:lnTo>
                    <a:pt x="159" y="78"/>
                  </a:lnTo>
                  <a:lnTo>
                    <a:pt x="161" y="78"/>
                  </a:lnTo>
                  <a:lnTo>
                    <a:pt x="164" y="77"/>
                  </a:lnTo>
                  <a:lnTo>
                    <a:pt x="166" y="77"/>
                  </a:lnTo>
                  <a:lnTo>
                    <a:pt x="169" y="76"/>
                  </a:lnTo>
                  <a:lnTo>
                    <a:pt x="173" y="76"/>
                  </a:lnTo>
                  <a:lnTo>
                    <a:pt x="176" y="74"/>
                  </a:lnTo>
                  <a:lnTo>
                    <a:pt x="178" y="74"/>
                  </a:lnTo>
                  <a:lnTo>
                    <a:pt x="182" y="73"/>
                  </a:lnTo>
                  <a:lnTo>
                    <a:pt x="184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3" y="70"/>
                  </a:lnTo>
                  <a:lnTo>
                    <a:pt x="194" y="70"/>
                  </a:lnTo>
                  <a:lnTo>
                    <a:pt x="197" y="68"/>
                  </a:lnTo>
                  <a:lnTo>
                    <a:pt x="199" y="68"/>
                  </a:lnTo>
                  <a:lnTo>
                    <a:pt x="203" y="68"/>
                  </a:lnTo>
                  <a:lnTo>
                    <a:pt x="205" y="68"/>
                  </a:lnTo>
                  <a:lnTo>
                    <a:pt x="209" y="68"/>
                  </a:lnTo>
                  <a:lnTo>
                    <a:pt x="213" y="68"/>
                  </a:lnTo>
                  <a:lnTo>
                    <a:pt x="216" y="68"/>
                  </a:lnTo>
                  <a:lnTo>
                    <a:pt x="220" y="68"/>
                  </a:lnTo>
                  <a:lnTo>
                    <a:pt x="224" y="66"/>
                  </a:lnTo>
                  <a:lnTo>
                    <a:pt x="227" y="66"/>
                  </a:lnTo>
                  <a:lnTo>
                    <a:pt x="231" y="66"/>
                  </a:lnTo>
                  <a:lnTo>
                    <a:pt x="234" y="66"/>
                  </a:lnTo>
                  <a:lnTo>
                    <a:pt x="238" y="66"/>
                  </a:lnTo>
                  <a:lnTo>
                    <a:pt x="241" y="66"/>
                  </a:lnTo>
                  <a:lnTo>
                    <a:pt x="244" y="66"/>
                  </a:lnTo>
                  <a:lnTo>
                    <a:pt x="247" y="66"/>
                  </a:lnTo>
                  <a:lnTo>
                    <a:pt x="251" y="66"/>
                  </a:lnTo>
                  <a:lnTo>
                    <a:pt x="253" y="66"/>
                  </a:lnTo>
                  <a:lnTo>
                    <a:pt x="257" y="66"/>
                  </a:lnTo>
                  <a:lnTo>
                    <a:pt x="261" y="66"/>
                  </a:lnTo>
                  <a:lnTo>
                    <a:pt x="264" y="66"/>
                  </a:lnTo>
                  <a:lnTo>
                    <a:pt x="268" y="66"/>
                  </a:lnTo>
                  <a:lnTo>
                    <a:pt x="273" y="66"/>
                  </a:lnTo>
                  <a:lnTo>
                    <a:pt x="277" y="66"/>
                  </a:lnTo>
                  <a:lnTo>
                    <a:pt x="282" y="66"/>
                  </a:lnTo>
                  <a:lnTo>
                    <a:pt x="286" y="66"/>
                  </a:lnTo>
                  <a:lnTo>
                    <a:pt x="290" y="66"/>
                  </a:lnTo>
                  <a:lnTo>
                    <a:pt x="293" y="66"/>
                  </a:lnTo>
                  <a:lnTo>
                    <a:pt x="299" y="66"/>
                  </a:lnTo>
                  <a:lnTo>
                    <a:pt x="302" y="66"/>
                  </a:lnTo>
                  <a:lnTo>
                    <a:pt x="306" y="66"/>
                  </a:lnTo>
                  <a:lnTo>
                    <a:pt x="309" y="66"/>
                  </a:lnTo>
                  <a:lnTo>
                    <a:pt x="313" y="66"/>
                  </a:lnTo>
                  <a:lnTo>
                    <a:pt x="315" y="67"/>
                  </a:lnTo>
                  <a:lnTo>
                    <a:pt x="319" y="67"/>
                  </a:lnTo>
                  <a:lnTo>
                    <a:pt x="322" y="67"/>
                  </a:lnTo>
                  <a:lnTo>
                    <a:pt x="327" y="67"/>
                  </a:lnTo>
                  <a:lnTo>
                    <a:pt x="331" y="68"/>
                  </a:lnTo>
                  <a:lnTo>
                    <a:pt x="337" y="68"/>
                  </a:lnTo>
                  <a:lnTo>
                    <a:pt x="341" y="68"/>
                  </a:lnTo>
                  <a:lnTo>
                    <a:pt x="347" y="68"/>
                  </a:lnTo>
                  <a:lnTo>
                    <a:pt x="350" y="69"/>
                  </a:lnTo>
                  <a:lnTo>
                    <a:pt x="355" y="69"/>
                  </a:lnTo>
                  <a:lnTo>
                    <a:pt x="359" y="69"/>
                  </a:lnTo>
                  <a:lnTo>
                    <a:pt x="363" y="69"/>
                  </a:lnTo>
                  <a:lnTo>
                    <a:pt x="366" y="69"/>
                  </a:lnTo>
                  <a:lnTo>
                    <a:pt x="369" y="68"/>
                  </a:lnTo>
                  <a:lnTo>
                    <a:pt x="370" y="68"/>
                  </a:lnTo>
                  <a:lnTo>
                    <a:pt x="372" y="66"/>
                  </a:lnTo>
                  <a:lnTo>
                    <a:pt x="371" y="66"/>
                  </a:lnTo>
                  <a:lnTo>
                    <a:pt x="370" y="66"/>
                  </a:lnTo>
                  <a:lnTo>
                    <a:pt x="369" y="66"/>
                  </a:lnTo>
                  <a:lnTo>
                    <a:pt x="368" y="64"/>
                  </a:lnTo>
                  <a:lnTo>
                    <a:pt x="366" y="64"/>
                  </a:lnTo>
                  <a:lnTo>
                    <a:pt x="364" y="63"/>
                  </a:lnTo>
                  <a:lnTo>
                    <a:pt x="362" y="63"/>
                  </a:lnTo>
                  <a:lnTo>
                    <a:pt x="360" y="61"/>
                  </a:lnTo>
                  <a:lnTo>
                    <a:pt x="357" y="61"/>
                  </a:lnTo>
                  <a:lnTo>
                    <a:pt x="355" y="60"/>
                  </a:lnTo>
                  <a:lnTo>
                    <a:pt x="353" y="60"/>
                  </a:lnTo>
                  <a:lnTo>
                    <a:pt x="351" y="58"/>
                  </a:lnTo>
                  <a:lnTo>
                    <a:pt x="350" y="58"/>
                  </a:lnTo>
                  <a:lnTo>
                    <a:pt x="348" y="56"/>
                  </a:lnTo>
                  <a:lnTo>
                    <a:pt x="347" y="56"/>
                  </a:lnTo>
                  <a:lnTo>
                    <a:pt x="347" y="54"/>
                  </a:lnTo>
                  <a:lnTo>
                    <a:pt x="345" y="54"/>
                  </a:lnTo>
                  <a:lnTo>
                    <a:pt x="345" y="53"/>
                  </a:lnTo>
                  <a:lnTo>
                    <a:pt x="345" y="53"/>
                  </a:lnTo>
                  <a:lnTo>
                    <a:pt x="345" y="51"/>
                  </a:lnTo>
                  <a:lnTo>
                    <a:pt x="343" y="51"/>
                  </a:lnTo>
                  <a:lnTo>
                    <a:pt x="343" y="49"/>
                  </a:lnTo>
                  <a:lnTo>
                    <a:pt x="343" y="48"/>
                  </a:lnTo>
                  <a:lnTo>
                    <a:pt x="343" y="46"/>
                  </a:lnTo>
                  <a:lnTo>
                    <a:pt x="341" y="46"/>
                  </a:lnTo>
                  <a:lnTo>
                    <a:pt x="341" y="44"/>
                  </a:lnTo>
                  <a:lnTo>
                    <a:pt x="341" y="43"/>
                  </a:lnTo>
                  <a:lnTo>
                    <a:pt x="341" y="42"/>
                  </a:lnTo>
                  <a:lnTo>
                    <a:pt x="341" y="42"/>
                  </a:lnTo>
                  <a:lnTo>
                    <a:pt x="341" y="40"/>
                  </a:lnTo>
                  <a:lnTo>
                    <a:pt x="341" y="40"/>
                  </a:lnTo>
                  <a:lnTo>
                    <a:pt x="341" y="38"/>
                  </a:lnTo>
                  <a:lnTo>
                    <a:pt x="341" y="38"/>
                  </a:lnTo>
                  <a:lnTo>
                    <a:pt x="341" y="36"/>
                  </a:lnTo>
                  <a:lnTo>
                    <a:pt x="341" y="34"/>
                  </a:lnTo>
                  <a:lnTo>
                    <a:pt x="343" y="32"/>
                  </a:lnTo>
                  <a:lnTo>
                    <a:pt x="343" y="32"/>
                  </a:lnTo>
                  <a:lnTo>
                    <a:pt x="345" y="30"/>
                  </a:lnTo>
                  <a:lnTo>
                    <a:pt x="347" y="28"/>
                  </a:lnTo>
                  <a:lnTo>
                    <a:pt x="349" y="26"/>
                  </a:lnTo>
                  <a:lnTo>
                    <a:pt x="349" y="26"/>
                  </a:lnTo>
                  <a:lnTo>
                    <a:pt x="350" y="24"/>
                  </a:lnTo>
                  <a:lnTo>
                    <a:pt x="350" y="23"/>
                  </a:lnTo>
                  <a:lnTo>
                    <a:pt x="352" y="21"/>
                  </a:lnTo>
                  <a:lnTo>
                    <a:pt x="352" y="21"/>
                  </a:lnTo>
                  <a:lnTo>
                    <a:pt x="353" y="19"/>
                  </a:lnTo>
                  <a:lnTo>
                    <a:pt x="353" y="18"/>
                  </a:lnTo>
                  <a:lnTo>
                    <a:pt x="355" y="16"/>
                  </a:lnTo>
                  <a:lnTo>
                    <a:pt x="355" y="16"/>
                  </a:lnTo>
                  <a:lnTo>
                    <a:pt x="355" y="14"/>
                  </a:lnTo>
                  <a:lnTo>
                    <a:pt x="355" y="14"/>
                  </a:lnTo>
                  <a:lnTo>
                    <a:pt x="355" y="12"/>
                  </a:lnTo>
                  <a:lnTo>
                    <a:pt x="355" y="12"/>
                  </a:lnTo>
                  <a:lnTo>
                    <a:pt x="355" y="10"/>
                  </a:lnTo>
                  <a:lnTo>
                    <a:pt x="355" y="10"/>
                  </a:lnTo>
                  <a:lnTo>
                    <a:pt x="357" y="8"/>
                  </a:lnTo>
                  <a:lnTo>
                    <a:pt x="356" y="8"/>
                  </a:lnTo>
                  <a:lnTo>
                    <a:pt x="356" y="6"/>
                  </a:lnTo>
                  <a:lnTo>
                    <a:pt x="356" y="6"/>
                  </a:lnTo>
                  <a:lnTo>
                    <a:pt x="356" y="4"/>
                  </a:lnTo>
                  <a:lnTo>
                    <a:pt x="355" y="4"/>
                  </a:lnTo>
                  <a:lnTo>
                    <a:pt x="355" y="2"/>
                  </a:lnTo>
                  <a:lnTo>
                    <a:pt x="355" y="2"/>
                  </a:lnTo>
                  <a:lnTo>
                    <a:pt x="355" y="0"/>
                  </a:lnTo>
                  <a:lnTo>
                    <a:pt x="353" y="0"/>
                  </a:lnTo>
                  <a:lnTo>
                    <a:pt x="352" y="0"/>
                  </a:lnTo>
                  <a:lnTo>
                    <a:pt x="350" y="1"/>
                  </a:lnTo>
                  <a:lnTo>
                    <a:pt x="349" y="1"/>
                  </a:lnTo>
                  <a:lnTo>
                    <a:pt x="345" y="3"/>
                  </a:lnTo>
                  <a:lnTo>
                    <a:pt x="341" y="4"/>
                  </a:lnTo>
                  <a:lnTo>
                    <a:pt x="335" y="5"/>
                  </a:lnTo>
                  <a:lnTo>
                    <a:pt x="329" y="6"/>
                  </a:lnTo>
                  <a:lnTo>
                    <a:pt x="320" y="9"/>
                  </a:lnTo>
                  <a:lnTo>
                    <a:pt x="310" y="11"/>
                  </a:lnTo>
                  <a:lnTo>
                    <a:pt x="298" y="13"/>
                  </a:lnTo>
                  <a:lnTo>
                    <a:pt x="285" y="15"/>
                  </a:lnTo>
                  <a:lnTo>
                    <a:pt x="269" y="18"/>
                  </a:lnTo>
                  <a:lnTo>
                    <a:pt x="252" y="20"/>
                  </a:lnTo>
                  <a:lnTo>
                    <a:pt x="231" y="23"/>
                  </a:lnTo>
                  <a:lnTo>
                    <a:pt x="209" y="25"/>
                  </a:lnTo>
                  <a:lnTo>
                    <a:pt x="209" y="25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75200" y="7466040"/>
              <a:ext cx="490680" cy="127080"/>
            </a:xfrm>
            <a:custGeom>
              <a:avLst/>
              <a:gdLst/>
              <a:ahLst/>
              <a:rect l="l" t="t" r="r" b="b"/>
              <a:pathLst>
                <a:path w="309" h="80">
                  <a:moveTo>
                    <a:pt x="268" y="12"/>
                  </a:moveTo>
                  <a:lnTo>
                    <a:pt x="266" y="12"/>
                  </a:lnTo>
                  <a:lnTo>
                    <a:pt x="264" y="12"/>
                  </a:lnTo>
                  <a:lnTo>
                    <a:pt x="262" y="12"/>
                  </a:lnTo>
                  <a:lnTo>
                    <a:pt x="260" y="12"/>
                  </a:lnTo>
                  <a:lnTo>
                    <a:pt x="257" y="12"/>
                  </a:lnTo>
                  <a:lnTo>
                    <a:pt x="255" y="12"/>
                  </a:lnTo>
                  <a:lnTo>
                    <a:pt x="253" y="12"/>
                  </a:lnTo>
                  <a:lnTo>
                    <a:pt x="251" y="12"/>
                  </a:lnTo>
                  <a:lnTo>
                    <a:pt x="247" y="12"/>
                  </a:lnTo>
                  <a:lnTo>
                    <a:pt x="245" y="12"/>
                  </a:lnTo>
                  <a:lnTo>
                    <a:pt x="242" y="12"/>
                  </a:lnTo>
                  <a:lnTo>
                    <a:pt x="240" y="12"/>
                  </a:lnTo>
                  <a:lnTo>
                    <a:pt x="238" y="12"/>
                  </a:lnTo>
                  <a:lnTo>
                    <a:pt x="236" y="12"/>
                  </a:lnTo>
                  <a:lnTo>
                    <a:pt x="234" y="12"/>
                  </a:lnTo>
                  <a:lnTo>
                    <a:pt x="233" y="12"/>
                  </a:lnTo>
                  <a:lnTo>
                    <a:pt x="229" y="13"/>
                  </a:lnTo>
                  <a:lnTo>
                    <a:pt x="226" y="13"/>
                  </a:lnTo>
                  <a:lnTo>
                    <a:pt x="222" y="13"/>
                  </a:lnTo>
                  <a:lnTo>
                    <a:pt x="220" y="13"/>
                  </a:lnTo>
                  <a:lnTo>
                    <a:pt x="215" y="15"/>
                  </a:lnTo>
                  <a:lnTo>
                    <a:pt x="211" y="15"/>
                  </a:lnTo>
                  <a:lnTo>
                    <a:pt x="207" y="15"/>
                  </a:lnTo>
                  <a:lnTo>
                    <a:pt x="204" y="15"/>
                  </a:lnTo>
                  <a:lnTo>
                    <a:pt x="198" y="17"/>
                  </a:lnTo>
                  <a:lnTo>
                    <a:pt x="194" y="17"/>
                  </a:lnTo>
                  <a:lnTo>
                    <a:pt x="190" y="17"/>
                  </a:lnTo>
                  <a:lnTo>
                    <a:pt x="187" y="17"/>
                  </a:lnTo>
                  <a:lnTo>
                    <a:pt x="183" y="17"/>
                  </a:lnTo>
                  <a:lnTo>
                    <a:pt x="179" y="17"/>
                  </a:lnTo>
                  <a:lnTo>
                    <a:pt x="176" y="17"/>
                  </a:lnTo>
                  <a:lnTo>
                    <a:pt x="174" y="17"/>
                  </a:lnTo>
                  <a:lnTo>
                    <a:pt x="170" y="17"/>
                  </a:lnTo>
                  <a:lnTo>
                    <a:pt x="168" y="17"/>
                  </a:lnTo>
                  <a:lnTo>
                    <a:pt x="164" y="17"/>
                  </a:lnTo>
                  <a:lnTo>
                    <a:pt x="162" y="17"/>
                  </a:lnTo>
                  <a:lnTo>
                    <a:pt x="157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6" y="17"/>
                  </a:lnTo>
                  <a:lnTo>
                    <a:pt x="140" y="17"/>
                  </a:lnTo>
                  <a:lnTo>
                    <a:pt x="136" y="17"/>
                  </a:lnTo>
                  <a:lnTo>
                    <a:pt x="132" y="17"/>
                  </a:lnTo>
                  <a:lnTo>
                    <a:pt x="129" y="17"/>
                  </a:lnTo>
                  <a:lnTo>
                    <a:pt x="125" y="17"/>
                  </a:lnTo>
                  <a:lnTo>
                    <a:pt x="121" y="17"/>
                  </a:lnTo>
                  <a:lnTo>
                    <a:pt x="118" y="17"/>
                  </a:lnTo>
                  <a:lnTo>
                    <a:pt x="116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8" y="17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7"/>
                  </a:lnTo>
                  <a:lnTo>
                    <a:pt x="72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46" y="11"/>
                  </a:lnTo>
                  <a:lnTo>
                    <a:pt x="42" y="9"/>
                  </a:lnTo>
                  <a:lnTo>
                    <a:pt x="38" y="9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19" y="43"/>
                  </a:lnTo>
                  <a:lnTo>
                    <a:pt x="20" y="43"/>
                  </a:lnTo>
                  <a:lnTo>
                    <a:pt x="19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49"/>
                  </a:lnTo>
                  <a:lnTo>
                    <a:pt x="19" y="51"/>
                  </a:lnTo>
                  <a:lnTo>
                    <a:pt x="19" y="53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19" y="58"/>
                  </a:lnTo>
                  <a:lnTo>
                    <a:pt x="19" y="60"/>
                  </a:lnTo>
                  <a:lnTo>
                    <a:pt x="19" y="62"/>
                  </a:lnTo>
                  <a:lnTo>
                    <a:pt x="19" y="64"/>
                  </a:lnTo>
                  <a:lnTo>
                    <a:pt x="19" y="65"/>
                  </a:lnTo>
                  <a:lnTo>
                    <a:pt x="19" y="66"/>
                  </a:lnTo>
                  <a:lnTo>
                    <a:pt x="19" y="67"/>
                  </a:lnTo>
                  <a:lnTo>
                    <a:pt x="20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1"/>
                  </a:lnTo>
                  <a:lnTo>
                    <a:pt x="23" y="73"/>
                  </a:lnTo>
                  <a:lnTo>
                    <a:pt x="24" y="73"/>
                  </a:lnTo>
                  <a:lnTo>
                    <a:pt x="26" y="74"/>
                  </a:lnTo>
                  <a:lnTo>
                    <a:pt x="28" y="74"/>
                  </a:lnTo>
                  <a:lnTo>
                    <a:pt x="28" y="76"/>
                  </a:lnTo>
                  <a:lnTo>
                    <a:pt x="30" y="76"/>
                  </a:lnTo>
                  <a:lnTo>
                    <a:pt x="32" y="77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9"/>
                  </a:lnTo>
                  <a:lnTo>
                    <a:pt x="48" y="79"/>
                  </a:lnTo>
                  <a:lnTo>
                    <a:pt x="50" y="79"/>
                  </a:lnTo>
                  <a:lnTo>
                    <a:pt x="54" y="79"/>
                  </a:lnTo>
                  <a:lnTo>
                    <a:pt x="56" y="79"/>
                  </a:lnTo>
                  <a:lnTo>
                    <a:pt x="60" y="79"/>
                  </a:lnTo>
                  <a:lnTo>
                    <a:pt x="62" y="79"/>
                  </a:lnTo>
                  <a:lnTo>
                    <a:pt x="66" y="79"/>
                  </a:lnTo>
                  <a:lnTo>
                    <a:pt x="68" y="79"/>
                  </a:lnTo>
                  <a:lnTo>
                    <a:pt x="71" y="79"/>
                  </a:lnTo>
                  <a:lnTo>
                    <a:pt x="73" y="79"/>
                  </a:lnTo>
                  <a:lnTo>
                    <a:pt x="76" y="79"/>
                  </a:lnTo>
                  <a:lnTo>
                    <a:pt x="78" y="79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7"/>
                  </a:lnTo>
                  <a:lnTo>
                    <a:pt x="91" y="77"/>
                  </a:lnTo>
                  <a:lnTo>
                    <a:pt x="95" y="77"/>
                  </a:lnTo>
                  <a:lnTo>
                    <a:pt x="99" y="77"/>
                  </a:lnTo>
                  <a:lnTo>
                    <a:pt x="102" y="77"/>
                  </a:lnTo>
                  <a:lnTo>
                    <a:pt x="106" y="77"/>
                  </a:lnTo>
                  <a:lnTo>
                    <a:pt x="112" y="76"/>
                  </a:lnTo>
                  <a:lnTo>
                    <a:pt x="116" y="76"/>
                  </a:lnTo>
                  <a:lnTo>
                    <a:pt x="119" y="76"/>
                  </a:lnTo>
                  <a:lnTo>
                    <a:pt x="123" y="76"/>
                  </a:lnTo>
                  <a:lnTo>
                    <a:pt x="128" y="74"/>
                  </a:lnTo>
                  <a:lnTo>
                    <a:pt x="130" y="74"/>
                  </a:lnTo>
                  <a:lnTo>
                    <a:pt x="134" y="73"/>
                  </a:lnTo>
                  <a:lnTo>
                    <a:pt x="138" y="73"/>
                  </a:lnTo>
                  <a:lnTo>
                    <a:pt x="141" y="71"/>
                  </a:lnTo>
                  <a:lnTo>
                    <a:pt x="142" y="71"/>
                  </a:lnTo>
                  <a:lnTo>
                    <a:pt x="144" y="70"/>
                  </a:lnTo>
                  <a:lnTo>
                    <a:pt x="146" y="69"/>
                  </a:lnTo>
                  <a:lnTo>
                    <a:pt x="149" y="67"/>
                  </a:lnTo>
                  <a:lnTo>
                    <a:pt x="150" y="67"/>
                  </a:lnTo>
                  <a:lnTo>
                    <a:pt x="153" y="65"/>
                  </a:lnTo>
                  <a:lnTo>
                    <a:pt x="155" y="63"/>
                  </a:lnTo>
                  <a:lnTo>
                    <a:pt x="159" y="61"/>
                  </a:lnTo>
                  <a:lnTo>
                    <a:pt x="160" y="61"/>
                  </a:lnTo>
                  <a:lnTo>
                    <a:pt x="162" y="59"/>
                  </a:lnTo>
                  <a:lnTo>
                    <a:pt x="164" y="57"/>
                  </a:lnTo>
                  <a:lnTo>
                    <a:pt x="168" y="55"/>
                  </a:lnTo>
                  <a:lnTo>
                    <a:pt x="170" y="55"/>
                  </a:lnTo>
                  <a:lnTo>
                    <a:pt x="172" y="54"/>
                  </a:lnTo>
                  <a:lnTo>
                    <a:pt x="174" y="53"/>
                  </a:lnTo>
                  <a:lnTo>
                    <a:pt x="177" y="51"/>
                  </a:lnTo>
                  <a:lnTo>
                    <a:pt x="179" y="51"/>
                  </a:lnTo>
                  <a:lnTo>
                    <a:pt x="180" y="51"/>
                  </a:lnTo>
                  <a:lnTo>
                    <a:pt x="182" y="51"/>
                  </a:lnTo>
                  <a:lnTo>
                    <a:pt x="186" y="49"/>
                  </a:lnTo>
                  <a:lnTo>
                    <a:pt x="189" y="49"/>
                  </a:lnTo>
                  <a:lnTo>
                    <a:pt x="192" y="49"/>
                  </a:lnTo>
                  <a:lnTo>
                    <a:pt x="196" y="49"/>
                  </a:lnTo>
                  <a:lnTo>
                    <a:pt x="200" y="47"/>
                  </a:lnTo>
                  <a:lnTo>
                    <a:pt x="202" y="47"/>
                  </a:lnTo>
                  <a:lnTo>
                    <a:pt x="206" y="47"/>
                  </a:lnTo>
                  <a:lnTo>
                    <a:pt x="209" y="47"/>
                  </a:lnTo>
                  <a:lnTo>
                    <a:pt x="213" y="45"/>
                  </a:lnTo>
                  <a:lnTo>
                    <a:pt x="215" y="45"/>
                  </a:lnTo>
                  <a:lnTo>
                    <a:pt x="218" y="45"/>
                  </a:lnTo>
                  <a:lnTo>
                    <a:pt x="220" y="45"/>
                  </a:lnTo>
                  <a:lnTo>
                    <a:pt x="224" y="44"/>
                  </a:lnTo>
                  <a:lnTo>
                    <a:pt x="226" y="44"/>
                  </a:lnTo>
                  <a:lnTo>
                    <a:pt x="229" y="44"/>
                  </a:lnTo>
                  <a:lnTo>
                    <a:pt x="232" y="44"/>
                  </a:lnTo>
                  <a:lnTo>
                    <a:pt x="236" y="44"/>
                  </a:lnTo>
                  <a:lnTo>
                    <a:pt x="238" y="44"/>
                  </a:lnTo>
                  <a:lnTo>
                    <a:pt x="242" y="44"/>
                  </a:lnTo>
                  <a:lnTo>
                    <a:pt x="246" y="44"/>
                  </a:lnTo>
                  <a:lnTo>
                    <a:pt x="250" y="43"/>
                  </a:lnTo>
                  <a:lnTo>
                    <a:pt x="252" y="43"/>
                  </a:lnTo>
                  <a:lnTo>
                    <a:pt x="256" y="43"/>
                  </a:lnTo>
                  <a:lnTo>
                    <a:pt x="260" y="43"/>
                  </a:lnTo>
                  <a:lnTo>
                    <a:pt x="264" y="41"/>
                  </a:lnTo>
                  <a:lnTo>
                    <a:pt x="265" y="41"/>
                  </a:lnTo>
                  <a:lnTo>
                    <a:pt x="269" y="41"/>
                  </a:lnTo>
                  <a:lnTo>
                    <a:pt x="272" y="41"/>
                  </a:lnTo>
                  <a:lnTo>
                    <a:pt x="275" y="40"/>
                  </a:lnTo>
                  <a:lnTo>
                    <a:pt x="276" y="41"/>
                  </a:lnTo>
                  <a:lnTo>
                    <a:pt x="278" y="41"/>
                  </a:lnTo>
                  <a:lnTo>
                    <a:pt x="280" y="41"/>
                  </a:lnTo>
                  <a:lnTo>
                    <a:pt x="283" y="41"/>
                  </a:lnTo>
                  <a:lnTo>
                    <a:pt x="285" y="42"/>
                  </a:lnTo>
                  <a:lnTo>
                    <a:pt x="288" y="42"/>
                  </a:lnTo>
                  <a:lnTo>
                    <a:pt x="290" y="42"/>
                  </a:lnTo>
                  <a:lnTo>
                    <a:pt x="294" y="42"/>
                  </a:lnTo>
                  <a:lnTo>
                    <a:pt x="296" y="43"/>
                  </a:lnTo>
                  <a:lnTo>
                    <a:pt x="298" y="43"/>
                  </a:lnTo>
                  <a:lnTo>
                    <a:pt x="300" y="43"/>
                  </a:lnTo>
                  <a:lnTo>
                    <a:pt x="304" y="43"/>
                  </a:lnTo>
                  <a:lnTo>
                    <a:pt x="305" y="43"/>
                  </a:lnTo>
                  <a:lnTo>
                    <a:pt x="306" y="42"/>
                  </a:lnTo>
                  <a:lnTo>
                    <a:pt x="307" y="42"/>
                  </a:lnTo>
                  <a:lnTo>
                    <a:pt x="308" y="40"/>
                  </a:lnTo>
                  <a:lnTo>
                    <a:pt x="307" y="40"/>
                  </a:lnTo>
                  <a:lnTo>
                    <a:pt x="307" y="40"/>
                  </a:lnTo>
                  <a:lnTo>
                    <a:pt x="306" y="40"/>
                  </a:lnTo>
                  <a:lnTo>
                    <a:pt x="306" y="38"/>
                  </a:lnTo>
                  <a:lnTo>
                    <a:pt x="304" y="38"/>
                  </a:lnTo>
                  <a:lnTo>
                    <a:pt x="303" y="36"/>
                  </a:lnTo>
                  <a:lnTo>
                    <a:pt x="301" y="36"/>
                  </a:lnTo>
                  <a:lnTo>
                    <a:pt x="301" y="34"/>
                  </a:lnTo>
                  <a:lnTo>
                    <a:pt x="299" y="34"/>
                  </a:lnTo>
                  <a:lnTo>
                    <a:pt x="297" y="33"/>
                  </a:lnTo>
                  <a:lnTo>
                    <a:pt x="295" y="33"/>
                  </a:lnTo>
                  <a:lnTo>
                    <a:pt x="294" y="31"/>
                  </a:lnTo>
                  <a:lnTo>
                    <a:pt x="292" y="31"/>
                  </a:lnTo>
                  <a:lnTo>
                    <a:pt x="292" y="29"/>
                  </a:lnTo>
                  <a:lnTo>
                    <a:pt x="290" y="29"/>
                  </a:lnTo>
                  <a:lnTo>
                    <a:pt x="290" y="27"/>
                  </a:lnTo>
                  <a:lnTo>
                    <a:pt x="288" y="27"/>
                  </a:lnTo>
                  <a:lnTo>
                    <a:pt x="286" y="26"/>
                  </a:lnTo>
                  <a:lnTo>
                    <a:pt x="285" y="26"/>
                  </a:lnTo>
                  <a:lnTo>
                    <a:pt x="284" y="24"/>
                  </a:lnTo>
                  <a:lnTo>
                    <a:pt x="282" y="24"/>
                  </a:lnTo>
                  <a:lnTo>
                    <a:pt x="280" y="23"/>
                  </a:lnTo>
                  <a:lnTo>
                    <a:pt x="278" y="21"/>
                  </a:lnTo>
                  <a:lnTo>
                    <a:pt x="278" y="19"/>
                  </a:lnTo>
                  <a:lnTo>
                    <a:pt x="276" y="19"/>
                  </a:lnTo>
                  <a:lnTo>
                    <a:pt x="275" y="17"/>
                  </a:lnTo>
                  <a:lnTo>
                    <a:pt x="273" y="17"/>
                  </a:lnTo>
                  <a:lnTo>
                    <a:pt x="273" y="15"/>
                  </a:lnTo>
                  <a:lnTo>
                    <a:pt x="271" y="15"/>
                  </a:lnTo>
                  <a:lnTo>
                    <a:pt x="270" y="14"/>
                  </a:lnTo>
                  <a:lnTo>
                    <a:pt x="268" y="14"/>
                  </a:lnTo>
                  <a:lnTo>
                    <a:pt x="268" y="12"/>
                  </a:lnTo>
                  <a:lnTo>
                    <a:pt x="268" y="12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64280" y="6404040"/>
              <a:ext cx="206280" cy="133200"/>
            </a:xfrm>
            <a:custGeom>
              <a:avLst/>
              <a:gdLst/>
              <a:ahLst/>
              <a:rect l="l" t="t" r="r" b="b"/>
              <a:pathLst>
                <a:path w="130" h="84">
                  <a:moveTo>
                    <a:pt x="45" y="4"/>
                  </a:moveTo>
                  <a:lnTo>
                    <a:pt x="44" y="6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8"/>
                  </a:lnTo>
                  <a:lnTo>
                    <a:pt x="52" y="20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6" y="28"/>
                  </a:lnTo>
                  <a:lnTo>
                    <a:pt x="58" y="30"/>
                  </a:lnTo>
                  <a:lnTo>
                    <a:pt x="58" y="33"/>
                  </a:lnTo>
                  <a:lnTo>
                    <a:pt x="60" y="35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8" y="46"/>
                  </a:lnTo>
                  <a:lnTo>
                    <a:pt x="44" y="48"/>
                  </a:lnTo>
                  <a:lnTo>
                    <a:pt x="38" y="51"/>
                  </a:lnTo>
                  <a:lnTo>
                    <a:pt x="34" y="54"/>
                  </a:lnTo>
                  <a:lnTo>
                    <a:pt x="28" y="58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3" y="67"/>
                  </a:lnTo>
                  <a:lnTo>
                    <a:pt x="8" y="70"/>
                  </a:lnTo>
                  <a:lnTo>
                    <a:pt x="5" y="72"/>
                  </a:lnTo>
                  <a:lnTo>
                    <a:pt x="2" y="75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4" y="83"/>
                  </a:lnTo>
                  <a:lnTo>
                    <a:pt x="6" y="83"/>
                  </a:lnTo>
                  <a:lnTo>
                    <a:pt x="8" y="83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5" y="82"/>
                  </a:lnTo>
                  <a:lnTo>
                    <a:pt x="16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4" y="81"/>
                  </a:lnTo>
                  <a:lnTo>
                    <a:pt x="25" y="81"/>
                  </a:lnTo>
                  <a:lnTo>
                    <a:pt x="27" y="81"/>
                  </a:lnTo>
                  <a:lnTo>
                    <a:pt x="29" y="81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6" y="80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41" y="80"/>
                  </a:lnTo>
                  <a:lnTo>
                    <a:pt x="43" y="78"/>
                  </a:lnTo>
                  <a:lnTo>
                    <a:pt x="45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2" y="76"/>
                  </a:lnTo>
                  <a:lnTo>
                    <a:pt x="54" y="76"/>
                  </a:lnTo>
                  <a:lnTo>
                    <a:pt x="56" y="76"/>
                  </a:lnTo>
                  <a:lnTo>
                    <a:pt x="60" y="74"/>
                  </a:lnTo>
                  <a:lnTo>
                    <a:pt x="62" y="75"/>
                  </a:lnTo>
                  <a:lnTo>
                    <a:pt x="65" y="75"/>
                  </a:lnTo>
                  <a:lnTo>
                    <a:pt x="68" y="75"/>
                  </a:lnTo>
                  <a:lnTo>
                    <a:pt x="72" y="75"/>
                  </a:lnTo>
                  <a:lnTo>
                    <a:pt x="73" y="75"/>
                  </a:lnTo>
                  <a:lnTo>
                    <a:pt x="77" y="75"/>
                  </a:lnTo>
                  <a:lnTo>
                    <a:pt x="81" y="75"/>
                  </a:lnTo>
                  <a:lnTo>
                    <a:pt x="85" y="75"/>
                  </a:lnTo>
                  <a:lnTo>
                    <a:pt x="86" y="75"/>
                  </a:lnTo>
                  <a:lnTo>
                    <a:pt x="90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9" y="74"/>
                  </a:lnTo>
                  <a:lnTo>
                    <a:pt x="100" y="74"/>
                  </a:lnTo>
                  <a:lnTo>
                    <a:pt x="102" y="72"/>
                  </a:lnTo>
                  <a:lnTo>
                    <a:pt x="101" y="72"/>
                  </a:lnTo>
                  <a:lnTo>
                    <a:pt x="101" y="70"/>
                  </a:lnTo>
                  <a:lnTo>
                    <a:pt x="100" y="69"/>
                  </a:lnTo>
                  <a:lnTo>
                    <a:pt x="100" y="66"/>
                  </a:lnTo>
                  <a:lnTo>
                    <a:pt x="98" y="64"/>
                  </a:lnTo>
                  <a:lnTo>
                    <a:pt x="97" y="61"/>
                  </a:lnTo>
                  <a:lnTo>
                    <a:pt x="95" y="59"/>
                  </a:lnTo>
                  <a:lnTo>
                    <a:pt x="95" y="55"/>
                  </a:lnTo>
                  <a:lnTo>
                    <a:pt x="93" y="53"/>
                  </a:lnTo>
                  <a:lnTo>
                    <a:pt x="92" y="50"/>
                  </a:lnTo>
                  <a:lnTo>
                    <a:pt x="90" y="48"/>
                  </a:lnTo>
                  <a:lnTo>
                    <a:pt x="89" y="44"/>
                  </a:lnTo>
                  <a:lnTo>
                    <a:pt x="87" y="42"/>
                  </a:lnTo>
                  <a:lnTo>
                    <a:pt x="87" y="40"/>
                  </a:lnTo>
                  <a:lnTo>
                    <a:pt x="87" y="39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9" y="32"/>
                  </a:lnTo>
                  <a:lnTo>
                    <a:pt x="92" y="29"/>
                  </a:lnTo>
                  <a:lnTo>
                    <a:pt x="95" y="26"/>
                  </a:lnTo>
                  <a:lnTo>
                    <a:pt x="98" y="24"/>
                  </a:lnTo>
                  <a:lnTo>
                    <a:pt x="102" y="20"/>
                  </a:lnTo>
                  <a:lnTo>
                    <a:pt x="106" y="17"/>
                  </a:lnTo>
                  <a:lnTo>
                    <a:pt x="111" y="13"/>
                  </a:lnTo>
                  <a:lnTo>
                    <a:pt x="114" y="11"/>
                  </a:lnTo>
                  <a:lnTo>
                    <a:pt x="118" y="9"/>
                  </a:lnTo>
                  <a:lnTo>
                    <a:pt x="120" y="7"/>
                  </a:lnTo>
                  <a:lnTo>
                    <a:pt x="124" y="4"/>
                  </a:lnTo>
                  <a:lnTo>
                    <a:pt x="126" y="3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9" y="0"/>
                  </a:lnTo>
                  <a:lnTo>
                    <a:pt x="124" y="1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89" y="1"/>
                  </a:lnTo>
                  <a:lnTo>
                    <a:pt x="83" y="1"/>
                  </a:lnTo>
                  <a:lnTo>
                    <a:pt x="76" y="3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0" y="3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5" y="4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8600" y="6581880"/>
              <a:ext cx="304560" cy="100080"/>
            </a:xfrm>
            <a:custGeom>
              <a:avLst/>
              <a:gdLst/>
              <a:ahLst/>
              <a:rect l="l" t="t" r="r" b="b"/>
              <a:pathLst>
                <a:path w="192" h="63">
                  <a:moveTo>
                    <a:pt x="154" y="10"/>
                  </a:moveTo>
                  <a:lnTo>
                    <a:pt x="150" y="12"/>
                  </a:lnTo>
                  <a:lnTo>
                    <a:pt x="148" y="12"/>
                  </a:lnTo>
                  <a:lnTo>
                    <a:pt x="146" y="13"/>
                  </a:lnTo>
                  <a:lnTo>
                    <a:pt x="144" y="13"/>
                  </a:lnTo>
                  <a:lnTo>
                    <a:pt x="140" y="15"/>
                  </a:lnTo>
                  <a:lnTo>
                    <a:pt x="138" y="15"/>
                  </a:lnTo>
                  <a:lnTo>
                    <a:pt x="134" y="16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8" y="21"/>
                  </a:lnTo>
                  <a:lnTo>
                    <a:pt x="116" y="21"/>
                  </a:lnTo>
                  <a:lnTo>
                    <a:pt x="114" y="21"/>
                  </a:lnTo>
                  <a:lnTo>
                    <a:pt x="113" y="21"/>
                  </a:lnTo>
                  <a:lnTo>
                    <a:pt x="110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0" y="21"/>
                  </a:lnTo>
                  <a:lnTo>
                    <a:pt x="99" y="21"/>
                  </a:lnTo>
                  <a:lnTo>
                    <a:pt x="97" y="21"/>
                  </a:lnTo>
                  <a:lnTo>
                    <a:pt x="95" y="21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4" y="21"/>
                  </a:lnTo>
                  <a:lnTo>
                    <a:pt x="71" y="21"/>
                  </a:lnTo>
                  <a:lnTo>
                    <a:pt x="69" y="21"/>
                  </a:lnTo>
                  <a:lnTo>
                    <a:pt x="66" y="21"/>
                  </a:lnTo>
                  <a:lnTo>
                    <a:pt x="64" y="21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4" y="22"/>
                  </a:lnTo>
                  <a:lnTo>
                    <a:pt x="52" y="22"/>
                  </a:lnTo>
                  <a:lnTo>
                    <a:pt x="49" y="22"/>
                  </a:lnTo>
                  <a:lnTo>
                    <a:pt x="48" y="22"/>
                  </a:lnTo>
                  <a:lnTo>
                    <a:pt x="46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7" y="25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6" y="30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4" y="32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2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8" y="37"/>
                  </a:lnTo>
                  <a:lnTo>
                    <a:pt x="80" y="37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4" y="39"/>
                  </a:lnTo>
                  <a:lnTo>
                    <a:pt x="86" y="40"/>
                  </a:lnTo>
                  <a:lnTo>
                    <a:pt x="88" y="40"/>
                  </a:lnTo>
                  <a:lnTo>
                    <a:pt x="88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77" y="52"/>
                  </a:lnTo>
                  <a:lnTo>
                    <a:pt x="75" y="52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7" y="55"/>
                  </a:lnTo>
                  <a:lnTo>
                    <a:pt x="65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56" y="56"/>
                  </a:lnTo>
                  <a:lnTo>
                    <a:pt x="54" y="56"/>
                  </a:lnTo>
                  <a:lnTo>
                    <a:pt x="51" y="56"/>
                  </a:lnTo>
                  <a:lnTo>
                    <a:pt x="49" y="56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2" y="57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4" y="58"/>
                  </a:lnTo>
                  <a:lnTo>
                    <a:pt x="31" y="58"/>
                  </a:lnTo>
                  <a:lnTo>
                    <a:pt x="29" y="58"/>
                  </a:lnTo>
                  <a:lnTo>
                    <a:pt x="25" y="60"/>
                  </a:lnTo>
                  <a:lnTo>
                    <a:pt x="21" y="60"/>
                  </a:lnTo>
                  <a:lnTo>
                    <a:pt x="18" y="60"/>
                  </a:lnTo>
                  <a:lnTo>
                    <a:pt x="16" y="60"/>
                  </a:lnTo>
                  <a:lnTo>
                    <a:pt x="12" y="62"/>
                  </a:lnTo>
                  <a:lnTo>
                    <a:pt x="9" y="62"/>
                  </a:lnTo>
                  <a:lnTo>
                    <a:pt x="6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3" y="62"/>
                  </a:lnTo>
                  <a:lnTo>
                    <a:pt x="8" y="62"/>
                  </a:lnTo>
                  <a:lnTo>
                    <a:pt x="14" y="62"/>
                  </a:lnTo>
                  <a:lnTo>
                    <a:pt x="21" y="62"/>
                  </a:lnTo>
                  <a:lnTo>
                    <a:pt x="31" y="60"/>
                  </a:lnTo>
                  <a:lnTo>
                    <a:pt x="40" y="60"/>
                  </a:lnTo>
                  <a:lnTo>
                    <a:pt x="51" y="58"/>
                  </a:lnTo>
                  <a:lnTo>
                    <a:pt x="61" y="58"/>
                  </a:lnTo>
                  <a:lnTo>
                    <a:pt x="72" y="57"/>
                  </a:lnTo>
                  <a:lnTo>
                    <a:pt x="83" y="57"/>
                  </a:lnTo>
                  <a:lnTo>
                    <a:pt x="94" y="55"/>
                  </a:lnTo>
                  <a:lnTo>
                    <a:pt x="104" y="55"/>
                  </a:lnTo>
                  <a:lnTo>
                    <a:pt x="113" y="55"/>
                  </a:lnTo>
                  <a:lnTo>
                    <a:pt x="121" y="55"/>
                  </a:lnTo>
                  <a:lnTo>
                    <a:pt x="129" y="53"/>
                  </a:lnTo>
                  <a:lnTo>
                    <a:pt x="131" y="54"/>
                  </a:lnTo>
                  <a:lnTo>
                    <a:pt x="134" y="54"/>
                  </a:lnTo>
                  <a:lnTo>
                    <a:pt x="137" y="54"/>
                  </a:lnTo>
                  <a:lnTo>
                    <a:pt x="140" y="54"/>
                  </a:lnTo>
                  <a:lnTo>
                    <a:pt x="144" y="54"/>
                  </a:lnTo>
                  <a:lnTo>
                    <a:pt x="147" y="54"/>
                  </a:lnTo>
                  <a:lnTo>
                    <a:pt x="151" y="54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60" y="54"/>
                  </a:lnTo>
                  <a:lnTo>
                    <a:pt x="164" y="54"/>
                  </a:lnTo>
                  <a:lnTo>
                    <a:pt x="167" y="52"/>
                  </a:lnTo>
                  <a:lnTo>
                    <a:pt x="169" y="52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7" y="46"/>
                  </a:lnTo>
                  <a:lnTo>
                    <a:pt x="177" y="46"/>
                  </a:lnTo>
                  <a:lnTo>
                    <a:pt x="177" y="46"/>
                  </a:lnTo>
                  <a:lnTo>
                    <a:pt x="177" y="46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8" y="44"/>
                  </a:lnTo>
                  <a:lnTo>
                    <a:pt x="178" y="44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1"/>
                  </a:lnTo>
                  <a:lnTo>
                    <a:pt x="180" y="41"/>
                  </a:lnTo>
                  <a:lnTo>
                    <a:pt x="180" y="39"/>
                  </a:lnTo>
                  <a:lnTo>
                    <a:pt x="180" y="39"/>
                  </a:lnTo>
                  <a:lnTo>
                    <a:pt x="180" y="37"/>
                  </a:lnTo>
                  <a:lnTo>
                    <a:pt x="180" y="37"/>
                  </a:lnTo>
                  <a:lnTo>
                    <a:pt x="180" y="35"/>
                  </a:lnTo>
                  <a:lnTo>
                    <a:pt x="179" y="35"/>
                  </a:lnTo>
                  <a:lnTo>
                    <a:pt x="179" y="35"/>
                  </a:lnTo>
                  <a:lnTo>
                    <a:pt x="178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7" y="33"/>
                  </a:lnTo>
                  <a:lnTo>
                    <a:pt x="177" y="33"/>
                  </a:lnTo>
                  <a:lnTo>
                    <a:pt x="177" y="31"/>
                  </a:lnTo>
                  <a:lnTo>
                    <a:pt x="175" y="31"/>
                  </a:lnTo>
                  <a:lnTo>
                    <a:pt x="175" y="30"/>
                  </a:lnTo>
                  <a:lnTo>
                    <a:pt x="175" y="30"/>
                  </a:lnTo>
                  <a:lnTo>
                    <a:pt x="175" y="28"/>
                  </a:lnTo>
                  <a:lnTo>
                    <a:pt x="174" y="28"/>
                  </a:lnTo>
                  <a:lnTo>
                    <a:pt x="174" y="26"/>
                  </a:lnTo>
                  <a:lnTo>
                    <a:pt x="174" y="26"/>
                  </a:lnTo>
                  <a:lnTo>
                    <a:pt x="175" y="24"/>
                  </a:lnTo>
                  <a:lnTo>
                    <a:pt x="175" y="24"/>
                  </a:lnTo>
                  <a:lnTo>
                    <a:pt x="175" y="24"/>
                  </a:lnTo>
                  <a:lnTo>
                    <a:pt x="175" y="24"/>
                  </a:lnTo>
                  <a:lnTo>
                    <a:pt x="177" y="22"/>
                  </a:lnTo>
                  <a:lnTo>
                    <a:pt x="177" y="22"/>
                  </a:lnTo>
                  <a:lnTo>
                    <a:pt x="178" y="21"/>
                  </a:lnTo>
                  <a:lnTo>
                    <a:pt x="180" y="21"/>
                  </a:lnTo>
                  <a:lnTo>
                    <a:pt x="182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5" y="19"/>
                  </a:lnTo>
                  <a:lnTo>
                    <a:pt x="187" y="17"/>
                  </a:lnTo>
                  <a:lnTo>
                    <a:pt x="187" y="17"/>
                  </a:lnTo>
                  <a:lnTo>
                    <a:pt x="188" y="15"/>
                  </a:lnTo>
                  <a:lnTo>
                    <a:pt x="188" y="15"/>
                  </a:lnTo>
                  <a:lnTo>
                    <a:pt x="190" y="14"/>
                  </a:lnTo>
                  <a:lnTo>
                    <a:pt x="190" y="14"/>
                  </a:lnTo>
                  <a:lnTo>
                    <a:pt x="190" y="12"/>
                  </a:lnTo>
                  <a:lnTo>
                    <a:pt x="190" y="12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191" y="7"/>
                  </a:lnTo>
                  <a:lnTo>
                    <a:pt x="190" y="7"/>
                  </a:lnTo>
                  <a:lnTo>
                    <a:pt x="190" y="6"/>
                  </a:lnTo>
                  <a:lnTo>
                    <a:pt x="190" y="6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2"/>
                  </a:lnTo>
                  <a:lnTo>
                    <a:pt x="188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3" y="0"/>
                  </a:lnTo>
                  <a:lnTo>
                    <a:pt x="179" y="2"/>
                  </a:lnTo>
                  <a:lnTo>
                    <a:pt x="177" y="2"/>
                  </a:lnTo>
                  <a:lnTo>
                    <a:pt x="175" y="3"/>
                  </a:lnTo>
                  <a:lnTo>
                    <a:pt x="173" y="3"/>
                  </a:lnTo>
                  <a:lnTo>
                    <a:pt x="169" y="5"/>
                  </a:lnTo>
                  <a:lnTo>
                    <a:pt x="167" y="5"/>
                  </a:lnTo>
                  <a:lnTo>
                    <a:pt x="164" y="7"/>
                  </a:lnTo>
                  <a:lnTo>
                    <a:pt x="162" y="7"/>
                  </a:lnTo>
                  <a:lnTo>
                    <a:pt x="158" y="9"/>
                  </a:lnTo>
                  <a:lnTo>
                    <a:pt x="157" y="9"/>
                  </a:lnTo>
                  <a:lnTo>
                    <a:pt x="155" y="10"/>
                  </a:lnTo>
                  <a:lnTo>
                    <a:pt x="154" y="10"/>
                  </a:lnTo>
                  <a:lnTo>
                    <a:pt x="154" y="10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90840" y="1387440"/>
              <a:ext cx="3629160" cy="4951440"/>
            </a:xfrm>
            <a:custGeom>
              <a:avLst/>
              <a:gdLst/>
              <a:ahLst/>
              <a:rect l="l" t="t" r="r" b="b"/>
              <a:pathLst>
                <a:path w="2286" h="3119">
                  <a:moveTo>
                    <a:pt x="1556" y="3118"/>
                  </a:moveTo>
                  <a:lnTo>
                    <a:pt x="1556" y="3118"/>
                  </a:lnTo>
                  <a:lnTo>
                    <a:pt x="1556" y="3118"/>
                  </a:lnTo>
                  <a:lnTo>
                    <a:pt x="1556" y="3118"/>
                  </a:lnTo>
                  <a:lnTo>
                    <a:pt x="1557" y="3118"/>
                  </a:lnTo>
                  <a:lnTo>
                    <a:pt x="1557" y="3118"/>
                  </a:lnTo>
                  <a:lnTo>
                    <a:pt x="1559" y="3117"/>
                  </a:lnTo>
                  <a:lnTo>
                    <a:pt x="1561" y="3117"/>
                  </a:lnTo>
                  <a:lnTo>
                    <a:pt x="1563" y="3115"/>
                  </a:lnTo>
                  <a:lnTo>
                    <a:pt x="1564" y="3115"/>
                  </a:lnTo>
                  <a:lnTo>
                    <a:pt x="1566" y="3113"/>
                  </a:lnTo>
                  <a:lnTo>
                    <a:pt x="1568" y="3113"/>
                  </a:lnTo>
                  <a:lnTo>
                    <a:pt x="1570" y="3111"/>
                  </a:lnTo>
                  <a:lnTo>
                    <a:pt x="1572" y="3109"/>
                  </a:lnTo>
                  <a:lnTo>
                    <a:pt x="1576" y="3107"/>
                  </a:lnTo>
                  <a:lnTo>
                    <a:pt x="1579" y="3105"/>
                  </a:lnTo>
                  <a:lnTo>
                    <a:pt x="1583" y="3102"/>
                  </a:lnTo>
                  <a:lnTo>
                    <a:pt x="1585" y="3102"/>
                  </a:lnTo>
                  <a:lnTo>
                    <a:pt x="1586" y="3100"/>
                  </a:lnTo>
                  <a:lnTo>
                    <a:pt x="1588" y="3099"/>
                  </a:lnTo>
                  <a:lnTo>
                    <a:pt x="1592" y="3097"/>
                  </a:lnTo>
                  <a:lnTo>
                    <a:pt x="1593" y="3097"/>
                  </a:lnTo>
                  <a:lnTo>
                    <a:pt x="1595" y="3095"/>
                  </a:lnTo>
                  <a:lnTo>
                    <a:pt x="1596" y="3093"/>
                  </a:lnTo>
                  <a:lnTo>
                    <a:pt x="1598" y="3092"/>
                  </a:lnTo>
                  <a:lnTo>
                    <a:pt x="1598" y="3092"/>
                  </a:lnTo>
                  <a:lnTo>
                    <a:pt x="1600" y="3090"/>
                  </a:lnTo>
                  <a:lnTo>
                    <a:pt x="1602" y="3090"/>
                  </a:lnTo>
                  <a:lnTo>
                    <a:pt x="1604" y="3088"/>
                  </a:lnTo>
                  <a:lnTo>
                    <a:pt x="1604" y="3088"/>
                  </a:lnTo>
                  <a:lnTo>
                    <a:pt x="1605" y="3086"/>
                  </a:lnTo>
                  <a:lnTo>
                    <a:pt x="1607" y="3084"/>
                  </a:lnTo>
                  <a:lnTo>
                    <a:pt x="1609" y="3082"/>
                  </a:lnTo>
                  <a:lnTo>
                    <a:pt x="1611" y="3079"/>
                  </a:lnTo>
                  <a:lnTo>
                    <a:pt x="1615" y="3075"/>
                  </a:lnTo>
                  <a:lnTo>
                    <a:pt x="1618" y="3072"/>
                  </a:lnTo>
                  <a:lnTo>
                    <a:pt x="1622" y="3066"/>
                  </a:lnTo>
                  <a:lnTo>
                    <a:pt x="1624" y="3062"/>
                  </a:lnTo>
                  <a:lnTo>
                    <a:pt x="1626" y="3056"/>
                  </a:lnTo>
                  <a:lnTo>
                    <a:pt x="1628" y="3052"/>
                  </a:lnTo>
                  <a:lnTo>
                    <a:pt x="1632" y="3046"/>
                  </a:lnTo>
                  <a:lnTo>
                    <a:pt x="1634" y="3042"/>
                  </a:lnTo>
                  <a:lnTo>
                    <a:pt x="1636" y="3036"/>
                  </a:lnTo>
                  <a:lnTo>
                    <a:pt x="1638" y="3030"/>
                  </a:lnTo>
                  <a:lnTo>
                    <a:pt x="1640" y="3025"/>
                  </a:lnTo>
                  <a:lnTo>
                    <a:pt x="1640" y="3020"/>
                  </a:lnTo>
                  <a:lnTo>
                    <a:pt x="1642" y="3015"/>
                  </a:lnTo>
                  <a:lnTo>
                    <a:pt x="1643" y="3009"/>
                  </a:lnTo>
                  <a:lnTo>
                    <a:pt x="1645" y="3004"/>
                  </a:lnTo>
                  <a:lnTo>
                    <a:pt x="1645" y="3000"/>
                  </a:lnTo>
                  <a:lnTo>
                    <a:pt x="1646" y="2995"/>
                  </a:lnTo>
                  <a:lnTo>
                    <a:pt x="1646" y="2990"/>
                  </a:lnTo>
                  <a:lnTo>
                    <a:pt x="1648" y="2984"/>
                  </a:lnTo>
                  <a:lnTo>
                    <a:pt x="1648" y="2978"/>
                  </a:lnTo>
                  <a:lnTo>
                    <a:pt x="1650" y="2972"/>
                  </a:lnTo>
                  <a:lnTo>
                    <a:pt x="1650" y="2965"/>
                  </a:lnTo>
                  <a:lnTo>
                    <a:pt x="1652" y="2958"/>
                  </a:lnTo>
                  <a:lnTo>
                    <a:pt x="1652" y="2952"/>
                  </a:lnTo>
                  <a:lnTo>
                    <a:pt x="1652" y="2946"/>
                  </a:lnTo>
                  <a:lnTo>
                    <a:pt x="1652" y="2940"/>
                  </a:lnTo>
                  <a:lnTo>
                    <a:pt x="1653" y="2932"/>
                  </a:lnTo>
                  <a:lnTo>
                    <a:pt x="1653" y="2927"/>
                  </a:lnTo>
                  <a:lnTo>
                    <a:pt x="1653" y="2920"/>
                  </a:lnTo>
                  <a:lnTo>
                    <a:pt x="1653" y="2916"/>
                  </a:lnTo>
                  <a:lnTo>
                    <a:pt x="1654" y="2910"/>
                  </a:lnTo>
                  <a:lnTo>
                    <a:pt x="1653" y="2904"/>
                  </a:lnTo>
                  <a:lnTo>
                    <a:pt x="1653" y="2896"/>
                  </a:lnTo>
                  <a:lnTo>
                    <a:pt x="1653" y="2887"/>
                  </a:lnTo>
                  <a:lnTo>
                    <a:pt x="1653" y="2876"/>
                  </a:lnTo>
                  <a:lnTo>
                    <a:pt x="1653" y="2864"/>
                  </a:lnTo>
                  <a:lnTo>
                    <a:pt x="1653" y="2853"/>
                  </a:lnTo>
                  <a:lnTo>
                    <a:pt x="1653" y="2842"/>
                  </a:lnTo>
                  <a:lnTo>
                    <a:pt x="1653" y="2829"/>
                  </a:lnTo>
                  <a:lnTo>
                    <a:pt x="1653" y="2819"/>
                  </a:lnTo>
                  <a:lnTo>
                    <a:pt x="1653" y="2809"/>
                  </a:lnTo>
                  <a:lnTo>
                    <a:pt x="1653" y="2799"/>
                  </a:lnTo>
                  <a:lnTo>
                    <a:pt x="1653" y="2791"/>
                  </a:lnTo>
                  <a:lnTo>
                    <a:pt x="1653" y="2784"/>
                  </a:lnTo>
                  <a:lnTo>
                    <a:pt x="1653" y="2778"/>
                  </a:lnTo>
                  <a:lnTo>
                    <a:pt x="1653" y="2775"/>
                  </a:lnTo>
                  <a:lnTo>
                    <a:pt x="1653" y="2773"/>
                  </a:lnTo>
                  <a:lnTo>
                    <a:pt x="1666" y="2653"/>
                  </a:lnTo>
                  <a:lnTo>
                    <a:pt x="1692" y="2536"/>
                  </a:lnTo>
                  <a:lnTo>
                    <a:pt x="1706" y="2491"/>
                  </a:lnTo>
                  <a:lnTo>
                    <a:pt x="1722" y="2449"/>
                  </a:lnTo>
                  <a:lnTo>
                    <a:pt x="1738" y="2410"/>
                  </a:lnTo>
                  <a:lnTo>
                    <a:pt x="1754" y="2373"/>
                  </a:lnTo>
                  <a:lnTo>
                    <a:pt x="1771" y="2339"/>
                  </a:lnTo>
                  <a:lnTo>
                    <a:pt x="1790" y="2305"/>
                  </a:lnTo>
                  <a:lnTo>
                    <a:pt x="1809" y="2273"/>
                  </a:lnTo>
                  <a:lnTo>
                    <a:pt x="1831" y="2239"/>
                  </a:lnTo>
                  <a:lnTo>
                    <a:pt x="1853" y="2206"/>
                  </a:lnTo>
                  <a:lnTo>
                    <a:pt x="1879" y="2170"/>
                  </a:lnTo>
                  <a:lnTo>
                    <a:pt x="1906" y="2133"/>
                  </a:lnTo>
                  <a:lnTo>
                    <a:pt x="1936" y="2092"/>
                  </a:lnTo>
                  <a:lnTo>
                    <a:pt x="1967" y="2048"/>
                  </a:lnTo>
                  <a:lnTo>
                    <a:pt x="2004" y="2000"/>
                  </a:lnTo>
                  <a:lnTo>
                    <a:pt x="2042" y="1946"/>
                  </a:lnTo>
                  <a:lnTo>
                    <a:pt x="2085" y="1886"/>
                  </a:lnTo>
                  <a:lnTo>
                    <a:pt x="2169" y="1734"/>
                  </a:lnTo>
                  <a:lnTo>
                    <a:pt x="2230" y="1576"/>
                  </a:lnTo>
                  <a:lnTo>
                    <a:pt x="2268" y="1417"/>
                  </a:lnTo>
                  <a:lnTo>
                    <a:pt x="2285" y="1255"/>
                  </a:lnTo>
                  <a:lnTo>
                    <a:pt x="2279" y="1096"/>
                  </a:lnTo>
                  <a:lnTo>
                    <a:pt x="2255" y="939"/>
                  </a:lnTo>
                  <a:lnTo>
                    <a:pt x="2212" y="788"/>
                  </a:lnTo>
                  <a:lnTo>
                    <a:pt x="2151" y="644"/>
                  </a:lnTo>
                  <a:lnTo>
                    <a:pt x="2073" y="509"/>
                  </a:lnTo>
                  <a:lnTo>
                    <a:pt x="1979" y="386"/>
                  </a:lnTo>
                  <a:lnTo>
                    <a:pt x="1870" y="277"/>
                  </a:lnTo>
                  <a:lnTo>
                    <a:pt x="1749" y="182"/>
                  </a:lnTo>
                  <a:lnTo>
                    <a:pt x="1613" y="106"/>
                  </a:lnTo>
                  <a:lnTo>
                    <a:pt x="1467" y="48"/>
                  </a:lnTo>
                  <a:lnTo>
                    <a:pt x="1309" y="13"/>
                  </a:lnTo>
                  <a:lnTo>
                    <a:pt x="1142" y="0"/>
                  </a:lnTo>
                  <a:lnTo>
                    <a:pt x="974" y="13"/>
                  </a:lnTo>
                  <a:lnTo>
                    <a:pt x="816" y="49"/>
                  </a:lnTo>
                  <a:lnTo>
                    <a:pt x="669" y="106"/>
                  </a:lnTo>
                  <a:lnTo>
                    <a:pt x="534" y="183"/>
                  </a:lnTo>
                  <a:lnTo>
                    <a:pt x="412" y="278"/>
                  </a:lnTo>
                  <a:lnTo>
                    <a:pt x="304" y="388"/>
                  </a:lnTo>
                  <a:lnTo>
                    <a:pt x="210" y="510"/>
                  </a:lnTo>
                  <a:lnTo>
                    <a:pt x="133" y="645"/>
                  </a:lnTo>
                  <a:lnTo>
                    <a:pt x="72" y="790"/>
                  </a:lnTo>
                  <a:lnTo>
                    <a:pt x="29" y="941"/>
                  </a:lnTo>
                  <a:lnTo>
                    <a:pt x="5" y="1098"/>
                  </a:lnTo>
                  <a:lnTo>
                    <a:pt x="0" y="1258"/>
                  </a:lnTo>
                  <a:lnTo>
                    <a:pt x="16" y="1419"/>
                  </a:lnTo>
                  <a:lnTo>
                    <a:pt x="55" y="1580"/>
                  </a:lnTo>
                  <a:lnTo>
                    <a:pt x="116" y="1737"/>
                  </a:lnTo>
                  <a:lnTo>
                    <a:pt x="202" y="1890"/>
                  </a:lnTo>
                  <a:lnTo>
                    <a:pt x="238" y="1950"/>
                  </a:lnTo>
                  <a:lnTo>
                    <a:pt x="270" y="2002"/>
                  </a:lnTo>
                  <a:lnTo>
                    <a:pt x="300" y="2051"/>
                  </a:lnTo>
                  <a:lnTo>
                    <a:pt x="329" y="2094"/>
                  </a:lnTo>
                  <a:lnTo>
                    <a:pt x="354" y="2136"/>
                  </a:lnTo>
                  <a:lnTo>
                    <a:pt x="378" y="2172"/>
                  </a:lnTo>
                  <a:lnTo>
                    <a:pt x="399" y="2207"/>
                  </a:lnTo>
                  <a:lnTo>
                    <a:pt x="420" y="2240"/>
                  </a:lnTo>
                  <a:lnTo>
                    <a:pt x="438" y="2274"/>
                  </a:lnTo>
                  <a:lnTo>
                    <a:pt x="456" y="2306"/>
                  </a:lnTo>
                  <a:lnTo>
                    <a:pt x="473" y="2340"/>
                  </a:lnTo>
                  <a:lnTo>
                    <a:pt x="490" y="2372"/>
                  </a:lnTo>
                  <a:lnTo>
                    <a:pt x="504" y="2409"/>
                  </a:lnTo>
                  <a:lnTo>
                    <a:pt x="520" y="2448"/>
                  </a:lnTo>
                  <a:lnTo>
                    <a:pt x="535" y="2489"/>
                  </a:lnTo>
                  <a:lnTo>
                    <a:pt x="552" y="2534"/>
                  </a:lnTo>
                  <a:lnTo>
                    <a:pt x="579" y="2650"/>
                  </a:lnTo>
                  <a:lnTo>
                    <a:pt x="593" y="2768"/>
                  </a:lnTo>
                  <a:lnTo>
                    <a:pt x="593" y="2770"/>
                  </a:lnTo>
                  <a:lnTo>
                    <a:pt x="593" y="2773"/>
                  </a:lnTo>
                  <a:lnTo>
                    <a:pt x="593" y="2780"/>
                  </a:lnTo>
                  <a:lnTo>
                    <a:pt x="594" y="2786"/>
                  </a:lnTo>
                  <a:lnTo>
                    <a:pt x="594" y="2794"/>
                  </a:lnTo>
                  <a:lnTo>
                    <a:pt x="595" y="2804"/>
                  </a:lnTo>
                  <a:lnTo>
                    <a:pt x="595" y="2815"/>
                  </a:lnTo>
                  <a:lnTo>
                    <a:pt x="597" y="2826"/>
                  </a:lnTo>
                  <a:lnTo>
                    <a:pt x="597" y="2839"/>
                  </a:lnTo>
                  <a:lnTo>
                    <a:pt x="598" y="2850"/>
                  </a:lnTo>
                  <a:lnTo>
                    <a:pt x="598" y="2861"/>
                  </a:lnTo>
                  <a:lnTo>
                    <a:pt x="600" y="2872"/>
                  </a:lnTo>
                  <a:lnTo>
                    <a:pt x="600" y="2884"/>
                  </a:lnTo>
                  <a:lnTo>
                    <a:pt x="600" y="2893"/>
                  </a:lnTo>
                  <a:lnTo>
                    <a:pt x="600" y="2902"/>
                  </a:lnTo>
                  <a:lnTo>
                    <a:pt x="601" y="2908"/>
                  </a:lnTo>
                  <a:lnTo>
                    <a:pt x="601" y="2914"/>
                  </a:lnTo>
                  <a:lnTo>
                    <a:pt x="601" y="2919"/>
                  </a:lnTo>
                  <a:lnTo>
                    <a:pt x="601" y="2925"/>
                  </a:lnTo>
                  <a:lnTo>
                    <a:pt x="601" y="2930"/>
                  </a:lnTo>
                  <a:lnTo>
                    <a:pt x="601" y="2938"/>
                  </a:lnTo>
                  <a:lnTo>
                    <a:pt x="601" y="2944"/>
                  </a:lnTo>
                  <a:lnTo>
                    <a:pt x="601" y="2950"/>
                  </a:lnTo>
                  <a:lnTo>
                    <a:pt x="603" y="2956"/>
                  </a:lnTo>
                  <a:lnTo>
                    <a:pt x="603" y="2964"/>
                  </a:lnTo>
                  <a:lnTo>
                    <a:pt x="603" y="2969"/>
                  </a:lnTo>
                  <a:lnTo>
                    <a:pt x="603" y="2976"/>
                  </a:lnTo>
                  <a:lnTo>
                    <a:pt x="605" y="2982"/>
                  </a:lnTo>
                  <a:lnTo>
                    <a:pt x="605" y="2988"/>
                  </a:lnTo>
                  <a:lnTo>
                    <a:pt x="607" y="2994"/>
                  </a:lnTo>
                  <a:lnTo>
                    <a:pt x="607" y="2998"/>
                  </a:lnTo>
                  <a:lnTo>
                    <a:pt x="609" y="3002"/>
                  </a:lnTo>
                  <a:lnTo>
                    <a:pt x="609" y="3007"/>
                  </a:lnTo>
                  <a:lnTo>
                    <a:pt x="611" y="3011"/>
                  </a:lnTo>
                  <a:lnTo>
                    <a:pt x="612" y="3016"/>
                  </a:lnTo>
                  <a:lnTo>
                    <a:pt x="614" y="3020"/>
                  </a:lnTo>
                  <a:lnTo>
                    <a:pt x="616" y="3026"/>
                  </a:lnTo>
                  <a:lnTo>
                    <a:pt x="618" y="3032"/>
                  </a:lnTo>
                  <a:lnTo>
                    <a:pt x="620" y="3037"/>
                  </a:lnTo>
                  <a:lnTo>
                    <a:pt x="623" y="3042"/>
                  </a:lnTo>
                  <a:lnTo>
                    <a:pt x="625" y="3047"/>
                  </a:lnTo>
                  <a:lnTo>
                    <a:pt x="628" y="3053"/>
                  </a:lnTo>
                  <a:lnTo>
                    <a:pt x="630" y="3058"/>
                  </a:lnTo>
                  <a:lnTo>
                    <a:pt x="634" y="3062"/>
                  </a:lnTo>
                  <a:lnTo>
                    <a:pt x="636" y="3066"/>
                  </a:lnTo>
                  <a:lnTo>
                    <a:pt x="639" y="3070"/>
                  </a:lnTo>
                  <a:lnTo>
                    <a:pt x="642" y="3074"/>
                  </a:lnTo>
                  <a:lnTo>
                    <a:pt x="646" y="3076"/>
                  </a:lnTo>
                  <a:lnTo>
                    <a:pt x="646" y="3078"/>
                  </a:lnTo>
                  <a:lnTo>
                    <a:pt x="648" y="3080"/>
                  </a:lnTo>
                  <a:lnTo>
                    <a:pt x="649" y="3082"/>
                  </a:lnTo>
                  <a:lnTo>
                    <a:pt x="650" y="3083"/>
                  </a:lnTo>
                  <a:lnTo>
                    <a:pt x="652" y="3084"/>
                  </a:lnTo>
                  <a:lnTo>
                    <a:pt x="654" y="3086"/>
                  </a:lnTo>
                  <a:lnTo>
                    <a:pt x="656" y="3088"/>
                  </a:lnTo>
                  <a:lnTo>
                    <a:pt x="659" y="3088"/>
                  </a:lnTo>
                  <a:lnTo>
                    <a:pt x="660" y="3090"/>
                  </a:lnTo>
                  <a:lnTo>
                    <a:pt x="662" y="3092"/>
                  </a:lnTo>
                  <a:lnTo>
                    <a:pt x="664" y="3094"/>
                  </a:lnTo>
                  <a:lnTo>
                    <a:pt x="668" y="3096"/>
                  </a:lnTo>
                  <a:lnTo>
                    <a:pt x="669" y="3098"/>
                  </a:lnTo>
                  <a:lnTo>
                    <a:pt x="673" y="3100"/>
                  </a:lnTo>
                  <a:lnTo>
                    <a:pt x="675" y="3102"/>
                  </a:lnTo>
                  <a:lnTo>
                    <a:pt x="679" y="3102"/>
                  </a:lnTo>
                  <a:lnTo>
                    <a:pt x="680" y="3104"/>
                  </a:lnTo>
                  <a:lnTo>
                    <a:pt x="684" y="3106"/>
                  </a:lnTo>
                  <a:lnTo>
                    <a:pt x="686" y="3108"/>
                  </a:lnTo>
                  <a:lnTo>
                    <a:pt x="689" y="3108"/>
                  </a:lnTo>
                  <a:lnTo>
                    <a:pt x="691" y="3110"/>
                  </a:lnTo>
                  <a:lnTo>
                    <a:pt x="695" y="3111"/>
                  </a:lnTo>
                  <a:lnTo>
                    <a:pt x="697" y="3113"/>
                  </a:lnTo>
                  <a:lnTo>
                    <a:pt x="701" y="3113"/>
                  </a:lnTo>
                  <a:lnTo>
                    <a:pt x="703" y="3115"/>
                  </a:lnTo>
                  <a:lnTo>
                    <a:pt x="706" y="3116"/>
                  </a:lnTo>
                  <a:lnTo>
                    <a:pt x="707" y="3118"/>
                  </a:lnTo>
                  <a:lnTo>
                    <a:pt x="710" y="3118"/>
                  </a:lnTo>
                  <a:lnTo>
                    <a:pt x="710" y="3118"/>
                  </a:lnTo>
                  <a:lnTo>
                    <a:pt x="712" y="3118"/>
                  </a:lnTo>
                  <a:lnTo>
                    <a:pt x="713" y="3118"/>
                  </a:lnTo>
                  <a:lnTo>
                    <a:pt x="714" y="3118"/>
                  </a:lnTo>
                  <a:lnTo>
                    <a:pt x="1556" y="3118"/>
                  </a:lnTo>
                  <a:lnTo>
                    <a:pt x="1556" y="311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3633840" y="1660680"/>
              <a:ext cx="3157560" cy="4627440"/>
              <a:chOff x="3633840" y="1660680"/>
              <a:chExt cx="3157560" cy="4627440"/>
            </a:xfrm>
          </p:grpSpPr>
          <p:sp>
            <p:nvSpPr>
              <p:cNvPr id="571" name=""/>
              <p:cNvSpPr/>
              <p:nvPr/>
            </p:nvSpPr>
            <p:spPr>
              <a:xfrm>
                <a:off x="5830920" y="2614680"/>
                <a:ext cx="960480" cy="3618000"/>
              </a:xfrm>
              <a:custGeom>
                <a:avLst/>
                <a:gdLst/>
                <a:ahLst/>
                <a:rect l="l" t="t" r="r" b="b"/>
                <a:pathLst>
                  <a:path w="605" h="2279">
                    <a:moveTo>
                      <a:pt x="337" y="431"/>
                    </a:moveTo>
                    <a:lnTo>
                      <a:pt x="337" y="445"/>
                    </a:lnTo>
                    <a:lnTo>
                      <a:pt x="339" y="468"/>
                    </a:lnTo>
                    <a:lnTo>
                      <a:pt x="340" y="496"/>
                    </a:lnTo>
                    <a:lnTo>
                      <a:pt x="340" y="525"/>
                    </a:lnTo>
                    <a:lnTo>
                      <a:pt x="340" y="548"/>
                    </a:lnTo>
                    <a:lnTo>
                      <a:pt x="340" y="571"/>
                    </a:lnTo>
                    <a:lnTo>
                      <a:pt x="339" y="601"/>
                    </a:lnTo>
                    <a:lnTo>
                      <a:pt x="337" y="626"/>
                    </a:lnTo>
                    <a:lnTo>
                      <a:pt x="333" y="652"/>
                    </a:lnTo>
                    <a:lnTo>
                      <a:pt x="329" y="680"/>
                    </a:lnTo>
                    <a:lnTo>
                      <a:pt x="325" y="712"/>
                    </a:lnTo>
                    <a:lnTo>
                      <a:pt x="322" y="741"/>
                    </a:lnTo>
                    <a:lnTo>
                      <a:pt x="317" y="770"/>
                    </a:lnTo>
                    <a:lnTo>
                      <a:pt x="312" y="801"/>
                    </a:lnTo>
                    <a:lnTo>
                      <a:pt x="305" y="829"/>
                    </a:lnTo>
                    <a:lnTo>
                      <a:pt x="299" y="856"/>
                    </a:lnTo>
                    <a:lnTo>
                      <a:pt x="293" y="883"/>
                    </a:lnTo>
                    <a:lnTo>
                      <a:pt x="286" y="912"/>
                    </a:lnTo>
                    <a:lnTo>
                      <a:pt x="280" y="937"/>
                    </a:lnTo>
                    <a:lnTo>
                      <a:pt x="274" y="963"/>
                    </a:lnTo>
                    <a:lnTo>
                      <a:pt x="266" y="989"/>
                    </a:lnTo>
                    <a:lnTo>
                      <a:pt x="258" y="1012"/>
                    </a:lnTo>
                    <a:lnTo>
                      <a:pt x="250" y="1037"/>
                    </a:lnTo>
                    <a:lnTo>
                      <a:pt x="243" y="1063"/>
                    </a:lnTo>
                    <a:lnTo>
                      <a:pt x="234" y="1085"/>
                    </a:lnTo>
                    <a:lnTo>
                      <a:pt x="227" y="1109"/>
                    </a:lnTo>
                    <a:lnTo>
                      <a:pt x="218" y="1133"/>
                    </a:lnTo>
                    <a:lnTo>
                      <a:pt x="208" y="1166"/>
                    </a:lnTo>
                    <a:lnTo>
                      <a:pt x="197" y="1195"/>
                    </a:lnTo>
                    <a:lnTo>
                      <a:pt x="185" y="1227"/>
                    </a:lnTo>
                    <a:lnTo>
                      <a:pt x="175" y="1256"/>
                    </a:lnTo>
                    <a:lnTo>
                      <a:pt x="163" y="1287"/>
                    </a:lnTo>
                    <a:lnTo>
                      <a:pt x="151" y="1316"/>
                    </a:lnTo>
                    <a:lnTo>
                      <a:pt x="139" y="1347"/>
                    </a:lnTo>
                    <a:lnTo>
                      <a:pt x="127" y="1378"/>
                    </a:lnTo>
                    <a:lnTo>
                      <a:pt x="117" y="1407"/>
                    </a:lnTo>
                    <a:lnTo>
                      <a:pt x="107" y="1439"/>
                    </a:lnTo>
                    <a:lnTo>
                      <a:pt x="98" y="1469"/>
                    </a:lnTo>
                    <a:lnTo>
                      <a:pt x="88" y="1498"/>
                    </a:lnTo>
                    <a:lnTo>
                      <a:pt x="78" y="1525"/>
                    </a:lnTo>
                    <a:lnTo>
                      <a:pt x="71" y="1551"/>
                    </a:lnTo>
                    <a:lnTo>
                      <a:pt x="64" y="1579"/>
                    </a:lnTo>
                    <a:lnTo>
                      <a:pt x="59" y="1605"/>
                    </a:lnTo>
                    <a:lnTo>
                      <a:pt x="51" y="1633"/>
                    </a:lnTo>
                    <a:lnTo>
                      <a:pt x="46" y="1660"/>
                    </a:lnTo>
                    <a:lnTo>
                      <a:pt x="40" y="1687"/>
                    </a:lnTo>
                    <a:lnTo>
                      <a:pt x="37" y="1716"/>
                    </a:lnTo>
                    <a:lnTo>
                      <a:pt x="34" y="1746"/>
                    </a:lnTo>
                    <a:lnTo>
                      <a:pt x="32" y="1781"/>
                    </a:lnTo>
                    <a:lnTo>
                      <a:pt x="31" y="1805"/>
                    </a:lnTo>
                    <a:lnTo>
                      <a:pt x="31" y="1834"/>
                    </a:lnTo>
                    <a:lnTo>
                      <a:pt x="33" y="1862"/>
                    </a:lnTo>
                    <a:lnTo>
                      <a:pt x="34" y="1892"/>
                    </a:lnTo>
                    <a:lnTo>
                      <a:pt x="36" y="1923"/>
                    </a:lnTo>
                    <a:lnTo>
                      <a:pt x="37" y="1955"/>
                    </a:lnTo>
                    <a:lnTo>
                      <a:pt x="37" y="1987"/>
                    </a:lnTo>
                    <a:lnTo>
                      <a:pt x="38" y="2018"/>
                    </a:lnTo>
                    <a:lnTo>
                      <a:pt x="39" y="2049"/>
                    </a:lnTo>
                    <a:lnTo>
                      <a:pt x="38" y="2080"/>
                    </a:lnTo>
                    <a:lnTo>
                      <a:pt x="37" y="2110"/>
                    </a:lnTo>
                    <a:lnTo>
                      <a:pt x="36" y="2139"/>
                    </a:lnTo>
                    <a:lnTo>
                      <a:pt x="32" y="2167"/>
                    </a:lnTo>
                    <a:lnTo>
                      <a:pt x="27" y="2194"/>
                    </a:lnTo>
                    <a:lnTo>
                      <a:pt x="20" y="2218"/>
                    </a:lnTo>
                    <a:lnTo>
                      <a:pt x="0" y="2278"/>
                    </a:lnTo>
                    <a:lnTo>
                      <a:pt x="22" y="2272"/>
                    </a:lnTo>
                    <a:lnTo>
                      <a:pt x="40" y="2248"/>
                    </a:lnTo>
                    <a:lnTo>
                      <a:pt x="59" y="2223"/>
                    </a:lnTo>
                    <a:lnTo>
                      <a:pt x="71" y="2200"/>
                    </a:lnTo>
                    <a:lnTo>
                      <a:pt x="81" y="2173"/>
                    </a:lnTo>
                    <a:lnTo>
                      <a:pt x="87" y="2147"/>
                    </a:lnTo>
                    <a:lnTo>
                      <a:pt x="89" y="2121"/>
                    </a:lnTo>
                    <a:lnTo>
                      <a:pt x="89" y="2095"/>
                    </a:lnTo>
                    <a:lnTo>
                      <a:pt x="88" y="2066"/>
                    </a:lnTo>
                    <a:lnTo>
                      <a:pt x="87" y="2040"/>
                    </a:lnTo>
                    <a:lnTo>
                      <a:pt x="87" y="2014"/>
                    </a:lnTo>
                    <a:lnTo>
                      <a:pt x="87" y="1989"/>
                    </a:lnTo>
                    <a:lnTo>
                      <a:pt x="87" y="1959"/>
                    </a:lnTo>
                    <a:lnTo>
                      <a:pt x="88" y="1931"/>
                    </a:lnTo>
                    <a:lnTo>
                      <a:pt x="88" y="1905"/>
                    </a:lnTo>
                    <a:lnTo>
                      <a:pt x="90" y="1880"/>
                    </a:lnTo>
                    <a:lnTo>
                      <a:pt x="91" y="1855"/>
                    </a:lnTo>
                    <a:lnTo>
                      <a:pt x="94" y="1831"/>
                    </a:lnTo>
                    <a:lnTo>
                      <a:pt x="96" y="1805"/>
                    </a:lnTo>
                    <a:lnTo>
                      <a:pt x="98" y="1781"/>
                    </a:lnTo>
                    <a:lnTo>
                      <a:pt x="102" y="1753"/>
                    </a:lnTo>
                    <a:lnTo>
                      <a:pt x="107" y="1726"/>
                    </a:lnTo>
                    <a:lnTo>
                      <a:pt x="111" y="1699"/>
                    </a:lnTo>
                    <a:lnTo>
                      <a:pt x="117" y="1674"/>
                    </a:lnTo>
                    <a:lnTo>
                      <a:pt x="122" y="1646"/>
                    </a:lnTo>
                    <a:lnTo>
                      <a:pt x="131" y="1619"/>
                    </a:lnTo>
                    <a:lnTo>
                      <a:pt x="139" y="1593"/>
                    </a:lnTo>
                    <a:lnTo>
                      <a:pt x="149" y="1566"/>
                    </a:lnTo>
                    <a:lnTo>
                      <a:pt x="159" y="1540"/>
                    </a:lnTo>
                    <a:lnTo>
                      <a:pt x="169" y="1513"/>
                    </a:lnTo>
                    <a:lnTo>
                      <a:pt x="181" y="1487"/>
                    </a:lnTo>
                    <a:lnTo>
                      <a:pt x="193" y="1462"/>
                    </a:lnTo>
                    <a:lnTo>
                      <a:pt x="203" y="1439"/>
                    </a:lnTo>
                    <a:lnTo>
                      <a:pt x="218" y="1408"/>
                    </a:lnTo>
                    <a:lnTo>
                      <a:pt x="231" y="1384"/>
                    </a:lnTo>
                    <a:lnTo>
                      <a:pt x="243" y="1357"/>
                    </a:lnTo>
                    <a:lnTo>
                      <a:pt x="255" y="1331"/>
                    </a:lnTo>
                    <a:lnTo>
                      <a:pt x="269" y="1305"/>
                    </a:lnTo>
                    <a:lnTo>
                      <a:pt x="282" y="1277"/>
                    </a:lnTo>
                    <a:lnTo>
                      <a:pt x="298" y="1249"/>
                    </a:lnTo>
                    <a:lnTo>
                      <a:pt x="317" y="1219"/>
                    </a:lnTo>
                    <a:lnTo>
                      <a:pt x="337" y="1190"/>
                    </a:lnTo>
                    <a:lnTo>
                      <a:pt x="356" y="1161"/>
                    </a:lnTo>
                    <a:lnTo>
                      <a:pt x="376" y="1133"/>
                    </a:lnTo>
                    <a:lnTo>
                      <a:pt x="394" y="1103"/>
                    </a:lnTo>
                    <a:lnTo>
                      <a:pt x="412" y="1076"/>
                    </a:lnTo>
                    <a:lnTo>
                      <a:pt x="430" y="1047"/>
                    </a:lnTo>
                    <a:lnTo>
                      <a:pt x="446" y="1018"/>
                    </a:lnTo>
                    <a:lnTo>
                      <a:pt x="461" y="989"/>
                    </a:lnTo>
                    <a:lnTo>
                      <a:pt x="478" y="959"/>
                    </a:lnTo>
                    <a:lnTo>
                      <a:pt x="495" y="927"/>
                    </a:lnTo>
                    <a:lnTo>
                      <a:pt x="509" y="895"/>
                    </a:lnTo>
                    <a:lnTo>
                      <a:pt x="521" y="866"/>
                    </a:lnTo>
                    <a:lnTo>
                      <a:pt x="533" y="837"/>
                    </a:lnTo>
                    <a:lnTo>
                      <a:pt x="541" y="813"/>
                    </a:lnTo>
                    <a:lnTo>
                      <a:pt x="550" y="790"/>
                    </a:lnTo>
                    <a:lnTo>
                      <a:pt x="556" y="767"/>
                    </a:lnTo>
                    <a:lnTo>
                      <a:pt x="564" y="741"/>
                    </a:lnTo>
                    <a:lnTo>
                      <a:pt x="571" y="716"/>
                    </a:lnTo>
                    <a:lnTo>
                      <a:pt x="574" y="693"/>
                    </a:lnTo>
                    <a:lnTo>
                      <a:pt x="581" y="671"/>
                    </a:lnTo>
                    <a:lnTo>
                      <a:pt x="586" y="641"/>
                    </a:lnTo>
                    <a:lnTo>
                      <a:pt x="592" y="611"/>
                    </a:lnTo>
                    <a:lnTo>
                      <a:pt x="595" y="581"/>
                    </a:lnTo>
                    <a:lnTo>
                      <a:pt x="597" y="551"/>
                    </a:lnTo>
                    <a:lnTo>
                      <a:pt x="600" y="528"/>
                    </a:lnTo>
                    <a:lnTo>
                      <a:pt x="603" y="497"/>
                    </a:lnTo>
                    <a:lnTo>
                      <a:pt x="604" y="469"/>
                    </a:lnTo>
                    <a:lnTo>
                      <a:pt x="604" y="438"/>
                    </a:lnTo>
                    <a:lnTo>
                      <a:pt x="604" y="410"/>
                    </a:lnTo>
                    <a:lnTo>
                      <a:pt x="602" y="381"/>
                    </a:lnTo>
                    <a:lnTo>
                      <a:pt x="600" y="354"/>
                    </a:lnTo>
                    <a:lnTo>
                      <a:pt x="595" y="327"/>
                    </a:lnTo>
                    <a:lnTo>
                      <a:pt x="592" y="299"/>
                    </a:lnTo>
                    <a:lnTo>
                      <a:pt x="586" y="271"/>
                    </a:lnTo>
                    <a:lnTo>
                      <a:pt x="579" y="243"/>
                    </a:lnTo>
                    <a:lnTo>
                      <a:pt x="573" y="218"/>
                    </a:lnTo>
                    <a:lnTo>
                      <a:pt x="567" y="190"/>
                    </a:lnTo>
                    <a:lnTo>
                      <a:pt x="559" y="166"/>
                    </a:lnTo>
                    <a:lnTo>
                      <a:pt x="552" y="141"/>
                    </a:lnTo>
                    <a:lnTo>
                      <a:pt x="543" y="119"/>
                    </a:lnTo>
                    <a:lnTo>
                      <a:pt x="534" y="95"/>
                    </a:lnTo>
                    <a:lnTo>
                      <a:pt x="523" y="69"/>
                    </a:lnTo>
                    <a:lnTo>
                      <a:pt x="513" y="46"/>
                    </a:lnTo>
                    <a:lnTo>
                      <a:pt x="503" y="22"/>
                    </a:lnTo>
                    <a:lnTo>
                      <a:pt x="495" y="0"/>
                    </a:lnTo>
                    <a:lnTo>
                      <a:pt x="489" y="22"/>
                    </a:lnTo>
                    <a:lnTo>
                      <a:pt x="486" y="46"/>
                    </a:lnTo>
                    <a:lnTo>
                      <a:pt x="481" y="73"/>
                    </a:lnTo>
                    <a:lnTo>
                      <a:pt x="476" y="103"/>
                    </a:lnTo>
                    <a:lnTo>
                      <a:pt x="471" y="128"/>
                    </a:lnTo>
                    <a:lnTo>
                      <a:pt x="463" y="151"/>
                    </a:lnTo>
                    <a:lnTo>
                      <a:pt x="455" y="176"/>
                    </a:lnTo>
                    <a:lnTo>
                      <a:pt x="459" y="201"/>
                    </a:lnTo>
                    <a:lnTo>
                      <a:pt x="463" y="225"/>
                    </a:lnTo>
                    <a:lnTo>
                      <a:pt x="471" y="251"/>
                    </a:lnTo>
                    <a:lnTo>
                      <a:pt x="475" y="275"/>
                    </a:lnTo>
                    <a:lnTo>
                      <a:pt x="481" y="301"/>
                    </a:lnTo>
                    <a:lnTo>
                      <a:pt x="483" y="327"/>
                    </a:lnTo>
                    <a:lnTo>
                      <a:pt x="488" y="351"/>
                    </a:lnTo>
                    <a:lnTo>
                      <a:pt x="493" y="379"/>
                    </a:lnTo>
                    <a:lnTo>
                      <a:pt x="495" y="405"/>
                    </a:lnTo>
                    <a:lnTo>
                      <a:pt x="496" y="429"/>
                    </a:lnTo>
                    <a:lnTo>
                      <a:pt x="496" y="457"/>
                    </a:lnTo>
                    <a:lnTo>
                      <a:pt x="495" y="482"/>
                    </a:lnTo>
                    <a:lnTo>
                      <a:pt x="493" y="508"/>
                    </a:lnTo>
                    <a:lnTo>
                      <a:pt x="491" y="535"/>
                    </a:lnTo>
                    <a:lnTo>
                      <a:pt x="489" y="559"/>
                    </a:lnTo>
                    <a:lnTo>
                      <a:pt x="486" y="584"/>
                    </a:lnTo>
                    <a:lnTo>
                      <a:pt x="483" y="609"/>
                    </a:lnTo>
                    <a:lnTo>
                      <a:pt x="478" y="635"/>
                    </a:lnTo>
                    <a:lnTo>
                      <a:pt x="473" y="659"/>
                    </a:lnTo>
                    <a:lnTo>
                      <a:pt x="466" y="684"/>
                    </a:lnTo>
                    <a:lnTo>
                      <a:pt x="459" y="709"/>
                    </a:lnTo>
                    <a:lnTo>
                      <a:pt x="452" y="734"/>
                    </a:lnTo>
                    <a:lnTo>
                      <a:pt x="405" y="858"/>
                    </a:lnTo>
                    <a:lnTo>
                      <a:pt x="383" y="787"/>
                    </a:lnTo>
                    <a:lnTo>
                      <a:pt x="392" y="761"/>
                    </a:lnTo>
                    <a:lnTo>
                      <a:pt x="401" y="735"/>
                    </a:lnTo>
                    <a:lnTo>
                      <a:pt x="411" y="710"/>
                    </a:lnTo>
                    <a:lnTo>
                      <a:pt x="418" y="682"/>
                    </a:lnTo>
                    <a:lnTo>
                      <a:pt x="423" y="657"/>
                    </a:lnTo>
                    <a:lnTo>
                      <a:pt x="428" y="634"/>
                    </a:lnTo>
                    <a:lnTo>
                      <a:pt x="431" y="605"/>
                    </a:lnTo>
                    <a:lnTo>
                      <a:pt x="434" y="581"/>
                    </a:lnTo>
                    <a:lnTo>
                      <a:pt x="435" y="554"/>
                    </a:lnTo>
                    <a:lnTo>
                      <a:pt x="436" y="527"/>
                    </a:lnTo>
                    <a:lnTo>
                      <a:pt x="436" y="500"/>
                    </a:lnTo>
                    <a:lnTo>
                      <a:pt x="435" y="476"/>
                    </a:lnTo>
                    <a:lnTo>
                      <a:pt x="434" y="449"/>
                    </a:lnTo>
                    <a:lnTo>
                      <a:pt x="431" y="419"/>
                    </a:lnTo>
                    <a:lnTo>
                      <a:pt x="430" y="396"/>
                    </a:lnTo>
                    <a:lnTo>
                      <a:pt x="428" y="373"/>
                    </a:lnTo>
                    <a:lnTo>
                      <a:pt x="424" y="343"/>
                    </a:lnTo>
                    <a:lnTo>
                      <a:pt x="421" y="320"/>
                    </a:lnTo>
                    <a:lnTo>
                      <a:pt x="418" y="297"/>
                    </a:lnTo>
                    <a:lnTo>
                      <a:pt x="400" y="322"/>
                    </a:lnTo>
                    <a:lnTo>
                      <a:pt x="390" y="346"/>
                    </a:lnTo>
                    <a:lnTo>
                      <a:pt x="377" y="370"/>
                    </a:lnTo>
                    <a:lnTo>
                      <a:pt x="361" y="397"/>
                    </a:lnTo>
                    <a:lnTo>
                      <a:pt x="345" y="421"/>
                    </a:lnTo>
                    <a:lnTo>
                      <a:pt x="337" y="431"/>
                    </a:lnTo>
                    <a:lnTo>
                      <a:pt x="337" y="4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33840" y="1879560"/>
                <a:ext cx="1062000" cy="4408560"/>
              </a:xfrm>
              <a:custGeom>
                <a:avLst/>
                <a:gdLst/>
                <a:ahLst/>
                <a:rect l="l" t="t" r="r" b="b"/>
                <a:pathLst>
                  <a:path w="669" h="2777">
                    <a:moveTo>
                      <a:pt x="476" y="0"/>
                    </a:moveTo>
                    <a:lnTo>
                      <a:pt x="453" y="13"/>
                    </a:lnTo>
                    <a:lnTo>
                      <a:pt x="431" y="26"/>
                    </a:lnTo>
                    <a:lnTo>
                      <a:pt x="408" y="40"/>
                    </a:lnTo>
                    <a:lnTo>
                      <a:pt x="387" y="55"/>
                    </a:lnTo>
                    <a:lnTo>
                      <a:pt x="345" y="88"/>
                    </a:lnTo>
                    <a:lnTo>
                      <a:pt x="306" y="123"/>
                    </a:lnTo>
                    <a:lnTo>
                      <a:pt x="269" y="163"/>
                    </a:lnTo>
                    <a:lnTo>
                      <a:pt x="234" y="204"/>
                    </a:lnTo>
                    <a:lnTo>
                      <a:pt x="201" y="249"/>
                    </a:lnTo>
                    <a:lnTo>
                      <a:pt x="185" y="274"/>
                    </a:lnTo>
                    <a:lnTo>
                      <a:pt x="169" y="297"/>
                    </a:lnTo>
                    <a:lnTo>
                      <a:pt x="155" y="322"/>
                    </a:lnTo>
                    <a:lnTo>
                      <a:pt x="140" y="348"/>
                    </a:lnTo>
                    <a:lnTo>
                      <a:pt x="128" y="374"/>
                    </a:lnTo>
                    <a:lnTo>
                      <a:pt x="116" y="400"/>
                    </a:lnTo>
                    <a:lnTo>
                      <a:pt x="104" y="426"/>
                    </a:lnTo>
                    <a:lnTo>
                      <a:pt x="91" y="453"/>
                    </a:lnTo>
                    <a:lnTo>
                      <a:pt x="82" y="481"/>
                    </a:lnTo>
                    <a:lnTo>
                      <a:pt x="71" y="507"/>
                    </a:lnTo>
                    <a:lnTo>
                      <a:pt x="61" y="536"/>
                    </a:lnTo>
                    <a:lnTo>
                      <a:pt x="51" y="566"/>
                    </a:lnTo>
                    <a:lnTo>
                      <a:pt x="43" y="593"/>
                    </a:lnTo>
                    <a:lnTo>
                      <a:pt x="38" y="623"/>
                    </a:lnTo>
                    <a:lnTo>
                      <a:pt x="31" y="652"/>
                    </a:lnTo>
                    <a:lnTo>
                      <a:pt x="23" y="681"/>
                    </a:lnTo>
                    <a:lnTo>
                      <a:pt x="21" y="710"/>
                    </a:lnTo>
                    <a:lnTo>
                      <a:pt x="15" y="740"/>
                    </a:lnTo>
                    <a:lnTo>
                      <a:pt x="11" y="770"/>
                    </a:lnTo>
                    <a:lnTo>
                      <a:pt x="6" y="800"/>
                    </a:lnTo>
                    <a:lnTo>
                      <a:pt x="4" y="829"/>
                    </a:lnTo>
                    <a:lnTo>
                      <a:pt x="2" y="858"/>
                    </a:lnTo>
                    <a:lnTo>
                      <a:pt x="1" y="888"/>
                    </a:lnTo>
                    <a:lnTo>
                      <a:pt x="0" y="914"/>
                    </a:lnTo>
                    <a:lnTo>
                      <a:pt x="1" y="945"/>
                    </a:lnTo>
                    <a:lnTo>
                      <a:pt x="1" y="973"/>
                    </a:lnTo>
                    <a:lnTo>
                      <a:pt x="3" y="1001"/>
                    </a:lnTo>
                    <a:lnTo>
                      <a:pt x="5" y="1030"/>
                    </a:lnTo>
                    <a:lnTo>
                      <a:pt x="9" y="1058"/>
                    </a:lnTo>
                    <a:lnTo>
                      <a:pt x="13" y="1086"/>
                    </a:lnTo>
                    <a:lnTo>
                      <a:pt x="18" y="1115"/>
                    </a:lnTo>
                    <a:lnTo>
                      <a:pt x="21" y="1143"/>
                    </a:lnTo>
                    <a:lnTo>
                      <a:pt x="28" y="1170"/>
                    </a:lnTo>
                    <a:lnTo>
                      <a:pt x="37" y="1198"/>
                    </a:lnTo>
                    <a:lnTo>
                      <a:pt x="43" y="1226"/>
                    </a:lnTo>
                    <a:lnTo>
                      <a:pt x="49" y="1255"/>
                    </a:lnTo>
                    <a:lnTo>
                      <a:pt x="60" y="1280"/>
                    </a:lnTo>
                    <a:lnTo>
                      <a:pt x="68" y="1311"/>
                    </a:lnTo>
                    <a:lnTo>
                      <a:pt x="80" y="1337"/>
                    </a:lnTo>
                    <a:lnTo>
                      <a:pt x="91" y="1365"/>
                    </a:lnTo>
                    <a:lnTo>
                      <a:pt x="102" y="1392"/>
                    </a:lnTo>
                    <a:lnTo>
                      <a:pt x="116" y="1420"/>
                    </a:lnTo>
                    <a:lnTo>
                      <a:pt x="129" y="1447"/>
                    </a:lnTo>
                    <a:lnTo>
                      <a:pt x="144" y="1475"/>
                    </a:lnTo>
                    <a:lnTo>
                      <a:pt x="157" y="1504"/>
                    </a:lnTo>
                    <a:lnTo>
                      <a:pt x="176" y="1531"/>
                    </a:lnTo>
                    <a:lnTo>
                      <a:pt x="192" y="1558"/>
                    </a:lnTo>
                    <a:lnTo>
                      <a:pt x="209" y="1586"/>
                    </a:lnTo>
                    <a:lnTo>
                      <a:pt x="227" y="1613"/>
                    </a:lnTo>
                    <a:lnTo>
                      <a:pt x="249" y="1641"/>
                    </a:lnTo>
                    <a:lnTo>
                      <a:pt x="249" y="1641"/>
                    </a:lnTo>
                    <a:lnTo>
                      <a:pt x="257" y="1653"/>
                    </a:lnTo>
                    <a:lnTo>
                      <a:pt x="280" y="1685"/>
                    </a:lnTo>
                    <a:lnTo>
                      <a:pt x="302" y="1717"/>
                    </a:lnTo>
                    <a:lnTo>
                      <a:pt x="324" y="1752"/>
                    </a:lnTo>
                    <a:lnTo>
                      <a:pt x="339" y="1776"/>
                    </a:lnTo>
                    <a:lnTo>
                      <a:pt x="353" y="1800"/>
                    </a:lnTo>
                    <a:lnTo>
                      <a:pt x="367" y="1824"/>
                    </a:lnTo>
                    <a:lnTo>
                      <a:pt x="379" y="1848"/>
                    </a:lnTo>
                    <a:lnTo>
                      <a:pt x="393" y="1875"/>
                    </a:lnTo>
                    <a:lnTo>
                      <a:pt x="405" y="1902"/>
                    </a:lnTo>
                    <a:lnTo>
                      <a:pt x="416" y="1930"/>
                    </a:lnTo>
                    <a:lnTo>
                      <a:pt x="427" y="1959"/>
                    </a:lnTo>
                    <a:lnTo>
                      <a:pt x="436" y="1989"/>
                    </a:lnTo>
                    <a:lnTo>
                      <a:pt x="446" y="2021"/>
                    </a:lnTo>
                    <a:lnTo>
                      <a:pt x="455" y="2052"/>
                    </a:lnTo>
                    <a:lnTo>
                      <a:pt x="461" y="2084"/>
                    </a:lnTo>
                    <a:lnTo>
                      <a:pt x="469" y="2113"/>
                    </a:lnTo>
                    <a:lnTo>
                      <a:pt x="475" y="2142"/>
                    </a:lnTo>
                    <a:lnTo>
                      <a:pt x="478" y="2169"/>
                    </a:lnTo>
                    <a:lnTo>
                      <a:pt x="484" y="2197"/>
                    </a:lnTo>
                    <a:lnTo>
                      <a:pt x="489" y="2226"/>
                    </a:lnTo>
                    <a:lnTo>
                      <a:pt x="495" y="2252"/>
                    </a:lnTo>
                    <a:lnTo>
                      <a:pt x="497" y="2280"/>
                    </a:lnTo>
                    <a:lnTo>
                      <a:pt x="501" y="2304"/>
                    </a:lnTo>
                    <a:lnTo>
                      <a:pt x="503" y="2331"/>
                    </a:lnTo>
                    <a:lnTo>
                      <a:pt x="507" y="2356"/>
                    </a:lnTo>
                    <a:lnTo>
                      <a:pt x="511" y="2382"/>
                    </a:lnTo>
                    <a:lnTo>
                      <a:pt x="513" y="2408"/>
                    </a:lnTo>
                    <a:lnTo>
                      <a:pt x="515" y="2433"/>
                    </a:lnTo>
                    <a:lnTo>
                      <a:pt x="517" y="2458"/>
                    </a:lnTo>
                    <a:lnTo>
                      <a:pt x="519" y="2481"/>
                    </a:lnTo>
                    <a:lnTo>
                      <a:pt x="517" y="2508"/>
                    </a:lnTo>
                    <a:lnTo>
                      <a:pt x="517" y="2534"/>
                    </a:lnTo>
                    <a:lnTo>
                      <a:pt x="517" y="2562"/>
                    </a:lnTo>
                    <a:lnTo>
                      <a:pt x="519" y="2592"/>
                    </a:lnTo>
                    <a:lnTo>
                      <a:pt x="521" y="2616"/>
                    </a:lnTo>
                    <a:lnTo>
                      <a:pt x="527" y="2640"/>
                    </a:lnTo>
                    <a:lnTo>
                      <a:pt x="531" y="2665"/>
                    </a:lnTo>
                    <a:lnTo>
                      <a:pt x="537" y="2687"/>
                    </a:lnTo>
                    <a:lnTo>
                      <a:pt x="553" y="2715"/>
                    </a:lnTo>
                    <a:lnTo>
                      <a:pt x="571" y="2738"/>
                    </a:lnTo>
                    <a:lnTo>
                      <a:pt x="593" y="2760"/>
                    </a:lnTo>
                    <a:lnTo>
                      <a:pt x="618" y="2772"/>
                    </a:lnTo>
                    <a:lnTo>
                      <a:pt x="644" y="2776"/>
                    </a:lnTo>
                    <a:lnTo>
                      <a:pt x="668" y="2772"/>
                    </a:lnTo>
                    <a:lnTo>
                      <a:pt x="644" y="2758"/>
                    </a:lnTo>
                    <a:lnTo>
                      <a:pt x="621" y="2736"/>
                    </a:lnTo>
                    <a:lnTo>
                      <a:pt x="605" y="2711"/>
                    </a:lnTo>
                    <a:lnTo>
                      <a:pt x="594" y="2686"/>
                    </a:lnTo>
                    <a:lnTo>
                      <a:pt x="590" y="2664"/>
                    </a:lnTo>
                    <a:lnTo>
                      <a:pt x="586" y="2639"/>
                    </a:lnTo>
                    <a:lnTo>
                      <a:pt x="584" y="2616"/>
                    </a:lnTo>
                    <a:lnTo>
                      <a:pt x="583" y="2587"/>
                    </a:lnTo>
                    <a:lnTo>
                      <a:pt x="584" y="2558"/>
                    </a:lnTo>
                    <a:lnTo>
                      <a:pt x="584" y="2524"/>
                    </a:lnTo>
                    <a:lnTo>
                      <a:pt x="585" y="2482"/>
                    </a:lnTo>
                    <a:lnTo>
                      <a:pt x="584" y="2440"/>
                    </a:lnTo>
                    <a:lnTo>
                      <a:pt x="582" y="2397"/>
                    </a:lnTo>
                    <a:lnTo>
                      <a:pt x="577" y="2353"/>
                    </a:lnTo>
                    <a:lnTo>
                      <a:pt x="574" y="2310"/>
                    </a:lnTo>
                    <a:lnTo>
                      <a:pt x="571" y="2270"/>
                    </a:lnTo>
                    <a:lnTo>
                      <a:pt x="566" y="2230"/>
                    </a:lnTo>
                    <a:lnTo>
                      <a:pt x="563" y="2191"/>
                    </a:lnTo>
                    <a:lnTo>
                      <a:pt x="559" y="2157"/>
                    </a:lnTo>
                    <a:lnTo>
                      <a:pt x="557" y="2125"/>
                    </a:lnTo>
                    <a:lnTo>
                      <a:pt x="555" y="2096"/>
                    </a:lnTo>
                    <a:lnTo>
                      <a:pt x="557" y="2069"/>
                    </a:lnTo>
                    <a:lnTo>
                      <a:pt x="561" y="2041"/>
                    </a:lnTo>
                    <a:lnTo>
                      <a:pt x="577" y="2016"/>
                    </a:lnTo>
                    <a:lnTo>
                      <a:pt x="564" y="1992"/>
                    </a:lnTo>
                    <a:lnTo>
                      <a:pt x="541" y="1965"/>
                    </a:lnTo>
                    <a:lnTo>
                      <a:pt x="527" y="1938"/>
                    </a:lnTo>
                    <a:lnTo>
                      <a:pt x="519" y="1914"/>
                    </a:lnTo>
                    <a:lnTo>
                      <a:pt x="511" y="1883"/>
                    </a:lnTo>
                    <a:lnTo>
                      <a:pt x="503" y="1847"/>
                    </a:lnTo>
                    <a:lnTo>
                      <a:pt x="499" y="1805"/>
                    </a:lnTo>
                    <a:lnTo>
                      <a:pt x="497" y="1779"/>
                    </a:lnTo>
                    <a:lnTo>
                      <a:pt x="499" y="1754"/>
                    </a:lnTo>
                    <a:lnTo>
                      <a:pt x="501" y="1730"/>
                    </a:lnTo>
                    <a:lnTo>
                      <a:pt x="506" y="1705"/>
                    </a:lnTo>
                    <a:lnTo>
                      <a:pt x="511" y="1681"/>
                    </a:lnTo>
                    <a:lnTo>
                      <a:pt x="521" y="1648"/>
                    </a:lnTo>
                    <a:lnTo>
                      <a:pt x="531" y="1614"/>
                    </a:lnTo>
                    <a:lnTo>
                      <a:pt x="546" y="1583"/>
                    </a:lnTo>
                    <a:lnTo>
                      <a:pt x="561" y="1552"/>
                    </a:lnTo>
                    <a:lnTo>
                      <a:pt x="577" y="1525"/>
                    </a:lnTo>
                    <a:lnTo>
                      <a:pt x="596" y="1497"/>
                    </a:lnTo>
                    <a:lnTo>
                      <a:pt x="615" y="1471"/>
                    </a:lnTo>
                    <a:lnTo>
                      <a:pt x="636" y="1444"/>
                    </a:lnTo>
                    <a:lnTo>
                      <a:pt x="636" y="1444"/>
                    </a:lnTo>
                    <a:lnTo>
                      <a:pt x="634" y="1444"/>
                    </a:lnTo>
                    <a:lnTo>
                      <a:pt x="605" y="1432"/>
                    </a:lnTo>
                    <a:lnTo>
                      <a:pt x="577" y="1417"/>
                    </a:lnTo>
                    <a:lnTo>
                      <a:pt x="555" y="1404"/>
                    </a:lnTo>
                    <a:lnTo>
                      <a:pt x="531" y="1385"/>
                    </a:lnTo>
                    <a:lnTo>
                      <a:pt x="505" y="1365"/>
                    </a:lnTo>
                    <a:lnTo>
                      <a:pt x="476" y="1339"/>
                    </a:lnTo>
                    <a:lnTo>
                      <a:pt x="450" y="1308"/>
                    </a:lnTo>
                    <a:lnTo>
                      <a:pt x="422" y="1274"/>
                    </a:lnTo>
                    <a:lnTo>
                      <a:pt x="393" y="1230"/>
                    </a:lnTo>
                    <a:lnTo>
                      <a:pt x="379" y="1208"/>
                    </a:lnTo>
                    <a:lnTo>
                      <a:pt x="365" y="1182"/>
                    </a:lnTo>
                    <a:lnTo>
                      <a:pt x="353" y="1155"/>
                    </a:lnTo>
                    <a:lnTo>
                      <a:pt x="337" y="1126"/>
                    </a:lnTo>
                    <a:lnTo>
                      <a:pt x="324" y="1095"/>
                    </a:lnTo>
                    <a:lnTo>
                      <a:pt x="313" y="1062"/>
                    </a:lnTo>
                    <a:lnTo>
                      <a:pt x="300" y="1027"/>
                    </a:lnTo>
                    <a:lnTo>
                      <a:pt x="290" y="990"/>
                    </a:lnTo>
                    <a:lnTo>
                      <a:pt x="277" y="952"/>
                    </a:lnTo>
                    <a:lnTo>
                      <a:pt x="267" y="912"/>
                    </a:lnTo>
                    <a:lnTo>
                      <a:pt x="259" y="873"/>
                    </a:lnTo>
                    <a:lnTo>
                      <a:pt x="251" y="836"/>
                    </a:lnTo>
                    <a:lnTo>
                      <a:pt x="246" y="797"/>
                    </a:lnTo>
                    <a:lnTo>
                      <a:pt x="239" y="761"/>
                    </a:lnTo>
                    <a:lnTo>
                      <a:pt x="236" y="724"/>
                    </a:lnTo>
                    <a:lnTo>
                      <a:pt x="231" y="687"/>
                    </a:lnTo>
                    <a:lnTo>
                      <a:pt x="231" y="650"/>
                    </a:lnTo>
                    <a:lnTo>
                      <a:pt x="229" y="617"/>
                    </a:lnTo>
                    <a:lnTo>
                      <a:pt x="229" y="582"/>
                    </a:lnTo>
                    <a:lnTo>
                      <a:pt x="231" y="548"/>
                    </a:lnTo>
                    <a:lnTo>
                      <a:pt x="234" y="515"/>
                    </a:lnTo>
                    <a:lnTo>
                      <a:pt x="238" y="481"/>
                    </a:lnTo>
                    <a:lnTo>
                      <a:pt x="242" y="451"/>
                    </a:lnTo>
                    <a:lnTo>
                      <a:pt x="249" y="419"/>
                    </a:lnTo>
                    <a:lnTo>
                      <a:pt x="255" y="388"/>
                    </a:lnTo>
                    <a:lnTo>
                      <a:pt x="262" y="360"/>
                    </a:lnTo>
                    <a:lnTo>
                      <a:pt x="271" y="329"/>
                    </a:lnTo>
                    <a:lnTo>
                      <a:pt x="280" y="301"/>
                    </a:lnTo>
                    <a:lnTo>
                      <a:pt x="291" y="274"/>
                    </a:lnTo>
                    <a:lnTo>
                      <a:pt x="302" y="246"/>
                    </a:lnTo>
                    <a:lnTo>
                      <a:pt x="313" y="220"/>
                    </a:lnTo>
                    <a:lnTo>
                      <a:pt x="325" y="194"/>
                    </a:lnTo>
                    <a:lnTo>
                      <a:pt x="339" y="170"/>
                    </a:lnTo>
                    <a:lnTo>
                      <a:pt x="355" y="146"/>
                    </a:lnTo>
                    <a:lnTo>
                      <a:pt x="369" y="123"/>
                    </a:lnTo>
                    <a:lnTo>
                      <a:pt x="402" y="80"/>
                    </a:lnTo>
                    <a:lnTo>
                      <a:pt x="436" y="38"/>
                    </a:lnTo>
                    <a:lnTo>
                      <a:pt x="476" y="0"/>
                    </a:lnTo>
                    <a:lnTo>
                      <a:pt x="4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38880" y="1660680"/>
                <a:ext cx="1112760" cy="1093680"/>
              </a:xfrm>
              <a:custGeom>
                <a:avLst/>
                <a:gdLst/>
                <a:ahLst/>
                <a:rect l="l" t="t" r="r" b="b"/>
                <a:pathLst>
                  <a:path w="701" h="689">
                    <a:moveTo>
                      <a:pt x="700" y="532"/>
                    </a:moveTo>
                    <a:lnTo>
                      <a:pt x="699" y="560"/>
                    </a:lnTo>
                    <a:lnTo>
                      <a:pt x="696" y="584"/>
                    </a:lnTo>
                    <a:lnTo>
                      <a:pt x="692" y="609"/>
                    </a:lnTo>
                    <a:lnTo>
                      <a:pt x="685" y="636"/>
                    </a:lnTo>
                    <a:lnTo>
                      <a:pt x="677" y="662"/>
                    </a:lnTo>
                    <a:lnTo>
                      <a:pt x="667" y="686"/>
                    </a:lnTo>
                    <a:lnTo>
                      <a:pt x="665" y="688"/>
                    </a:lnTo>
                    <a:lnTo>
                      <a:pt x="665" y="688"/>
                    </a:lnTo>
                    <a:lnTo>
                      <a:pt x="638" y="634"/>
                    </a:lnTo>
                    <a:lnTo>
                      <a:pt x="611" y="584"/>
                    </a:lnTo>
                    <a:lnTo>
                      <a:pt x="584" y="536"/>
                    </a:lnTo>
                    <a:lnTo>
                      <a:pt x="557" y="491"/>
                    </a:lnTo>
                    <a:lnTo>
                      <a:pt x="530" y="449"/>
                    </a:lnTo>
                    <a:lnTo>
                      <a:pt x="503" y="409"/>
                    </a:lnTo>
                    <a:lnTo>
                      <a:pt x="478" y="374"/>
                    </a:lnTo>
                    <a:lnTo>
                      <a:pt x="451" y="340"/>
                    </a:lnTo>
                    <a:lnTo>
                      <a:pt x="425" y="309"/>
                    </a:lnTo>
                    <a:lnTo>
                      <a:pt x="400" y="279"/>
                    </a:lnTo>
                    <a:lnTo>
                      <a:pt x="374" y="254"/>
                    </a:lnTo>
                    <a:lnTo>
                      <a:pt x="349" y="229"/>
                    </a:lnTo>
                    <a:lnTo>
                      <a:pt x="325" y="208"/>
                    </a:lnTo>
                    <a:lnTo>
                      <a:pt x="302" y="188"/>
                    </a:lnTo>
                    <a:lnTo>
                      <a:pt x="279" y="170"/>
                    </a:lnTo>
                    <a:lnTo>
                      <a:pt x="258" y="153"/>
                    </a:lnTo>
                    <a:lnTo>
                      <a:pt x="234" y="138"/>
                    </a:lnTo>
                    <a:lnTo>
                      <a:pt x="195" y="113"/>
                    </a:lnTo>
                    <a:lnTo>
                      <a:pt x="156" y="94"/>
                    </a:lnTo>
                    <a:lnTo>
                      <a:pt x="124" y="81"/>
                    </a:lnTo>
                    <a:lnTo>
                      <a:pt x="94" y="70"/>
                    </a:lnTo>
                    <a:lnTo>
                      <a:pt x="70" y="65"/>
                    </a:lnTo>
                    <a:lnTo>
                      <a:pt x="44" y="59"/>
                    </a:lnTo>
                    <a:lnTo>
                      <a:pt x="33" y="5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46" y="5"/>
                    </a:lnTo>
                    <a:lnTo>
                      <a:pt x="83" y="10"/>
                    </a:lnTo>
                    <a:lnTo>
                      <a:pt x="123" y="22"/>
                    </a:lnTo>
                    <a:lnTo>
                      <a:pt x="166" y="37"/>
                    </a:lnTo>
                    <a:lnTo>
                      <a:pt x="188" y="46"/>
                    </a:lnTo>
                    <a:lnTo>
                      <a:pt x="210" y="57"/>
                    </a:lnTo>
                    <a:lnTo>
                      <a:pt x="234" y="67"/>
                    </a:lnTo>
                    <a:lnTo>
                      <a:pt x="260" y="81"/>
                    </a:lnTo>
                    <a:lnTo>
                      <a:pt x="284" y="93"/>
                    </a:lnTo>
                    <a:lnTo>
                      <a:pt x="308" y="109"/>
                    </a:lnTo>
                    <a:lnTo>
                      <a:pt x="334" y="123"/>
                    </a:lnTo>
                    <a:lnTo>
                      <a:pt x="358" y="140"/>
                    </a:lnTo>
                    <a:lnTo>
                      <a:pt x="384" y="158"/>
                    </a:lnTo>
                    <a:lnTo>
                      <a:pt x="408" y="176"/>
                    </a:lnTo>
                    <a:lnTo>
                      <a:pt x="432" y="196"/>
                    </a:lnTo>
                    <a:lnTo>
                      <a:pt x="458" y="218"/>
                    </a:lnTo>
                    <a:lnTo>
                      <a:pt x="482" y="240"/>
                    </a:lnTo>
                    <a:lnTo>
                      <a:pt x="506" y="265"/>
                    </a:lnTo>
                    <a:lnTo>
                      <a:pt x="530" y="289"/>
                    </a:lnTo>
                    <a:lnTo>
                      <a:pt x="554" y="314"/>
                    </a:lnTo>
                    <a:lnTo>
                      <a:pt x="577" y="340"/>
                    </a:lnTo>
                    <a:lnTo>
                      <a:pt x="598" y="368"/>
                    </a:lnTo>
                    <a:lnTo>
                      <a:pt x="622" y="397"/>
                    </a:lnTo>
                    <a:lnTo>
                      <a:pt x="642" y="428"/>
                    </a:lnTo>
                    <a:lnTo>
                      <a:pt x="662" y="459"/>
                    </a:lnTo>
                    <a:lnTo>
                      <a:pt x="682" y="493"/>
                    </a:lnTo>
                    <a:lnTo>
                      <a:pt x="700" y="524"/>
                    </a:lnTo>
                    <a:lnTo>
                      <a:pt x="700" y="53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524560" y="1838160"/>
                <a:ext cx="922320" cy="1281240"/>
              </a:xfrm>
              <a:custGeom>
                <a:avLst/>
                <a:gdLst/>
                <a:ahLst/>
                <a:rect l="l" t="t" r="r" b="b"/>
                <a:pathLst>
                  <a:path w="581" h="807">
                    <a:moveTo>
                      <a:pt x="580" y="648"/>
                    </a:moveTo>
                    <a:lnTo>
                      <a:pt x="568" y="618"/>
                    </a:lnTo>
                    <a:lnTo>
                      <a:pt x="550" y="586"/>
                    </a:lnTo>
                    <a:lnTo>
                      <a:pt x="533" y="546"/>
                    </a:lnTo>
                    <a:lnTo>
                      <a:pt x="514" y="503"/>
                    </a:lnTo>
                    <a:lnTo>
                      <a:pt x="503" y="479"/>
                    </a:lnTo>
                    <a:lnTo>
                      <a:pt x="490" y="457"/>
                    </a:lnTo>
                    <a:lnTo>
                      <a:pt x="476" y="434"/>
                    </a:lnTo>
                    <a:lnTo>
                      <a:pt x="462" y="410"/>
                    </a:lnTo>
                    <a:lnTo>
                      <a:pt x="447" y="386"/>
                    </a:lnTo>
                    <a:lnTo>
                      <a:pt x="431" y="360"/>
                    </a:lnTo>
                    <a:lnTo>
                      <a:pt x="416" y="334"/>
                    </a:lnTo>
                    <a:lnTo>
                      <a:pt x="397" y="311"/>
                    </a:lnTo>
                    <a:lnTo>
                      <a:pt x="378" y="284"/>
                    </a:lnTo>
                    <a:lnTo>
                      <a:pt x="360" y="260"/>
                    </a:lnTo>
                    <a:lnTo>
                      <a:pt x="339" y="234"/>
                    </a:lnTo>
                    <a:lnTo>
                      <a:pt x="316" y="212"/>
                    </a:lnTo>
                    <a:lnTo>
                      <a:pt x="293" y="188"/>
                    </a:lnTo>
                    <a:lnTo>
                      <a:pt x="271" y="164"/>
                    </a:lnTo>
                    <a:lnTo>
                      <a:pt x="245" y="142"/>
                    </a:lnTo>
                    <a:lnTo>
                      <a:pt x="218" y="119"/>
                    </a:lnTo>
                    <a:lnTo>
                      <a:pt x="192" y="100"/>
                    </a:lnTo>
                    <a:lnTo>
                      <a:pt x="163" y="80"/>
                    </a:lnTo>
                    <a:lnTo>
                      <a:pt x="132" y="60"/>
                    </a:lnTo>
                    <a:lnTo>
                      <a:pt x="102" y="44"/>
                    </a:lnTo>
                    <a:lnTo>
                      <a:pt x="69" y="28"/>
                    </a:lnTo>
                    <a:lnTo>
                      <a:pt x="36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4" y="68"/>
                    </a:lnTo>
                    <a:lnTo>
                      <a:pt x="50" y="76"/>
                    </a:lnTo>
                    <a:lnTo>
                      <a:pt x="75" y="91"/>
                    </a:lnTo>
                    <a:lnTo>
                      <a:pt x="98" y="106"/>
                    </a:lnTo>
                    <a:lnTo>
                      <a:pt x="120" y="124"/>
                    </a:lnTo>
                    <a:lnTo>
                      <a:pt x="142" y="143"/>
                    </a:lnTo>
                    <a:lnTo>
                      <a:pt x="164" y="166"/>
                    </a:lnTo>
                    <a:lnTo>
                      <a:pt x="186" y="189"/>
                    </a:lnTo>
                    <a:lnTo>
                      <a:pt x="208" y="216"/>
                    </a:lnTo>
                    <a:lnTo>
                      <a:pt x="230" y="242"/>
                    </a:lnTo>
                    <a:lnTo>
                      <a:pt x="252" y="270"/>
                    </a:lnTo>
                    <a:lnTo>
                      <a:pt x="272" y="299"/>
                    </a:lnTo>
                    <a:lnTo>
                      <a:pt x="292" y="329"/>
                    </a:lnTo>
                    <a:lnTo>
                      <a:pt x="313" y="360"/>
                    </a:lnTo>
                    <a:lnTo>
                      <a:pt x="327" y="382"/>
                    </a:lnTo>
                    <a:lnTo>
                      <a:pt x="340" y="406"/>
                    </a:lnTo>
                    <a:lnTo>
                      <a:pt x="354" y="430"/>
                    </a:lnTo>
                    <a:lnTo>
                      <a:pt x="370" y="458"/>
                    </a:lnTo>
                    <a:lnTo>
                      <a:pt x="379" y="485"/>
                    </a:lnTo>
                    <a:lnTo>
                      <a:pt x="391" y="507"/>
                    </a:lnTo>
                    <a:lnTo>
                      <a:pt x="406" y="540"/>
                    </a:lnTo>
                    <a:lnTo>
                      <a:pt x="420" y="568"/>
                    </a:lnTo>
                    <a:lnTo>
                      <a:pt x="430" y="596"/>
                    </a:lnTo>
                    <a:lnTo>
                      <a:pt x="442" y="624"/>
                    </a:lnTo>
                    <a:lnTo>
                      <a:pt x="451" y="652"/>
                    </a:lnTo>
                    <a:lnTo>
                      <a:pt x="462" y="681"/>
                    </a:lnTo>
                    <a:lnTo>
                      <a:pt x="470" y="714"/>
                    </a:lnTo>
                    <a:lnTo>
                      <a:pt x="478" y="736"/>
                    </a:lnTo>
                    <a:lnTo>
                      <a:pt x="483" y="762"/>
                    </a:lnTo>
                    <a:lnTo>
                      <a:pt x="490" y="791"/>
                    </a:lnTo>
                    <a:lnTo>
                      <a:pt x="493" y="806"/>
                    </a:lnTo>
                    <a:lnTo>
                      <a:pt x="493" y="806"/>
                    </a:lnTo>
                    <a:lnTo>
                      <a:pt x="496" y="802"/>
                    </a:lnTo>
                    <a:lnTo>
                      <a:pt x="518" y="778"/>
                    </a:lnTo>
                    <a:lnTo>
                      <a:pt x="538" y="752"/>
                    </a:lnTo>
                    <a:lnTo>
                      <a:pt x="553" y="729"/>
                    </a:lnTo>
                    <a:lnTo>
                      <a:pt x="566" y="704"/>
                    </a:lnTo>
                    <a:lnTo>
                      <a:pt x="578" y="676"/>
                    </a:lnTo>
                    <a:lnTo>
                      <a:pt x="580" y="6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7061040" y="4952880"/>
            <a:ext cx="2997000" cy="2573280"/>
            <a:chOff x="7061040" y="4952880"/>
            <a:chExt cx="2997000" cy="2573280"/>
          </a:xfrm>
        </p:grpSpPr>
        <p:sp>
          <p:nvSpPr>
            <p:cNvPr id="576" name=""/>
            <p:cNvSpPr/>
            <p:nvPr/>
          </p:nvSpPr>
          <p:spPr>
            <a:xfrm>
              <a:off x="7061040" y="4952880"/>
              <a:ext cx="2997000" cy="2573280"/>
            </a:xfrm>
            <a:custGeom>
              <a:avLst/>
              <a:gdLst/>
              <a:ahLst/>
              <a:rect l="l" t="t" r="r" b="b"/>
              <a:pathLst>
                <a:path w="1888" h="1621">
                  <a:moveTo>
                    <a:pt x="1887" y="795"/>
                  </a:moveTo>
                  <a:lnTo>
                    <a:pt x="1887" y="795"/>
                  </a:lnTo>
                  <a:lnTo>
                    <a:pt x="775" y="0"/>
                  </a:lnTo>
                  <a:lnTo>
                    <a:pt x="905" y="398"/>
                  </a:lnTo>
                  <a:lnTo>
                    <a:pt x="0" y="398"/>
                  </a:lnTo>
                  <a:lnTo>
                    <a:pt x="0" y="1248"/>
                  </a:lnTo>
                  <a:lnTo>
                    <a:pt x="905" y="1248"/>
                  </a:lnTo>
                  <a:lnTo>
                    <a:pt x="775" y="1620"/>
                  </a:lnTo>
                  <a:lnTo>
                    <a:pt x="1887" y="795"/>
                  </a:lnTo>
                  <a:lnTo>
                    <a:pt x="1887" y="79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67320" y="5773680"/>
              <a:ext cx="24987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Arial"/>
                </a:rPr>
                <a:t>Aquí viene un apretado  resumen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85560" y="56808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inimización de costo de la empres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83000" y="6371640"/>
            <a:ext cx="6467400" cy="95220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4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03200" y="4521240"/>
            <a:ext cx="2025720" cy="877680"/>
          </a:xfrm>
          <a:prstGeom prst="roundRect">
            <a:avLst>
              <a:gd name="adj" fmla="val 20907"/>
            </a:avLst>
          </a:prstGeom>
          <a:solidFill>
            <a:srgbClr val="00ffff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237960" y="1743120"/>
            <a:ext cx="9518760" cy="1511280"/>
            <a:chOff x="237960" y="1743120"/>
            <a:chExt cx="9518760" cy="1511280"/>
          </a:xfrm>
        </p:grpSpPr>
        <p:sp>
          <p:nvSpPr>
            <p:cNvPr id="582" name=""/>
            <p:cNvSpPr/>
            <p:nvPr/>
          </p:nvSpPr>
          <p:spPr>
            <a:xfrm flipV="1">
              <a:off x="237960" y="1742760"/>
              <a:ext cx="9518760" cy="1511280"/>
            </a:xfrm>
            <a:prstGeom prst="roundRect">
              <a:avLst>
                <a:gd name="adj" fmla="val 4162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7400" y="2170080"/>
              <a:ext cx="8298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3920" y="26668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5920" y="1981080"/>
              <a:ext cx="667368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GB" sz="4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GB" sz="4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sujeto a 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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13320" y="28764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1812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18440" y="28414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93400" y="2874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5078520" y="3362400"/>
            <a:ext cx="2419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roblem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16120" y="4979880"/>
            <a:ext cx="2870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...s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760" y="6431040"/>
            <a:ext cx="25891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espuest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85560" y="56808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inimización de costos del consumidor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483000" y="6371640"/>
            <a:ext cx="6467400" cy="95220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03200" y="4521240"/>
            <a:ext cx="2025720" cy="877680"/>
          </a:xfrm>
          <a:prstGeom prst="roundRect">
            <a:avLst>
              <a:gd name="adj" fmla="val 20907"/>
            </a:avLst>
          </a:prstGeom>
          <a:solidFill>
            <a:srgbClr val="00ffff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78520" y="3362400"/>
            <a:ext cx="2846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roblem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16120" y="4979880"/>
            <a:ext cx="2641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...s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760" y="6431040"/>
            <a:ext cx="2817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espuest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37960" y="1743120"/>
            <a:ext cx="9518760" cy="1511280"/>
            <a:chOff x="237960" y="1743120"/>
            <a:chExt cx="9518760" cy="1511280"/>
          </a:xfrm>
        </p:grpSpPr>
        <p:sp>
          <p:nvSpPr>
            <p:cNvPr id="600" name=""/>
            <p:cNvSpPr/>
            <p:nvPr/>
          </p:nvSpPr>
          <p:spPr>
            <a:xfrm flipV="1">
              <a:off x="237960" y="1742760"/>
              <a:ext cx="9518760" cy="1511280"/>
            </a:xfrm>
            <a:prstGeom prst="roundRect">
              <a:avLst>
                <a:gd name="adj" fmla="val 4162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7400" y="2170080"/>
              <a:ext cx="8298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74280" y="2666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5920" y="1981080"/>
              <a:ext cx="667368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4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4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sujeto a   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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13320" y="28764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42840" y="1812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18440" y="28414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93400" y="2874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85560" y="56808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problemas de minimización de costo son idéntic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483000" y="6371640"/>
            <a:ext cx="6467400" cy="95220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4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4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03200" y="4521240"/>
            <a:ext cx="2025720" cy="877680"/>
          </a:xfrm>
          <a:prstGeom prst="roundRect">
            <a:avLst>
              <a:gd name="adj" fmla="val 20907"/>
            </a:avLst>
          </a:prstGeom>
          <a:solidFill>
            <a:srgbClr val="00ffff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37960" y="1743120"/>
            <a:ext cx="9518760" cy="1511280"/>
            <a:chOff x="237960" y="1743120"/>
            <a:chExt cx="9518760" cy="1511280"/>
          </a:xfrm>
        </p:grpSpPr>
        <p:sp>
          <p:nvSpPr>
            <p:cNvPr id="612" name=""/>
            <p:cNvSpPr/>
            <p:nvPr/>
          </p:nvSpPr>
          <p:spPr>
            <a:xfrm flipV="1">
              <a:off x="237960" y="1742760"/>
              <a:ext cx="9518760" cy="1511280"/>
            </a:xfrm>
            <a:prstGeom prst="roundRect">
              <a:avLst>
                <a:gd name="adj" fmla="val 4162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7400" y="2170080"/>
              <a:ext cx="8298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3920" y="26668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55920" y="1981080"/>
              <a:ext cx="667368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GB" sz="4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GB" sz="4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sujeto a   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4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</a:t>
              </a:r>
              <a:r>
                <a:rPr b="0" i="1" lang="en-GB" sz="4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13320" y="28764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13040" y="1812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18440" y="28414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93400" y="2874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5078520" y="3362400"/>
            <a:ext cx="26938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blem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16120" y="4979880"/>
            <a:ext cx="2793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...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7760" y="6431040"/>
            <a:ext cx="2665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espuest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-379440" y="4038480"/>
            <a:ext cx="5408640" cy="2566800"/>
            <a:chOff x="-379440" y="4038480"/>
            <a:chExt cx="5408640" cy="2566800"/>
          </a:xfrm>
        </p:grpSpPr>
        <p:sp>
          <p:nvSpPr>
            <p:cNvPr id="624" name=""/>
            <p:cNvSpPr/>
            <p:nvPr/>
          </p:nvSpPr>
          <p:spPr>
            <a:xfrm>
              <a:off x="-379440" y="4038480"/>
              <a:ext cx="4195800" cy="2438280"/>
            </a:xfrm>
            <a:custGeom>
              <a:avLst/>
              <a:gdLst/>
              <a:ahLst/>
              <a:rect l="l" t="t" r="r" b="b"/>
              <a:pathLst>
                <a:path w="2643" h="1536">
                  <a:moveTo>
                    <a:pt x="2639" y="268"/>
                  </a:moveTo>
                  <a:lnTo>
                    <a:pt x="2630" y="262"/>
                  </a:lnTo>
                  <a:lnTo>
                    <a:pt x="2622" y="258"/>
                  </a:lnTo>
                  <a:lnTo>
                    <a:pt x="2612" y="256"/>
                  </a:lnTo>
                  <a:lnTo>
                    <a:pt x="2604" y="254"/>
                  </a:lnTo>
                  <a:lnTo>
                    <a:pt x="2594" y="256"/>
                  </a:lnTo>
                  <a:lnTo>
                    <a:pt x="2583" y="256"/>
                  </a:lnTo>
                  <a:lnTo>
                    <a:pt x="2570" y="257"/>
                  </a:lnTo>
                  <a:lnTo>
                    <a:pt x="2558" y="257"/>
                  </a:lnTo>
                  <a:lnTo>
                    <a:pt x="2542" y="259"/>
                  </a:lnTo>
                  <a:lnTo>
                    <a:pt x="2526" y="260"/>
                  </a:lnTo>
                  <a:lnTo>
                    <a:pt x="2507" y="260"/>
                  </a:lnTo>
                  <a:lnTo>
                    <a:pt x="2487" y="258"/>
                  </a:lnTo>
                  <a:lnTo>
                    <a:pt x="2464" y="256"/>
                  </a:lnTo>
                  <a:lnTo>
                    <a:pt x="2438" y="250"/>
                  </a:lnTo>
                  <a:lnTo>
                    <a:pt x="2410" y="244"/>
                  </a:lnTo>
                  <a:lnTo>
                    <a:pt x="2380" y="234"/>
                  </a:lnTo>
                  <a:lnTo>
                    <a:pt x="2360" y="228"/>
                  </a:lnTo>
                  <a:lnTo>
                    <a:pt x="2341" y="220"/>
                  </a:lnTo>
                  <a:lnTo>
                    <a:pt x="2319" y="212"/>
                  </a:lnTo>
                  <a:lnTo>
                    <a:pt x="2298" y="202"/>
                  </a:lnTo>
                  <a:lnTo>
                    <a:pt x="2274" y="192"/>
                  </a:lnTo>
                  <a:lnTo>
                    <a:pt x="2251" y="181"/>
                  </a:lnTo>
                  <a:lnTo>
                    <a:pt x="2226" y="170"/>
                  </a:lnTo>
                  <a:lnTo>
                    <a:pt x="2204" y="158"/>
                  </a:lnTo>
                  <a:lnTo>
                    <a:pt x="2179" y="147"/>
                  </a:lnTo>
                  <a:lnTo>
                    <a:pt x="2156" y="136"/>
                  </a:lnTo>
                  <a:lnTo>
                    <a:pt x="2132" y="125"/>
                  </a:lnTo>
                  <a:lnTo>
                    <a:pt x="2110" y="114"/>
                  </a:lnTo>
                  <a:lnTo>
                    <a:pt x="2089" y="104"/>
                  </a:lnTo>
                  <a:lnTo>
                    <a:pt x="2069" y="94"/>
                  </a:lnTo>
                  <a:lnTo>
                    <a:pt x="2049" y="86"/>
                  </a:lnTo>
                  <a:lnTo>
                    <a:pt x="2033" y="78"/>
                  </a:lnTo>
                  <a:lnTo>
                    <a:pt x="2019" y="73"/>
                  </a:lnTo>
                  <a:lnTo>
                    <a:pt x="2004" y="67"/>
                  </a:lnTo>
                  <a:lnTo>
                    <a:pt x="1988" y="61"/>
                  </a:lnTo>
                  <a:lnTo>
                    <a:pt x="1971" y="54"/>
                  </a:lnTo>
                  <a:lnTo>
                    <a:pt x="1953" y="48"/>
                  </a:lnTo>
                  <a:lnTo>
                    <a:pt x="1934" y="41"/>
                  </a:lnTo>
                  <a:lnTo>
                    <a:pt x="1915" y="35"/>
                  </a:lnTo>
                  <a:lnTo>
                    <a:pt x="1896" y="28"/>
                  </a:lnTo>
                  <a:lnTo>
                    <a:pt x="1876" y="22"/>
                  </a:lnTo>
                  <a:lnTo>
                    <a:pt x="1857" y="16"/>
                  </a:lnTo>
                  <a:lnTo>
                    <a:pt x="1838" y="12"/>
                  </a:lnTo>
                  <a:lnTo>
                    <a:pt x="1820" y="7"/>
                  </a:lnTo>
                  <a:lnTo>
                    <a:pt x="1803" y="4"/>
                  </a:lnTo>
                  <a:lnTo>
                    <a:pt x="1787" y="2"/>
                  </a:lnTo>
                  <a:lnTo>
                    <a:pt x="1771" y="1"/>
                  </a:lnTo>
                  <a:lnTo>
                    <a:pt x="1758" y="0"/>
                  </a:lnTo>
                  <a:lnTo>
                    <a:pt x="1744" y="1"/>
                  </a:lnTo>
                  <a:lnTo>
                    <a:pt x="1729" y="3"/>
                  </a:lnTo>
                  <a:lnTo>
                    <a:pt x="1713" y="7"/>
                  </a:lnTo>
                  <a:lnTo>
                    <a:pt x="1697" y="11"/>
                  </a:lnTo>
                  <a:lnTo>
                    <a:pt x="1679" y="16"/>
                  </a:lnTo>
                  <a:lnTo>
                    <a:pt x="1662" y="22"/>
                  </a:lnTo>
                  <a:lnTo>
                    <a:pt x="1644" y="28"/>
                  </a:lnTo>
                  <a:lnTo>
                    <a:pt x="1628" y="34"/>
                  </a:lnTo>
                  <a:lnTo>
                    <a:pt x="1609" y="42"/>
                  </a:lnTo>
                  <a:lnTo>
                    <a:pt x="1592" y="48"/>
                  </a:lnTo>
                  <a:lnTo>
                    <a:pt x="1574" y="54"/>
                  </a:lnTo>
                  <a:lnTo>
                    <a:pt x="1558" y="60"/>
                  </a:lnTo>
                  <a:lnTo>
                    <a:pt x="1542" y="65"/>
                  </a:lnTo>
                  <a:lnTo>
                    <a:pt x="1528" y="70"/>
                  </a:lnTo>
                  <a:lnTo>
                    <a:pt x="1514" y="73"/>
                  </a:lnTo>
                  <a:lnTo>
                    <a:pt x="1502" y="74"/>
                  </a:lnTo>
                  <a:lnTo>
                    <a:pt x="1476" y="76"/>
                  </a:lnTo>
                  <a:lnTo>
                    <a:pt x="1428" y="76"/>
                  </a:lnTo>
                  <a:lnTo>
                    <a:pt x="1362" y="76"/>
                  </a:lnTo>
                  <a:lnTo>
                    <a:pt x="1282" y="76"/>
                  </a:lnTo>
                  <a:lnTo>
                    <a:pt x="1188" y="77"/>
                  </a:lnTo>
                  <a:lnTo>
                    <a:pt x="1086" y="77"/>
                  </a:lnTo>
                  <a:lnTo>
                    <a:pt x="977" y="78"/>
                  </a:lnTo>
                  <a:lnTo>
                    <a:pt x="865" y="78"/>
                  </a:lnTo>
                  <a:lnTo>
                    <a:pt x="752" y="80"/>
                  </a:lnTo>
                  <a:lnTo>
                    <a:pt x="642" y="82"/>
                  </a:lnTo>
                  <a:lnTo>
                    <a:pt x="537" y="86"/>
                  </a:lnTo>
                  <a:lnTo>
                    <a:pt x="441" y="89"/>
                  </a:lnTo>
                  <a:lnTo>
                    <a:pt x="356" y="95"/>
                  </a:lnTo>
                  <a:lnTo>
                    <a:pt x="286" y="101"/>
                  </a:lnTo>
                  <a:lnTo>
                    <a:pt x="234" y="110"/>
                  </a:lnTo>
                  <a:lnTo>
                    <a:pt x="204" y="118"/>
                  </a:lnTo>
                  <a:lnTo>
                    <a:pt x="178" y="125"/>
                  </a:lnTo>
                  <a:lnTo>
                    <a:pt x="150" y="135"/>
                  </a:lnTo>
                  <a:lnTo>
                    <a:pt x="122" y="150"/>
                  </a:lnTo>
                  <a:lnTo>
                    <a:pt x="94" y="168"/>
                  </a:lnTo>
                  <a:lnTo>
                    <a:pt x="66" y="189"/>
                  </a:lnTo>
                  <a:lnTo>
                    <a:pt x="42" y="213"/>
                  </a:lnTo>
                  <a:lnTo>
                    <a:pt x="22" y="238"/>
                  </a:lnTo>
                  <a:lnTo>
                    <a:pt x="8" y="265"/>
                  </a:lnTo>
                  <a:lnTo>
                    <a:pt x="0" y="294"/>
                  </a:lnTo>
                  <a:lnTo>
                    <a:pt x="0" y="322"/>
                  </a:lnTo>
                  <a:lnTo>
                    <a:pt x="10" y="350"/>
                  </a:lnTo>
                  <a:lnTo>
                    <a:pt x="30" y="378"/>
                  </a:lnTo>
                  <a:lnTo>
                    <a:pt x="62" y="404"/>
                  </a:lnTo>
                  <a:lnTo>
                    <a:pt x="108" y="430"/>
                  </a:lnTo>
                  <a:lnTo>
                    <a:pt x="167" y="452"/>
                  </a:lnTo>
                  <a:lnTo>
                    <a:pt x="244" y="471"/>
                  </a:lnTo>
                  <a:lnTo>
                    <a:pt x="260" y="471"/>
                  </a:lnTo>
                  <a:lnTo>
                    <a:pt x="295" y="471"/>
                  </a:lnTo>
                  <a:lnTo>
                    <a:pt x="343" y="471"/>
                  </a:lnTo>
                  <a:lnTo>
                    <a:pt x="405" y="471"/>
                  </a:lnTo>
                  <a:lnTo>
                    <a:pt x="476" y="471"/>
                  </a:lnTo>
                  <a:lnTo>
                    <a:pt x="554" y="471"/>
                  </a:lnTo>
                  <a:lnTo>
                    <a:pt x="637" y="471"/>
                  </a:lnTo>
                  <a:lnTo>
                    <a:pt x="723" y="470"/>
                  </a:lnTo>
                  <a:lnTo>
                    <a:pt x="807" y="470"/>
                  </a:lnTo>
                  <a:lnTo>
                    <a:pt x="889" y="470"/>
                  </a:lnTo>
                  <a:lnTo>
                    <a:pt x="966" y="470"/>
                  </a:lnTo>
                  <a:lnTo>
                    <a:pt x="1034" y="470"/>
                  </a:lnTo>
                  <a:lnTo>
                    <a:pt x="1092" y="471"/>
                  </a:lnTo>
                  <a:lnTo>
                    <a:pt x="1136" y="471"/>
                  </a:lnTo>
                  <a:lnTo>
                    <a:pt x="1166" y="471"/>
                  </a:lnTo>
                  <a:lnTo>
                    <a:pt x="1178" y="471"/>
                  </a:lnTo>
                  <a:lnTo>
                    <a:pt x="1163" y="476"/>
                  </a:lnTo>
                  <a:lnTo>
                    <a:pt x="1143" y="482"/>
                  </a:lnTo>
                  <a:lnTo>
                    <a:pt x="1119" y="491"/>
                  </a:lnTo>
                  <a:lnTo>
                    <a:pt x="1092" y="502"/>
                  </a:lnTo>
                  <a:lnTo>
                    <a:pt x="1061" y="516"/>
                  </a:lnTo>
                  <a:lnTo>
                    <a:pt x="1031" y="532"/>
                  </a:lnTo>
                  <a:lnTo>
                    <a:pt x="1000" y="551"/>
                  </a:lnTo>
                  <a:lnTo>
                    <a:pt x="971" y="572"/>
                  </a:lnTo>
                  <a:lnTo>
                    <a:pt x="942" y="597"/>
                  </a:lnTo>
                  <a:lnTo>
                    <a:pt x="918" y="624"/>
                  </a:lnTo>
                  <a:lnTo>
                    <a:pt x="898" y="654"/>
                  </a:lnTo>
                  <a:lnTo>
                    <a:pt x="884" y="685"/>
                  </a:lnTo>
                  <a:lnTo>
                    <a:pt x="874" y="722"/>
                  </a:lnTo>
                  <a:lnTo>
                    <a:pt x="874" y="760"/>
                  </a:lnTo>
                  <a:lnTo>
                    <a:pt x="882" y="802"/>
                  </a:lnTo>
                  <a:lnTo>
                    <a:pt x="900" y="846"/>
                  </a:lnTo>
                  <a:lnTo>
                    <a:pt x="880" y="864"/>
                  </a:lnTo>
                  <a:lnTo>
                    <a:pt x="862" y="882"/>
                  </a:lnTo>
                  <a:lnTo>
                    <a:pt x="844" y="901"/>
                  </a:lnTo>
                  <a:lnTo>
                    <a:pt x="830" y="918"/>
                  </a:lnTo>
                  <a:lnTo>
                    <a:pt x="814" y="936"/>
                  </a:lnTo>
                  <a:lnTo>
                    <a:pt x="802" y="952"/>
                  </a:lnTo>
                  <a:lnTo>
                    <a:pt x="791" y="969"/>
                  </a:lnTo>
                  <a:lnTo>
                    <a:pt x="784" y="986"/>
                  </a:lnTo>
                  <a:lnTo>
                    <a:pt x="777" y="1005"/>
                  </a:lnTo>
                  <a:lnTo>
                    <a:pt x="774" y="1022"/>
                  </a:lnTo>
                  <a:lnTo>
                    <a:pt x="773" y="1041"/>
                  </a:lnTo>
                  <a:lnTo>
                    <a:pt x="776" y="1059"/>
                  </a:lnTo>
                  <a:lnTo>
                    <a:pt x="782" y="1080"/>
                  </a:lnTo>
                  <a:lnTo>
                    <a:pt x="791" y="1099"/>
                  </a:lnTo>
                  <a:lnTo>
                    <a:pt x="804" y="1121"/>
                  </a:lnTo>
                  <a:lnTo>
                    <a:pt x="821" y="1142"/>
                  </a:lnTo>
                  <a:lnTo>
                    <a:pt x="807" y="1162"/>
                  </a:lnTo>
                  <a:lnTo>
                    <a:pt x="793" y="1183"/>
                  </a:lnTo>
                  <a:lnTo>
                    <a:pt x="780" y="1206"/>
                  </a:lnTo>
                  <a:lnTo>
                    <a:pt x="770" y="1230"/>
                  </a:lnTo>
                  <a:lnTo>
                    <a:pt x="762" y="1256"/>
                  </a:lnTo>
                  <a:lnTo>
                    <a:pt x="759" y="1282"/>
                  </a:lnTo>
                  <a:lnTo>
                    <a:pt x="760" y="1309"/>
                  </a:lnTo>
                  <a:lnTo>
                    <a:pt x="770" y="1335"/>
                  </a:lnTo>
                  <a:lnTo>
                    <a:pt x="784" y="1362"/>
                  </a:lnTo>
                  <a:lnTo>
                    <a:pt x="810" y="1389"/>
                  </a:lnTo>
                  <a:lnTo>
                    <a:pt x="844" y="1414"/>
                  </a:lnTo>
                  <a:lnTo>
                    <a:pt x="890" y="1438"/>
                  </a:lnTo>
                  <a:lnTo>
                    <a:pt x="947" y="1461"/>
                  </a:lnTo>
                  <a:lnTo>
                    <a:pt x="1018" y="1480"/>
                  </a:lnTo>
                  <a:lnTo>
                    <a:pt x="1104" y="1498"/>
                  </a:lnTo>
                  <a:lnTo>
                    <a:pt x="1206" y="1514"/>
                  </a:lnTo>
                  <a:lnTo>
                    <a:pt x="1226" y="1517"/>
                  </a:lnTo>
                  <a:lnTo>
                    <a:pt x="1245" y="1521"/>
                  </a:lnTo>
                  <a:lnTo>
                    <a:pt x="1262" y="1525"/>
                  </a:lnTo>
                  <a:lnTo>
                    <a:pt x="1279" y="1527"/>
                  </a:lnTo>
                  <a:lnTo>
                    <a:pt x="1294" y="1531"/>
                  </a:lnTo>
                  <a:lnTo>
                    <a:pt x="1309" y="1533"/>
                  </a:lnTo>
                  <a:lnTo>
                    <a:pt x="1322" y="1535"/>
                  </a:lnTo>
                  <a:lnTo>
                    <a:pt x="1337" y="1535"/>
                  </a:lnTo>
                  <a:lnTo>
                    <a:pt x="1351" y="1535"/>
                  </a:lnTo>
                  <a:lnTo>
                    <a:pt x="1366" y="1535"/>
                  </a:lnTo>
                  <a:lnTo>
                    <a:pt x="1381" y="1533"/>
                  </a:lnTo>
                  <a:lnTo>
                    <a:pt x="1398" y="1528"/>
                  </a:lnTo>
                  <a:lnTo>
                    <a:pt x="1416" y="1524"/>
                  </a:lnTo>
                  <a:lnTo>
                    <a:pt x="1436" y="1517"/>
                  </a:lnTo>
                  <a:lnTo>
                    <a:pt x="1458" y="1508"/>
                  </a:lnTo>
                  <a:lnTo>
                    <a:pt x="1483" y="1498"/>
                  </a:lnTo>
                  <a:lnTo>
                    <a:pt x="1617" y="1495"/>
                  </a:lnTo>
                  <a:lnTo>
                    <a:pt x="1736" y="1487"/>
                  </a:lnTo>
                  <a:lnTo>
                    <a:pt x="1838" y="1476"/>
                  </a:lnTo>
                  <a:lnTo>
                    <a:pt x="1930" y="1460"/>
                  </a:lnTo>
                  <a:lnTo>
                    <a:pt x="2006" y="1444"/>
                  </a:lnTo>
                  <a:lnTo>
                    <a:pt x="2074" y="1425"/>
                  </a:lnTo>
                  <a:lnTo>
                    <a:pt x="2131" y="1405"/>
                  </a:lnTo>
                  <a:lnTo>
                    <a:pt x="2181" y="1383"/>
                  </a:lnTo>
                  <a:lnTo>
                    <a:pt x="2222" y="1362"/>
                  </a:lnTo>
                  <a:lnTo>
                    <a:pt x="2259" y="1340"/>
                  </a:lnTo>
                  <a:lnTo>
                    <a:pt x="2291" y="1321"/>
                  </a:lnTo>
                  <a:lnTo>
                    <a:pt x="2320" y="1301"/>
                  </a:lnTo>
                  <a:lnTo>
                    <a:pt x="2346" y="1284"/>
                  </a:lnTo>
                  <a:lnTo>
                    <a:pt x="2372" y="1270"/>
                  </a:lnTo>
                  <a:lnTo>
                    <a:pt x="2399" y="1258"/>
                  </a:lnTo>
                  <a:lnTo>
                    <a:pt x="2429" y="1248"/>
                  </a:lnTo>
                  <a:lnTo>
                    <a:pt x="2439" y="1248"/>
                  </a:lnTo>
                  <a:lnTo>
                    <a:pt x="2450" y="1246"/>
                  </a:lnTo>
                  <a:lnTo>
                    <a:pt x="2463" y="1246"/>
                  </a:lnTo>
                  <a:lnTo>
                    <a:pt x="2478" y="1245"/>
                  </a:lnTo>
                  <a:lnTo>
                    <a:pt x="2492" y="1246"/>
                  </a:lnTo>
                  <a:lnTo>
                    <a:pt x="2508" y="1246"/>
                  </a:lnTo>
                  <a:lnTo>
                    <a:pt x="2523" y="1246"/>
                  </a:lnTo>
                  <a:lnTo>
                    <a:pt x="2540" y="1246"/>
                  </a:lnTo>
                  <a:lnTo>
                    <a:pt x="2555" y="1246"/>
                  </a:lnTo>
                  <a:lnTo>
                    <a:pt x="2570" y="1246"/>
                  </a:lnTo>
                  <a:lnTo>
                    <a:pt x="2585" y="1245"/>
                  </a:lnTo>
                  <a:lnTo>
                    <a:pt x="2600" y="1243"/>
                  </a:lnTo>
                  <a:lnTo>
                    <a:pt x="2612" y="1241"/>
                  </a:lnTo>
                  <a:lnTo>
                    <a:pt x="2624" y="1238"/>
                  </a:lnTo>
                  <a:lnTo>
                    <a:pt x="2633" y="1233"/>
                  </a:lnTo>
                  <a:lnTo>
                    <a:pt x="2642" y="1226"/>
                  </a:lnTo>
                  <a:lnTo>
                    <a:pt x="2640" y="1218"/>
                  </a:lnTo>
                  <a:lnTo>
                    <a:pt x="2640" y="1189"/>
                  </a:lnTo>
                  <a:lnTo>
                    <a:pt x="2638" y="1144"/>
                  </a:lnTo>
                  <a:lnTo>
                    <a:pt x="2638" y="1084"/>
                  </a:lnTo>
                  <a:lnTo>
                    <a:pt x="2636" y="1012"/>
                  </a:lnTo>
                  <a:lnTo>
                    <a:pt x="2636" y="932"/>
                  </a:lnTo>
                  <a:lnTo>
                    <a:pt x="2635" y="846"/>
                  </a:lnTo>
                  <a:lnTo>
                    <a:pt x="2635" y="756"/>
                  </a:lnTo>
                  <a:lnTo>
                    <a:pt x="2635" y="667"/>
                  </a:lnTo>
                  <a:lnTo>
                    <a:pt x="2635" y="580"/>
                  </a:lnTo>
                  <a:lnTo>
                    <a:pt x="2635" y="499"/>
                  </a:lnTo>
                  <a:lnTo>
                    <a:pt x="2635" y="424"/>
                  </a:lnTo>
                  <a:lnTo>
                    <a:pt x="2635" y="363"/>
                  </a:lnTo>
                  <a:lnTo>
                    <a:pt x="2636" y="314"/>
                  </a:lnTo>
                  <a:lnTo>
                    <a:pt x="2637" y="282"/>
                  </a:lnTo>
                  <a:lnTo>
                    <a:pt x="2639" y="268"/>
                  </a:lnTo>
                  <a:lnTo>
                    <a:pt x="2639" y="268"/>
                  </a:lnTo>
                </a:path>
              </a:pathLst>
            </a:custGeom>
            <a:solidFill>
              <a:srgbClr val="ff814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33520" y="4162320"/>
              <a:ext cx="1100160" cy="1063440"/>
            </a:xfrm>
            <a:custGeom>
              <a:avLst/>
              <a:gdLst/>
              <a:ahLst/>
              <a:rect l="l" t="t" r="r" b="b"/>
              <a:pathLst>
                <a:path w="693" h="670">
                  <a:moveTo>
                    <a:pt x="366" y="0"/>
                  </a:moveTo>
                  <a:lnTo>
                    <a:pt x="362" y="4"/>
                  </a:lnTo>
                  <a:lnTo>
                    <a:pt x="351" y="18"/>
                  </a:lnTo>
                  <a:lnTo>
                    <a:pt x="332" y="38"/>
                  </a:lnTo>
                  <a:lnTo>
                    <a:pt x="310" y="65"/>
                  </a:lnTo>
                  <a:lnTo>
                    <a:pt x="282" y="98"/>
                  </a:lnTo>
                  <a:lnTo>
                    <a:pt x="252" y="134"/>
                  </a:lnTo>
                  <a:lnTo>
                    <a:pt x="219" y="173"/>
                  </a:lnTo>
                  <a:lnTo>
                    <a:pt x="186" y="214"/>
                  </a:lnTo>
                  <a:lnTo>
                    <a:pt x="151" y="257"/>
                  </a:lnTo>
                  <a:lnTo>
                    <a:pt x="118" y="299"/>
                  </a:lnTo>
                  <a:lnTo>
                    <a:pt x="87" y="341"/>
                  </a:lnTo>
                  <a:lnTo>
                    <a:pt x="60" y="380"/>
                  </a:lnTo>
                  <a:lnTo>
                    <a:pt x="36" y="416"/>
                  </a:lnTo>
                  <a:lnTo>
                    <a:pt x="18" y="447"/>
                  </a:lnTo>
                  <a:lnTo>
                    <a:pt x="6" y="474"/>
                  </a:lnTo>
                  <a:lnTo>
                    <a:pt x="1" y="492"/>
                  </a:lnTo>
                  <a:lnTo>
                    <a:pt x="0" y="502"/>
                  </a:lnTo>
                  <a:lnTo>
                    <a:pt x="1" y="516"/>
                  </a:lnTo>
                  <a:lnTo>
                    <a:pt x="3" y="531"/>
                  </a:lnTo>
                  <a:lnTo>
                    <a:pt x="9" y="549"/>
                  </a:lnTo>
                  <a:lnTo>
                    <a:pt x="15" y="569"/>
                  </a:lnTo>
                  <a:lnTo>
                    <a:pt x="26" y="588"/>
                  </a:lnTo>
                  <a:lnTo>
                    <a:pt x="38" y="607"/>
                  </a:lnTo>
                  <a:lnTo>
                    <a:pt x="55" y="625"/>
                  </a:lnTo>
                  <a:lnTo>
                    <a:pt x="74" y="642"/>
                  </a:lnTo>
                  <a:lnTo>
                    <a:pt x="97" y="655"/>
                  </a:lnTo>
                  <a:lnTo>
                    <a:pt x="126" y="664"/>
                  </a:lnTo>
                  <a:lnTo>
                    <a:pt x="158" y="668"/>
                  </a:lnTo>
                  <a:lnTo>
                    <a:pt x="195" y="669"/>
                  </a:lnTo>
                  <a:lnTo>
                    <a:pt x="237" y="662"/>
                  </a:lnTo>
                  <a:lnTo>
                    <a:pt x="284" y="648"/>
                  </a:lnTo>
                  <a:lnTo>
                    <a:pt x="338" y="627"/>
                  </a:lnTo>
                  <a:lnTo>
                    <a:pt x="356" y="619"/>
                  </a:lnTo>
                  <a:lnTo>
                    <a:pt x="379" y="608"/>
                  </a:lnTo>
                  <a:lnTo>
                    <a:pt x="403" y="594"/>
                  </a:lnTo>
                  <a:lnTo>
                    <a:pt x="430" y="577"/>
                  </a:lnTo>
                  <a:lnTo>
                    <a:pt x="459" y="559"/>
                  </a:lnTo>
                  <a:lnTo>
                    <a:pt x="489" y="538"/>
                  </a:lnTo>
                  <a:lnTo>
                    <a:pt x="518" y="518"/>
                  </a:lnTo>
                  <a:lnTo>
                    <a:pt x="548" y="495"/>
                  </a:lnTo>
                  <a:lnTo>
                    <a:pt x="575" y="475"/>
                  </a:lnTo>
                  <a:lnTo>
                    <a:pt x="602" y="455"/>
                  </a:lnTo>
                  <a:lnTo>
                    <a:pt x="626" y="437"/>
                  </a:lnTo>
                  <a:lnTo>
                    <a:pt x="648" y="420"/>
                  </a:lnTo>
                  <a:lnTo>
                    <a:pt x="665" y="407"/>
                  </a:lnTo>
                  <a:lnTo>
                    <a:pt x="680" y="396"/>
                  </a:lnTo>
                  <a:lnTo>
                    <a:pt x="688" y="390"/>
                  </a:lnTo>
                  <a:lnTo>
                    <a:pt x="692" y="3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44880" y="5073480"/>
              <a:ext cx="1209600" cy="363600"/>
            </a:xfrm>
            <a:custGeom>
              <a:avLst/>
              <a:gdLst/>
              <a:ahLst/>
              <a:rect l="l" t="t" r="r" b="b"/>
              <a:pathLst>
                <a:path w="762" h="229">
                  <a:moveTo>
                    <a:pt x="761" y="159"/>
                  </a:moveTo>
                  <a:lnTo>
                    <a:pt x="756" y="161"/>
                  </a:lnTo>
                  <a:lnTo>
                    <a:pt x="740" y="167"/>
                  </a:lnTo>
                  <a:lnTo>
                    <a:pt x="716" y="176"/>
                  </a:lnTo>
                  <a:lnTo>
                    <a:pt x="684" y="186"/>
                  </a:lnTo>
                  <a:lnTo>
                    <a:pt x="645" y="197"/>
                  </a:lnTo>
                  <a:lnTo>
                    <a:pt x="600" y="207"/>
                  </a:lnTo>
                  <a:lnTo>
                    <a:pt x="551" y="217"/>
                  </a:lnTo>
                  <a:lnTo>
                    <a:pt x="499" y="223"/>
                  </a:lnTo>
                  <a:lnTo>
                    <a:pt x="442" y="228"/>
                  </a:lnTo>
                  <a:lnTo>
                    <a:pt x="385" y="228"/>
                  </a:lnTo>
                  <a:lnTo>
                    <a:pt x="327" y="224"/>
                  </a:lnTo>
                  <a:lnTo>
                    <a:pt x="270" y="214"/>
                  </a:lnTo>
                  <a:lnTo>
                    <a:pt x="213" y="198"/>
                  </a:lnTo>
                  <a:lnTo>
                    <a:pt x="159" y="172"/>
                  </a:lnTo>
                  <a:lnTo>
                    <a:pt x="109" y="140"/>
                  </a:lnTo>
                  <a:lnTo>
                    <a:pt x="65" y="96"/>
                  </a:lnTo>
                  <a:lnTo>
                    <a:pt x="58" y="92"/>
                  </a:lnTo>
                  <a:lnTo>
                    <a:pt x="52" y="85"/>
                  </a:lnTo>
                  <a:lnTo>
                    <a:pt x="46" y="78"/>
                  </a:lnTo>
                  <a:lnTo>
                    <a:pt x="41" y="70"/>
                  </a:lnTo>
                  <a:lnTo>
                    <a:pt x="35" y="63"/>
                  </a:lnTo>
                  <a:lnTo>
                    <a:pt x="29" y="54"/>
                  </a:lnTo>
                  <a:lnTo>
                    <a:pt x="24" y="47"/>
                  </a:lnTo>
                  <a:lnTo>
                    <a:pt x="20" y="38"/>
                  </a:lnTo>
                  <a:lnTo>
                    <a:pt x="14" y="32"/>
                  </a:lnTo>
                  <a:lnTo>
                    <a:pt x="11" y="24"/>
                  </a:lnTo>
                  <a:lnTo>
                    <a:pt x="7" y="18"/>
                  </a:lnTo>
                  <a:lnTo>
                    <a:pt x="4" y="12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41480" y="6094080"/>
              <a:ext cx="71640" cy="319320"/>
            </a:xfrm>
            <a:custGeom>
              <a:avLst/>
              <a:gdLst/>
              <a:ahLst/>
              <a:rect l="l" t="t" r="r" b="b"/>
              <a:pathLst>
                <a:path w="45" h="201">
                  <a:moveTo>
                    <a:pt x="21" y="200"/>
                  </a:moveTo>
                  <a:lnTo>
                    <a:pt x="31" y="187"/>
                  </a:lnTo>
                  <a:lnTo>
                    <a:pt x="38" y="172"/>
                  </a:lnTo>
                  <a:lnTo>
                    <a:pt x="42" y="157"/>
                  </a:lnTo>
                  <a:lnTo>
                    <a:pt x="44" y="140"/>
                  </a:lnTo>
                  <a:lnTo>
                    <a:pt x="44" y="124"/>
                  </a:lnTo>
                  <a:lnTo>
                    <a:pt x="42" y="107"/>
                  </a:lnTo>
                  <a:lnTo>
                    <a:pt x="38" y="91"/>
                  </a:lnTo>
                  <a:lnTo>
                    <a:pt x="34" y="74"/>
                  </a:lnTo>
                  <a:lnTo>
                    <a:pt x="28" y="61"/>
                  </a:lnTo>
                  <a:lnTo>
                    <a:pt x="23" y="46"/>
                  </a:lnTo>
                  <a:lnTo>
                    <a:pt x="17" y="34"/>
                  </a:lnTo>
                  <a:lnTo>
                    <a:pt x="11" y="23"/>
                  </a:lnTo>
                  <a:lnTo>
                    <a:pt x="6" y="14"/>
                  </a:lnTo>
                  <a:lnTo>
                    <a:pt x="3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54360" y="5673600"/>
              <a:ext cx="1388880" cy="415800"/>
            </a:xfrm>
            <a:custGeom>
              <a:avLst/>
              <a:gdLst/>
              <a:ahLst/>
              <a:rect l="l" t="t" r="r" b="b"/>
              <a:pathLst>
                <a:path w="875" h="262">
                  <a:moveTo>
                    <a:pt x="0" y="122"/>
                  </a:moveTo>
                  <a:lnTo>
                    <a:pt x="4" y="125"/>
                  </a:lnTo>
                  <a:lnTo>
                    <a:pt x="18" y="130"/>
                  </a:lnTo>
                  <a:lnTo>
                    <a:pt x="38" y="140"/>
                  </a:lnTo>
                  <a:lnTo>
                    <a:pt x="68" y="151"/>
                  </a:lnTo>
                  <a:lnTo>
                    <a:pt x="103" y="165"/>
                  </a:lnTo>
                  <a:lnTo>
                    <a:pt x="145" y="180"/>
                  </a:lnTo>
                  <a:lnTo>
                    <a:pt x="192" y="194"/>
                  </a:lnTo>
                  <a:lnTo>
                    <a:pt x="245" y="209"/>
                  </a:lnTo>
                  <a:lnTo>
                    <a:pt x="300" y="224"/>
                  </a:lnTo>
                  <a:lnTo>
                    <a:pt x="360" y="236"/>
                  </a:lnTo>
                  <a:lnTo>
                    <a:pt x="421" y="248"/>
                  </a:lnTo>
                  <a:lnTo>
                    <a:pt x="486" y="255"/>
                  </a:lnTo>
                  <a:lnTo>
                    <a:pt x="550" y="261"/>
                  </a:lnTo>
                  <a:lnTo>
                    <a:pt x="617" y="261"/>
                  </a:lnTo>
                  <a:lnTo>
                    <a:pt x="683" y="257"/>
                  </a:lnTo>
                  <a:lnTo>
                    <a:pt x="750" y="246"/>
                  </a:lnTo>
                  <a:lnTo>
                    <a:pt x="783" y="236"/>
                  </a:lnTo>
                  <a:lnTo>
                    <a:pt x="811" y="221"/>
                  </a:lnTo>
                  <a:lnTo>
                    <a:pt x="833" y="205"/>
                  </a:lnTo>
                  <a:lnTo>
                    <a:pt x="850" y="186"/>
                  </a:lnTo>
                  <a:lnTo>
                    <a:pt x="861" y="166"/>
                  </a:lnTo>
                  <a:lnTo>
                    <a:pt x="869" y="146"/>
                  </a:lnTo>
                  <a:lnTo>
                    <a:pt x="872" y="125"/>
                  </a:lnTo>
                  <a:lnTo>
                    <a:pt x="874" y="104"/>
                  </a:lnTo>
                  <a:lnTo>
                    <a:pt x="871" y="84"/>
                  </a:lnTo>
                  <a:lnTo>
                    <a:pt x="868" y="65"/>
                  </a:lnTo>
                  <a:lnTo>
                    <a:pt x="863" y="47"/>
                  </a:lnTo>
                  <a:lnTo>
                    <a:pt x="859" y="32"/>
                  </a:lnTo>
                  <a:lnTo>
                    <a:pt x="854" y="19"/>
                  </a:lnTo>
                  <a:lnTo>
                    <a:pt x="850" y="8"/>
                  </a:lnTo>
                  <a:lnTo>
                    <a:pt x="847" y="3"/>
                  </a:lnTo>
                  <a:lnTo>
                    <a:pt x="8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365440"/>
              <a:ext cx="1382760" cy="319320"/>
            </a:xfrm>
            <a:custGeom>
              <a:avLst/>
              <a:gdLst/>
              <a:ahLst/>
              <a:rect l="l" t="t" r="r" b="b"/>
              <a:pathLst>
                <a:path w="871" h="201">
                  <a:moveTo>
                    <a:pt x="855" y="4"/>
                  </a:moveTo>
                  <a:lnTo>
                    <a:pt x="856" y="7"/>
                  </a:lnTo>
                  <a:lnTo>
                    <a:pt x="859" y="14"/>
                  </a:lnTo>
                  <a:lnTo>
                    <a:pt x="862" y="25"/>
                  </a:lnTo>
                  <a:lnTo>
                    <a:pt x="866" y="40"/>
                  </a:lnTo>
                  <a:lnTo>
                    <a:pt x="868" y="57"/>
                  </a:lnTo>
                  <a:lnTo>
                    <a:pt x="870" y="76"/>
                  </a:lnTo>
                  <a:lnTo>
                    <a:pt x="869" y="96"/>
                  </a:lnTo>
                  <a:lnTo>
                    <a:pt x="867" y="115"/>
                  </a:lnTo>
                  <a:lnTo>
                    <a:pt x="859" y="136"/>
                  </a:lnTo>
                  <a:lnTo>
                    <a:pt x="848" y="154"/>
                  </a:lnTo>
                  <a:lnTo>
                    <a:pt x="832" y="170"/>
                  </a:lnTo>
                  <a:lnTo>
                    <a:pt x="810" y="183"/>
                  </a:lnTo>
                  <a:lnTo>
                    <a:pt x="781" y="194"/>
                  </a:lnTo>
                  <a:lnTo>
                    <a:pt x="745" y="199"/>
                  </a:lnTo>
                  <a:lnTo>
                    <a:pt x="701" y="200"/>
                  </a:lnTo>
                  <a:lnTo>
                    <a:pt x="649" y="194"/>
                  </a:lnTo>
                  <a:lnTo>
                    <a:pt x="625" y="192"/>
                  </a:lnTo>
                  <a:lnTo>
                    <a:pt x="592" y="186"/>
                  </a:lnTo>
                  <a:lnTo>
                    <a:pt x="551" y="176"/>
                  </a:lnTo>
                  <a:lnTo>
                    <a:pt x="506" y="163"/>
                  </a:lnTo>
                  <a:lnTo>
                    <a:pt x="453" y="150"/>
                  </a:lnTo>
                  <a:lnTo>
                    <a:pt x="400" y="133"/>
                  </a:lnTo>
                  <a:lnTo>
                    <a:pt x="344" y="115"/>
                  </a:lnTo>
                  <a:lnTo>
                    <a:pt x="287" y="96"/>
                  </a:lnTo>
                  <a:lnTo>
                    <a:pt x="231" y="80"/>
                  </a:lnTo>
                  <a:lnTo>
                    <a:pt x="179" y="62"/>
                  </a:lnTo>
                  <a:lnTo>
                    <a:pt x="130" y="46"/>
                  </a:lnTo>
                  <a:lnTo>
                    <a:pt x="87" y="31"/>
                  </a:lnTo>
                  <a:lnTo>
                    <a:pt x="51" y="19"/>
                  </a:lnTo>
                  <a:lnTo>
                    <a:pt x="23" y="9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0520" y="4295520"/>
              <a:ext cx="555840" cy="2162160"/>
            </a:xfrm>
            <a:custGeom>
              <a:avLst/>
              <a:gdLst/>
              <a:ahLst/>
              <a:rect l="l" t="t" r="r" b="b"/>
              <a:pathLst>
                <a:path w="350" h="1362">
                  <a:moveTo>
                    <a:pt x="349" y="0"/>
                  </a:moveTo>
                  <a:lnTo>
                    <a:pt x="0" y="0"/>
                  </a:lnTo>
                  <a:lnTo>
                    <a:pt x="0" y="1361"/>
                  </a:lnTo>
                  <a:lnTo>
                    <a:pt x="303" y="1358"/>
                  </a:lnTo>
                  <a:lnTo>
                    <a:pt x="349" y="0"/>
                  </a:lnTo>
                  <a:lnTo>
                    <a:pt x="349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46480" y="4225680"/>
              <a:ext cx="882720" cy="2379600"/>
            </a:xfrm>
            <a:custGeom>
              <a:avLst/>
              <a:gdLst/>
              <a:ahLst/>
              <a:rect l="l" t="t" r="r" b="b"/>
              <a:pathLst>
                <a:path w="556" h="1499">
                  <a:moveTo>
                    <a:pt x="555" y="3"/>
                  </a:moveTo>
                  <a:lnTo>
                    <a:pt x="81" y="0"/>
                  </a:lnTo>
                  <a:lnTo>
                    <a:pt x="78" y="1402"/>
                  </a:lnTo>
                  <a:lnTo>
                    <a:pt x="0" y="1405"/>
                  </a:lnTo>
                  <a:lnTo>
                    <a:pt x="72" y="1498"/>
                  </a:lnTo>
                  <a:lnTo>
                    <a:pt x="555" y="1467"/>
                  </a:lnTo>
                  <a:lnTo>
                    <a:pt x="555" y="3"/>
                  </a:lnTo>
                  <a:lnTo>
                    <a:pt x="555" y="3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5030640" y="416160"/>
            <a:ext cx="4186440" cy="5219640"/>
          </a:xfrm>
          <a:prstGeom prst="cloudCallout">
            <a:avLst>
              <a:gd name="adj1" fmla="val 62388"/>
              <a:gd name="adj2" fmla="val 51736"/>
            </a:avLst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0033"/>
                </a:solidFill>
                <a:latin typeface="Brush738 BT"/>
              </a:rPr>
              <a:t>Ahora volvamos atrás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0880" y="1752480"/>
            <a:ext cx="922680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11640" y="2325600"/>
            <a:ext cx="218916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4114800"/>
            <a:ext cx="2286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eferencia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927520" y="5315040"/>
            <a:ext cx="4539960" cy="552240"/>
            <a:chOff x="2927520" y="5315040"/>
            <a:chExt cx="4539960" cy="552240"/>
          </a:xfrm>
        </p:grpSpPr>
        <p:sp>
          <p:nvSpPr>
            <p:cNvPr id="640" name=""/>
            <p:cNvSpPr/>
            <p:nvPr/>
          </p:nvSpPr>
          <p:spPr>
            <a:xfrm>
              <a:off x="407844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275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958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660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92752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7844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9588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648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sación y estática Comparad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4444920"/>
            <a:ext cx="2411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512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ecciones de la empre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739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cuación de Slutsk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051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mal y D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512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mal y D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67080" y="586728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ecciones de la empre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5410080"/>
            <a:ext cx="248580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El óptimo del consumid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4648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blema Prim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80880" y="2209680"/>
            <a:ext cx="5030640" cy="5137200"/>
            <a:chOff x="380880" y="2209680"/>
            <a:chExt cx="5030640" cy="5137200"/>
          </a:xfrm>
        </p:grpSpPr>
        <p:sp>
          <p:nvSpPr>
            <p:cNvPr id="670" name=""/>
            <p:cNvSpPr/>
            <p:nvPr/>
          </p:nvSpPr>
          <p:spPr>
            <a:xfrm>
              <a:off x="388800" y="4657680"/>
              <a:ext cx="3717720" cy="2520720"/>
            </a:xfrm>
            <a:custGeom>
              <a:avLst/>
              <a:gdLst/>
              <a:ahLst/>
              <a:rect l="l" t="t" r="r" b="b"/>
              <a:pathLst>
                <a:path w="2342" h="1588">
                  <a:moveTo>
                    <a:pt x="2341" y="1587"/>
                  </a:moveTo>
                  <a:lnTo>
                    <a:pt x="2341" y="1587"/>
                  </a:lnTo>
                  <a:lnTo>
                    <a:pt x="0" y="1587"/>
                  </a:lnTo>
                  <a:lnTo>
                    <a:pt x="0" y="0"/>
                  </a:lnTo>
                  <a:lnTo>
                    <a:pt x="2341" y="1587"/>
                  </a:lnTo>
                  <a:lnTo>
                    <a:pt x="2341" y="1587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ffffc2"/>
                </a:gs>
              </a:gsLst>
              <a:lin ang="8100000"/>
            </a:gradFill>
            <a:ln w="31680">
              <a:solidFill>
                <a:srgbClr val="00c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0600" y="2209680"/>
              <a:ext cx="6368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880" y="2701800"/>
              <a:ext cx="4356000" cy="4471920"/>
            </a:xfrm>
            <a:custGeom>
              <a:avLst/>
              <a:gdLst/>
              <a:ahLst/>
              <a:rect l="l" t="t" r="r" b="b"/>
              <a:pathLst>
                <a:path w="2744" h="2817">
                  <a:moveTo>
                    <a:pt x="0" y="0"/>
                  </a:moveTo>
                  <a:lnTo>
                    <a:pt x="0" y="2816"/>
                  </a:lnTo>
                  <a:lnTo>
                    <a:pt x="2743" y="281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75040" y="6987960"/>
              <a:ext cx="636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01520" y="2930400"/>
              <a:ext cx="2905200" cy="3301920"/>
            </a:xfrm>
            <a:custGeom>
              <a:avLst/>
              <a:gdLst/>
              <a:ahLst/>
              <a:rect l="l" t="t" r="r" b="b"/>
              <a:pathLst>
                <a:path w="1830" h="2080">
                  <a:moveTo>
                    <a:pt x="0" y="0"/>
                  </a:moveTo>
                  <a:lnTo>
                    <a:pt x="1" y="19"/>
                  </a:lnTo>
                  <a:lnTo>
                    <a:pt x="2" y="32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7" y="69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81"/>
                  </a:lnTo>
                  <a:lnTo>
                    <a:pt x="8" y="86"/>
                  </a:lnTo>
                  <a:lnTo>
                    <a:pt x="9" y="92"/>
                  </a:lnTo>
                  <a:lnTo>
                    <a:pt x="11" y="100"/>
                  </a:lnTo>
                  <a:lnTo>
                    <a:pt x="11" y="111"/>
                  </a:lnTo>
                  <a:lnTo>
                    <a:pt x="13" y="125"/>
                  </a:lnTo>
                  <a:lnTo>
                    <a:pt x="15" y="141"/>
                  </a:lnTo>
                  <a:lnTo>
                    <a:pt x="19" y="159"/>
                  </a:lnTo>
                  <a:lnTo>
                    <a:pt x="22" y="180"/>
                  </a:lnTo>
                  <a:lnTo>
                    <a:pt x="25" y="202"/>
                  </a:lnTo>
                  <a:lnTo>
                    <a:pt x="29" y="225"/>
                  </a:lnTo>
                  <a:lnTo>
                    <a:pt x="35" y="250"/>
                  </a:lnTo>
                  <a:lnTo>
                    <a:pt x="39" y="276"/>
                  </a:lnTo>
                  <a:lnTo>
                    <a:pt x="45" y="302"/>
                  </a:lnTo>
                  <a:lnTo>
                    <a:pt x="50" y="330"/>
                  </a:lnTo>
                  <a:lnTo>
                    <a:pt x="56" y="356"/>
                  </a:lnTo>
                  <a:lnTo>
                    <a:pt x="62" y="384"/>
                  </a:lnTo>
                  <a:lnTo>
                    <a:pt x="67" y="410"/>
                  </a:lnTo>
                  <a:lnTo>
                    <a:pt x="73" y="436"/>
                  </a:lnTo>
                  <a:lnTo>
                    <a:pt x="79" y="460"/>
                  </a:lnTo>
                  <a:lnTo>
                    <a:pt x="84" y="486"/>
                  </a:lnTo>
                  <a:lnTo>
                    <a:pt x="90" y="512"/>
                  </a:lnTo>
                  <a:lnTo>
                    <a:pt x="96" y="540"/>
                  </a:lnTo>
                  <a:lnTo>
                    <a:pt x="103" y="568"/>
                  </a:lnTo>
                  <a:lnTo>
                    <a:pt x="110" y="597"/>
                  </a:lnTo>
                  <a:lnTo>
                    <a:pt x="118" y="625"/>
                  </a:lnTo>
                  <a:lnTo>
                    <a:pt x="125" y="653"/>
                  </a:lnTo>
                  <a:lnTo>
                    <a:pt x="133" y="681"/>
                  </a:lnTo>
                  <a:lnTo>
                    <a:pt x="140" y="709"/>
                  </a:lnTo>
                  <a:lnTo>
                    <a:pt x="148" y="734"/>
                  </a:lnTo>
                  <a:lnTo>
                    <a:pt x="155" y="759"/>
                  </a:lnTo>
                  <a:lnTo>
                    <a:pt x="163" y="782"/>
                  </a:lnTo>
                  <a:lnTo>
                    <a:pt x="168" y="804"/>
                  </a:lnTo>
                  <a:lnTo>
                    <a:pt x="176" y="823"/>
                  </a:lnTo>
                  <a:lnTo>
                    <a:pt x="181" y="839"/>
                  </a:lnTo>
                  <a:lnTo>
                    <a:pt x="188" y="852"/>
                  </a:lnTo>
                  <a:lnTo>
                    <a:pt x="193" y="866"/>
                  </a:lnTo>
                  <a:lnTo>
                    <a:pt x="198" y="881"/>
                  </a:lnTo>
                  <a:lnTo>
                    <a:pt x="205" y="898"/>
                  </a:lnTo>
                  <a:lnTo>
                    <a:pt x="213" y="915"/>
                  </a:lnTo>
                  <a:lnTo>
                    <a:pt x="220" y="935"/>
                  </a:lnTo>
                  <a:lnTo>
                    <a:pt x="229" y="955"/>
                  </a:lnTo>
                  <a:lnTo>
                    <a:pt x="237" y="975"/>
                  </a:lnTo>
                  <a:lnTo>
                    <a:pt x="247" y="996"/>
                  </a:lnTo>
                  <a:lnTo>
                    <a:pt x="255" y="1018"/>
                  </a:lnTo>
                  <a:lnTo>
                    <a:pt x="264" y="1040"/>
                  </a:lnTo>
                  <a:lnTo>
                    <a:pt x="273" y="1061"/>
                  </a:lnTo>
                  <a:lnTo>
                    <a:pt x="282" y="1081"/>
                  </a:lnTo>
                  <a:lnTo>
                    <a:pt x="289" y="1102"/>
                  </a:lnTo>
                  <a:lnTo>
                    <a:pt x="299" y="1121"/>
                  </a:lnTo>
                  <a:lnTo>
                    <a:pt x="306" y="1139"/>
                  </a:lnTo>
                  <a:lnTo>
                    <a:pt x="314" y="1155"/>
                  </a:lnTo>
                  <a:lnTo>
                    <a:pt x="321" y="1173"/>
                  </a:lnTo>
                  <a:lnTo>
                    <a:pt x="328" y="1190"/>
                  </a:lnTo>
                  <a:lnTo>
                    <a:pt x="335" y="1209"/>
                  </a:lnTo>
                  <a:lnTo>
                    <a:pt x="344" y="1228"/>
                  </a:lnTo>
                  <a:lnTo>
                    <a:pt x="352" y="1248"/>
                  </a:lnTo>
                  <a:lnTo>
                    <a:pt x="361" y="1268"/>
                  </a:lnTo>
                  <a:lnTo>
                    <a:pt x="371" y="1289"/>
                  </a:lnTo>
                  <a:lnTo>
                    <a:pt x="380" y="1308"/>
                  </a:lnTo>
                  <a:lnTo>
                    <a:pt x="387" y="1328"/>
                  </a:lnTo>
                  <a:lnTo>
                    <a:pt x="397" y="1347"/>
                  </a:lnTo>
                  <a:lnTo>
                    <a:pt x="404" y="1366"/>
                  </a:lnTo>
                  <a:lnTo>
                    <a:pt x="413" y="1383"/>
                  </a:lnTo>
                  <a:lnTo>
                    <a:pt x="420" y="1399"/>
                  </a:lnTo>
                  <a:lnTo>
                    <a:pt x="427" y="1413"/>
                  </a:lnTo>
                  <a:lnTo>
                    <a:pt x="433" y="1426"/>
                  </a:lnTo>
                  <a:lnTo>
                    <a:pt x="440" y="1436"/>
                  </a:lnTo>
                  <a:lnTo>
                    <a:pt x="445" y="1448"/>
                  </a:lnTo>
                  <a:lnTo>
                    <a:pt x="450" y="1460"/>
                  </a:lnTo>
                  <a:lnTo>
                    <a:pt x="457" y="1474"/>
                  </a:lnTo>
                  <a:lnTo>
                    <a:pt x="465" y="1487"/>
                  </a:lnTo>
                  <a:lnTo>
                    <a:pt x="473" y="1502"/>
                  </a:lnTo>
                  <a:lnTo>
                    <a:pt x="483" y="1517"/>
                  </a:lnTo>
                  <a:lnTo>
                    <a:pt x="492" y="1532"/>
                  </a:lnTo>
                  <a:lnTo>
                    <a:pt x="503" y="1547"/>
                  </a:lnTo>
                  <a:lnTo>
                    <a:pt x="512" y="1563"/>
                  </a:lnTo>
                  <a:lnTo>
                    <a:pt x="522" y="1578"/>
                  </a:lnTo>
                  <a:lnTo>
                    <a:pt x="531" y="1593"/>
                  </a:lnTo>
                  <a:lnTo>
                    <a:pt x="543" y="1607"/>
                  </a:lnTo>
                  <a:lnTo>
                    <a:pt x="552" y="1622"/>
                  </a:lnTo>
                  <a:lnTo>
                    <a:pt x="562" y="1634"/>
                  </a:lnTo>
                  <a:lnTo>
                    <a:pt x="571" y="1646"/>
                  </a:lnTo>
                  <a:lnTo>
                    <a:pt x="581" y="1657"/>
                  </a:lnTo>
                  <a:lnTo>
                    <a:pt x="589" y="1668"/>
                  </a:lnTo>
                  <a:lnTo>
                    <a:pt x="598" y="1679"/>
                  </a:lnTo>
                  <a:lnTo>
                    <a:pt x="609" y="1692"/>
                  </a:lnTo>
                  <a:lnTo>
                    <a:pt x="620" y="1703"/>
                  </a:lnTo>
                  <a:lnTo>
                    <a:pt x="631" y="1716"/>
                  </a:lnTo>
                  <a:lnTo>
                    <a:pt x="643" y="1728"/>
                  </a:lnTo>
                  <a:lnTo>
                    <a:pt x="656" y="1742"/>
                  </a:lnTo>
                  <a:lnTo>
                    <a:pt x="669" y="1753"/>
                  </a:lnTo>
                  <a:lnTo>
                    <a:pt x="680" y="1766"/>
                  </a:lnTo>
                  <a:lnTo>
                    <a:pt x="693" y="1778"/>
                  </a:lnTo>
                  <a:lnTo>
                    <a:pt x="704" y="1790"/>
                  </a:lnTo>
                  <a:lnTo>
                    <a:pt x="717" y="1801"/>
                  </a:lnTo>
                  <a:lnTo>
                    <a:pt x="727" y="1812"/>
                  </a:lnTo>
                  <a:lnTo>
                    <a:pt x="739" y="1820"/>
                  </a:lnTo>
                  <a:lnTo>
                    <a:pt x="748" y="1828"/>
                  </a:lnTo>
                  <a:lnTo>
                    <a:pt x="758" y="1835"/>
                  </a:lnTo>
                  <a:lnTo>
                    <a:pt x="765" y="1843"/>
                  </a:lnTo>
                  <a:lnTo>
                    <a:pt x="774" y="1849"/>
                  </a:lnTo>
                  <a:lnTo>
                    <a:pt x="783" y="1856"/>
                  </a:lnTo>
                  <a:lnTo>
                    <a:pt x="792" y="1862"/>
                  </a:lnTo>
                  <a:lnTo>
                    <a:pt x="801" y="1870"/>
                  </a:lnTo>
                  <a:lnTo>
                    <a:pt x="811" y="1875"/>
                  </a:lnTo>
                  <a:lnTo>
                    <a:pt x="819" y="1882"/>
                  </a:lnTo>
                  <a:lnTo>
                    <a:pt x="829" y="1888"/>
                  </a:lnTo>
                  <a:lnTo>
                    <a:pt x="836" y="1894"/>
                  </a:lnTo>
                  <a:lnTo>
                    <a:pt x="844" y="1900"/>
                  </a:lnTo>
                  <a:lnTo>
                    <a:pt x="850" y="1906"/>
                  </a:lnTo>
                  <a:lnTo>
                    <a:pt x="858" y="1910"/>
                  </a:lnTo>
                  <a:lnTo>
                    <a:pt x="863" y="1915"/>
                  </a:lnTo>
                  <a:lnTo>
                    <a:pt x="869" y="1919"/>
                  </a:lnTo>
                  <a:lnTo>
                    <a:pt x="873" y="1922"/>
                  </a:lnTo>
                  <a:lnTo>
                    <a:pt x="878" y="1924"/>
                  </a:lnTo>
                  <a:lnTo>
                    <a:pt x="880" y="1927"/>
                  </a:lnTo>
                  <a:lnTo>
                    <a:pt x="884" y="1929"/>
                  </a:lnTo>
                  <a:lnTo>
                    <a:pt x="889" y="1931"/>
                  </a:lnTo>
                  <a:lnTo>
                    <a:pt x="895" y="1933"/>
                  </a:lnTo>
                  <a:lnTo>
                    <a:pt x="900" y="1937"/>
                  </a:lnTo>
                  <a:lnTo>
                    <a:pt x="907" y="1939"/>
                  </a:lnTo>
                  <a:lnTo>
                    <a:pt x="913" y="1943"/>
                  </a:lnTo>
                  <a:lnTo>
                    <a:pt x="920" y="1945"/>
                  </a:lnTo>
                  <a:lnTo>
                    <a:pt x="927" y="1949"/>
                  </a:lnTo>
                  <a:lnTo>
                    <a:pt x="934" y="1952"/>
                  </a:lnTo>
                  <a:lnTo>
                    <a:pt x="941" y="1956"/>
                  </a:lnTo>
                  <a:lnTo>
                    <a:pt x="949" y="1958"/>
                  </a:lnTo>
                  <a:lnTo>
                    <a:pt x="955" y="1962"/>
                  </a:lnTo>
                  <a:lnTo>
                    <a:pt x="963" y="1964"/>
                  </a:lnTo>
                  <a:lnTo>
                    <a:pt x="969" y="1968"/>
                  </a:lnTo>
                  <a:lnTo>
                    <a:pt x="977" y="1969"/>
                  </a:lnTo>
                  <a:lnTo>
                    <a:pt x="983" y="1973"/>
                  </a:lnTo>
                  <a:lnTo>
                    <a:pt x="991" y="1976"/>
                  </a:lnTo>
                  <a:lnTo>
                    <a:pt x="1000" y="1980"/>
                  </a:lnTo>
                  <a:lnTo>
                    <a:pt x="1011" y="1982"/>
                  </a:lnTo>
                  <a:lnTo>
                    <a:pt x="1021" y="1986"/>
                  </a:lnTo>
                  <a:lnTo>
                    <a:pt x="1032" y="1989"/>
                  </a:lnTo>
                  <a:lnTo>
                    <a:pt x="1043" y="1993"/>
                  </a:lnTo>
                  <a:lnTo>
                    <a:pt x="1056" y="1996"/>
                  </a:lnTo>
                  <a:lnTo>
                    <a:pt x="1067" y="2000"/>
                  </a:lnTo>
                  <a:lnTo>
                    <a:pt x="1081" y="2004"/>
                  </a:lnTo>
                  <a:lnTo>
                    <a:pt x="1093" y="2007"/>
                  </a:lnTo>
                  <a:lnTo>
                    <a:pt x="1105" y="2011"/>
                  </a:lnTo>
                  <a:lnTo>
                    <a:pt x="1117" y="2015"/>
                  </a:lnTo>
                  <a:lnTo>
                    <a:pt x="1129" y="2018"/>
                  </a:lnTo>
                  <a:lnTo>
                    <a:pt x="1139" y="2021"/>
                  </a:lnTo>
                  <a:lnTo>
                    <a:pt x="1151" y="2023"/>
                  </a:lnTo>
                  <a:lnTo>
                    <a:pt x="1160" y="2027"/>
                  </a:lnTo>
                  <a:lnTo>
                    <a:pt x="1171" y="2028"/>
                  </a:lnTo>
                  <a:lnTo>
                    <a:pt x="1182" y="2032"/>
                  </a:lnTo>
                  <a:lnTo>
                    <a:pt x="1195" y="2034"/>
                  </a:lnTo>
                  <a:lnTo>
                    <a:pt x="1208" y="2037"/>
                  </a:lnTo>
                  <a:lnTo>
                    <a:pt x="1221" y="2039"/>
                  </a:lnTo>
                  <a:lnTo>
                    <a:pt x="1234" y="2042"/>
                  </a:lnTo>
                  <a:lnTo>
                    <a:pt x="1249" y="2044"/>
                  </a:lnTo>
                  <a:lnTo>
                    <a:pt x="1262" y="2047"/>
                  </a:lnTo>
                  <a:lnTo>
                    <a:pt x="1275" y="2049"/>
                  </a:lnTo>
                  <a:lnTo>
                    <a:pt x="1288" y="2051"/>
                  </a:lnTo>
                  <a:lnTo>
                    <a:pt x="1301" y="2053"/>
                  </a:lnTo>
                  <a:lnTo>
                    <a:pt x="1312" y="2055"/>
                  </a:lnTo>
                  <a:lnTo>
                    <a:pt x="1323" y="2057"/>
                  </a:lnTo>
                  <a:lnTo>
                    <a:pt x="1333" y="2058"/>
                  </a:lnTo>
                  <a:lnTo>
                    <a:pt x="1343" y="2058"/>
                  </a:lnTo>
                  <a:lnTo>
                    <a:pt x="1351" y="2060"/>
                  </a:lnTo>
                  <a:lnTo>
                    <a:pt x="1361" y="2062"/>
                  </a:lnTo>
                  <a:lnTo>
                    <a:pt x="1372" y="2064"/>
                  </a:lnTo>
                  <a:lnTo>
                    <a:pt x="1384" y="2064"/>
                  </a:lnTo>
                  <a:lnTo>
                    <a:pt x="1396" y="2065"/>
                  </a:lnTo>
                  <a:lnTo>
                    <a:pt x="1409" y="2065"/>
                  </a:lnTo>
                  <a:lnTo>
                    <a:pt x="1423" y="2067"/>
                  </a:lnTo>
                  <a:lnTo>
                    <a:pt x="1437" y="2067"/>
                  </a:lnTo>
                  <a:lnTo>
                    <a:pt x="1451" y="2069"/>
                  </a:lnTo>
                  <a:lnTo>
                    <a:pt x="1465" y="2070"/>
                  </a:lnTo>
                  <a:lnTo>
                    <a:pt x="1478" y="2072"/>
                  </a:lnTo>
                  <a:lnTo>
                    <a:pt x="1493" y="2072"/>
                  </a:lnTo>
                  <a:lnTo>
                    <a:pt x="1505" y="2074"/>
                  </a:lnTo>
                  <a:lnTo>
                    <a:pt x="1518" y="2074"/>
                  </a:lnTo>
                  <a:lnTo>
                    <a:pt x="1529" y="2075"/>
                  </a:lnTo>
                  <a:lnTo>
                    <a:pt x="1542" y="2075"/>
                  </a:lnTo>
                  <a:lnTo>
                    <a:pt x="1552" y="2077"/>
                  </a:lnTo>
                  <a:lnTo>
                    <a:pt x="1563" y="2077"/>
                  </a:lnTo>
                  <a:lnTo>
                    <a:pt x="1576" y="2077"/>
                  </a:lnTo>
                  <a:lnTo>
                    <a:pt x="1589" y="2077"/>
                  </a:lnTo>
                  <a:lnTo>
                    <a:pt x="1602" y="2078"/>
                  </a:lnTo>
                  <a:lnTo>
                    <a:pt x="1616" y="2078"/>
                  </a:lnTo>
                  <a:lnTo>
                    <a:pt x="1630" y="2078"/>
                  </a:lnTo>
                  <a:lnTo>
                    <a:pt x="1645" y="2078"/>
                  </a:lnTo>
                  <a:lnTo>
                    <a:pt x="1658" y="2079"/>
                  </a:lnTo>
                  <a:lnTo>
                    <a:pt x="1671" y="2079"/>
                  </a:lnTo>
                  <a:lnTo>
                    <a:pt x="1685" y="2079"/>
                  </a:lnTo>
                  <a:lnTo>
                    <a:pt x="1698" y="2079"/>
                  </a:lnTo>
                  <a:lnTo>
                    <a:pt x="1709" y="2079"/>
                  </a:lnTo>
                  <a:lnTo>
                    <a:pt x="1721" y="2079"/>
                  </a:lnTo>
                  <a:lnTo>
                    <a:pt x="1731" y="2079"/>
                  </a:lnTo>
                  <a:lnTo>
                    <a:pt x="1741" y="2079"/>
                  </a:lnTo>
                  <a:lnTo>
                    <a:pt x="1747" y="2079"/>
                  </a:lnTo>
                  <a:lnTo>
                    <a:pt x="1753" y="2079"/>
                  </a:lnTo>
                  <a:lnTo>
                    <a:pt x="1757" y="2079"/>
                  </a:lnTo>
                  <a:lnTo>
                    <a:pt x="1760" y="2079"/>
                  </a:lnTo>
                  <a:lnTo>
                    <a:pt x="1762" y="2079"/>
                  </a:lnTo>
                  <a:lnTo>
                    <a:pt x="1764" y="2079"/>
                  </a:lnTo>
                  <a:lnTo>
                    <a:pt x="1766" y="2079"/>
                  </a:lnTo>
                  <a:lnTo>
                    <a:pt x="1768" y="2079"/>
                  </a:lnTo>
                  <a:lnTo>
                    <a:pt x="1769" y="2079"/>
                  </a:lnTo>
                  <a:lnTo>
                    <a:pt x="1773" y="2079"/>
                  </a:lnTo>
                  <a:lnTo>
                    <a:pt x="1777" y="2079"/>
                  </a:lnTo>
                  <a:lnTo>
                    <a:pt x="1783" y="2079"/>
                  </a:lnTo>
                  <a:lnTo>
                    <a:pt x="1790" y="2079"/>
                  </a:lnTo>
                  <a:lnTo>
                    <a:pt x="1801" y="2079"/>
                  </a:lnTo>
                  <a:lnTo>
                    <a:pt x="1813" y="2079"/>
                  </a:lnTo>
                  <a:lnTo>
                    <a:pt x="1829" y="2079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39360" y="3209760"/>
              <a:ext cx="3171960" cy="3619440"/>
            </a:xfrm>
            <a:custGeom>
              <a:avLst/>
              <a:gdLst/>
              <a:ahLst/>
              <a:rect l="l" t="t" r="r" b="b"/>
              <a:pathLst>
                <a:path w="1998" h="2280">
                  <a:moveTo>
                    <a:pt x="0" y="0"/>
                  </a:moveTo>
                  <a:lnTo>
                    <a:pt x="1" y="20"/>
                  </a:lnTo>
                  <a:lnTo>
                    <a:pt x="3" y="35"/>
                  </a:lnTo>
                  <a:lnTo>
                    <a:pt x="3" y="48"/>
                  </a:lnTo>
                  <a:lnTo>
                    <a:pt x="5" y="57"/>
                  </a:lnTo>
                  <a:lnTo>
                    <a:pt x="5" y="65"/>
                  </a:lnTo>
                  <a:lnTo>
                    <a:pt x="6" y="70"/>
                  </a:lnTo>
                  <a:lnTo>
                    <a:pt x="6" y="74"/>
                  </a:lnTo>
                  <a:lnTo>
                    <a:pt x="7" y="76"/>
                  </a:lnTo>
                  <a:lnTo>
                    <a:pt x="7" y="79"/>
                  </a:lnTo>
                  <a:lnTo>
                    <a:pt x="7" y="81"/>
                  </a:lnTo>
                  <a:lnTo>
                    <a:pt x="7" y="84"/>
                  </a:lnTo>
                  <a:lnTo>
                    <a:pt x="8" y="86"/>
                  </a:lnTo>
                  <a:lnTo>
                    <a:pt x="8" y="90"/>
                  </a:lnTo>
                  <a:lnTo>
                    <a:pt x="9" y="94"/>
                  </a:lnTo>
                  <a:lnTo>
                    <a:pt x="9" y="101"/>
                  </a:lnTo>
                  <a:lnTo>
                    <a:pt x="11" y="110"/>
                  </a:lnTo>
                  <a:lnTo>
                    <a:pt x="12" y="122"/>
                  </a:lnTo>
                  <a:lnTo>
                    <a:pt x="14" y="136"/>
                  </a:lnTo>
                  <a:lnTo>
                    <a:pt x="16" y="154"/>
                  </a:lnTo>
                  <a:lnTo>
                    <a:pt x="20" y="174"/>
                  </a:lnTo>
                  <a:lnTo>
                    <a:pt x="24" y="197"/>
                  </a:lnTo>
                  <a:lnTo>
                    <a:pt x="28" y="221"/>
                  </a:lnTo>
                  <a:lnTo>
                    <a:pt x="33" y="247"/>
                  </a:lnTo>
                  <a:lnTo>
                    <a:pt x="38" y="273"/>
                  </a:lnTo>
                  <a:lnTo>
                    <a:pt x="43" y="302"/>
                  </a:lnTo>
                  <a:lnTo>
                    <a:pt x="49" y="331"/>
                  </a:lnTo>
                  <a:lnTo>
                    <a:pt x="54" y="360"/>
                  </a:lnTo>
                  <a:lnTo>
                    <a:pt x="61" y="390"/>
                  </a:lnTo>
                  <a:lnTo>
                    <a:pt x="66" y="420"/>
                  </a:lnTo>
                  <a:lnTo>
                    <a:pt x="72" y="448"/>
                  </a:lnTo>
                  <a:lnTo>
                    <a:pt x="77" y="477"/>
                  </a:lnTo>
                  <a:lnTo>
                    <a:pt x="85" y="504"/>
                  </a:lnTo>
                  <a:lnTo>
                    <a:pt x="91" y="532"/>
                  </a:lnTo>
                  <a:lnTo>
                    <a:pt x="97" y="561"/>
                  </a:lnTo>
                  <a:lnTo>
                    <a:pt x="104" y="592"/>
                  </a:lnTo>
                  <a:lnTo>
                    <a:pt x="112" y="622"/>
                  </a:lnTo>
                  <a:lnTo>
                    <a:pt x="119" y="653"/>
                  </a:lnTo>
                  <a:lnTo>
                    <a:pt x="128" y="684"/>
                  </a:lnTo>
                  <a:lnTo>
                    <a:pt x="135" y="715"/>
                  </a:lnTo>
                  <a:lnTo>
                    <a:pt x="145" y="745"/>
                  </a:lnTo>
                  <a:lnTo>
                    <a:pt x="152" y="776"/>
                  </a:lnTo>
                  <a:lnTo>
                    <a:pt x="161" y="804"/>
                  </a:lnTo>
                  <a:lnTo>
                    <a:pt x="169" y="831"/>
                  </a:lnTo>
                  <a:lnTo>
                    <a:pt x="177" y="856"/>
                  </a:lnTo>
                  <a:lnTo>
                    <a:pt x="184" y="880"/>
                  </a:lnTo>
                  <a:lnTo>
                    <a:pt x="192" y="900"/>
                  </a:lnTo>
                  <a:lnTo>
                    <a:pt x="198" y="919"/>
                  </a:lnTo>
                  <a:lnTo>
                    <a:pt x="205" y="934"/>
                  </a:lnTo>
                  <a:lnTo>
                    <a:pt x="210" y="949"/>
                  </a:lnTo>
                  <a:lnTo>
                    <a:pt x="216" y="965"/>
                  </a:lnTo>
                  <a:lnTo>
                    <a:pt x="223" y="983"/>
                  </a:lnTo>
                  <a:lnTo>
                    <a:pt x="231" y="1003"/>
                  </a:lnTo>
                  <a:lnTo>
                    <a:pt x="239" y="1024"/>
                  </a:lnTo>
                  <a:lnTo>
                    <a:pt x="249" y="1046"/>
                  </a:lnTo>
                  <a:lnTo>
                    <a:pt x="258" y="1068"/>
                  </a:lnTo>
                  <a:lnTo>
                    <a:pt x="268" y="1091"/>
                  </a:lnTo>
                  <a:lnTo>
                    <a:pt x="277" y="1115"/>
                  </a:lnTo>
                  <a:lnTo>
                    <a:pt x="287" y="1138"/>
                  </a:lnTo>
                  <a:lnTo>
                    <a:pt x="296" y="1161"/>
                  </a:lnTo>
                  <a:lnTo>
                    <a:pt x="306" y="1184"/>
                  </a:lnTo>
                  <a:lnTo>
                    <a:pt x="315" y="1206"/>
                  </a:lnTo>
                  <a:lnTo>
                    <a:pt x="324" y="1227"/>
                  </a:lnTo>
                  <a:lnTo>
                    <a:pt x="332" y="1247"/>
                  </a:lnTo>
                  <a:lnTo>
                    <a:pt x="341" y="1265"/>
                  </a:lnTo>
                  <a:lnTo>
                    <a:pt x="349" y="1285"/>
                  </a:lnTo>
                  <a:lnTo>
                    <a:pt x="357" y="1304"/>
                  </a:lnTo>
                  <a:lnTo>
                    <a:pt x="366" y="1325"/>
                  </a:lnTo>
                  <a:lnTo>
                    <a:pt x="375" y="1346"/>
                  </a:lnTo>
                  <a:lnTo>
                    <a:pt x="385" y="1368"/>
                  </a:lnTo>
                  <a:lnTo>
                    <a:pt x="394" y="1390"/>
                  </a:lnTo>
                  <a:lnTo>
                    <a:pt x="403" y="1413"/>
                  </a:lnTo>
                  <a:lnTo>
                    <a:pt x="414" y="1433"/>
                  </a:lnTo>
                  <a:lnTo>
                    <a:pt x="423" y="1456"/>
                  </a:lnTo>
                  <a:lnTo>
                    <a:pt x="432" y="1476"/>
                  </a:lnTo>
                  <a:lnTo>
                    <a:pt x="440" y="1497"/>
                  </a:lnTo>
                  <a:lnTo>
                    <a:pt x="449" y="1515"/>
                  </a:lnTo>
                  <a:lnTo>
                    <a:pt x="457" y="1532"/>
                  </a:lnTo>
                  <a:lnTo>
                    <a:pt x="464" y="1548"/>
                  </a:lnTo>
                  <a:lnTo>
                    <a:pt x="471" y="1562"/>
                  </a:lnTo>
                  <a:lnTo>
                    <a:pt x="477" y="1574"/>
                  </a:lnTo>
                  <a:lnTo>
                    <a:pt x="483" y="1587"/>
                  </a:lnTo>
                  <a:lnTo>
                    <a:pt x="489" y="1600"/>
                  </a:lnTo>
                  <a:lnTo>
                    <a:pt x="497" y="1616"/>
                  </a:lnTo>
                  <a:lnTo>
                    <a:pt x="506" y="1630"/>
                  </a:lnTo>
                  <a:lnTo>
                    <a:pt x="515" y="1647"/>
                  </a:lnTo>
                  <a:lnTo>
                    <a:pt x="525" y="1663"/>
                  </a:lnTo>
                  <a:lnTo>
                    <a:pt x="535" y="1680"/>
                  </a:lnTo>
                  <a:lnTo>
                    <a:pt x="547" y="1696"/>
                  </a:lnTo>
                  <a:lnTo>
                    <a:pt x="557" y="1713"/>
                  </a:lnTo>
                  <a:lnTo>
                    <a:pt x="569" y="1730"/>
                  </a:lnTo>
                  <a:lnTo>
                    <a:pt x="580" y="1746"/>
                  </a:lnTo>
                  <a:lnTo>
                    <a:pt x="591" y="1762"/>
                  </a:lnTo>
                  <a:lnTo>
                    <a:pt x="601" y="1777"/>
                  </a:lnTo>
                  <a:lnTo>
                    <a:pt x="612" y="1792"/>
                  </a:lnTo>
                  <a:lnTo>
                    <a:pt x="622" y="1804"/>
                  </a:lnTo>
                  <a:lnTo>
                    <a:pt x="633" y="1816"/>
                  </a:lnTo>
                  <a:lnTo>
                    <a:pt x="641" y="1828"/>
                  </a:lnTo>
                  <a:lnTo>
                    <a:pt x="652" y="1840"/>
                  </a:lnTo>
                  <a:lnTo>
                    <a:pt x="663" y="1853"/>
                  </a:lnTo>
                  <a:lnTo>
                    <a:pt x="676" y="1866"/>
                  </a:lnTo>
                  <a:lnTo>
                    <a:pt x="688" y="1881"/>
                  </a:lnTo>
                  <a:lnTo>
                    <a:pt x="701" y="1894"/>
                  </a:lnTo>
                  <a:lnTo>
                    <a:pt x="715" y="1908"/>
                  </a:lnTo>
                  <a:lnTo>
                    <a:pt x="729" y="1921"/>
                  </a:lnTo>
                  <a:lnTo>
                    <a:pt x="742" y="1936"/>
                  </a:lnTo>
                  <a:lnTo>
                    <a:pt x="755" y="1949"/>
                  </a:lnTo>
                  <a:lnTo>
                    <a:pt x="768" y="1962"/>
                  </a:lnTo>
                  <a:lnTo>
                    <a:pt x="781" y="1973"/>
                  </a:lnTo>
                  <a:lnTo>
                    <a:pt x="793" y="1984"/>
                  </a:lnTo>
                  <a:lnTo>
                    <a:pt x="805" y="1994"/>
                  </a:lnTo>
                  <a:lnTo>
                    <a:pt x="815" y="2003"/>
                  </a:lnTo>
                  <a:lnTo>
                    <a:pt x="825" y="2010"/>
                  </a:lnTo>
                  <a:lnTo>
                    <a:pt x="834" y="2017"/>
                  </a:lnTo>
                  <a:lnTo>
                    <a:pt x="843" y="2025"/>
                  </a:lnTo>
                  <a:lnTo>
                    <a:pt x="853" y="2032"/>
                  </a:lnTo>
                  <a:lnTo>
                    <a:pt x="863" y="2040"/>
                  </a:lnTo>
                  <a:lnTo>
                    <a:pt x="873" y="2047"/>
                  </a:lnTo>
                  <a:lnTo>
                    <a:pt x="883" y="2055"/>
                  </a:lnTo>
                  <a:lnTo>
                    <a:pt x="892" y="2062"/>
                  </a:lnTo>
                  <a:lnTo>
                    <a:pt x="902" y="2068"/>
                  </a:lnTo>
                  <a:lnTo>
                    <a:pt x="911" y="2076"/>
                  </a:lnTo>
                  <a:lnTo>
                    <a:pt x="920" y="2082"/>
                  </a:lnTo>
                  <a:lnTo>
                    <a:pt x="927" y="2088"/>
                  </a:lnTo>
                  <a:lnTo>
                    <a:pt x="935" y="2093"/>
                  </a:lnTo>
                  <a:lnTo>
                    <a:pt x="942" y="2098"/>
                  </a:lnTo>
                  <a:lnTo>
                    <a:pt x="949" y="2102"/>
                  </a:lnTo>
                  <a:lnTo>
                    <a:pt x="953" y="2106"/>
                  </a:lnTo>
                  <a:lnTo>
                    <a:pt x="958" y="2108"/>
                  </a:lnTo>
                  <a:lnTo>
                    <a:pt x="961" y="2111"/>
                  </a:lnTo>
                  <a:lnTo>
                    <a:pt x="965" y="2113"/>
                  </a:lnTo>
                  <a:lnTo>
                    <a:pt x="970" y="2116"/>
                  </a:lnTo>
                  <a:lnTo>
                    <a:pt x="976" y="2118"/>
                  </a:lnTo>
                  <a:lnTo>
                    <a:pt x="982" y="2122"/>
                  </a:lnTo>
                  <a:lnTo>
                    <a:pt x="989" y="2126"/>
                  </a:lnTo>
                  <a:lnTo>
                    <a:pt x="996" y="2130"/>
                  </a:lnTo>
                  <a:lnTo>
                    <a:pt x="1003" y="2132"/>
                  </a:lnTo>
                  <a:lnTo>
                    <a:pt x="1011" y="2136"/>
                  </a:lnTo>
                  <a:lnTo>
                    <a:pt x="1019" y="2140"/>
                  </a:lnTo>
                  <a:lnTo>
                    <a:pt x="1026" y="2143"/>
                  </a:lnTo>
                  <a:lnTo>
                    <a:pt x="1035" y="2146"/>
                  </a:lnTo>
                  <a:lnTo>
                    <a:pt x="1042" y="2150"/>
                  </a:lnTo>
                  <a:lnTo>
                    <a:pt x="1050" y="2153"/>
                  </a:lnTo>
                  <a:lnTo>
                    <a:pt x="1058" y="2157"/>
                  </a:lnTo>
                  <a:lnTo>
                    <a:pt x="1067" y="2159"/>
                  </a:lnTo>
                  <a:lnTo>
                    <a:pt x="1073" y="2163"/>
                  </a:lnTo>
                  <a:lnTo>
                    <a:pt x="1082" y="2166"/>
                  </a:lnTo>
                  <a:lnTo>
                    <a:pt x="1091" y="2170"/>
                  </a:lnTo>
                  <a:lnTo>
                    <a:pt x="1103" y="2172"/>
                  </a:lnTo>
                  <a:lnTo>
                    <a:pt x="1114" y="2176"/>
                  </a:lnTo>
                  <a:lnTo>
                    <a:pt x="1126" y="2180"/>
                  </a:lnTo>
                  <a:lnTo>
                    <a:pt x="1139" y="2183"/>
                  </a:lnTo>
                  <a:lnTo>
                    <a:pt x="1152" y="2187"/>
                  </a:lnTo>
                  <a:lnTo>
                    <a:pt x="1165" y="2192"/>
                  </a:lnTo>
                  <a:lnTo>
                    <a:pt x="1178" y="2196"/>
                  </a:lnTo>
                  <a:lnTo>
                    <a:pt x="1191" y="2200"/>
                  </a:lnTo>
                  <a:lnTo>
                    <a:pt x="1205" y="2203"/>
                  </a:lnTo>
                  <a:lnTo>
                    <a:pt x="1217" y="2207"/>
                  </a:lnTo>
                  <a:lnTo>
                    <a:pt x="1230" y="2211"/>
                  </a:lnTo>
                  <a:lnTo>
                    <a:pt x="1241" y="2214"/>
                  </a:lnTo>
                  <a:lnTo>
                    <a:pt x="1254" y="2216"/>
                  </a:lnTo>
                  <a:lnTo>
                    <a:pt x="1264" y="2220"/>
                  </a:lnTo>
                  <a:lnTo>
                    <a:pt x="1276" y="2223"/>
                  </a:lnTo>
                  <a:lnTo>
                    <a:pt x="1289" y="2226"/>
                  </a:lnTo>
                  <a:lnTo>
                    <a:pt x="1303" y="2228"/>
                  </a:lnTo>
                  <a:lnTo>
                    <a:pt x="1317" y="2232"/>
                  </a:lnTo>
                  <a:lnTo>
                    <a:pt x="1332" y="2234"/>
                  </a:lnTo>
                  <a:lnTo>
                    <a:pt x="1347" y="2238"/>
                  </a:lnTo>
                  <a:lnTo>
                    <a:pt x="1362" y="2240"/>
                  </a:lnTo>
                  <a:lnTo>
                    <a:pt x="1375" y="2243"/>
                  </a:lnTo>
                  <a:lnTo>
                    <a:pt x="1390" y="2245"/>
                  </a:lnTo>
                  <a:lnTo>
                    <a:pt x="1404" y="2248"/>
                  </a:lnTo>
                  <a:lnTo>
                    <a:pt x="1419" y="2250"/>
                  </a:lnTo>
                  <a:lnTo>
                    <a:pt x="1430" y="2252"/>
                  </a:lnTo>
                  <a:lnTo>
                    <a:pt x="1443" y="2254"/>
                  </a:lnTo>
                  <a:lnTo>
                    <a:pt x="1454" y="2256"/>
                  </a:lnTo>
                  <a:lnTo>
                    <a:pt x="1465" y="2257"/>
                  </a:lnTo>
                  <a:lnTo>
                    <a:pt x="1473" y="2259"/>
                  </a:lnTo>
                  <a:lnTo>
                    <a:pt x="1485" y="2260"/>
                  </a:lnTo>
                  <a:lnTo>
                    <a:pt x="1497" y="2262"/>
                  </a:lnTo>
                  <a:lnTo>
                    <a:pt x="1509" y="2262"/>
                  </a:lnTo>
                  <a:lnTo>
                    <a:pt x="1523" y="2264"/>
                  </a:lnTo>
                  <a:lnTo>
                    <a:pt x="1538" y="2264"/>
                  </a:lnTo>
                  <a:lnTo>
                    <a:pt x="1553" y="2266"/>
                  </a:lnTo>
                  <a:lnTo>
                    <a:pt x="1568" y="2266"/>
                  </a:lnTo>
                  <a:lnTo>
                    <a:pt x="1583" y="2268"/>
                  </a:lnTo>
                  <a:lnTo>
                    <a:pt x="1598" y="2270"/>
                  </a:lnTo>
                  <a:lnTo>
                    <a:pt x="1613" y="2271"/>
                  </a:lnTo>
                  <a:lnTo>
                    <a:pt x="1629" y="2271"/>
                  </a:lnTo>
                  <a:lnTo>
                    <a:pt x="1643" y="2273"/>
                  </a:lnTo>
                  <a:lnTo>
                    <a:pt x="1657" y="2273"/>
                  </a:lnTo>
                  <a:lnTo>
                    <a:pt x="1669" y="2274"/>
                  </a:lnTo>
                  <a:lnTo>
                    <a:pt x="1682" y="2274"/>
                  </a:lnTo>
                  <a:lnTo>
                    <a:pt x="1693" y="2276"/>
                  </a:lnTo>
                  <a:lnTo>
                    <a:pt x="1705" y="2276"/>
                  </a:lnTo>
                  <a:lnTo>
                    <a:pt x="1719" y="2276"/>
                  </a:lnTo>
                  <a:lnTo>
                    <a:pt x="1733" y="2276"/>
                  </a:lnTo>
                  <a:lnTo>
                    <a:pt x="1748" y="2278"/>
                  </a:lnTo>
                  <a:lnTo>
                    <a:pt x="1763" y="2278"/>
                  </a:lnTo>
                  <a:lnTo>
                    <a:pt x="1778" y="2278"/>
                  </a:lnTo>
                  <a:lnTo>
                    <a:pt x="1794" y="2278"/>
                  </a:lnTo>
                  <a:lnTo>
                    <a:pt x="1809" y="2279"/>
                  </a:lnTo>
                  <a:lnTo>
                    <a:pt x="1824" y="2279"/>
                  </a:lnTo>
                  <a:lnTo>
                    <a:pt x="1838" y="2279"/>
                  </a:lnTo>
                  <a:lnTo>
                    <a:pt x="1852" y="2279"/>
                  </a:lnTo>
                  <a:lnTo>
                    <a:pt x="1865" y="2279"/>
                  </a:lnTo>
                  <a:lnTo>
                    <a:pt x="1877" y="2279"/>
                  </a:lnTo>
                  <a:lnTo>
                    <a:pt x="1888" y="2279"/>
                  </a:lnTo>
                  <a:lnTo>
                    <a:pt x="1899" y="2279"/>
                  </a:lnTo>
                  <a:lnTo>
                    <a:pt x="1906" y="2279"/>
                  </a:lnTo>
                  <a:lnTo>
                    <a:pt x="1912" y="2279"/>
                  </a:lnTo>
                  <a:lnTo>
                    <a:pt x="1916" y="2279"/>
                  </a:lnTo>
                  <a:lnTo>
                    <a:pt x="1920" y="2279"/>
                  </a:lnTo>
                  <a:lnTo>
                    <a:pt x="1922" y="2279"/>
                  </a:lnTo>
                  <a:lnTo>
                    <a:pt x="1925" y="2279"/>
                  </a:lnTo>
                  <a:lnTo>
                    <a:pt x="1926" y="2279"/>
                  </a:lnTo>
                  <a:lnTo>
                    <a:pt x="1929" y="2279"/>
                  </a:lnTo>
                  <a:lnTo>
                    <a:pt x="1931" y="2279"/>
                  </a:lnTo>
                  <a:lnTo>
                    <a:pt x="1935" y="2279"/>
                  </a:lnTo>
                  <a:lnTo>
                    <a:pt x="1939" y="2279"/>
                  </a:lnTo>
                  <a:lnTo>
                    <a:pt x="1946" y="2279"/>
                  </a:lnTo>
                  <a:lnTo>
                    <a:pt x="1955" y="2279"/>
                  </a:lnTo>
                  <a:lnTo>
                    <a:pt x="1966" y="2279"/>
                  </a:lnTo>
                  <a:lnTo>
                    <a:pt x="1979" y="2279"/>
                  </a:lnTo>
                  <a:lnTo>
                    <a:pt x="1997" y="2279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498320" y="2796840"/>
              <a:ext cx="2540160" cy="2890800"/>
            </a:xfrm>
            <a:custGeom>
              <a:avLst/>
              <a:gdLst/>
              <a:ahLst/>
              <a:rect l="l" t="t" r="r" b="b"/>
              <a:pathLst>
                <a:path w="1600" h="1821">
                  <a:moveTo>
                    <a:pt x="0" y="0"/>
                  </a:moveTo>
                  <a:lnTo>
                    <a:pt x="0" y="16"/>
                  </a:lnTo>
                  <a:lnTo>
                    <a:pt x="2" y="28"/>
                  </a:lnTo>
                  <a:lnTo>
                    <a:pt x="2" y="39"/>
                  </a:lnTo>
                  <a:lnTo>
                    <a:pt x="4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6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7" y="75"/>
                  </a:lnTo>
                  <a:lnTo>
                    <a:pt x="7" y="81"/>
                  </a:lnTo>
                  <a:lnTo>
                    <a:pt x="9" y="88"/>
                  </a:lnTo>
                  <a:lnTo>
                    <a:pt x="10" y="98"/>
                  </a:lnTo>
                  <a:lnTo>
                    <a:pt x="11" y="110"/>
                  </a:lnTo>
                  <a:lnTo>
                    <a:pt x="13" y="124"/>
                  </a:lnTo>
                  <a:lnTo>
                    <a:pt x="16" y="140"/>
                  </a:lnTo>
                  <a:lnTo>
                    <a:pt x="19" y="158"/>
                  </a:lnTo>
                  <a:lnTo>
                    <a:pt x="22" y="177"/>
                  </a:lnTo>
                  <a:lnTo>
                    <a:pt x="26" y="199"/>
                  </a:lnTo>
                  <a:lnTo>
                    <a:pt x="31" y="219"/>
                  </a:lnTo>
                  <a:lnTo>
                    <a:pt x="34" y="243"/>
                  </a:lnTo>
                  <a:lnTo>
                    <a:pt x="40" y="265"/>
                  </a:lnTo>
                  <a:lnTo>
                    <a:pt x="43" y="290"/>
                  </a:lnTo>
                  <a:lnTo>
                    <a:pt x="49" y="312"/>
                  </a:lnTo>
                  <a:lnTo>
                    <a:pt x="52" y="337"/>
                  </a:lnTo>
                  <a:lnTo>
                    <a:pt x="58" y="359"/>
                  </a:lnTo>
                  <a:lnTo>
                    <a:pt x="62" y="381"/>
                  </a:lnTo>
                  <a:lnTo>
                    <a:pt x="68" y="403"/>
                  </a:lnTo>
                  <a:lnTo>
                    <a:pt x="72" y="426"/>
                  </a:lnTo>
                  <a:lnTo>
                    <a:pt x="78" y="449"/>
                  </a:lnTo>
                  <a:lnTo>
                    <a:pt x="84" y="473"/>
                  </a:lnTo>
                  <a:lnTo>
                    <a:pt x="90" y="497"/>
                  </a:lnTo>
                  <a:lnTo>
                    <a:pt x="96" y="523"/>
                  </a:lnTo>
                  <a:lnTo>
                    <a:pt x="103" y="547"/>
                  </a:lnTo>
                  <a:lnTo>
                    <a:pt x="110" y="572"/>
                  </a:lnTo>
                  <a:lnTo>
                    <a:pt x="118" y="595"/>
                  </a:lnTo>
                  <a:lnTo>
                    <a:pt x="123" y="620"/>
                  </a:lnTo>
                  <a:lnTo>
                    <a:pt x="130" y="643"/>
                  </a:lnTo>
                  <a:lnTo>
                    <a:pt x="136" y="665"/>
                  </a:lnTo>
                  <a:lnTo>
                    <a:pt x="143" y="685"/>
                  </a:lnTo>
                  <a:lnTo>
                    <a:pt x="149" y="704"/>
                  </a:lnTo>
                  <a:lnTo>
                    <a:pt x="155" y="720"/>
                  </a:lnTo>
                  <a:lnTo>
                    <a:pt x="159" y="735"/>
                  </a:lnTo>
                  <a:lnTo>
                    <a:pt x="165" y="746"/>
                  </a:lnTo>
                  <a:lnTo>
                    <a:pt x="169" y="758"/>
                  </a:lnTo>
                  <a:lnTo>
                    <a:pt x="174" y="771"/>
                  </a:lnTo>
                  <a:lnTo>
                    <a:pt x="180" y="786"/>
                  </a:lnTo>
                  <a:lnTo>
                    <a:pt x="187" y="801"/>
                  </a:lnTo>
                  <a:lnTo>
                    <a:pt x="193" y="819"/>
                  </a:lnTo>
                  <a:lnTo>
                    <a:pt x="200" y="836"/>
                  </a:lnTo>
                  <a:lnTo>
                    <a:pt x="208" y="854"/>
                  </a:lnTo>
                  <a:lnTo>
                    <a:pt x="216" y="871"/>
                  </a:lnTo>
                  <a:lnTo>
                    <a:pt x="224" y="891"/>
                  </a:lnTo>
                  <a:lnTo>
                    <a:pt x="231" y="909"/>
                  </a:lnTo>
                  <a:lnTo>
                    <a:pt x="238" y="928"/>
                  </a:lnTo>
                  <a:lnTo>
                    <a:pt x="247" y="945"/>
                  </a:lnTo>
                  <a:lnTo>
                    <a:pt x="253" y="963"/>
                  </a:lnTo>
                  <a:lnTo>
                    <a:pt x="260" y="980"/>
                  </a:lnTo>
                  <a:lnTo>
                    <a:pt x="266" y="996"/>
                  </a:lnTo>
                  <a:lnTo>
                    <a:pt x="274" y="1010"/>
                  </a:lnTo>
                  <a:lnTo>
                    <a:pt x="280" y="1027"/>
                  </a:lnTo>
                  <a:lnTo>
                    <a:pt x="286" y="1041"/>
                  </a:lnTo>
                  <a:lnTo>
                    <a:pt x="294" y="1058"/>
                  </a:lnTo>
                  <a:lnTo>
                    <a:pt x="302" y="1075"/>
                  </a:lnTo>
                  <a:lnTo>
                    <a:pt x="309" y="1093"/>
                  </a:lnTo>
                  <a:lnTo>
                    <a:pt x="316" y="1110"/>
                  </a:lnTo>
                  <a:lnTo>
                    <a:pt x="324" y="1128"/>
                  </a:lnTo>
                  <a:lnTo>
                    <a:pt x="333" y="1145"/>
                  </a:lnTo>
                  <a:lnTo>
                    <a:pt x="340" y="1163"/>
                  </a:lnTo>
                  <a:lnTo>
                    <a:pt x="347" y="1179"/>
                  </a:lnTo>
                  <a:lnTo>
                    <a:pt x="354" y="1196"/>
                  </a:lnTo>
                  <a:lnTo>
                    <a:pt x="362" y="1210"/>
                  </a:lnTo>
                  <a:lnTo>
                    <a:pt x="367" y="1224"/>
                  </a:lnTo>
                  <a:lnTo>
                    <a:pt x="373" y="1237"/>
                  </a:lnTo>
                  <a:lnTo>
                    <a:pt x="379" y="1249"/>
                  </a:lnTo>
                  <a:lnTo>
                    <a:pt x="384" y="1257"/>
                  </a:lnTo>
                  <a:lnTo>
                    <a:pt x="388" y="1268"/>
                  </a:lnTo>
                  <a:lnTo>
                    <a:pt x="394" y="1278"/>
                  </a:lnTo>
                  <a:lnTo>
                    <a:pt x="400" y="1291"/>
                  </a:lnTo>
                  <a:lnTo>
                    <a:pt x="407" y="1302"/>
                  </a:lnTo>
                  <a:lnTo>
                    <a:pt x="414" y="1315"/>
                  </a:lnTo>
                  <a:lnTo>
                    <a:pt x="422" y="1327"/>
                  </a:lnTo>
                  <a:lnTo>
                    <a:pt x="430" y="1341"/>
                  </a:lnTo>
                  <a:lnTo>
                    <a:pt x="439" y="1353"/>
                  </a:lnTo>
                  <a:lnTo>
                    <a:pt x="446" y="1368"/>
                  </a:lnTo>
                  <a:lnTo>
                    <a:pt x="456" y="1381"/>
                  </a:lnTo>
                  <a:lnTo>
                    <a:pt x="464" y="1394"/>
                  </a:lnTo>
                  <a:lnTo>
                    <a:pt x="474" y="1406"/>
                  </a:lnTo>
                  <a:lnTo>
                    <a:pt x="481" y="1419"/>
                  </a:lnTo>
                  <a:lnTo>
                    <a:pt x="490" y="1430"/>
                  </a:lnTo>
                  <a:lnTo>
                    <a:pt x="498" y="1440"/>
                  </a:lnTo>
                  <a:lnTo>
                    <a:pt x="507" y="1448"/>
                  </a:lnTo>
                  <a:lnTo>
                    <a:pt x="514" y="1459"/>
                  </a:lnTo>
                  <a:lnTo>
                    <a:pt x="522" y="1468"/>
                  </a:lnTo>
                  <a:lnTo>
                    <a:pt x="532" y="1479"/>
                  </a:lnTo>
                  <a:lnTo>
                    <a:pt x="542" y="1489"/>
                  </a:lnTo>
                  <a:lnTo>
                    <a:pt x="551" y="1501"/>
                  </a:lnTo>
                  <a:lnTo>
                    <a:pt x="562" y="1512"/>
                  </a:lnTo>
                  <a:lnTo>
                    <a:pt x="574" y="1523"/>
                  </a:lnTo>
                  <a:lnTo>
                    <a:pt x="585" y="1533"/>
                  </a:lnTo>
                  <a:lnTo>
                    <a:pt x="594" y="1545"/>
                  </a:lnTo>
                  <a:lnTo>
                    <a:pt x="606" y="1556"/>
                  </a:lnTo>
                  <a:lnTo>
                    <a:pt x="615" y="1566"/>
                  </a:lnTo>
                  <a:lnTo>
                    <a:pt x="627" y="1575"/>
                  </a:lnTo>
                  <a:lnTo>
                    <a:pt x="636" y="1585"/>
                  </a:lnTo>
                  <a:lnTo>
                    <a:pt x="646" y="1592"/>
                  </a:lnTo>
                  <a:lnTo>
                    <a:pt x="654" y="1599"/>
                  </a:lnTo>
                  <a:lnTo>
                    <a:pt x="663" y="1605"/>
                  </a:lnTo>
                  <a:lnTo>
                    <a:pt x="670" y="1612"/>
                  </a:lnTo>
                  <a:lnTo>
                    <a:pt x="677" y="1617"/>
                  </a:lnTo>
                  <a:lnTo>
                    <a:pt x="685" y="1623"/>
                  </a:lnTo>
                  <a:lnTo>
                    <a:pt x="693" y="1629"/>
                  </a:lnTo>
                  <a:lnTo>
                    <a:pt x="700" y="1635"/>
                  </a:lnTo>
                  <a:lnTo>
                    <a:pt x="708" y="1641"/>
                  </a:lnTo>
                  <a:lnTo>
                    <a:pt x="715" y="1646"/>
                  </a:lnTo>
                  <a:lnTo>
                    <a:pt x="724" y="1652"/>
                  </a:lnTo>
                  <a:lnTo>
                    <a:pt x="730" y="1657"/>
                  </a:lnTo>
                  <a:lnTo>
                    <a:pt x="738" y="1663"/>
                  </a:lnTo>
                  <a:lnTo>
                    <a:pt x="743" y="1668"/>
                  </a:lnTo>
                  <a:lnTo>
                    <a:pt x="750" y="1672"/>
                  </a:lnTo>
                  <a:lnTo>
                    <a:pt x="754" y="1675"/>
                  </a:lnTo>
                  <a:lnTo>
                    <a:pt x="760" y="1679"/>
                  </a:lnTo>
                  <a:lnTo>
                    <a:pt x="764" y="1681"/>
                  </a:lnTo>
                  <a:lnTo>
                    <a:pt x="768" y="1682"/>
                  </a:lnTo>
                  <a:lnTo>
                    <a:pt x="770" y="1685"/>
                  </a:lnTo>
                  <a:lnTo>
                    <a:pt x="773" y="1687"/>
                  </a:lnTo>
                  <a:lnTo>
                    <a:pt x="777" y="1690"/>
                  </a:lnTo>
                  <a:lnTo>
                    <a:pt x="782" y="1692"/>
                  </a:lnTo>
                  <a:lnTo>
                    <a:pt x="786" y="1695"/>
                  </a:lnTo>
                  <a:lnTo>
                    <a:pt x="792" y="1697"/>
                  </a:lnTo>
                  <a:lnTo>
                    <a:pt x="798" y="1701"/>
                  </a:lnTo>
                  <a:lnTo>
                    <a:pt x="804" y="1703"/>
                  </a:lnTo>
                  <a:lnTo>
                    <a:pt x="810" y="1707"/>
                  </a:lnTo>
                  <a:lnTo>
                    <a:pt x="816" y="1709"/>
                  </a:lnTo>
                  <a:lnTo>
                    <a:pt x="821" y="1713"/>
                  </a:lnTo>
                  <a:lnTo>
                    <a:pt x="829" y="1715"/>
                  </a:lnTo>
                  <a:lnTo>
                    <a:pt x="834" y="1719"/>
                  </a:lnTo>
                  <a:lnTo>
                    <a:pt x="841" y="1721"/>
                  </a:lnTo>
                  <a:lnTo>
                    <a:pt x="847" y="1722"/>
                  </a:lnTo>
                  <a:lnTo>
                    <a:pt x="854" y="1724"/>
                  </a:lnTo>
                  <a:lnTo>
                    <a:pt x="859" y="1727"/>
                  </a:lnTo>
                  <a:lnTo>
                    <a:pt x="866" y="1729"/>
                  </a:lnTo>
                  <a:lnTo>
                    <a:pt x="874" y="1732"/>
                  </a:lnTo>
                  <a:lnTo>
                    <a:pt x="883" y="1734"/>
                  </a:lnTo>
                  <a:lnTo>
                    <a:pt x="892" y="1738"/>
                  </a:lnTo>
                  <a:lnTo>
                    <a:pt x="902" y="1741"/>
                  </a:lnTo>
                  <a:lnTo>
                    <a:pt x="912" y="1745"/>
                  </a:lnTo>
                  <a:lnTo>
                    <a:pt x="924" y="1747"/>
                  </a:lnTo>
                  <a:lnTo>
                    <a:pt x="933" y="1751"/>
                  </a:lnTo>
                  <a:lnTo>
                    <a:pt x="944" y="1753"/>
                  </a:lnTo>
                  <a:lnTo>
                    <a:pt x="955" y="1757"/>
                  </a:lnTo>
                  <a:lnTo>
                    <a:pt x="966" y="1759"/>
                  </a:lnTo>
                  <a:lnTo>
                    <a:pt x="976" y="1763"/>
                  </a:lnTo>
                  <a:lnTo>
                    <a:pt x="987" y="1765"/>
                  </a:lnTo>
                  <a:lnTo>
                    <a:pt x="996" y="1767"/>
                  </a:lnTo>
                  <a:lnTo>
                    <a:pt x="1005" y="1769"/>
                  </a:lnTo>
                  <a:lnTo>
                    <a:pt x="1014" y="1773"/>
                  </a:lnTo>
                  <a:lnTo>
                    <a:pt x="1024" y="1775"/>
                  </a:lnTo>
                  <a:lnTo>
                    <a:pt x="1034" y="1777"/>
                  </a:lnTo>
                  <a:lnTo>
                    <a:pt x="1045" y="1779"/>
                  </a:lnTo>
                  <a:lnTo>
                    <a:pt x="1056" y="1782"/>
                  </a:lnTo>
                  <a:lnTo>
                    <a:pt x="1067" y="1784"/>
                  </a:lnTo>
                  <a:lnTo>
                    <a:pt x="1078" y="1786"/>
                  </a:lnTo>
                  <a:lnTo>
                    <a:pt x="1092" y="1788"/>
                  </a:lnTo>
                  <a:lnTo>
                    <a:pt x="1103" y="1791"/>
                  </a:lnTo>
                  <a:lnTo>
                    <a:pt x="1114" y="1793"/>
                  </a:lnTo>
                  <a:lnTo>
                    <a:pt x="1125" y="1795"/>
                  </a:lnTo>
                  <a:lnTo>
                    <a:pt x="1137" y="1797"/>
                  </a:lnTo>
                  <a:lnTo>
                    <a:pt x="1146" y="1799"/>
                  </a:lnTo>
                  <a:lnTo>
                    <a:pt x="1157" y="1800"/>
                  </a:lnTo>
                  <a:lnTo>
                    <a:pt x="1166" y="1801"/>
                  </a:lnTo>
                  <a:lnTo>
                    <a:pt x="1174" y="1801"/>
                  </a:lnTo>
                  <a:lnTo>
                    <a:pt x="1181" y="1803"/>
                  </a:lnTo>
                  <a:lnTo>
                    <a:pt x="1190" y="1803"/>
                  </a:lnTo>
                  <a:lnTo>
                    <a:pt x="1200" y="1805"/>
                  </a:lnTo>
                  <a:lnTo>
                    <a:pt x="1211" y="1805"/>
                  </a:lnTo>
                  <a:lnTo>
                    <a:pt x="1221" y="1807"/>
                  </a:lnTo>
                  <a:lnTo>
                    <a:pt x="1233" y="1807"/>
                  </a:lnTo>
                  <a:lnTo>
                    <a:pt x="1244" y="1809"/>
                  </a:lnTo>
                  <a:lnTo>
                    <a:pt x="1258" y="1809"/>
                  </a:lnTo>
                  <a:lnTo>
                    <a:pt x="1269" y="1811"/>
                  </a:lnTo>
                  <a:lnTo>
                    <a:pt x="1282" y="1811"/>
                  </a:lnTo>
                  <a:lnTo>
                    <a:pt x="1293" y="1813"/>
                  </a:lnTo>
                  <a:lnTo>
                    <a:pt x="1306" y="1813"/>
                  </a:lnTo>
                  <a:lnTo>
                    <a:pt x="1317" y="1815"/>
                  </a:lnTo>
                  <a:lnTo>
                    <a:pt x="1328" y="1815"/>
                  </a:lnTo>
                  <a:lnTo>
                    <a:pt x="1338" y="1815"/>
                  </a:lnTo>
                  <a:lnTo>
                    <a:pt x="1348" y="1815"/>
                  </a:lnTo>
                  <a:lnTo>
                    <a:pt x="1357" y="1817"/>
                  </a:lnTo>
                  <a:lnTo>
                    <a:pt x="1367" y="1817"/>
                  </a:lnTo>
                  <a:lnTo>
                    <a:pt x="1378" y="1817"/>
                  </a:lnTo>
                  <a:lnTo>
                    <a:pt x="1389" y="1817"/>
                  </a:lnTo>
                  <a:lnTo>
                    <a:pt x="1400" y="1819"/>
                  </a:lnTo>
                  <a:lnTo>
                    <a:pt x="1413" y="1819"/>
                  </a:lnTo>
                  <a:lnTo>
                    <a:pt x="1425" y="1819"/>
                  </a:lnTo>
                  <a:lnTo>
                    <a:pt x="1438" y="1819"/>
                  </a:lnTo>
                  <a:lnTo>
                    <a:pt x="1449" y="1820"/>
                  </a:lnTo>
                  <a:lnTo>
                    <a:pt x="1461" y="1820"/>
                  </a:lnTo>
                  <a:lnTo>
                    <a:pt x="1472" y="1820"/>
                  </a:lnTo>
                  <a:lnTo>
                    <a:pt x="1484" y="1820"/>
                  </a:lnTo>
                  <a:lnTo>
                    <a:pt x="1493" y="1820"/>
                  </a:lnTo>
                  <a:lnTo>
                    <a:pt x="1504" y="1820"/>
                  </a:lnTo>
                  <a:lnTo>
                    <a:pt x="1513" y="1820"/>
                  </a:lnTo>
                  <a:lnTo>
                    <a:pt x="1522" y="1820"/>
                  </a:lnTo>
                  <a:lnTo>
                    <a:pt x="1526" y="1820"/>
                  </a:lnTo>
                  <a:lnTo>
                    <a:pt x="1532" y="1820"/>
                  </a:lnTo>
                  <a:lnTo>
                    <a:pt x="1534" y="1820"/>
                  </a:lnTo>
                  <a:lnTo>
                    <a:pt x="1538" y="1820"/>
                  </a:lnTo>
                  <a:lnTo>
                    <a:pt x="1540" y="1820"/>
                  </a:lnTo>
                  <a:lnTo>
                    <a:pt x="1542" y="1820"/>
                  </a:lnTo>
                  <a:lnTo>
                    <a:pt x="1543" y="1820"/>
                  </a:lnTo>
                  <a:lnTo>
                    <a:pt x="1545" y="1820"/>
                  </a:lnTo>
                  <a:lnTo>
                    <a:pt x="1547" y="1820"/>
                  </a:lnTo>
                  <a:lnTo>
                    <a:pt x="1550" y="1820"/>
                  </a:lnTo>
                  <a:lnTo>
                    <a:pt x="1553" y="1820"/>
                  </a:lnTo>
                  <a:lnTo>
                    <a:pt x="1559" y="1820"/>
                  </a:lnTo>
                  <a:lnTo>
                    <a:pt x="1565" y="1820"/>
                  </a:lnTo>
                  <a:lnTo>
                    <a:pt x="1574" y="1820"/>
                  </a:lnTo>
                  <a:lnTo>
                    <a:pt x="1584" y="1820"/>
                  </a:lnTo>
                  <a:lnTo>
                    <a:pt x="1599" y="182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12680" y="2939760"/>
              <a:ext cx="2904840" cy="3301920"/>
            </a:xfrm>
            <a:custGeom>
              <a:avLst/>
              <a:gdLst/>
              <a:ahLst/>
              <a:rect l="l" t="t" r="r" b="b"/>
              <a:pathLst>
                <a:path w="1830" h="2080">
                  <a:moveTo>
                    <a:pt x="0" y="0"/>
                  </a:moveTo>
                  <a:lnTo>
                    <a:pt x="1" y="19"/>
                  </a:lnTo>
                  <a:lnTo>
                    <a:pt x="2" y="32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7" y="69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81"/>
                  </a:lnTo>
                  <a:lnTo>
                    <a:pt x="8" y="86"/>
                  </a:lnTo>
                  <a:lnTo>
                    <a:pt x="9" y="92"/>
                  </a:lnTo>
                  <a:lnTo>
                    <a:pt x="11" y="100"/>
                  </a:lnTo>
                  <a:lnTo>
                    <a:pt x="11" y="111"/>
                  </a:lnTo>
                  <a:lnTo>
                    <a:pt x="13" y="125"/>
                  </a:lnTo>
                  <a:lnTo>
                    <a:pt x="15" y="141"/>
                  </a:lnTo>
                  <a:lnTo>
                    <a:pt x="19" y="159"/>
                  </a:lnTo>
                  <a:lnTo>
                    <a:pt x="22" y="180"/>
                  </a:lnTo>
                  <a:lnTo>
                    <a:pt x="25" y="202"/>
                  </a:lnTo>
                  <a:lnTo>
                    <a:pt x="29" y="225"/>
                  </a:lnTo>
                  <a:lnTo>
                    <a:pt x="35" y="250"/>
                  </a:lnTo>
                  <a:lnTo>
                    <a:pt x="39" y="276"/>
                  </a:lnTo>
                  <a:lnTo>
                    <a:pt x="45" y="302"/>
                  </a:lnTo>
                  <a:lnTo>
                    <a:pt x="50" y="330"/>
                  </a:lnTo>
                  <a:lnTo>
                    <a:pt x="56" y="356"/>
                  </a:lnTo>
                  <a:lnTo>
                    <a:pt x="62" y="384"/>
                  </a:lnTo>
                  <a:lnTo>
                    <a:pt x="67" y="410"/>
                  </a:lnTo>
                  <a:lnTo>
                    <a:pt x="73" y="436"/>
                  </a:lnTo>
                  <a:lnTo>
                    <a:pt x="79" y="460"/>
                  </a:lnTo>
                  <a:lnTo>
                    <a:pt x="84" y="486"/>
                  </a:lnTo>
                  <a:lnTo>
                    <a:pt x="90" y="512"/>
                  </a:lnTo>
                  <a:lnTo>
                    <a:pt x="96" y="540"/>
                  </a:lnTo>
                  <a:lnTo>
                    <a:pt x="103" y="568"/>
                  </a:lnTo>
                  <a:lnTo>
                    <a:pt x="110" y="597"/>
                  </a:lnTo>
                  <a:lnTo>
                    <a:pt x="118" y="625"/>
                  </a:lnTo>
                  <a:lnTo>
                    <a:pt x="125" y="653"/>
                  </a:lnTo>
                  <a:lnTo>
                    <a:pt x="133" y="681"/>
                  </a:lnTo>
                  <a:lnTo>
                    <a:pt x="140" y="709"/>
                  </a:lnTo>
                  <a:lnTo>
                    <a:pt x="148" y="734"/>
                  </a:lnTo>
                  <a:lnTo>
                    <a:pt x="155" y="759"/>
                  </a:lnTo>
                  <a:lnTo>
                    <a:pt x="163" y="782"/>
                  </a:lnTo>
                  <a:lnTo>
                    <a:pt x="168" y="804"/>
                  </a:lnTo>
                  <a:lnTo>
                    <a:pt x="176" y="823"/>
                  </a:lnTo>
                  <a:lnTo>
                    <a:pt x="181" y="839"/>
                  </a:lnTo>
                  <a:lnTo>
                    <a:pt x="188" y="852"/>
                  </a:lnTo>
                  <a:lnTo>
                    <a:pt x="193" y="866"/>
                  </a:lnTo>
                  <a:lnTo>
                    <a:pt x="198" y="881"/>
                  </a:lnTo>
                  <a:lnTo>
                    <a:pt x="205" y="898"/>
                  </a:lnTo>
                  <a:lnTo>
                    <a:pt x="213" y="915"/>
                  </a:lnTo>
                  <a:lnTo>
                    <a:pt x="220" y="935"/>
                  </a:lnTo>
                  <a:lnTo>
                    <a:pt x="229" y="955"/>
                  </a:lnTo>
                  <a:lnTo>
                    <a:pt x="237" y="975"/>
                  </a:lnTo>
                  <a:lnTo>
                    <a:pt x="247" y="996"/>
                  </a:lnTo>
                  <a:lnTo>
                    <a:pt x="255" y="1018"/>
                  </a:lnTo>
                  <a:lnTo>
                    <a:pt x="264" y="1040"/>
                  </a:lnTo>
                  <a:lnTo>
                    <a:pt x="273" y="1061"/>
                  </a:lnTo>
                  <a:lnTo>
                    <a:pt x="282" y="1081"/>
                  </a:lnTo>
                  <a:lnTo>
                    <a:pt x="289" y="1102"/>
                  </a:lnTo>
                  <a:lnTo>
                    <a:pt x="299" y="1121"/>
                  </a:lnTo>
                  <a:lnTo>
                    <a:pt x="306" y="1139"/>
                  </a:lnTo>
                  <a:lnTo>
                    <a:pt x="314" y="1155"/>
                  </a:lnTo>
                  <a:lnTo>
                    <a:pt x="321" y="1173"/>
                  </a:lnTo>
                  <a:lnTo>
                    <a:pt x="328" y="1190"/>
                  </a:lnTo>
                  <a:lnTo>
                    <a:pt x="335" y="1209"/>
                  </a:lnTo>
                  <a:lnTo>
                    <a:pt x="344" y="1228"/>
                  </a:lnTo>
                  <a:lnTo>
                    <a:pt x="352" y="1248"/>
                  </a:lnTo>
                  <a:lnTo>
                    <a:pt x="361" y="1268"/>
                  </a:lnTo>
                  <a:lnTo>
                    <a:pt x="371" y="1289"/>
                  </a:lnTo>
                  <a:lnTo>
                    <a:pt x="380" y="1308"/>
                  </a:lnTo>
                  <a:lnTo>
                    <a:pt x="387" y="1328"/>
                  </a:lnTo>
                  <a:lnTo>
                    <a:pt x="397" y="1347"/>
                  </a:lnTo>
                  <a:lnTo>
                    <a:pt x="404" y="1366"/>
                  </a:lnTo>
                  <a:lnTo>
                    <a:pt x="413" y="1383"/>
                  </a:lnTo>
                  <a:lnTo>
                    <a:pt x="420" y="1399"/>
                  </a:lnTo>
                  <a:lnTo>
                    <a:pt x="427" y="1413"/>
                  </a:lnTo>
                  <a:lnTo>
                    <a:pt x="433" y="1426"/>
                  </a:lnTo>
                  <a:lnTo>
                    <a:pt x="440" y="1436"/>
                  </a:lnTo>
                  <a:lnTo>
                    <a:pt x="445" y="1448"/>
                  </a:lnTo>
                  <a:lnTo>
                    <a:pt x="450" y="1460"/>
                  </a:lnTo>
                  <a:lnTo>
                    <a:pt x="457" y="1474"/>
                  </a:lnTo>
                  <a:lnTo>
                    <a:pt x="465" y="1487"/>
                  </a:lnTo>
                  <a:lnTo>
                    <a:pt x="473" y="1502"/>
                  </a:lnTo>
                  <a:lnTo>
                    <a:pt x="483" y="1517"/>
                  </a:lnTo>
                  <a:lnTo>
                    <a:pt x="492" y="1532"/>
                  </a:lnTo>
                  <a:lnTo>
                    <a:pt x="503" y="1547"/>
                  </a:lnTo>
                  <a:lnTo>
                    <a:pt x="512" y="1563"/>
                  </a:lnTo>
                  <a:lnTo>
                    <a:pt x="522" y="1578"/>
                  </a:lnTo>
                  <a:lnTo>
                    <a:pt x="531" y="1593"/>
                  </a:lnTo>
                  <a:lnTo>
                    <a:pt x="543" y="1607"/>
                  </a:lnTo>
                  <a:lnTo>
                    <a:pt x="552" y="1622"/>
                  </a:lnTo>
                  <a:lnTo>
                    <a:pt x="562" y="1634"/>
                  </a:lnTo>
                  <a:lnTo>
                    <a:pt x="571" y="1646"/>
                  </a:lnTo>
                  <a:lnTo>
                    <a:pt x="581" y="1657"/>
                  </a:lnTo>
                  <a:lnTo>
                    <a:pt x="589" y="1668"/>
                  </a:lnTo>
                  <a:lnTo>
                    <a:pt x="598" y="1679"/>
                  </a:lnTo>
                  <a:lnTo>
                    <a:pt x="609" y="1692"/>
                  </a:lnTo>
                  <a:lnTo>
                    <a:pt x="620" y="1703"/>
                  </a:lnTo>
                  <a:lnTo>
                    <a:pt x="631" y="1716"/>
                  </a:lnTo>
                  <a:lnTo>
                    <a:pt x="643" y="1728"/>
                  </a:lnTo>
                  <a:lnTo>
                    <a:pt x="656" y="1742"/>
                  </a:lnTo>
                  <a:lnTo>
                    <a:pt x="669" y="1753"/>
                  </a:lnTo>
                  <a:lnTo>
                    <a:pt x="680" y="1766"/>
                  </a:lnTo>
                  <a:lnTo>
                    <a:pt x="693" y="1778"/>
                  </a:lnTo>
                  <a:lnTo>
                    <a:pt x="704" y="1790"/>
                  </a:lnTo>
                  <a:lnTo>
                    <a:pt x="717" y="1801"/>
                  </a:lnTo>
                  <a:lnTo>
                    <a:pt x="727" y="1812"/>
                  </a:lnTo>
                  <a:lnTo>
                    <a:pt x="739" y="1820"/>
                  </a:lnTo>
                  <a:lnTo>
                    <a:pt x="748" y="1828"/>
                  </a:lnTo>
                  <a:lnTo>
                    <a:pt x="758" y="1835"/>
                  </a:lnTo>
                  <a:lnTo>
                    <a:pt x="765" y="1843"/>
                  </a:lnTo>
                  <a:lnTo>
                    <a:pt x="774" y="1849"/>
                  </a:lnTo>
                  <a:lnTo>
                    <a:pt x="783" y="1856"/>
                  </a:lnTo>
                  <a:lnTo>
                    <a:pt x="792" y="1862"/>
                  </a:lnTo>
                  <a:lnTo>
                    <a:pt x="801" y="1870"/>
                  </a:lnTo>
                  <a:lnTo>
                    <a:pt x="811" y="1875"/>
                  </a:lnTo>
                  <a:lnTo>
                    <a:pt x="819" y="1882"/>
                  </a:lnTo>
                  <a:lnTo>
                    <a:pt x="829" y="1888"/>
                  </a:lnTo>
                  <a:lnTo>
                    <a:pt x="836" y="1894"/>
                  </a:lnTo>
                  <a:lnTo>
                    <a:pt x="844" y="1900"/>
                  </a:lnTo>
                  <a:lnTo>
                    <a:pt x="850" y="1906"/>
                  </a:lnTo>
                  <a:lnTo>
                    <a:pt x="858" y="1910"/>
                  </a:lnTo>
                  <a:lnTo>
                    <a:pt x="863" y="1915"/>
                  </a:lnTo>
                  <a:lnTo>
                    <a:pt x="869" y="1919"/>
                  </a:lnTo>
                  <a:lnTo>
                    <a:pt x="873" y="1922"/>
                  </a:lnTo>
                  <a:lnTo>
                    <a:pt x="878" y="1924"/>
                  </a:lnTo>
                  <a:lnTo>
                    <a:pt x="880" y="1927"/>
                  </a:lnTo>
                  <a:lnTo>
                    <a:pt x="884" y="1929"/>
                  </a:lnTo>
                  <a:lnTo>
                    <a:pt x="889" y="1931"/>
                  </a:lnTo>
                  <a:lnTo>
                    <a:pt x="895" y="1933"/>
                  </a:lnTo>
                  <a:lnTo>
                    <a:pt x="900" y="1937"/>
                  </a:lnTo>
                  <a:lnTo>
                    <a:pt x="907" y="1939"/>
                  </a:lnTo>
                  <a:lnTo>
                    <a:pt x="913" y="1943"/>
                  </a:lnTo>
                  <a:lnTo>
                    <a:pt x="920" y="1945"/>
                  </a:lnTo>
                  <a:lnTo>
                    <a:pt x="927" y="1949"/>
                  </a:lnTo>
                  <a:lnTo>
                    <a:pt x="934" y="1952"/>
                  </a:lnTo>
                  <a:lnTo>
                    <a:pt x="941" y="1956"/>
                  </a:lnTo>
                  <a:lnTo>
                    <a:pt x="949" y="1958"/>
                  </a:lnTo>
                  <a:lnTo>
                    <a:pt x="955" y="1962"/>
                  </a:lnTo>
                  <a:lnTo>
                    <a:pt x="963" y="1964"/>
                  </a:lnTo>
                  <a:lnTo>
                    <a:pt x="969" y="1968"/>
                  </a:lnTo>
                  <a:lnTo>
                    <a:pt x="977" y="1969"/>
                  </a:lnTo>
                  <a:lnTo>
                    <a:pt x="983" y="1973"/>
                  </a:lnTo>
                  <a:lnTo>
                    <a:pt x="991" y="1976"/>
                  </a:lnTo>
                  <a:lnTo>
                    <a:pt x="1000" y="1980"/>
                  </a:lnTo>
                  <a:lnTo>
                    <a:pt x="1011" y="1982"/>
                  </a:lnTo>
                  <a:lnTo>
                    <a:pt x="1021" y="1986"/>
                  </a:lnTo>
                  <a:lnTo>
                    <a:pt x="1032" y="1989"/>
                  </a:lnTo>
                  <a:lnTo>
                    <a:pt x="1043" y="1993"/>
                  </a:lnTo>
                  <a:lnTo>
                    <a:pt x="1056" y="1996"/>
                  </a:lnTo>
                  <a:lnTo>
                    <a:pt x="1067" y="2000"/>
                  </a:lnTo>
                  <a:lnTo>
                    <a:pt x="1081" y="2004"/>
                  </a:lnTo>
                  <a:lnTo>
                    <a:pt x="1093" y="2007"/>
                  </a:lnTo>
                  <a:lnTo>
                    <a:pt x="1105" y="2011"/>
                  </a:lnTo>
                  <a:lnTo>
                    <a:pt x="1117" y="2015"/>
                  </a:lnTo>
                  <a:lnTo>
                    <a:pt x="1129" y="2018"/>
                  </a:lnTo>
                  <a:lnTo>
                    <a:pt x="1139" y="2021"/>
                  </a:lnTo>
                  <a:lnTo>
                    <a:pt x="1151" y="2023"/>
                  </a:lnTo>
                  <a:lnTo>
                    <a:pt x="1160" y="2027"/>
                  </a:lnTo>
                  <a:lnTo>
                    <a:pt x="1171" y="2028"/>
                  </a:lnTo>
                  <a:lnTo>
                    <a:pt x="1182" y="2032"/>
                  </a:lnTo>
                  <a:lnTo>
                    <a:pt x="1195" y="2034"/>
                  </a:lnTo>
                  <a:lnTo>
                    <a:pt x="1208" y="2037"/>
                  </a:lnTo>
                  <a:lnTo>
                    <a:pt x="1221" y="2039"/>
                  </a:lnTo>
                  <a:lnTo>
                    <a:pt x="1234" y="2042"/>
                  </a:lnTo>
                  <a:lnTo>
                    <a:pt x="1249" y="2044"/>
                  </a:lnTo>
                  <a:lnTo>
                    <a:pt x="1262" y="2047"/>
                  </a:lnTo>
                  <a:lnTo>
                    <a:pt x="1275" y="2049"/>
                  </a:lnTo>
                  <a:lnTo>
                    <a:pt x="1288" y="2051"/>
                  </a:lnTo>
                  <a:lnTo>
                    <a:pt x="1301" y="2053"/>
                  </a:lnTo>
                  <a:lnTo>
                    <a:pt x="1312" y="2055"/>
                  </a:lnTo>
                  <a:lnTo>
                    <a:pt x="1323" y="2057"/>
                  </a:lnTo>
                  <a:lnTo>
                    <a:pt x="1333" y="2058"/>
                  </a:lnTo>
                  <a:lnTo>
                    <a:pt x="1343" y="2058"/>
                  </a:lnTo>
                  <a:lnTo>
                    <a:pt x="1351" y="2060"/>
                  </a:lnTo>
                  <a:lnTo>
                    <a:pt x="1361" y="2062"/>
                  </a:lnTo>
                  <a:lnTo>
                    <a:pt x="1372" y="2064"/>
                  </a:lnTo>
                  <a:lnTo>
                    <a:pt x="1384" y="2064"/>
                  </a:lnTo>
                  <a:lnTo>
                    <a:pt x="1396" y="2065"/>
                  </a:lnTo>
                  <a:lnTo>
                    <a:pt x="1409" y="2065"/>
                  </a:lnTo>
                  <a:lnTo>
                    <a:pt x="1423" y="2067"/>
                  </a:lnTo>
                  <a:lnTo>
                    <a:pt x="1437" y="2067"/>
                  </a:lnTo>
                  <a:lnTo>
                    <a:pt x="1451" y="2069"/>
                  </a:lnTo>
                  <a:lnTo>
                    <a:pt x="1465" y="2070"/>
                  </a:lnTo>
                  <a:lnTo>
                    <a:pt x="1478" y="2072"/>
                  </a:lnTo>
                  <a:lnTo>
                    <a:pt x="1493" y="2072"/>
                  </a:lnTo>
                  <a:lnTo>
                    <a:pt x="1505" y="2074"/>
                  </a:lnTo>
                  <a:lnTo>
                    <a:pt x="1518" y="2074"/>
                  </a:lnTo>
                  <a:lnTo>
                    <a:pt x="1529" y="2075"/>
                  </a:lnTo>
                  <a:lnTo>
                    <a:pt x="1542" y="2075"/>
                  </a:lnTo>
                  <a:lnTo>
                    <a:pt x="1552" y="2077"/>
                  </a:lnTo>
                  <a:lnTo>
                    <a:pt x="1563" y="2077"/>
                  </a:lnTo>
                  <a:lnTo>
                    <a:pt x="1576" y="2077"/>
                  </a:lnTo>
                  <a:lnTo>
                    <a:pt x="1589" y="2077"/>
                  </a:lnTo>
                  <a:lnTo>
                    <a:pt x="1602" y="2078"/>
                  </a:lnTo>
                  <a:lnTo>
                    <a:pt x="1616" y="2078"/>
                  </a:lnTo>
                  <a:lnTo>
                    <a:pt x="1630" y="2078"/>
                  </a:lnTo>
                  <a:lnTo>
                    <a:pt x="1645" y="2078"/>
                  </a:lnTo>
                  <a:lnTo>
                    <a:pt x="1658" y="2079"/>
                  </a:lnTo>
                  <a:lnTo>
                    <a:pt x="1671" y="2079"/>
                  </a:lnTo>
                  <a:lnTo>
                    <a:pt x="1685" y="2079"/>
                  </a:lnTo>
                  <a:lnTo>
                    <a:pt x="1698" y="2079"/>
                  </a:lnTo>
                  <a:lnTo>
                    <a:pt x="1709" y="2079"/>
                  </a:lnTo>
                  <a:lnTo>
                    <a:pt x="1721" y="2079"/>
                  </a:lnTo>
                  <a:lnTo>
                    <a:pt x="1731" y="2079"/>
                  </a:lnTo>
                  <a:lnTo>
                    <a:pt x="1741" y="2079"/>
                  </a:lnTo>
                  <a:lnTo>
                    <a:pt x="1747" y="2079"/>
                  </a:lnTo>
                  <a:lnTo>
                    <a:pt x="1753" y="2079"/>
                  </a:lnTo>
                  <a:lnTo>
                    <a:pt x="1757" y="2079"/>
                  </a:lnTo>
                  <a:lnTo>
                    <a:pt x="1760" y="2079"/>
                  </a:lnTo>
                  <a:lnTo>
                    <a:pt x="1762" y="2079"/>
                  </a:lnTo>
                  <a:lnTo>
                    <a:pt x="1764" y="2079"/>
                  </a:lnTo>
                  <a:lnTo>
                    <a:pt x="1766" y="2079"/>
                  </a:lnTo>
                  <a:lnTo>
                    <a:pt x="1768" y="2079"/>
                  </a:lnTo>
                  <a:lnTo>
                    <a:pt x="1769" y="2079"/>
                  </a:lnTo>
                  <a:lnTo>
                    <a:pt x="1773" y="2079"/>
                  </a:lnTo>
                  <a:lnTo>
                    <a:pt x="1777" y="2079"/>
                  </a:lnTo>
                  <a:lnTo>
                    <a:pt x="1783" y="2079"/>
                  </a:lnTo>
                  <a:lnTo>
                    <a:pt x="1790" y="2079"/>
                  </a:lnTo>
                  <a:lnTo>
                    <a:pt x="1801" y="2079"/>
                  </a:lnTo>
                  <a:lnTo>
                    <a:pt x="1813" y="2079"/>
                  </a:lnTo>
                  <a:lnTo>
                    <a:pt x="1829" y="2079"/>
                  </a:lnTo>
                </a:path>
              </a:pathLst>
            </a:custGeom>
            <a:noFill/>
            <a:ln w="442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457200" y="3372120"/>
              <a:ext cx="2223720" cy="1799640"/>
              <a:chOff x="457200" y="3372120"/>
              <a:chExt cx="2223720" cy="1799640"/>
            </a:xfrm>
          </p:grpSpPr>
          <p:sp>
            <p:nvSpPr>
              <p:cNvPr id="679" name=""/>
              <p:cNvSpPr/>
              <p:nvPr/>
            </p:nvSpPr>
            <p:spPr>
              <a:xfrm>
                <a:off x="907920" y="4309920"/>
                <a:ext cx="1630080" cy="861840"/>
              </a:xfrm>
              <a:custGeom>
                <a:avLst/>
                <a:gdLst/>
                <a:ahLst/>
                <a:rect l="l" t="t" r="r" b="b"/>
                <a:pathLst>
                  <a:path w="1027" h="543">
                    <a:moveTo>
                      <a:pt x="0" y="423"/>
                    </a:moveTo>
                    <a:lnTo>
                      <a:pt x="604" y="70"/>
                    </a:lnTo>
                    <a:lnTo>
                      <a:pt x="524" y="0"/>
                    </a:lnTo>
                    <a:lnTo>
                      <a:pt x="1007" y="36"/>
                    </a:lnTo>
                    <a:lnTo>
                      <a:pt x="1026" y="311"/>
                    </a:lnTo>
                    <a:lnTo>
                      <a:pt x="949" y="263"/>
                    </a:lnTo>
                    <a:lnTo>
                      <a:pt x="184" y="542"/>
                    </a:lnTo>
                    <a:lnTo>
                      <a:pt x="0" y="423"/>
                    </a:lnTo>
                    <a:lnTo>
                      <a:pt x="0" y="423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1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100000">
                <a:off x="507600" y="3787200"/>
                <a:ext cx="2122560" cy="7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000" spc="-1" strike="noStrike">
                    <a:solidFill>
                      <a:srgbClr val="808080"/>
                    </a:solidFill>
                    <a:latin typeface="Courier New"/>
                  </a:rPr>
                  <a:t>incremento 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000" spc="-1" strike="noStrike">
                    <a:solidFill>
                      <a:srgbClr val="808080"/>
                    </a:solidFill>
                    <a:latin typeface="Courier New"/>
                  </a:rPr>
                  <a:t>preferenci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2184120" y="5692680"/>
              <a:ext cx="1219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0000"/>
                </a:buClr>
                <a:buSzPct val="9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07800" y="5387760"/>
              <a:ext cx="1065240" cy="1066680"/>
            </a:xfrm>
            <a:custGeom>
              <a:avLst/>
              <a:gdLst/>
              <a:ahLst/>
              <a:rect l="l" t="t" r="r" b="b"/>
              <a:pathLst>
                <a:path w="499" h="500">
                  <a:moveTo>
                    <a:pt x="55" y="96"/>
                  </a:moveTo>
                  <a:lnTo>
                    <a:pt x="27" y="138"/>
                  </a:lnTo>
                  <a:lnTo>
                    <a:pt x="9" y="181"/>
                  </a:lnTo>
                  <a:lnTo>
                    <a:pt x="0" y="224"/>
                  </a:lnTo>
                  <a:lnTo>
                    <a:pt x="0" y="266"/>
                  </a:lnTo>
                  <a:lnTo>
                    <a:pt x="5" y="308"/>
                  </a:lnTo>
                  <a:lnTo>
                    <a:pt x="20" y="347"/>
                  </a:lnTo>
                  <a:lnTo>
                    <a:pt x="39" y="383"/>
                  </a:lnTo>
                  <a:lnTo>
                    <a:pt x="65" y="415"/>
                  </a:lnTo>
                  <a:lnTo>
                    <a:pt x="95" y="444"/>
                  </a:lnTo>
                  <a:lnTo>
                    <a:pt x="128" y="467"/>
                  </a:lnTo>
                  <a:lnTo>
                    <a:pt x="166" y="485"/>
                  </a:lnTo>
                  <a:lnTo>
                    <a:pt x="206" y="495"/>
                  </a:lnTo>
                  <a:lnTo>
                    <a:pt x="248" y="499"/>
                  </a:lnTo>
                  <a:lnTo>
                    <a:pt x="292" y="495"/>
                  </a:lnTo>
                  <a:lnTo>
                    <a:pt x="337" y="482"/>
                  </a:lnTo>
                  <a:lnTo>
                    <a:pt x="381" y="458"/>
                  </a:lnTo>
                  <a:lnTo>
                    <a:pt x="420" y="429"/>
                  </a:lnTo>
                  <a:lnTo>
                    <a:pt x="451" y="395"/>
                  </a:lnTo>
                  <a:lnTo>
                    <a:pt x="474" y="358"/>
                  </a:lnTo>
                  <a:lnTo>
                    <a:pt x="489" y="318"/>
                  </a:lnTo>
                  <a:lnTo>
                    <a:pt x="497" y="277"/>
                  </a:lnTo>
                  <a:lnTo>
                    <a:pt x="498" y="236"/>
                  </a:lnTo>
                  <a:lnTo>
                    <a:pt x="491" y="195"/>
                  </a:lnTo>
                  <a:lnTo>
                    <a:pt x="479" y="155"/>
                  </a:lnTo>
                  <a:lnTo>
                    <a:pt x="460" y="119"/>
                  </a:lnTo>
                  <a:lnTo>
                    <a:pt x="437" y="86"/>
                  </a:lnTo>
                  <a:lnTo>
                    <a:pt x="407" y="57"/>
                  </a:lnTo>
                  <a:lnTo>
                    <a:pt x="374" y="32"/>
                  </a:lnTo>
                  <a:lnTo>
                    <a:pt x="335" y="14"/>
                  </a:lnTo>
                  <a:lnTo>
                    <a:pt x="293" y="3"/>
                  </a:lnTo>
                  <a:lnTo>
                    <a:pt x="247" y="0"/>
                  </a:lnTo>
                  <a:lnTo>
                    <a:pt x="198" y="5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994280" y="2209680"/>
            <a:ext cx="5135040" cy="5667840"/>
            <a:chOff x="4994280" y="2209680"/>
            <a:chExt cx="5135040" cy="5667840"/>
          </a:xfrm>
        </p:grpSpPr>
        <p:sp>
          <p:nvSpPr>
            <p:cNvPr id="684" name=""/>
            <p:cNvSpPr/>
            <p:nvPr/>
          </p:nvSpPr>
          <p:spPr>
            <a:xfrm>
              <a:off x="5616360" y="3112920"/>
              <a:ext cx="2819520" cy="3159000"/>
            </a:xfrm>
            <a:custGeom>
              <a:avLst/>
              <a:gdLst/>
              <a:ahLst/>
              <a:rect l="l" t="t" r="r" b="b"/>
              <a:pathLst>
                <a:path w="1776" h="1990">
                  <a:moveTo>
                    <a:pt x="1747" y="1971"/>
                  </a:moveTo>
                  <a:lnTo>
                    <a:pt x="1747" y="1971"/>
                  </a:lnTo>
                  <a:lnTo>
                    <a:pt x="1426" y="1960"/>
                  </a:lnTo>
                  <a:lnTo>
                    <a:pt x="1228" y="1941"/>
                  </a:lnTo>
                  <a:lnTo>
                    <a:pt x="967" y="1882"/>
                  </a:lnTo>
                  <a:lnTo>
                    <a:pt x="908" y="1842"/>
                  </a:lnTo>
                  <a:lnTo>
                    <a:pt x="810" y="1802"/>
                  </a:lnTo>
                  <a:lnTo>
                    <a:pt x="719" y="1732"/>
                  </a:lnTo>
                  <a:lnTo>
                    <a:pt x="628" y="1643"/>
                  </a:lnTo>
                  <a:lnTo>
                    <a:pt x="548" y="1552"/>
                  </a:lnTo>
                  <a:lnTo>
                    <a:pt x="480" y="1463"/>
                  </a:lnTo>
                  <a:lnTo>
                    <a:pt x="390" y="1295"/>
                  </a:lnTo>
                  <a:lnTo>
                    <a:pt x="330" y="1165"/>
                  </a:lnTo>
                  <a:lnTo>
                    <a:pt x="280" y="1035"/>
                  </a:lnTo>
                  <a:lnTo>
                    <a:pt x="209" y="857"/>
                  </a:lnTo>
                  <a:lnTo>
                    <a:pt x="170" y="767"/>
                  </a:lnTo>
                  <a:lnTo>
                    <a:pt x="119" y="597"/>
                  </a:lnTo>
                  <a:lnTo>
                    <a:pt x="70" y="399"/>
                  </a:lnTo>
                  <a:lnTo>
                    <a:pt x="30" y="229"/>
                  </a:lnTo>
                  <a:lnTo>
                    <a:pt x="14" y="140"/>
                  </a:lnTo>
                  <a:lnTo>
                    <a:pt x="8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0" y="40"/>
                  </a:lnTo>
                  <a:lnTo>
                    <a:pt x="658" y="9"/>
                  </a:lnTo>
                  <a:lnTo>
                    <a:pt x="879" y="50"/>
                  </a:lnTo>
                  <a:lnTo>
                    <a:pt x="1208" y="30"/>
                  </a:lnTo>
                  <a:lnTo>
                    <a:pt x="1387" y="80"/>
                  </a:lnTo>
                  <a:lnTo>
                    <a:pt x="1556" y="170"/>
                  </a:lnTo>
                  <a:lnTo>
                    <a:pt x="1616" y="429"/>
                  </a:lnTo>
                  <a:lnTo>
                    <a:pt x="1598" y="757"/>
                  </a:lnTo>
                  <a:lnTo>
                    <a:pt x="1776" y="1244"/>
                  </a:lnTo>
                  <a:lnTo>
                    <a:pt x="1776" y="1582"/>
                  </a:lnTo>
                  <a:lnTo>
                    <a:pt x="1717" y="1812"/>
                  </a:lnTo>
                  <a:lnTo>
                    <a:pt x="1747" y="1990"/>
                  </a:lnTo>
                  <a:lnTo>
                    <a:pt x="1747" y="1971"/>
                  </a:lnTo>
                  <a:lnTo>
                    <a:pt x="1747" y="1971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100000">
                  <a:srgbClr val="400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94280" y="2701800"/>
              <a:ext cx="4356000" cy="4471920"/>
            </a:xfrm>
            <a:custGeom>
              <a:avLst/>
              <a:gdLst/>
              <a:ahLst/>
              <a:rect l="l" t="t" r="r" b="b"/>
              <a:pathLst>
                <a:path w="2744" h="2817">
                  <a:moveTo>
                    <a:pt x="0" y="0"/>
                  </a:moveTo>
                  <a:lnTo>
                    <a:pt x="0" y="2816"/>
                  </a:lnTo>
                  <a:lnTo>
                    <a:pt x="2743" y="281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87920" y="3071520"/>
              <a:ext cx="2871720" cy="3178080"/>
            </a:xfrm>
            <a:custGeom>
              <a:avLst/>
              <a:gdLst/>
              <a:ahLst/>
              <a:rect l="l" t="t" r="r" b="b"/>
              <a:pathLst>
                <a:path w="1809" h="2002">
                  <a:moveTo>
                    <a:pt x="0" y="0"/>
                  </a:moveTo>
                  <a:lnTo>
                    <a:pt x="1" y="18"/>
                  </a:lnTo>
                  <a:lnTo>
                    <a:pt x="2" y="31"/>
                  </a:lnTo>
                  <a:lnTo>
                    <a:pt x="2" y="41"/>
                  </a:lnTo>
                  <a:lnTo>
                    <a:pt x="4" y="49"/>
                  </a:lnTo>
                  <a:lnTo>
                    <a:pt x="4" y="56"/>
                  </a:lnTo>
                  <a:lnTo>
                    <a:pt x="4" y="61"/>
                  </a:lnTo>
                  <a:lnTo>
                    <a:pt x="4" y="65"/>
                  </a:lnTo>
                  <a:lnTo>
                    <a:pt x="6" y="66"/>
                  </a:lnTo>
                  <a:lnTo>
                    <a:pt x="6" y="69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7" y="75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10" y="96"/>
                  </a:lnTo>
                  <a:lnTo>
                    <a:pt x="10" y="107"/>
                  </a:lnTo>
                  <a:lnTo>
                    <a:pt x="12" y="119"/>
                  </a:lnTo>
                  <a:lnTo>
                    <a:pt x="14" y="135"/>
                  </a:lnTo>
                  <a:lnTo>
                    <a:pt x="18" y="153"/>
                  </a:lnTo>
                  <a:lnTo>
                    <a:pt x="21" y="173"/>
                  </a:lnTo>
                  <a:lnTo>
                    <a:pt x="25" y="194"/>
                  </a:lnTo>
                  <a:lnTo>
                    <a:pt x="29" y="217"/>
                  </a:lnTo>
                  <a:lnTo>
                    <a:pt x="34" y="240"/>
                  </a:lnTo>
                  <a:lnTo>
                    <a:pt x="38" y="265"/>
                  </a:lnTo>
                  <a:lnTo>
                    <a:pt x="44" y="290"/>
                  </a:lnTo>
                  <a:lnTo>
                    <a:pt x="49" y="317"/>
                  </a:lnTo>
                  <a:lnTo>
                    <a:pt x="55" y="342"/>
                  </a:lnTo>
                  <a:lnTo>
                    <a:pt x="60" y="368"/>
                  </a:lnTo>
                  <a:lnTo>
                    <a:pt x="66" y="394"/>
                  </a:lnTo>
                  <a:lnTo>
                    <a:pt x="72" y="419"/>
                  </a:lnTo>
                  <a:lnTo>
                    <a:pt x="77" y="443"/>
                  </a:lnTo>
                  <a:lnTo>
                    <a:pt x="82" y="468"/>
                  </a:lnTo>
                  <a:lnTo>
                    <a:pt x="88" y="493"/>
                  </a:lnTo>
                  <a:lnTo>
                    <a:pt x="94" y="520"/>
                  </a:lnTo>
                  <a:lnTo>
                    <a:pt x="102" y="546"/>
                  </a:lnTo>
                  <a:lnTo>
                    <a:pt x="108" y="574"/>
                  </a:lnTo>
                  <a:lnTo>
                    <a:pt x="116" y="601"/>
                  </a:lnTo>
                  <a:lnTo>
                    <a:pt x="124" y="629"/>
                  </a:lnTo>
                  <a:lnTo>
                    <a:pt x="132" y="655"/>
                  </a:lnTo>
                  <a:lnTo>
                    <a:pt x="139" y="681"/>
                  </a:lnTo>
                  <a:lnTo>
                    <a:pt x="147" y="707"/>
                  </a:lnTo>
                  <a:lnTo>
                    <a:pt x="154" y="731"/>
                  </a:lnTo>
                  <a:lnTo>
                    <a:pt x="162" y="753"/>
                  </a:lnTo>
                  <a:lnTo>
                    <a:pt x="167" y="774"/>
                  </a:lnTo>
                  <a:lnTo>
                    <a:pt x="174" y="791"/>
                  </a:lnTo>
                  <a:lnTo>
                    <a:pt x="180" y="808"/>
                  </a:lnTo>
                  <a:lnTo>
                    <a:pt x="186" y="820"/>
                  </a:lnTo>
                  <a:lnTo>
                    <a:pt x="191" y="834"/>
                  </a:lnTo>
                  <a:lnTo>
                    <a:pt x="196" y="847"/>
                  </a:lnTo>
                  <a:lnTo>
                    <a:pt x="204" y="864"/>
                  </a:lnTo>
                  <a:lnTo>
                    <a:pt x="211" y="881"/>
                  </a:lnTo>
                  <a:lnTo>
                    <a:pt x="218" y="900"/>
                  </a:lnTo>
                  <a:lnTo>
                    <a:pt x="226" y="919"/>
                  </a:lnTo>
                  <a:lnTo>
                    <a:pt x="235" y="939"/>
                  </a:lnTo>
                  <a:lnTo>
                    <a:pt x="244" y="959"/>
                  </a:lnTo>
                  <a:lnTo>
                    <a:pt x="252" y="980"/>
                  </a:lnTo>
                  <a:lnTo>
                    <a:pt x="261" y="1001"/>
                  </a:lnTo>
                  <a:lnTo>
                    <a:pt x="269" y="1021"/>
                  </a:lnTo>
                  <a:lnTo>
                    <a:pt x="278" y="1040"/>
                  </a:lnTo>
                  <a:lnTo>
                    <a:pt x="286" y="1060"/>
                  </a:lnTo>
                  <a:lnTo>
                    <a:pt x="294" y="1079"/>
                  </a:lnTo>
                  <a:lnTo>
                    <a:pt x="302" y="1097"/>
                  </a:lnTo>
                  <a:lnTo>
                    <a:pt x="310" y="1112"/>
                  </a:lnTo>
                  <a:lnTo>
                    <a:pt x="316" y="1129"/>
                  </a:lnTo>
                  <a:lnTo>
                    <a:pt x="324" y="1146"/>
                  </a:lnTo>
                  <a:lnTo>
                    <a:pt x="331" y="1165"/>
                  </a:lnTo>
                  <a:lnTo>
                    <a:pt x="341" y="1183"/>
                  </a:lnTo>
                  <a:lnTo>
                    <a:pt x="348" y="1203"/>
                  </a:lnTo>
                  <a:lnTo>
                    <a:pt x="358" y="1221"/>
                  </a:lnTo>
                  <a:lnTo>
                    <a:pt x="366" y="1241"/>
                  </a:lnTo>
                  <a:lnTo>
                    <a:pt x="376" y="1259"/>
                  </a:lnTo>
                  <a:lnTo>
                    <a:pt x="383" y="1279"/>
                  </a:lnTo>
                  <a:lnTo>
                    <a:pt x="392" y="1297"/>
                  </a:lnTo>
                  <a:lnTo>
                    <a:pt x="400" y="1314"/>
                  </a:lnTo>
                  <a:lnTo>
                    <a:pt x="409" y="1331"/>
                  </a:lnTo>
                  <a:lnTo>
                    <a:pt x="415" y="1346"/>
                  </a:lnTo>
                  <a:lnTo>
                    <a:pt x="422" y="1361"/>
                  </a:lnTo>
                  <a:lnTo>
                    <a:pt x="428" y="1373"/>
                  </a:lnTo>
                  <a:lnTo>
                    <a:pt x="434" y="1383"/>
                  </a:lnTo>
                  <a:lnTo>
                    <a:pt x="439" y="1394"/>
                  </a:lnTo>
                  <a:lnTo>
                    <a:pt x="444" y="1405"/>
                  </a:lnTo>
                  <a:lnTo>
                    <a:pt x="451" y="1419"/>
                  </a:lnTo>
                  <a:lnTo>
                    <a:pt x="459" y="1431"/>
                  </a:lnTo>
                  <a:lnTo>
                    <a:pt x="467" y="1446"/>
                  </a:lnTo>
                  <a:lnTo>
                    <a:pt x="477" y="1460"/>
                  </a:lnTo>
                  <a:lnTo>
                    <a:pt x="486" y="1475"/>
                  </a:lnTo>
                  <a:lnTo>
                    <a:pt x="496" y="1489"/>
                  </a:lnTo>
                  <a:lnTo>
                    <a:pt x="506" y="1504"/>
                  </a:lnTo>
                  <a:lnTo>
                    <a:pt x="516" y="1519"/>
                  </a:lnTo>
                  <a:lnTo>
                    <a:pt x="525" y="1534"/>
                  </a:lnTo>
                  <a:lnTo>
                    <a:pt x="536" y="1547"/>
                  </a:lnTo>
                  <a:lnTo>
                    <a:pt x="545" y="1561"/>
                  </a:lnTo>
                  <a:lnTo>
                    <a:pt x="555" y="1573"/>
                  </a:lnTo>
                  <a:lnTo>
                    <a:pt x="564" y="1585"/>
                  </a:lnTo>
                  <a:lnTo>
                    <a:pt x="574" y="1595"/>
                  </a:lnTo>
                  <a:lnTo>
                    <a:pt x="582" y="1606"/>
                  </a:lnTo>
                  <a:lnTo>
                    <a:pt x="591" y="1617"/>
                  </a:lnTo>
                  <a:lnTo>
                    <a:pt x="602" y="1629"/>
                  </a:lnTo>
                  <a:lnTo>
                    <a:pt x="613" y="1640"/>
                  </a:lnTo>
                  <a:lnTo>
                    <a:pt x="624" y="1653"/>
                  </a:lnTo>
                  <a:lnTo>
                    <a:pt x="636" y="1664"/>
                  </a:lnTo>
                  <a:lnTo>
                    <a:pt x="647" y="1677"/>
                  </a:lnTo>
                  <a:lnTo>
                    <a:pt x="660" y="1688"/>
                  </a:lnTo>
                  <a:lnTo>
                    <a:pt x="672" y="1701"/>
                  </a:lnTo>
                  <a:lnTo>
                    <a:pt x="684" y="1713"/>
                  </a:lnTo>
                  <a:lnTo>
                    <a:pt x="695" y="1724"/>
                  </a:lnTo>
                  <a:lnTo>
                    <a:pt x="708" y="1734"/>
                  </a:lnTo>
                  <a:lnTo>
                    <a:pt x="718" y="1744"/>
                  </a:lnTo>
                  <a:lnTo>
                    <a:pt x="730" y="1752"/>
                  </a:lnTo>
                  <a:lnTo>
                    <a:pt x="739" y="1761"/>
                  </a:lnTo>
                  <a:lnTo>
                    <a:pt x="749" y="1767"/>
                  </a:lnTo>
                  <a:lnTo>
                    <a:pt x="756" y="1774"/>
                  </a:lnTo>
                  <a:lnTo>
                    <a:pt x="765" y="1780"/>
                  </a:lnTo>
                  <a:lnTo>
                    <a:pt x="774" y="1787"/>
                  </a:lnTo>
                  <a:lnTo>
                    <a:pt x="783" y="1792"/>
                  </a:lnTo>
                  <a:lnTo>
                    <a:pt x="791" y="1800"/>
                  </a:lnTo>
                  <a:lnTo>
                    <a:pt x="800" y="1805"/>
                  </a:lnTo>
                  <a:lnTo>
                    <a:pt x="809" y="1812"/>
                  </a:lnTo>
                  <a:lnTo>
                    <a:pt x="819" y="1817"/>
                  </a:lnTo>
                  <a:lnTo>
                    <a:pt x="826" y="1823"/>
                  </a:lnTo>
                  <a:lnTo>
                    <a:pt x="834" y="1829"/>
                  </a:lnTo>
                  <a:lnTo>
                    <a:pt x="840" y="1835"/>
                  </a:lnTo>
                  <a:lnTo>
                    <a:pt x="848" y="1839"/>
                  </a:lnTo>
                  <a:lnTo>
                    <a:pt x="854" y="1843"/>
                  </a:lnTo>
                  <a:lnTo>
                    <a:pt x="859" y="1847"/>
                  </a:lnTo>
                  <a:lnTo>
                    <a:pt x="863" y="1849"/>
                  </a:lnTo>
                  <a:lnTo>
                    <a:pt x="868" y="1850"/>
                  </a:lnTo>
                  <a:lnTo>
                    <a:pt x="870" y="1854"/>
                  </a:lnTo>
                  <a:lnTo>
                    <a:pt x="874" y="1856"/>
                  </a:lnTo>
                  <a:lnTo>
                    <a:pt x="878" y="1859"/>
                  </a:lnTo>
                  <a:lnTo>
                    <a:pt x="884" y="1861"/>
                  </a:lnTo>
                  <a:lnTo>
                    <a:pt x="889" y="1865"/>
                  </a:lnTo>
                  <a:lnTo>
                    <a:pt x="896" y="1868"/>
                  </a:lnTo>
                  <a:lnTo>
                    <a:pt x="902" y="1871"/>
                  </a:lnTo>
                  <a:lnTo>
                    <a:pt x="909" y="1873"/>
                  </a:lnTo>
                  <a:lnTo>
                    <a:pt x="915" y="1877"/>
                  </a:lnTo>
                  <a:lnTo>
                    <a:pt x="922" y="1880"/>
                  </a:lnTo>
                  <a:lnTo>
                    <a:pt x="930" y="1884"/>
                  </a:lnTo>
                  <a:lnTo>
                    <a:pt x="937" y="1886"/>
                  </a:lnTo>
                  <a:lnTo>
                    <a:pt x="944" y="1890"/>
                  </a:lnTo>
                  <a:lnTo>
                    <a:pt x="951" y="1891"/>
                  </a:lnTo>
                  <a:lnTo>
                    <a:pt x="958" y="1895"/>
                  </a:lnTo>
                  <a:lnTo>
                    <a:pt x="965" y="1897"/>
                  </a:lnTo>
                  <a:lnTo>
                    <a:pt x="972" y="1900"/>
                  </a:lnTo>
                  <a:lnTo>
                    <a:pt x="980" y="1903"/>
                  </a:lnTo>
                  <a:lnTo>
                    <a:pt x="988" y="1907"/>
                  </a:lnTo>
                  <a:lnTo>
                    <a:pt x="998" y="1909"/>
                  </a:lnTo>
                  <a:lnTo>
                    <a:pt x="1008" y="1913"/>
                  </a:lnTo>
                  <a:lnTo>
                    <a:pt x="1020" y="1917"/>
                  </a:lnTo>
                  <a:lnTo>
                    <a:pt x="1031" y="1920"/>
                  </a:lnTo>
                  <a:lnTo>
                    <a:pt x="1044" y="1922"/>
                  </a:lnTo>
                  <a:lnTo>
                    <a:pt x="1055" y="1926"/>
                  </a:lnTo>
                  <a:lnTo>
                    <a:pt x="1068" y="1929"/>
                  </a:lnTo>
                  <a:lnTo>
                    <a:pt x="1079" y="1933"/>
                  </a:lnTo>
                  <a:lnTo>
                    <a:pt x="1092" y="1936"/>
                  </a:lnTo>
                  <a:lnTo>
                    <a:pt x="1103" y="1939"/>
                  </a:lnTo>
                  <a:lnTo>
                    <a:pt x="1115" y="1941"/>
                  </a:lnTo>
                  <a:lnTo>
                    <a:pt x="1125" y="1945"/>
                  </a:lnTo>
                  <a:lnTo>
                    <a:pt x="1136" y="1947"/>
                  </a:lnTo>
                  <a:lnTo>
                    <a:pt x="1146" y="1950"/>
                  </a:lnTo>
                  <a:lnTo>
                    <a:pt x="1157" y="1952"/>
                  </a:lnTo>
                  <a:lnTo>
                    <a:pt x="1168" y="1955"/>
                  </a:lnTo>
                  <a:lnTo>
                    <a:pt x="1181" y="1957"/>
                  </a:lnTo>
                  <a:lnTo>
                    <a:pt x="1194" y="1961"/>
                  </a:lnTo>
                  <a:lnTo>
                    <a:pt x="1207" y="1963"/>
                  </a:lnTo>
                  <a:lnTo>
                    <a:pt x="1220" y="1965"/>
                  </a:lnTo>
                  <a:lnTo>
                    <a:pt x="1234" y="1967"/>
                  </a:lnTo>
                  <a:lnTo>
                    <a:pt x="1247" y="1971"/>
                  </a:lnTo>
                  <a:lnTo>
                    <a:pt x="1260" y="1973"/>
                  </a:lnTo>
                  <a:lnTo>
                    <a:pt x="1273" y="1975"/>
                  </a:lnTo>
                  <a:lnTo>
                    <a:pt x="1286" y="1977"/>
                  </a:lnTo>
                  <a:lnTo>
                    <a:pt x="1297" y="1979"/>
                  </a:lnTo>
                  <a:lnTo>
                    <a:pt x="1308" y="1981"/>
                  </a:lnTo>
                  <a:lnTo>
                    <a:pt x="1318" y="1983"/>
                  </a:lnTo>
                  <a:lnTo>
                    <a:pt x="1328" y="1983"/>
                  </a:lnTo>
                  <a:lnTo>
                    <a:pt x="1336" y="1985"/>
                  </a:lnTo>
                  <a:lnTo>
                    <a:pt x="1346" y="1985"/>
                  </a:lnTo>
                  <a:lnTo>
                    <a:pt x="1356" y="1987"/>
                  </a:lnTo>
                  <a:lnTo>
                    <a:pt x="1368" y="1987"/>
                  </a:lnTo>
                  <a:lnTo>
                    <a:pt x="1380" y="1989"/>
                  </a:lnTo>
                  <a:lnTo>
                    <a:pt x="1393" y="1989"/>
                  </a:lnTo>
                  <a:lnTo>
                    <a:pt x="1406" y="1991"/>
                  </a:lnTo>
                  <a:lnTo>
                    <a:pt x="1422" y="1991"/>
                  </a:lnTo>
                  <a:lnTo>
                    <a:pt x="1434" y="1993"/>
                  </a:lnTo>
                  <a:lnTo>
                    <a:pt x="1448" y="1993"/>
                  </a:lnTo>
                  <a:lnTo>
                    <a:pt x="1461" y="1995"/>
                  </a:lnTo>
                  <a:lnTo>
                    <a:pt x="1476" y="1995"/>
                  </a:lnTo>
                  <a:lnTo>
                    <a:pt x="1488" y="1996"/>
                  </a:lnTo>
                  <a:lnTo>
                    <a:pt x="1501" y="1996"/>
                  </a:lnTo>
                  <a:lnTo>
                    <a:pt x="1512" y="1997"/>
                  </a:lnTo>
                  <a:lnTo>
                    <a:pt x="1524" y="1997"/>
                  </a:lnTo>
                  <a:lnTo>
                    <a:pt x="1534" y="1999"/>
                  </a:lnTo>
                  <a:lnTo>
                    <a:pt x="1545" y="1999"/>
                  </a:lnTo>
                  <a:lnTo>
                    <a:pt x="1558" y="1999"/>
                  </a:lnTo>
                  <a:lnTo>
                    <a:pt x="1570" y="1999"/>
                  </a:lnTo>
                  <a:lnTo>
                    <a:pt x="1584" y="2000"/>
                  </a:lnTo>
                  <a:lnTo>
                    <a:pt x="1598" y="2000"/>
                  </a:lnTo>
                  <a:lnTo>
                    <a:pt x="1610" y="2000"/>
                  </a:lnTo>
                  <a:lnTo>
                    <a:pt x="1626" y="2000"/>
                  </a:lnTo>
                  <a:lnTo>
                    <a:pt x="1639" y="2001"/>
                  </a:lnTo>
                  <a:lnTo>
                    <a:pt x="1652" y="2001"/>
                  </a:lnTo>
                  <a:lnTo>
                    <a:pt x="1665" y="2001"/>
                  </a:lnTo>
                  <a:lnTo>
                    <a:pt x="1678" y="2001"/>
                  </a:lnTo>
                  <a:lnTo>
                    <a:pt x="1689" y="2001"/>
                  </a:lnTo>
                  <a:lnTo>
                    <a:pt x="1700" y="2001"/>
                  </a:lnTo>
                  <a:lnTo>
                    <a:pt x="1710" y="2001"/>
                  </a:lnTo>
                  <a:lnTo>
                    <a:pt x="1720" y="2001"/>
                  </a:lnTo>
                  <a:lnTo>
                    <a:pt x="1726" y="2001"/>
                  </a:lnTo>
                  <a:lnTo>
                    <a:pt x="1732" y="2001"/>
                  </a:lnTo>
                  <a:lnTo>
                    <a:pt x="1735" y="2001"/>
                  </a:lnTo>
                  <a:lnTo>
                    <a:pt x="1739" y="2001"/>
                  </a:lnTo>
                  <a:lnTo>
                    <a:pt x="1741" y="2001"/>
                  </a:lnTo>
                  <a:lnTo>
                    <a:pt x="1743" y="2001"/>
                  </a:lnTo>
                  <a:lnTo>
                    <a:pt x="1745" y="2001"/>
                  </a:lnTo>
                  <a:lnTo>
                    <a:pt x="1746" y="2001"/>
                  </a:lnTo>
                  <a:lnTo>
                    <a:pt x="1748" y="2001"/>
                  </a:lnTo>
                  <a:lnTo>
                    <a:pt x="1752" y="2001"/>
                  </a:lnTo>
                  <a:lnTo>
                    <a:pt x="1756" y="2001"/>
                  </a:lnTo>
                  <a:lnTo>
                    <a:pt x="1762" y="2001"/>
                  </a:lnTo>
                  <a:lnTo>
                    <a:pt x="1769" y="2001"/>
                  </a:lnTo>
                  <a:lnTo>
                    <a:pt x="1780" y="2001"/>
                  </a:lnTo>
                  <a:lnTo>
                    <a:pt x="1792" y="2001"/>
                  </a:lnTo>
                  <a:lnTo>
                    <a:pt x="1808" y="2001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62360" y="2339640"/>
              <a:ext cx="219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4000" spc="-1" strike="noStrike">
                  <a:solidFill>
                    <a:srgbClr val="00c1c2"/>
                  </a:solidFill>
                  <a:latin typeface="Times New Roman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78160" y="2209680"/>
              <a:ext cx="6368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372600" y="6987960"/>
              <a:ext cx="636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9200" y="4727520"/>
              <a:ext cx="3673440" cy="2447640"/>
            </a:xfrm>
            <a:prstGeom prst="line">
              <a:avLst/>
            </a:prstGeom>
            <a:ln w="4428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7145280" y="6257880"/>
              <a:ext cx="2984040" cy="1619640"/>
              <a:chOff x="7145280" y="6257880"/>
              <a:chExt cx="2984040" cy="1619640"/>
            </a:xfrm>
          </p:grpSpPr>
          <p:sp>
            <p:nvSpPr>
              <p:cNvPr id="692" name=""/>
              <p:cNvSpPr/>
              <p:nvPr/>
            </p:nvSpPr>
            <p:spPr>
              <a:xfrm>
                <a:off x="7145280" y="6257880"/>
                <a:ext cx="1630440" cy="861840"/>
              </a:xfrm>
              <a:custGeom>
                <a:avLst/>
                <a:gdLst/>
                <a:ahLst/>
                <a:rect l="l" t="t" r="r" b="b"/>
                <a:pathLst>
                  <a:path w="1027" h="543">
                    <a:moveTo>
                      <a:pt x="1026" y="120"/>
                    </a:moveTo>
                    <a:lnTo>
                      <a:pt x="422" y="472"/>
                    </a:lnTo>
                    <a:lnTo>
                      <a:pt x="502" y="542"/>
                    </a:lnTo>
                    <a:lnTo>
                      <a:pt x="19" y="506"/>
                    </a:lnTo>
                    <a:lnTo>
                      <a:pt x="0" y="232"/>
                    </a:lnTo>
                    <a:lnTo>
                      <a:pt x="77" y="280"/>
                    </a:lnTo>
                    <a:lnTo>
                      <a:pt x="842" y="0"/>
                    </a:lnTo>
                    <a:lnTo>
                      <a:pt x="1026" y="120"/>
                    </a:lnTo>
                    <a:lnTo>
                      <a:pt x="1026" y="12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1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246400">
                <a:off x="7875000" y="6683040"/>
                <a:ext cx="2183040" cy="8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reducir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2600" spc="-1" strike="noStrike">
                    <a:solidFill>
                      <a:srgbClr val="5f5f5f"/>
                    </a:solidFill>
                    <a:latin typeface="Arial"/>
                  </a:rPr>
                  <a:t>costo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5016240" y="3579480"/>
              <a:ext cx="5035320" cy="3611520"/>
              <a:chOff x="5016240" y="3579480"/>
              <a:chExt cx="5035320" cy="3611520"/>
            </a:xfrm>
          </p:grpSpPr>
          <p:sp>
            <p:nvSpPr>
              <p:cNvPr id="695" name=""/>
              <p:cNvSpPr/>
              <p:nvPr/>
            </p:nvSpPr>
            <p:spPr>
              <a:xfrm>
                <a:off x="5029200" y="4727520"/>
                <a:ext cx="3673440" cy="244764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5016240" y="4128840"/>
                <a:ext cx="4230720" cy="286848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8040" y="5243400"/>
                <a:ext cx="3036960" cy="194472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019480" y="5667120"/>
                <a:ext cx="2378160" cy="152388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017680" y="3579480"/>
                <a:ext cx="5033880" cy="3414960"/>
              </a:xfrm>
              <a:prstGeom prst="line">
                <a:avLst/>
              </a:prstGeom>
              <a:ln w="31680">
                <a:solidFill>
                  <a:srgbClr val="ff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6769080" y="5692680"/>
              <a:ext cx="4698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0000"/>
                </a:buClr>
                <a:buSzPct val="9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76760" y="5692680"/>
              <a:ext cx="1065240" cy="1066680"/>
            </a:xfrm>
            <a:custGeom>
              <a:avLst/>
              <a:gdLst/>
              <a:ahLst/>
              <a:rect l="l" t="t" r="r" b="b"/>
              <a:pathLst>
                <a:path w="499" h="500">
                  <a:moveTo>
                    <a:pt x="55" y="96"/>
                  </a:moveTo>
                  <a:lnTo>
                    <a:pt x="27" y="138"/>
                  </a:lnTo>
                  <a:lnTo>
                    <a:pt x="9" y="181"/>
                  </a:lnTo>
                  <a:lnTo>
                    <a:pt x="0" y="224"/>
                  </a:lnTo>
                  <a:lnTo>
                    <a:pt x="0" y="266"/>
                  </a:lnTo>
                  <a:lnTo>
                    <a:pt x="5" y="308"/>
                  </a:lnTo>
                  <a:lnTo>
                    <a:pt x="20" y="347"/>
                  </a:lnTo>
                  <a:lnTo>
                    <a:pt x="39" y="383"/>
                  </a:lnTo>
                  <a:lnTo>
                    <a:pt x="65" y="415"/>
                  </a:lnTo>
                  <a:lnTo>
                    <a:pt x="95" y="444"/>
                  </a:lnTo>
                  <a:lnTo>
                    <a:pt x="128" y="467"/>
                  </a:lnTo>
                  <a:lnTo>
                    <a:pt x="166" y="485"/>
                  </a:lnTo>
                  <a:lnTo>
                    <a:pt x="206" y="495"/>
                  </a:lnTo>
                  <a:lnTo>
                    <a:pt x="248" y="499"/>
                  </a:lnTo>
                  <a:lnTo>
                    <a:pt x="292" y="495"/>
                  </a:lnTo>
                  <a:lnTo>
                    <a:pt x="337" y="482"/>
                  </a:lnTo>
                  <a:lnTo>
                    <a:pt x="381" y="458"/>
                  </a:lnTo>
                  <a:lnTo>
                    <a:pt x="420" y="429"/>
                  </a:lnTo>
                  <a:lnTo>
                    <a:pt x="451" y="395"/>
                  </a:lnTo>
                  <a:lnTo>
                    <a:pt x="474" y="358"/>
                  </a:lnTo>
                  <a:lnTo>
                    <a:pt x="489" y="318"/>
                  </a:lnTo>
                  <a:lnTo>
                    <a:pt x="497" y="277"/>
                  </a:lnTo>
                  <a:lnTo>
                    <a:pt x="498" y="236"/>
                  </a:lnTo>
                  <a:lnTo>
                    <a:pt x="491" y="195"/>
                  </a:lnTo>
                  <a:lnTo>
                    <a:pt x="479" y="155"/>
                  </a:lnTo>
                  <a:lnTo>
                    <a:pt x="460" y="119"/>
                  </a:lnTo>
                  <a:lnTo>
                    <a:pt x="437" y="86"/>
                  </a:lnTo>
                  <a:lnTo>
                    <a:pt x="407" y="57"/>
                  </a:lnTo>
                  <a:lnTo>
                    <a:pt x="374" y="32"/>
                  </a:lnTo>
                  <a:lnTo>
                    <a:pt x="335" y="14"/>
                  </a:lnTo>
                  <a:lnTo>
                    <a:pt x="293" y="3"/>
                  </a:lnTo>
                  <a:lnTo>
                    <a:pt x="247" y="0"/>
                  </a:lnTo>
                  <a:lnTo>
                    <a:pt x="198" y="5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600200" y="2438280"/>
            <a:ext cx="8458200" cy="4219560"/>
          </a:xfrm>
          <a:prstGeom prst="ellipse">
            <a:avLst/>
          </a:prstGeom>
          <a:solidFill>
            <a:srgbClr val="ffffc2"/>
          </a:solidFill>
          <a:ln w="4752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Asi podemos relacionar s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funciones de solución con su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funciones de respues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0"/>
            <a:ext cx="495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el problema du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75960" y="761760"/>
            <a:ext cx="3809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on equivale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6040" y="717480"/>
            <a:ext cx="9453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pasemos el problema prim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3665880"/>
            <a:ext cx="2666880" cy="2075760"/>
          </a:xfrm>
          <a:prstGeom prst="wedgeRoundRectCallout">
            <a:avLst>
              <a:gd name="adj1" fmla="val 38685"/>
              <a:gd name="adj2" fmla="val 74810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10000"/>
                </a:solidFill>
                <a:latin typeface="Times New Roman"/>
              </a:rPr>
              <a:t>De nuevo use las CP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1913400"/>
            <a:ext cx="3276360" cy="2075760"/>
          </a:xfrm>
          <a:prstGeom prst="wedgeRoundRectCallout">
            <a:avLst>
              <a:gd name="adj1" fmla="val -74310"/>
              <a:gd name="adj2" fmla="val 151800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10000"/>
                </a:solidFill>
                <a:latin typeface="Times New Roman"/>
              </a:rPr>
              <a:t>En x*  encontram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 flipV="1">
            <a:off x="1093680" y="3196800"/>
            <a:ext cx="7435800" cy="285768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4752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on comprad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11240" y="3213000"/>
            <a:ext cx="5708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re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MS    =      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920960" y="3457440"/>
            <a:ext cx="6426000" cy="2105280"/>
            <a:chOff x="1920960" y="3457440"/>
            <a:chExt cx="6426000" cy="2105280"/>
          </a:xfrm>
        </p:grpSpPr>
        <p:sp>
          <p:nvSpPr>
            <p:cNvPr id="712" name=""/>
            <p:cNvSpPr/>
            <p:nvPr/>
          </p:nvSpPr>
          <p:spPr>
            <a:xfrm>
              <a:off x="1920960" y="3608280"/>
              <a:ext cx="25304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_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16520" y="3608280"/>
              <a:ext cx="25304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08520" y="4017960"/>
              <a:ext cx="601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62080" y="3457440"/>
              <a:ext cx="502452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1201680" y="5851440"/>
            <a:ext cx="882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800" spc="-1" strike="noStrike">
                <a:solidFill>
                  <a:srgbClr val="ff0000"/>
                </a:solidFill>
                <a:latin typeface="Brush738 BT"/>
              </a:rPr>
              <a:t>(igual que antes)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95000" y="904680"/>
            <a:ext cx="9451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conjunto de 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+1  condicion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752480" y="2263680"/>
            <a:ext cx="45594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...   ...   ..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65440" y="4861080"/>
            <a:ext cx="487836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44840" y="4106880"/>
            <a:ext cx="40734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86400" y="5486400"/>
            <a:ext cx="5562720" cy="188280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rush738 BT"/>
              </a:rPr>
              <a:t>(limitante) restricción presupues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943600" y="2743200"/>
            <a:ext cx="4113360" cy="259092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una por cada bien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685800"/>
            <a:ext cx="94518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si las curvas de indiferencia tocan los ej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52480" y="2286000"/>
            <a:ext cx="4114800" cy="36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...   ...   ..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0" y="2666520"/>
            <a:ext cx="5714280" cy="2257920"/>
            <a:chOff x="0" y="2666520"/>
            <a:chExt cx="5714280" cy="2257920"/>
          </a:xfrm>
        </p:grpSpPr>
        <p:sp>
          <p:nvSpPr>
            <p:cNvPr id="726" name=""/>
            <p:cNvSpPr/>
            <p:nvPr/>
          </p:nvSpPr>
          <p:spPr>
            <a:xfrm flipV="1">
              <a:off x="3058560" y="2666520"/>
              <a:ext cx="1186920" cy="514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75560" y="3463920"/>
              <a:ext cx="1337400" cy="65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58560" y="3895560"/>
              <a:ext cx="1263240" cy="1028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3130560"/>
              <a:ext cx="57142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Multiplicadores de Lag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538280" y="5715000"/>
            <a:ext cx="4266720" cy="1655640"/>
            <a:chOff x="1538280" y="5715000"/>
            <a:chExt cx="4266720" cy="1655640"/>
          </a:xfrm>
        </p:grpSpPr>
        <p:sp>
          <p:nvSpPr>
            <p:cNvPr id="731" name=""/>
            <p:cNvSpPr/>
            <p:nvPr/>
          </p:nvSpPr>
          <p:spPr>
            <a:xfrm>
              <a:off x="1765080" y="6041880"/>
              <a:ext cx="40399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* =</a:t>
              </a:r>
              <a:r>
                <a:rPr b="1" i="1" lang="en-GB" sz="5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38280" y="5715000"/>
              <a:ext cx="99504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5867280" y="2666880"/>
            <a:ext cx="685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846680" y="2895480"/>
            <a:ext cx="5211720" cy="4424400"/>
            <a:chOff x="4846680" y="2895480"/>
            <a:chExt cx="5211720" cy="4424400"/>
          </a:xfrm>
        </p:grpSpPr>
        <p:sp>
          <p:nvSpPr>
            <p:cNvPr id="735" name=""/>
            <p:cNvSpPr/>
            <p:nvPr/>
          </p:nvSpPr>
          <p:spPr>
            <a:xfrm>
              <a:off x="4902120" y="2895480"/>
              <a:ext cx="5156280" cy="4424400"/>
            </a:xfrm>
            <a:custGeom>
              <a:avLst/>
              <a:gdLst/>
              <a:ahLst/>
              <a:rect l="l" t="t" r="r" b="b"/>
              <a:pathLst>
                <a:path w="3248" h="2787">
                  <a:moveTo>
                    <a:pt x="3247" y="1368"/>
                  </a:moveTo>
                  <a:lnTo>
                    <a:pt x="3247" y="1368"/>
                  </a:lnTo>
                  <a:lnTo>
                    <a:pt x="1333" y="0"/>
                  </a:lnTo>
                  <a:lnTo>
                    <a:pt x="1557" y="684"/>
                  </a:lnTo>
                  <a:lnTo>
                    <a:pt x="0" y="684"/>
                  </a:lnTo>
                  <a:lnTo>
                    <a:pt x="0" y="2149"/>
                  </a:lnTo>
                  <a:lnTo>
                    <a:pt x="1557" y="2149"/>
                  </a:lnTo>
                  <a:lnTo>
                    <a:pt x="1333" y="2786"/>
                  </a:lnTo>
                  <a:lnTo>
                    <a:pt x="3247" y="1368"/>
                  </a:lnTo>
                  <a:lnTo>
                    <a:pt x="3247" y="13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46680" y="4508280"/>
              <a:ext cx="5060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6800" spc="-1" strike="noStrike">
                  <a:solidFill>
                    <a:srgbClr val="000000"/>
                  </a:solidFill>
                  <a:latin typeface="Arial"/>
                </a:rPr>
                <a:t>Resultado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66120" y="44989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z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56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101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08120" y="4495680"/>
            <a:ext cx="2187360" cy="205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ortunidad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prtunidades y Prefer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257800"/>
            <a:ext cx="201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3400" y="3886200"/>
            <a:ext cx="3822480" cy="295416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2286000"/>
            <a:ext cx="243864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solució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2057400"/>
            <a:ext cx="9448920" cy="50436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Obtenemos un valor que maximiza la utilidad para cada bien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...para el multiplicador de Lagrange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...y por supuesto para la función de utilidad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Cada uno de los anteriores puede ser escrita en función de los precios (</a:t>
            </a:r>
            <a:r>
              <a:rPr b="1" lang="en-GB" sz="33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)  y del ingreso (</a:t>
            </a:r>
            <a:r>
              <a:rPr b="0" i="1" lang="en-GB" sz="3300" spc="-1" strike="noStrike">
                <a:solidFill>
                  <a:srgbClr val="000066"/>
                </a:solidFill>
                <a:latin typeface="Times New Roman"/>
              </a:rPr>
              <a:t>M)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248520" y="1447920"/>
            <a:ext cx="5211720" cy="4424400"/>
            <a:chOff x="6248520" y="1447920"/>
            <a:chExt cx="5211720" cy="4424400"/>
          </a:xfrm>
        </p:grpSpPr>
        <p:sp>
          <p:nvSpPr>
            <p:cNvPr id="740" name=""/>
            <p:cNvSpPr/>
            <p:nvPr/>
          </p:nvSpPr>
          <p:spPr>
            <a:xfrm>
              <a:off x="6303960" y="1447920"/>
              <a:ext cx="5156280" cy="4424400"/>
            </a:xfrm>
            <a:custGeom>
              <a:avLst/>
              <a:gdLst/>
              <a:ahLst/>
              <a:rect l="l" t="t" r="r" b="b"/>
              <a:pathLst>
                <a:path w="3248" h="2787">
                  <a:moveTo>
                    <a:pt x="3247" y="1368"/>
                  </a:moveTo>
                  <a:lnTo>
                    <a:pt x="3247" y="1368"/>
                  </a:lnTo>
                  <a:lnTo>
                    <a:pt x="1333" y="0"/>
                  </a:lnTo>
                  <a:lnTo>
                    <a:pt x="1557" y="684"/>
                  </a:lnTo>
                  <a:lnTo>
                    <a:pt x="0" y="684"/>
                  </a:lnTo>
                  <a:lnTo>
                    <a:pt x="0" y="2149"/>
                  </a:lnTo>
                  <a:lnTo>
                    <a:pt x="1557" y="2149"/>
                  </a:lnTo>
                  <a:lnTo>
                    <a:pt x="1333" y="2786"/>
                  </a:lnTo>
                  <a:lnTo>
                    <a:pt x="3247" y="1368"/>
                  </a:lnTo>
                  <a:lnTo>
                    <a:pt x="3247" y="13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48520" y="3060720"/>
              <a:ext cx="5060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6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6900" spc="-1" strike="noStrike">
                  <a:solidFill>
                    <a:srgbClr val="000000"/>
                  </a:solidFill>
                  <a:latin typeface="Arial"/>
                </a:rPr>
                <a:t>Veamos...</a:t>
              </a:r>
              <a:endParaRPr b="0" lang="en-US" sz="6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38088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solución es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la función de utilidad indirect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84080" y="3193920"/>
            <a:ext cx="348300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3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53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)  :=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4191120"/>
            <a:ext cx="26319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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30600" y="4078440"/>
            <a:ext cx="1890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14600" y="4724280"/>
            <a:ext cx="2897280" cy="1903680"/>
          </a:xfrm>
          <a:prstGeom prst="wedgeRoundRectCallout">
            <a:avLst>
              <a:gd name="adj1" fmla="val -53944"/>
              <a:gd name="adj2" fmla="val -90865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f0000"/>
                </a:solidFill>
                <a:latin typeface="Brush738 BT"/>
              </a:rPr>
              <a:t>ingreso monetar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4800600"/>
            <a:ext cx="2896920" cy="1903320"/>
          </a:xfrm>
          <a:prstGeom prst="wedgeRoundRectCallout">
            <a:avLst>
              <a:gd name="adj1" fmla="val -35587"/>
              <a:gd name="adj2" fmla="val -88782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f0000"/>
                </a:solidFill>
                <a:latin typeface="Brush738 BT"/>
              </a:rPr>
              <a:t>vector 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f0000"/>
                </a:solidFill>
                <a:latin typeface="Brush738 BT"/>
              </a:rPr>
              <a:t>precios de los bien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57600" y="3211560"/>
            <a:ext cx="54864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5300" spc="-1" strike="noStrike">
                <a:solidFill>
                  <a:srgbClr val="000000"/>
                </a:solidFill>
                <a:latin typeface="Times New Roman"/>
              </a:rPr>
              <a:t>max   </a:t>
            </a:r>
            <a:r>
              <a:rPr b="0" i="1" lang="en-GB" sz="53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53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jet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896760" y="2305080"/>
            <a:ext cx="3178440" cy="1635120"/>
            <a:chOff x="896760" y="2305080"/>
            <a:chExt cx="3178440" cy="1635120"/>
          </a:xfrm>
        </p:grpSpPr>
        <p:sp>
          <p:nvSpPr>
            <p:cNvPr id="750" name=""/>
            <p:cNvSpPr/>
            <p:nvPr/>
          </p:nvSpPr>
          <p:spPr>
            <a:xfrm>
              <a:off x="896760" y="2305080"/>
              <a:ext cx="3178440" cy="1635120"/>
            </a:xfrm>
            <a:custGeom>
              <a:avLst/>
              <a:gdLst/>
              <a:ahLst/>
              <a:rect l="l" t="t" r="r" b="b"/>
              <a:pathLst>
                <a:path w="2002" h="1030">
                  <a:moveTo>
                    <a:pt x="0" y="840"/>
                  </a:moveTo>
                  <a:lnTo>
                    <a:pt x="0" y="840"/>
                  </a:lnTo>
                  <a:lnTo>
                    <a:pt x="1433" y="840"/>
                  </a:lnTo>
                  <a:lnTo>
                    <a:pt x="1433" y="1029"/>
                  </a:lnTo>
                  <a:lnTo>
                    <a:pt x="2001" y="517"/>
                  </a:lnTo>
                  <a:lnTo>
                    <a:pt x="1433" y="0"/>
                  </a:lnTo>
                  <a:lnTo>
                    <a:pt x="1433" y="180"/>
                  </a:lnTo>
                  <a:lnTo>
                    <a:pt x="0" y="180"/>
                  </a:lnTo>
                  <a:lnTo>
                    <a:pt x="0" y="840"/>
                  </a:lnTo>
                  <a:lnTo>
                    <a:pt x="0" y="840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50000">
                  <a:srgbClr val="ffc0e4"/>
                </a:gs>
                <a:gs pos="100000">
                  <a:srgbClr val="0080ff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84240" y="2806560"/>
              <a:ext cx="2527200" cy="5619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u = V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0" y="430200"/>
            <a:ext cx="10058400" cy="18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sí como la función de costo relaciona precios y utilidad con el ingreso mínim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127480" y="2976480"/>
            <a:ext cx="3178080" cy="1633680"/>
            <a:chOff x="5127480" y="2976480"/>
            <a:chExt cx="3178080" cy="1633680"/>
          </a:xfrm>
        </p:grpSpPr>
        <p:sp>
          <p:nvSpPr>
            <p:cNvPr id="754" name=""/>
            <p:cNvSpPr/>
            <p:nvPr/>
          </p:nvSpPr>
          <p:spPr>
            <a:xfrm>
              <a:off x="5127480" y="2976480"/>
              <a:ext cx="3178080" cy="1633680"/>
            </a:xfrm>
            <a:custGeom>
              <a:avLst/>
              <a:gdLst/>
              <a:ahLst/>
              <a:rect l="l" t="t" r="r" b="b"/>
              <a:pathLst>
                <a:path w="2002" h="1029">
                  <a:moveTo>
                    <a:pt x="2001" y="840"/>
                  </a:moveTo>
                  <a:lnTo>
                    <a:pt x="2001" y="840"/>
                  </a:lnTo>
                  <a:lnTo>
                    <a:pt x="568" y="840"/>
                  </a:lnTo>
                  <a:lnTo>
                    <a:pt x="568" y="1028"/>
                  </a:lnTo>
                  <a:lnTo>
                    <a:pt x="0" y="516"/>
                  </a:lnTo>
                  <a:lnTo>
                    <a:pt x="568" y="0"/>
                  </a:lnTo>
                  <a:lnTo>
                    <a:pt x="568" y="179"/>
                  </a:lnTo>
                  <a:lnTo>
                    <a:pt x="2001" y="179"/>
                  </a:lnTo>
                  <a:lnTo>
                    <a:pt x="2001" y="840"/>
                  </a:lnTo>
                  <a:lnTo>
                    <a:pt x="2001" y="840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50000">
                  <a:srgbClr val="ffc0e4"/>
                </a:gs>
                <a:gs pos="100000">
                  <a:srgbClr val="0080ff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5200" y="3513240"/>
              <a:ext cx="2622600" cy="5619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 u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1447920" y="4343400"/>
            <a:ext cx="69246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Brush738 BT"/>
              </a:rPr>
              <a:t>Las dos funciones solución deben ser compatibles entre sí.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Brush738 BT"/>
              </a:rPr>
              <a:t>Dos lados de la misma moned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0880" y="533520"/>
            <a:ext cx="10058400" cy="18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de igual modo la función indirecta de utilidad relaciona precios e ingreso con la utilidad máxima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604800" y="609120"/>
            <a:ext cx="9453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función indirecta funciona como una “inversa” a la función de cost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72960" y="4831920"/>
            <a:ext cx="5129280" cy="2613240"/>
            <a:chOff x="372960" y="4831920"/>
            <a:chExt cx="5129280" cy="2613240"/>
          </a:xfrm>
        </p:grpSpPr>
        <p:sp>
          <p:nvSpPr>
            <p:cNvPr id="760" name=""/>
            <p:cNvSpPr/>
            <p:nvPr/>
          </p:nvSpPr>
          <p:spPr>
            <a:xfrm flipV="1">
              <a:off x="372960" y="4831560"/>
              <a:ext cx="5129280" cy="2613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181ff"/>
                </a:gs>
                <a:gs pos="50000">
                  <a:srgbClr val="ff0080"/>
                </a:gs>
                <a:gs pos="100000">
                  <a:srgbClr val="4181ff"/>
                </a:gs>
              </a:gsLst>
              <a:lin ang="8100000"/>
            </a:gradFill>
            <a:ln w="19080">
              <a:solidFill>
                <a:srgbClr val="4181ff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42920" y="5248440"/>
              <a:ext cx="4176720" cy="179388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u = V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)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5029200" y="4952880"/>
            <a:ext cx="50292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Algunas veces identidades inocuas como éstas pueden hacer cosas interes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-590400" y="25560"/>
            <a:ext cx="11063160" cy="7877160"/>
            <a:chOff x="-590400" y="25560"/>
            <a:chExt cx="11063160" cy="7877160"/>
          </a:xfrm>
        </p:grpSpPr>
        <p:sp>
          <p:nvSpPr>
            <p:cNvPr id="764" name=""/>
            <p:cNvSpPr/>
            <p:nvPr/>
          </p:nvSpPr>
          <p:spPr>
            <a:xfrm>
              <a:off x="-565200" y="25560"/>
              <a:ext cx="1960560" cy="7875360"/>
            </a:xfrm>
            <a:custGeom>
              <a:avLst/>
              <a:gdLst/>
              <a:ahLst/>
              <a:rect l="l" t="t" r="r" b="b"/>
              <a:pathLst>
                <a:path w="1235" h="4961">
                  <a:moveTo>
                    <a:pt x="0" y="4960"/>
                  </a:moveTo>
                  <a:lnTo>
                    <a:pt x="0" y="0"/>
                  </a:lnTo>
                  <a:lnTo>
                    <a:pt x="1234" y="819"/>
                  </a:lnTo>
                  <a:lnTo>
                    <a:pt x="1234" y="3871"/>
                  </a:lnTo>
                  <a:lnTo>
                    <a:pt x="0" y="4960"/>
                  </a:lnTo>
                  <a:lnTo>
                    <a:pt x="0" y="4960"/>
                  </a:lnTo>
                </a:path>
              </a:pathLst>
            </a:custGeom>
            <a:solidFill>
              <a:srgbClr val="0000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565200" y="25560"/>
              <a:ext cx="11037960" cy="1301760"/>
            </a:xfrm>
            <a:custGeom>
              <a:avLst/>
              <a:gdLst/>
              <a:ahLst/>
              <a:rect l="l" t="t" r="r" b="b"/>
              <a:pathLst>
                <a:path w="6953" h="820">
                  <a:moveTo>
                    <a:pt x="0" y="0"/>
                  </a:moveTo>
                  <a:lnTo>
                    <a:pt x="6952" y="0"/>
                  </a:lnTo>
                  <a:lnTo>
                    <a:pt x="5726" y="819"/>
                  </a:lnTo>
                  <a:lnTo>
                    <a:pt x="1236" y="81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524800" y="28440"/>
              <a:ext cx="1944720" cy="7874280"/>
            </a:xfrm>
            <a:custGeom>
              <a:avLst/>
              <a:gdLst/>
              <a:ahLst/>
              <a:rect l="l" t="t" r="r" b="b"/>
              <a:pathLst>
                <a:path w="1225" h="4960">
                  <a:moveTo>
                    <a:pt x="1224" y="0"/>
                  </a:moveTo>
                  <a:lnTo>
                    <a:pt x="1224" y="4959"/>
                  </a:lnTo>
                  <a:lnTo>
                    <a:pt x="0" y="3869"/>
                  </a:lnTo>
                  <a:lnTo>
                    <a:pt x="0" y="816"/>
                  </a:lnTo>
                  <a:lnTo>
                    <a:pt x="1224" y="0"/>
                  </a:lnTo>
                  <a:lnTo>
                    <a:pt x="1224" y="0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590400" y="6170760"/>
              <a:ext cx="11059920" cy="1731960"/>
            </a:xfrm>
            <a:custGeom>
              <a:avLst/>
              <a:gdLst/>
              <a:ahLst/>
              <a:rect l="l" t="t" r="r" b="b"/>
              <a:pathLst>
                <a:path w="6967" h="1091">
                  <a:moveTo>
                    <a:pt x="6966" y="1090"/>
                  </a:moveTo>
                  <a:lnTo>
                    <a:pt x="0" y="1090"/>
                  </a:lnTo>
                  <a:lnTo>
                    <a:pt x="1250" y="0"/>
                  </a:lnTo>
                  <a:lnTo>
                    <a:pt x="5742" y="0"/>
                  </a:lnTo>
                  <a:lnTo>
                    <a:pt x="6966" y="1090"/>
                  </a:lnTo>
                  <a:lnTo>
                    <a:pt x="6966" y="1090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393920" y="1323000"/>
              <a:ext cx="7134120" cy="4848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7960" y="565200"/>
              <a:ext cx="942660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54000" y="1039680"/>
              <a:ext cx="799776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4440" y="7175520"/>
              <a:ext cx="942012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50760" y="6534000"/>
              <a:ext cx="799956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-565200" y="569520"/>
              <a:ext cx="1952640" cy="1111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-565200" y="1293480"/>
              <a:ext cx="1952640" cy="841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-565200" y="2015640"/>
              <a:ext cx="1952640" cy="54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-565200" y="2739960"/>
              <a:ext cx="1952640" cy="2779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-565200" y="3441600"/>
              <a:ext cx="1967040" cy="5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3360" y="3889080"/>
              <a:ext cx="1324080" cy="29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3360" y="4343040"/>
              <a:ext cx="1338480" cy="568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3360" y="4771800"/>
              <a:ext cx="1324080" cy="865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3360" y="5240160"/>
              <a:ext cx="1324080" cy="1213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3360" y="5695920"/>
              <a:ext cx="1338480" cy="1481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5440" y="30240"/>
              <a:ext cx="17258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9320" y="30240"/>
              <a:ext cx="14972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01760" y="30240"/>
              <a:ext cx="126684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27080" y="30240"/>
              <a:ext cx="104940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49520" y="30240"/>
              <a:ext cx="83340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73400" y="30240"/>
              <a:ext cx="60480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95840" y="30240"/>
              <a:ext cx="39204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308480" y="30240"/>
              <a:ext cx="2318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4927320" y="25560"/>
              <a:ext cx="3240" cy="1279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353200" y="29880"/>
              <a:ext cx="22212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5762520" y="29880"/>
              <a:ext cx="43668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156360" y="29880"/>
              <a:ext cx="665280" cy="129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6548400" y="30240"/>
              <a:ext cx="89712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927840" y="29880"/>
              <a:ext cx="1052640" cy="1274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323120" y="30240"/>
              <a:ext cx="1279440" cy="128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729560" y="29880"/>
              <a:ext cx="1496880" cy="129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123400" y="29880"/>
              <a:ext cx="1725480" cy="129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515440" y="568440"/>
              <a:ext cx="1479600" cy="1125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515440" y="1293480"/>
              <a:ext cx="1479600" cy="841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515440" y="2014200"/>
              <a:ext cx="1479600" cy="560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8515440" y="2738160"/>
              <a:ext cx="1479600" cy="25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8515440" y="3441600"/>
              <a:ext cx="1479600" cy="5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8515080" y="3902040"/>
              <a:ext cx="1955880" cy="285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8515080" y="4343040"/>
              <a:ext cx="1955880" cy="568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8515080" y="4784760"/>
              <a:ext cx="1955880" cy="851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8515080" y="5240160"/>
              <a:ext cx="1955880" cy="1213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flipV="1">
              <a:off x="8515080" y="5695920"/>
              <a:ext cx="1955880" cy="147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50400" y="6137280"/>
              <a:ext cx="169704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43960" y="6149880"/>
              <a:ext cx="14792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23120" y="6149880"/>
              <a:ext cx="127800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27840" y="6137280"/>
              <a:ext cx="105084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48400" y="6137280"/>
              <a:ext cx="89712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56360" y="6137280"/>
              <a:ext cx="66528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49920" y="6149880"/>
              <a:ext cx="4478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53200" y="6137280"/>
              <a:ext cx="222120" cy="1762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4927680" y="6149880"/>
              <a:ext cx="1728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327560" y="6149880"/>
              <a:ext cx="22536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794040" y="6124680"/>
              <a:ext cx="395280" cy="1776240"/>
            </a:xfrm>
            <a:custGeom>
              <a:avLst/>
              <a:gdLst/>
              <a:ahLst/>
              <a:rect l="l" t="t" r="r" b="b"/>
              <a:pathLst>
                <a:path w="249" h="1119">
                  <a:moveTo>
                    <a:pt x="0" y="1118"/>
                  </a:moveTo>
                  <a:lnTo>
                    <a:pt x="248" y="0"/>
                  </a:lnTo>
                  <a:lnTo>
                    <a:pt x="248" y="16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3171960" y="6149880"/>
              <a:ext cx="5936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548080" y="6149880"/>
              <a:ext cx="8222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1927080" y="6149880"/>
              <a:ext cx="103680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301760" y="6149880"/>
              <a:ext cx="12668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79320" y="6149880"/>
              <a:ext cx="146844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55440" y="6149880"/>
              <a:ext cx="1712880" cy="1749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37960" y="565200"/>
              <a:ext cx="0" cy="6610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952560" y="1038240"/>
              <a:ext cx="0" cy="5492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9664560" y="565200"/>
              <a:ext cx="0" cy="6610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8950320" y="1039680"/>
              <a:ext cx="0" cy="5494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1523520" y="1676160"/>
            <a:ext cx="6512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185040" indent="-18504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No decrecientes en todos los prec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ecreciente en al menos un prec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reciente en ingre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uasi convexo en prec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Homogeneos of grado  0 en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225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La Identidad de Ro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81080" y="2819520"/>
            <a:ext cx="5618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(Todo lo cual puede encontrarse haciendo uso de las propiedades de las funciones de cos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39840" y="214200"/>
            <a:ext cx="9475560" cy="1343160"/>
          </a:xfrm>
          <a:prstGeom prst="rect">
            <a:avLst/>
          </a:prstGeom>
          <a:noFill/>
          <a:ln w="316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ffff00"/>
                </a:solidFill>
                <a:latin typeface="Times New Roman"/>
              </a:rPr>
              <a:t>La función de utilidad indirecta posee algunas propiedades familiares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dentidad de Roy...??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12680" y="2298600"/>
            <a:ext cx="256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 = V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80920" y="6419880"/>
            <a:ext cx="873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(...use la definición del óptim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73520" y="225432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)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8080" y="2209680"/>
            <a:ext cx="8534520" cy="838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012680" y="3267000"/>
            <a:ext cx="822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)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80920" y="6419880"/>
            <a:ext cx="590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(...Diferenciand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009800" y="4191120"/>
            <a:ext cx="822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3520" y="6248520"/>
            <a:ext cx="666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(...usando el Lema de Shephard.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09680"/>
            <a:ext cx="8534520" cy="1905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483000" y="5486400"/>
            <a:ext cx="6575400" cy="1758960"/>
            <a:chOff x="3483000" y="5486400"/>
            <a:chExt cx="6575400" cy="1758960"/>
          </a:xfrm>
        </p:grpSpPr>
        <p:sp>
          <p:nvSpPr>
            <p:cNvPr id="845" name=""/>
            <p:cNvSpPr/>
            <p:nvPr/>
          </p:nvSpPr>
          <p:spPr>
            <a:xfrm flipV="1">
              <a:off x="3483000" y="5486040"/>
              <a:ext cx="6467400" cy="1758960"/>
            </a:xfrm>
            <a:prstGeom prst="roundRect">
              <a:avLst>
                <a:gd name="adj" fmla="val 4162"/>
              </a:avLst>
            </a:prstGeom>
            <a:solidFill>
              <a:srgbClr val="ffffff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3483000" y="5486400"/>
              <a:ext cx="6575400" cy="1758960"/>
              <a:chOff x="3483000" y="5486400"/>
              <a:chExt cx="6575400" cy="1758960"/>
            </a:xfrm>
          </p:grpSpPr>
          <p:sp>
            <p:nvSpPr>
              <p:cNvPr id="847" name=""/>
              <p:cNvSpPr/>
              <p:nvPr/>
            </p:nvSpPr>
            <p:spPr>
              <a:xfrm flipV="1">
                <a:off x="3483000" y="5486040"/>
                <a:ext cx="6467400" cy="1758960"/>
              </a:xfrm>
              <a:prstGeom prst="roundRect">
                <a:avLst>
                  <a:gd name="adj" fmla="val 4162"/>
                </a:avLst>
              </a:prstGeom>
              <a:solidFill>
                <a:srgbClr val="ffffff"/>
              </a:solidFill>
              <a:ln w="19080">
                <a:solidFill>
                  <a:srgbClr val="810000"/>
                </a:solidFill>
                <a:miter/>
              </a:ln>
              <a:effectLst>
                <a:outerShdw dist="107932" dir="2700000" blurRad="0" rotWithShape="0">
                  <a:srgbClr val="40404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8" name="" descr="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3495600" y="5515200"/>
                <a:ext cx="6562800" cy="161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9" name=""/>
          <p:cNvSpPr/>
          <p:nvPr/>
        </p:nvSpPr>
        <p:spPr>
          <a:xfrm>
            <a:off x="533520" y="5562720"/>
            <a:ext cx="3504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entonces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62120" y="2209680"/>
            <a:ext cx="853416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2751480"/>
            <a:ext cx="4917960" cy="2075760"/>
          </a:xfrm>
          <a:prstGeom prst="wedgeRoundRectCallout">
            <a:avLst>
              <a:gd name="adj1" fmla="val -38611"/>
              <a:gd name="adj2" fmla="val 98342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a funcion de demanda corriente para el bi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385560" y="491760"/>
            <a:ext cx="94532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aximización de utilidad:resu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03200" y="4521240"/>
            <a:ext cx="4575240" cy="1012680"/>
            <a:chOff x="403200" y="4521240"/>
            <a:chExt cx="4575240" cy="1012680"/>
          </a:xfrm>
        </p:grpSpPr>
        <p:sp>
          <p:nvSpPr>
            <p:cNvPr id="854" name=""/>
            <p:cNvSpPr/>
            <p:nvPr/>
          </p:nvSpPr>
          <p:spPr>
            <a:xfrm flipV="1">
              <a:off x="403200" y="4521240"/>
              <a:ext cx="2025720" cy="877680"/>
            </a:xfrm>
            <a:prstGeom prst="roundRect">
              <a:avLst>
                <a:gd name="adj" fmla="val 20907"/>
              </a:avLst>
            </a:prstGeom>
            <a:solidFill>
              <a:srgbClr val="00ffff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360" y="4648320"/>
              <a:ext cx="18428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16120" y="4979880"/>
              <a:ext cx="23623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...solu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7760" y="5514840"/>
            <a:ext cx="9980640" cy="1758960"/>
            <a:chOff x="77760" y="5514840"/>
            <a:chExt cx="9980640" cy="1758960"/>
          </a:xfrm>
        </p:grpSpPr>
        <p:sp>
          <p:nvSpPr>
            <p:cNvPr id="858" name=""/>
            <p:cNvSpPr/>
            <p:nvPr/>
          </p:nvSpPr>
          <p:spPr>
            <a:xfrm flipV="1">
              <a:off x="3483000" y="5514480"/>
              <a:ext cx="6467400" cy="1758960"/>
            </a:xfrm>
            <a:prstGeom prst="roundRect">
              <a:avLst>
                <a:gd name="adj" fmla="val 4162"/>
              </a:avLst>
            </a:prstGeom>
            <a:solidFill>
              <a:srgbClr val="ffffff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760" y="6431040"/>
              <a:ext cx="19875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respuesta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3495600" y="5543640"/>
              <a:ext cx="656280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"/>
          <p:cNvGrpSpPr/>
          <p:nvPr/>
        </p:nvGrpSpPr>
        <p:grpSpPr>
          <a:xfrm>
            <a:off x="237960" y="1503000"/>
            <a:ext cx="9820440" cy="2413440"/>
            <a:chOff x="237960" y="1503000"/>
            <a:chExt cx="9820440" cy="2413440"/>
          </a:xfrm>
        </p:grpSpPr>
        <p:sp>
          <p:nvSpPr>
            <p:cNvPr id="862" name=""/>
            <p:cNvSpPr/>
            <p:nvPr/>
          </p:nvSpPr>
          <p:spPr>
            <a:xfrm flipV="1">
              <a:off x="237960" y="1742760"/>
              <a:ext cx="9518760" cy="1511280"/>
            </a:xfrm>
            <a:prstGeom prst="roundRect">
              <a:avLst>
                <a:gd name="adj" fmla="val 4162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78520" y="3362400"/>
              <a:ext cx="24098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Problema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38080" y="1992240"/>
              <a:ext cx="92203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ax  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sujeto a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4800" spc="-1" strike="noStrike" baseline="-25000">
                  <a:solidFill>
                    <a:srgbClr val="000000"/>
                  </a:solidFill>
                  <a:latin typeface="Times New Roman"/>
                </a:rPr>
                <a:t>=1</a:t>
              </a:r>
              <a:r>
                <a:rPr b="0" i="1" lang="en-GB" sz="4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  p</a:t>
              </a:r>
              <a:r>
                <a:rPr b="0" i="1" lang="en-GB" sz="4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4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GB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M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63520" y="1503000"/>
              <a:ext cx="3574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 flipV="1">
            <a:off x="0" y="1828440"/>
            <a:ext cx="9518760" cy="1666800"/>
          </a:xfrm>
          <a:prstGeom prst="roundRect">
            <a:avLst>
              <a:gd name="adj" fmla="val 4162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385560" y="56808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inimización de costos del consumido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00" y="4521240"/>
            <a:ext cx="6480360" cy="1050840"/>
            <a:chOff x="403200" y="4521240"/>
            <a:chExt cx="6480360" cy="1050840"/>
          </a:xfrm>
        </p:grpSpPr>
        <p:sp>
          <p:nvSpPr>
            <p:cNvPr id="869" name=""/>
            <p:cNvSpPr/>
            <p:nvPr/>
          </p:nvSpPr>
          <p:spPr>
            <a:xfrm flipV="1">
              <a:off x="403200" y="4521240"/>
              <a:ext cx="2025720" cy="877680"/>
            </a:xfrm>
            <a:prstGeom prst="roundRect">
              <a:avLst>
                <a:gd name="adj" fmla="val 20907"/>
              </a:avLst>
            </a:prstGeom>
            <a:solidFill>
              <a:srgbClr val="00ffff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2360" y="4648320"/>
              <a:ext cx="16732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16120" y="4979880"/>
              <a:ext cx="426744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008000"/>
                  </a:solidFill>
                  <a:latin typeface="Arial"/>
                </a:rPr>
                <a:t>...solu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77760" y="6372000"/>
            <a:ext cx="9872640" cy="952200"/>
            <a:chOff x="77760" y="6372000"/>
            <a:chExt cx="9872640" cy="952200"/>
          </a:xfrm>
        </p:grpSpPr>
        <p:sp>
          <p:nvSpPr>
            <p:cNvPr id="873" name=""/>
            <p:cNvSpPr/>
            <p:nvPr/>
          </p:nvSpPr>
          <p:spPr>
            <a:xfrm>
              <a:off x="77760" y="6431040"/>
              <a:ext cx="34513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8000"/>
                  </a:solidFill>
                  <a:latin typeface="Arial"/>
                </a:rPr>
                <a:t>respuesta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83000" y="6371640"/>
              <a:ext cx="6467400" cy="952200"/>
            </a:xfrm>
            <a:prstGeom prst="roundRect">
              <a:avLst>
                <a:gd name="adj" fmla="val 4162"/>
              </a:avLst>
            </a:prstGeom>
            <a:solidFill>
              <a:srgbClr val="ffffff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GB" sz="4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4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4840200" y="3614760"/>
            <a:ext cx="44830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roblem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>
            <a:lum contrast="-10000"/>
          </a:blip>
          <a:stretch/>
        </p:blipFill>
        <p:spPr>
          <a:xfrm flipH="1" rot="10800000">
            <a:off x="228600" y="1828080"/>
            <a:ext cx="78073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os enfoques equivale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4640" y="2178000"/>
            <a:ext cx="43974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0080"/>
                </a:solidFill>
                <a:latin typeface="Arial"/>
              </a:rPr>
              <a:t>PRIMAL</a:t>
            </a:r>
            <a:br>
              <a:rPr sz="3300"/>
            </a:br>
            <a:r>
              <a:rPr b="0" lang="en-GB" sz="33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0080"/>
                </a:solidFill>
                <a:latin typeface="Arial"/>
              </a:rPr>
              <a:t>max </a:t>
            </a:r>
            <a:r>
              <a:rPr b="0" i="1" lang="en-GB" sz="3300" spc="-1" strike="noStrike">
                <a:solidFill>
                  <a:srgbClr val="400080"/>
                </a:solidFill>
                <a:latin typeface="Arial"/>
              </a:rPr>
              <a:t>util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0080"/>
                </a:solidFill>
                <a:latin typeface="Arial"/>
              </a:rPr>
              <a:t>sujeto </a:t>
            </a:r>
            <a:r>
              <a:rPr b="0" i="1" lang="en-GB" sz="3300" spc="-1" strike="noStrike">
                <a:solidFill>
                  <a:srgbClr val="400080"/>
                </a:solidFill>
                <a:latin typeface="Arial"/>
              </a:rPr>
              <a:t>a una restricción presupuestaria</a:t>
            </a:r>
            <a:br>
              <a:rPr sz="3300"/>
            </a:br>
            <a:r>
              <a:rPr b="0" i="1" lang="en-GB" sz="33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0080"/>
                </a:solidFill>
                <a:latin typeface="Arial"/>
              </a:rPr>
              <a:t>La Solución </a:t>
            </a:r>
            <a:r>
              <a:rPr b="0" i="1" lang="en-GB" sz="3300" spc="-1" strike="noStrike">
                <a:solidFill>
                  <a:srgbClr val="400080"/>
                </a:solidFill>
                <a:latin typeface="Arial"/>
              </a:rPr>
              <a:t>es una  función de </a:t>
            </a:r>
            <a:r>
              <a:rPr b="0" i="1" lang="en-GB" sz="3300" spc="-1" strike="noStrike">
                <a:solidFill>
                  <a:srgbClr val="400080"/>
                </a:solidFill>
                <a:latin typeface="Times New Roman"/>
              </a:rPr>
              <a:t>(p,M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153040" y="2178000"/>
            <a:ext cx="43956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810000"/>
                </a:solidFill>
                <a:latin typeface="Arial"/>
              </a:rPr>
              <a:t>DUAL</a:t>
            </a:r>
            <a:br>
              <a:rPr sz="3300"/>
            </a:br>
            <a:r>
              <a:rPr b="0" lang="en-GB" sz="33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810000"/>
                </a:solidFill>
                <a:latin typeface="Arial"/>
              </a:rPr>
              <a:t>min </a:t>
            </a:r>
            <a:r>
              <a:rPr b="0" i="1" lang="en-GB" sz="3300" spc="-1" strike="noStrike">
                <a:solidFill>
                  <a:srgbClr val="810000"/>
                </a:solidFill>
                <a:latin typeface="Arial"/>
              </a:rPr>
              <a:t>presupuest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810000"/>
                </a:solidFill>
                <a:latin typeface="Arial"/>
              </a:rPr>
              <a:t>sujeto </a:t>
            </a:r>
            <a:r>
              <a:rPr b="0" i="1" lang="en-GB" sz="3300" spc="-1" strike="noStrike">
                <a:solidFill>
                  <a:srgbClr val="810000"/>
                </a:solidFill>
                <a:latin typeface="Arial"/>
              </a:rPr>
              <a:t>a una restricción de utilidad</a:t>
            </a:r>
            <a:br>
              <a:rPr sz="3300"/>
            </a:br>
            <a:r>
              <a:rPr b="0" i="1" lang="en-GB" sz="33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810000"/>
                </a:solidFill>
                <a:latin typeface="Arial"/>
              </a:rPr>
              <a:t>La Solución es una  función de </a:t>
            </a:r>
            <a:r>
              <a:rPr b="0" lang="en-GB" sz="3300" spc="-1" strike="noStrike">
                <a:solidFill>
                  <a:srgbClr val="810000"/>
                </a:solidFill>
                <a:latin typeface="Times New Roman"/>
              </a:rPr>
              <a:t>(p,</a:t>
            </a:r>
            <a:r>
              <a:rPr b="0" i="1" lang="en-GB" sz="3300" spc="-1" strike="noStrike">
                <a:solidFill>
                  <a:srgbClr val="810000"/>
                </a:solidFill>
                <a:latin typeface="Times New Roman"/>
              </a:rPr>
              <a:t>u</a:t>
            </a:r>
            <a:r>
              <a:rPr b="0" lang="en-GB" sz="3300" spc="-1" strike="noStrike">
                <a:solidFill>
                  <a:srgbClr val="81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laciones funcionales básicas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81080" y="2600280"/>
            <a:ext cx="1474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81080" y="5227560"/>
            <a:ext cx="1638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981080" y="6699240"/>
            <a:ext cx="1460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57640" y="2631960"/>
            <a:ext cx="36417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demanda compensada para el bien  </a:t>
            </a: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41800" y="6724800"/>
            <a:ext cx="2752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utilidad indirec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57640" y="5324400"/>
            <a:ext cx="3645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demanda ordinaria por el bien </a:t>
            </a: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81080" y="4105440"/>
            <a:ext cx="13226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41800" y="4130640"/>
            <a:ext cx="3632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costo(gast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19860000">
            <a:off x="761760" y="380520"/>
            <a:ext cx="8734320" cy="6650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73040" indent="-1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Brush738 BT"/>
              </a:rPr>
              <a:t>Usaremos estos resultados para enganchar algunas importantes relaciones en el próximo capitulo</a:t>
            </a:r>
            <a:r>
              <a:rPr b="1" lang="en-GB" sz="7200" spc="-1" strike="noStrike">
                <a:solidFill>
                  <a:srgbClr val="ff0000"/>
                </a:solidFill>
                <a:latin typeface="Brush738 BT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4038480"/>
            <a:ext cx="6172200" cy="2667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800" spc="-1" strike="noStrike">
                <a:solidFill>
                  <a:srgbClr val="ff8100"/>
                </a:solidFill>
                <a:latin typeface="Times New Roman"/>
              </a:rPr>
              <a:t>H es tambien conocida como l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800" spc="-1" strike="noStrike">
                <a:solidFill>
                  <a:srgbClr val="ff8100"/>
                </a:solidFill>
                <a:latin typeface="Times New Roman"/>
              </a:rPr>
              <a:t>demanda "Hicksiana"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 que haremo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480" y="2144880"/>
            <a:ext cx="9961560" cy="506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0ffbf"/>
              </a:gs>
            </a:gsLst>
            <a:lin ang="13500000"/>
          </a:gradFill>
          <a:ln w="127080">
            <a:solidFill>
              <a:srgbClr val="008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19040" indent="-1319040">
              <a:spcBef>
                <a:spcPts val="2625"/>
              </a:spcBef>
              <a:buClr>
                <a:srgbClr val="810000"/>
              </a:buClr>
              <a:buSzPct val="70000"/>
              <a:buFont typeface="Monotype Sorts" charset="2"/>
              <a:buChar char="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4200" spc="-1" strike="noStrike">
                <a:solidFill>
                  <a:srgbClr val="004041"/>
                </a:solidFill>
                <a:latin typeface="Times New Roman"/>
              </a:rPr>
              <a:t>Queremos resolver el problema de optimización del consumido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319040" indent="-1319040">
              <a:spcBef>
                <a:spcPts val="2625"/>
              </a:spcBef>
              <a:buClr>
                <a:srgbClr val="810000"/>
              </a:buClr>
              <a:buSzPct val="70000"/>
              <a:buFont typeface="Monotype Sorts" charset="2"/>
              <a:buChar char="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4200" spc="-1" strike="noStrike">
                <a:solidFill>
                  <a:srgbClr val="004041"/>
                </a:solidFill>
                <a:latin typeface="Times New Roman"/>
              </a:rPr>
              <a:t>...utilizando métodos que ya hemos introduci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1319040" indent="-1319040">
              <a:spcBef>
                <a:spcPts val="2625"/>
              </a:spcBef>
              <a:buClr>
                <a:srgbClr val="810000"/>
              </a:buClr>
              <a:buSzPct val="70000"/>
              <a:buFont typeface="Monotype Sorts" charset="2"/>
              <a:buChar char="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4200" spc="-1" strike="noStrike">
                <a:solidFill>
                  <a:srgbClr val="004041"/>
                </a:solidFill>
                <a:latin typeface="Times New Roman"/>
              </a:rPr>
              <a:t>Esto nos permite reciclar conocimientos ya adquirid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Ayudi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360" y="1931040"/>
            <a:ext cx="9931680" cy="6027480"/>
          </a:xfrm>
          <a:prstGeom prst="roundRect">
            <a:avLst>
              <a:gd name="adj" fmla="val 0"/>
            </a:avLst>
          </a:prstGeom>
          <a:solidFill>
            <a:srgbClr val="810000"/>
          </a:solid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81080"/>
            <a:ext cx="7286400" cy="3268800"/>
          </a:xfrm>
          <a:custGeom>
            <a:avLst/>
            <a:gdLst/>
            <a:ahLst/>
            <a:rect l="l" t="t" r="r" b="b"/>
            <a:pathLst>
              <a:path w="4590" h="2059">
                <a:moveTo>
                  <a:pt x="3247" y="1525"/>
                </a:moveTo>
                <a:lnTo>
                  <a:pt x="2936" y="1564"/>
                </a:lnTo>
                <a:lnTo>
                  <a:pt x="2629" y="1588"/>
                </a:lnTo>
                <a:lnTo>
                  <a:pt x="2327" y="1598"/>
                </a:lnTo>
                <a:lnTo>
                  <a:pt x="2034" y="1593"/>
                </a:lnTo>
                <a:lnTo>
                  <a:pt x="1750" y="1576"/>
                </a:lnTo>
                <a:lnTo>
                  <a:pt x="1480" y="1546"/>
                </a:lnTo>
                <a:lnTo>
                  <a:pt x="1224" y="1506"/>
                </a:lnTo>
                <a:lnTo>
                  <a:pt x="987" y="1455"/>
                </a:lnTo>
                <a:lnTo>
                  <a:pt x="768" y="1397"/>
                </a:lnTo>
                <a:lnTo>
                  <a:pt x="572" y="1329"/>
                </a:lnTo>
                <a:lnTo>
                  <a:pt x="400" y="1255"/>
                </a:lnTo>
                <a:lnTo>
                  <a:pt x="257" y="1173"/>
                </a:lnTo>
                <a:lnTo>
                  <a:pt x="141" y="1087"/>
                </a:lnTo>
                <a:lnTo>
                  <a:pt x="59" y="996"/>
                </a:lnTo>
                <a:lnTo>
                  <a:pt x="11" y="901"/>
                </a:lnTo>
                <a:lnTo>
                  <a:pt x="0" y="803"/>
                </a:lnTo>
                <a:lnTo>
                  <a:pt x="62" y="614"/>
                </a:lnTo>
                <a:lnTo>
                  <a:pt x="214" y="451"/>
                </a:lnTo>
                <a:lnTo>
                  <a:pt x="440" y="313"/>
                </a:lnTo>
                <a:lnTo>
                  <a:pt x="731" y="200"/>
                </a:lnTo>
                <a:lnTo>
                  <a:pt x="1071" y="113"/>
                </a:lnTo>
                <a:lnTo>
                  <a:pt x="1450" y="51"/>
                </a:lnTo>
                <a:lnTo>
                  <a:pt x="1854" y="14"/>
                </a:lnTo>
                <a:lnTo>
                  <a:pt x="2273" y="0"/>
                </a:lnTo>
                <a:lnTo>
                  <a:pt x="2690" y="13"/>
                </a:lnTo>
                <a:lnTo>
                  <a:pt x="3097" y="49"/>
                </a:lnTo>
                <a:lnTo>
                  <a:pt x="3479" y="110"/>
                </a:lnTo>
                <a:lnTo>
                  <a:pt x="3825" y="194"/>
                </a:lnTo>
                <a:lnTo>
                  <a:pt x="4121" y="302"/>
                </a:lnTo>
                <a:lnTo>
                  <a:pt x="4355" y="433"/>
                </a:lnTo>
                <a:lnTo>
                  <a:pt x="4515" y="588"/>
                </a:lnTo>
                <a:lnTo>
                  <a:pt x="4588" y="765"/>
                </a:lnTo>
                <a:lnTo>
                  <a:pt x="4589" y="812"/>
                </a:lnTo>
                <a:lnTo>
                  <a:pt x="4583" y="858"/>
                </a:lnTo>
                <a:lnTo>
                  <a:pt x="4568" y="904"/>
                </a:lnTo>
                <a:lnTo>
                  <a:pt x="4546" y="950"/>
                </a:lnTo>
                <a:lnTo>
                  <a:pt x="4513" y="997"/>
                </a:lnTo>
                <a:lnTo>
                  <a:pt x="4473" y="1044"/>
                </a:lnTo>
                <a:lnTo>
                  <a:pt x="4423" y="1091"/>
                </a:lnTo>
                <a:lnTo>
                  <a:pt x="4364" y="1136"/>
                </a:lnTo>
                <a:lnTo>
                  <a:pt x="4295" y="1182"/>
                </a:lnTo>
                <a:lnTo>
                  <a:pt x="4217" y="1226"/>
                </a:lnTo>
                <a:lnTo>
                  <a:pt x="4128" y="1270"/>
                </a:lnTo>
                <a:lnTo>
                  <a:pt x="4031" y="1312"/>
                </a:lnTo>
                <a:lnTo>
                  <a:pt x="3922" y="1354"/>
                </a:lnTo>
                <a:lnTo>
                  <a:pt x="3803" y="1394"/>
                </a:lnTo>
                <a:lnTo>
                  <a:pt x="3674" y="1433"/>
                </a:lnTo>
                <a:lnTo>
                  <a:pt x="3533" y="1469"/>
                </a:lnTo>
                <a:lnTo>
                  <a:pt x="4102" y="2058"/>
                </a:lnTo>
                <a:lnTo>
                  <a:pt x="3247" y="1525"/>
                </a:lnTo>
                <a:lnTo>
                  <a:pt x="3247" y="152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29400" y="4114800"/>
            <a:ext cx="2693880" cy="3852720"/>
            <a:chOff x="6629400" y="4114800"/>
            <a:chExt cx="2693880" cy="3852720"/>
          </a:xfrm>
        </p:grpSpPr>
        <p:sp>
          <p:nvSpPr>
            <p:cNvPr id="123" name=""/>
            <p:cNvSpPr/>
            <p:nvPr/>
          </p:nvSpPr>
          <p:spPr>
            <a:xfrm>
              <a:off x="8678880" y="7030800"/>
              <a:ext cx="465120" cy="420840"/>
            </a:xfrm>
            <a:custGeom>
              <a:avLst/>
              <a:gdLst/>
              <a:ahLst/>
              <a:rect l="l" t="t" r="r" b="b"/>
              <a:pathLst>
                <a:path w="293" h="265">
                  <a:moveTo>
                    <a:pt x="0" y="217"/>
                  </a:moveTo>
                  <a:lnTo>
                    <a:pt x="119" y="264"/>
                  </a:lnTo>
                  <a:lnTo>
                    <a:pt x="262" y="254"/>
                  </a:lnTo>
                  <a:lnTo>
                    <a:pt x="240" y="211"/>
                  </a:lnTo>
                  <a:lnTo>
                    <a:pt x="237" y="158"/>
                  </a:lnTo>
                  <a:lnTo>
                    <a:pt x="256" y="101"/>
                  </a:lnTo>
                  <a:lnTo>
                    <a:pt x="292" y="21"/>
                  </a:lnTo>
                  <a:lnTo>
                    <a:pt x="242" y="43"/>
                  </a:lnTo>
                  <a:lnTo>
                    <a:pt x="224" y="47"/>
                  </a:lnTo>
                  <a:lnTo>
                    <a:pt x="197" y="40"/>
                  </a:lnTo>
                  <a:lnTo>
                    <a:pt x="172" y="21"/>
                  </a:lnTo>
                  <a:lnTo>
                    <a:pt x="160" y="0"/>
                  </a:lnTo>
                  <a:lnTo>
                    <a:pt x="149" y="37"/>
                  </a:lnTo>
                  <a:lnTo>
                    <a:pt x="162" y="68"/>
                  </a:lnTo>
                  <a:lnTo>
                    <a:pt x="165" y="89"/>
                  </a:lnTo>
                  <a:lnTo>
                    <a:pt x="149" y="114"/>
                  </a:lnTo>
                  <a:lnTo>
                    <a:pt x="134" y="120"/>
                  </a:lnTo>
                  <a:lnTo>
                    <a:pt x="112" y="105"/>
                  </a:lnTo>
                  <a:lnTo>
                    <a:pt x="60" y="70"/>
                  </a:lnTo>
                  <a:lnTo>
                    <a:pt x="54" y="161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004200"/>
            </a:solidFill>
            <a:ln w="9360">
              <a:solidFill>
                <a:srgbClr val="00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35800" y="7235640"/>
              <a:ext cx="1014480" cy="730440"/>
            </a:xfrm>
            <a:custGeom>
              <a:avLst/>
              <a:gdLst/>
              <a:ahLst/>
              <a:rect l="l" t="t" r="r" b="b"/>
              <a:pathLst>
                <a:path w="639" h="460">
                  <a:moveTo>
                    <a:pt x="0" y="191"/>
                  </a:moveTo>
                  <a:lnTo>
                    <a:pt x="47" y="201"/>
                  </a:lnTo>
                  <a:lnTo>
                    <a:pt x="78" y="196"/>
                  </a:lnTo>
                  <a:lnTo>
                    <a:pt x="88" y="182"/>
                  </a:lnTo>
                  <a:lnTo>
                    <a:pt x="81" y="169"/>
                  </a:lnTo>
                  <a:lnTo>
                    <a:pt x="115" y="169"/>
                  </a:lnTo>
                  <a:lnTo>
                    <a:pt x="139" y="161"/>
                  </a:lnTo>
                  <a:lnTo>
                    <a:pt x="144" y="141"/>
                  </a:lnTo>
                  <a:lnTo>
                    <a:pt x="126" y="95"/>
                  </a:lnTo>
                  <a:lnTo>
                    <a:pt x="550" y="0"/>
                  </a:lnTo>
                  <a:lnTo>
                    <a:pt x="540" y="58"/>
                  </a:lnTo>
                  <a:lnTo>
                    <a:pt x="547" y="97"/>
                  </a:lnTo>
                  <a:lnTo>
                    <a:pt x="577" y="107"/>
                  </a:lnTo>
                  <a:lnTo>
                    <a:pt x="625" y="107"/>
                  </a:lnTo>
                  <a:lnTo>
                    <a:pt x="613" y="125"/>
                  </a:lnTo>
                  <a:lnTo>
                    <a:pt x="615" y="147"/>
                  </a:lnTo>
                  <a:lnTo>
                    <a:pt x="625" y="169"/>
                  </a:lnTo>
                  <a:lnTo>
                    <a:pt x="638" y="188"/>
                  </a:lnTo>
                  <a:lnTo>
                    <a:pt x="615" y="182"/>
                  </a:lnTo>
                  <a:lnTo>
                    <a:pt x="581" y="201"/>
                  </a:lnTo>
                  <a:lnTo>
                    <a:pt x="573" y="228"/>
                  </a:lnTo>
                  <a:lnTo>
                    <a:pt x="581" y="269"/>
                  </a:lnTo>
                  <a:lnTo>
                    <a:pt x="553" y="240"/>
                  </a:lnTo>
                  <a:lnTo>
                    <a:pt x="513" y="228"/>
                  </a:lnTo>
                  <a:lnTo>
                    <a:pt x="448" y="226"/>
                  </a:lnTo>
                  <a:lnTo>
                    <a:pt x="410" y="238"/>
                  </a:lnTo>
                  <a:lnTo>
                    <a:pt x="395" y="249"/>
                  </a:lnTo>
                  <a:lnTo>
                    <a:pt x="417" y="260"/>
                  </a:lnTo>
                  <a:lnTo>
                    <a:pt x="380" y="273"/>
                  </a:lnTo>
                  <a:lnTo>
                    <a:pt x="364" y="279"/>
                  </a:lnTo>
                  <a:lnTo>
                    <a:pt x="352" y="325"/>
                  </a:lnTo>
                  <a:lnTo>
                    <a:pt x="361" y="381"/>
                  </a:lnTo>
                  <a:lnTo>
                    <a:pt x="333" y="365"/>
                  </a:lnTo>
                  <a:lnTo>
                    <a:pt x="299" y="365"/>
                  </a:lnTo>
                  <a:lnTo>
                    <a:pt x="255" y="381"/>
                  </a:lnTo>
                  <a:lnTo>
                    <a:pt x="234" y="397"/>
                  </a:lnTo>
                  <a:lnTo>
                    <a:pt x="211" y="459"/>
                  </a:lnTo>
                  <a:lnTo>
                    <a:pt x="217" y="399"/>
                  </a:lnTo>
                  <a:lnTo>
                    <a:pt x="211" y="362"/>
                  </a:lnTo>
                  <a:lnTo>
                    <a:pt x="196" y="325"/>
                  </a:lnTo>
                  <a:lnTo>
                    <a:pt x="171" y="303"/>
                  </a:lnTo>
                  <a:lnTo>
                    <a:pt x="126" y="318"/>
                  </a:lnTo>
                  <a:lnTo>
                    <a:pt x="99" y="359"/>
                  </a:lnTo>
                  <a:lnTo>
                    <a:pt x="115" y="279"/>
                  </a:lnTo>
                  <a:lnTo>
                    <a:pt x="127" y="246"/>
                  </a:lnTo>
                  <a:lnTo>
                    <a:pt x="85" y="238"/>
                  </a:lnTo>
                  <a:lnTo>
                    <a:pt x="31" y="220"/>
                  </a:lnTo>
                  <a:lnTo>
                    <a:pt x="0" y="191"/>
                  </a:lnTo>
                  <a:lnTo>
                    <a:pt x="0" y="191"/>
                  </a:lnTo>
                </a:path>
              </a:pathLst>
            </a:custGeom>
            <a:solidFill>
              <a:srgbClr val="004200"/>
            </a:solidFill>
            <a:ln w="9360">
              <a:solidFill>
                <a:srgbClr val="00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00760" y="6924600"/>
              <a:ext cx="606600" cy="812880"/>
            </a:xfrm>
            <a:custGeom>
              <a:avLst/>
              <a:gdLst/>
              <a:ahLst/>
              <a:rect l="l" t="t" r="r" b="b"/>
              <a:pathLst>
                <a:path w="382" h="512">
                  <a:moveTo>
                    <a:pt x="145" y="0"/>
                  </a:moveTo>
                  <a:lnTo>
                    <a:pt x="165" y="32"/>
                  </a:lnTo>
                  <a:lnTo>
                    <a:pt x="173" y="67"/>
                  </a:lnTo>
                  <a:lnTo>
                    <a:pt x="153" y="126"/>
                  </a:lnTo>
                  <a:lnTo>
                    <a:pt x="113" y="137"/>
                  </a:lnTo>
                  <a:lnTo>
                    <a:pt x="165" y="159"/>
                  </a:lnTo>
                  <a:lnTo>
                    <a:pt x="197" y="185"/>
                  </a:lnTo>
                  <a:lnTo>
                    <a:pt x="217" y="221"/>
                  </a:lnTo>
                  <a:lnTo>
                    <a:pt x="118" y="296"/>
                  </a:lnTo>
                  <a:lnTo>
                    <a:pt x="86" y="350"/>
                  </a:lnTo>
                  <a:lnTo>
                    <a:pt x="71" y="397"/>
                  </a:lnTo>
                  <a:lnTo>
                    <a:pt x="37" y="434"/>
                  </a:lnTo>
                  <a:lnTo>
                    <a:pt x="0" y="456"/>
                  </a:lnTo>
                  <a:lnTo>
                    <a:pt x="74" y="422"/>
                  </a:lnTo>
                  <a:lnTo>
                    <a:pt x="122" y="428"/>
                  </a:lnTo>
                  <a:lnTo>
                    <a:pt x="145" y="445"/>
                  </a:lnTo>
                  <a:lnTo>
                    <a:pt x="161" y="511"/>
                  </a:lnTo>
                  <a:lnTo>
                    <a:pt x="186" y="475"/>
                  </a:lnTo>
                  <a:lnTo>
                    <a:pt x="204" y="469"/>
                  </a:lnTo>
                  <a:lnTo>
                    <a:pt x="232" y="475"/>
                  </a:lnTo>
                  <a:lnTo>
                    <a:pt x="264" y="506"/>
                  </a:lnTo>
                  <a:lnTo>
                    <a:pt x="261" y="465"/>
                  </a:lnTo>
                  <a:lnTo>
                    <a:pt x="272" y="430"/>
                  </a:lnTo>
                  <a:lnTo>
                    <a:pt x="297" y="412"/>
                  </a:lnTo>
                  <a:lnTo>
                    <a:pt x="309" y="399"/>
                  </a:lnTo>
                  <a:lnTo>
                    <a:pt x="267" y="384"/>
                  </a:lnTo>
                  <a:lnTo>
                    <a:pt x="255" y="353"/>
                  </a:lnTo>
                  <a:lnTo>
                    <a:pt x="261" y="321"/>
                  </a:lnTo>
                  <a:lnTo>
                    <a:pt x="279" y="296"/>
                  </a:lnTo>
                  <a:lnTo>
                    <a:pt x="363" y="246"/>
                  </a:lnTo>
                  <a:lnTo>
                    <a:pt x="360" y="200"/>
                  </a:lnTo>
                  <a:lnTo>
                    <a:pt x="339" y="145"/>
                  </a:lnTo>
                  <a:lnTo>
                    <a:pt x="342" y="114"/>
                  </a:lnTo>
                  <a:lnTo>
                    <a:pt x="381" y="57"/>
                  </a:lnTo>
                  <a:lnTo>
                    <a:pt x="332" y="61"/>
                  </a:lnTo>
                  <a:lnTo>
                    <a:pt x="295" y="88"/>
                  </a:lnTo>
                  <a:lnTo>
                    <a:pt x="257" y="82"/>
                  </a:lnTo>
                  <a:lnTo>
                    <a:pt x="195" y="29"/>
                  </a:lnTo>
                  <a:lnTo>
                    <a:pt x="145" y="0"/>
                  </a:lnTo>
                  <a:lnTo>
                    <a:pt x="145" y="0"/>
                  </a:lnTo>
                </a:path>
              </a:pathLst>
            </a:custGeom>
            <a:solidFill>
              <a:srgbClr val="004200"/>
            </a:solidFill>
            <a:ln w="9360">
              <a:solidFill>
                <a:srgbClr val="00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80200" y="4125600"/>
              <a:ext cx="1684440" cy="3162600"/>
            </a:xfrm>
            <a:custGeom>
              <a:avLst/>
              <a:gdLst/>
              <a:ahLst/>
              <a:rect l="l" t="t" r="r" b="b"/>
              <a:pathLst>
                <a:path w="1061" h="1992">
                  <a:moveTo>
                    <a:pt x="24" y="41"/>
                  </a:moveTo>
                  <a:lnTo>
                    <a:pt x="52" y="75"/>
                  </a:lnTo>
                  <a:lnTo>
                    <a:pt x="122" y="86"/>
                  </a:lnTo>
                  <a:lnTo>
                    <a:pt x="174" y="151"/>
                  </a:lnTo>
                  <a:lnTo>
                    <a:pt x="170" y="198"/>
                  </a:lnTo>
                  <a:lnTo>
                    <a:pt x="119" y="263"/>
                  </a:lnTo>
                  <a:lnTo>
                    <a:pt x="66" y="373"/>
                  </a:lnTo>
                  <a:lnTo>
                    <a:pt x="52" y="492"/>
                  </a:lnTo>
                  <a:lnTo>
                    <a:pt x="52" y="575"/>
                  </a:lnTo>
                  <a:lnTo>
                    <a:pt x="38" y="655"/>
                  </a:lnTo>
                  <a:lnTo>
                    <a:pt x="0" y="840"/>
                  </a:lnTo>
                  <a:lnTo>
                    <a:pt x="5" y="931"/>
                  </a:lnTo>
                  <a:lnTo>
                    <a:pt x="16" y="1005"/>
                  </a:lnTo>
                  <a:lnTo>
                    <a:pt x="5" y="1100"/>
                  </a:lnTo>
                  <a:lnTo>
                    <a:pt x="5" y="1180"/>
                  </a:lnTo>
                  <a:lnTo>
                    <a:pt x="5" y="1309"/>
                  </a:lnTo>
                  <a:lnTo>
                    <a:pt x="19" y="1421"/>
                  </a:lnTo>
                  <a:lnTo>
                    <a:pt x="38" y="1591"/>
                  </a:lnTo>
                  <a:lnTo>
                    <a:pt x="57" y="1704"/>
                  </a:lnTo>
                  <a:lnTo>
                    <a:pt x="109" y="1780"/>
                  </a:lnTo>
                  <a:lnTo>
                    <a:pt x="174" y="1819"/>
                  </a:lnTo>
                  <a:lnTo>
                    <a:pt x="250" y="1780"/>
                  </a:lnTo>
                  <a:lnTo>
                    <a:pt x="1009" y="1991"/>
                  </a:lnTo>
                  <a:lnTo>
                    <a:pt x="1009" y="1912"/>
                  </a:lnTo>
                  <a:lnTo>
                    <a:pt x="1060" y="1940"/>
                  </a:lnTo>
                  <a:lnTo>
                    <a:pt x="1014" y="1851"/>
                  </a:lnTo>
                  <a:lnTo>
                    <a:pt x="1004" y="1762"/>
                  </a:lnTo>
                  <a:lnTo>
                    <a:pt x="1029" y="1605"/>
                  </a:lnTo>
                  <a:lnTo>
                    <a:pt x="1029" y="1491"/>
                  </a:lnTo>
                  <a:lnTo>
                    <a:pt x="1009" y="1389"/>
                  </a:lnTo>
                  <a:lnTo>
                    <a:pt x="1004" y="1280"/>
                  </a:lnTo>
                  <a:lnTo>
                    <a:pt x="1004" y="1067"/>
                  </a:lnTo>
                  <a:lnTo>
                    <a:pt x="986" y="944"/>
                  </a:lnTo>
                  <a:lnTo>
                    <a:pt x="952" y="840"/>
                  </a:lnTo>
                  <a:lnTo>
                    <a:pt x="924" y="750"/>
                  </a:lnTo>
                  <a:lnTo>
                    <a:pt x="815" y="471"/>
                  </a:lnTo>
                  <a:lnTo>
                    <a:pt x="787" y="407"/>
                  </a:lnTo>
                  <a:lnTo>
                    <a:pt x="769" y="339"/>
                  </a:lnTo>
                  <a:lnTo>
                    <a:pt x="764" y="255"/>
                  </a:lnTo>
                  <a:lnTo>
                    <a:pt x="744" y="207"/>
                  </a:lnTo>
                  <a:lnTo>
                    <a:pt x="707" y="146"/>
                  </a:lnTo>
                  <a:lnTo>
                    <a:pt x="717" y="127"/>
                  </a:lnTo>
                  <a:lnTo>
                    <a:pt x="693" y="104"/>
                  </a:lnTo>
                  <a:lnTo>
                    <a:pt x="669" y="90"/>
                  </a:lnTo>
                  <a:lnTo>
                    <a:pt x="684" y="61"/>
                  </a:lnTo>
                  <a:lnTo>
                    <a:pt x="736" y="70"/>
                  </a:lnTo>
                  <a:lnTo>
                    <a:pt x="739" y="28"/>
                  </a:lnTo>
                  <a:lnTo>
                    <a:pt x="707" y="5"/>
                  </a:lnTo>
                  <a:lnTo>
                    <a:pt x="669" y="0"/>
                  </a:lnTo>
                  <a:lnTo>
                    <a:pt x="612" y="23"/>
                  </a:lnTo>
                  <a:lnTo>
                    <a:pt x="561" y="47"/>
                  </a:lnTo>
                  <a:lnTo>
                    <a:pt x="528" y="61"/>
                  </a:lnTo>
                  <a:lnTo>
                    <a:pt x="485" y="61"/>
                  </a:lnTo>
                  <a:lnTo>
                    <a:pt x="373" y="61"/>
                  </a:lnTo>
                  <a:lnTo>
                    <a:pt x="297" y="28"/>
                  </a:lnTo>
                  <a:lnTo>
                    <a:pt x="225" y="19"/>
                  </a:lnTo>
                  <a:lnTo>
                    <a:pt x="170" y="9"/>
                  </a:lnTo>
                  <a:lnTo>
                    <a:pt x="109" y="37"/>
                  </a:lnTo>
                  <a:lnTo>
                    <a:pt x="24" y="41"/>
                  </a:lnTo>
                  <a:lnTo>
                    <a:pt x="24" y="41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0920" y="4530600"/>
              <a:ext cx="163440" cy="270000"/>
            </a:xfrm>
            <a:custGeom>
              <a:avLst/>
              <a:gdLst/>
              <a:ahLst/>
              <a:rect l="l" t="t" r="r" b="b"/>
              <a:pathLst>
                <a:path w="103" h="170">
                  <a:moveTo>
                    <a:pt x="34" y="0"/>
                  </a:moveTo>
                  <a:lnTo>
                    <a:pt x="28" y="25"/>
                  </a:lnTo>
                  <a:lnTo>
                    <a:pt x="16" y="52"/>
                  </a:lnTo>
                  <a:lnTo>
                    <a:pt x="0" y="75"/>
                  </a:lnTo>
                  <a:lnTo>
                    <a:pt x="8" y="105"/>
                  </a:lnTo>
                  <a:lnTo>
                    <a:pt x="21" y="125"/>
                  </a:lnTo>
                  <a:lnTo>
                    <a:pt x="83" y="169"/>
                  </a:lnTo>
                  <a:lnTo>
                    <a:pt x="99" y="138"/>
                  </a:lnTo>
                  <a:lnTo>
                    <a:pt x="102" y="100"/>
                  </a:lnTo>
                  <a:lnTo>
                    <a:pt x="96" y="70"/>
                  </a:lnTo>
                  <a:lnTo>
                    <a:pt x="59" y="8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622100"/>
            </a:solidFill>
            <a:ln w="936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34400" y="4574880"/>
              <a:ext cx="104760" cy="17172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28" y="0"/>
                  </a:moveTo>
                  <a:lnTo>
                    <a:pt x="35" y="26"/>
                  </a:lnTo>
                  <a:lnTo>
                    <a:pt x="35" y="49"/>
                  </a:lnTo>
                  <a:lnTo>
                    <a:pt x="35" y="68"/>
                  </a:lnTo>
                  <a:lnTo>
                    <a:pt x="24" y="64"/>
                  </a:lnTo>
                  <a:lnTo>
                    <a:pt x="9" y="42"/>
                  </a:lnTo>
                  <a:lnTo>
                    <a:pt x="0" y="33"/>
                  </a:lnTo>
                  <a:lnTo>
                    <a:pt x="1" y="59"/>
                  </a:lnTo>
                  <a:lnTo>
                    <a:pt x="16" y="85"/>
                  </a:lnTo>
                  <a:lnTo>
                    <a:pt x="28" y="95"/>
                  </a:lnTo>
                  <a:lnTo>
                    <a:pt x="35" y="100"/>
                  </a:lnTo>
                  <a:lnTo>
                    <a:pt x="38" y="76"/>
                  </a:lnTo>
                  <a:lnTo>
                    <a:pt x="63" y="107"/>
                  </a:lnTo>
                  <a:lnTo>
                    <a:pt x="65" y="72"/>
                  </a:lnTo>
                  <a:lnTo>
                    <a:pt x="52" y="28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10440" y="4489200"/>
              <a:ext cx="117720" cy="13356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0" y="20"/>
                  </a:moveTo>
                  <a:lnTo>
                    <a:pt x="2" y="51"/>
                  </a:lnTo>
                  <a:lnTo>
                    <a:pt x="11" y="74"/>
                  </a:lnTo>
                  <a:lnTo>
                    <a:pt x="24" y="83"/>
                  </a:lnTo>
                  <a:lnTo>
                    <a:pt x="50" y="83"/>
                  </a:lnTo>
                  <a:lnTo>
                    <a:pt x="63" y="73"/>
                  </a:lnTo>
                  <a:lnTo>
                    <a:pt x="73" y="54"/>
                  </a:lnTo>
                  <a:lnTo>
                    <a:pt x="73" y="35"/>
                  </a:lnTo>
                  <a:lnTo>
                    <a:pt x="64" y="16"/>
                  </a:lnTo>
                  <a:lnTo>
                    <a:pt x="46" y="6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8400" y="4457520"/>
              <a:ext cx="176040" cy="149400"/>
            </a:xfrm>
            <a:custGeom>
              <a:avLst/>
              <a:gdLst/>
              <a:ahLst/>
              <a:rect l="l" t="t" r="r" b="b"/>
              <a:pathLst>
                <a:path w="111" h="94">
                  <a:moveTo>
                    <a:pt x="0" y="44"/>
                  </a:moveTo>
                  <a:lnTo>
                    <a:pt x="6" y="33"/>
                  </a:lnTo>
                  <a:lnTo>
                    <a:pt x="26" y="17"/>
                  </a:lnTo>
                  <a:lnTo>
                    <a:pt x="67" y="2"/>
                  </a:lnTo>
                  <a:lnTo>
                    <a:pt x="100" y="0"/>
                  </a:lnTo>
                  <a:lnTo>
                    <a:pt x="105" y="10"/>
                  </a:lnTo>
                  <a:lnTo>
                    <a:pt x="110" y="37"/>
                  </a:lnTo>
                  <a:lnTo>
                    <a:pt x="108" y="65"/>
                  </a:lnTo>
                  <a:lnTo>
                    <a:pt x="100" y="80"/>
                  </a:lnTo>
                  <a:lnTo>
                    <a:pt x="86" y="88"/>
                  </a:lnTo>
                  <a:lnTo>
                    <a:pt x="68" y="93"/>
                  </a:lnTo>
                  <a:lnTo>
                    <a:pt x="41" y="85"/>
                  </a:lnTo>
                  <a:lnTo>
                    <a:pt x="15" y="71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51640" y="7121520"/>
              <a:ext cx="939960" cy="330120"/>
            </a:xfrm>
            <a:custGeom>
              <a:avLst/>
              <a:gdLst/>
              <a:ahLst/>
              <a:rect l="l" t="t" r="r" b="b"/>
              <a:pathLst>
                <a:path w="592" h="208">
                  <a:moveTo>
                    <a:pt x="190" y="38"/>
                  </a:moveTo>
                  <a:lnTo>
                    <a:pt x="136" y="107"/>
                  </a:lnTo>
                  <a:lnTo>
                    <a:pt x="0" y="144"/>
                  </a:lnTo>
                  <a:lnTo>
                    <a:pt x="113" y="178"/>
                  </a:lnTo>
                  <a:lnTo>
                    <a:pt x="194" y="199"/>
                  </a:lnTo>
                  <a:lnTo>
                    <a:pt x="227" y="152"/>
                  </a:lnTo>
                  <a:lnTo>
                    <a:pt x="363" y="140"/>
                  </a:lnTo>
                  <a:lnTo>
                    <a:pt x="450" y="207"/>
                  </a:lnTo>
                  <a:lnTo>
                    <a:pt x="495" y="144"/>
                  </a:lnTo>
                  <a:lnTo>
                    <a:pt x="591" y="103"/>
                  </a:lnTo>
                  <a:lnTo>
                    <a:pt x="541" y="32"/>
                  </a:lnTo>
                  <a:lnTo>
                    <a:pt x="335" y="0"/>
                  </a:lnTo>
                  <a:lnTo>
                    <a:pt x="190" y="38"/>
                  </a:lnTo>
                  <a:lnTo>
                    <a:pt x="190" y="38"/>
                  </a:lnTo>
                </a:path>
              </a:pathLst>
            </a:custGeom>
            <a:solidFill>
              <a:srgbClr val="622100"/>
            </a:solidFill>
            <a:ln w="936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81720" y="5903640"/>
              <a:ext cx="290520" cy="851040"/>
            </a:xfrm>
            <a:custGeom>
              <a:avLst/>
              <a:gdLst/>
              <a:ahLst/>
              <a:rect l="l" t="t" r="r" b="b"/>
              <a:pathLst>
                <a:path w="183" h="536">
                  <a:moveTo>
                    <a:pt x="182" y="435"/>
                  </a:moveTo>
                  <a:lnTo>
                    <a:pt x="94" y="137"/>
                  </a:lnTo>
                  <a:lnTo>
                    <a:pt x="53" y="199"/>
                  </a:lnTo>
                  <a:lnTo>
                    <a:pt x="12" y="9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0" y="340"/>
                  </a:lnTo>
                  <a:lnTo>
                    <a:pt x="74" y="535"/>
                  </a:lnTo>
                  <a:lnTo>
                    <a:pt x="86" y="490"/>
                  </a:lnTo>
                  <a:lnTo>
                    <a:pt x="58" y="245"/>
                  </a:lnTo>
                  <a:lnTo>
                    <a:pt x="145" y="379"/>
                  </a:lnTo>
                  <a:lnTo>
                    <a:pt x="182" y="435"/>
                  </a:lnTo>
                  <a:lnTo>
                    <a:pt x="182" y="435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71000" y="5344920"/>
              <a:ext cx="452160" cy="1079640"/>
            </a:xfrm>
            <a:custGeom>
              <a:avLst/>
              <a:gdLst/>
              <a:ahLst/>
              <a:rect l="l" t="t" r="r" b="b"/>
              <a:pathLst>
                <a:path w="285" h="680">
                  <a:moveTo>
                    <a:pt x="148" y="0"/>
                  </a:moveTo>
                  <a:lnTo>
                    <a:pt x="115" y="57"/>
                  </a:lnTo>
                  <a:lnTo>
                    <a:pt x="99" y="134"/>
                  </a:lnTo>
                  <a:lnTo>
                    <a:pt x="112" y="224"/>
                  </a:lnTo>
                  <a:lnTo>
                    <a:pt x="137" y="369"/>
                  </a:lnTo>
                  <a:lnTo>
                    <a:pt x="190" y="486"/>
                  </a:lnTo>
                  <a:lnTo>
                    <a:pt x="256" y="593"/>
                  </a:lnTo>
                  <a:lnTo>
                    <a:pt x="284" y="679"/>
                  </a:lnTo>
                  <a:lnTo>
                    <a:pt x="224" y="576"/>
                  </a:lnTo>
                  <a:lnTo>
                    <a:pt x="153" y="468"/>
                  </a:lnTo>
                  <a:lnTo>
                    <a:pt x="107" y="328"/>
                  </a:lnTo>
                  <a:lnTo>
                    <a:pt x="66" y="155"/>
                  </a:lnTo>
                  <a:lnTo>
                    <a:pt x="37" y="209"/>
                  </a:lnTo>
                  <a:lnTo>
                    <a:pt x="42" y="324"/>
                  </a:lnTo>
                  <a:lnTo>
                    <a:pt x="10" y="241"/>
                  </a:lnTo>
                  <a:lnTo>
                    <a:pt x="0" y="138"/>
                  </a:lnTo>
                  <a:lnTo>
                    <a:pt x="21" y="64"/>
                  </a:lnTo>
                  <a:lnTo>
                    <a:pt x="50" y="30"/>
                  </a:lnTo>
                  <a:lnTo>
                    <a:pt x="29" y="91"/>
                  </a:lnTo>
                  <a:lnTo>
                    <a:pt x="29" y="183"/>
                  </a:lnTo>
                  <a:lnTo>
                    <a:pt x="54" y="117"/>
                  </a:lnTo>
                  <a:lnTo>
                    <a:pt x="83" y="43"/>
                  </a:lnTo>
                  <a:lnTo>
                    <a:pt x="128" y="13"/>
                  </a:lnTo>
                  <a:lnTo>
                    <a:pt x="148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2960" y="5352840"/>
              <a:ext cx="1359000" cy="1808280"/>
            </a:xfrm>
            <a:custGeom>
              <a:avLst/>
              <a:gdLst/>
              <a:ahLst/>
              <a:rect l="l" t="t" r="r" b="b"/>
              <a:pathLst>
                <a:path w="856" h="1139">
                  <a:moveTo>
                    <a:pt x="450" y="0"/>
                  </a:moveTo>
                  <a:lnTo>
                    <a:pt x="458" y="46"/>
                  </a:lnTo>
                  <a:lnTo>
                    <a:pt x="429" y="42"/>
                  </a:lnTo>
                  <a:lnTo>
                    <a:pt x="420" y="75"/>
                  </a:lnTo>
                  <a:lnTo>
                    <a:pt x="376" y="80"/>
                  </a:lnTo>
                  <a:lnTo>
                    <a:pt x="367" y="120"/>
                  </a:lnTo>
                  <a:lnTo>
                    <a:pt x="339" y="124"/>
                  </a:lnTo>
                  <a:lnTo>
                    <a:pt x="293" y="120"/>
                  </a:lnTo>
                  <a:lnTo>
                    <a:pt x="273" y="162"/>
                  </a:lnTo>
                  <a:lnTo>
                    <a:pt x="236" y="154"/>
                  </a:lnTo>
                  <a:lnTo>
                    <a:pt x="173" y="108"/>
                  </a:lnTo>
                  <a:lnTo>
                    <a:pt x="173" y="144"/>
                  </a:lnTo>
                  <a:lnTo>
                    <a:pt x="150" y="191"/>
                  </a:lnTo>
                  <a:lnTo>
                    <a:pt x="182" y="274"/>
                  </a:lnTo>
                  <a:lnTo>
                    <a:pt x="273" y="374"/>
                  </a:lnTo>
                  <a:lnTo>
                    <a:pt x="236" y="377"/>
                  </a:lnTo>
                  <a:lnTo>
                    <a:pt x="276" y="476"/>
                  </a:lnTo>
                  <a:lnTo>
                    <a:pt x="379" y="579"/>
                  </a:lnTo>
                  <a:lnTo>
                    <a:pt x="372" y="526"/>
                  </a:lnTo>
                  <a:lnTo>
                    <a:pt x="463" y="621"/>
                  </a:lnTo>
                  <a:lnTo>
                    <a:pt x="450" y="506"/>
                  </a:lnTo>
                  <a:lnTo>
                    <a:pt x="570" y="621"/>
                  </a:lnTo>
                  <a:lnTo>
                    <a:pt x="636" y="642"/>
                  </a:lnTo>
                  <a:lnTo>
                    <a:pt x="701" y="732"/>
                  </a:lnTo>
                  <a:lnTo>
                    <a:pt x="743" y="837"/>
                  </a:lnTo>
                  <a:lnTo>
                    <a:pt x="681" y="794"/>
                  </a:lnTo>
                  <a:lnTo>
                    <a:pt x="747" y="952"/>
                  </a:lnTo>
                  <a:lnTo>
                    <a:pt x="809" y="1080"/>
                  </a:lnTo>
                  <a:lnTo>
                    <a:pt x="855" y="1138"/>
                  </a:lnTo>
                  <a:lnTo>
                    <a:pt x="706" y="1051"/>
                  </a:lnTo>
                  <a:lnTo>
                    <a:pt x="611" y="950"/>
                  </a:lnTo>
                  <a:lnTo>
                    <a:pt x="537" y="819"/>
                  </a:lnTo>
                  <a:lnTo>
                    <a:pt x="557" y="903"/>
                  </a:lnTo>
                  <a:lnTo>
                    <a:pt x="475" y="856"/>
                  </a:lnTo>
                  <a:lnTo>
                    <a:pt x="417" y="812"/>
                  </a:lnTo>
                  <a:lnTo>
                    <a:pt x="355" y="704"/>
                  </a:lnTo>
                  <a:lnTo>
                    <a:pt x="322" y="658"/>
                  </a:lnTo>
                  <a:lnTo>
                    <a:pt x="293" y="637"/>
                  </a:lnTo>
                  <a:lnTo>
                    <a:pt x="240" y="600"/>
                  </a:lnTo>
                  <a:lnTo>
                    <a:pt x="198" y="502"/>
                  </a:lnTo>
                  <a:lnTo>
                    <a:pt x="194" y="583"/>
                  </a:lnTo>
                  <a:lnTo>
                    <a:pt x="140" y="460"/>
                  </a:lnTo>
                  <a:lnTo>
                    <a:pt x="124" y="360"/>
                  </a:lnTo>
                  <a:lnTo>
                    <a:pt x="104" y="303"/>
                  </a:lnTo>
                  <a:lnTo>
                    <a:pt x="90" y="364"/>
                  </a:lnTo>
                  <a:lnTo>
                    <a:pt x="70" y="248"/>
                  </a:lnTo>
                  <a:lnTo>
                    <a:pt x="70" y="140"/>
                  </a:lnTo>
                  <a:lnTo>
                    <a:pt x="24" y="174"/>
                  </a:lnTo>
                  <a:lnTo>
                    <a:pt x="34" y="59"/>
                  </a:lnTo>
                  <a:lnTo>
                    <a:pt x="0" y="96"/>
                  </a:lnTo>
                  <a:lnTo>
                    <a:pt x="16" y="17"/>
                  </a:lnTo>
                  <a:lnTo>
                    <a:pt x="48" y="42"/>
                  </a:lnTo>
                  <a:lnTo>
                    <a:pt x="67" y="8"/>
                  </a:lnTo>
                  <a:lnTo>
                    <a:pt x="99" y="63"/>
                  </a:lnTo>
                  <a:lnTo>
                    <a:pt x="132" y="30"/>
                  </a:lnTo>
                  <a:lnTo>
                    <a:pt x="186" y="80"/>
                  </a:lnTo>
                  <a:lnTo>
                    <a:pt x="256" y="83"/>
                  </a:lnTo>
                  <a:lnTo>
                    <a:pt x="256" y="25"/>
                  </a:lnTo>
                  <a:lnTo>
                    <a:pt x="347" y="38"/>
                  </a:lnTo>
                  <a:lnTo>
                    <a:pt x="347" y="4"/>
                  </a:lnTo>
                  <a:lnTo>
                    <a:pt x="426" y="21"/>
                  </a:lnTo>
                  <a:lnTo>
                    <a:pt x="450" y="0"/>
                  </a:lnTo>
                  <a:lnTo>
                    <a:pt x="45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04040" y="4562280"/>
              <a:ext cx="1076400" cy="763560"/>
            </a:xfrm>
            <a:custGeom>
              <a:avLst/>
              <a:gdLst/>
              <a:ahLst/>
              <a:rect l="l" t="t" r="r" b="b"/>
              <a:pathLst>
                <a:path w="678" h="481">
                  <a:moveTo>
                    <a:pt x="100" y="0"/>
                  </a:moveTo>
                  <a:lnTo>
                    <a:pt x="127" y="15"/>
                  </a:lnTo>
                  <a:lnTo>
                    <a:pt x="147" y="36"/>
                  </a:lnTo>
                  <a:lnTo>
                    <a:pt x="139" y="61"/>
                  </a:lnTo>
                  <a:lnTo>
                    <a:pt x="168" y="118"/>
                  </a:lnTo>
                  <a:lnTo>
                    <a:pt x="188" y="118"/>
                  </a:lnTo>
                  <a:lnTo>
                    <a:pt x="204" y="139"/>
                  </a:lnTo>
                  <a:lnTo>
                    <a:pt x="250" y="106"/>
                  </a:lnTo>
                  <a:lnTo>
                    <a:pt x="243" y="136"/>
                  </a:lnTo>
                  <a:lnTo>
                    <a:pt x="271" y="128"/>
                  </a:lnTo>
                  <a:lnTo>
                    <a:pt x="276" y="153"/>
                  </a:lnTo>
                  <a:lnTo>
                    <a:pt x="306" y="150"/>
                  </a:lnTo>
                  <a:lnTo>
                    <a:pt x="331" y="150"/>
                  </a:lnTo>
                  <a:lnTo>
                    <a:pt x="355" y="122"/>
                  </a:lnTo>
                  <a:lnTo>
                    <a:pt x="377" y="157"/>
                  </a:lnTo>
                  <a:lnTo>
                    <a:pt x="405" y="126"/>
                  </a:lnTo>
                  <a:lnTo>
                    <a:pt x="435" y="180"/>
                  </a:lnTo>
                  <a:lnTo>
                    <a:pt x="398" y="225"/>
                  </a:lnTo>
                  <a:lnTo>
                    <a:pt x="382" y="191"/>
                  </a:lnTo>
                  <a:lnTo>
                    <a:pt x="359" y="173"/>
                  </a:lnTo>
                  <a:lnTo>
                    <a:pt x="335" y="190"/>
                  </a:lnTo>
                  <a:lnTo>
                    <a:pt x="333" y="164"/>
                  </a:lnTo>
                  <a:lnTo>
                    <a:pt x="311" y="157"/>
                  </a:lnTo>
                  <a:lnTo>
                    <a:pt x="257" y="191"/>
                  </a:lnTo>
                  <a:lnTo>
                    <a:pt x="155" y="218"/>
                  </a:lnTo>
                  <a:lnTo>
                    <a:pt x="194" y="238"/>
                  </a:lnTo>
                  <a:lnTo>
                    <a:pt x="185" y="259"/>
                  </a:lnTo>
                  <a:lnTo>
                    <a:pt x="243" y="251"/>
                  </a:lnTo>
                  <a:lnTo>
                    <a:pt x="279" y="270"/>
                  </a:lnTo>
                  <a:lnTo>
                    <a:pt x="285" y="296"/>
                  </a:lnTo>
                  <a:lnTo>
                    <a:pt x="306" y="277"/>
                  </a:lnTo>
                  <a:lnTo>
                    <a:pt x="326" y="279"/>
                  </a:lnTo>
                  <a:lnTo>
                    <a:pt x="357" y="248"/>
                  </a:lnTo>
                  <a:lnTo>
                    <a:pt x="361" y="300"/>
                  </a:lnTo>
                  <a:lnTo>
                    <a:pt x="384" y="268"/>
                  </a:lnTo>
                  <a:lnTo>
                    <a:pt x="416" y="296"/>
                  </a:lnTo>
                  <a:lnTo>
                    <a:pt x="429" y="270"/>
                  </a:lnTo>
                  <a:lnTo>
                    <a:pt x="449" y="282"/>
                  </a:lnTo>
                  <a:lnTo>
                    <a:pt x="482" y="263"/>
                  </a:lnTo>
                  <a:lnTo>
                    <a:pt x="512" y="277"/>
                  </a:lnTo>
                  <a:lnTo>
                    <a:pt x="519" y="241"/>
                  </a:lnTo>
                  <a:lnTo>
                    <a:pt x="561" y="251"/>
                  </a:lnTo>
                  <a:lnTo>
                    <a:pt x="554" y="223"/>
                  </a:lnTo>
                  <a:lnTo>
                    <a:pt x="580" y="208"/>
                  </a:lnTo>
                  <a:lnTo>
                    <a:pt x="526" y="157"/>
                  </a:lnTo>
                  <a:lnTo>
                    <a:pt x="570" y="147"/>
                  </a:lnTo>
                  <a:lnTo>
                    <a:pt x="574" y="122"/>
                  </a:lnTo>
                  <a:lnTo>
                    <a:pt x="609" y="120"/>
                  </a:lnTo>
                  <a:lnTo>
                    <a:pt x="607" y="96"/>
                  </a:lnTo>
                  <a:lnTo>
                    <a:pt x="638" y="108"/>
                  </a:lnTo>
                  <a:lnTo>
                    <a:pt x="646" y="78"/>
                  </a:lnTo>
                  <a:lnTo>
                    <a:pt x="670" y="96"/>
                  </a:lnTo>
                  <a:lnTo>
                    <a:pt x="644" y="118"/>
                  </a:lnTo>
                  <a:lnTo>
                    <a:pt x="638" y="146"/>
                  </a:lnTo>
                  <a:lnTo>
                    <a:pt x="639" y="187"/>
                  </a:lnTo>
                  <a:lnTo>
                    <a:pt x="677" y="226"/>
                  </a:lnTo>
                  <a:lnTo>
                    <a:pt x="630" y="262"/>
                  </a:lnTo>
                  <a:lnTo>
                    <a:pt x="642" y="296"/>
                  </a:lnTo>
                  <a:lnTo>
                    <a:pt x="619" y="306"/>
                  </a:lnTo>
                  <a:lnTo>
                    <a:pt x="620" y="330"/>
                  </a:lnTo>
                  <a:lnTo>
                    <a:pt x="607" y="327"/>
                  </a:lnTo>
                  <a:lnTo>
                    <a:pt x="607" y="347"/>
                  </a:lnTo>
                  <a:lnTo>
                    <a:pt x="574" y="342"/>
                  </a:lnTo>
                  <a:lnTo>
                    <a:pt x="574" y="360"/>
                  </a:lnTo>
                  <a:lnTo>
                    <a:pt x="554" y="345"/>
                  </a:lnTo>
                  <a:lnTo>
                    <a:pt x="545" y="366"/>
                  </a:lnTo>
                  <a:lnTo>
                    <a:pt x="510" y="379"/>
                  </a:lnTo>
                  <a:lnTo>
                    <a:pt x="468" y="356"/>
                  </a:lnTo>
                  <a:lnTo>
                    <a:pt x="437" y="381"/>
                  </a:lnTo>
                  <a:lnTo>
                    <a:pt x="424" y="368"/>
                  </a:lnTo>
                  <a:lnTo>
                    <a:pt x="415" y="414"/>
                  </a:lnTo>
                  <a:lnTo>
                    <a:pt x="361" y="381"/>
                  </a:lnTo>
                  <a:lnTo>
                    <a:pt x="324" y="384"/>
                  </a:lnTo>
                  <a:lnTo>
                    <a:pt x="297" y="422"/>
                  </a:lnTo>
                  <a:lnTo>
                    <a:pt x="271" y="412"/>
                  </a:lnTo>
                  <a:lnTo>
                    <a:pt x="234" y="461"/>
                  </a:lnTo>
                  <a:lnTo>
                    <a:pt x="222" y="430"/>
                  </a:lnTo>
                  <a:lnTo>
                    <a:pt x="194" y="440"/>
                  </a:lnTo>
                  <a:lnTo>
                    <a:pt x="164" y="405"/>
                  </a:lnTo>
                  <a:lnTo>
                    <a:pt x="118" y="438"/>
                  </a:lnTo>
                  <a:lnTo>
                    <a:pt x="90" y="480"/>
                  </a:lnTo>
                  <a:lnTo>
                    <a:pt x="76" y="438"/>
                  </a:lnTo>
                  <a:lnTo>
                    <a:pt x="53" y="466"/>
                  </a:lnTo>
                  <a:lnTo>
                    <a:pt x="39" y="327"/>
                  </a:lnTo>
                  <a:lnTo>
                    <a:pt x="6" y="321"/>
                  </a:lnTo>
                  <a:lnTo>
                    <a:pt x="0" y="203"/>
                  </a:lnTo>
                  <a:lnTo>
                    <a:pt x="18" y="166"/>
                  </a:lnTo>
                  <a:lnTo>
                    <a:pt x="8" y="147"/>
                  </a:lnTo>
                  <a:lnTo>
                    <a:pt x="30" y="89"/>
                  </a:lnTo>
                  <a:lnTo>
                    <a:pt x="23" y="139"/>
                  </a:lnTo>
                  <a:lnTo>
                    <a:pt x="41" y="150"/>
                  </a:lnTo>
                  <a:lnTo>
                    <a:pt x="60" y="146"/>
                  </a:lnTo>
                  <a:lnTo>
                    <a:pt x="51" y="259"/>
                  </a:lnTo>
                  <a:lnTo>
                    <a:pt x="84" y="196"/>
                  </a:lnTo>
                  <a:lnTo>
                    <a:pt x="110" y="177"/>
                  </a:lnTo>
                  <a:lnTo>
                    <a:pt x="103" y="161"/>
                  </a:lnTo>
                  <a:lnTo>
                    <a:pt x="106" y="114"/>
                  </a:lnTo>
                  <a:lnTo>
                    <a:pt x="103" y="52"/>
                  </a:lnTo>
                  <a:lnTo>
                    <a:pt x="92" y="29"/>
                  </a:lnTo>
                  <a:lnTo>
                    <a:pt x="106" y="15"/>
                  </a:lnTo>
                  <a:lnTo>
                    <a:pt x="100" y="0"/>
                  </a:lnTo>
                  <a:lnTo>
                    <a:pt x="10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11920" y="4209840"/>
              <a:ext cx="501840" cy="243000"/>
            </a:xfrm>
            <a:custGeom>
              <a:avLst/>
              <a:gdLst/>
              <a:ahLst/>
              <a:rect l="l" t="t" r="r" b="b"/>
              <a:pathLst>
                <a:path w="316" h="153">
                  <a:moveTo>
                    <a:pt x="16" y="26"/>
                  </a:moveTo>
                  <a:lnTo>
                    <a:pt x="0" y="28"/>
                  </a:lnTo>
                  <a:lnTo>
                    <a:pt x="23" y="33"/>
                  </a:lnTo>
                  <a:lnTo>
                    <a:pt x="19" y="42"/>
                  </a:lnTo>
                  <a:lnTo>
                    <a:pt x="49" y="50"/>
                  </a:lnTo>
                  <a:lnTo>
                    <a:pt x="45" y="66"/>
                  </a:lnTo>
                  <a:lnTo>
                    <a:pt x="76" y="80"/>
                  </a:lnTo>
                  <a:lnTo>
                    <a:pt x="90" y="100"/>
                  </a:lnTo>
                  <a:lnTo>
                    <a:pt x="113" y="98"/>
                  </a:lnTo>
                  <a:lnTo>
                    <a:pt x="119" y="117"/>
                  </a:lnTo>
                  <a:lnTo>
                    <a:pt x="141" y="114"/>
                  </a:lnTo>
                  <a:lnTo>
                    <a:pt x="162" y="148"/>
                  </a:lnTo>
                  <a:lnTo>
                    <a:pt x="199" y="152"/>
                  </a:lnTo>
                  <a:lnTo>
                    <a:pt x="205" y="128"/>
                  </a:lnTo>
                  <a:lnTo>
                    <a:pt x="225" y="142"/>
                  </a:lnTo>
                  <a:lnTo>
                    <a:pt x="232" y="107"/>
                  </a:lnTo>
                  <a:lnTo>
                    <a:pt x="255" y="114"/>
                  </a:lnTo>
                  <a:lnTo>
                    <a:pt x="256" y="81"/>
                  </a:lnTo>
                  <a:lnTo>
                    <a:pt x="283" y="63"/>
                  </a:lnTo>
                  <a:lnTo>
                    <a:pt x="283" y="26"/>
                  </a:lnTo>
                  <a:lnTo>
                    <a:pt x="315" y="0"/>
                  </a:lnTo>
                  <a:lnTo>
                    <a:pt x="277" y="16"/>
                  </a:lnTo>
                  <a:lnTo>
                    <a:pt x="265" y="46"/>
                  </a:lnTo>
                  <a:lnTo>
                    <a:pt x="236" y="66"/>
                  </a:lnTo>
                  <a:lnTo>
                    <a:pt x="218" y="66"/>
                  </a:lnTo>
                  <a:lnTo>
                    <a:pt x="211" y="81"/>
                  </a:lnTo>
                  <a:lnTo>
                    <a:pt x="174" y="61"/>
                  </a:lnTo>
                  <a:lnTo>
                    <a:pt x="155" y="80"/>
                  </a:lnTo>
                  <a:lnTo>
                    <a:pt x="139" y="56"/>
                  </a:lnTo>
                  <a:lnTo>
                    <a:pt x="120" y="66"/>
                  </a:lnTo>
                  <a:lnTo>
                    <a:pt x="102" y="46"/>
                  </a:lnTo>
                  <a:lnTo>
                    <a:pt x="69" y="38"/>
                  </a:lnTo>
                  <a:lnTo>
                    <a:pt x="51" y="38"/>
                  </a:lnTo>
                  <a:lnTo>
                    <a:pt x="40" y="26"/>
                  </a:lnTo>
                  <a:lnTo>
                    <a:pt x="16" y="26"/>
                  </a:lnTo>
                  <a:lnTo>
                    <a:pt x="16" y="2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47080" y="4413240"/>
              <a:ext cx="306360" cy="331560"/>
            </a:xfrm>
            <a:custGeom>
              <a:avLst/>
              <a:gdLst/>
              <a:ahLst/>
              <a:rect l="l" t="t" r="r" b="b"/>
              <a:pathLst>
                <a:path w="193" h="209">
                  <a:moveTo>
                    <a:pt x="123" y="0"/>
                  </a:moveTo>
                  <a:lnTo>
                    <a:pt x="154" y="17"/>
                  </a:lnTo>
                  <a:lnTo>
                    <a:pt x="144" y="56"/>
                  </a:lnTo>
                  <a:lnTo>
                    <a:pt x="171" y="74"/>
                  </a:lnTo>
                  <a:lnTo>
                    <a:pt x="160" y="98"/>
                  </a:lnTo>
                  <a:lnTo>
                    <a:pt x="192" y="128"/>
                  </a:lnTo>
                  <a:lnTo>
                    <a:pt x="185" y="150"/>
                  </a:lnTo>
                  <a:lnTo>
                    <a:pt x="162" y="141"/>
                  </a:lnTo>
                  <a:lnTo>
                    <a:pt x="164" y="172"/>
                  </a:lnTo>
                  <a:lnTo>
                    <a:pt x="128" y="172"/>
                  </a:lnTo>
                  <a:lnTo>
                    <a:pt x="123" y="200"/>
                  </a:lnTo>
                  <a:lnTo>
                    <a:pt x="94" y="176"/>
                  </a:lnTo>
                  <a:lnTo>
                    <a:pt x="79" y="200"/>
                  </a:lnTo>
                  <a:lnTo>
                    <a:pt x="35" y="178"/>
                  </a:lnTo>
                  <a:lnTo>
                    <a:pt x="31" y="208"/>
                  </a:lnTo>
                  <a:lnTo>
                    <a:pt x="18" y="181"/>
                  </a:lnTo>
                  <a:lnTo>
                    <a:pt x="8" y="118"/>
                  </a:lnTo>
                  <a:lnTo>
                    <a:pt x="0" y="115"/>
                  </a:lnTo>
                  <a:lnTo>
                    <a:pt x="14" y="90"/>
                  </a:lnTo>
                  <a:lnTo>
                    <a:pt x="32" y="139"/>
                  </a:lnTo>
                  <a:lnTo>
                    <a:pt x="102" y="132"/>
                  </a:lnTo>
                  <a:lnTo>
                    <a:pt x="120" y="102"/>
                  </a:lnTo>
                  <a:lnTo>
                    <a:pt x="106" y="58"/>
                  </a:lnTo>
                  <a:lnTo>
                    <a:pt x="93" y="48"/>
                  </a:lnTo>
                  <a:lnTo>
                    <a:pt x="106" y="20"/>
                  </a:lnTo>
                  <a:lnTo>
                    <a:pt x="123" y="25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32640" y="4360680"/>
              <a:ext cx="419040" cy="385920"/>
            </a:xfrm>
            <a:custGeom>
              <a:avLst/>
              <a:gdLst/>
              <a:ahLst/>
              <a:rect l="l" t="t" r="r" b="b"/>
              <a:pathLst>
                <a:path w="264" h="243">
                  <a:moveTo>
                    <a:pt x="84" y="0"/>
                  </a:moveTo>
                  <a:lnTo>
                    <a:pt x="90" y="29"/>
                  </a:lnTo>
                  <a:lnTo>
                    <a:pt x="90" y="67"/>
                  </a:lnTo>
                  <a:lnTo>
                    <a:pt x="102" y="64"/>
                  </a:lnTo>
                  <a:lnTo>
                    <a:pt x="125" y="30"/>
                  </a:lnTo>
                  <a:lnTo>
                    <a:pt x="160" y="26"/>
                  </a:lnTo>
                  <a:lnTo>
                    <a:pt x="208" y="53"/>
                  </a:lnTo>
                  <a:lnTo>
                    <a:pt x="160" y="72"/>
                  </a:lnTo>
                  <a:lnTo>
                    <a:pt x="123" y="97"/>
                  </a:lnTo>
                  <a:lnTo>
                    <a:pt x="120" y="123"/>
                  </a:lnTo>
                  <a:lnTo>
                    <a:pt x="158" y="151"/>
                  </a:lnTo>
                  <a:lnTo>
                    <a:pt x="191" y="151"/>
                  </a:lnTo>
                  <a:lnTo>
                    <a:pt x="220" y="142"/>
                  </a:lnTo>
                  <a:lnTo>
                    <a:pt x="232" y="119"/>
                  </a:lnTo>
                  <a:lnTo>
                    <a:pt x="226" y="61"/>
                  </a:lnTo>
                  <a:lnTo>
                    <a:pt x="261" y="102"/>
                  </a:lnTo>
                  <a:lnTo>
                    <a:pt x="263" y="129"/>
                  </a:lnTo>
                  <a:lnTo>
                    <a:pt x="247" y="154"/>
                  </a:lnTo>
                  <a:lnTo>
                    <a:pt x="226" y="183"/>
                  </a:lnTo>
                  <a:lnTo>
                    <a:pt x="238" y="214"/>
                  </a:lnTo>
                  <a:lnTo>
                    <a:pt x="211" y="207"/>
                  </a:lnTo>
                  <a:lnTo>
                    <a:pt x="206" y="226"/>
                  </a:lnTo>
                  <a:lnTo>
                    <a:pt x="196" y="220"/>
                  </a:lnTo>
                  <a:lnTo>
                    <a:pt x="187" y="235"/>
                  </a:lnTo>
                  <a:lnTo>
                    <a:pt x="176" y="223"/>
                  </a:lnTo>
                  <a:lnTo>
                    <a:pt x="158" y="242"/>
                  </a:lnTo>
                  <a:lnTo>
                    <a:pt x="142" y="226"/>
                  </a:lnTo>
                  <a:lnTo>
                    <a:pt x="109" y="214"/>
                  </a:lnTo>
                  <a:lnTo>
                    <a:pt x="65" y="228"/>
                  </a:lnTo>
                  <a:lnTo>
                    <a:pt x="69" y="202"/>
                  </a:lnTo>
                  <a:lnTo>
                    <a:pt x="27" y="207"/>
                  </a:lnTo>
                  <a:lnTo>
                    <a:pt x="55" y="172"/>
                  </a:lnTo>
                  <a:lnTo>
                    <a:pt x="3" y="174"/>
                  </a:lnTo>
                  <a:lnTo>
                    <a:pt x="55" y="148"/>
                  </a:lnTo>
                  <a:lnTo>
                    <a:pt x="24" y="115"/>
                  </a:lnTo>
                  <a:lnTo>
                    <a:pt x="0" y="89"/>
                  </a:lnTo>
                  <a:lnTo>
                    <a:pt x="11" y="79"/>
                  </a:lnTo>
                  <a:lnTo>
                    <a:pt x="37" y="84"/>
                  </a:lnTo>
                  <a:lnTo>
                    <a:pt x="20" y="58"/>
                  </a:lnTo>
                  <a:lnTo>
                    <a:pt x="48" y="58"/>
                  </a:lnTo>
                  <a:lnTo>
                    <a:pt x="50" y="26"/>
                  </a:lnTo>
                  <a:lnTo>
                    <a:pt x="57" y="15"/>
                  </a:lnTo>
                  <a:lnTo>
                    <a:pt x="84" y="0"/>
                  </a:lnTo>
                  <a:lnTo>
                    <a:pt x="84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9680" y="4483080"/>
              <a:ext cx="66960" cy="6804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0" y="10"/>
                  </a:moveTo>
                  <a:lnTo>
                    <a:pt x="18" y="0"/>
                  </a:lnTo>
                  <a:lnTo>
                    <a:pt x="41" y="10"/>
                  </a:lnTo>
                  <a:lnTo>
                    <a:pt x="39" y="32"/>
                  </a:lnTo>
                  <a:lnTo>
                    <a:pt x="12" y="42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31320" y="451008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5" y="2"/>
                  </a:moveTo>
                  <a:lnTo>
                    <a:pt x="30" y="0"/>
                  </a:lnTo>
                  <a:lnTo>
                    <a:pt x="40" y="19"/>
                  </a:lnTo>
                  <a:lnTo>
                    <a:pt x="26" y="41"/>
                  </a:lnTo>
                  <a:lnTo>
                    <a:pt x="0" y="29"/>
                  </a:lnTo>
                  <a:lnTo>
                    <a:pt x="5" y="2"/>
                  </a:lnTo>
                  <a:lnTo>
                    <a:pt x="5" y="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37400" y="4432320"/>
              <a:ext cx="285840" cy="244440"/>
            </a:xfrm>
            <a:custGeom>
              <a:avLst/>
              <a:gdLst/>
              <a:ahLst/>
              <a:rect l="l" t="t" r="r" b="b"/>
              <a:pathLst>
                <a:path w="180" h="154">
                  <a:moveTo>
                    <a:pt x="116" y="16"/>
                  </a:moveTo>
                  <a:lnTo>
                    <a:pt x="75" y="0"/>
                  </a:lnTo>
                  <a:lnTo>
                    <a:pt x="59" y="13"/>
                  </a:lnTo>
                  <a:lnTo>
                    <a:pt x="31" y="36"/>
                  </a:lnTo>
                  <a:lnTo>
                    <a:pt x="5" y="36"/>
                  </a:lnTo>
                  <a:lnTo>
                    <a:pt x="12" y="60"/>
                  </a:lnTo>
                  <a:lnTo>
                    <a:pt x="0" y="82"/>
                  </a:lnTo>
                  <a:lnTo>
                    <a:pt x="31" y="111"/>
                  </a:lnTo>
                  <a:lnTo>
                    <a:pt x="21" y="132"/>
                  </a:lnTo>
                  <a:lnTo>
                    <a:pt x="63" y="134"/>
                  </a:lnTo>
                  <a:lnTo>
                    <a:pt x="75" y="153"/>
                  </a:lnTo>
                  <a:lnTo>
                    <a:pt x="121" y="137"/>
                  </a:lnTo>
                  <a:lnTo>
                    <a:pt x="134" y="153"/>
                  </a:lnTo>
                  <a:lnTo>
                    <a:pt x="162" y="116"/>
                  </a:lnTo>
                  <a:lnTo>
                    <a:pt x="179" y="69"/>
                  </a:lnTo>
                  <a:lnTo>
                    <a:pt x="176" y="39"/>
                  </a:lnTo>
                  <a:lnTo>
                    <a:pt x="160" y="27"/>
                  </a:lnTo>
                  <a:lnTo>
                    <a:pt x="162" y="68"/>
                  </a:lnTo>
                  <a:lnTo>
                    <a:pt x="156" y="90"/>
                  </a:lnTo>
                  <a:lnTo>
                    <a:pt x="145" y="106"/>
                  </a:lnTo>
                  <a:lnTo>
                    <a:pt x="128" y="103"/>
                  </a:lnTo>
                  <a:lnTo>
                    <a:pt x="98" y="102"/>
                  </a:lnTo>
                  <a:lnTo>
                    <a:pt x="70" y="92"/>
                  </a:lnTo>
                  <a:lnTo>
                    <a:pt x="50" y="70"/>
                  </a:lnTo>
                  <a:lnTo>
                    <a:pt x="54" y="52"/>
                  </a:lnTo>
                  <a:lnTo>
                    <a:pt x="79" y="30"/>
                  </a:lnTo>
                  <a:lnTo>
                    <a:pt x="116" y="16"/>
                  </a:lnTo>
                  <a:lnTo>
                    <a:pt x="116" y="1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59680" y="4471920"/>
              <a:ext cx="230400" cy="193680"/>
            </a:xfrm>
            <a:custGeom>
              <a:avLst/>
              <a:gdLst/>
              <a:ahLst/>
              <a:rect l="l" t="t" r="r" b="b"/>
              <a:pathLst>
                <a:path w="145" h="122">
                  <a:moveTo>
                    <a:pt x="0" y="45"/>
                  </a:moveTo>
                  <a:lnTo>
                    <a:pt x="13" y="93"/>
                  </a:lnTo>
                  <a:lnTo>
                    <a:pt x="46" y="121"/>
                  </a:lnTo>
                  <a:lnTo>
                    <a:pt x="57" y="109"/>
                  </a:lnTo>
                  <a:lnTo>
                    <a:pt x="104" y="112"/>
                  </a:lnTo>
                  <a:lnTo>
                    <a:pt x="112" y="86"/>
                  </a:lnTo>
                  <a:lnTo>
                    <a:pt x="144" y="67"/>
                  </a:lnTo>
                  <a:lnTo>
                    <a:pt x="115" y="35"/>
                  </a:lnTo>
                  <a:lnTo>
                    <a:pt x="115" y="14"/>
                  </a:lnTo>
                  <a:lnTo>
                    <a:pt x="98" y="0"/>
                  </a:lnTo>
                  <a:lnTo>
                    <a:pt x="78" y="11"/>
                  </a:lnTo>
                  <a:lnTo>
                    <a:pt x="104" y="35"/>
                  </a:lnTo>
                  <a:lnTo>
                    <a:pt x="108" y="65"/>
                  </a:lnTo>
                  <a:lnTo>
                    <a:pt x="98" y="86"/>
                  </a:lnTo>
                  <a:lnTo>
                    <a:pt x="83" y="95"/>
                  </a:lnTo>
                  <a:lnTo>
                    <a:pt x="55" y="89"/>
                  </a:lnTo>
                  <a:lnTo>
                    <a:pt x="41" y="77"/>
                  </a:lnTo>
                  <a:lnTo>
                    <a:pt x="37" y="61"/>
                  </a:lnTo>
                  <a:lnTo>
                    <a:pt x="36" y="21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2800" y="4608360"/>
              <a:ext cx="273240" cy="277920"/>
            </a:xfrm>
            <a:custGeom>
              <a:avLst/>
              <a:gdLst/>
              <a:ahLst/>
              <a:rect l="l" t="t" r="r" b="b"/>
              <a:pathLst>
                <a:path w="172" h="175">
                  <a:moveTo>
                    <a:pt x="0" y="0"/>
                  </a:moveTo>
                  <a:lnTo>
                    <a:pt x="31" y="14"/>
                  </a:lnTo>
                  <a:lnTo>
                    <a:pt x="16" y="27"/>
                  </a:lnTo>
                  <a:lnTo>
                    <a:pt x="51" y="82"/>
                  </a:lnTo>
                  <a:lnTo>
                    <a:pt x="44" y="107"/>
                  </a:lnTo>
                  <a:lnTo>
                    <a:pt x="85" y="103"/>
                  </a:lnTo>
                  <a:lnTo>
                    <a:pt x="89" y="132"/>
                  </a:lnTo>
                  <a:lnTo>
                    <a:pt x="143" y="124"/>
                  </a:lnTo>
                  <a:lnTo>
                    <a:pt x="171" y="132"/>
                  </a:lnTo>
                  <a:lnTo>
                    <a:pt x="124" y="162"/>
                  </a:lnTo>
                  <a:lnTo>
                    <a:pt x="53" y="174"/>
                  </a:lnTo>
                  <a:lnTo>
                    <a:pt x="68" y="144"/>
                  </a:lnTo>
                  <a:lnTo>
                    <a:pt x="23" y="143"/>
                  </a:lnTo>
                  <a:lnTo>
                    <a:pt x="31" y="121"/>
                  </a:lnTo>
                  <a:lnTo>
                    <a:pt x="10" y="118"/>
                  </a:lnTo>
                  <a:lnTo>
                    <a:pt x="20" y="86"/>
                  </a:lnTo>
                  <a:lnTo>
                    <a:pt x="10" y="77"/>
                  </a:lnTo>
                  <a:lnTo>
                    <a:pt x="9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29600" y="4752720"/>
              <a:ext cx="1020600" cy="480960"/>
            </a:xfrm>
            <a:custGeom>
              <a:avLst/>
              <a:gdLst/>
              <a:ahLst/>
              <a:rect l="l" t="t" r="r" b="b"/>
              <a:pathLst>
                <a:path w="643" h="303">
                  <a:moveTo>
                    <a:pt x="604" y="0"/>
                  </a:moveTo>
                  <a:lnTo>
                    <a:pt x="598" y="16"/>
                  </a:lnTo>
                  <a:lnTo>
                    <a:pt x="575" y="13"/>
                  </a:lnTo>
                  <a:lnTo>
                    <a:pt x="570" y="48"/>
                  </a:lnTo>
                  <a:lnTo>
                    <a:pt x="543" y="48"/>
                  </a:lnTo>
                  <a:lnTo>
                    <a:pt x="598" y="103"/>
                  </a:lnTo>
                  <a:lnTo>
                    <a:pt x="566" y="124"/>
                  </a:lnTo>
                  <a:lnTo>
                    <a:pt x="558" y="157"/>
                  </a:lnTo>
                  <a:lnTo>
                    <a:pt x="531" y="156"/>
                  </a:lnTo>
                  <a:lnTo>
                    <a:pt x="496" y="209"/>
                  </a:lnTo>
                  <a:lnTo>
                    <a:pt x="457" y="171"/>
                  </a:lnTo>
                  <a:lnTo>
                    <a:pt x="440" y="194"/>
                  </a:lnTo>
                  <a:lnTo>
                    <a:pt x="384" y="200"/>
                  </a:lnTo>
                  <a:lnTo>
                    <a:pt x="378" y="171"/>
                  </a:lnTo>
                  <a:lnTo>
                    <a:pt x="350" y="201"/>
                  </a:lnTo>
                  <a:lnTo>
                    <a:pt x="310" y="200"/>
                  </a:lnTo>
                  <a:lnTo>
                    <a:pt x="308" y="174"/>
                  </a:lnTo>
                  <a:lnTo>
                    <a:pt x="241" y="210"/>
                  </a:lnTo>
                  <a:lnTo>
                    <a:pt x="244" y="166"/>
                  </a:lnTo>
                  <a:lnTo>
                    <a:pt x="197" y="188"/>
                  </a:lnTo>
                  <a:lnTo>
                    <a:pt x="212" y="150"/>
                  </a:lnTo>
                  <a:lnTo>
                    <a:pt x="137" y="164"/>
                  </a:lnTo>
                  <a:lnTo>
                    <a:pt x="146" y="122"/>
                  </a:lnTo>
                  <a:lnTo>
                    <a:pt x="94" y="128"/>
                  </a:lnTo>
                  <a:lnTo>
                    <a:pt x="97" y="83"/>
                  </a:lnTo>
                  <a:lnTo>
                    <a:pt x="67" y="111"/>
                  </a:lnTo>
                  <a:lnTo>
                    <a:pt x="44" y="192"/>
                  </a:lnTo>
                  <a:lnTo>
                    <a:pt x="21" y="148"/>
                  </a:lnTo>
                  <a:lnTo>
                    <a:pt x="35" y="41"/>
                  </a:lnTo>
                  <a:lnTo>
                    <a:pt x="0" y="137"/>
                  </a:lnTo>
                  <a:lnTo>
                    <a:pt x="5" y="190"/>
                  </a:lnTo>
                  <a:lnTo>
                    <a:pt x="18" y="157"/>
                  </a:lnTo>
                  <a:lnTo>
                    <a:pt x="40" y="201"/>
                  </a:lnTo>
                  <a:lnTo>
                    <a:pt x="44" y="302"/>
                  </a:lnTo>
                  <a:lnTo>
                    <a:pt x="74" y="232"/>
                  </a:lnTo>
                  <a:lnTo>
                    <a:pt x="90" y="302"/>
                  </a:lnTo>
                  <a:lnTo>
                    <a:pt x="104" y="229"/>
                  </a:lnTo>
                  <a:lnTo>
                    <a:pt x="121" y="288"/>
                  </a:lnTo>
                  <a:lnTo>
                    <a:pt x="152" y="236"/>
                  </a:lnTo>
                  <a:lnTo>
                    <a:pt x="172" y="281"/>
                  </a:lnTo>
                  <a:lnTo>
                    <a:pt x="206" y="288"/>
                  </a:lnTo>
                  <a:lnTo>
                    <a:pt x="223" y="254"/>
                  </a:lnTo>
                  <a:lnTo>
                    <a:pt x="230" y="292"/>
                  </a:lnTo>
                  <a:lnTo>
                    <a:pt x="255" y="257"/>
                  </a:lnTo>
                  <a:lnTo>
                    <a:pt x="267" y="281"/>
                  </a:lnTo>
                  <a:lnTo>
                    <a:pt x="302" y="250"/>
                  </a:lnTo>
                  <a:lnTo>
                    <a:pt x="373" y="250"/>
                  </a:lnTo>
                  <a:lnTo>
                    <a:pt x="382" y="267"/>
                  </a:lnTo>
                  <a:lnTo>
                    <a:pt x="422" y="229"/>
                  </a:lnTo>
                  <a:lnTo>
                    <a:pt x="473" y="227"/>
                  </a:lnTo>
                  <a:lnTo>
                    <a:pt x="505" y="248"/>
                  </a:lnTo>
                  <a:lnTo>
                    <a:pt x="543" y="188"/>
                  </a:lnTo>
                  <a:lnTo>
                    <a:pt x="575" y="209"/>
                  </a:lnTo>
                  <a:lnTo>
                    <a:pt x="568" y="176"/>
                  </a:lnTo>
                  <a:lnTo>
                    <a:pt x="600" y="176"/>
                  </a:lnTo>
                  <a:lnTo>
                    <a:pt x="586" y="139"/>
                  </a:lnTo>
                  <a:lnTo>
                    <a:pt x="642" y="109"/>
                  </a:lnTo>
                  <a:lnTo>
                    <a:pt x="596" y="57"/>
                  </a:lnTo>
                  <a:lnTo>
                    <a:pt x="614" y="52"/>
                  </a:lnTo>
                  <a:lnTo>
                    <a:pt x="603" y="26"/>
                  </a:lnTo>
                  <a:lnTo>
                    <a:pt x="604" y="0"/>
                  </a:lnTo>
                  <a:lnTo>
                    <a:pt x="60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27720" y="4114800"/>
              <a:ext cx="1192320" cy="1041120"/>
            </a:xfrm>
            <a:custGeom>
              <a:avLst/>
              <a:gdLst/>
              <a:ahLst/>
              <a:rect l="l" t="t" r="r" b="b"/>
              <a:pathLst>
                <a:path w="751" h="656">
                  <a:moveTo>
                    <a:pt x="8" y="63"/>
                  </a:moveTo>
                  <a:lnTo>
                    <a:pt x="40" y="72"/>
                  </a:lnTo>
                  <a:lnTo>
                    <a:pt x="71" y="72"/>
                  </a:lnTo>
                  <a:lnTo>
                    <a:pt x="111" y="69"/>
                  </a:lnTo>
                  <a:lnTo>
                    <a:pt x="143" y="65"/>
                  </a:lnTo>
                  <a:lnTo>
                    <a:pt x="179" y="72"/>
                  </a:lnTo>
                  <a:lnTo>
                    <a:pt x="254" y="103"/>
                  </a:lnTo>
                  <a:lnTo>
                    <a:pt x="340" y="150"/>
                  </a:lnTo>
                  <a:lnTo>
                    <a:pt x="413" y="193"/>
                  </a:lnTo>
                  <a:lnTo>
                    <a:pt x="468" y="242"/>
                  </a:lnTo>
                  <a:lnTo>
                    <a:pt x="490" y="266"/>
                  </a:lnTo>
                  <a:lnTo>
                    <a:pt x="518" y="270"/>
                  </a:lnTo>
                  <a:lnTo>
                    <a:pt x="555" y="232"/>
                  </a:lnTo>
                  <a:lnTo>
                    <a:pt x="576" y="218"/>
                  </a:lnTo>
                  <a:lnTo>
                    <a:pt x="599" y="193"/>
                  </a:lnTo>
                  <a:lnTo>
                    <a:pt x="624" y="146"/>
                  </a:lnTo>
                  <a:lnTo>
                    <a:pt x="634" y="100"/>
                  </a:lnTo>
                  <a:lnTo>
                    <a:pt x="656" y="63"/>
                  </a:lnTo>
                  <a:lnTo>
                    <a:pt x="688" y="69"/>
                  </a:lnTo>
                  <a:lnTo>
                    <a:pt x="708" y="75"/>
                  </a:lnTo>
                  <a:lnTo>
                    <a:pt x="694" y="40"/>
                  </a:lnTo>
                  <a:lnTo>
                    <a:pt x="668" y="29"/>
                  </a:lnTo>
                  <a:lnTo>
                    <a:pt x="694" y="32"/>
                  </a:lnTo>
                  <a:lnTo>
                    <a:pt x="664" y="10"/>
                  </a:lnTo>
                  <a:lnTo>
                    <a:pt x="631" y="10"/>
                  </a:lnTo>
                  <a:lnTo>
                    <a:pt x="596" y="26"/>
                  </a:lnTo>
                  <a:lnTo>
                    <a:pt x="569" y="40"/>
                  </a:lnTo>
                  <a:lnTo>
                    <a:pt x="535" y="51"/>
                  </a:lnTo>
                  <a:lnTo>
                    <a:pt x="596" y="10"/>
                  </a:lnTo>
                  <a:lnTo>
                    <a:pt x="644" y="0"/>
                  </a:lnTo>
                  <a:lnTo>
                    <a:pt x="684" y="5"/>
                  </a:lnTo>
                  <a:lnTo>
                    <a:pt x="718" y="29"/>
                  </a:lnTo>
                  <a:lnTo>
                    <a:pt x="740" y="58"/>
                  </a:lnTo>
                  <a:lnTo>
                    <a:pt x="740" y="100"/>
                  </a:lnTo>
                  <a:lnTo>
                    <a:pt x="704" y="85"/>
                  </a:lnTo>
                  <a:lnTo>
                    <a:pt x="678" y="80"/>
                  </a:lnTo>
                  <a:lnTo>
                    <a:pt x="654" y="90"/>
                  </a:lnTo>
                  <a:lnTo>
                    <a:pt x="699" y="132"/>
                  </a:lnTo>
                  <a:lnTo>
                    <a:pt x="691" y="156"/>
                  </a:lnTo>
                  <a:lnTo>
                    <a:pt x="726" y="218"/>
                  </a:lnTo>
                  <a:lnTo>
                    <a:pt x="744" y="270"/>
                  </a:lnTo>
                  <a:lnTo>
                    <a:pt x="750" y="337"/>
                  </a:lnTo>
                  <a:lnTo>
                    <a:pt x="748" y="394"/>
                  </a:lnTo>
                  <a:lnTo>
                    <a:pt x="732" y="340"/>
                  </a:lnTo>
                  <a:lnTo>
                    <a:pt x="734" y="274"/>
                  </a:lnTo>
                  <a:lnTo>
                    <a:pt x="723" y="236"/>
                  </a:lnTo>
                  <a:lnTo>
                    <a:pt x="698" y="192"/>
                  </a:lnTo>
                  <a:lnTo>
                    <a:pt x="668" y="146"/>
                  </a:lnTo>
                  <a:lnTo>
                    <a:pt x="688" y="134"/>
                  </a:lnTo>
                  <a:lnTo>
                    <a:pt x="664" y="110"/>
                  </a:lnTo>
                  <a:lnTo>
                    <a:pt x="654" y="139"/>
                  </a:lnTo>
                  <a:lnTo>
                    <a:pt x="626" y="160"/>
                  </a:lnTo>
                  <a:lnTo>
                    <a:pt x="641" y="222"/>
                  </a:lnTo>
                  <a:lnTo>
                    <a:pt x="631" y="198"/>
                  </a:lnTo>
                  <a:lnTo>
                    <a:pt x="589" y="239"/>
                  </a:lnTo>
                  <a:lnTo>
                    <a:pt x="549" y="258"/>
                  </a:lnTo>
                  <a:lnTo>
                    <a:pt x="527" y="274"/>
                  </a:lnTo>
                  <a:lnTo>
                    <a:pt x="530" y="323"/>
                  </a:lnTo>
                  <a:lnTo>
                    <a:pt x="531" y="360"/>
                  </a:lnTo>
                  <a:lnTo>
                    <a:pt x="524" y="409"/>
                  </a:lnTo>
                  <a:lnTo>
                    <a:pt x="497" y="465"/>
                  </a:lnTo>
                  <a:lnTo>
                    <a:pt x="492" y="434"/>
                  </a:lnTo>
                  <a:lnTo>
                    <a:pt x="473" y="409"/>
                  </a:lnTo>
                  <a:lnTo>
                    <a:pt x="443" y="388"/>
                  </a:lnTo>
                  <a:lnTo>
                    <a:pt x="428" y="353"/>
                  </a:lnTo>
                  <a:lnTo>
                    <a:pt x="443" y="381"/>
                  </a:lnTo>
                  <a:lnTo>
                    <a:pt x="483" y="404"/>
                  </a:lnTo>
                  <a:lnTo>
                    <a:pt x="486" y="375"/>
                  </a:lnTo>
                  <a:lnTo>
                    <a:pt x="507" y="418"/>
                  </a:lnTo>
                  <a:lnTo>
                    <a:pt x="520" y="382"/>
                  </a:lnTo>
                  <a:lnTo>
                    <a:pt x="520" y="356"/>
                  </a:lnTo>
                  <a:lnTo>
                    <a:pt x="510" y="320"/>
                  </a:lnTo>
                  <a:lnTo>
                    <a:pt x="490" y="286"/>
                  </a:lnTo>
                  <a:lnTo>
                    <a:pt x="458" y="270"/>
                  </a:lnTo>
                  <a:lnTo>
                    <a:pt x="435" y="246"/>
                  </a:lnTo>
                  <a:lnTo>
                    <a:pt x="403" y="213"/>
                  </a:lnTo>
                  <a:lnTo>
                    <a:pt x="364" y="198"/>
                  </a:lnTo>
                  <a:lnTo>
                    <a:pt x="334" y="188"/>
                  </a:lnTo>
                  <a:lnTo>
                    <a:pt x="294" y="222"/>
                  </a:lnTo>
                  <a:lnTo>
                    <a:pt x="296" y="186"/>
                  </a:lnTo>
                  <a:lnTo>
                    <a:pt x="291" y="150"/>
                  </a:lnTo>
                  <a:lnTo>
                    <a:pt x="251" y="122"/>
                  </a:lnTo>
                  <a:lnTo>
                    <a:pt x="189" y="95"/>
                  </a:lnTo>
                  <a:lnTo>
                    <a:pt x="157" y="97"/>
                  </a:lnTo>
                  <a:lnTo>
                    <a:pt x="128" y="114"/>
                  </a:lnTo>
                  <a:lnTo>
                    <a:pt x="136" y="139"/>
                  </a:lnTo>
                  <a:lnTo>
                    <a:pt x="157" y="141"/>
                  </a:lnTo>
                  <a:lnTo>
                    <a:pt x="192" y="144"/>
                  </a:lnTo>
                  <a:lnTo>
                    <a:pt x="215" y="153"/>
                  </a:lnTo>
                  <a:lnTo>
                    <a:pt x="182" y="162"/>
                  </a:lnTo>
                  <a:lnTo>
                    <a:pt x="204" y="167"/>
                  </a:lnTo>
                  <a:lnTo>
                    <a:pt x="164" y="179"/>
                  </a:lnTo>
                  <a:lnTo>
                    <a:pt x="147" y="204"/>
                  </a:lnTo>
                  <a:lnTo>
                    <a:pt x="130" y="264"/>
                  </a:lnTo>
                  <a:lnTo>
                    <a:pt x="132" y="311"/>
                  </a:lnTo>
                  <a:lnTo>
                    <a:pt x="147" y="378"/>
                  </a:lnTo>
                  <a:lnTo>
                    <a:pt x="144" y="434"/>
                  </a:lnTo>
                  <a:lnTo>
                    <a:pt x="118" y="484"/>
                  </a:lnTo>
                  <a:lnTo>
                    <a:pt x="98" y="545"/>
                  </a:lnTo>
                  <a:lnTo>
                    <a:pt x="124" y="444"/>
                  </a:lnTo>
                  <a:lnTo>
                    <a:pt x="136" y="418"/>
                  </a:lnTo>
                  <a:lnTo>
                    <a:pt x="107" y="415"/>
                  </a:lnTo>
                  <a:lnTo>
                    <a:pt x="96" y="390"/>
                  </a:lnTo>
                  <a:lnTo>
                    <a:pt x="111" y="328"/>
                  </a:lnTo>
                  <a:lnTo>
                    <a:pt x="92" y="306"/>
                  </a:lnTo>
                  <a:lnTo>
                    <a:pt x="59" y="370"/>
                  </a:lnTo>
                  <a:lnTo>
                    <a:pt x="36" y="444"/>
                  </a:lnTo>
                  <a:lnTo>
                    <a:pt x="40" y="510"/>
                  </a:lnTo>
                  <a:lnTo>
                    <a:pt x="50" y="545"/>
                  </a:lnTo>
                  <a:lnTo>
                    <a:pt x="59" y="582"/>
                  </a:lnTo>
                  <a:lnTo>
                    <a:pt x="54" y="618"/>
                  </a:lnTo>
                  <a:lnTo>
                    <a:pt x="46" y="655"/>
                  </a:lnTo>
                  <a:lnTo>
                    <a:pt x="21" y="610"/>
                  </a:lnTo>
                  <a:lnTo>
                    <a:pt x="8" y="551"/>
                  </a:lnTo>
                  <a:lnTo>
                    <a:pt x="11" y="472"/>
                  </a:lnTo>
                  <a:lnTo>
                    <a:pt x="26" y="388"/>
                  </a:lnTo>
                  <a:lnTo>
                    <a:pt x="54" y="311"/>
                  </a:lnTo>
                  <a:lnTo>
                    <a:pt x="88" y="256"/>
                  </a:lnTo>
                  <a:lnTo>
                    <a:pt x="130" y="193"/>
                  </a:lnTo>
                  <a:lnTo>
                    <a:pt x="130" y="172"/>
                  </a:lnTo>
                  <a:lnTo>
                    <a:pt x="123" y="151"/>
                  </a:lnTo>
                  <a:lnTo>
                    <a:pt x="103" y="127"/>
                  </a:lnTo>
                  <a:lnTo>
                    <a:pt x="68" y="116"/>
                  </a:lnTo>
                  <a:lnTo>
                    <a:pt x="90" y="100"/>
                  </a:lnTo>
                  <a:lnTo>
                    <a:pt x="42" y="100"/>
                  </a:lnTo>
                  <a:lnTo>
                    <a:pt x="0" y="67"/>
                  </a:lnTo>
                  <a:lnTo>
                    <a:pt x="8" y="63"/>
                  </a:lnTo>
                  <a:lnTo>
                    <a:pt x="8" y="63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72360" y="4136760"/>
              <a:ext cx="817560" cy="122400"/>
            </a:xfrm>
            <a:custGeom>
              <a:avLst/>
              <a:gdLst/>
              <a:ahLst/>
              <a:rect l="l" t="t" r="r" b="b"/>
              <a:pathLst>
                <a:path w="515" h="77">
                  <a:moveTo>
                    <a:pt x="0" y="38"/>
                  </a:moveTo>
                  <a:lnTo>
                    <a:pt x="50" y="28"/>
                  </a:lnTo>
                  <a:lnTo>
                    <a:pt x="112" y="0"/>
                  </a:lnTo>
                  <a:lnTo>
                    <a:pt x="174" y="0"/>
                  </a:lnTo>
                  <a:lnTo>
                    <a:pt x="240" y="15"/>
                  </a:lnTo>
                  <a:lnTo>
                    <a:pt x="300" y="38"/>
                  </a:lnTo>
                  <a:lnTo>
                    <a:pt x="352" y="48"/>
                  </a:lnTo>
                  <a:lnTo>
                    <a:pt x="404" y="38"/>
                  </a:lnTo>
                  <a:lnTo>
                    <a:pt x="445" y="44"/>
                  </a:lnTo>
                  <a:lnTo>
                    <a:pt x="471" y="51"/>
                  </a:lnTo>
                  <a:lnTo>
                    <a:pt x="492" y="48"/>
                  </a:lnTo>
                  <a:lnTo>
                    <a:pt x="514" y="31"/>
                  </a:lnTo>
                  <a:lnTo>
                    <a:pt x="492" y="55"/>
                  </a:lnTo>
                  <a:lnTo>
                    <a:pt x="464" y="76"/>
                  </a:lnTo>
                  <a:lnTo>
                    <a:pt x="419" y="55"/>
                  </a:lnTo>
                  <a:lnTo>
                    <a:pt x="385" y="55"/>
                  </a:lnTo>
                  <a:lnTo>
                    <a:pt x="331" y="58"/>
                  </a:lnTo>
                  <a:lnTo>
                    <a:pt x="268" y="44"/>
                  </a:lnTo>
                  <a:lnTo>
                    <a:pt x="219" y="31"/>
                  </a:lnTo>
                  <a:lnTo>
                    <a:pt x="166" y="15"/>
                  </a:lnTo>
                  <a:lnTo>
                    <a:pt x="110" y="13"/>
                  </a:lnTo>
                  <a:lnTo>
                    <a:pt x="43" y="35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20040" y="4379760"/>
              <a:ext cx="131760" cy="257040"/>
            </a:xfrm>
            <a:custGeom>
              <a:avLst/>
              <a:gdLst/>
              <a:ahLst/>
              <a:rect l="l" t="t" r="r" b="b"/>
              <a:pathLst>
                <a:path w="83" h="162">
                  <a:moveTo>
                    <a:pt x="66" y="0"/>
                  </a:moveTo>
                  <a:lnTo>
                    <a:pt x="45" y="13"/>
                  </a:lnTo>
                  <a:lnTo>
                    <a:pt x="55" y="45"/>
                  </a:lnTo>
                  <a:lnTo>
                    <a:pt x="28" y="25"/>
                  </a:lnTo>
                  <a:lnTo>
                    <a:pt x="11" y="47"/>
                  </a:lnTo>
                  <a:lnTo>
                    <a:pt x="25" y="61"/>
                  </a:lnTo>
                  <a:lnTo>
                    <a:pt x="8" y="57"/>
                  </a:lnTo>
                  <a:lnTo>
                    <a:pt x="0" y="95"/>
                  </a:lnTo>
                  <a:lnTo>
                    <a:pt x="32" y="117"/>
                  </a:lnTo>
                  <a:lnTo>
                    <a:pt x="2" y="117"/>
                  </a:lnTo>
                  <a:lnTo>
                    <a:pt x="2" y="141"/>
                  </a:lnTo>
                  <a:lnTo>
                    <a:pt x="46" y="135"/>
                  </a:lnTo>
                  <a:lnTo>
                    <a:pt x="6" y="161"/>
                  </a:lnTo>
                  <a:lnTo>
                    <a:pt x="71" y="145"/>
                  </a:lnTo>
                  <a:lnTo>
                    <a:pt x="71" y="125"/>
                  </a:lnTo>
                  <a:lnTo>
                    <a:pt x="45" y="114"/>
                  </a:lnTo>
                  <a:lnTo>
                    <a:pt x="55" y="103"/>
                  </a:lnTo>
                  <a:lnTo>
                    <a:pt x="16" y="75"/>
                  </a:lnTo>
                  <a:lnTo>
                    <a:pt x="58" y="84"/>
                  </a:lnTo>
                  <a:lnTo>
                    <a:pt x="36" y="57"/>
                  </a:lnTo>
                  <a:lnTo>
                    <a:pt x="68" y="68"/>
                  </a:lnTo>
                  <a:lnTo>
                    <a:pt x="64" y="27"/>
                  </a:lnTo>
                  <a:lnTo>
                    <a:pt x="82" y="38"/>
                  </a:lnTo>
                  <a:lnTo>
                    <a:pt x="66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50000" y="4373280"/>
              <a:ext cx="1584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8480" y="4627440"/>
              <a:ext cx="322200" cy="168120"/>
            </a:xfrm>
            <a:custGeom>
              <a:avLst/>
              <a:gdLst/>
              <a:ahLst/>
              <a:rect l="l" t="t" r="r" b="b"/>
              <a:pathLst>
                <a:path w="203" h="106">
                  <a:moveTo>
                    <a:pt x="56" y="0"/>
                  </a:moveTo>
                  <a:lnTo>
                    <a:pt x="0" y="34"/>
                  </a:lnTo>
                  <a:lnTo>
                    <a:pt x="18" y="67"/>
                  </a:lnTo>
                  <a:lnTo>
                    <a:pt x="47" y="49"/>
                  </a:lnTo>
                  <a:lnTo>
                    <a:pt x="59" y="78"/>
                  </a:lnTo>
                  <a:lnTo>
                    <a:pt x="102" y="48"/>
                  </a:lnTo>
                  <a:lnTo>
                    <a:pt x="128" y="61"/>
                  </a:lnTo>
                  <a:lnTo>
                    <a:pt x="123" y="75"/>
                  </a:lnTo>
                  <a:lnTo>
                    <a:pt x="138" y="65"/>
                  </a:lnTo>
                  <a:lnTo>
                    <a:pt x="143" y="105"/>
                  </a:lnTo>
                  <a:lnTo>
                    <a:pt x="164" y="62"/>
                  </a:lnTo>
                  <a:lnTo>
                    <a:pt x="172" y="97"/>
                  </a:lnTo>
                  <a:lnTo>
                    <a:pt x="188" y="52"/>
                  </a:lnTo>
                  <a:lnTo>
                    <a:pt x="202" y="67"/>
                  </a:lnTo>
                  <a:lnTo>
                    <a:pt x="200" y="28"/>
                  </a:lnTo>
                  <a:lnTo>
                    <a:pt x="198" y="49"/>
                  </a:lnTo>
                  <a:lnTo>
                    <a:pt x="188" y="46"/>
                  </a:lnTo>
                  <a:lnTo>
                    <a:pt x="177" y="62"/>
                  </a:lnTo>
                  <a:lnTo>
                    <a:pt x="165" y="48"/>
                  </a:lnTo>
                  <a:lnTo>
                    <a:pt x="150" y="67"/>
                  </a:lnTo>
                  <a:lnTo>
                    <a:pt x="138" y="41"/>
                  </a:lnTo>
                  <a:lnTo>
                    <a:pt x="133" y="48"/>
                  </a:lnTo>
                  <a:lnTo>
                    <a:pt x="106" y="46"/>
                  </a:lnTo>
                  <a:lnTo>
                    <a:pt x="106" y="28"/>
                  </a:lnTo>
                  <a:lnTo>
                    <a:pt x="65" y="49"/>
                  </a:lnTo>
                  <a:lnTo>
                    <a:pt x="70" y="20"/>
                  </a:lnTo>
                  <a:lnTo>
                    <a:pt x="34" y="28"/>
                  </a:lnTo>
                  <a:lnTo>
                    <a:pt x="56" y="0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82040" y="4451040"/>
              <a:ext cx="220680" cy="155880"/>
            </a:xfrm>
            <a:custGeom>
              <a:avLst/>
              <a:gdLst/>
              <a:ahLst/>
              <a:rect l="l" t="t" r="r" b="b"/>
              <a:pathLst>
                <a:path w="139" h="98">
                  <a:moveTo>
                    <a:pt x="124" y="2"/>
                  </a:moveTo>
                  <a:lnTo>
                    <a:pt x="102" y="0"/>
                  </a:lnTo>
                  <a:lnTo>
                    <a:pt x="64" y="6"/>
                  </a:lnTo>
                  <a:lnTo>
                    <a:pt x="13" y="40"/>
                  </a:lnTo>
                  <a:lnTo>
                    <a:pt x="11" y="52"/>
                  </a:lnTo>
                  <a:lnTo>
                    <a:pt x="0" y="58"/>
                  </a:lnTo>
                  <a:lnTo>
                    <a:pt x="59" y="92"/>
                  </a:lnTo>
                  <a:lnTo>
                    <a:pt x="84" y="97"/>
                  </a:lnTo>
                  <a:lnTo>
                    <a:pt x="107" y="97"/>
                  </a:lnTo>
                  <a:lnTo>
                    <a:pt x="124" y="89"/>
                  </a:lnTo>
                  <a:lnTo>
                    <a:pt x="136" y="73"/>
                  </a:lnTo>
                  <a:lnTo>
                    <a:pt x="138" y="50"/>
                  </a:lnTo>
                  <a:lnTo>
                    <a:pt x="136" y="27"/>
                  </a:lnTo>
                  <a:lnTo>
                    <a:pt x="133" y="14"/>
                  </a:lnTo>
                  <a:lnTo>
                    <a:pt x="128" y="14"/>
                  </a:lnTo>
                  <a:lnTo>
                    <a:pt x="131" y="48"/>
                  </a:lnTo>
                  <a:lnTo>
                    <a:pt x="127" y="76"/>
                  </a:lnTo>
                  <a:lnTo>
                    <a:pt x="120" y="84"/>
                  </a:lnTo>
                  <a:lnTo>
                    <a:pt x="100" y="92"/>
                  </a:lnTo>
                  <a:lnTo>
                    <a:pt x="74" y="89"/>
                  </a:lnTo>
                  <a:lnTo>
                    <a:pt x="48" y="78"/>
                  </a:lnTo>
                  <a:lnTo>
                    <a:pt x="29" y="57"/>
                  </a:lnTo>
                  <a:lnTo>
                    <a:pt x="29" y="45"/>
                  </a:lnTo>
                  <a:lnTo>
                    <a:pt x="48" y="27"/>
                  </a:lnTo>
                  <a:lnTo>
                    <a:pt x="80" y="16"/>
                  </a:lnTo>
                  <a:lnTo>
                    <a:pt x="120" y="6"/>
                  </a:lnTo>
                  <a:lnTo>
                    <a:pt x="124" y="2"/>
                  </a:lnTo>
                  <a:lnTo>
                    <a:pt x="124" y="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5640" y="4502160"/>
              <a:ext cx="81000" cy="777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2" y="0"/>
                  </a:moveTo>
                  <a:lnTo>
                    <a:pt x="22" y="18"/>
                  </a:lnTo>
                  <a:lnTo>
                    <a:pt x="45" y="8"/>
                  </a:lnTo>
                  <a:lnTo>
                    <a:pt x="50" y="18"/>
                  </a:lnTo>
                  <a:lnTo>
                    <a:pt x="45" y="34"/>
                  </a:lnTo>
                  <a:lnTo>
                    <a:pt x="34" y="48"/>
                  </a:lnTo>
                  <a:lnTo>
                    <a:pt x="19" y="46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9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97840" y="448776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28" y="16"/>
                  </a:moveTo>
                  <a:lnTo>
                    <a:pt x="30" y="43"/>
                  </a:lnTo>
                  <a:lnTo>
                    <a:pt x="44" y="43"/>
                  </a:lnTo>
                  <a:lnTo>
                    <a:pt x="60" y="29"/>
                  </a:lnTo>
                  <a:lnTo>
                    <a:pt x="61" y="43"/>
                  </a:lnTo>
                  <a:lnTo>
                    <a:pt x="61" y="57"/>
                  </a:lnTo>
                  <a:lnTo>
                    <a:pt x="50" y="66"/>
                  </a:lnTo>
                  <a:lnTo>
                    <a:pt x="36" y="69"/>
                  </a:lnTo>
                  <a:lnTo>
                    <a:pt x="26" y="64"/>
                  </a:lnTo>
                  <a:lnTo>
                    <a:pt x="19" y="61"/>
                  </a:lnTo>
                  <a:lnTo>
                    <a:pt x="31" y="79"/>
                  </a:lnTo>
                  <a:lnTo>
                    <a:pt x="57" y="79"/>
                  </a:lnTo>
                  <a:lnTo>
                    <a:pt x="74" y="69"/>
                  </a:lnTo>
                  <a:lnTo>
                    <a:pt x="81" y="50"/>
                  </a:lnTo>
                  <a:lnTo>
                    <a:pt x="78" y="34"/>
                  </a:lnTo>
                  <a:lnTo>
                    <a:pt x="71" y="21"/>
                  </a:lnTo>
                  <a:lnTo>
                    <a:pt x="57" y="11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68" y="11"/>
                  </a:lnTo>
                  <a:lnTo>
                    <a:pt x="84" y="29"/>
                  </a:lnTo>
                  <a:lnTo>
                    <a:pt x="87" y="49"/>
                  </a:lnTo>
                  <a:lnTo>
                    <a:pt x="83" y="66"/>
                  </a:lnTo>
                  <a:lnTo>
                    <a:pt x="74" y="79"/>
                  </a:lnTo>
                  <a:lnTo>
                    <a:pt x="60" y="88"/>
                  </a:lnTo>
                  <a:lnTo>
                    <a:pt x="41" y="85"/>
                  </a:lnTo>
                  <a:lnTo>
                    <a:pt x="21" y="84"/>
                  </a:lnTo>
                  <a:lnTo>
                    <a:pt x="5" y="61"/>
                  </a:lnTo>
                  <a:lnTo>
                    <a:pt x="0" y="43"/>
                  </a:lnTo>
                  <a:lnTo>
                    <a:pt x="5" y="16"/>
                  </a:lnTo>
                  <a:lnTo>
                    <a:pt x="28" y="16"/>
                  </a:lnTo>
                  <a:lnTo>
                    <a:pt x="28" y="16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97840" y="4622760"/>
              <a:ext cx="250920" cy="152280"/>
            </a:xfrm>
            <a:custGeom>
              <a:avLst/>
              <a:gdLst/>
              <a:ahLst/>
              <a:rect l="l" t="t" r="r" b="b"/>
              <a:pathLst>
                <a:path w="158" h="96">
                  <a:moveTo>
                    <a:pt x="0" y="81"/>
                  </a:moveTo>
                  <a:lnTo>
                    <a:pt x="0" y="35"/>
                  </a:lnTo>
                  <a:lnTo>
                    <a:pt x="32" y="70"/>
                  </a:lnTo>
                  <a:lnTo>
                    <a:pt x="36" y="44"/>
                  </a:lnTo>
                  <a:lnTo>
                    <a:pt x="61" y="35"/>
                  </a:lnTo>
                  <a:lnTo>
                    <a:pt x="91" y="46"/>
                  </a:lnTo>
                  <a:lnTo>
                    <a:pt x="91" y="28"/>
                  </a:lnTo>
                  <a:lnTo>
                    <a:pt x="126" y="31"/>
                  </a:lnTo>
                  <a:lnTo>
                    <a:pt x="119" y="0"/>
                  </a:lnTo>
                  <a:lnTo>
                    <a:pt x="157" y="9"/>
                  </a:lnTo>
                  <a:lnTo>
                    <a:pt x="154" y="22"/>
                  </a:lnTo>
                  <a:lnTo>
                    <a:pt x="132" y="11"/>
                  </a:lnTo>
                  <a:lnTo>
                    <a:pt x="139" y="40"/>
                  </a:lnTo>
                  <a:lnTo>
                    <a:pt x="122" y="49"/>
                  </a:lnTo>
                  <a:lnTo>
                    <a:pt x="98" y="46"/>
                  </a:lnTo>
                  <a:lnTo>
                    <a:pt x="102" y="75"/>
                  </a:lnTo>
                  <a:lnTo>
                    <a:pt x="74" y="62"/>
                  </a:lnTo>
                  <a:lnTo>
                    <a:pt x="74" y="87"/>
                  </a:lnTo>
                  <a:lnTo>
                    <a:pt x="50" y="95"/>
                  </a:lnTo>
                  <a:lnTo>
                    <a:pt x="8" y="52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02480" y="4833720"/>
              <a:ext cx="268200" cy="177840"/>
            </a:xfrm>
            <a:custGeom>
              <a:avLst/>
              <a:gdLst/>
              <a:ahLst/>
              <a:rect l="l" t="t" r="r" b="b"/>
              <a:pathLst>
                <a:path w="169" h="112">
                  <a:moveTo>
                    <a:pt x="0" y="53"/>
                  </a:moveTo>
                  <a:lnTo>
                    <a:pt x="43" y="40"/>
                  </a:lnTo>
                  <a:lnTo>
                    <a:pt x="89" y="24"/>
                  </a:lnTo>
                  <a:lnTo>
                    <a:pt x="128" y="0"/>
                  </a:lnTo>
                  <a:lnTo>
                    <a:pt x="128" y="37"/>
                  </a:lnTo>
                  <a:lnTo>
                    <a:pt x="150" y="29"/>
                  </a:lnTo>
                  <a:lnTo>
                    <a:pt x="154" y="46"/>
                  </a:lnTo>
                  <a:lnTo>
                    <a:pt x="168" y="31"/>
                  </a:lnTo>
                  <a:lnTo>
                    <a:pt x="166" y="63"/>
                  </a:lnTo>
                  <a:lnTo>
                    <a:pt x="131" y="111"/>
                  </a:lnTo>
                  <a:lnTo>
                    <a:pt x="130" y="92"/>
                  </a:lnTo>
                  <a:lnTo>
                    <a:pt x="110" y="99"/>
                  </a:lnTo>
                  <a:lnTo>
                    <a:pt x="106" y="88"/>
                  </a:lnTo>
                  <a:lnTo>
                    <a:pt x="74" y="94"/>
                  </a:lnTo>
                  <a:lnTo>
                    <a:pt x="91" y="61"/>
                  </a:lnTo>
                  <a:lnTo>
                    <a:pt x="61" y="72"/>
                  </a:lnTo>
                  <a:lnTo>
                    <a:pt x="66" y="61"/>
                  </a:lnTo>
                  <a:lnTo>
                    <a:pt x="50" y="61"/>
                  </a:lnTo>
                  <a:lnTo>
                    <a:pt x="57" y="48"/>
                  </a:lnTo>
                  <a:lnTo>
                    <a:pt x="12" y="57"/>
                  </a:lnTo>
                  <a:lnTo>
                    <a:pt x="0" y="53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83640" y="4833720"/>
              <a:ext cx="333360" cy="181080"/>
            </a:xfrm>
            <a:custGeom>
              <a:avLst/>
              <a:gdLst/>
              <a:ahLst/>
              <a:rect l="l" t="t" r="r" b="b"/>
              <a:pathLst>
                <a:path w="210" h="114">
                  <a:moveTo>
                    <a:pt x="0" y="39"/>
                  </a:moveTo>
                  <a:lnTo>
                    <a:pt x="11" y="70"/>
                  </a:lnTo>
                  <a:lnTo>
                    <a:pt x="19" y="57"/>
                  </a:lnTo>
                  <a:lnTo>
                    <a:pt x="35" y="94"/>
                  </a:lnTo>
                  <a:lnTo>
                    <a:pt x="54" y="48"/>
                  </a:lnTo>
                  <a:lnTo>
                    <a:pt x="67" y="77"/>
                  </a:lnTo>
                  <a:lnTo>
                    <a:pt x="85" y="43"/>
                  </a:lnTo>
                  <a:lnTo>
                    <a:pt x="105" y="70"/>
                  </a:lnTo>
                  <a:lnTo>
                    <a:pt x="91" y="12"/>
                  </a:lnTo>
                  <a:lnTo>
                    <a:pt x="126" y="40"/>
                  </a:lnTo>
                  <a:lnTo>
                    <a:pt x="111" y="0"/>
                  </a:lnTo>
                  <a:lnTo>
                    <a:pt x="171" y="48"/>
                  </a:lnTo>
                  <a:lnTo>
                    <a:pt x="167" y="12"/>
                  </a:lnTo>
                  <a:lnTo>
                    <a:pt x="209" y="33"/>
                  </a:lnTo>
                  <a:lnTo>
                    <a:pt x="179" y="33"/>
                  </a:lnTo>
                  <a:lnTo>
                    <a:pt x="179" y="70"/>
                  </a:lnTo>
                  <a:lnTo>
                    <a:pt x="145" y="50"/>
                  </a:lnTo>
                  <a:lnTo>
                    <a:pt x="152" y="72"/>
                  </a:lnTo>
                  <a:lnTo>
                    <a:pt x="115" y="97"/>
                  </a:lnTo>
                  <a:lnTo>
                    <a:pt x="108" y="80"/>
                  </a:lnTo>
                  <a:lnTo>
                    <a:pt x="81" y="106"/>
                  </a:lnTo>
                  <a:lnTo>
                    <a:pt x="57" y="70"/>
                  </a:lnTo>
                  <a:lnTo>
                    <a:pt x="39" y="113"/>
                  </a:lnTo>
                  <a:lnTo>
                    <a:pt x="18" y="72"/>
                  </a:lnTo>
                  <a:lnTo>
                    <a:pt x="6" y="113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23240" y="4520880"/>
              <a:ext cx="47520" cy="90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14" y="0"/>
                  </a:moveTo>
                  <a:lnTo>
                    <a:pt x="15" y="22"/>
                  </a:lnTo>
                  <a:lnTo>
                    <a:pt x="10" y="38"/>
                  </a:lnTo>
                  <a:lnTo>
                    <a:pt x="0" y="56"/>
                  </a:lnTo>
                  <a:lnTo>
                    <a:pt x="20" y="38"/>
                  </a:lnTo>
                  <a:lnTo>
                    <a:pt x="26" y="29"/>
                  </a:lnTo>
                  <a:lnTo>
                    <a:pt x="29" y="13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3320" y="4713120"/>
              <a:ext cx="419040" cy="608040"/>
            </a:xfrm>
            <a:custGeom>
              <a:avLst/>
              <a:gdLst/>
              <a:ahLst/>
              <a:rect l="l" t="t" r="r" b="b"/>
              <a:pathLst>
                <a:path w="264" h="383">
                  <a:moveTo>
                    <a:pt x="249" y="11"/>
                  </a:moveTo>
                  <a:lnTo>
                    <a:pt x="229" y="31"/>
                  </a:lnTo>
                  <a:lnTo>
                    <a:pt x="206" y="43"/>
                  </a:lnTo>
                  <a:lnTo>
                    <a:pt x="217" y="60"/>
                  </a:lnTo>
                  <a:lnTo>
                    <a:pt x="185" y="60"/>
                  </a:lnTo>
                  <a:lnTo>
                    <a:pt x="215" y="89"/>
                  </a:lnTo>
                  <a:lnTo>
                    <a:pt x="254" y="107"/>
                  </a:lnTo>
                  <a:lnTo>
                    <a:pt x="239" y="144"/>
                  </a:lnTo>
                  <a:lnTo>
                    <a:pt x="193" y="167"/>
                  </a:lnTo>
                  <a:lnTo>
                    <a:pt x="225" y="173"/>
                  </a:lnTo>
                  <a:lnTo>
                    <a:pt x="211" y="195"/>
                  </a:lnTo>
                  <a:lnTo>
                    <a:pt x="183" y="194"/>
                  </a:lnTo>
                  <a:lnTo>
                    <a:pt x="197" y="211"/>
                  </a:lnTo>
                  <a:lnTo>
                    <a:pt x="173" y="216"/>
                  </a:lnTo>
                  <a:lnTo>
                    <a:pt x="194" y="231"/>
                  </a:lnTo>
                  <a:lnTo>
                    <a:pt x="193" y="237"/>
                  </a:lnTo>
                  <a:lnTo>
                    <a:pt x="167" y="237"/>
                  </a:lnTo>
                  <a:lnTo>
                    <a:pt x="229" y="271"/>
                  </a:lnTo>
                  <a:lnTo>
                    <a:pt x="193" y="266"/>
                  </a:lnTo>
                  <a:lnTo>
                    <a:pt x="154" y="253"/>
                  </a:lnTo>
                  <a:lnTo>
                    <a:pt x="159" y="269"/>
                  </a:lnTo>
                  <a:lnTo>
                    <a:pt x="135" y="280"/>
                  </a:lnTo>
                  <a:lnTo>
                    <a:pt x="138" y="314"/>
                  </a:lnTo>
                  <a:lnTo>
                    <a:pt x="104" y="254"/>
                  </a:lnTo>
                  <a:lnTo>
                    <a:pt x="104" y="285"/>
                  </a:lnTo>
                  <a:lnTo>
                    <a:pt x="38" y="285"/>
                  </a:lnTo>
                  <a:lnTo>
                    <a:pt x="36" y="322"/>
                  </a:lnTo>
                  <a:lnTo>
                    <a:pt x="17" y="284"/>
                  </a:lnTo>
                  <a:lnTo>
                    <a:pt x="0" y="291"/>
                  </a:lnTo>
                  <a:lnTo>
                    <a:pt x="19" y="382"/>
                  </a:lnTo>
                  <a:lnTo>
                    <a:pt x="11" y="302"/>
                  </a:lnTo>
                  <a:lnTo>
                    <a:pt x="41" y="346"/>
                  </a:lnTo>
                  <a:lnTo>
                    <a:pt x="46" y="317"/>
                  </a:lnTo>
                  <a:lnTo>
                    <a:pt x="115" y="322"/>
                  </a:lnTo>
                  <a:lnTo>
                    <a:pt x="111" y="284"/>
                  </a:lnTo>
                  <a:lnTo>
                    <a:pt x="145" y="339"/>
                  </a:lnTo>
                  <a:lnTo>
                    <a:pt x="149" y="314"/>
                  </a:lnTo>
                  <a:lnTo>
                    <a:pt x="197" y="309"/>
                  </a:lnTo>
                  <a:lnTo>
                    <a:pt x="173" y="271"/>
                  </a:lnTo>
                  <a:lnTo>
                    <a:pt x="261" y="281"/>
                  </a:lnTo>
                  <a:lnTo>
                    <a:pt x="224" y="254"/>
                  </a:lnTo>
                  <a:lnTo>
                    <a:pt x="243" y="251"/>
                  </a:lnTo>
                  <a:lnTo>
                    <a:pt x="215" y="233"/>
                  </a:lnTo>
                  <a:lnTo>
                    <a:pt x="246" y="211"/>
                  </a:lnTo>
                  <a:lnTo>
                    <a:pt x="212" y="211"/>
                  </a:lnTo>
                  <a:lnTo>
                    <a:pt x="261" y="143"/>
                  </a:lnTo>
                  <a:lnTo>
                    <a:pt x="246" y="143"/>
                  </a:lnTo>
                  <a:lnTo>
                    <a:pt x="263" y="105"/>
                  </a:lnTo>
                  <a:lnTo>
                    <a:pt x="238" y="88"/>
                  </a:lnTo>
                  <a:lnTo>
                    <a:pt x="251" y="38"/>
                  </a:lnTo>
                  <a:lnTo>
                    <a:pt x="247" y="0"/>
                  </a:lnTo>
                  <a:lnTo>
                    <a:pt x="249" y="11"/>
                  </a:lnTo>
                  <a:lnTo>
                    <a:pt x="249" y="1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5211720"/>
              <a:ext cx="649080" cy="182520"/>
            </a:xfrm>
            <a:custGeom>
              <a:avLst/>
              <a:gdLst/>
              <a:ahLst/>
              <a:rect l="l" t="t" r="r" b="b"/>
              <a:pathLst>
                <a:path w="409" h="115">
                  <a:moveTo>
                    <a:pt x="408" y="52"/>
                  </a:moveTo>
                  <a:lnTo>
                    <a:pt x="377" y="6"/>
                  </a:lnTo>
                  <a:lnTo>
                    <a:pt x="360" y="25"/>
                  </a:lnTo>
                  <a:lnTo>
                    <a:pt x="342" y="0"/>
                  </a:lnTo>
                  <a:lnTo>
                    <a:pt x="269" y="8"/>
                  </a:lnTo>
                  <a:lnTo>
                    <a:pt x="267" y="38"/>
                  </a:lnTo>
                  <a:lnTo>
                    <a:pt x="243" y="13"/>
                  </a:lnTo>
                  <a:lnTo>
                    <a:pt x="232" y="16"/>
                  </a:lnTo>
                  <a:lnTo>
                    <a:pt x="219" y="72"/>
                  </a:lnTo>
                  <a:lnTo>
                    <a:pt x="203" y="37"/>
                  </a:lnTo>
                  <a:lnTo>
                    <a:pt x="190" y="64"/>
                  </a:lnTo>
                  <a:lnTo>
                    <a:pt x="139" y="55"/>
                  </a:lnTo>
                  <a:lnTo>
                    <a:pt x="115" y="4"/>
                  </a:lnTo>
                  <a:lnTo>
                    <a:pt x="86" y="61"/>
                  </a:lnTo>
                  <a:lnTo>
                    <a:pt x="76" y="38"/>
                  </a:lnTo>
                  <a:lnTo>
                    <a:pt x="48" y="57"/>
                  </a:lnTo>
                  <a:lnTo>
                    <a:pt x="36" y="79"/>
                  </a:lnTo>
                  <a:lnTo>
                    <a:pt x="25" y="47"/>
                  </a:lnTo>
                  <a:lnTo>
                    <a:pt x="8" y="52"/>
                  </a:lnTo>
                  <a:lnTo>
                    <a:pt x="0" y="85"/>
                  </a:lnTo>
                  <a:lnTo>
                    <a:pt x="8" y="114"/>
                  </a:lnTo>
                  <a:lnTo>
                    <a:pt x="7" y="89"/>
                  </a:lnTo>
                  <a:lnTo>
                    <a:pt x="15" y="59"/>
                  </a:lnTo>
                  <a:lnTo>
                    <a:pt x="35" y="103"/>
                  </a:lnTo>
                  <a:lnTo>
                    <a:pt x="54" y="64"/>
                  </a:lnTo>
                  <a:lnTo>
                    <a:pt x="68" y="52"/>
                  </a:lnTo>
                  <a:lnTo>
                    <a:pt x="87" y="83"/>
                  </a:lnTo>
                  <a:lnTo>
                    <a:pt x="113" y="35"/>
                  </a:lnTo>
                  <a:lnTo>
                    <a:pt x="113" y="79"/>
                  </a:lnTo>
                  <a:lnTo>
                    <a:pt x="131" y="59"/>
                  </a:lnTo>
                  <a:lnTo>
                    <a:pt x="141" y="93"/>
                  </a:lnTo>
                  <a:lnTo>
                    <a:pt x="173" y="99"/>
                  </a:lnTo>
                  <a:lnTo>
                    <a:pt x="205" y="76"/>
                  </a:lnTo>
                  <a:lnTo>
                    <a:pt x="224" y="106"/>
                  </a:lnTo>
                  <a:lnTo>
                    <a:pt x="239" y="35"/>
                  </a:lnTo>
                  <a:lnTo>
                    <a:pt x="271" y="68"/>
                  </a:lnTo>
                  <a:lnTo>
                    <a:pt x="277" y="27"/>
                  </a:lnTo>
                  <a:lnTo>
                    <a:pt x="292" y="61"/>
                  </a:lnTo>
                  <a:lnTo>
                    <a:pt x="324" y="35"/>
                  </a:lnTo>
                  <a:lnTo>
                    <a:pt x="319" y="13"/>
                  </a:lnTo>
                  <a:lnTo>
                    <a:pt x="364" y="51"/>
                  </a:lnTo>
                  <a:lnTo>
                    <a:pt x="377" y="20"/>
                  </a:lnTo>
                  <a:lnTo>
                    <a:pt x="408" y="52"/>
                  </a:lnTo>
                  <a:lnTo>
                    <a:pt x="408" y="5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3760" y="5105160"/>
              <a:ext cx="75960" cy="204840"/>
            </a:xfrm>
            <a:custGeom>
              <a:avLst/>
              <a:gdLst/>
              <a:ahLst/>
              <a:rect l="l" t="t" r="r" b="b"/>
              <a:pathLst>
                <a:path w="48" h="129">
                  <a:moveTo>
                    <a:pt x="17" y="0"/>
                  </a:moveTo>
                  <a:lnTo>
                    <a:pt x="47" y="77"/>
                  </a:lnTo>
                  <a:lnTo>
                    <a:pt x="39" y="128"/>
                  </a:lnTo>
                  <a:lnTo>
                    <a:pt x="28" y="65"/>
                  </a:lnTo>
                  <a:lnTo>
                    <a:pt x="24" y="87"/>
                  </a:lnTo>
                  <a:lnTo>
                    <a:pt x="0" y="46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5375160"/>
              <a:ext cx="2693880" cy="2166840"/>
            </a:xfrm>
            <a:custGeom>
              <a:avLst/>
              <a:gdLst/>
              <a:ahLst/>
              <a:rect l="l" t="t" r="r" b="b"/>
              <a:pathLst>
                <a:path w="1697" h="1365">
                  <a:moveTo>
                    <a:pt x="475" y="0"/>
                  </a:moveTo>
                  <a:lnTo>
                    <a:pt x="455" y="102"/>
                  </a:lnTo>
                  <a:lnTo>
                    <a:pt x="446" y="215"/>
                  </a:lnTo>
                  <a:lnTo>
                    <a:pt x="455" y="316"/>
                  </a:lnTo>
                  <a:lnTo>
                    <a:pt x="465" y="376"/>
                  </a:lnTo>
                  <a:lnTo>
                    <a:pt x="484" y="283"/>
                  </a:lnTo>
                  <a:lnTo>
                    <a:pt x="499" y="218"/>
                  </a:lnTo>
                  <a:lnTo>
                    <a:pt x="518" y="346"/>
                  </a:lnTo>
                  <a:lnTo>
                    <a:pt x="577" y="532"/>
                  </a:lnTo>
                  <a:lnTo>
                    <a:pt x="675" y="713"/>
                  </a:lnTo>
                  <a:lnTo>
                    <a:pt x="670" y="640"/>
                  </a:lnTo>
                  <a:lnTo>
                    <a:pt x="734" y="791"/>
                  </a:lnTo>
                  <a:lnTo>
                    <a:pt x="826" y="895"/>
                  </a:lnTo>
                  <a:lnTo>
                    <a:pt x="835" y="856"/>
                  </a:lnTo>
                  <a:lnTo>
                    <a:pt x="909" y="954"/>
                  </a:lnTo>
                  <a:lnTo>
                    <a:pt x="925" y="875"/>
                  </a:lnTo>
                  <a:lnTo>
                    <a:pt x="1021" y="1012"/>
                  </a:lnTo>
                  <a:lnTo>
                    <a:pt x="1031" y="974"/>
                  </a:lnTo>
                  <a:lnTo>
                    <a:pt x="1134" y="1086"/>
                  </a:lnTo>
                  <a:lnTo>
                    <a:pt x="1345" y="1203"/>
                  </a:lnTo>
                  <a:lnTo>
                    <a:pt x="1353" y="1129"/>
                  </a:lnTo>
                  <a:lnTo>
                    <a:pt x="1359" y="1218"/>
                  </a:lnTo>
                  <a:lnTo>
                    <a:pt x="1300" y="1262"/>
                  </a:lnTo>
                  <a:lnTo>
                    <a:pt x="1397" y="1292"/>
                  </a:lnTo>
                  <a:lnTo>
                    <a:pt x="1530" y="1286"/>
                  </a:lnTo>
                  <a:lnTo>
                    <a:pt x="1515" y="1242"/>
                  </a:lnTo>
                  <a:lnTo>
                    <a:pt x="1520" y="1197"/>
                  </a:lnTo>
                  <a:lnTo>
                    <a:pt x="1543" y="1154"/>
                  </a:lnTo>
                  <a:lnTo>
                    <a:pt x="1535" y="1203"/>
                  </a:lnTo>
                  <a:lnTo>
                    <a:pt x="1543" y="1258"/>
                  </a:lnTo>
                  <a:lnTo>
                    <a:pt x="1612" y="1271"/>
                  </a:lnTo>
                  <a:lnTo>
                    <a:pt x="1696" y="1267"/>
                  </a:lnTo>
                  <a:lnTo>
                    <a:pt x="1657" y="1307"/>
                  </a:lnTo>
                  <a:lnTo>
                    <a:pt x="1593" y="1320"/>
                  </a:lnTo>
                  <a:lnTo>
                    <a:pt x="1622" y="1364"/>
                  </a:lnTo>
                  <a:lnTo>
                    <a:pt x="1505" y="1330"/>
                  </a:lnTo>
                  <a:lnTo>
                    <a:pt x="1374" y="1330"/>
                  </a:lnTo>
                  <a:lnTo>
                    <a:pt x="1295" y="1307"/>
                  </a:lnTo>
                  <a:lnTo>
                    <a:pt x="1182" y="1248"/>
                  </a:lnTo>
                  <a:lnTo>
                    <a:pt x="1090" y="1213"/>
                  </a:lnTo>
                  <a:lnTo>
                    <a:pt x="1081" y="1183"/>
                  </a:lnTo>
                  <a:lnTo>
                    <a:pt x="1056" y="1169"/>
                  </a:lnTo>
                  <a:lnTo>
                    <a:pt x="1021" y="1194"/>
                  </a:lnTo>
                  <a:lnTo>
                    <a:pt x="1012" y="1252"/>
                  </a:lnTo>
                  <a:lnTo>
                    <a:pt x="987" y="1292"/>
                  </a:lnTo>
                  <a:lnTo>
                    <a:pt x="987" y="1218"/>
                  </a:lnTo>
                  <a:lnTo>
                    <a:pt x="1008" y="1179"/>
                  </a:lnTo>
                  <a:lnTo>
                    <a:pt x="959" y="1179"/>
                  </a:lnTo>
                  <a:lnTo>
                    <a:pt x="938" y="1209"/>
                  </a:lnTo>
                  <a:lnTo>
                    <a:pt x="925" y="1179"/>
                  </a:lnTo>
                  <a:lnTo>
                    <a:pt x="899" y="1183"/>
                  </a:lnTo>
                  <a:lnTo>
                    <a:pt x="895" y="1252"/>
                  </a:lnTo>
                  <a:lnTo>
                    <a:pt x="930" y="1276"/>
                  </a:lnTo>
                  <a:lnTo>
                    <a:pt x="869" y="1258"/>
                  </a:lnTo>
                  <a:lnTo>
                    <a:pt x="869" y="1282"/>
                  </a:lnTo>
                  <a:lnTo>
                    <a:pt x="885" y="1320"/>
                  </a:lnTo>
                  <a:lnTo>
                    <a:pt x="841" y="1296"/>
                  </a:lnTo>
                  <a:lnTo>
                    <a:pt x="811" y="1316"/>
                  </a:lnTo>
                  <a:lnTo>
                    <a:pt x="729" y="1320"/>
                  </a:lnTo>
                  <a:lnTo>
                    <a:pt x="640" y="1286"/>
                  </a:lnTo>
                  <a:lnTo>
                    <a:pt x="689" y="1292"/>
                  </a:lnTo>
                  <a:lnTo>
                    <a:pt x="670" y="1228"/>
                  </a:lnTo>
                  <a:lnTo>
                    <a:pt x="734" y="1242"/>
                  </a:lnTo>
                  <a:lnTo>
                    <a:pt x="743" y="1190"/>
                  </a:lnTo>
                  <a:lnTo>
                    <a:pt x="753" y="1248"/>
                  </a:lnTo>
                  <a:lnTo>
                    <a:pt x="822" y="1252"/>
                  </a:lnTo>
                  <a:lnTo>
                    <a:pt x="822" y="1194"/>
                  </a:lnTo>
                  <a:lnTo>
                    <a:pt x="841" y="1242"/>
                  </a:lnTo>
                  <a:lnTo>
                    <a:pt x="881" y="1209"/>
                  </a:lnTo>
                  <a:lnTo>
                    <a:pt x="885" y="1140"/>
                  </a:lnTo>
                  <a:lnTo>
                    <a:pt x="866" y="1114"/>
                  </a:lnTo>
                  <a:lnTo>
                    <a:pt x="826" y="1140"/>
                  </a:lnTo>
                  <a:lnTo>
                    <a:pt x="791" y="1129"/>
                  </a:lnTo>
                  <a:lnTo>
                    <a:pt x="749" y="1163"/>
                  </a:lnTo>
                  <a:lnTo>
                    <a:pt x="743" y="1134"/>
                  </a:lnTo>
                  <a:lnTo>
                    <a:pt x="723" y="1134"/>
                  </a:lnTo>
                  <a:lnTo>
                    <a:pt x="679" y="1173"/>
                  </a:lnTo>
                  <a:lnTo>
                    <a:pt x="651" y="1213"/>
                  </a:lnTo>
                  <a:lnTo>
                    <a:pt x="597" y="1237"/>
                  </a:lnTo>
                  <a:lnTo>
                    <a:pt x="518" y="1248"/>
                  </a:lnTo>
                  <a:lnTo>
                    <a:pt x="631" y="1267"/>
                  </a:lnTo>
                  <a:lnTo>
                    <a:pt x="515" y="1282"/>
                  </a:lnTo>
                  <a:lnTo>
                    <a:pt x="381" y="1282"/>
                  </a:lnTo>
                  <a:lnTo>
                    <a:pt x="347" y="1252"/>
                  </a:lnTo>
                  <a:lnTo>
                    <a:pt x="289" y="1237"/>
                  </a:lnTo>
                  <a:lnTo>
                    <a:pt x="229" y="1271"/>
                  </a:lnTo>
                  <a:lnTo>
                    <a:pt x="147" y="1258"/>
                  </a:lnTo>
                  <a:lnTo>
                    <a:pt x="59" y="1213"/>
                  </a:lnTo>
                  <a:lnTo>
                    <a:pt x="10" y="1173"/>
                  </a:lnTo>
                  <a:lnTo>
                    <a:pt x="0" y="1060"/>
                  </a:lnTo>
                  <a:lnTo>
                    <a:pt x="122" y="1144"/>
                  </a:lnTo>
                  <a:lnTo>
                    <a:pt x="235" y="1183"/>
                  </a:lnTo>
                  <a:lnTo>
                    <a:pt x="308" y="1190"/>
                  </a:lnTo>
                  <a:lnTo>
                    <a:pt x="372" y="1228"/>
                  </a:lnTo>
                  <a:lnTo>
                    <a:pt x="420" y="1209"/>
                  </a:lnTo>
                  <a:lnTo>
                    <a:pt x="469" y="1213"/>
                  </a:lnTo>
                  <a:lnTo>
                    <a:pt x="469" y="1169"/>
                  </a:lnTo>
                  <a:lnTo>
                    <a:pt x="582" y="1144"/>
                  </a:lnTo>
                  <a:lnTo>
                    <a:pt x="518" y="1110"/>
                  </a:lnTo>
                  <a:lnTo>
                    <a:pt x="479" y="1076"/>
                  </a:lnTo>
                  <a:lnTo>
                    <a:pt x="479" y="1104"/>
                  </a:lnTo>
                  <a:lnTo>
                    <a:pt x="455" y="1080"/>
                  </a:lnTo>
                  <a:lnTo>
                    <a:pt x="488" y="1032"/>
                  </a:lnTo>
                  <a:lnTo>
                    <a:pt x="436" y="1037"/>
                  </a:lnTo>
                  <a:lnTo>
                    <a:pt x="406" y="934"/>
                  </a:lnTo>
                  <a:lnTo>
                    <a:pt x="377" y="728"/>
                  </a:lnTo>
                  <a:lnTo>
                    <a:pt x="415" y="929"/>
                  </a:lnTo>
                  <a:lnTo>
                    <a:pt x="469" y="993"/>
                  </a:lnTo>
                  <a:lnTo>
                    <a:pt x="469" y="884"/>
                  </a:lnTo>
                  <a:lnTo>
                    <a:pt x="528" y="944"/>
                  </a:lnTo>
                  <a:lnTo>
                    <a:pt x="518" y="884"/>
                  </a:lnTo>
                  <a:lnTo>
                    <a:pt x="572" y="948"/>
                  </a:lnTo>
                  <a:lnTo>
                    <a:pt x="523" y="801"/>
                  </a:lnTo>
                  <a:lnTo>
                    <a:pt x="488" y="602"/>
                  </a:lnTo>
                  <a:lnTo>
                    <a:pt x="567" y="777"/>
                  </a:lnTo>
                  <a:lnTo>
                    <a:pt x="709" y="924"/>
                  </a:lnTo>
                  <a:lnTo>
                    <a:pt x="593" y="700"/>
                  </a:lnTo>
                  <a:lnTo>
                    <a:pt x="503" y="411"/>
                  </a:lnTo>
                  <a:lnTo>
                    <a:pt x="469" y="463"/>
                  </a:lnTo>
                  <a:lnTo>
                    <a:pt x="436" y="381"/>
                  </a:lnTo>
                  <a:lnTo>
                    <a:pt x="420" y="254"/>
                  </a:lnTo>
                  <a:lnTo>
                    <a:pt x="430" y="136"/>
                  </a:lnTo>
                  <a:lnTo>
                    <a:pt x="450" y="48"/>
                  </a:lnTo>
                  <a:lnTo>
                    <a:pt x="475" y="0"/>
                  </a:lnTo>
                  <a:lnTo>
                    <a:pt x="47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2280" y="5155920"/>
              <a:ext cx="73080" cy="1274760"/>
            </a:xfrm>
            <a:custGeom>
              <a:avLst/>
              <a:gdLst/>
              <a:ahLst/>
              <a:rect l="l" t="t" r="r" b="b"/>
              <a:pathLst>
                <a:path w="46" h="803">
                  <a:moveTo>
                    <a:pt x="45" y="0"/>
                  </a:moveTo>
                  <a:lnTo>
                    <a:pt x="21" y="138"/>
                  </a:lnTo>
                  <a:lnTo>
                    <a:pt x="10" y="240"/>
                  </a:lnTo>
                  <a:lnTo>
                    <a:pt x="21" y="313"/>
                  </a:lnTo>
                  <a:lnTo>
                    <a:pt x="25" y="372"/>
                  </a:lnTo>
                  <a:lnTo>
                    <a:pt x="15" y="426"/>
                  </a:lnTo>
                  <a:lnTo>
                    <a:pt x="10" y="529"/>
                  </a:lnTo>
                  <a:lnTo>
                    <a:pt x="15" y="647"/>
                  </a:lnTo>
                  <a:lnTo>
                    <a:pt x="30" y="802"/>
                  </a:lnTo>
                  <a:lnTo>
                    <a:pt x="5" y="622"/>
                  </a:lnTo>
                  <a:lnTo>
                    <a:pt x="0" y="509"/>
                  </a:lnTo>
                  <a:lnTo>
                    <a:pt x="5" y="402"/>
                  </a:lnTo>
                  <a:lnTo>
                    <a:pt x="5" y="342"/>
                  </a:lnTo>
                  <a:lnTo>
                    <a:pt x="0" y="244"/>
                  </a:lnTo>
                  <a:lnTo>
                    <a:pt x="10" y="138"/>
                  </a:lnTo>
                  <a:lnTo>
                    <a:pt x="45" y="0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42120" y="4829040"/>
              <a:ext cx="730440" cy="2394000"/>
            </a:xfrm>
            <a:custGeom>
              <a:avLst/>
              <a:gdLst/>
              <a:ahLst/>
              <a:rect l="l" t="t" r="r" b="b"/>
              <a:pathLst>
                <a:path w="460" h="1508">
                  <a:moveTo>
                    <a:pt x="210" y="0"/>
                  </a:moveTo>
                  <a:lnTo>
                    <a:pt x="255" y="112"/>
                  </a:lnTo>
                  <a:lnTo>
                    <a:pt x="294" y="230"/>
                  </a:lnTo>
                  <a:lnTo>
                    <a:pt x="322" y="314"/>
                  </a:lnTo>
                  <a:lnTo>
                    <a:pt x="381" y="432"/>
                  </a:lnTo>
                  <a:lnTo>
                    <a:pt x="406" y="534"/>
                  </a:lnTo>
                  <a:lnTo>
                    <a:pt x="411" y="660"/>
                  </a:lnTo>
                  <a:lnTo>
                    <a:pt x="406" y="837"/>
                  </a:lnTo>
                  <a:lnTo>
                    <a:pt x="421" y="964"/>
                  </a:lnTo>
                  <a:lnTo>
                    <a:pt x="440" y="1092"/>
                  </a:lnTo>
                  <a:lnTo>
                    <a:pt x="435" y="1214"/>
                  </a:lnTo>
                  <a:lnTo>
                    <a:pt x="424" y="1321"/>
                  </a:lnTo>
                  <a:lnTo>
                    <a:pt x="424" y="1424"/>
                  </a:lnTo>
                  <a:lnTo>
                    <a:pt x="459" y="1507"/>
                  </a:lnTo>
                  <a:lnTo>
                    <a:pt x="372" y="1361"/>
                  </a:lnTo>
                  <a:lnTo>
                    <a:pt x="303" y="1048"/>
                  </a:lnTo>
                  <a:lnTo>
                    <a:pt x="210" y="857"/>
                  </a:lnTo>
                  <a:lnTo>
                    <a:pt x="167" y="857"/>
                  </a:lnTo>
                  <a:lnTo>
                    <a:pt x="150" y="764"/>
                  </a:lnTo>
                  <a:lnTo>
                    <a:pt x="98" y="788"/>
                  </a:lnTo>
                  <a:lnTo>
                    <a:pt x="44" y="798"/>
                  </a:lnTo>
                  <a:lnTo>
                    <a:pt x="103" y="755"/>
                  </a:lnTo>
                  <a:lnTo>
                    <a:pt x="112" y="730"/>
                  </a:lnTo>
                  <a:lnTo>
                    <a:pt x="68" y="735"/>
                  </a:lnTo>
                  <a:lnTo>
                    <a:pt x="59" y="710"/>
                  </a:lnTo>
                  <a:lnTo>
                    <a:pt x="10" y="725"/>
                  </a:lnTo>
                  <a:lnTo>
                    <a:pt x="44" y="652"/>
                  </a:lnTo>
                  <a:lnTo>
                    <a:pt x="55" y="592"/>
                  </a:lnTo>
                  <a:lnTo>
                    <a:pt x="15" y="627"/>
                  </a:lnTo>
                  <a:lnTo>
                    <a:pt x="0" y="592"/>
                  </a:lnTo>
                  <a:lnTo>
                    <a:pt x="24" y="539"/>
                  </a:lnTo>
                  <a:lnTo>
                    <a:pt x="49" y="426"/>
                  </a:lnTo>
                  <a:lnTo>
                    <a:pt x="63" y="372"/>
                  </a:lnTo>
                  <a:lnTo>
                    <a:pt x="84" y="352"/>
                  </a:lnTo>
                  <a:lnTo>
                    <a:pt x="118" y="327"/>
                  </a:lnTo>
                  <a:lnTo>
                    <a:pt x="146" y="333"/>
                  </a:lnTo>
                  <a:lnTo>
                    <a:pt x="118" y="344"/>
                  </a:lnTo>
                  <a:lnTo>
                    <a:pt x="84" y="367"/>
                  </a:lnTo>
                  <a:lnTo>
                    <a:pt x="63" y="435"/>
                  </a:lnTo>
                  <a:lnTo>
                    <a:pt x="63" y="529"/>
                  </a:lnTo>
                  <a:lnTo>
                    <a:pt x="78" y="592"/>
                  </a:lnTo>
                  <a:lnTo>
                    <a:pt x="118" y="656"/>
                  </a:lnTo>
                  <a:lnTo>
                    <a:pt x="142" y="686"/>
                  </a:lnTo>
                  <a:lnTo>
                    <a:pt x="137" y="542"/>
                  </a:lnTo>
                  <a:lnTo>
                    <a:pt x="170" y="690"/>
                  </a:lnTo>
                  <a:lnTo>
                    <a:pt x="210" y="807"/>
                  </a:lnTo>
                  <a:lnTo>
                    <a:pt x="255" y="901"/>
                  </a:lnTo>
                  <a:lnTo>
                    <a:pt x="322" y="998"/>
                  </a:lnTo>
                  <a:lnTo>
                    <a:pt x="366" y="1092"/>
                  </a:lnTo>
                  <a:lnTo>
                    <a:pt x="381" y="1155"/>
                  </a:lnTo>
                  <a:lnTo>
                    <a:pt x="392" y="1223"/>
                  </a:lnTo>
                  <a:lnTo>
                    <a:pt x="406" y="1102"/>
                  </a:lnTo>
                  <a:lnTo>
                    <a:pt x="392" y="998"/>
                  </a:lnTo>
                  <a:lnTo>
                    <a:pt x="381" y="872"/>
                  </a:lnTo>
                  <a:lnTo>
                    <a:pt x="381" y="710"/>
                  </a:lnTo>
                  <a:lnTo>
                    <a:pt x="381" y="587"/>
                  </a:lnTo>
                  <a:lnTo>
                    <a:pt x="366" y="470"/>
                  </a:lnTo>
                  <a:lnTo>
                    <a:pt x="342" y="388"/>
                  </a:lnTo>
                  <a:lnTo>
                    <a:pt x="308" y="318"/>
                  </a:lnTo>
                  <a:lnTo>
                    <a:pt x="255" y="158"/>
                  </a:lnTo>
                  <a:lnTo>
                    <a:pt x="225" y="70"/>
                  </a:lnTo>
                  <a:lnTo>
                    <a:pt x="210" y="0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6080" y="5521320"/>
              <a:ext cx="245880" cy="271440"/>
            </a:xfrm>
            <a:custGeom>
              <a:avLst/>
              <a:gdLst/>
              <a:ahLst/>
              <a:rect l="l" t="t" r="r" b="b"/>
              <a:pathLst>
                <a:path w="155" h="171">
                  <a:moveTo>
                    <a:pt x="154" y="30"/>
                  </a:moveTo>
                  <a:lnTo>
                    <a:pt x="143" y="7"/>
                  </a:lnTo>
                  <a:lnTo>
                    <a:pt x="123" y="2"/>
                  </a:lnTo>
                  <a:lnTo>
                    <a:pt x="119" y="14"/>
                  </a:lnTo>
                  <a:lnTo>
                    <a:pt x="100" y="0"/>
                  </a:lnTo>
                  <a:lnTo>
                    <a:pt x="100" y="19"/>
                  </a:lnTo>
                  <a:lnTo>
                    <a:pt x="83" y="14"/>
                  </a:lnTo>
                  <a:lnTo>
                    <a:pt x="62" y="30"/>
                  </a:lnTo>
                  <a:lnTo>
                    <a:pt x="76" y="62"/>
                  </a:lnTo>
                  <a:lnTo>
                    <a:pt x="55" y="50"/>
                  </a:lnTo>
                  <a:lnTo>
                    <a:pt x="45" y="60"/>
                  </a:lnTo>
                  <a:lnTo>
                    <a:pt x="49" y="75"/>
                  </a:lnTo>
                  <a:lnTo>
                    <a:pt x="37" y="67"/>
                  </a:lnTo>
                  <a:lnTo>
                    <a:pt x="25" y="80"/>
                  </a:lnTo>
                  <a:lnTo>
                    <a:pt x="27" y="92"/>
                  </a:lnTo>
                  <a:lnTo>
                    <a:pt x="17" y="83"/>
                  </a:lnTo>
                  <a:lnTo>
                    <a:pt x="0" y="93"/>
                  </a:lnTo>
                  <a:lnTo>
                    <a:pt x="13" y="126"/>
                  </a:lnTo>
                  <a:lnTo>
                    <a:pt x="15" y="170"/>
                  </a:lnTo>
                  <a:lnTo>
                    <a:pt x="19" y="125"/>
                  </a:lnTo>
                  <a:lnTo>
                    <a:pt x="32" y="134"/>
                  </a:lnTo>
                  <a:lnTo>
                    <a:pt x="46" y="126"/>
                  </a:lnTo>
                  <a:lnTo>
                    <a:pt x="39" y="98"/>
                  </a:lnTo>
                  <a:lnTo>
                    <a:pt x="55" y="108"/>
                  </a:lnTo>
                  <a:lnTo>
                    <a:pt x="39" y="83"/>
                  </a:lnTo>
                  <a:lnTo>
                    <a:pt x="63" y="99"/>
                  </a:lnTo>
                  <a:lnTo>
                    <a:pt x="53" y="72"/>
                  </a:lnTo>
                  <a:lnTo>
                    <a:pt x="79" y="78"/>
                  </a:lnTo>
                  <a:lnTo>
                    <a:pt x="90" y="67"/>
                  </a:lnTo>
                  <a:lnTo>
                    <a:pt x="79" y="36"/>
                  </a:lnTo>
                  <a:lnTo>
                    <a:pt x="101" y="48"/>
                  </a:lnTo>
                  <a:lnTo>
                    <a:pt x="97" y="27"/>
                  </a:lnTo>
                  <a:lnTo>
                    <a:pt x="115" y="36"/>
                  </a:lnTo>
                  <a:lnTo>
                    <a:pt x="114" y="19"/>
                  </a:lnTo>
                  <a:lnTo>
                    <a:pt x="129" y="34"/>
                  </a:lnTo>
                  <a:lnTo>
                    <a:pt x="131" y="21"/>
                  </a:lnTo>
                  <a:lnTo>
                    <a:pt x="154" y="30"/>
                  </a:lnTo>
                  <a:lnTo>
                    <a:pt x="154" y="3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6960" y="5645160"/>
              <a:ext cx="268200" cy="220680"/>
            </a:xfrm>
            <a:custGeom>
              <a:avLst/>
              <a:gdLst/>
              <a:ahLst/>
              <a:rect l="l" t="t" r="r" b="b"/>
              <a:pathLst>
                <a:path w="169" h="139">
                  <a:moveTo>
                    <a:pt x="168" y="84"/>
                  </a:moveTo>
                  <a:lnTo>
                    <a:pt x="163" y="56"/>
                  </a:lnTo>
                  <a:lnTo>
                    <a:pt x="146" y="22"/>
                  </a:lnTo>
                  <a:lnTo>
                    <a:pt x="132" y="26"/>
                  </a:lnTo>
                  <a:lnTo>
                    <a:pt x="138" y="102"/>
                  </a:lnTo>
                  <a:lnTo>
                    <a:pt x="124" y="70"/>
                  </a:lnTo>
                  <a:lnTo>
                    <a:pt x="118" y="32"/>
                  </a:lnTo>
                  <a:lnTo>
                    <a:pt x="110" y="45"/>
                  </a:lnTo>
                  <a:lnTo>
                    <a:pt x="100" y="32"/>
                  </a:lnTo>
                  <a:lnTo>
                    <a:pt x="89" y="100"/>
                  </a:lnTo>
                  <a:lnTo>
                    <a:pt x="80" y="26"/>
                  </a:lnTo>
                  <a:lnTo>
                    <a:pt x="66" y="77"/>
                  </a:lnTo>
                  <a:lnTo>
                    <a:pt x="64" y="20"/>
                  </a:lnTo>
                  <a:lnTo>
                    <a:pt x="38" y="74"/>
                  </a:lnTo>
                  <a:lnTo>
                    <a:pt x="52" y="4"/>
                  </a:lnTo>
                  <a:lnTo>
                    <a:pt x="37" y="0"/>
                  </a:lnTo>
                  <a:lnTo>
                    <a:pt x="20" y="37"/>
                  </a:lnTo>
                  <a:lnTo>
                    <a:pt x="25" y="7"/>
                  </a:lnTo>
                  <a:lnTo>
                    <a:pt x="0" y="39"/>
                  </a:lnTo>
                  <a:lnTo>
                    <a:pt x="19" y="23"/>
                  </a:lnTo>
                  <a:lnTo>
                    <a:pt x="18" y="56"/>
                  </a:lnTo>
                  <a:lnTo>
                    <a:pt x="43" y="11"/>
                  </a:lnTo>
                  <a:lnTo>
                    <a:pt x="34" y="95"/>
                  </a:lnTo>
                  <a:lnTo>
                    <a:pt x="58" y="48"/>
                  </a:lnTo>
                  <a:lnTo>
                    <a:pt x="64" y="101"/>
                  </a:lnTo>
                  <a:lnTo>
                    <a:pt x="79" y="57"/>
                  </a:lnTo>
                  <a:lnTo>
                    <a:pt x="87" y="110"/>
                  </a:lnTo>
                  <a:lnTo>
                    <a:pt x="105" y="67"/>
                  </a:lnTo>
                  <a:lnTo>
                    <a:pt x="120" y="138"/>
                  </a:lnTo>
                  <a:lnTo>
                    <a:pt x="114" y="47"/>
                  </a:lnTo>
                  <a:lnTo>
                    <a:pt x="124" y="82"/>
                  </a:lnTo>
                  <a:lnTo>
                    <a:pt x="138" y="108"/>
                  </a:lnTo>
                  <a:lnTo>
                    <a:pt x="147" y="92"/>
                  </a:lnTo>
                  <a:lnTo>
                    <a:pt x="143" y="34"/>
                  </a:lnTo>
                  <a:lnTo>
                    <a:pt x="168" y="84"/>
                  </a:lnTo>
                  <a:lnTo>
                    <a:pt x="168" y="84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50320" y="5775120"/>
              <a:ext cx="109440" cy="1144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52" y="2"/>
                  </a:moveTo>
                  <a:lnTo>
                    <a:pt x="44" y="9"/>
                  </a:lnTo>
                  <a:lnTo>
                    <a:pt x="38" y="0"/>
                  </a:lnTo>
                  <a:lnTo>
                    <a:pt x="35" y="39"/>
                  </a:lnTo>
                  <a:lnTo>
                    <a:pt x="16" y="16"/>
                  </a:lnTo>
                  <a:lnTo>
                    <a:pt x="12" y="54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6" y="61"/>
                  </a:lnTo>
                  <a:lnTo>
                    <a:pt x="14" y="67"/>
                  </a:lnTo>
                  <a:lnTo>
                    <a:pt x="25" y="43"/>
                  </a:lnTo>
                  <a:lnTo>
                    <a:pt x="42" y="49"/>
                  </a:lnTo>
                  <a:lnTo>
                    <a:pt x="68" y="35"/>
                  </a:lnTo>
                  <a:lnTo>
                    <a:pt x="52" y="2"/>
                  </a:lnTo>
                  <a:lnTo>
                    <a:pt x="52" y="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018280" y="5844960"/>
              <a:ext cx="1296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993080" y="5860800"/>
              <a:ext cx="648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86880" y="7019640"/>
              <a:ext cx="357120" cy="223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0" y="90"/>
                  </a:moveTo>
                  <a:lnTo>
                    <a:pt x="32" y="113"/>
                  </a:lnTo>
                  <a:lnTo>
                    <a:pt x="48" y="124"/>
                  </a:lnTo>
                  <a:lnTo>
                    <a:pt x="71" y="126"/>
                  </a:lnTo>
                  <a:lnTo>
                    <a:pt x="87" y="113"/>
                  </a:lnTo>
                  <a:lnTo>
                    <a:pt x="97" y="93"/>
                  </a:lnTo>
                  <a:lnTo>
                    <a:pt x="92" y="70"/>
                  </a:lnTo>
                  <a:lnTo>
                    <a:pt x="87" y="42"/>
                  </a:lnTo>
                  <a:lnTo>
                    <a:pt x="92" y="0"/>
                  </a:lnTo>
                  <a:lnTo>
                    <a:pt x="92" y="12"/>
                  </a:lnTo>
                  <a:lnTo>
                    <a:pt x="112" y="39"/>
                  </a:lnTo>
                  <a:lnTo>
                    <a:pt x="149" y="51"/>
                  </a:lnTo>
                  <a:lnTo>
                    <a:pt x="184" y="49"/>
                  </a:lnTo>
                  <a:lnTo>
                    <a:pt x="221" y="24"/>
                  </a:lnTo>
                  <a:lnTo>
                    <a:pt x="224" y="22"/>
                  </a:lnTo>
                  <a:lnTo>
                    <a:pt x="188" y="100"/>
                  </a:lnTo>
                  <a:lnTo>
                    <a:pt x="178" y="1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43720" y="7394400"/>
              <a:ext cx="652680" cy="573120"/>
            </a:xfrm>
            <a:custGeom>
              <a:avLst/>
              <a:gdLst/>
              <a:ahLst/>
              <a:rect l="l" t="t" r="r" b="b"/>
              <a:pathLst>
                <a:path w="411" h="361">
                  <a:moveTo>
                    <a:pt x="130" y="10"/>
                  </a:moveTo>
                  <a:lnTo>
                    <a:pt x="140" y="36"/>
                  </a:lnTo>
                  <a:lnTo>
                    <a:pt x="132" y="62"/>
                  </a:lnTo>
                  <a:lnTo>
                    <a:pt x="121" y="76"/>
                  </a:lnTo>
                  <a:lnTo>
                    <a:pt x="97" y="73"/>
                  </a:lnTo>
                  <a:lnTo>
                    <a:pt x="74" y="73"/>
                  </a:lnTo>
                  <a:lnTo>
                    <a:pt x="80" y="82"/>
                  </a:lnTo>
                  <a:lnTo>
                    <a:pt x="58" y="99"/>
                  </a:lnTo>
                  <a:lnTo>
                    <a:pt x="15" y="96"/>
                  </a:lnTo>
                  <a:lnTo>
                    <a:pt x="0" y="96"/>
                  </a:lnTo>
                  <a:lnTo>
                    <a:pt x="32" y="119"/>
                  </a:lnTo>
                  <a:lnTo>
                    <a:pt x="84" y="146"/>
                  </a:lnTo>
                  <a:lnTo>
                    <a:pt x="122" y="151"/>
                  </a:lnTo>
                  <a:lnTo>
                    <a:pt x="110" y="180"/>
                  </a:lnTo>
                  <a:lnTo>
                    <a:pt x="93" y="268"/>
                  </a:lnTo>
                  <a:lnTo>
                    <a:pt x="122" y="216"/>
                  </a:lnTo>
                  <a:lnTo>
                    <a:pt x="166" y="207"/>
                  </a:lnTo>
                  <a:lnTo>
                    <a:pt x="185" y="226"/>
                  </a:lnTo>
                  <a:lnTo>
                    <a:pt x="208" y="258"/>
                  </a:lnTo>
                  <a:lnTo>
                    <a:pt x="214" y="308"/>
                  </a:lnTo>
                  <a:lnTo>
                    <a:pt x="214" y="310"/>
                  </a:lnTo>
                  <a:lnTo>
                    <a:pt x="210" y="360"/>
                  </a:lnTo>
                  <a:lnTo>
                    <a:pt x="228" y="298"/>
                  </a:lnTo>
                  <a:lnTo>
                    <a:pt x="257" y="275"/>
                  </a:lnTo>
                  <a:lnTo>
                    <a:pt x="296" y="262"/>
                  </a:lnTo>
                  <a:lnTo>
                    <a:pt x="337" y="265"/>
                  </a:lnTo>
                  <a:lnTo>
                    <a:pt x="356" y="278"/>
                  </a:lnTo>
                  <a:lnTo>
                    <a:pt x="347" y="226"/>
                  </a:lnTo>
                  <a:lnTo>
                    <a:pt x="361" y="178"/>
                  </a:lnTo>
                  <a:lnTo>
                    <a:pt x="380" y="171"/>
                  </a:lnTo>
                  <a:lnTo>
                    <a:pt x="410" y="160"/>
                  </a:lnTo>
                  <a:lnTo>
                    <a:pt x="354" y="147"/>
                  </a:lnTo>
                  <a:lnTo>
                    <a:pt x="325" y="126"/>
                  </a:lnTo>
                  <a:lnTo>
                    <a:pt x="347" y="109"/>
                  </a:lnTo>
                  <a:lnTo>
                    <a:pt x="368" y="78"/>
                  </a:lnTo>
                  <a:lnTo>
                    <a:pt x="368" y="44"/>
                  </a:lnTo>
                  <a:lnTo>
                    <a:pt x="34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69400" y="7308720"/>
              <a:ext cx="379080" cy="358920"/>
            </a:xfrm>
            <a:custGeom>
              <a:avLst/>
              <a:gdLst/>
              <a:ahLst/>
              <a:rect l="l" t="t" r="r" b="b"/>
              <a:pathLst>
                <a:path w="239" h="226">
                  <a:moveTo>
                    <a:pt x="0" y="205"/>
                  </a:moveTo>
                  <a:lnTo>
                    <a:pt x="23" y="188"/>
                  </a:lnTo>
                  <a:lnTo>
                    <a:pt x="58" y="182"/>
                  </a:lnTo>
                  <a:lnTo>
                    <a:pt x="119" y="182"/>
                  </a:lnTo>
                  <a:lnTo>
                    <a:pt x="156" y="195"/>
                  </a:lnTo>
                  <a:lnTo>
                    <a:pt x="181" y="225"/>
                  </a:lnTo>
                  <a:lnTo>
                    <a:pt x="171" y="182"/>
                  </a:lnTo>
                  <a:lnTo>
                    <a:pt x="181" y="156"/>
                  </a:lnTo>
                  <a:lnTo>
                    <a:pt x="206" y="139"/>
                  </a:lnTo>
                  <a:lnTo>
                    <a:pt x="238" y="142"/>
                  </a:lnTo>
                  <a:lnTo>
                    <a:pt x="216" y="116"/>
                  </a:lnTo>
                  <a:lnTo>
                    <a:pt x="214" y="88"/>
                  </a:lnTo>
                  <a:lnTo>
                    <a:pt x="224" y="64"/>
                  </a:lnTo>
                  <a:lnTo>
                    <a:pt x="178" y="64"/>
                  </a:lnTo>
                  <a:lnTo>
                    <a:pt x="149" y="49"/>
                  </a:lnTo>
                  <a:lnTo>
                    <a:pt x="138" y="13"/>
                  </a:lnTo>
                  <a:lnTo>
                    <a:pt x="1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23080" y="7386480"/>
              <a:ext cx="469800" cy="352440"/>
            </a:xfrm>
            <a:custGeom>
              <a:avLst/>
              <a:gdLst/>
              <a:ahLst/>
              <a:rect l="l" t="t" r="r" b="b"/>
              <a:pathLst>
                <a:path w="296" h="222">
                  <a:moveTo>
                    <a:pt x="105" y="0"/>
                  </a:moveTo>
                  <a:lnTo>
                    <a:pt x="81" y="45"/>
                  </a:lnTo>
                  <a:lnTo>
                    <a:pt x="62" y="93"/>
                  </a:lnTo>
                  <a:lnTo>
                    <a:pt x="30" y="137"/>
                  </a:lnTo>
                  <a:lnTo>
                    <a:pt x="0" y="156"/>
                  </a:lnTo>
                  <a:lnTo>
                    <a:pt x="62" y="133"/>
                  </a:lnTo>
                  <a:lnTo>
                    <a:pt x="102" y="133"/>
                  </a:lnTo>
                  <a:lnTo>
                    <a:pt x="131" y="151"/>
                  </a:lnTo>
                  <a:lnTo>
                    <a:pt x="143" y="191"/>
                  </a:lnTo>
                  <a:lnTo>
                    <a:pt x="143" y="221"/>
                  </a:lnTo>
                  <a:lnTo>
                    <a:pt x="163" y="185"/>
                  </a:lnTo>
                  <a:lnTo>
                    <a:pt x="190" y="172"/>
                  </a:lnTo>
                  <a:lnTo>
                    <a:pt x="209" y="176"/>
                  </a:lnTo>
                  <a:lnTo>
                    <a:pt x="238" y="202"/>
                  </a:lnTo>
                  <a:lnTo>
                    <a:pt x="250" y="215"/>
                  </a:lnTo>
                  <a:lnTo>
                    <a:pt x="247" y="168"/>
                  </a:lnTo>
                  <a:lnTo>
                    <a:pt x="263" y="127"/>
                  </a:lnTo>
                  <a:lnTo>
                    <a:pt x="289" y="114"/>
                  </a:lnTo>
                  <a:lnTo>
                    <a:pt x="295" y="104"/>
                  </a:lnTo>
                  <a:lnTo>
                    <a:pt x="269" y="93"/>
                  </a:lnTo>
                  <a:lnTo>
                    <a:pt x="244" y="71"/>
                  </a:lnTo>
                  <a:lnTo>
                    <a:pt x="241" y="52"/>
                  </a:lnTo>
                  <a:lnTo>
                    <a:pt x="247" y="35"/>
                  </a:lnTo>
                  <a:lnTo>
                    <a:pt x="255" y="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7440" y="6930720"/>
              <a:ext cx="357120" cy="35748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18" y="224"/>
                  </a:moveTo>
                  <a:lnTo>
                    <a:pt x="99" y="186"/>
                  </a:lnTo>
                  <a:lnTo>
                    <a:pt x="68" y="163"/>
                  </a:lnTo>
                  <a:lnTo>
                    <a:pt x="26" y="137"/>
                  </a:lnTo>
                  <a:lnTo>
                    <a:pt x="0" y="133"/>
                  </a:lnTo>
                  <a:lnTo>
                    <a:pt x="42" y="120"/>
                  </a:lnTo>
                  <a:lnTo>
                    <a:pt x="59" y="91"/>
                  </a:lnTo>
                  <a:lnTo>
                    <a:pt x="68" y="65"/>
                  </a:lnTo>
                  <a:lnTo>
                    <a:pt x="59" y="35"/>
                  </a:lnTo>
                  <a:lnTo>
                    <a:pt x="36" y="0"/>
                  </a:lnTo>
                  <a:lnTo>
                    <a:pt x="91" y="27"/>
                  </a:lnTo>
                  <a:lnTo>
                    <a:pt x="120" y="56"/>
                  </a:lnTo>
                  <a:lnTo>
                    <a:pt x="147" y="78"/>
                  </a:lnTo>
                  <a:lnTo>
                    <a:pt x="182" y="87"/>
                  </a:lnTo>
                  <a:lnTo>
                    <a:pt x="204" y="78"/>
                  </a:lnTo>
                  <a:lnTo>
                    <a:pt x="224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29600" y="7086600"/>
              <a:ext cx="42840" cy="156960"/>
            </a:xfrm>
            <a:custGeom>
              <a:avLst/>
              <a:gdLst/>
              <a:ahLst/>
              <a:rect l="l" t="t" r="r" b="b"/>
              <a:pathLst>
                <a:path w="27" h="99">
                  <a:moveTo>
                    <a:pt x="12" y="0"/>
                  </a:moveTo>
                  <a:lnTo>
                    <a:pt x="0" y="32"/>
                  </a:lnTo>
                  <a:lnTo>
                    <a:pt x="26" y="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32880" y="4286160"/>
              <a:ext cx="7272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11" y="2"/>
                  </a:moveTo>
                  <a:lnTo>
                    <a:pt x="0" y="8"/>
                  </a:lnTo>
                  <a:lnTo>
                    <a:pt x="0" y="18"/>
                  </a:lnTo>
                  <a:lnTo>
                    <a:pt x="12" y="14"/>
                  </a:lnTo>
                  <a:lnTo>
                    <a:pt x="25" y="49"/>
                  </a:lnTo>
                  <a:lnTo>
                    <a:pt x="45" y="15"/>
                  </a:lnTo>
                  <a:lnTo>
                    <a:pt x="33" y="22"/>
                  </a:lnTo>
                  <a:lnTo>
                    <a:pt x="35" y="10"/>
                  </a:lnTo>
                  <a:lnTo>
                    <a:pt x="27" y="20"/>
                  </a:lnTo>
                  <a:lnTo>
                    <a:pt x="26" y="8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894080" y="4314600"/>
              <a:ext cx="2412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927920" y="4314600"/>
              <a:ext cx="1584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967520" y="4316400"/>
              <a:ext cx="50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4240" y="4314600"/>
              <a:ext cx="468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28000" y="4329000"/>
              <a:ext cx="223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58240" y="4327560"/>
              <a:ext cx="219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86680" y="4314600"/>
              <a:ext cx="1908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5120" y="4290840"/>
              <a:ext cx="111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295280" y="2490840"/>
            <a:ext cx="6575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Intente ver de nuevo el capitulo 2 de la empresa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643120"/>
            <a:ext cx="6575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...busque los puntos de compar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2459160"/>
            <a:ext cx="2133720" cy="119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459160"/>
            <a:ext cx="203544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120" y="4089240"/>
            <a:ext cx="218736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927520" y="5315040"/>
            <a:ext cx="4539960" cy="552240"/>
            <a:chOff x="2927520" y="5315040"/>
            <a:chExt cx="4539960" cy="552240"/>
          </a:xfrm>
        </p:grpSpPr>
        <p:sp>
          <p:nvSpPr>
            <p:cNvPr id="192" name=""/>
            <p:cNvSpPr/>
            <p:nvPr/>
          </p:nvSpPr>
          <p:spPr>
            <a:xfrm>
              <a:off x="407844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275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958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660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2752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844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588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200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zación y estática comparativ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4444920"/>
            <a:ext cx="2411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512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ecciones de la empre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739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cuación de Slutsk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ecciones de la empre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mal y D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586728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cuación de Slutsk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410080"/>
            <a:ext cx="248580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El óptimo del consumid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nsumidor intenta maximizar la utilidad.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01520" y="4050360"/>
            <a:ext cx="3127320" cy="2350080"/>
            <a:chOff x="1901520" y="4050360"/>
            <a:chExt cx="3127320" cy="2350080"/>
          </a:xfrm>
        </p:grpSpPr>
        <p:sp>
          <p:nvSpPr>
            <p:cNvPr id="222" name=""/>
            <p:cNvSpPr/>
            <p:nvPr/>
          </p:nvSpPr>
          <p:spPr>
            <a:xfrm>
              <a:off x="2665080" y="4993560"/>
              <a:ext cx="2363760" cy="1406880"/>
            </a:xfrm>
            <a:custGeom>
              <a:avLst/>
              <a:gdLst/>
              <a:ahLst/>
              <a:rect l="l" t="t" r="r" b="b"/>
              <a:pathLst>
                <a:path w="1372" h="709">
                  <a:moveTo>
                    <a:pt x="0" y="552"/>
                  </a:moveTo>
                  <a:lnTo>
                    <a:pt x="806" y="91"/>
                  </a:lnTo>
                  <a:lnTo>
                    <a:pt x="699" y="0"/>
                  </a:lnTo>
                  <a:lnTo>
                    <a:pt x="1345" y="47"/>
                  </a:lnTo>
                  <a:lnTo>
                    <a:pt x="1371" y="406"/>
                  </a:lnTo>
                  <a:lnTo>
                    <a:pt x="1268" y="343"/>
                  </a:lnTo>
                  <a:lnTo>
                    <a:pt x="245" y="708"/>
                  </a:lnTo>
                  <a:lnTo>
                    <a:pt x="0" y="552"/>
                  </a:lnTo>
                  <a:lnTo>
                    <a:pt x="0" y="55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100000">
              <a:off x="1980720" y="4495320"/>
              <a:ext cx="230364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808080"/>
                  </a:solidFill>
                  <a:latin typeface="Courier New"/>
                </a:rPr>
                <a:t>incremento   en las prefer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1841400" y="1849320"/>
            <a:ext cx="0" cy="53625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41400" y="7211880"/>
            <a:ext cx="623412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182680" y="1787400"/>
            <a:ext cx="4604040" cy="4992840"/>
            <a:chOff x="2182680" y="1787400"/>
            <a:chExt cx="4604040" cy="4992840"/>
          </a:xfrm>
        </p:grpSpPr>
        <p:sp>
          <p:nvSpPr>
            <p:cNvPr id="227" name=""/>
            <p:cNvSpPr/>
            <p:nvPr/>
          </p:nvSpPr>
          <p:spPr>
            <a:xfrm>
              <a:off x="2679840" y="1952640"/>
              <a:ext cx="3968640" cy="4091040"/>
            </a:xfrm>
            <a:custGeom>
              <a:avLst/>
              <a:gdLst/>
              <a:ahLst/>
              <a:rect l="l" t="t" r="r" b="b"/>
              <a:pathLst>
                <a:path w="2500" h="2577">
                  <a:moveTo>
                    <a:pt x="0" y="0"/>
                  </a:moveTo>
                  <a:lnTo>
                    <a:pt x="2" y="23"/>
                  </a:lnTo>
                  <a:lnTo>
                    <a:pt x="4" y="40"/>
                  </a:lnTo>
                  <a:lnTo>
                    <a:pt x="5" y="54"/>
                  </a:lnTo>
                  <a:lnTo>
                    <a:pt x="6" y="64"/>
                  </a:lnTo>
                  <a:lnTo>
                    <a:pt x="6" y="72"/>
                  </a:lnTo>
                  <a:lnTo>
                    <a:pt x="7" y="78"/>
                  </a:lnTo>
                  <a:lnTo>
                    <a:pt x="7" y="82"/>
                  </a:lnTo>
                  <a:lnTo>
                    <a:pt x="9" y="85"/>
                  </a:lnTo>
                  <a:lnTo>
                    <a:pt x="9" y="88"/>
                  </a:lnTo>
                  <a:lnTo>
                    <a:pt x="9" y="90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0" y="100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4" y="123"/>
                  </a:lnTo>
                  <a:lnTo>
                    <a:pt x="15" y="137"/>
                  </a:lnTo>
                  <a:lnTo>
                    <a:pt x="17" y="154"/>
                  </a:lnTo>
                  <a:lnTo>
                    <a:pt x="20" y="174"/>
                  </a:lnTo>
                  <a:lnTo>
                    <a:pt x="25" y="196"/>
                  </a:lnTo>
                  <a:lnTo>
                    <a:pt x="29" y="221"/>
                  </a:lnTo>
                  <a:lnTo>
                    <a:pt x="35" y="249"/>
                  </a:lnTo>
                  <a:lnTo>
                    <a:pt x="40" y="278"/>
                  </a:lnTo>
                  <a:lnTo>
                    <a:pt x="48" y="308"/>
                  </a:lnTo>
                  <a:lnTo>
                    <a:pt x="53" y="341"/>
                  </a:lnTo>
                  <a:lnTo>
                    <a:pt x="61" y="374"/>
                  </a:lnTo>
                  <a:lnTo>
                    <a:pt x="68" y="407"/>
                  </a:lnTo>
                  <a:lnTo>
                    <a:pt x="76" y="440"/>
                  </a:lnTo>
                  <a:lnTo>
                    <a:pt x="83" y="474"/>
                  </a:lnTo>
                  <a:lnTo>
                    <a:pt x="91" y="507"/>
                  </a:lnTo>
                  <a:lnTo>
                    <a:pt x="98" y="539"/>
                  </a:lnTo>
                  <a:lnTo>
                    <a:pt x="107" y="570"/>
                  </a:lnTo>
                  <a:lnTo>
                    <a:pt x="114" y="602"/>
                  </a:lnTo>
                  <a:lnTo>
                    <a:pt x="123" y="634"/>
                  </a:lnTo>
                  <a:lnTo>
                    <a:pt x="132" y="669"/>
                  </a:lnTo>
                  <a:lnTo>
                    <a:pt x="141" y="702"/>
                  </a:lnTo>
                  <a:lnTo>
                    <a:pt x="151" y="738"/>
                  </a:lnTo>
                  <a:lnTo>
                    <a:pt x="161" y="774"/>
                  </a:lnTo>
                  <a:lnTo>
                    <a:pt x="172" y="809"/>
                  </a:lnTo>
                  <a:lnTo>
                    <a:pt x="183" y="843"/>
                  </a:lnTo>
                  <a:lnTo>
                    <a:pt x="192" y="877"/>
                  </a:lnTo>
                  <a:lnTo>
                    <a:pt x="203" y="910"/>
                  </a:lnTo>
                  <a:lnTo>
                    <a:pt x="212" y="940"/>
                  </a:lnTo>
                  <a:lnTo>
                    <a:pt x="223" y="968"/>
                  </a:lnTo>
                  <a:lnTo>
                    <a:pt x="232" y="995"/>
                  </a:lnTo>
                  <a:lnTo>
                    <a:pt x="241" y="1018"/>
                  </a:lnTo>
                  <a:lnTo>
                    <a:pt x="249" y="1039"/>
                  </a:lnTo>
                  <a:lnTo>
                    <a:pt x="258" y="1056"/>
                  </a:lnTo>
                  <a:lnTo>
                    <a:pt x="264" y="1072"/>
                  </a:lnTo>
                  <a:lnTo>
                    <a:pt x="272" y="1090"/>
                  </a:lnTo>
                  <a:lnTo>
                    <a:pt x="281" y="1112"/>
                  </a:lnTo>
                  <a:lnTo>
                    <a:pt x="291" y="1134"/>
                  </a:lnTo>
                  <a:lnTo>
                    <a:pt x="301" y="1158"/>
                  </a:lnTo>
                  <a:lnTo>
                    <a:pt x="312" y="1182"/>
                  </a:lnTo>
                  <a:lnTo>
                    <a:pt x="324" y="1208"/>
                  </a:lnTo>
                  <a:lnTo>
                    <a:pt x="337" y="1234"/>
                  </a:lnTo>
                  <a:lnTo>
                    <a:pt x="348" y="1261"/>
                  </a:lnTo>
                  <a:lnTo>
                    <a:pt x="360" y="1287"/>
                  </a:lnTo>
                  <a:lnTo>
                    <a:pt x="371" y="1313"/>
                  </a:lnTo>
                  <a:lnTo>
                    <a:pt x="384" y="1339"/>
                  </a:lnTo>
                  <a:lnTo>
                    <a:pt x="395" y="1364"/>
                  </a:lnTo>
                  <a:lnTo>
                    <a:pt x="407" y="1388"/>
                  </a:lnTo>
                  <a:lnTo>
                    <a:pt x="417" y="1411"/>
                  </a:lnTo>
                  <a:lnTo>
                    <a:pt x="428" y="1431"/>
                  </a:lnTo>
                  <a:lnTo>
                    <a:pt x="438" y="1452"/>
                  </a:lnTo>
                  <a:lnTo>
                    <a:pt x="448" y="1474"/>
                  </a:lnTo>
                  <a:lnTo>
                    <a:pt x="459" y="1498"/>
                  </a:lnTo>
                  <a:lnTo>
                    <a:pt x="471" y="1521"/>
                  </a:lnTo>
                  <a:lnTo>
                    <a:pt x="482" y="1547"/>
                  </a:lnTo>
                  <a:lnTo>
                    <a:pt x="494" y="1571"/>
                  </a:lnTo>
                  <a:lnTo>
                    <a:pt x="506" y="1595"/>
                  </a:lnTo>
                  <a:lnTo>
                    <a:pt x="519" y="1620"/>
                  </a:lnTo>
                  <a:lnTo>
                    <a:pt x="530" y="1645"/>
                  </a:lnTo>
                  <a:lnTo>
                    <a:pt x="542" y="1668"/>
                  </a:lnTo>
                  <a:lnTo>
                    <a:pt x="553" y="1692"/>
                  </a:lnTo>
                  <a:lnTo>
                    <a:pt x="564" y="1712"/>
                  </a:lnTo>
                  <a:lnTo>
                    <a:pt x="574" y="1733"/>
                  </a:lnTo>
                  <a:lnTo>
                    <a:pt x="583" y="1751"/>
                  </a:lnTo>
                  <a:lnTo>
                    <a:pt x="591" y="1767"/>
                  </a:lnTo>
                  <a:lnTo>
                    <a:pt x="600" y="1780"/>
                  </a:lnTo>
                  <a:lnTo>
                    <a:pt x="607" y="1794"/>
                  </a:lnTo>
                  <a:lnTo>
                    <a:pt x="616" y="1809"/>
                  </a:lnTo>
                  <a:lnTo>
                    <a:pt x="625" y="1825"/>
                  </a:lnTo>
                  <a:lnTo>
                    <a:pt x="636" y="1842"/>
                  </a:lnTo>
                  <a:lnTo>
                    <a:pt x="648" y="1860"/>
                  </a:lnTo>
                  <a:lnTo>
                    <a:pt x="660" y="1879"/>
                  </a:lnTo>
                  <a:lnTo>
                    <a:pt x="673" y="1897"/>
                  </a:lnTo>
                  <a:lnTo>
                    <a:pt x="687" y="1916"/>
                  </a:lnTo>
                  <a:lnTo>
                    <a:pt x="700" y="1936"/>
                  </a:lnTo>
                  <a:lnTo>
                    <a:pt x="714" y="1955"/>
                  </a:lnTo>
                  <a:lnTo>
                    <a:pt x="727" y="1974"/>
                  </a:lnTo>
                  <a:lnTo>
                    <a:pt x="742" y="1990"/>
                  </a:lnTo>
                  <a:lnTo>
                    <a:pt x="755" y="2008"/>
                  </a:lnTo>
                  <a:lnTo>
                    <a:pt x="768" y="2024"/>
                  </a:lnTo>
                  <a:lnTo>
                    <a:pt x="780" y="2039"/>
                  </a:lnTo>
                  <a:lnTo>
                    <a:pt x="793" y="2052"/>
                  </a:lnTo>
                  <a:lnTo>
                    <a:pt x="804" y="2066"/>
                  </a:lnTo>
                  <a:lnTo>
                    <a:pt x="817" y="2080"/>
                  </a:lnTo>
                  <a:lnTo>
                    <a:pt x="832" y="2094"/>
                  </a:lnTo>
                  <a:lnTo>
                    <a:pt x="847" y="2110"/>
                  </a:lnTo>
                  <a:lnTo>
                    <a:pt x="862" y="2126"/>
                  </a:lnTo>
                  <a:lnTo>
                    <a:pt x="879" y="2141"/>
                  </a:lnTo>
                  <a:lnTo>
                    <a:pt x="896" y="2157"/>
                  </a:lnTo>
                  <a:lnTo>
                    <a:pt x="914" y="2172"/>
                  </a:lnTo>
                  <a:lnTo>
                    <a:pt x="930" y="2188"/>
                  </a:lnTo>
                  <a:lnTo>
                    <a:pt x="947" y="2202"/>
                  </a:lnTo>
                  <a:lnTo>
                    <a:pt x="962" y="2217"/>
                  </a:lnTo>
                  <a:lnTo>
                    <a:pt x="980" y="2230"/>
                  </a:lnTo>
                  <a:lnTo>
                    <a:pt x="994" y="2243"/>
                  </a:lnTo>
                  <a:lnTo>
                    <a:pt x="1009" y="2254"/>
                  </a:lnTo>
                  <a:lnTo>
                    <a:pt x="1022" y="2264"/>
                  </a:lnTo>
                  <a:lnTo>
                    <a:pt x="1036" y="2272"/>
                  </a:lnTo>
                  <a:lnTo>
                    <a:pt x="1047" y="2282"/>
                  </a:lnTo>
                  <a:lnTo>
                    <a:pt x="1059" y="2289"/>
                  </a:lnTo>
                  <a:lnTo>
                    <a:pt x="1070" y="2298"/>
                  </a:lnTo>
                  <a:lnTo>
                    <a:pt x="1083" y="2306"/>
                  </a:lnTo>
                  <a:lnTo>
                    <a:pt x="1094" y="2315"/>
                  </a:lnTo>
                  <a:lnTo>
                    <a:pt x="1107" y="2322"/>
                  </a:lnTo>
                  <a:lnTo>
                    <a:pt x="1118" y="2330"/>
                  </a:lnTo>
                  <a:lnTo>
                    <a:pt x="1132" y="2338"/>
                  </a:lnTo>
                  <a:lnTo>
                    <a:pt x="1142" y="2346"/>
                  </a:lnTo>
                  <a:lnTo>
                    <a:pt x="1153" y="2354"/>
                  </a:lnTo>
                  <a:lnTo>
                    <a:pt x="1162" y="2360"/>
                  </a:lnTo>
                  <a:lnTo>
                    <a:pt x="1172" y="2365"/>
                  </a:lnTo>
                  <a:lnTo>
                    <a:pt x="1180" y="2371"/>
                  </a:lnTo>
                  <a:lnTo>
                    <a:pt x="1187" y="2376"/>
                  </a:lnTo>
                  <a:lnTo>
                    <a:pt x="1194" y="2380"/>
                  </a:lnTo>
                  <a:lnTo>
                    <a:pt x="1199" y="2382"/>
                  </a:lnTo>
                  <a:lnTo>
                    <a:pt x="1203" y="2385"/>
                  </a:lnTo>
                  <a:lnTo>
                    <a:pt x="1208" y="2388"/>
                  </a:lnTo>
                  <a:lnTo>
                    <a:pt x="1215" y="2392"/>
                  </a:lnTo>
                  <a:lnTo>
                    <a:pt x="1222" y="2394"/>
                  </a:lnTo>
                  <a:lnTo>
                    <a:pt x="1230" y="2398"/>
                  </a:lnTo>
                  <a:lnTo>
                    <a:pt x="1238" y="2402"/>
                  </a:lnTo>
                  <a:lnTo>
                    <a:pt x="1248" y="2406"/>
                  </a:lnTo>
                  <a:lnTo>
                    <a:pt x="1258" y="2410"/>
                  </a:lnTo>
                  <a:lnTo>
                    <a:pt x="1267" y="2415"/>
                  </a:lnTo>
                  <a:lnTo>
                    <a:pt x="1276" y="2418"/>
                  </a:lnTo>
                  <a:lnTo>
                    <a:pt x="1286" y="2422"/>
                  </a:lnTo>
                  <a:lnTo>
                    <a:pt x="1297" y="2426"/>
                  </a:lnTo>
                  <a:lnTo>
                    <a:pt x="1306" y="2430"/>
                  </a:lnTo>
                  <a:lnTo>
                    <a:pt x="1316" y="2434"/>
                  </a:lnTo>
                  <a:lnTo>
                    <a:pt x="1326" y="2437"/>
                  </a:lnTo>
                  <a:lnTo>
                    <a:pt x="1336" y="2440"/>
                  </a:lnTo>
                  <a:lnTo>
                    <a:pt x="1344" y="2444"/>
                  </a:lnTo>
                  <a:lnTo>
                    <a:pt x="1355" y="2447"/>
                  </a:lnTo>
                  <a:lnTo>
                    <a:pt x="1367" y="2451"/>
                  </a:lnTo>
                  <a:lnTo>
                    <a:pt x="1381" y="2455"/>
                  </a:lnTo>
                  <a:lnTo>
                    <a:pt x="1395" y="2460"/>
                  </a:lnTo>
                  <a:lnTo>
                    <a:pt x="1410" y="2464"/>
                  </a:lnTo>
                  <a:lnTo>
                    <a:pt x="1426" y="2469"/>
                  </a:lnTo>
                  <a:lnTo>
                    <a:pt x="1443" y="2473"/>
                  </a:lnTo>
                  <a:lnTo>
                    <a:pt x="1459" y="2478"/>
                  </a:lnTo>
                  <a:lnTo>
                    <a:pt x="1476" y="2482"/>
                  </a:lnTo>
                  <a:lnTo>
                    <a:pt x="1493" y="2487"/>
                  </a:lnTo>
                  <a:lnTo>
                    <a:pt x="1510" y="2491"/>
                  </a:lnTo>
                  <a:lnTo>
                    <a:pt x="1525" y="2494"/>
                  </a:lnTo>
                  <a:lnTo>
                    <a:pt x="1541" y="2498"/>
                  </a:lnTo>
                  <a:lnTo>
                    <a:pt x="1556" y="2502"/>
                  </a:lnTo>
                  <a:lnTo>
                    <a:pt x="1571" y="2504"/>
                  </a:lnTo>
                  <a:lnTo>
                    <a:pt x="1584" y="2508"/>
                  </a:lnTo>
                  <a:lnTo>
                    <a:pt x="1599" y="2512"/>
                  </a:lnTo>
                  <a:lnTo>
                    <a:pt x="1615" y="2516"/>
                  </a:lnTo>
                  <a:lnTo>
                    <a:pt x="1633" y="2519"/>
                  </a:lnTo>
                  <a:lnTo>
                    <a:pt x="1650" y="2523"/>
                  </a:lnTo>
                  <a:lnTo>
                    <a:pt x="1668" y="2526"/>
                  </a:lnTo>
                  <a:lnTo>
                    <a:pt x="1687" y="2530"/>
                  </a:lnTo>
                  <a:lnTo>
                    <a:pt x="1706" y="2532"/>
                  </a:lnTo>
                  <a:lnTo>
                    <a:pt x="1724" y="2536"/>
                  </a:lnTo>
                  <a:lnTo>
                    <a:pt x="1742" y="2538"/>
                  </a:lnTo>
                  <a:lnTo>
                    <a:pt x="1760" y="2541"/>
                  </a:lnTo>
                  <a:lnTo>
                    <a:pt x="1778" y="2543"/>
                  </a:lnTo>
                  <a:lnTo>
                    <a:pt x="1793" y="2546"/>
                  </a:lnTo>
                  <a:lnTo>
                    <a:pt x="1809" y="2548"/>
                  </a:lnTo>
                  <a:lnTo>
                    <a:pt x="1822" y="2550"/>
                  </a:lnTo>
                  <a:lnTo>
                    <a:pt x="1836" y="2551"/>
                  </a:lnTo>
                  <a:lnTo>
                    <a:pt x="1847" y="2552"/>
                  </a:lnTo>
                  <a:lnTo>
                    <a:pt x="1860" y="2554"/>
                  </a:lnTo>
                  <a:lnTo>
                    <a:pt x="1875" y="2556"/>
                  </a:lnTo>
                  <a:lnTo>
                    <a:pt x="1892" y="2556"/>
                  </a:lnTo>
                  <a:lnTo>
                    <a:pt x="1908" y="2558"/>
                  </a:lnTo>
                  <a:lnTo>
                    <a:pt x="1927" y="2560"/>
                  </a:lnTo>
                  <a:lnTo>
                    <a:pt x="1945" y="2561"/>
                  </a:lnTo>
                  <a:lnTo>
                    <a:pt x="1965" y="2561"/>
                  </a:lnTo>
                  <a:lnTo>
                    <a:pt x="1984" y="2563"/>
                  </a:lnTo>
                  <a:lnTo>
                    <a:pt x="2002" y="2564"/>
                  </a:lnTo>
                  <a:lnTo>
                    <a:pt x="2021" y="2566"/>
                  </a:lnTo>
                  <a:lnTo>
                    <a:pt x="2040" y="2566"/>
                  </a:lnTo>
                  <a:lnTo>
                    <a:pt x="2057" y="2568"/>
                  </a:lnTo>
                  <a:lnTo>
                    <a:pt x="2075" y="2568"/>
                  </a:lnTo>
                  <a:lnTo>
                    <a:pt x="2091" y="2570"/>
                  </a:lnTo>
                  <a:lnTo>
                    <a:pt x="2106" y="2570"/>
                  </a:lnTo>
                  <a:lnTo>
                    <a:pt x="2121" y="2571"/>
                  </a:lnTo>
                  <a:lnTo>
                    <a:pt x="2136" y="2571"/>
                  </a:lnTo>
                  <a:lnTo>
                    <a:pt x="2153" y="2572"/>
                  </a:lnTo>
                  <a:lnTo>
                    <a:pt x="2171" y="2572"/>
                  </a:lnTo>
                  <a:lnTo>
                    <a:pt x="2189" y="2574"/>
                  </a:lnTo>
                  <a:lnTo>
                    <a:pt x="2208" y="2574"/>
                  </a:lnTo>
                  <a:lnTo>
                    <a:pt x="2227" y="2574"/>
                  </a:lnTo>
                  <a:lnTo>
                    <a:pt x="2247" y="2574"/>
                  </a:lnTo>
                  <a:lnTo>
                    <a:pt x="2266" y="2576"/>
                  </a:lnTo>
                  <a:lnTo>
                    <a:pt x="2284" y="2576"/>
                  </a:lnTo>
                  <a:lnTo>
                    <a:pt x="2302" y="2576"/>
                  </a:lnTo>
                  <a:lnTo>
                    <a:pt x="2320" y="2576"/>
                  </a:lnTo>
                  <a:lnTo>
                    <a:pt x="2335" y="2576"/>
                  </a:lnTo>
                  <a:lnTo>
                    <a:pt x="2351" y="2576"/>
                  </a:lnTo>
                  <a:lnTo>
                    <a:pt x="2365" y="2576"/>
                  </a:lnTo>
                  <a:lnTo>
                    <a:pt x="2378" y="2576"/>
                  </a:lnTo>
                  <a:lnTo>
                    <a:pt x="2387" y="2576"/>
                  </a:lnTo>
                  <a:lnTo>
                    <a:pt x="2395" y="2576"/>
                  </a:lnTo>
                  <a:lnTo>
                    <a:pt x="2400" y="2576"/>
                  </a:lnTo>
                  <a:lnTo>
                    <a:pt x="2405" y="2576"/>
                  </a:lnTo>
                  <a:lnTo>
                    <a:pt x="2407" y="2576"/>
                  </a:lnTo>
                  <a:lnTo>
                    <a:pt x="2410" y="2576"/>
                  </a:lnTo>
                  <a:lnTo>
                    <a:pt x="2412" y="2576"/>
                  </a:lnTo>
                  <a:lnTo>
                    <a:pt x="2415" y="2576"/>
                  </a:lnTo>
                  <a:lnTo>
                    <a:pt x="2418" y="2576"/>
                  </a:lnTo>
                  <a:lnTo>
                    <a:pt x="2422" y="2576"/>
                  </a:lnTo>
                  <a:lnTo>
                    <a:pt x="2428" y="2576"/>
                  </a:lnTo>
                  <a:lnTo>
                    <a:pt x="2436" y="2576"/>
                  </a:lnTo>
                  <a:lnTo>
                    <a:pt x="2446" y="2576"/>
                  </a:lnTo>
                  <a:lnTo>
                    <a:pt x="2460" y="2576"/>
                  </a:lnTo>
                  <a:lnTo>
                    <a:pt x="2477" y="2576"/>
                  </a:lnTo>
                  <a:lnTo>
                    <a:pt x="2499" y="2576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2680" y="2298600"/>
              <a:ext cx="4332600" cy="4481640"/>
            </a:xfrm>
            <a:custGeom>
              <a:avLst/>
              <a:gdLst/>
              <a:ahLst/>
              <a:rect l="l" t="t" r="r" b="b"/>
              <a:pathLst>
                <a:path w="2729" h="2823">
                  <a:moveTo>
                    <a:pt x="0" y="0"/>
                  </a:moveTo>
                  <a:lnTo>
                    <a:pt x="2" y="24"/>
                  </a:lnTo>
                  <a:lnTo>
                    <a:pt x="4" y="43"/>
                  </a:lnTo>
                  <a:lnTo>
                    <a:pt x="5" y="58"/>
                  </a:lnTo>
                  <a:lnTo>
                    <a:pt x="7" y="70"/>
                  </a:lnTo>
                  <a:lnTo>
                    <a:pt x="7" y="79"/>
                  </a:lnTo>
                  <a:lnTo>
                    <a:pt x="8" y="86"/>
                  </a:lnTo>
                  <a:lnTo>
                    <a:pt x="8" y="91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0" y="103"/>
                  </a:lnTo>
                  <a:lnTo>
                    <a:pt x="11" y="106"/>
                  </a:lnTo>
                  <a:lnTo>
                    <a:pt x="11" y="111"/>
                  </a:lnTo>
                  <a:lnTo>
                    <a:pt x="13" y="117"/>
                  </a:lnTo>
                  <a:lnTo>
                    <a:pt x="14" y="125"/>
                  </a:lnTo>
                  <a:lnTo>
                    <a:pt x="16" y="136"/>
                  </a:lnTo>
                  <a:lnTo>
                    <a:pt x="17" y="150"/>
                  </a:lnTo>
                  <a:lnTo>
                    <a:pt x="19" y="169"/>
                  </a:lnTo>
                  <a:lnTo>
                    <a:pt x="23" y="191"/>
                  </a:lnTo>
                  <a:lnTo>
                    <a:pt x="27" y="216"/>
                  </a:lnTo>
                  <a:lnTo>
                    <a:pt x="33" y="244"/>
                  </a:lnTo>
                  <a:lnTo>
                    <a:pt x="38" y="274"/>
                  </a:lnTo>
                  <a:lnTo>
                    <a:pt x="45" y="306"/>
                  </a:lnTo>
                  <a:lnTo>
                    <a:pt x="52" y="338"/>
                  </a:lnTo>
                  <a:lnTo>
                    <a:pt x="59" y="375"/>
                  </a:lnTo>
                  <a:lnTo>
                    <a:pt x="66" y="410"/>
                  </a:lnTo>
                  <a:lnTo>
                    <a:pt x="74" y="448"/>
                  </a:lnTo>
                  <a:lnTo>
                    <a:pt x="83" y="483"/>
                  </a:lnTo>
                  <a:lnTo>
                    <a:pt x="91" y="520"/>
                  </a:lnTo>
                  <a:lnTo>
                    <a:pt x="100" y="556"/>
                  </a:lnTo>
                  <a:lnTo>
                    <a:pt x="107" y="591"/>
                  </a:lnTo>
                  <a:lnTo>
                    <a:pt x="117" y="624"/>
                  </a:lnTo>
                  <a:lnTo>
                    <a:pt x="124" y="659"/>
                  </a:lnTo>
                  <a:lnTo>
                    <a:pt x="134" y="695"/>
                  </a:lnTo>
                  <a:lnTo>
                    <a:pt x="143" y="733"/>
                  </a:lnTo>
                  <a:lnTo>
                    <a:pt x="154" y="770"/>
                  </a:lnTo>
                  <a:lnTo>
                    <a:pt x="165" y="810"/>
                  </a:lnTo>
                  <a:lnTo>
                    <a:pt x="176" y="848"/>
                  </a:lnTo>
                  <a:lnTo>
                    <a:pt x="187" y="886"/>
                  </a:lnTo>
                  <a:lnTo>
                    <a:pt x="200" y="924"/>
                  </a:lnTo>
                  <a:lnTo>
                    <a:pt x="210" y="961"/>
                  </a:lnTo>
                  <a:lnTo>
                    <a:pt x="222" y="996"/>
                  </a:lnTo>
                  <a:lnTo>
                    <a:pt x="232" y="1030"/>
                  </a:lnTo>
                  <a:lnTo>
                    <a:pt x="243" y="1061"/>
                  </a:lnTo>
                  <a:lnTo>
                    <a:pt x="253" y="1090"/>
                  </a:lnTo>
                  <a:lnTo>
                    <a:pt x="263" y="1116"/>
                  </a:lnTo>
                  <a:lnTo>
                    <a:pt x="271" y="1138"/>
                  </a:lnTo>
                  <a:lnTo>
                    <a:pt x="280" y="1156"/>
                  </a:lnTo>
                  <a:lnTo>
                    <a:pt x="287" y="1174"/>
                  </a:lnTo>
                  <a:lnTo>
                    <a:pt x="297" y="1194"/>
                  </a:lnTo>
                  <a:lnTo>
                    <a:pt x="307" y="1218"/>
                  </a:lnTo>
                  <a:lnTo>
                    <a:pt x="318" y="1241"/>
                  </a:lnTo>
                  <a:lnTo>
                    <a:pt x="329" y="1268"/>
                  </a:lnTo>
                  <a:lnTo>
                    <a:pt x="341" y="1295"/>
                  </a:lnTo>
                  <a:lnTo>
                    <a:pt x="355" y="1323"/>
                  </a:lnTo>
                  <a:lnTo>
                    <a:pt x="368" y="1351"/>
                  </a:lnTo>
                  <a:lnTo>
                    <a:pt x="381" y="1381"/>
                  </a:lnTo>
                  <a:lnTo>
                    <a:pt x="394" y="1410"/>
                  </a:lnTo>
                  <a:lnTo>
                    <a:pt x="407" y="1438"/>
                  </a:lnTo>
                  <a:lnTo>
                    <a:pt x="420" y="1467"/>
                  </a:lnTo>
                  <a:lnTo>
                    <a:pt x="432" y="1495"/>
                  </a:lnTo>
                  <a:lnTo>
                    <a:pt x="445" y="1520"/>
                  </a:lnTo>
                  <a:lnTo>
                    <a:pt x="456" y="1545"/>
                  </a:lnTo>
                  <a:lnTo>
                    <a:pt x="467" y="1568"/>
                  </a:lnTo>
                  <a:lnTo>
                    <a:pt x="477" y="1592"/>
                  </a:lnTo>
                  <a:lnTo>
                    <a:pt x="489" y="1615"/>
                  </a:lnTo>
                  <a:lnTo>
                    <a:pt x="501" y="1641"/>
                  </a:lnTo>
                  <a:lnTo>
                    <a:pt x="514" y="1666"/>
                  </a:lnTo>
                  <a:lnTo>
                    <a:pt x="527" y="1694"/>
                  </a:lnTo>
                  <a:lnTo>
                    <a:pt x="540" y="1721"/>
                  </a:lnTo>
                  <a:lnTo>
                    <a:pt x="553" y="1749"/>
                  </a:lnTo>
                  <a:lnTo>
                    <a:pt x="567" y="1775"/>
                  </a:lnTo>
                  <a:lnTo>
                    <a:pt x="579" y="1802"/>
                  </a:lnTo>
                  <a:lnTo>
                    <a:pt x="592" y="1828"/>
                  </a:lnTo>
                  <a:lnTo>
                    <a:pt x="603" y="1854"/>
                  </a:lnTo>
                  <a:lnTo>
                    <a:pt x="616" y="1876"/>
                  </a:lnTo>
                  <a:lnTo>
                    <a:pt x="626" y="1899"/>
                  </a:lnTo>
                  <a:lnTo>
                    <a:pt x="637" y="1918"/>
                  </a:lnTo>
                  <a:lnTo>
                    <a:pt x="646" y="1936"/>
                  </a:lnTo>
                  <a:lnTo>
                    <a:pt x="655" y="1950"/>
                  </a:lnTo>
                  <a:lnTo>
                    <a:pt x="661" y="1966"/>
                  </a:lnTo>
                  <a:lnTo>
                    <a:pt x="671" y="1982"/>
                  </a:lnTo>
                  <a:lnTo>
                    <a:pt x="682" y="2000"/>
                  </a:lnTo>
                  <a:lnTo>
                    <a:pt x="694" y="2018"/>
                  </a:lnTo>
                  <a:lnTo>
                    <a:pt x="707" y="2039"/>
                  </a:lnTo>
                  <a:lnTo>
                    <a:pt x="720" y="2059"/>
                  </a:lnTo>
                  <a:lnTo>
                    <a:pt x="735" y="2079"/>
                  </a:lnTo>
                  <a:lnTo>
                    <a:pt x="749" y="2100"/>
                  </a:lnTo>
                  <a:lnTo>
                    <a:pt x="765" y="2122"/>
                  </a:lnTo>
                  <a:lnTo>
                    <a:pt x="779" y="2142"/>
                  </a:lnTo>
                  <a:lnTo>
                    <a:pt x="795" y="2163"/>
                  </a:lnTo>
                  <a:lnTo>
                    <a:pt x="810" y="2182"/>
                  </a:lnTo>
                  <a:lnTo>
                    <a:pt x="824" y="2200"/>
                  </a:lnTo>
                  <a:lnTo>
                    <a:pt x="839" y="2218"/>
                  </a:lnTo>
                  <a:lnTo>
                    <a:pt x="852" y="2234"/>
                  </a:lnTo>
                  <a:lnTo>
                    <a:pt x="866" y="2248"/>
                  </a:lnTo>
                  <a:lnTo>
                    <a:pt x="879" y="2264"/>
                  </a:lnTo>
                  <a:lnTo>
                    <a:pt x="893" y="2278"/>
                  </a:lnTo>
                  <a:lnTo>
                    <a:pt x="908" y="2295"/>
                  </a:lnTo>
                  <a:lnTo>
                    <a:pt x="925" y="2312"/>
                  </a:lnTo>
                  <a:lnTo>
                    <a:pt x="942" y="2330"/>
                  </a:lnTo>
                  <a:lnTo>
                    <a:pt x="960" y="2346"/>
                  </a:lnTo>
                  <a:lnTo>
                    <a:pt x="979" y="2363"/>
                  </a:lnTo>
                  <a:lnTo>
                    <a:pt x="997" y="2380"/>
                  </a:lnTo>
                  <a:lnTo>
                    <a:pt x="1015" y="2397"/>
                  </a:lnTo>
                  <a:lnTo>
                    <a:pt x="1033" y="2414"/>
                  </a:lnTo>
                  <a:lnTo>
                    <a:pt x="1051" y="2430"/>
                  </a:lnTo>
                  <a:lnTo>
                    <a:pt x="1069" y="2444"/>
                  </a:lnTo>
                  <a:lnTo>
                    <a:pt x="1085" y="2458"/>
                  </a:lnTo>
                  <a:lnTo>
                    <a:pt x="1101" y="2470"/>
                  </a:lnTo>
                  <a:lnTo>
                    <a:pt x="1115" y="2481"/>
                  </a:lnTo>
                  <a:lnTo>
                    <a:pt x="1129" y="2490"/>
                  </a:lnTo>
                  <a:lnTo>
                    <a:pt x="1141" y="2499"/>
                  </a:lnTo>
                  <a:lnTo>
                    <a:pt x="1155" y="2508"/>
                  </a:lnTo>
                  <a:lnTo>
                    <a:pt x="1168" y="2518"/>
                  </a:lnTo>
                  <a:lnTo>
                    <a:pt x="1182" y="2526"/>
                  </a:lnTo>
                  <a:lnTo>
                    <a:pt x="1195" y="2536"/>
                  </a:lnTo>
                  <a:lnTo>
                    <a:pt x="1208" y="2545"/>
                  </a:lnTo>
                  <a:lnTo>
                    <a:pt x="1221" y="2554"/>
                  </a:lnTo>
                  <a:lnTo>
                    <a:pt x="1235" y="2562"/>
                  </a:lnTo>
                  <a:lnTo>
                    <a:pt x="1246" y="2572"/>
                  </a:lnTo>
                  <a:lnTo>
                    <a:pt x="1259" y="2579"/>
                  </a:lnTo>
                  <a:lnTo>
                    <a:pt x="1269" y="2587"/>
                  </a:lnTo>
                  <a:lnTo>
                    <a:pt x="1279" y="2593"/>
                  </a:lnTo>
                  <a:lnTo>
                    <a:pt x="1287" y="2599"/>
                  </a:lnTo>
                  <a:lnTo>
                    <a:pt x="1296" y="2604"/>
                  </a:lnTo>
                  <a:lnTo>
                    <a:pt x="1302" y="2608"/>
                  </a:lnTo>
                  <a:lnTo>
                    <a:pt x="1309" y="2610"/>
                  </a:lnTo>
                  <a:lnTo>
                    <a:pt x="1313" y="2614"/>
                  </a:lnTo>
                  <a:lnTo>
                    <a:pt x="1319" y="2617"/>
                  </a:lnTo>
                  <a:lnTo>
                    <a:pt x="1326" y="2621"/>
                  </a:lnTo>
                  <a:lnTo>
                    <a:pt x="1334" y="2624"/>
                  </a:lnTo>
                  <a:lnTo>
                    <a:pt x="1342" y="2629"/>
                  </a:lnTo>
                  <a:lnTo>
                    <a:pt x="1352" y="2633"/>
                  </a:lnTo>
                  <a:lnTo>
                    <a:pt x="1362" y="2637"/>
                  </a:lnTo>
                  <a:lnTo>
                    <a:pt x="1373" y="2641"/>
                  </a:lnTo>
                  <a:lnTo>
                    <a:pt x="1382" y="2646"/>
                  </a:lnTo>
                  <a:lnTo>
                    <a:pt x="1393" y="2650"/>
                  </a:lnTo>
                  <a:lnTo>
                    <a:pt x="1405" y="2655"/>
                  </a:lnTo>
                  <a:lnTo>
                    <a:pt x="1416" y="2659"/>
                  </a:lnTo>
                  <a:lnTo>
                    <a:pt x="1425" y="2664"/>
                  </a:lnTo>
                  <a:lnTo>
                    <a:pt x="1437" y="2668"/>
                  </a:lnTo>
                  <a:lnTo>
                    <a:pt x="1447" y="2672"/>
                  </a:lnTo>
                  <a:lnTo>
                    <a:pt x="1458" y="2675"/>
                  </a:lnTo>
                  <a:lnTo>
                    <a:pt x="1467" y="2679"/>
                  </a:lnTo>
                  <a:lnTo>
                    <a:pt x="1479" y="2683"/>
                  </a:lnTo>
                  <a:lnTo>
                    <a:pt x="1492" y="2687"/>
                  </a:lnTo>
                  <a:lnTo>
                    <a:pt x="1507" y="2691"/>
                  </a:lnTo>
                  <a:lnTo>
                    <a:pt x="1522" y="2696"/>
                  </a:lnTo>
                  <a:lnTo>
                    <a:pt x="1539" y="2700"/>
                  </a:lnTo>
                  <a:lnTo>
                    <a:pt x="1556" y="2706"/>
                  </a:lnTo>
                  <a:lnTo>
                    <a:pt x="1575" y="2710"/>
                  </a:lnTo>
                  <a:lnTo>
                    <a:pt x="1592" y="2715"/>
                  </a:lnTo>
                  <a:lnTo>
                    <a:pt x="1611" y="2720"/>
                  </a:lnTo>
                  <a:lnTo>
                    <a:pt x="1629" y="2726"/>
                  </a:lnTo>
                  <a:lnTo>
                    <a:pt x="1647" y="2730"/>
                  </a:lnTo>
                  <a:lnTo>
                    <a:pt x="1664" y="2734"/>
                  </a:lnTo>
                  <a:lnTo>
                    <a:pt x="1682" y="2738"/>
                  </a:lnTo>
                  <a:lnTo>
                    <a:pt x="1698" y="2742"/>
                  </a:lnTo>
                  <a:lnTo>
                    <a:pt x="1714" y="2744"/>
                  </a:lnTo>
                  <a:lnTo>
                    <a:pt x="1729" y="2748"/>
                  </a:lnTo>
                  <a:lnTo>
                    <a:pt x="1745" y="2752"/>
                  </a:lnTo>
                  <a:lnTo>
                    <a:pt x="1763" y="2756"/>
                  </a:lnTo>
                  <a:lnTo>
                    <a:pt x="1782" y="2759"/>
                  </a:lnTo>
                  <a:lnTo>
                    <a:pt x="1801" y="2763"/>
                  </a:lnTo>
                  <a:lnTo>
                    <a:pt x="1821" y="2766"/>
                  </a:lnTo>
                  <a:lnTo>
                    <a:pt x="1841" y="2770"/>
                  </a:lnTo>
                  <a:lnTo>
                    <a:pt x="1862" y="2774"/>
                  </a:lnTo>
                  <a:lnTo>
                    <a:pt x="1881" y="2778"/>
                  </a:lnTo>
                  <a:lnTo>
                    <a:pt x="1901" y="2781"/>
                  </a:lnTo>
                  <a:lnTo>
                    <a:pt x="1920" y="2785"/>
                  </a:lnTo>
                  <a:lnTo>
                    <a:pt x="1940" y="2787"/>
                  </a:lnTo>
                  <a:lnTo>
                    <a:pt x="1957" y="2790"/>
                  </a:lnTo>
                  <a:lnTo>
                    <a:pt x="1974" y="2792"/>
                  </a:lnTo>
                  <a:lnTo>
                    <a:pt x="1989" y="2794"/>
                  </a:lnTo>
                  <a:lnTo>
                    <a:pt x="2003" y="2795"/>
                  </a:lnTo>
                  <a:lnTo>
                    <a:pt x="2016" y="2797"/>
                  </a:lnTo>
                  <a:lnTo>
                    <a:pt x="2031" y="2799"/>
                  </a:lnTo>
                  <a:lnTo>
                    <a:pt x="2047" y="2801"/>
                  </a:lnTo>
                  <a:lnTo>
                    <a:pt x="2065" y="2801"/>
                  </a:lnTo>
                  <a:lnTo>
                    <a:pt x="2084" y="2803"/>
                  </a:lnTo>
                  <a:lnTo>
                    <a:pt x="2104" y="2805"/>
                  </a:lnTo>
                  <a:lnTo>
                    <a:pt x="2124" y="2807"/>
                  </a:lnTo>
                  <a:lnTo>
                    <a:pt x="2145" y="2807"/>
                  </a:lnTo>
                  <a:lnTo>
                    <a:pt x="2166" y="2809"/>
                  </a:lnTo>
                  <a:lnTo>
                    <a:pt x="2187" y="2811"/>
                  </a:lnTo>
                  <a:lnTo>
                    <a:pt x="2207" y="2812"/>
                  </a:lnTo>
                  <a:lnTo>
                    <a:pt x="2227" y="2812"/>
                  </a:lnTo>
                  <a:lnTo>
                    <a:pt x="2246" y="2814"/>
                  </a:lnTo>
                  <a:lnTo>
                    <a:pt x="2265" y="2814"/>
                  </a:lnTo>
                  <a:lnTo>
                    <a:pt x="2283" y="2816"/>
                  </a:lnTo>
                  <a:lnTo>
                    <a:pt x="2299" y="2816"/>
                  </a:lnTo>
                  <a:lnTo>
                    <a:pt x="2315" y="2818"/>
                  </a:lnTo>
                  <a:lnTo>
                    <a:pt x="2333" y="2818"/>
                  </a:lnTo>
                  <a:lnTo>
                    <a:pt x="2351" y="2818"/>
                  </a:lnTo>
                  <a:lnTo>
                    <a:pt x="2371" y="2818"/>
                  </a:lnTo>
                  <a:lnTo>
                    <a:pt x="2391" y="2820"/>
                  </a:lnTo>
                  <a:lnTo>
                    <a:pt x="2411" y="2820"/>
                  </a:lnTo>
                  <a:lnTo>
                    <a:pt x="2432" y="2820"/>
                  </a:lnTo>
                  <a:lnTo>
                    <a:pt x="2454" y="2820"/>
                  </a:lnTo>
                  <a:lnTo>
                    <a:pt x="2474" y="2822"/>
                  </a:lnTo>
                  <a:lnTo>
                    <a:pt x="2494" y="2822"/>
                  </a:lnTo>
                  <a:lnTo>
                    <a:pt x="2513" y="2822"/>
                  </a:lnTo>
                  <a:lnTo>
                    <a:pt x="2533" y="2822"/>
                  </a:lnTo>
                  <a:lnTo>
                    <a:pt x="2550" y="2822"/>
                  </a:lnTo>
                  <a:lnTo>
                    <a:pt x="2567" y="2822"/>
                  </a:lnTo>
                  <a:lnTo>
                    <a:pt x="2582" y="2822"/>
                  </a:lnTo>
                  <a:lnTo>
                    <a:pt x="2597" y="2822"/>
                  </a:lnTo>
                  <a:lnTo>
                    <a:pt x="2607" y="2822"/>
                  </a:lnTo>
                  <a:lnTo>
                    <a:pt x="2615" y="2822"/>
                  </a:lnTo>
                  <a:lnTo>
                    <a:pt x="2621" y="2822"/>
                  </a:lnTo>
                  <a:lnTo>
                    <a:pt x="2626" y="2822"/>
                  </a:lnTo>
                  <a:lnTo>
                    <a:pt x="2628" y="2822"/>
                  </a:lnTo>
                  <a:lnTo>
                    <a:pt x="2631" y="2822"/>
                  </a:lnTo>
                  <a:lnTo>
                    <a:pt x="2633" y="2822"/>
                  </a:lnTo>
                  <a:lnTo>
                    <a:pt x="2637" y="2822"/>
                  </a:lnTo>
                  <a:lnTo>
                    <a:pt x="2640" y="2822"/>
                  </a:lnTo>
                  <a:lnTo>
                    <a:pt x="2645" y="2822"/>
                  </a:lnTo>
                  <a:lnTo>
                    <a:pt x="2651" y="2822"/>
                  </a:lnTo>
                  <a:lnTo>
                    <a:pt x="2660" y="2822"/>
                  </a:lnTo>
                  <a:lnTo>
                    <a:pt x="2671" y="2822"/>
                  </a:lnTo>
                  <a:lnTo>
                    <a:pt x="2687" y="2822"/>
                  </a:lnTo>
                  <a:lnTo>
                    <a:pt x="2705" y="2822"/>
                  </a:lnTo>
                  <a:lnTo>
                    <a:pt x="2728" y="2822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4880" y="1787400"/>
              <a:ext cx="3471840" cy="3576600"/>
            </a:xfrm>
            <a:custGeom>
              <a:avLst/>
              <a:gdLst/>
              <a:ahLst/>
              <a:rect l="l" t="t" r="r" b="b"/>
              <a:pathLst>
                <a:path w="2187" h="2253">
                  <a:moveTo>
                    <a:pt x="0" y="0"/>
                  </a:moveTo>
                  <a:lnTo>
                    <a:pt x="2" y="19"/>
                  </a:lnTo>
                  <a:lnTo>
                    <a:pt x="4" y="34"/>
                  </a:lnTo>
                  <a:lnTo>
                    <a:pt x="4" y="46"/>
                  </a:lnTo>
                  <a:lnTo>
                    <a:pt x="6" y="55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9" y="88"/>
                  </a:lnTo>
                  <a:lnTo>
                    <a:pt x="10" y="92"/>
                  </a:lnTo>
                  <a:lnTo>
                    <a:pt x="11" y="99"/>
                  </a:lnTo>
                  <a:lnTo>
                    <a:pt x="13" y="108"/>
                  </a:lnTo>
                  <a:lnTo>
                    <a:pt x="14" y="120"/>
                  </a:lnTo>
                  <a:lnTo>
                    <a:pt x="15" y="135"/>
                  </a:lnTo>
                  <a:lnTo>
                    <a:pt x="18" y="152"/>
                  </a:lnTo>
                  <a:lnTo>
                    <a:pt x="22" y="172"/>
                  </a:lnTo>
                  <a:lnTo>
                    <a:pt x="26" y="194"/>
                  </a:lnTo>
                  <a:lnTo>
                    <a:pt x="30" y="217"/>
                  </a:lnTo>
                  <a:lnTo>
                    <a:pt x="36" y="243"/>
                  </a:lnTo>
                  <a:lnTo>
                    <a:pt x="42" y="269"/>
                  </a:lnTo>
                  <a:lnTo>
                    <a:pt x="47" y="298"/>
                  </a:lnTo>
                  <a:lnTo>
                    <a:pt x="53" y="326"/>
                  </a:lnTo>
                  <a:lnTo>
                    <a:pt x="59" y="356"/>
                  </a:lnTo>
                  <a:lnTo>
                    <a:pt x="66" y="385"/>
                  </a:lnTo>
                  <a:lnTo>
                    <a:pt x="72" y="414"/>
                  </a:lnTo>
                  <a:lnTo>
                    <a:pt x="80" y="443"/>
                  </a:lnTo>
                  <a:lnTo>
                    <a:pt x="86" y="471"/>
                  </a:lnTo>
                  <a:lnTo>
                    <a:pt x="93" y="498"/>
                  </a:lnTo>
                  <a:lnTo>
                    <a:pt x="99" y="526"/>
                  </a:lnTo>
                  <a:lnTo>
                    <a:pt x="106" y="554"/>
                  </a:lnTo>
                  <a:lnTo>
                    <a:pt x="114" y="584"/>
                  </a:lnTo>
                  <a:lnTo>
                    <a:pt x="123" y="614"/>
                  </a:lnTo>
                  <a:lnTo>
                    <a:pt x="132" y="646"/>
                  </a:lnTo>
                  <a:lnTo>
                    <a:pt x="141" y="676"/>
                  </a:lnTo>
                  <a:lnTo>
                    <a:pt x="151" y="706"/>
                  </a:lnTo>
                  <a:lnTo>
                    <a:pt x="160" y="736"/>
                  </a:lnTo>
                  <a:lnTo>
                    <a:pt x="168" y="766"/>
                  </a:lnTo>
                  <a:lnTo>
                    <a:pt x="178" y="794"/>
                  </a:lnTo>
                  <a:lnTo>
                    <a:pt x="186" y="822"/>
                  </a:lnTo>
                  <a:lnTo>
                    <a:pt x="196" y="846"/>
                  </a:lnTo>
                  <a:lnTo>
                    <a:pt x="203" y="870"/>
                  </a:lnTo>
                  <a:lnTo>
                    <a:pt x="211" y="890"/>
                  </a:lnTo>
                  <a:lnTo>
                    <a:pt x="218" y="908"/>
                  </a:lnTo>
                  <a:lnTo>
                    <a:pt x="225" y="922"/>
                  </a:lnTo>
                  <a:lnTo>
                    <a:pt x="230" y="938"/>
                  </a:lnTo>
                  <a:lnTo>
                    <a:pt x="238" y="954"/>
                  </a:lnTo>
                  <a:lnTo>
                    <a:pt x="246" y="972"/>
                  </a:lnTo>
                  <a:lnTo>
                    <a:pt x="255" y="990"/>
                  </a:lnTo>
                  <a:lnTo>
                    <a:pt x="264" y="1012"/>
                  </a:lnTo>
                  <a:lnTo>
                    <a:pt x="274" y="1034"/>
                  </a:lnTo>
                  <a:lnTo>
                    <a:pt x="284" y="1056"/>
                  </a:lnTo>
                  <a:lnTo>
                    <a:pt x="295" y="1078"/>
                  </a:lnTo>
                  <a:lnTo>
                    <a:pt x="304" y="1102"/>
                  </a:lnTo>
                  <a:lnTo>
                    <a:pt x="316" y="1125"/>
                  </a:lnTo>
                  <a:lnTo>
                    <a:pt x="326" y="1148"/>
                  </a:lnTo>
                  <a:lnTo>
                    <a:pt x="337" y="1170"/>
                  </a:lnTo>
                  <a:lnTo>
                    <a:pt x="346" y="1193"/>
                  </a:lnTo>
                  <a:lnTo>
                    <a:pt x="356" y="1213"/>
                  </a:lnTo>
                  <a:lnTo>
                    <a:pt x="365" y="1233"/>
                  </a:lnTo>
                  <a:lnTo>
                    <a:pt x="375" y="1250"/>
                  </a:lnTo>
                  <a:lnTo>
                    <a:pt x="382" y="1270"/>
                  </a:lnTo>
                  <a:lnTo>
                    <a:pt x="392" y="1289"/>
                  </a:lnTo>
                  <a:lnTo>
                    <a:pt x="401" y="1309"/>
                  </a:lnTo>
                  <a:lnTo>
                    <a:pt x="412" y="1330"/>
                  </a:lnTo>
                  <a:lnTo>
                    <a:pt x="421" y="1352"/>
                  </a:lnTo>
                  <a:lnTo>
                    <a:pt x="432" y="1373"/>
                  </a:lnTo>
                  <a:lnTo>
                    <a:pt x="443" y="1396"/>
                  </a:lnTo>
                  <a:lnTo>
                    <a:pt x="454" y="1416"/>
                  </a:lnTo>
                  <a:lnTo>
                    <a:pt x="463" y="1438"/>
                  </a:lnTo>
                  <a:lnTo>
                    <a:pt x="474" y="1458"/>
                  </a:lnTo>
                  <a:lnTo>
                    <a:pt x="483" y="1478"/>
                  </a:lnTo>
                  <a:lnTo>
                    <a:pt x="493" y="1496"/>
                  </a:lnTo>
                  <a:lnTo>
                    <a:pt x="502" y="1514"/>
                  </a:lnTo>
                  <a:lnTo>
                    <a:pt x="510" y="1530"/>
                  </a:lnTo>
                  <a:lnTo>
                    <a:pt x="518" y="1544"/>
                  </a:lnTo>
                  <a:lnTo>
                    <a:pt x="525" y="1556"/>
                  </a:lnTo>
                  <a:lnTo>
                    <a:pt x="531" y="1568"/>
                  </a:lnTo>
                  <a:lnTo>
                    <a:pt x="538" y="1582"/>
                  </a:lnTo>
                  <a:lnTo>
                    <a:pt x="547" y="1596"/>
                  </a:lnTo>
                  <a:lnTo>
                    <a:pt x="557" y="1610"/>
                  </a:lnTo>
                  <a:lnTo>
                    <a:pt x="566" y="1627"/>
                  </a:lnTo>
                  <a:lnTo>
                    <a:pt x="578" y="1642"/>
                  </a:lnTo>
                  <a:lnTo>
                    <a:pt x="589" y="1660"/>
                  </a:lnTo>
                  <a:lnTo>
                    <a:pt x="601" y="1675"/>
                  </a:lnTo>
                  <a:lnTo>
                    <a:pt x="612" y="1692"/>
                  </a:lnTo>
                  <a:lnTo>
                    <a:pt x="624" y="1709"/>
                  </a:lnTo>
                  <a:lnTo>
                    <a:pt x="636" y="1726"/>
                  </a:lnTo>
                  <a:lnTo>
                    <a:pt x="649" y="1740"/>
                  </a:lnTo>
                  <a:lnTo>
                    <a:pt x="660" y="1756"/>
                  </a:lnTo>
                  <a:lnTo>
                    <a:pt x="672" y="1769"/>
                  </a:lnTo>
                  <a:lnTo>
                    <a:pt x="683" y="1782"/>
                  </a:lnTo>
                  <a:lnTo>
                    <a:pt x="694" y="1794"/>
                  </a:lnTo>
                  <a:lnTo>
                    <a:pt x="704" y="1806"/>
                  </a:lnTo>
                  <a:lnTo>
                    <a:pt x="716" y="1818"/>
                  </a:lnTo>
                  <a:lnTo>
                    <a:pt x="728" y="1831"/>
                  </a:lnTo>
                  <a:lnTo>
                    <a:pt x="741" y="1844"/>
                  </a:lnTo>
                  <a:lnTo>
                    <a:pt x="754" y="1858"/>
                  </a:lnTo>
                  <a:lnTo>
                    <a:pt x="769" y="1872"/>
                  </a:lnTo>
                  <a:lnTo>
                    <a:pt x="784" y="1885"/>
                  </a:lnTo>
                  <a:lnTo>
                    <a:pt x="799" y="1898"/>
                  </a:lnTo>
                  <a:lnTo>
                    <a:pt x="814" y="1912"/>
                  </a:lnTo>
                  <a:lnTo>
                    <a:pt x="828" y="1925"/>
                  </a:lnTo>
                  <a:lnTo>
                    <a:pt x="842" y="1938"/>
                  </a:lnTo>
                  <a:lnTo>
                    <a:pt x="857" y="1950"/>
                  </a:lnTo>
                  <a:lnTo>
                    <a:pt x="870" y="1961"/>
                  </a:lnTo>
                  <a:lnTo>
                    <a:pt x="883" y="1970"/>
                  </a:lnTo>
                  <a:lnTo>
                    <a:pt x="894" y="1980"/>
                  </a:lnTo>
                  <a:lnTo>
                    <a:pt x="905" y="1986"/>
                  </a:lnTo>
                  <a:lnTo>
                    <a:pt x="914" y="1994"/>
                  </a:lnTo>
                  <a:lnTo>
                    <a:pt x="925" y="2001"/>
                  </a:lnTo>
                  <a:lnTo>
                    <a:pt x="936" y="2009"/>
                  </a:lnTo>
                  <a:lnTo>
                    <a:pt x="947" y="2016"/>
                  </a:lnTo>
                  <a:lnTo>
                    <a:pt x="956" y="2023"/>
                  </a:lnTo>
                  <a:lnTo>
                    <a:pt x="968" y="2031"/>
                  </a:lnTo>
                  <a:lnTo>
                    <a:pt x="978" y="2038"/>
                  </a:lnTo>
                  <a:lnTo>
                    <a:pt x="989" y="2044"/>
                  </a:lnTo>
                  <a:lnTo>
                    <a:pt x="999" y="2051"/>
                  </a:lnTo>
                  <a:lnTo>
                    <a:pt x="1009" y="2058"/>
                  </a:lnTo>
                  <a:lnTo>
                    <a:pt x="1017" y="2063"/>
                  </a:lnTo>
                  <a:lnTo>
                    <a:pt x="1026" y="2068"/>
                  </a:lnTo>
                  <a:lnTo>
                    <a:pt x="1032" y="2074"/>
                  </a:lnTo>
                  <a:lnTo>
                    <a:pt x="1039" y="2078"/>
                  </a:lnTo>
                  <a:lnTo>
                    <a:pt x="1044" y="2081"/>
                  </a:lnTo>
                  <a:lnTo>
                    <a:pt x="1049" y="2082"/>
                  </a:lnTo>
                  <a:lnTo>
                    <a:pt x="1052" y="2086"/>
                  </a:lnTo>
                  <a:lnTo>
                    <a:pt x="1057" y="2088"/>
                  </a:lnTo>
                  <a:lnTo>
                    <a:pt x="1062" y="2092"/>
                  </a:lnTo>
                  <a:lnTo>
                    <a:pt x="1069" y="2094"/>
                  </a:lnTo>
                  <a:lnTo>
                    <a:pt x="1076" y="2098"/>
                  </a:lnTo>
                  <a:lnTo>
                    <a:pt x="1083" y="2101"/>
                  </a:lnTo>
                  <a:lnTo>
                    <a:pt x="1090" y="2105"/>
                  </a:lnTo>
                  <a:lnTo>
                    <a:pt x="1100" y="2108"/>
                  </a:lnTo>
                  <a:lnTo>
                    <a:pt x="1107" y="2111"/>
                  </a:lnTo>
                  <a:lnTo>
                    <a:pt x="1117" y="2115"/>
                  </a:lnTo>
                  <a:lnTo>
                    <a:pt x="1125" y="2119"/>
                  </a:lnTo>
                  <a:lnTo>
                    <a:pt x="1134" y="2122"/>
                  </a:lnTo>
                  <a:lnTo>
                    <a:pt x="1142" y="2126"/>
                  </a:lnTo>
                  <a:lnTo>
                    <a:pt x="1151" y="2129"/>
                  </a:lnTo>
                  <a:lnTo>
                    <a:pt x="1158" y="2132"/>
                  </a:lnTo>
                  <a:lnTo>
                    <a:pt x="1168" y="2134"/>
                  </a:lnTo>
                  <a:lnTo>
                    <a:pt x="1175" y="2138"/>
                  </a:lnTo>
                  <a:lnTo>
                    <a:pt x="1185" y="2140"/>
                  </a:lnTo>
                  <a:lnTo>
                    <a:pt x="1196" y="2144"/>
                  </a:lnTo>
                  <a:lnTo>
                    <a:pt x="1208" y="2147"/>
                  </a:lnTo>
                  <a:lnTo>
                    <a:pt x="1220" y="2151"/>
                  </a:lnTo>
                  <a:lnTo>
                    <a:pt x="1233" y="2155"/>
                  </a:lnTo>
                  <a:lnTo>
                    <a:pt x="1247" y="2159"/>
                  </a:lnTo>
                  <a:lnTo>
                    <a:pt x="1262" y="2162"/>
                  </a:lnTo>
                  <a:lnTo>
                    <a:pt x="1276" y="2167"/>
                  </a:lnTo>
                  <a:lnTo>
                    <a:pt x="1291" y="2171"/>
                  </a:lnTo>
                  <a:lnTo>
                    <a:pt x="1305" y="2175"/>
                  </a:lnTo>
                  <a:lnTo>
                    <a:pt x="1320" y="2179"/>
                  </a:lnTo>
                  <a:lnTo>
                    <a:pt x="1333" y="2182"/>
                  </a:lnTo>
                  <a:lnTo>
                    <a:pt x="1348" y="2186"/>
                  </a:lnTo>
                  <a:lnTo>
                    <a:pt x="1360" y="2189"/>
                  </a:lnTo>
                  <a:lnTo>
                    <a:pt x="1373" y="2191"/>
                  </a:lnTo>
                  <a:lnTo>
                    <a:pt x="1385" y="2195"/>
                  </a:lnTo>
                  <a:lnTo>
                    <a:pt x="1398" y="2197"/>
                  </a:lnTo>
                  <a:lnTo>
                    <a:pt x="1412" y="2200"/>
                  </a:lnTo>
                  <a:lnTo>
                    <a:pt x="1428" y="2202"/>
                  </a:lnTo>
                  <a:lnTo>
                    <a:pt x="1442" y="2206"/>
                  </a:lnTo>
                  <a:lnTo>
                    <a:pt x="1459" y="2208"/>
                  </a:lnTo>
                  <a:lnTo>
                    <a:pt x="1475" y="2212"/>
                  </a:lnTo>
                  <a:lnTo>
                    <a:pt x="1492" y="2214"/>
                  </a:lnTo>
                  <a:lnTo>
                    <a:pt x="1507" y="2217"/>
                  </a:lnTo>
                  <a:lnTo>
                    <a:pt x="1524" y="2219"/>
                  </a:lnTo>
                  <a:lnTo>
                    <a:pt x="1538" y="2222"/>
                  </a:lnTo>
                  <a:lnTo>
                    <a:pt x="1554" y="2224"/>
                  </a:lnTo>
                  <a:lnTo>
                    <a:pt x="1567" y="2226"/>
                  </a:lnTo>
                  <a:lnTo>
                    <a:pt x="1581" y="2228"/>
                  </a:lnTo>
                  <a:lnTo>
                    <a:pt x="1593" y="2230"/>
                  </a:lnTo>
                  <a:lnTo>
                    <a:pt x="1605" y="2230"/>
                  </a:lnTo>
                  <a:lnTo>
                    <a:pt x="1615" y="2232"/>
                  </a:lnTo>
                  <a:lnTo>
                    <a:pt x="1626" y="2234"/>
                  </a:lnTo>
                  <a:lnTo>
                    <a:pt x="1639" y="2235"/>
                  </a:lnTo>
                  <a:lnTo>
                    <a:pt x="1654" y="2235"/>
                  </a:lnTo>
                  <a:lnTo>
                    <a:pt x="1669" y="2237"/>
                  </a:lnTo>
                  <a:lnTo>
                    <a:pt x="1684" y="2238"/>
                  </a:lnTo>
                  <a:lnTo>
                    <a:pt x="1701" y="2240"/>
                  </a:lnTo>
                  <a:lnTo>
                    <a:pt x="1718" y="2240"/>
                  </a:lnTo>
                  <a:lnTo>
                    <a:pt x="1734" y="2242"/>
                  </a:lnTo>
                  <a:lnTo>
                    <a:pt x="1751" y="2242"/>
                  </a:lnTo>
                  <a:lnTo>
                    <a:pt x="1768" y="2244"/>
                  </a:lnTo>
                  <a:lnTo>
                    <a:pt x="1784" y="2244"/>
                  </a:lnTo>
                  <a:lnTo>
                    <a:pt x="1799" y="2246"/>
                  </a:lnTo>
                  <a:lnTo>
                    <a:pt x="1815" y="2246"/>
                  </a:lnTo>
                  <a:lnTo>
                    <a:pt x="1829" y="2247"/>
                  </a:lnTo>
                  <a:lnTo>
                    <a:pt x="1843" y="2247"/>
                  </a:lnTo>
                  <a:lnTo>
                    <a:pt x="1856" y="2248"/>
                  </a:lnTo>
                  <a:lnTo>
                    <a:pt x="1869" y="2248"/>
                  </a:lnTo>
                  <a:lnTo>
                    <a:pt x="1884" y="2248"/>
                  </a:lnTo>
                  <a:lnTo>
                    <a:pt x="1899" y="2248"/>
                  </a:lnTo>
                  <a:lnTo>
                    <a:pt x="1915" y="2250"/>
                  </a:lnTo>
                  <a:lnTo>
                    <a:pt x="1932" y="2250"/>
                  </a:lnTo>
                  <a:lnTo>
                    <a:pt x="1948" y="2250"/>
                  </a:lnTo>
                  <a:lnTo>
                    <a:pt x="1965" y="2250"/>
                  </a:lnTo>
                  <a:lnTo>
                    <a:pt x="1980" y="2252"/>
                  </a:lnTo>
                  <a:lnTo>
                    <a:pt x="1997" y="2252"/>
                  </a:lnTo>
                  <a:lnTo>
                    <a:pt x="2012" y="2252"/>
                  </a:lnTo>
                  <a:lnTo>
                    <a:pt x="2028" y="2252"/>
                  </a:lnTo>
                  <a:lnTo>
                    <a:pt x="2042" y="2252"/>
                  </a:lnTo>
                  <a:lnTo>
                    <a:pt x="2056" y="2252"/>
                  </a:lnTo>
                  <a:lnTo>
                    <a:pt x="2068" y="2252"/>
                  </a:lnTo>
                  <a:lnTo>
                    <a:pt x="2080" y="2252"/>
                  </a:lnTo>
                  <a:lnTo>
                    <a:pt x="2088" y="2252"/>
                  </a:lnTo>
                  <a:lnTo>
                    <a:pt x="2094" y="2252"/>
                  </a:lnTo>
                  <a:lnTo>
                    <a:pt x="2099" y="2252"/>
                  </a:lnTo>
                  <a:lnTo>
                    <a:pt x="2102" y="2252"/>
                  </a:lnTo>
                  <a:lnTo>
                    <a:pt x="2104" y="2252"/>
                  </a:lnTo>
                  <a:lnTo>
                    <a:pt x="2107" y="2252"/>
                  </a:lnTo>
                  <a:lnTo>
                    <a:pt x="2109" y="2252"/>
                  </a:lnTo>
                  <a:lnTo>
                    <a:pt x="2112" y="2252"/>
                  </a:lnTo>
                  <a:lnTo>
                    <a:pt x="2114" y="2252"/>
                  </a:lnTo>
                  <a:lnTo>
                    <a:pt x="2118" y="2252"/>
                  </a:lnTo>
                  <a:lnTo>
                    <a:pt x="2123" y="2252"/>
                  </a:lnTo>
                  <a:lnTo>
                    <a:pt x="2131" y="2252"/>
                  </a:lnTo>
                  <a:lnTo>
                    <a:pt x="2140" y="2252"/>
                  </a:lnTo>
                  <a:lnTo>
                    <a:pt x="2152" y="2252"/>
                  </a:lnTo>
                  <a:lnTo>
                    <a:pt x="2167" y="2252"/>
                  </a:lnTo>
                  <a:lnTo>
                    <a:pt x="2186" y="2252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924680" y="67057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9051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4800" y="837720"/>
            <a:ext cx="9453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sujeto a la restricción presupuestar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19480" y="4527720"/>
            <a:ext cx="3717720" cy="2520720"/>
          </a:xfrm>
          <a:custGeom>
            <a:avLst/>
            <a:gdLst/>
            <a:ahLst/>
            <a:rect l="l" t="t" r="r" b="b"/>
            <a:pathLst>
              <a:path w="2342" h="1588">
                <a:moveTo>
                  <a:pt x="2341" y="1587"/>
                </a:moveTo>
                <a:lnTo>
                  <a:pt x="2341" y="1587"/>
                </a:lnTo>
                <a:lnTo>
                  <a:pt x="0" y="1587"/>
                </a:lnTo>
                <a:lnTo>
                  <a:pt x="0" y="0"/>
                </a:lnTo>
                <a:lnTo>
                  <a:pt x="2341" y="1587"/>
                </a:lnTo>
                <a:lnTo>
                  <a:pt x="2341" y="1587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079720"/>
            <a:ext cx="63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11560" y="2571840"/>
            <a:ext cx="4356000" cy="4471920"/>
          </a:xfrm>
          <a:custGeom>
            <a:avLst/>
            <a:gdLst/>
            <a:ahLst/>
            <a:rect l="l" t="t" r="r" b="b"/>
            <a:pathLst>
              <a:path w="2744" h="2817">
                <a:moveTo>
                  <a:pt x="0" y="0"/>
                </a:moveTo>
                <a:lnTo>
                  <a:pt x="0" y="2816"/>
                </a:lnTo>
                <a:lnTo>
                  <a:pt x="2743" y="2816"/>
                </a:lnTo>
              </a:path>
            </a:pathLst>
          </a:custGeom>
          <a:noFill/>
          <a:ln w="4752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6858000"/>
            <a:ext cx="636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83808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te es conocido como el problema primal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32200" y="2800440"/>
            <a:ext cx="2905200" cy="3301920"/>
          </a:xfrm>
          <a:custGeom>
            <a:avLst/>
            <a:gdLst/>
            <a:ahLst/>
            <a:rect l="l" t="t" r="r" b="b"/>
            <a:pathLst>
              <a:path w="1830" h="2080">
                <a:moveTo>
                  <a:pt x="0" y="0"/>
                </a:moveTo>
                <a:lnTo>
                  <a:pt x="1" y="19"/>
                </a:lnTo>
                <a:lnTo>
                  <a:pt x="2" y="32"/>
                </a:lnTo>
                <a:lnTo>
                  <a:pt x="2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7"/>
                </a:lnTo>
                <a:lnTo>
                  <a:pt x="7" y="69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7" y="77"/>
                </a:lnTo>
                <a:lnTo>
                  <a:pt x="7" y="81"/>
                </a:lnTo>
                <a:lnTo>
                  <a:pt x="8" y="86"/>
                </a:lnTo>
                <a:lnTo>
                  <a:pt x="9" y="92"/>
                </a:lnTo>
                <a:lnTo>
                  <a:pt x="11" y="100"/>
                </a:lnTo>
                <a:lnTo>
                  <a:pt x="11" y="111"/>
                </a:lnTo>
                <a:lnTo>
                  <a:pt x="13" y="125"/>
                </a:lnTo>
                <a:lnTo>
                  <a:pt x="15" y="141"/>
                </a:lnTo>
                <a:lnTo>
                  <a:pt x="19" y="159"/>
                </a:lnTo>
                <a:lnTo>
                  <a:pt x="22" y="180"/>
                </a:lnTo>
                <a:lnTo>
                  <a:pt x="25" y="202"/>
                </a:lnTo>
                <a:lnTo>
                  <a:pt x="29" y="225"/>
                </a:lnTo>
                <a:lnTo>
                  <a:pt x="35" y="250"/>
                </a:lnTo>
                <a:lnTo>
                  <a:pt x="39" y="276"/>
                </a:lnTo>
                <a:lnTo>
                  <a:pt x="45" y="302"/>
                </a:lnTo>
                <a:lnTo>
                  <a:pt x="50" y="330"/>
                </a:lnTo>
                <a:lnTo>
                  <a:pt x="56" y="356"/>
                </a:lnTo>
                <a:lnTo>
                  <a:pt x="62" y="384"/>
                </a:lnTo>
                <a:lnTo>
                  <a:pt x="67" y="410"/>
                </a:lnTo>
                <a:lnTo>
                  <a:pt x="73" y="436"/>
                </a:lnTo>
                <a:lnTo>
                  <a:pt x="79" y="460"/>
                </a:lnTo>
                <a:lnTo>
                  <a:pt x="84" y="486"/>
                </a:lnTo>
                <a:lnTo>
                  <a:pt x="90" y="512"/>
                </a:lnTo>
                <a:lnTo>
                  <a:pt x="96" y="540"/>
                </a:lnTo>
                <a:lnTo>
                  <a:pt x="103" y="568"/>
                </a:lnTo>
                <a:lnTo>
                  <a:pt x="110" y="597"/>
                </a:lnTo>
                <a:lnTo>
                  <a:pt x="118" y="625"/>
                </a:lnTo>
                <a:lnTo>
                  <a:pt x="125" y="653"/>
                </a:lnTo>
                <a:lnTo>
                  <a:pt x="133" y="681"/>
                </a:lnTo>
                <a:lnTo>
                  <a:pt x="140" y="709"/>
                </a:lnTo>
                <a:lnTo>
                  <a:pt x="148" y="734"/>
                </a:lnTo>
                <a:lnTo>
                  <a:pt x="155" y="759"/>
                </a:lnTo>
                <a:lnTo>
                  <a:pt x="163" y="782"/>
                </a:lnTo>
                <a:lnTo>
                  <a:pt x="168" y="804"/>
                </a:lnTo>
                <a:lnTo>
                  <a:pt x="176" y="823"/>
                </a:lnTo>
                <a:lnTo>
                  <a:pt x="181" y="839"/>
                </a:lnTo>
                <a:lnTo>
                  <a:pt x="188" y="852"/>
                </a:lnTo>
                <a:lnTo>
                  <a:pt x="193" y="866"/>
                </a:lnTo>
                <a:lnTo>
                  <a:pt x="198" y="881"/>
                </a:lnTo>
                <a:lnTo>
                  <a:pt x="205" y="898"/>
                </a:lnTo>
                <a:lnTo>
                  <a:pt x="213" y="915"/>
                </a:lnTo>
                <a:lnTo>
                  <a:pt x="220" y="935"/>
                </a:lnTo>
                <a:lnTo>
                  <a:pt x="229" y="955"/>
                </a:lnTo>
                <a:lnTo>
                  <a:pt x="237" y="975"/>
                </a:lnTo>
                <a:lnTo>
                  <a:pt x="247" y="996"/>
                </a:lnTo>
                <a:lnTo>
                  <a:pt x="255" y="1018"/>
                </a:lnTo>
                <a:lnTo>
                  <a:pt x="264" y="1040"/>
                </a:lnTo>
                <a:lnTo>
                  <a:pt x="273" y="1061"/>
                </a:lnTo>
                <a:lnTo>
                  <a:pt x="282" y="1081"/>
                </a:lnTo>
                <a:lnTo>
                  <a:pt x="289" y="1102"/>
                </a:lnTo>
                <a:lnTo>
                  <a:pt x="299" y="1121"/>
                </a:lnTo>
                <a:lnTo>
                  <a:pt x="306" y="1139"/>
                </a:lnTo>
                <a:lnTo>
                  <a:pt x="314" y="1155"/>
                </a:lnTo>
                <a:lnTo>
                  <a:pt x="321" y="1173"/>
                </a:lnTo>
                <a:lnTo>
                  <a:pt x="328" y="1190"/>
                </a:lnTo>
                <a:lnTo>
                  <a:pt x="335" y="1209"/>
                </a:lnTo>
                <a:lnTo>
                  <a:pt x="344" y="1228"/>
                </a:lnTo>
                <a:lnTo>
                  <a:pt x="352" y="1248"/>
                </a:lnTo>
                <a:lnTo>
                  <a:pt x="361" y="1268"/>
                </a:lnTo>
                <a:lnTo>
                  <a:pt x="371" y="1289"/>
                </a:lnTo>
                <a:lnTo>
                  <a:pt x="380" y="1308"/>
                </a:lnTo>
                <a:lnTo>
                  <a:pt x="387" y="1328"/>
                </a:lnTo>
                <a:lnTo>
                  <a:pt x="397" y="1347"/>
                </a:lnTo>
                <a:lnTo>
                  <a:pt x="404" y="1366"/>
                </a:lnTo>
                <a:lnTo>
                  <a:pt x="413" y="1383"/>
                </a:lnTo>
                <a:lnTo>
                  <a:pt x="420" y="1399"/>
                </a:lnTo>
                <a:lnTo>
                  <a:pt x="427" y="1413"/>
                </a:lnTo>
                <a:lnTo>
                  <a:pt x="433" y="1426"/>
                </a:lnTo>
                <a:lnTo>
                  <a:pt x="440" y="1436"/>
                </a:lnTo>
                <a:lnTo>
                  <a:pt x="445" y="1448"/>
                </a:lnTo>
                <a:lnTo>
                  <a:pt x="450" y="1460"/>
                </a:lnTo>
                <a:lnTo>
                  <a:pt x="457" y="1474"/>
                </a:lnTo>
                <a:lnTo>
                  <a:pt x="465" y="1487"/>
                </a:lnTo>
                <a:lnTo>
                  <a:pt x="473" y="1502"/>
                </a:lnTo>
                <a:lnTo>
                  <a:pt x="483" y="1517"/>
                </a:lnTo>
                <a:lnTo>
                  <a:pt x="492" y="1532"/>
                </a:lnTo>
                <a:lnTo>
                  <a:pt x="503" y="1547"/>
                </a:lnTo>
                <a:lnTo>
                  <a:pt x="512" y="1563"/>
                </a:lnTo>
                <a:lnTo>
                  <a:pt x="522" y="1578"/>
                </a:lnTo>
                <a:lnTo>
                  <a:pt x="531" y="1593"/>
                </a:lnTo>
                <a:lnTo>
                  <a:pt x="543" y="1607"/>
                </a:lnTo>
                <a:lnTo>
                  <a:pt x="552" y="1622"/>
                </a:lnTo>
                <a:lnTo>
                  <a:pt x="562" y="1634"/>
                </a:lnTo>
                <a:lnTo>
                  <a:pt x="571" y="1646"/>
                </a:lnTo>
                <a:lnTo>
                  <a:pt x="581" y="1657"/>
                </a:lnTo>
                <a:lnTo>
                  <a:pt x="589" y="1668"/>
                </a:lnTo>
                <a:lnTo>
                  <a:pt x="598" y="1679"/>
                </a:lnTo>
                <a:lnTo>
                  <a:pt x="609" y="1692"/>
                </a:lnTo>
                <a:lnTo>
                  <a:pt x="620" y="1703"/>
                </a:lnTo>
                <a:lnTo>
                  <a:pt x="631" y="1716"/>
                </a:lnTo>
                <a:lnTo>
                  <a:pt x="643" y="1728"/>
                </a:lnTo>
                <a:lnTo>
                  <a:pt x="656" y="1742"/>
                </a:lnTo>
                <a:lnTo>
                  <a:pt x="669" y="1753"/>
                </a:lnTo>
                <a:lnTo>
                  <a:pt x="680" y="1766"/>
                </a:lnTo>
                <a:lnTo>
                  <a:pt x="693" y="1778"/>
                </a:lnTo>
                <a:lnTo>
                  <a:pt x="704" y="1790"/>
                </a:lnTo>
                <a:lnTo>
                  <a:pt x="717" y="1801"/>
                </a:lnTo>
                <a:lnTo>
                  <a:pt x="727" y="1812"/>
                </a:lnTo>
                <a:lnTo>
                  <a:pt x="739" y="1820"/>
                </a:lnTo>
                <a:lnTo>
                  <a:pt x="748" y="1828"/>
                </a:lnTo>
                <a:lnTo>
                  <a:pt x="758" y="1835"/>
                </a:lnTo>
                <a:lnTo>
                  <a:pt x="765" y="1843"/>
                </a:lnTo>
                <a:lnTo>
                  <a:pt x="774" y="1849"/>
                </a:lnTo>
                <a:lnTo>
                  <a:pt x="783" y="1856"/>
                </a:lnTo>
                <a:lnTo>
                  <a:pt x="792" y="1862"/>
                </a:lnTo>
                <a:lnTo>
                  <a:pt x="801" y="1870"/>
                </a:lnTo>
                <a:lnTo>
                  <a:pt x="811" y="1875"/>
                </a:lnTo>
                <a:lnTo>
                  <a:pt x="819" y="1882"/>
                </a:lnTo>
                <a:lnTo>
                  <a:pt x="829" y="1888"/>
                </a:lnTo>
                <a:lnTo>
                  <a:pt x="836" y="1894"/>
                </a:lnTo>
                <a:lnTo>
                  <a:pt x="844" y="1900"/>
                </a:lnTo>
                <a:lnTo>
                  <a:pt x="850" y="1906"/>
                </a:lnTo>
                <a:lnTo>
                  <a:pt x="858" y="1910"/>
                </a:lnTo>
                <a:lnTo>
                  <a:pt x="863" y="1915"/>
                </a:lnTo>
                <a:lnTo>
                  <a:pt x="869" y="1919"/>
                </a:lnTo>
                <a:lnTo>
                  <a:pt x="873" y="1922"/>
                </a:lnTo>
                <a:lnTo>
                  <a:pt x="878" y="1924"/>
                </a:lnTo>
                <a:lnTo>
                  <a:pt x="880" y="1927"/>
                </a:lnTo>
                <a:lnTo>
                  <a:pt x="884" y="1929"/>
                </a:lnTo>
                <a:lnTo>
                  <a:pt x="889" y="1931"/>
                </a:lnTo>
                <a:lnTo>
                  <a:pt x="895" y="1933"/>
                </a:lnTo>
                <a:lnTo>
                  <a:pt x="900" y="1937"/>
                </a:lnTo>
                <a:lnTo>
                  <a:pt x="907" y="1939"/>
                </a:lnTo>
                <a:lnTo>
                  <a:pt x="913" y="1943"/>
                </a:lnTo>
                <a:lnTo>
                  <a:pt x="920" y="1945"/>
                </a:lnTo>
                <a:lnTo>
                  <a:pt x="927" y="1949"/>
                </a:lnTo>
                <a:lnTo>
                  <a:pt x="934" y="1952"/>
                </a:lnTo>
                <a:lnTo>
                  <a:pt x="941" y="1956"/>
                </a:lnTo>
                <a:lnTo>
                  <a:pt x="949" y="1958"/>
                </a:lnTo>
                <a:lnTo>
                  <a:pt x="955" y="1962"/>
                </a:lnTo>
                <a:lnTo>
                  <a:pt x="963" y="1964"/>
                </a:lnTo>
                <a:lnTo>
                  <a:pt x="969" y="1968"/>
                </a:lnTo>
                <a:lnTo>
                  <a:pt x="977" y="1969"/>
                </a:lnTo>
                <a:lnTo>
                  <a:pt x="983" y="1973"/>
                </a:lnTo>
                <a:lnTo>
                  <a:pt x="991" y="1976"/>
                </a:lnTo>
                <a:lnTo>
                  <a:pt x="1000" y="1980"/>
                </a:lnTo>
                <a:lnTo>
                  <a:pt x="1011" y="1982"/>
                </a:lnTo>
                <a:lnTo>
                  <a:pt x="1021" y="1986"/>
                </a:lnTo>
                <a:lnTo>
                  <a:pt x="1032" y="1989"/>
                </a:lnTo>
                <a:lnTo>
                  <a:pt x="1043" y="1993"/>
                </a:lnTo>
                <a:lnTo>
                  <a:pt x="1056" y="1996"/>
                </a:lnTo>
                <a:lnTo>
                  <a:pt x="1067" y="2000"/>
                </a:lnTo>
                <a:lnTo>
                  <a:pt x="1081" y="2004"/>
                </a:lnTo>
                <a:lnTo>
                  <a:pt x="1093" y="2007"/>
                </a:lnTo>
                <a:lnTo>
                  <a:pt x="1105" y="2011"/>
                </a:lnTo>
                <a:lnTo>
                  <a:pt x="1117" y="2015"/>
                </a:lnTo>
                <a:lnTo>
                  <a:pt x="1129" y="2018"/>
                </a:lnTo>
                <a:lnTo>
                  <a:pt x="1139" y="2021"/>
                </a:lnTo>
                <a:lnTo>
                  <a:pt x="1151" y="2023"/>
                </a:lnTo>
                <a:lnTo>
                  <a:pt x="1160" y="2027"/>
                </a:lnTo>
                <a:lnTo>
                  <a:pt x="1171" y="2028"/>
                </a:lnTo>
                <a:lnTo>
                  <a:pt x="1182" y="2032"/>
                </a:lnTo>
                <a:lnTo>
                  <a:pt x="1195" y="2034"/>
                </a:lnTo>
                <a:lnTo>
                  <a:pt x="1208" y="2037"/>
                </a:lnTo>
                <a:lnTo>
                  <a:pt x="1221" y="2039"/>
                </a:lnTo>
                <a:lnTo>
                  <a:pt x="1234" y="2042"/>
                </a:lnTo>
                <a:lnTo>
                  <a:pt x="1249" y="2044"/>
                </a:lnTo>
                <a:lnTo>
                  <a:pt x="1262" y="2047"/>
                </a:lnTo>
                <a:lnTo>
                  <a:pt x="1275" y="2049"/>
                </a:lnTo>
                <a:lnTo>
                  <a:pt x="1288" y="2051"/>
                </a:lnTo>
                <a:lnTo>
                  <a:pt x="1301" y="2053"/>
                </a:lnTo>
                <a:lnTo>
                  <a:pt x="1312" y="2055"/>
                </a:lnTo>
                <a:lnTo>
                  <a:pt x="1323" y="2057"/>
                </a:lnTo>
                <a:lnTo>
                  <a:pt x="1333" y="2058"/>
                </a:lnTo>
                <a:lnTo>
                  <a:pt x="1343" y="2058"/>
                </a:lnTo>
                <a:lnTo>
                  <a:pt x="1351" y="2060"/>
                </a:lnTo>
                <a:lnTo>
                  <a:pt x="1361" y="2062"/>
                </a:lnTo>
                <a:lnTo>
                  <a:pt x="1372" y="2064"/>
                </a:lnTo>
                <a:lnTo>
                  <a:pt x="1384" y="2064"/>
                </a:lnTo>
                <a:lnTo>
                  <a:pt x="1396" y="2065"/>
                </a:lnTo>
                <a:lnTo>
                  <a:pt x="1409" y="2065"/>
                </a:lnTo>
                <a:lnTo>
                  <a:pt x="1423" y="2067"/>
                </a:lnTo>
                <a:lnTo>
                  <a:pt x="1437" y="2067"/>
                </a:lnTo>
                <a:lnTo>
                  <a:pt x="1451" y="2069"/>
                </a:lnTo>
                <a:lnTo>
                  <a:pt x="1465" y="2070"/>
                </a:lnTo>
                <a:lnTo>
                  <a:pt x="1478" y="2072"/>
                </a:lnTo>
                <a:lnTo>
                  <a:pt x="1493" y="2072"/>
                </a:lnTo>
                <a:lnTo>
                  <a:pt x="1505" y="2074"/>
                </a:lnTo>
                <a:lnTo>
                  <a:pt x="1518" y="2074"/>
                </a:lnTo>
                <a:lnTo>
                  <a:pt x="1529" y="2075"/>
                </a:lnTo>
                <a:lnTo>
                  <a:pt x="1542" y="2075"/>
                </a:lnTo>
                <a:lnTo>
                  <a:pt x="1552" y="2077"/>
                </a:lnTo>
                <a:lnTo>
                  <a:pt x="1563" y="2077"/>
                </a:lnTo>
                <a:lnTo>
                  <a:pt x="1576" y="2077"/>
                </a:lnTo>
                <a:lnTo>
                  <a:pt x="1589" y="2077"/>
                </a:lnTo>
                <a:lnTo>
                  <a:pt x="1602" y="2078"/>
                </a:lnTo>
                <a:lnTo>
                  <a:pt x="1616" y="2078"/>
                </a:lnTo>
                <a:lnTo>
                  <a:pt x="1630" y="2078"/>
                </a:lnTo>
                <a:lnTo>
                  <a:pt x="1645" y="2078"/>
                </a:lnTo>
                <a:lnTo>
                  <a:pt x="1658" y="2079"/>
                </a:lnTo>
                <a:lnTo>
                  <a:pt x="1671" y="2079"/>
                </a:lnTo>
                <a:lnTo>
                  <a:pt x="1685" y="2079"/>
                </a:lnTo>
                <a:lnTo>
                  <a:pt x="1698" y="2079"/>
                </a:lnTo>
                <a:lnTo>
                  <a:pt x="1709" y="2079"/>
                </a:lnTo>
                <a:lnTo>
                  <a:pt x="1721" y="2079"/>
                </a:lnTo>
                <a:lnTo>
                  <a:pt x="1731" y="2079"/>
                </a:lnTo>
                <a:lnTo>
                  <a:pt x="1741" y="2079"/>
                </a:lnTo>
                <a:lnTo>
                  <a:pt x="1747" y="2079"/>
                </a:lnTo>
                <a:lnTo>
                  <a:pt x="1753" y="2079"/>
                </a:lnTo>
                <a:lnTo>
                  <a:pt x="1757" y="2079"/>
                </a:lnTo>
                <a:lnTo>
                  <a:pt x="1760" y="2079"/>
                </a:lnTo>
                <a:lnTo>
                  <a:pt x="1762" y="2079"/>
                </a:lnTo>
                <a:lnTo>
                  <a:pt x="1764" y="2079"/>
                </a:lnTo>
                <a:lnTo>
                  <a:pt x="1766" y="2079"/>
                </a:lnTo>
                <a:lnTo>
                  <a:pt x="1768" y="2079"/>
                </a:lnTo>
                <a:lnTo>
                  <a:pt x="1769" y="2079"/>
                </a:lnTo>
                <a:lnTo>
                  <a:pt x="1773" y="2079"/>
                </a:lnTo>
                <a:lnTo>
                  <a:pt x="1777" y="2079"/>
                </a:lnTo>
                <a:lnTo>
                  <a:pt x="1783" y="2079"/>
                </a:lnTo>
                <a:lnTo>
                  <a:pt x="1790" y="2079"/>
                </a:lnTo>
                <a:lnTo>
                  <a:pt x="1801" y="2079"/>
                </a:lnTo>
                <a:lnTo>
                  <a:pt x="1813" y="2079"/>
                </a:lnTo>
                <a:lnTo>
                  <a:pt x="1829" y="2079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70040" y="2666880"/>
            <a:ext cx="3399120" cy="4032360"/>
            <a:chOff x="2570040" y="2666880"/>
            <a:chExt cx="3399120" cy="4032360"/>
          </a:xfrm>
        </p:grpSpPr>
        <p:sp>
          <p:nvSpPr>
            <p:cNvPr id="240" name=""/>
            <p:cNvSpPr/>
            <p:nvPr/>
          </p:nvSpPr>
          <p:spPr>
            <a:xfrm>
              <a:off x="2570040" y="3079800"/>
              <a:ext cx="3171960" cy="3619440"/>
            </a:xfrm>
            <a:custGeom>
              <a:avLst/>
              <a:gdLst/>
              <a:ahLst/>
              <a:rect l="l" t="t" r="r" b="b"/>
              <a:pathLst>
                <a:path w="1998" h="2280">
                  <a:moveTo>
                    <a:pt x="0" y="0"/>
                  </a:moveTo>
                  <a:lnTo>
                    <a:pt x="1" y="20"/>
                  </a:lnTo>
                  <a:lnTo>
                    <a:pt x="3" y="35"/>
                  </a:lnTo>
                  <a:lnTo>
                    <a:pt x="3" y="48"/>
                  </a:lnTo>
                  <a:lnTo>
                    <a:pt x="5" y="57"/>
                  </a:lnTo>
                  <a:lnTo>
                    <a:pt x="5" y="65"/>
                  </a:lnTo>
                  <a:lnTo>
                    <a:pt x="6" y="70"/>
                  </a:lnTo>
                  <a:lnTo>
                    <a:pt x="6" y="74"/>
                  </a:lnTo>
                  <a:lnTo>
                    <a:pt x="7" y="76"/>
                  </a:lnTo>
                  <a:lnTo>
                    <a:pt x="7" y="79"/>
                  </a:lnTo>
                  <a:lnTo>
                    <a:pt x="7" y="81"/>
                  </a:lnTo>
                  <a:lnTo>
                    <a:pt x="7" y="84"/>
                  </a:lnTo>
                  <a:lnTo>
                    <a:pt x="8" y="86"/>
                  </a:lnTo>
                  <a:lnTo>
                    <a:pt x="8" y="90"/>
                  </a:lnTo>
                  <a:lnTo>
                    <a:pt x="9" y="94"/>
                  </a:lnTo>
                  <a:lnTo>
                    <a:pt x="9" y="101"/>
                  </a:lnTo>
                  <a:lnTo>
                    <a:pt x="11" y="110"/>
                  </a:lnTo>
                  <a:lnTo>
                    <a:pt x="12" y="122"/>
                  </a:lnTo>
                  <a:lnTo>
                    <a:pt x="14" y="136"/>
                  </a:lnTo>
                  <a:lnTo>
                    <a:pt x="16" y="154"/>
                  </a:lnTo>
                  <a:lnTo>
                    <a:pt x="20" y="174"/>
                  </a:lnTo>
                  <a:lnTo>
                    <a:pt x="24" y="197"/>
                  </a:lnTo>
                  <a:lnTo>
                    <a:pt x="28" y="221"/>
                  </a:lnTo>
                  <a:lnTo>
                    <a:pt x="33" y="247"/>
                  </a:lnTo>
                  <a:lnTo>
                    <a:pt x="38" y="273"/>
                  </a:lnTo>
                  <a:lnTo>
                    <a:pt x="43" y="302"/>
                  </a:lnTo>
                  <a:lnTo>
                    <a:pt x="49" y="331"/>
                  </a:lnTo>
                  <a:lnTo>
                    <a:pt x="54" y="360"/>
                  </a:lnTo>
                  <a:lnTo>
                    <a:pt x="61" y="390"/>
                  </a:lnTo>
                  <a:lnTo>
                    <a:pt x="66" y="420"/>
                  </a:lnTo>
                  <a:lnTo>
                    <a:pt x="72" y="448"/>
                  </a:lnTo>
                  <a:lnTo>
                    <a:pt x="77" y="477"/>
                  </a:lnTo>
                  <a:lnTo>
                    <a:pt x="85" y="504"/>
                  </a:lnTo>
                  <a:lnTo>
                    <a:pt x="91" y="532"/>
                  </a:lnTo>
                  <a:lnTo>
                    <a:pt x="97" y="561"/>
                  </a:lnTo>
                  <a:lnTo>
                    <a:pt x="104" y="592"/>
                  </a:lnTo>
                  <a:lnTo>
                    <a:pt x="112" y="622"/>
                  </a:lnTo>
                  <a:lnTo>
                    <a:pt x="119" y="653"/>
                  </a:lnTo>
                  <a:lnTo>
                    <a:pt x="128" y="684"/>
                  </a:lnTo>
                  <a:lnTo>
                    <a:pt x="135" y="715"/>
                  </a:lnTo>
                  <a:lnTo>
                    <a:pt x="145" y="745"/>
                  </a:lnTo>
                  <a:lnTo>
                    <a:pt x="152" y="776"/>
                  </a:lnTo>
                  <a:lnTo>
                    <a:pt x="161" y="804"/>
                  </a:lnTo>
                  <a:lnTo>
                    <a:pt x="169" y="831"/>
                  </a:lnTo>
                  <a:lnTo>
                    <a:pt x="177" y="856"/>
                  </a:lnTo>
                  <a:lnTo>
                    <a:pt x="184" y="880"/>
                  </a:lnTo>
                  <a:lnTo>
                    <a:pt x="192" y="900"/>
                  </a:lnTo>
                  <a:lnTo>
                    <a:pt x="198" y="919"/>
                  </a:lnTo>
                  <a:lnTo>
                    <a:pt x="205" y="934"/>
                  </a:lnTo>
                  <a:lnTo>
                    <a:pt x="210" y="949"/>
                  </a:lnTo>
                  <a:lnTo>
                    <a:pt x="216" y="965"/>
                  </a:lnTo>
                  <a:lnTo>
                    <a:pt x="223" y="983"/>
                  </a:lnTo>
                  <a:lnTo>
                    <a:pt x="231" y="1003"/>
                  </a:lnTo>
                  <a:lnTo>
                    <a:pt x="239" y="1024"/>
                  </a:lnTo>
                  <a:lnTo>
                    <a:pt x="249" y="1046"/>
                  </a:lnTo>
                  <a:lnTo>
                    <a:pt x="258" y="1068"/>
                  </a:lnTo>
                  <a:lnTo>
                    <a:pt x="268" y="1091"/>
                  </a:lnTo>
                  <a:lnTo>
                    <a:pt x="277" y="1115"/>
                  </a:lnTo>
                  <a:lnTo>
                    <a:pt x="287" y="1138"/>
                  </a:lnTo>
                  <a:lnTo>
                    <a:pt x="296" y="1161"/>
                  </a:lnTo>
                  <a:lnTo>
                    <a:pt x="306" y="1184"/>
                  </a:lnTo>
                  <a:lnTo>
                    <a:pt x="315" y="1206"/>
                  </a:lnTo>
                  <a:lnTo>
                    <a:pt x="324" y="1227"/>
                  </a:lnTo>
                  <a:lnTo>
                    <a:pt x="332" y="1247"/>
                  </a:lnTo>
                  <a:lnTo>
                    <a:pt x="341" y="1265"/>
                  </a:lnTo>
                  <a:lnTo>
                    <a:pt x="349" y="1285"/>
                  </a:lnTo>
                  <a:lnTo>
                    <a:pt x="357" y="1304"/>
                  </a:lnTo>
                  <a:lnTo>
                    <a:pt x="366" y="1325"/>
                  </a:lnTo>
                  <a:lnTo>
                    <a:pt x="375" y="1346"/>
                  </a:lnTo>
                  <a:lnTo>
                    <a:pt x="385" y="1368"/>
                  </a:lnTo>
                  <a:lnTo>
                    <a:pt x="394" y="1390"/>
                  </a:lnTo>
                  <a:lnTo>
                    <a:pt x="403" y="1413"/>
                  </a:lnTo>
                  <a:lnTo>
                    <a:pt x="414" y="1433"/>
                  </a:lnTo>
                  <a:lnTo>
                    <a:pt x="423" y="1456"/>
                  </a:lnTo>
                  <a:lnTo>
                    <a:pt x="432" y="1476"/>
                  </a:lnTo>
                  <a:lnTo>
                    <a:pt x="440" y="1497"/>
                  </a:lnTo>
                  <a:lnTo>
                    <a:pt x="449" y="1515"/>
                  </a:lnTo>
                  <a:lnTo>
                    <a:pt x="457" y="1532"/>
                  </a:lnTo>
                  <a:lnTo>
                    <a:pt x="464" y="1548"/>
                  </a:lnTo>
                  <a:lnTo>
                    <a:pt x="471" y="1562"/>
                  </a:lnTo>
                  <a:lnTo>
                    <a:pt x="477" y="1574"/>
                  </a:lnTo>
                  <a:lnTo>
                    <a:pt x="483" y="1587"/>
                  </a:lnTo>
                  <a:lnTo>
                    <a:pt x="489" y="1600"/>
                  </a:lnTo>
                  <a:lnTo>
                    <a:pt x="497" y="1616"/>
                  </a:lnTo>
                  <a:lnTo>
                    <a:pt x="506" y="1630"/>
                  </a:lnTo>
                  <a:lnTo>
                    <a:pt x="515" y="1647"/>
                  </a:lnTo>
                  <a:lnTo>
                    <a:pt x="525" y="1663"/>
                  </a:lnTo>
                  <a:lnTo>
                    <a:pt x="535" y="1680"/>
                  </a:lnTo>
                  <a:lnTo>
                    <a:pt x="547" y="1696"/>
                  </a:lnTo>
                  <a:lnTo>
                    <a:pt x="557" y="1713"/>
                  </a:lnTo>
                  <a:lnTo>
                    <a:pt x="569" y="1730"/>
                  </a:lnTo>
                  <a:lnTo>
                    <a:pt x="580" y="1746"/>
                  </a:lnTo>
                  <a:lnTo>
                    <a:pt x="591" y="1762"/>
                  </a:lnTo>
                  <a:lnTo>
                    <a:pt x="601" y="1777"/>
                  </a:lnTo>
                  <a:lnTo>
                    <a:pt x="612" y="1792"/>
                  </a:lnTo>
                  <a:lnTo>
                    <a:pt x="622" y="1804"/>
                  </a:lnTo>
                  <a:lnTo>
                    <a:pt x="633" y="1816"/>
                  </a:lnTo>
                  <a:lnTo>
                    <a:pt x="641" y="1828"/>
                  </a:lnTo>
                  <a:lnTo>
                    <a:pt x="652" y="1840"/>
                  </a:lnTo>
                  <a:lnTo>
                    <a:pt x="663" y="1853"/>
                  </a:lnTo>
                  <a:lnTo>
                    <a:pt x="676" y="1866"/>
                  </a:lnTo>
                  <a:lnTo>
                    <a:pt x="688" y="1881"/>
                  </a:lnTo>
                  <a:lnTo>
                    <a:pt x="701" y="1894"/>
                  </a:lnTo>
                  <a:lnTo>
                    <a:pt x="715" y="1908"/>
                  </a:lnTo>
                  <a:lnTo>
                    <a:pt x="729" y="1921"/>
                  </a:lnTo>
                  <a:lnTo>
                    <a:pt x="742" y="1936"/>
                  </a:lnTo>
                  <a:lnTo>
                    <a:pt x="755" y="1949"/>
                  </a:lnTo>
                  <a:lnTo>
                    <a:pt x="768" y="1962"/>
                  </a:lnTo>
                  <a:lnTo>
                    <a:pt x="781" y="1973"/>
                  </a:lnTo>
                  <a:lnTo>
                    <a:pt x="793" y="1984"/>
                  </a:lnTo>
                  <a:lnTo>
                    <a:pt x="805" y="1994"/>
                  </a:lnTo>
                  <a:lnTo>
                    <a:pt x="815" y="2003"/>
                  </a:lnTo>
                  <a:lnTo>
                    <a:pt x="825" y="2010"/>
                  </a:lnTo>
                  <a:lnTo>
                    <a:pt x="834" y="2017"/>
                  </a:lnTo>
                  <a:lnTo>
                    <a:pt x="843" y="2025"/>
                  </a:lnTo>
                  <a:lnTo>
                    <a:pt x="853" y="2032"/>
                  </a:lnTo>
                  <a:lnTo>
                    <a:pt x="863" y="2040"/>
                  </a:lnTo>
                  <a:lnTo>
                    <a:pt x="873" y="2047"/>
                  </a:lnTo>
                  <a:lnTo>
                    <a:pt x="883" y="2055"/>
                  </a:lnTo>
                  <a:lnTo>
                    <a:pt x="892" y="2062"/>
                  </a:lnTo>
                  <a:lnTo>
                    <a:pt x="902" y="2068"/>
                  </a:lnTo>
                  <a:lnTo>
                    <a:pt x="911" y="2076"/>
                  </a:lnTo>
                  <a:lnTo>
                    <a:pt x="920" y="2082"/>
                  </a:lnTo>
                  <a:lnTo>
                    <a:pt x="927" y="2088"/>
                  </a:lnTo>
                  <a:lnTo>
                    <a:pt x="935" y="2093"/>
                  </a:lnTo>
                  <a:lnTo>
                    <a:pt x="942" y="2098"/>
                  </a:lnTo>
                  <a:lnTo>
                    <a:pt x="949" y="2102"/>
                  </a:lnTo>
                  <a:lnTo>
                    <a:pt x="953" y="2106"/>
                  </a:lnTo>
                  <a:lnTo>
                    <a:pt x="958" y="2108"/>
                  </a:lnTo>
                  <a:lnTo>
                    <a:pt x="961" y="2111"/>
                  </a:lnTo>
                  <a:lnTo>
                    <a:pt x="965" y="2113"/>
                  </a:lnTo>
                  <a:lnTo>
                    <a:pt x="970" y="2116"/>
                  </a:lnTo>
                  <a:lnTo>
                    <a:pt x="976" y="2118"/>
                  </a:lnTo>
                  <a:lnTo>
                    <a:pt x="982" y="2122"/>
                  </a:lnTo>
                  <a:lnTo>
                    <a:pt x="989" y="2126"/>
                  </a:lnTo>
                  <a:lnTo>
                    <a:pt x="996" y="2130"/>
                  </a:lnTo>
                  <a:lnTo>
                    <a:pt x="1003" y="2132"/>
                  </a:lnTo>
                  <a:lnTo>
                    <a:pt x="1011" y="2136"/>
                  </a:lnTo>
                  <a:lnTo>
                    <a:pt x="1019" y="2140"/>
                  </a:lnTo>
                  <a:lnTo>
                    <a:pt x="1026" y="2143"/>
                  </a:lnTo>
                  <a:lnTo>
                    <a:pt x="1035" y="2146"/>
                  </a:lnTo>
                  <a:lnTo>
                    <a:pt x="1042" y="2150"/>
                  </a:lnTo>
                  <a:lnTo>
                    <a:pt x="1050" y="2153"/>
                  </a:lnTo>
                  <a:lnTo>
                    <a:pt x="1058" y="2157"/>
                  </a:lnTo>
                  <a:lnTo>
                    <a:pt x="1067" y="2159"/>
                  </a:lnTo>
                  <a:lnTo>
                    <a:pt x="1073" y="2163"/>
                  </a:lnTo>
                  <a:lnTo>
                    <a:pt x="1082" y="2166"/>
                  </a:lnTo>
                  <a:lnTo>
                    <a:pt x="1091" y="2170"/>
                  </a:lnTo>
                  <a:lnTo>
                    <a:pt x="1103" y="2172"/>
                  </a:lnTo>
                  <a:lnTo>
                    <a:pt x="1114" y="2176"/>
                  </a:lnTo>
                  <a:lnTo>
                    <a:pt x="1126" y="2180"/>
                  </a:lnTo>
                  <a:lnTo>
                    <a:pt x="1139" y="2183"/>
                  </a:lnTo>
                  <a:lnTo>
                    <a:pt x="1152" y="2187"/>
                  </a:lnTo>
                  <a:lnTo>
                    <a:pt x="1165" y="2192"/>
                  </a:lnTo>
                  <a:lnTo>
                    <a:pt x="1178" y="2196"/>
                  </a:lnTo>
                  <a:lnTo>
                    <a:pt x="1191" y="2200"/>
                  </a:lnTo>
                  <a:lnTo>
                    <a:pt x="1205" y="2203"/>
                  </a:lnTo>
                  <a:lnTo>
                    <a:pt x="1217" y="2207"/>
                  </a:lnTo>
                  <a:lnTo>
                    <a:pt x="1230" y="2211"/>
                  </a:lnTo>
                  <a:lnTo>
                    <a:pt x="1241" y="2214"/>
                  </a:lnTo>
                  <a:lnTo>
                    <a:pt x="1254" y="2216"/>
                  </a:lnTo>
                  <a:lnTo>
                    <a:pt x="1264" y="2220"/>
                  </a:lnTo>
                  <a:lnTo>
                    <a:pt x="1276" y="2223"/>
                  </a:lnTo>
                  <a:lnTo>
                    <a:pt x="1289" y="2226"/>
                  </a:lnTo>
                  <a:lnTo>
                    <a:pt x="1303" y="2228"/>
                  </a:lnTo>
                  <a:lnTo>
                    <a:pt x="1317" y="2232"/>
                  </a:lnTo>
                  <a:lnTo>
                    <a:pt x="1332" y="2234"/>
                  </a:lnTo>
                  <a:lnTo>
                    <a:pt x="1347" y="2238"/>
                  </a:lnTo>
                  <a:lnTo>
                    <a:pt x="1362" y="2240"/>
                  </a:lnTo>
                  <a:lnTo>
                    <a:pt x="1375" y="2243"/>
                  </a:lnTo>
                  <a:lnTo>
                    <a:pt x="1390" y="2245"/>
                  </a:lnTo>
                  <a:lnTo>
                    <a:pt x="1404" y="2248"/>
                  </a:lnTo>
                  <a:lnTo>
                    <a:pt x="1419" y="2250"/>
                  </a:lnTo>
                  <a:lnTo>
                    <a:pt x="1430" y="2252"/>
                  </a:lnTo>
                  <a:lnTo>
                    <a:pt x="1443" y="2254"/>
                  </a:lnTo>
                  <a:lnTo>
                    <a:pt x="1454" y="2256"/>
                  </a:lnTo>
                  <a:lnTo>
                    <a:pt x="1465" y="2257"/>
                  </a:lnTo>
                  <a:lnTo>
                    <a:pt x="1473" y="2259"/>
                  </a:lnTo>
                  <a:lnTo>
                    <a:pt x="1485" y="2260"/>
                  </a:lnTo>
                  <a:lnTo>
                    <a:pt x="1497" y="2262"/>
                  </a:lnTo>
                  <a:lnTo>
                    <a:pt x="1509" y="2262"/>
                  </a:lnTo>
                  <a:lnTo>
                    <a:pt x="1523" y="2264"/>
                  </a:lnTo>
                  <a:lnTo>
                    <a:pt x="1538" y="2264"/>
                  </a:lnTo>
                  <a:lnTo>
                    <a:pt x="1553" y="2266"/>
                  </a:lnTo>
                  <a:lnTo>
                    <a:pt x="1568" y="2266"/>
                  </a:lnTo>
                  <a:lnTo>
                    <a:pt x="1583" y="2268"/>
                  </a:lnTo>
                  <a:lnTo>
                    <a:pt x="1598" y="2270"/>
                  </a:lnTo>
                  <a:lnTo>
                    <a:pt x="1613" y="2271"/>
                  </a:lnTo>
                  <a:lnTo>
                    <a:pt x="1629" y="2271"/>
                  </a:lnTo>
                  <a:lnTo>
                    <a:pt x="1643" y="2273"/>
                  </a:lnTo>
                  <a:lnTo>
                    <a:pt x="1657" y="2273"/>
                  </a:lnTo>
                  <a:lnTo>
                    <a:pt x="1669" y="2274"/>
                  </a:lnTo>
                  <a:lnTo>
                    <a:pt x="1682" y="2274"/>
                  </a:lnTo>
                  <a:lnTo>
                    <a:pt x="1693" y="2276"/>
                  </a:lnTo>
                  <a:lnTo>
                    <a:pt x="1705" y="2276"/>
                  </a:lnTo>
                  <a:lnTo>
                    <a:pt x="1719" y="2276"/>
                  </a:lnTo>
                  <a:lnTo>
                    <a:pt x="1733" y="2276"/>
                  </a:lnTo>
                  <a:lnTo>
                    <a:pt x="1748" y="2278"/>
                  </a:lnTo>
                  <a:lnTo>
                    <a:pt x="1763" y="2278"/>
                  </a:lnTo>
                  <a:lnTo>
                    <a:pt x="1778" y="2278"/>
                  </a:lnTo>
                  <a:lnTo>
                    <a:pt x="1794" y="2278"/>
                  </a:lnTo>
                  <a:lnTo>
                    <a:pt x="1809" y="2279"/>
                  </a:lnTo>
                  <a:lnTo>
                    <a:pt x="1824" y="2279"/>
                  </a:lnTo>
                  <a:lnTo>
                    <a:pt x="1838" y="2279"/>
                  </a:lnTo>
                  <a:lnTo>
                    <a:pt x="1852" y="2279"/>
                  </a:lnTo>
                  <a:lnTo>
                    <a:pt x="1865" y="2279"/>
                  </a:lnTo>
                  <a:lnTo>
                    <a:pt x="1877" y="2279"/>
                  </a:lnTo>
                  <a:lnTo>
                    <a:pt x="1888" y="2279"/>
                  </a:lnTo>
                  <a:lnTo>
                    <a:pt x="1899" y="2279"/>
                  </a:lnTo>
                  <a:lnTo>
                    <a:pt x="1906" y="2279"/>
                  </a:lnTo>
                  <a:lnTo>
                    <a:pt x="1912" y="2279"/>
                  </a:lnTo>
                  <a:lnTo>
                    <a:pt x="1916" y="2279"/>
                  </a:lnTo>
                  <a:lnTo>
                    <a:pt x="1920" y="2279"/>
                  </a:lnTo>
                  <a:lnTo>
                    <a:pt x="1922" y="2279"/>
                  </a:lnTo>
                  <a:lnTo>
                    <a:pt x="1925" y="2279"/>
                  </a:lnTo>
                  <a:lnTo>
                    <a:pt x="1926" y="2279"/>
                  </a:lnTo>
                  <a:lnTo>
                    <a:pt x="1929" y="2279"/>
                  </a:lnTo>
                  <a:lnTo>
                    <a:pt x="1931" y="2279"/>
                  </a:lnTo>
                  <a:lnTo>
                    <a:pt x="1935" y="2279"/>
                  </a:lnTo>
                  <a:lnTo>
                    <a:pt x="1939" y="2279"/>
                  </a:lnTo>
                  <a:lnTo>
                    <a:pt x="1946" y="2279"/>
                  </a:lnTo>
                  <a:lnTo>
                    <a:pt x="1955" y="2279"/>
                  </a:lnTo>
                  <a:lnTo>
                    <a:pt x="1966" y="2279"/>
                  </a:lnTo>
                  <a:lnTo>
                    <a:pt x="1979" y="2279"/>
                  </a:lnTo>
                  <a:lnTo>
                    <a:pt x="1997" y="2279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2666880"/>
              <a:ext cx="2540160" cy="2890800"/>
            </a:xfrm>
            <a:custGeom>
              <a:avLst/>
              <a:gdLst/>
              <a:ahLst/>
              <a:rect l="l" t="t" r="r" b="b"/>
              <a:pathLst>
                <a:path w="1600" h="1821">
                  <a:moveTo>
                    <a:pt x="0" y="0"/>
                  </a:moveTo>
                  <a:lnTo>
                    <a:pt x="0" y="16"/>
                  </a:lnTo>
                  <a:lnTo>
                    <a:pt x="2" y="28"/>
                  </a:lnTo>
                  <a:lnTo>
                    <a:pt x="2" y="39"/>
                  </a:lnTo>
                  <a:lnTo>
                    <a:pt x="4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6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7" y="75"/>
                  </a:lnTo>
                  <a:lnTo>
                    <a:pt x="7" y="81"/>
                  </a:lnTo>
                  <a:lnTo>
                    <a:pt x="9" y="88"/>
                  </a:lnTo>
                  <a:lnTo>
                    <a:pt x="10" y="98"/>
                  </a:lnTo>
                  <a:lnTo>
                    <a:pt x="11" y="110"/>
                  </a:lnTo>
                  <a:lnTo>
                    <a:pt x="13" y="124"/>
                  </a:lnTo>
                  <a:lnTo>
                    <a:pt x="16" y="140"/>
                  </a:lnTo>
                  <a:lnTo>
                    <a:pt x="19" y="158"/>
                  </a:lnTo>
                  <a:lnTo>
                    <a:pt x="22" y="177"/>
                  </a:lnTo>
                  <a:lnTo>
                    <a:pt x="26" y="199"/>
                  </a:lnTo>
                  <a:lnTo>
                    <a:pt x="31" y="219"/>
                  </a:lnTo>
                  <a:lnTo>
                    <a:pt x="34" y="243"/>
                  </a:lnTo>
                  <a:lnTo>
                    <a:pt x="40" y="265"/>
                  </a:lnTo>
                  <a:lnTo>
                    <a:pt x="43" y="290"/>
                  </a:lnTo>
                  <a:lnTo>
                    <a:pt x="49" y="312"/>
                  </a:lnTo>
                  <a:lnTo>
                    <a:pt x="52" y="337"/>
                  </a:lnTo>
                  <a:lnTo>
                    <a:pt x="58" y="359"/>
                  </a:lnTo>
                  <a:lnTo>
                    <a:pt x="62" y="381"/>
                  </a:lnTo>
                  <a:lnTo>
                    <a:pt x="68" y="403"/>
                  </a:lnTo>
                  <a:lnTo>
                    <a:pt x="72" y="426"/>
                  </a:lnTo>
                  <a:lnTo>
                    <a:pt x="78" y="449"/>
                  </a:lnTo>
                  <a:lnTo>
                    <a:pt x="84" y="473"/>
                  </a:lnTo>
                  <a:lnTo>
                    <a:pt x="90" y="497"/>
                  </a:lnTo>
                  <a:lnTo>
                    <a:pt x="96" y="523"/>
                  </a:lnTo>
                  <a:lnTo>
                    <a:pt x="103" y="547"/>
                  </a:lnTo>
                  <a:lnTo>
                    <a:pt x="110" y="572"/>
                  </a:lnTo>
                  <a:lnTo>
                    <a:pt x="118" y="595"/>
                  </a:lnTo>
                  <a:lnTo>
                    <a:pt x="123" y="620"/>
                  </a:lnTo>
                  <a:lnTo>
                    <a:pt x="130" y="643"/>
                  </a:lnTo>
                  <a:lnTo>
                    <a:pt x="136" y="665"/>
                  </a:lnTo>
                  <a:lnTo>
                    <a:pt x="143" y="685"/>
                  </a:lnTo>
                  <a:lnTo>
                    <a:pt x="149" y="704"/>
                  </a:lnTo>
                  <a:lnTo>
                    <a:pt x="155" y="720"/>
                  </a:lnTo>
                  <a:lnTo>
                    <a:pt x="159" y="735"/>
                  </a:lnTo>
                  <a:lnTo>
                    <a:pt x="165" y="746"/>
                  </a:lnTo>
                  <a:lnTo>
                    <a:pt x="169" y="758"/>
                  </a:lnTo>
                  <a:lnTo>
                    <a:pt x="174" y="771"/>
                  </a:lnTo>
                  <a:lnTo>
                    <a:pt x="180" y="786"/>
                  </a:lnTo>
                  <a:lnTo>
                    <a:pt x="187" y="801"/>
                  </a:lnTo>
                  <a:lnTo>
                    <a:pt x="193" y="819"/>
                  </a:lnTo>
                  <a:lnTo>
                    <a:pt x="200" y="836"/>
                  </a:lnTo>
                  <a:lnTo>
                    <a:pt x="208" y="854"/>
                  </a:lnTo>
                  <a:lnTo>
                    <a:pt x="216" y="871"/>
                  </a:lnTo>
                  <a:lnTo>
                    <a:pt x="224" y="891"/>
                  </a:lnTo>
                  <a:lnTo>
                    <a:pt x="231" y="909"/>
                  </a:lnTo>
                  <a:lnTo>
                    <a:pt x="238" y="928"/>
                  </a:lnTo>
                  <a:lnTo>
                    <a:pt x="247" y="945"/>
                  </a:lnTo>
                  <a:lnTo>
                    <a:pt x="253" y="963"/>
                  </a:lnTo>
                  <a:lnTo>
                    <a:pt x="260" y="980"/>
                  </a:lnTo>
                  <a:lnTo>
                    <a:pt x="266" y="996"/>
                  </a:lnTo>
                  <a:lnTo>
                    <a:pt x="274" y="1010"/>
                  </a:lnTo>
                  <a:lnTo>
                    <a:pt x="280" y="1027"/>
                  </a:lnTo>
                  <a:lnTo>
                    <a:pt x="286" y="1041"/>
                  </a:lnTo>
                  <a:lnTo>
                    <a:pt x="294" y="1058"/>
                  </a:lnTo>
                  <a:lnTo>
                    <a:pt x="302" y="1075"/>
                  </a:lnTo>
                  <a:lnTo>
                    <a:pt x="309" y="1093"/>
                  </a:lnTo>
                  <a:lnTo>
                    <a:pt x="316" y="1110"/>
                  </a:lnTo>
                  <a:lnTo>
                    <a:pt x="324" y="1128"/>
                  </a:lnTo>
                  <a:lnTo>
                    <a:pt x="333" y="1145"/>
                  </a:lnTo>
                  <a:lnTo>
                    <a:pt x="340" y="1163"/>
                  </a:lnTo>
                  <a:lnTo>
                    <a:pt x="347" y="1179"/>
                  </a:lnTo>
                  <a:lnTo>
                    <a:pt x="354" y="1196"/>
                  </a:lnTo>
                  <a:lnTo>
                    <a:pt x="362" y="1210"/>
                  </a:lnTo>
                  <a:lnTo>
                    <a:pt x="367" y="1224"/>
                  </a:lnTo>
                  <a:lnTo>
                    <a:pt x="373" y="1237"/>
                  </a:lnTo>
                  <a:lnTo>
                    <a:pt x="379" y="1249"/>
                  </a:lnTo>
                  <a:lnTo>
                    <a:pt x="384" y="1257"/>
                  </a:lnTo>
                  <a:lnTo>
                    <a:pt x="388" y="1268"/>
                  </a:lnTo>
                  <a:lnTo>
                    <a:pt x="394" y="1278"/>
                  </a:lnTo>
                  <a:lnTo>
                    <a:pt x="400" y="1291"/>
                  </a:lnTo>
                  <a:lnTo>
                    <a:pt x="407" y="1302"/>
                  </a:lnTo>
                  <a:lnTo>
                    <a:pt x="414" y="1315"/>
                  </a:lnTo>
                  <a:lnTo>
                    <a:pt x="422" y="1327"/>
                  </a:lnTo>
                  <a:lnTo>
                    <a:pt x="430" y="1341"/>
                  </a:lnTo>
                  <a:lnTo>
                    <a:pt x="439" y="1353"/>
                  </a:lnTo>
                  <a:lnTo>
                    <a:pt x="446" y="1368"/>
                  </a:lnTo>
                  <a:lnTo>
                    <a:pt x="456" y="1381"/>
                  </a:lnTo>
                  <a:lnTo>
                    <a:pt x="464" y="1394"/>
                  </a:lnTo>
                  <a:lnTo>
                    <a:pt x="474" y="1406"/>
                  </a:lnTo>
                  <a:lnTo>
                    <a:pt x="481" y="1419"/>
                  </a:lnTo>
                  <a:lnTo>
                    <a:pt x="490" y="1430"/>
                  </a:lnTo>
                  <a:lnTo>
                    <a:pt x="498" y="1440"/>
                  </a:lnTo>
                  <a:lnTo>
                    <a:pt x="507" y="1448"/>
                  </a:lnTo>
                  <a:lnTo>
                    <a:pt x="514" y="1459"/>
                  </a:lnTo>
                  <a:lnTo>
                    <a:pt x="522" y="1468"/>
                  </a:lnTo>
                  <a:lnTo>
                    <a:pt x="532" y="1479"/>
                  </a:lnTo>
                  <a:lnTo>
                    <a:pt x="542" y="1489"/>
                  </a:lnTo>
                  <a:lnTo>
                    <a:pt x="551" y="1501"/>
                  </a:lnTo>
                  <a:lnTo>
                    <a:pt x="562" y="1512"/>
                  </a:lnTo>
                  <a:lnTo>
                    <a:pt x="574" y="1523"/>
                  </a:lnTo>
                  <a:lnTo>
                    <a:pt x="585" y="1533"/>
                  </a:lnTo>
                  <a:lnTo>
                    <a:pt x="594" y="1545"/>
                  </a:lnTo>
                  <a:lnTo>
                    <a:pt x="606" y="1556"/>
                  </a:lnTo>
                  <a:lnTo>
                    <a:pt x="615" y="1566"/>
                  </a:lnTo>
                  <a:lnTo>
                    <a:pt x="627" y="1575"/>
                  </a:lnTo>
                  <a:lnTo>
                    <a:pt x="636" y="1585"/>
                  </a:lnTo>
                  <a:lnTo>
                    <a:pt x="646" y="1592"/>
                  </a:lnTo>
                  <a:lnTo>
                    <a:pt x="654" y="1599"/>
                  </a:lnTo>
                  <a:lnTo>
                    <a:pt x="663" y="1605"/>
                  </a:lnTo>
                  <a:lnTo>
                    <a:pt x="670" y="1612"/>
                  </a:lnTo>
                  <a:lnTo>
                    <a:pt x="677" y="1617"/>
                  </a:lnTo>
                  <a:lnTo>
                    <a:pt x="685" y="1623"/>
                  </a:lnTo>
                  <a:lnTo>
                    <a:pt x="693" y="1629"/>
                  </a:lnTo>
                  <a:lnTo>
                    <a:pt x="700" y="1635"/>
                  </a:lnTo>
                  <a:lnTo>
                    <a:pt x="708" y="1641"/>
                  </a:lnTo>
                  <a:lnTo>
                    <a:pt x="715" y="1646"/>
                  </a:lnTo>
                  <a:lnTo>
                    <a:pt x="724" y="1652"/>
                  </a:lnTo>
                  <a:lnTo>
                    <a:pt x="730" y="1657"/>
                  </a:lnTo>
                  <a:lnTo>
                    <a:pt x="738" y="1663"/>
                  </a:lnTo>
                  <a:lnTo>
                    <a:pt x="743" y="1668"/>
                  </a:lnTo>
                  <a:lnTo>
                    <a:pt x="750" y="1672"/>
                  </a:lnTo>
                  <a:lnTo>
                    <a:pt x="754" y="1675"/>
                  </a:lnTo>
                  <a:lnTo>
                    <a:pt x="760" y="1679"/>
                  </a:lnTo>
                  <a:lnTo>
                    <a:pt x="764" y="1681"/>
                  </a:lnTo>
                  <a:lnTo>
                    <a:pt x="768" y="1682"/>
                  </a:lnTo>
                  <a:lnTo>
                    <a:pt x="770" y="1685"/>
                  </a:lnTo>
                  <a:lnTo>
                    <a:pt x="773" y="1687"/>
                  </a:lnTo>
                  <a:lnTo>
                    <a:pt x="777" y="1690"/>
                  </a:lnTo>
                  <a:lnTo>
                    <a:pt x="782" y="1692"/>
                  </a:lnTo>
                  <a:lnTo>
                    <a:pt x="786" y="1695"/>
                  </a:lnTo>
                  <a:lnTo>
                    <a:pt x="792" y="1697"/>
                  </a:lnTo>
                  <a:lnTo>
                    <a:pt x="798" y="1701"/>
                  </a:lnTo>
                  <a:lnTo>
                    <a:pt x="804" y="1703"/>
                  </a:lnTo>
                  <a:lnTo>
                    <a:pt x="810" y="1707"/>
                  </a:lnTo>
                  <a:lnTo>
                    <a:pt x="816" y="1709"/>
                  </a:lnTo>
                  <a:lnTo>
                    <a:pt x="821" y="1713"/>
                  </a:lnTo>
                  <a:lnTo>
                    <a:pt x="829" y="1715"/>
                  </a:lnTo>
                  <a:lnTo>
                    <a:pt x="834" y="1719"/>
                  </a:lnTo>
                  <a:lnTo>
                    <a:pt x="841" y="1721"/>
                  </a:lnTo>
                  <a:lnTo>
                    <a:pt x="847" y="1722"/>
                  </a:lnTo>
                  <a:lnTo>
                    <a:pt x="854" y="1724"/>
                  </a:lnTo>
                  <a:lnTo>
                    <a:pt x="859" y="1727"/>
                  </a:lnTo>
                  <a:lnTo>
                    <a:pt x="866" y="1729"/>
                  </a:lnTo>
                  <a:lnTo>
                    <a:pt x="874" y="1732"/>
                  </a:lnTo>
                  <a:lnTo>
                    <a:pt x="883" y="1734"/>
                  </a:lnTo>
                  <a:lnTo>
                    <a:pt x="892" y="1738"/>
                  </a:lnTo>
                  <a:lnTo>
                    <a:pt x="902" y="1741"/>
                  </a:lnTo>
                  <a:lnTo>
                    <a:pt x="912" y="1745"/>
                  </a:lnTo>
                  <a:lnTo>
                    <a:pt x="924" y="1747"/>
                  </a:lnTo>
                  <a:lnTo>
                    <a:pt x="933" y="1751"/>
                  </a:lnTo>
                  <a:lnTo>
                    <a:pt x="944" y="1753"/>
                  </a:lnTo>
                  <a:lnTo>
                    <a:pt x="955" y="1757"/>
                  </a:lnTo>
                  <a:lnTo>
                    <a:pt x="966" y="1759"/>
                  </a:lnTo>
                  <a:lnTo>
                    <a:pt x="976" y="1763"/>
                  </a:lnTo>
                  <a:lnTo>
                    <a:pt x="987" y="1765"/>
                  </a:lnTo>
                  <a:lnTo>
                    <a:pt x="996" y="1767"/>
                  </a:lnTo>
                  <a:lnTo>
                    <a:pt x="1005" y="1769"/>
                  </a:lnTo>
                  <a:lnTo>
                    <a:pt x="1014" y="1773"/>
                  </a:lnTo>
                  <a:lnTo>
                    <a:pt x="1024" y="1775"/>
                  </a:lnTo>
                  <a:lnTo>
                    <a:pt x="1034" y="1777"/>
                  </a:lnTo>
                  <a:lnTo>
                    <a:pt x="1045" y="1779"/>
                  </a:lnTo>
                  <a:lnTo>
                    <a:pt x="1056" y="1782"/>
                  </a:lnTo>
                  <a:lnTo>
                    <a:pt x="1067" y="1784"/>
                  </a:lnTo>
                  <a:lnTo>
                    <a:pt x="1078" y="1786"/>
                  </a:lnTo>
                  <a:lnTo>
                    <a:pt x="1092" y="1788"/>
                  </a:lnTo>
                  <a:lnTo>
                    <a:pt x="1103" y="1791"/>
                  </a:lnTo>
                  <a:lnTo>
                    <a:pt x="1114" y="1793"/>
                  </a:lnTo>
                  <a:lnTo>
                    <a:pt x="1125" y="1795"/>
                  </a:lnTo>
                  <a:lnTo>
                    <a:pt x="1137" y="1797"/>
                  </a:lnTo>
                  <a:lnTo>
                    <a:pt x="1146" y="1799"/>
                  </a:lnTo>
                  <a:lnTo>
                    <a:pt x="1157" y="1800"/>
                  </a:lnTo>
                  <a:lnTo>
                    <a:pt x="1166" y="1801"/>
                  </a:lnTo>
                  <a:lnTo>
                    <a:pt x="1174" y="1801"/>
                  </a:lnTo>
                  <a:lnTo>
                    <a:pt x="1181" y="1803"/>
                  </a:lnTo>
                  <a:lnTo>
                    <a:pt x="1190" y="1803"/>
                  </a:lnTo>
                  <a:lnTo>
                    <a:pt x="1200" y="1805"/>
                  </a:lnTo>
                  <a:lnTo>
                    <a:pt x="1211" y="1805"/>
                  </a:lnTo>
                  <a:lnTo>
                    <a:pt x="1221" y="1807"/>
                  </a:lnTo>
                  <a:lnTo>
                    <a:pt x="1233" y="1807"/>
                  </a:lnTo>
                  <a:lnTo>
                    <a:pt x="1244" y="1809"/>
                  </a:lnTo>
                  <a:lnTo>
                    <a:pt x="1258" y="1809"/>
                  </a:lnTo>
                  <a:lnTo>
                    <a:pt x="1269" y="1811"/>
                  </a:lnTo>
                  <a:lnTo>
                    <a:pt x="1282" y="1811"/>
                  </a:lnTo>
                  <a:lnTo>
                    <a:pt x="1293" y="1813"/>
                  </a:lnTo>
                  <a:lnTo>
                    <a:pt x="1306" y="1813"/>
                  </a:lnTo>
                  <a:lnTo>
                    <a:pt x="1317" y="1815"/>
                  </a:lnTo>
                  <a:lnTo>
                    <a:pt x="1328" y="1815"/>
                  </a:lnTo>
                  <a:lnTo>
                    <a:pt x="1338" y="1815"/>
                  </a:lnTo>
                  <a:lnTo>
                    <a:pt x="1348" y="1815"/>
                  </a:lnTo>
                  <a:lnTo>
                    <a:pt x="1357" y="1817"/>
                  </a:lnTo>
                  <a:lnTo>
                    <a:pt x="1367" y="1817"/>
                  </a:lnTo>
                  <a:lnTo>
                    <a:pt x="1378" y="1817"/>
                  </a:lnTo>
                  <a:lnTo>
                    <a:pt x="1389" y="1817"/>
                  </a:lnTo>
                  <a:lnTo>
                    <a:pt x="1400" y="1819"/>
                  </a:lnTo>
                  <a:lnTo>
                    <a:pt x="1413" y="1819"/>
                  </a:lnTo>
                  <a:lnTo>
                    <a:pt x="1425" y="1819"/>
                  </a:lnTo>
                  <a:lnTo>
                    <a:pt x="1438" y="1819"/>
                  </a:lnTo>
                  <a:lnTo>
                    <a:pt x="1449" y="1820"/>
                  </a:lnTo>
                  <a:lnTo>
                    <a:pt x="1461" y="1820"/>
                  </a:lnTo>
                  <a:lnTo>
                    <a:pt x="1472" y="1820"/>
                  </a:lnTo>
                  <a:lnTo>
                    <a:pt x="1484" y="1820"/>
                  </a:lnTo>
                  <a:lnTo>
                    <a:pt x="1493" y="1820"/>
                  </a:lnTo>
                  <a:lnTo>
                    <a:pt x="1504" y="1820"/>
                  </a:lnTo>
                  <a:lnTo>
                    <a:pt x="1513" y="1820"/>
                  </a:lnTo>
                  <a:lnTo>
                    <a:pt x="1522" y="1820"/>
                  </a:lnTo>
                  <a:lnTo>
                    <a:pt x="1526" y="1820"/>
                  </a:lnTo>
                  <a:lnTo>
                    <a:pt x="1532" y="1820"/>
                  </a:lnTo>
                  <a:lnTo>
                    <a:pt x="1534" y="1820"/>
                  </a:lnTo>
                  <a:lnTo>
                    <a:pt x="1538" y="1820"/>
                  </a:lnTo>
                  <a:lnTo>
                    <a:pt x="1540" y="1820"/>
                  </a:lnTo>
                  <a:lnTo>
                    <a:pt x="1542" y="1820"/>
                  </a:lnTo>
                  <a:lnTo>
                    <a:pt x="1543" y="1820"/>
                  </a:lnTo>
                  <a:lnTo>
                    <a:pt x="1545" y="1820"/>
                  </a:lnTo>
                  <a:lnTo>
                    <a:pt x="1547" y="1820"/>
                  </a:lnTo>
                  <a:lnTo>
                    <a:pt x="1550" y="1820"/>
                  </a:lnTo>
                  <a:lnTo>
                    <a:pt x="1553" y="1820"/>
                  </a:lnTo>
                  <a:lnTo>
                    <a:pt x="1559" y="1820"/>
                  </a:lnTo>
                  <a:lnTo>
                    <a:pt x="1565" y="1820"/>
                  </a:lnTo>
                  <a:lnTo>
                    <a:pt x="1574" y="1820"/>
                  </a:lnTo>
                  <a:lnTo>
                    <a:pt x="1584" y="1820"/>
                  </a:lnTo>
                  <a:lnTo>
                    <a:pt x="1599" y="1820"/>
                  </a:lnTo>
                </a:path>
              </a:pathLst>
            </a:custGeom>
            <a:noFill/>
            <a:ln w="31680">
              <a:solidFill>
                <a:srgbClr val="00c1c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43360" y="2809800"/>
              <a:ext cx="2904840" cy="3301920"/>
            </a:xfrm>
            <a:custGeom>
              <a:avLst/>
              <a:gdLst/>
              <a:ahLst/>
              <a:rect l="l" t="t" r="r" b="b"/>
              <a:pathLst>
                <a:path w="1830" h="2080">
                  <a:moveTo>
                    <a:pt x="0" y="0"/>
                  </a:moveTo>
                  <a:lnTo>
                    <a:pt x="1" y="19"/>
                  </a:lnTo>
                  <a:lnTo>
                    <a:pt x="2" y="32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7" y="69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7" y="81"/>
                  </a:lnTo>
                  <a:lnTo>
                    <a:pt x="8" y="86"/>
                  </a:lnTo>
                  <a:lnTo>
                    <a:pt x="9" y="92"/>
                  </a:lnTo>
                  <a:lnTo>
                    <a:pt x="11" y="100"/>
                  </a:lnTo>
                  <a:lnTo>
                    <a:pt x="11" y="111"/>
                  </a:lnTo>
                  <a:lnTo>
                    <a:pt x="13" y="125"/>
                  </a:lnTo>
                  <a:lnTo>
                    <a:pt x="15" y="141"/>
                  </a:lnTo>
                  <a:lnTo>
                    <a:pt x="19" y="159"/>
                  </a:lnTo>
                  <a:lnTo>
                    <a:pt x="22" y="180"/>
                  </a:lnTo>
                  <a:lnTo>
                    <a:pt x="25" y="202"/>
                  </a:lnTo>
                  <a:lnTo>
                    <a:pt x="29" y="225"/>
                  </a:lnTo>
                  <a:lnTo>
                    <a:pt x="35" y="250"/>
                  </a:lnTo>
                  <a:lnTo>
                    <a:pt x="39" y="276"/>
                  </a:lnTo>
                  <a:lnTo>
                    <a:pt x="45" y="302"/>
                  </a:lnTo>
                  <a:lnTo>
                    <a:pt x="50" y="330"/>
                  </a:lnTo>
                  <a:lnTo>
                    <a:pt x="56" y="356"/>
                  </a:lnTo>
                  <a:lnTo>
                    <a:pt x="62" y="384"/>
                  </a:lnTo>
                  <a:lnTo>
                    <a:pt x="67" y="410"/>
                  </a:lnTo>
                  <a:lnTo>
                    <a:pt x="73" y="436"/>
                  </a:lnTo>
                  <a:lnTo>
                    <a:pt x="79" y="460"/>
                  </a:lnTo>
                  <a:lnTo>
                    <a:pt x="84" y="486"/>
                  </a:lnTo>
                  <a:lnTo>
                    <a:pt x="90" y="512"/>
                  </a:lnTo>
                  <a:lnTo>
                    <a:pt x="96" y="540"/>
                  </a:lnTo>
                  <a:lnTo>
                    <a:pt x="103" y="568"/>
                  </a:lnTo>
                  <a:lnTo>
                    <a:pt x="110" y="597"/>
                  </a:lnTo>
                  <a:lnTo>
                    <a:pt x="118" y="625"/>
                  </a:lnTo>
                  <a:lnTo>
                    <a:pt x="125" y="653"/>
                  </a:lnTo>
                  <a:lnTo>
                    <a:pt x="133" y="681"/>
                  </a:lnTo>
                  <a:lnTo>
                    <a:pt x="140" y="709"/>
                  </a:lnTo>
                  <a:lnTo>
                    <a:pt x="148" y="734"/>
                  </a:lnTo>
                  <a:lnTo>
                    <a:pt x="155" y="759"/>
                  </a:lnTo>
                  <a:lnTo>
                    <a:pt x="163" y="782"/>
                  </a:lnTo>
                  <a:lnTo>
                    <a:pt x="168" y="804"/>
                  </a:lnTo>
                  <a:lnTo>
                    <a:pt x="176" y="823"/>
                  </a:lnTo>
                  <a:lnTo>
                    <a:pt x="181" y="839"/>
                  </a:lnTo>
                  <a:lnTo>
                    <a:pt x="188" y="852"/>
                  </a:lnTo>
                  <a:lnTo>
                    <a:pt x="193" y="866"/>
                  </a:lnTo>
                  <a:lnTo>
                    <a:pt x="198" y="881"/>
                  </a:lnTo>
                  <a:lnTo>
                    <a:pt x="205" y="898"/>
                  </a:lnTo>
                  <a:lnTo>
                    <a:pt x="213" y="915"/>
                  </a:lnTo>
                  <a:lnTo>
                    <a:pt x="220" y="935"/>
                  </a:lnTo>
                  <a:lnTo>
                    <a:pt x="229" y="955"/>
                  </a:lnTo>
                  <a:lnTo>
                    <a:pt x="237" y="975"/>
                  </a:lnTo>
                  <a:lnTo>
                    <a:pt x="247" y="996"/>
                  </a:lnTo>
                  <a:lnTo>
                    <a:pt x="255" y="1018"/>
                  </a:lnTo>
                  <a:lnTo>
                    <a:pt x="264" y="1040"/>
                  </a:lnTo>
                  <a:lnTo>
                    <a:pt x="273" y="1061"/>
                  </a:lnTo>
                  <a:lnTo>
                    <a:pt x="282" y="1081"/>
                  </a:lnTo>
                  <a:lnTo>
                    <a:pt x="289" y="1102"/>
                  </a:lnTo>
                  <a:lnTo>
                    <a:pt x="299" y="1121"/>
                  </a:lnTo>
                  <a:lnTo>
                    <a:pt x="306" y="1139"/>
                  </a:lnTo>
                  <a:lnTo>
                    <a:pt x="314" y="1155"/>
                  </a:lnTo>
                  <a:lnTo>
                    <a:pt x="321" y="1173"/>
                  </a:lnTo>
                  <a:lnTo>
                    <a:pt x="328" y="1190"/>
                  </a:lnTo>
                  <a:lnTo>
                    <a:pt x="335" y="1209"/>
                  </a:lnTo>
                  <a:lnTo>
                    <a:pt x="344" y="1228"/>
                  </a:lnTo>
                  <a:lnTo>
                    <a:pt x="352" y="1248"/>
                  </a:lnTo>
                  <a:lnTo>
                    <a:pt x="361" y="1268"/>
                  </a:lnTo>
                  <a:lnTo>
                    <a:pt x="371" y="1289"/>
                  </a:lnTo>
                  <a:lnTo>
                    <a:pt x="380" y="1308"/>
                  </a:lnTo>
                  <a:lnTo>
                    <a:pt x="387" y="1328"/>
                  </a:lnTo>
                  <a:lnTo>
                    <a:pt x="397" y="1347"/>
                  </a:lnTo>
                  <a:lnTo>
                    <a:pt x="404" y="1366"/>
                  </a:lnTo>
                  <a:lnTo>
                    <a:pt x="413" y="1383"/>
                  </a:lnTo>
                  <a:lnTo>
                    <a:pt x="420" y="1399"/>
                  </a:lnTo>
                  <a:lnTo>
                    <a:pt x="427" y="1413"/>
                  </a:lnTo>
                  <a:lnTo>
                    <a:pt x="433" y="1426"/>
                  </a:lnTo>
                  <a:lnTo>
                    <a:pt x="440" y="1436"/>
                  </a:lnTo>
                  <a:lnTo>
                    <a:pt x="445" y="1448"/>
                  </a:lnTo>
                  <a:lnTo>
                    <a:pt x="450" y="1460"/>
                  </a:lnTo>
                  <a:lnTo>
                    <a:pt x="457" y="1474"/>
                  </a:lnTo>
                  <a:lnTo>
                    <a:pt x="465" y="1487"/>
                  </a:lnTo>
                  <a:lnTo>
                    <a:pt x="473" y="1502"/>
                  </a:lnTo>
                  <a:lnTo>
                    <a:pt x="483" y="1517"/>
                  </a:lnTo>
                  <a:lnTo>
                    <a:pt x="492" y="1532"/>
                  </a:lnTo>
                  <a:lnTo>
                    <a:pt x="503" y="1547"/>
                  </a:lnTo>
                  <a:lnTo>
                    <a:pt x="512" y="1563"/>
                  </a:lnTo>
                  <a:lnTo>
                    <a:pt x="522" y="1578"/>
                  </a:lnTo>
                  <a:lnTo>
                    <a:pt x="531" y="1593"/>
                  </a:lnTo>
                  <a:lnTo>
                    <a:pt x="543" y="1607"/>
                  </a:lnTo>
                  <a:lnTo>
                    <a:pt x="552" y="1622"/>
                  </a:lnTo>
                  <a:lnTo>
                    <a:pt x="562" y="1634"/>
                  </a:lnTo>
                  <a:lnTo>
                    <a:pt x="571" y="1646"/>
                  </a:lnTo>
                  <a:lnTo>
                    <a:pt x="581" y="1657"/>
                  </a:lnTo>
                  <a:lnTo>
                    <a:pt x="589" y="1668"/>
                  </a:lnTo>
                  <a:lnTo>
                    <a:pt x="598" y="1679"/>
                  </a:lnTo>
                  <a:lnTo>
                    <a:pt x="609" y="1692"/>
                  </a:lnTo>
                  <a:lnTo>
                    <a:pt x="620" y="1703"/>
                  </a:lnTo>
                  <a:lnTo>
                    <a:pt x="631" y="1716"/>
                  </a:lnTo>
                  <a:lnTo>
                    <a:pt x="643" y="1728"/>
                  </a:lnTo>
                  <a:lnTo>
                    <a:pt x="656" y="1742"/>
                  </a:lnTo>
                  <a:lnTo>
                    <a:pt x="669" y="1753"/>
                  </a:lnTo>
                  <a:lnTo>
                    <a:pt x="680" y="1766"/>
                  </a:lnTo>
                  <a:lnTo>
                    <a:pt x="693" y="1778"/>
                  </a:lnTo>
                  <a:lnTo>
                    <a:pt x="704" y="1790"/>
                  </a:lnTo>
                  <a:lnTo>
                    <a:pt x="717" y="1801"/>
                  </a:lnTo>
                  <a:lnTo>
                    <a:pt x="727" y="1812"/>
                  </a:lnTo>
                  <a:lnTo>
                    <a:pt x="739" y="1820"/>
                  </a:lnTo>
                  <a:lnTo>
                    <a:pt x="748" y="1828"/>
                  </a:lnTo>
                  <a:lnTo>
                    <a:pt x="758" y="1835"/>
                  </a:lnTo>
                  <a:lnTo>
                    <a:pt x="765" y="1843"/>
                  </a:lnTo>
                  <a:lnTo>
                    <a:pt x="774" y="1849"/>
                  </a:lnTo>
                  <a:lnTo>
                    <a:pt x="783" y="1856"/>
                  </a:lnTo>
                  <a:lnTo>
                    <a:pt x="792" y="1862"/>
                  </a:lnTo>
                  <a:lnTo>
                    <a:pt x="801" y="1870"/>
                  </a:lnTo>
                  <a:lnTo>
                    <a:pt x="811" y="1875"/>
                  </a:lnTo>
                  <a:lnTo>
                    <a:pt x="819" y="1882"/>
                  </a:lnTo>
                  <a:lnTo>
                    <a:pt x="829" y="1888"/>
                  </a:lnTo>
                  <a:lnTo>
                    <a:pt x="836" y="1894"/>
                  </a:lnTo>
                  <a:lnTo>
                    <a:pt x="844" y="1900"/>
                  </a:lnTo>
                  <a:lnTo>
                    <a:pt x="850" y="1906"/>
                  </a:lnTo>
                  <a:lnTo>
                    <a:pt x="858" y="1910"/>
                  </a:lnTo>
                  <a:lnTo>
                    <a:pt x="863" y="1915"/>
                  </a:lnTo>
                  <a:lnTo>
                    <a:pt x="869" y="1919"/>
                  </a:lnTo>
                  <a:lnTo>
                    <a:pt x="873" y="1922"/>
                  </a:lnTo>
                  <a:lnTo>
                    <a:pt x="878" y="1924"/>
                  </a:lnTo>
                  <a:lnTo>
                    <a:pt x="880" y="1927"/>
                  </a:lnTo>
                  <a:lnTo>
                    <a:pt x="884" y="1929"/>
                  </a:lnTo>
                  <a:lnTo>
                    <a:pt x="889" y="1931"/>
                  </a:lnTo>
                  <a:lnTo>
                    <a:pt x="895" y="1933"/>
                  </a:lnTo>
                  <a:lnTo>
                    <a:pt x="900" y="1937"/>
                  </a:lnTo>
                  <a:lnTo>
                    <a:pt x="907" y="1939"/>
                  </a:lnTo>
                  <a:lnTo>
                    <a:pt x="913" y="1943"/>
                  </a:lnTo>
                  <a:lnTo>
                    <a:pt x="920" y="1945"/>
                  </a:lnTo>
                  <a:lnTo>
                    <a:pt x="927" y="1949"/>
                  </a:lnTo>
                  <a:lnTo>
                    <a:pt x="934" y="1952"/>
                  </a:lnTo>
                  <a:lnTo>
                    <a:pt x="941" y="1956"/>
                  </a:lnTo>
                  <a:lnTo>
                    <a:pt x="949" y="1958"/>
                  </a:lnTo>
                  <a:lnTo>
                    <a:pt x="955" y="1962"/>
                  </a:lnTo>
                  <a:lnTo>
                    <a:pt x="963" y="1964"/>
                  </a:lnTo>
                  <a:lnTo>
                    <a:pt x="969" y="1968"/>
                  </a:lnTo>
                  <a:lnTo>
                    <a:pt x="977" y="1969"/>
                  </a:lnTo>
                  <a:lnTo>
                    <a:pt x="983" y="1973"/>
                  </a:lnTo>
                  <a:lnTo>
                    <a:pt x="991" y="1976"/>
                  </a:lnTo>
                  <a:lnTo>
                    <a:pt x="1000" y="1980"/>
                  </a:lnTo>
                  <a:lnTo>
                    <a:pt x="1011" y="1982"/>
                  </a:lnTo>
                  <a:lnTo>
                    <a:pt x="1021" y="1986"/>
                  </a:lnTo>
                  <a:lnTo>
                    <a:pt x="1032" y="1989"/>
                  </a:lnTo>
                  <a:lnTo>
                    <a:pt x="1043" y="1993"/>
                  </a:lnTo>
                  <a:lnTo>
                    <a:pt x="1056" y="1996"/>
                  </a:lnTo>
                  <a:lnTo>
                    <a:pt x="1067" y="2000"/>
                  </a:lnTo>
                  <a:lnTo>
                    <a:pt x="1081" y="2004"/>
                  </a:lnTo>
                  <a:lnTo>
                    <a:pt x="1093" y="2007"/>
                  </a:lnTo>
                  <a:lnTo>
                    <a:pt x="1105" y="2011"/>
                  </a:lnTo>
                  <a:lnTo>
                    <a:pt x="1117" y="2015"/>
                  </a:lnTo>
                  <a:lnTo>
                    <a:pt x="1129" y="2018"/>
                  </a:lnTo>
                  <a:lnTo>
                    <a:pt x="1139" y="2021"/>
                  </a:lnTo>
                  <a:lnTo>
                    <a:pt x="1151" y="2023"/>
                  </a:lnTo>
                  <a:lnTo>
                    <a:pt x="1160" y="2027"/>
                  </a:lnTo>
                  <a:lnTo>
                    <a:pt x="1171" y="2028"/>
                  </a:lnTo>
                  <a:lnTo>
                    <a:pt x="1182" y="2032"/>
                  </a:lnTo>
                  <a:lnTo>
                    <a:pt x="1195" y="2034"/>
                  </a:lnTo>
                  <a:lnTo>
                    <a:pt x="1208" y="2037"/>
                  </a:lnTo>
                  <a:lnTo>
                    <a:pt x="1221" y="2039"/>
                  </a:lnTo>
                  <a:lnTo>
                    <a:pt x="1234" y="2042"/>
                  </a:lnTo>
                  <a:lnTo>
                    <a:pt x="1249" y="2044"/>
                  </a:lnTo>
                  <a:lnTo>
                    <a:pt x="1262" y="2047"/>
                  </a:lnTo>
                  <a:lnTo>
                    <a:pt x="1275" y="2049"/>
                  </a:lnTo>
                  <a:lnTo>
                    <a:pt x="1288" y="2051"/>
                  </a:lnTo>
                  <a:lnTo>
                    <a:pt x="1301" y="2053"/>
                  </a:lnTo>
                  <a:lnTo>
                    <a:pt x="1312" y="2055"/>
                  </a:lnTo>
                  <a:lnTo>
                    <a:pt x="1323" y="2057"/>
                  </a:lnTo>
                  <a:lnTo>
                    <a:pt x="1333" y="2058"/>
                  </a:lnTo>
                  <a:lnTo>
                    <a:pt x="1343" y="2058"/>
                  </a:lnTo>
                  <a:lnTo>
                    <a:pt x="1351" y="2060"/>
                  </a:lnTo>
                  <a:lnTo>
                    <a:pt x="1361" y="2062"/>
                  </a:lnTo>
                  <a:lnTo>
                    <a:pt x="1372" y="2064"/>
                  </a:lnTo>
                  <a:lnTo>
                    <a:pt x="1384" y="2064"/>
                  </a:lnTo>
                  <a:lnTo>
                    <a:pt x="1396" y="2065"/>
                  </a:lnTo>
                  <a:lnTo>
                    <a:pt x="1409" y="2065"/>
                  </a:lnTo>
                  <a:lnTo>
                    <a:pt x="1423" y="2067"/>
                  </a:lnTo>
                  <a:lnTo>
                    <a:pt x="1437" y="2067"/>
                  </a:lnTo>
                  <a:lnTo>
                    <a:pt x="1451" y="2069"/>
                  </a:lnTo>
                  <a:lnTo>
                    <a:pt x="1465" y="2070"/>
                  </a:lnTo>
                  <a:lnTo>
                    <a:pt x="1478" y="2072"/>
                  </a:lnTo>
                  <a:lnTo>
                    <a:pt x="1493" y="2072"/>
                  </a:lnTo>
                  <a:lnTo>
                    <a:pt x="1505" y="2074"/>
                  </a:lnTo>
                  <a:lnTo>
                    <a:pt x="1518" y="2074"/>
                  </a:lnTo>
                  <a:lnTo>
                    <a:pt x="1529" y="2075"/>
                  </a:lnTo>
                  <a:lnTo>
                    <a:pt x="1542" y="2075"/>
                  </a:lnTo>
                  <a:lnTo>
                    <a:pt x="1552" y="2077"/>
                  </a:lnTo>
                  <a:lnTo>
                    <a:pt x="1563" y="2077"/>
                  </a:lnTo>
                  <a:lnTo>
                    <a:pt x="1576" y="2077"/>
                  </a:lnTo>
                  <a:lnTo>
                    <a:pt x="1589" y="2077"/>
                  </a:lnTo>
                  <a:lnTo>
                    <a:pt x="1602" y="2078"/>
                  </a:lnTo>
                  <a:lnTo>
                    <a:pt x="1616" y="2078"/>
                  </a:lnTo>
                  <a:lnTo>
                    <a:pt x="1630" y="2078"/>
                  </a:lnTo>
                  <a:lnTo>
                    <a:pt x="1645" y="2078"/>
                  </a:lnTo>
                  <a:lnTo>
                    <a:pt x="1658" y="2079"/>
                  </a:lnTo>
                  <a:lnTo>
                    <a:pt x="1671" y="2079"/>
                  </a:lnTo>
                  <a:lnTo>
                    <a:pt x="1685" y="2079"/>
                  </a:lnTo>
                  <a:lnTo>
                    <a:pt x="1698" y="2079"/>
                  </a:lnTo>
                  <a:lnTo>
                    <a:pt x="1709" y="2079"/>
                  </a:lnTo>
                  <a:lnTo>
                    <a:pt x="1721" y="2079"/>
                  </a:lnTo>
                  <a:lnTo>
                    <a:pt x="1731" y="2079"/>
                  </a:lnTo>
                  <a:lnTo>
                    <a:pt x="1741" y="2079"/>
                  </a:lnTo>
                  <a:lnTo>
                    <a:pt x="1747" y="2079"/>
                  </a:lnTo>
                  <a:lnTo>
                    <a:pt x="1753" y="2079"/>
                  </a:lnTo>
                  <a:lnTo>
                    <a:pt x="1757" y="2079"/>
                  </a:lnTo>
                  <a:lnTo>
                    <a:pt x="1760" y="2079"/>
                  </a:lnTo>
                  <a:lnTo>
                    <a:pt x="1762" y="2079"/>
                  </a:lnTo>
                  <a:lnTo>
                    <a:pt x="1764" y="2079"/>
                  </a:lnTo>
                  <a:lnTo>
                    <a:pt x="1766" y="2079"/>
                  </a:lnTo>
                  <a:lnTo>
                    <a:pt x="1768" y="2079"/>
                  </a:lnTo>
                  <a:lnTo>
                    <a:pt x="1769" y="2079"/>
                  </a:lnTo>
                  <a:lnTo>
                    <a:pt x="1773" y="2079"/>
                  </a:lnTo>
                  <a:lnTo>
                    <a:pt x="1777" y="2079"/>
                  </a:lnTo>
                  <a:lnTo>
                    <a:pt x="1783" y="2079"/>
                  </a:lnTo>
                  <a:lnTo>
                    <a:pt x="1790" y="2079"/>
                  </a:lnTo>
                  <a:lnTo>
                    <a:pt x="1801" y="2079"/>
                  </a:lnTo>
                  <a:lnTo>
                    <a:pt x="1813" y="2079"/>
                  </a:lnTo>
                  <a:lnTo>
                    <a:pt x="1829" y="2079"/>
                  </a:lnTo>
                </a:path>
              </a:pathLst>
            </a:custGeom>
            <a:noFill/>
            <a:ln w="4428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570640" y="2060640"/>
            <a:ext cx="4346640" cy="3197160"/>
            <a:chOff x="5570640" y="2060640"/>
            <a:chExt cx="4346640" cy="3197160"/>
          </a:xfrm>
        </p:grpSpPr>
        <p:sp>
          <p:nvSpPr>
            <p:cNvPr id="244" name=""/>
            <p:cNvSpPr/>
            <p:nvPr/>
          </p:nvSpPr>
          <p:spPr>
            <a:xfrm flipV="1">
              <a:off x="5570640" y="2060280"/>
              <a:ext cx="4346640" cy="310680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14960" y="3473280"/>
              <a:ext cx="231156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sujeto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4200" y="2254320"/>
              <a:ext cx="161784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5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55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55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43760" y="2222640"/>
              <a:ext cx="841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4307040"/>
              <a:ext cx="96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477120" y="3830760"/>
              <a:ext cx="2818800" cy="1427040"/>
              <a:chOff x="6477120" y="3830760"/>
              <a:chExt cx="2818800" cy="1427040"/>
            </a:xfrm>
          </p:grpSpPr>
          <p:sp>
            <p:nvSpPr>
              <p:cNvPr id="250" name=""/>
              <p:cNvSpPr/>
              <p:nvPr/>
            </p:nvSpPr>
            <p:spPr>
              <a:xfrm>
                <a:off x="6642000" y="3929040"/>
                <a:ext cx="2653920" cy="13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4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GB" sz="55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i="1" lang="en-GB" sz="4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i="1" lang="en-GB" sz="4000" spc="-1" strike="noStrike" baseline="-25000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0" i="1" lang="en-GB" sz="4000" spc="-1" strike="noStrike">
                    <a:solidFill>
                      <a:srgbClr val="ff0000"/>
                    </a:solidFill>
                    <a:latin typeface="Times New Roman"/>
                  </a:rPr>
                  <a:t> x</a:t>
                </a:r>
                <a:r>
                  <a:rPr b="0" i="1" lang="en-GB" sz="4000" spc="-1" strike="noStrike" baseline="-25000">
                    <a:solidFill>
                      <a:srgbClr val="ff0000"/>
                    </a:solidFill>
                    <a:latin typeface="Times New Roman"/>
                  </a:rPr>
                  <a:t>i </a:t>
                </a:r>
                <a:r>
                  <a:rPr b="0" lang="en-GB" sz="4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</a:t>
                </a:r>
                <a:r>
                  <a:rPr b="0" i="1" lang="en-GB" sz="40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77120" y="3830760"/>
                <a:ext cx="722160" cy="14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=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2387880" y="3242160"/>
            <a:ext cx="2223720" cy="1799640"/>
            <a:chOff x="2387880" y="3242160"/>
            <a:chExt cx="2223720" cy="1799640"/>
          </a:xfrm>
        </p:grpSpPr>
        <p:sp>
          <p:nvSpPr>
            <p:cNvPr id="253" name=""/>
            <p:cNvSpPr/>
            <p:nvPr/>
          </p:nvSpPr>
          <p:spPr>
            <a:xfrm>
              <a:off x="2838600" y="4179960"/>
              <a:ext cx="1630080" cy="861840"/>
            </a:xfrm>
            <a:custGeom>
              <a:avLst/>
              <a:gdLst/>
              <a:ahLst/>
              <a:rect l="l" t="t" r="r" b="b"/>
              <a:pathLst>
                <a:path w="1027" h="543">
                  <a:moveTo>
                    <a:pt x="0" y="423"/>
                  </a:moveTo>
                  <a:lnTo>
                    <a:pt x="604" y="70"/>
                  </a:lnTo>
                  <a:lnTo>
                    <a:pt x="524" y="0"/>
                  </a:lnTo>
                  <a:lnTo>
                    <a:pt x="1007" y="36"/>
                  </a:lnTo>
                  <a:lnTo>
                    <a:pt x="1026" y="311"/>
                  </a:lnTo>
                  <a:lnTo>
                    <a:pt x="949" y="263"/>
                  </a:lnTo>
                  <a:lnTo>
                    <a:pt x="184" y="542"/>
                  </a:lnTo>
                  <a:lnTo>
                    <a:pt x="0" y="423"/>
                  </a:lnTo>
                  <a:lnTo>
                    <a:pt x="0" y="423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16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100000">
              <a:off x="2438280" y="3657240"/>
              <a:ext cx="2122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Courier New"/>
                </a:rPr>
                <a:t>increm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Courier New"/>
                </a:rPr>
                <a:t>prefer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609480"/>
            <a:ext cx="98298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olución al problema prim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5562720"/>
            <a:ext cx="1219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5257800"/>
            <a:ext cx="1065240" cy="1066680"/>
          </a:xfrm>
          <a:custGeom>
            <a:avLst/>
            <a:gdLst/>
            <a:ahLst/>
            <a:rect l="l" t="t" r="r" b="b"/>
            <a:pathLst>
              <a:path w="499" h="500">
                <a:moveTo>
                  <a:pt x="55" y="96"/>
                </a:moveTo>
                <a:lnTo>
                  <a:pt x="27" y="138"/>
                </a:lnTo>
                <a:lnTo>
                  <a:pt x="9" y="181"/>
                </a:lnTo>
                <a:lnTo>
                  <a:pt x="0" y="224"/>
                </a:lnTo>
                <a:lnTo>
                  <a:pt x="0" y="266"/>
                </a:lnTo>
                <a:lnTo>
                  <a:pt x="5" y="308"/>
                </a:lnTo>
                <a:lnTo>
                  <a:pt x="20" y="347"/>
                </a:lnTo>
                <a:lnTo>
                  <a:pt x="39" y="383"/>
                </a:lnTo>
                <a:lnTo>
                  <a:pt x="65" y="415"/>
                </a:lnTo>
                <a:lnTo>
                  <a:pt x="95" y="444"/>
                </a:lnTo>
                <a:lnTo>
                  <a:pt x="128" y="467"/>
                </a:lnTo>
                <a:lnTo>
                  <a:pt x="166" y="485"/>
                </a:lnTo>
                <a:lnTo>
                  <a:pt x="206" y="495"/>
                </a:lnTo>
                <a:lnTo>
                  <a:pt x="248" y="499"/>
                </a:lnTo>
                <a:lnTo>
                  <a:pt x="292" y="495"/>
                </a:lnTo>
                <a:lnTo>
                  <a:pt x="337" y="482"/>
                </a:lnTo>
                <a:lnTo>
                  <a:pt x="381" y="458"/>
                </a:lnTo>
                <a:lnTo>
                  <a:pt x="420" y="429"/>
                </a:lnTo>
                <a:lnTo>
                  <a:pt x="451" y="395"/>
                </a:lnTo>
                <a:lnTo>
                  <a:pt x="474" y="358"/>
                </a:lnTo>
                <a:lnTo>
                  <a:pt x="489" y="318"/>
                </a:lnTo>
                <a:lnTo>
                  <a:pt x="497" y="277"/>
                </a:lnTo>
                <a:lnTo>
                  <a:pt x="498" y="236"/>
                </a:lnTo>
                <a:lnTo>
                  <a:pt x="491" y="195"/>
                </a:lnTo>
                <a:lnTo>
                  <a:pt x="479" y="155"/>
                </a:lnTo>
                <a:lnTo>
                  <a:pt x="460" y="119"/>
                </a:lnTo>
                <a:lnTo>
                  <a:pt x="437" y="86"/>
                </a:lnTo>
                <a:lnTo>
                  <a:pt x="407" y="57"/>
                </a:lnTo>
                <a:lnTo>
                  <a:pt x="374" y="32"/>
                </a:lnTo>
                <a:lnTo>
                  <a:pt x="335" y="14"/>
                </a:lnTo>
                <a:lnTo>
                  <a:pt x="293" y="3"/>
                </a:lnTo>
                <a:lnTo>
                  <a:pt x="247" y="0"/>
                </a:lnTo>
                <a:lnTo>
                  <a:pt x="198" y="5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09480" y="3097080"/>
            <a:ext cx="8391240" cy="4675320"/>
            <a:chOff x="609480" y="3097080"/>
            <a:chExt cx="8391240" cy="4675320"/>
          </a:xfrm>
        </p:grpSpPr>
        <p:sp>
          <p:nvSpPr>
            <p:cNvPr id="259" name=""/>
            <p:cNvSpPr/>
            <p:nvPr/>
          </p:nvSpPr>
          <p:spPr>
            <a:xfrm>
              <a:off x="981000" y="3097080"/>
              <a:ext cx="7165800" cy="4667400"/>
            </a:xfrm>
            <a:custGeom>
              <a:avLst/>
              <a:gdLst/>
              <a:ahLst/>
              <a:rect l="l" t="t" r="r" b="b"/>
              <a:pathLst>
                <a:path w="4514" h="2940">
                  <a:moveTo>
                    <a:pt x="2245" y="891"/>
                  </a:moveTo>
                  <a:lnTo>
                    <a:pt x="1612" y="686"/>
                  </a:lnTo>
                  <a:lnTo>
                    <a:pt x="1513" y="981"/>
                  </a:lnTo>
                  <a:lnTo>
                    <a:pt x="178" y="623"/>
                  </a:lnTo>
                  <a:lnTo>
                    <a:pt x="1149" y="1336"/>
                  </a:lnTo>
                  <a:lnTo>
                    <a:pt x="393" y="1452"/>
                  </a:lnTo>
                  <a:lnTo>
                    <a:pt x="1099" y="1758"/>
                  </a:lnTo>
                  <a:lnTo>
                    <a:pt x="0" y="2201"/>
                  </a:lnTo>
                  <a:lnTo>
                    <a:pt x="1439" y="1994"/>
                  </a:lnTo>
                  <a:lnTo>
                    <a:pt x="1034" y="2473"/>
                  </a:lnTo>
                  <a:lnTo>
                    <a:pt x="1885" y="2267"/>
                  </a:lnTo>
                  <a:lnTo>
                    <a:pt x="2120" y="2939"/>
                  </a:lnTo>
                  <a:lnTo>
                    <a:pt x="2350" y="2267"/>
                  </a:lnTo>
                  <a:lnTo>
                    <a:pt x="3002" y="2560"/>
                  </a:lnTo>
                  <a:lnTo>
                    <a:pt x="3110" y="2139"/>
                  </a:lnTo>
                  <a:lnTo>
                    <a:pt x="4513" y="2609"/>
                  </a:lnTo>
                  <a:lnTo>
                    <a:pt x="3350" y="1819"/>
                  </a:lnTo>
                  <a:lnTo>
                    <a:pt x="4000" y="1626"/>
                  </a:lnTo>
                  <a:lnTo>
                    <a:pt x="3496" y="1393"/>
                  </a:lnTo>
                  <a:lnTo>
                    <a:pt x="4194" y="886"/>
                  </a:lnTo>
                  <a:lnTo>
                    <a:pt x="3171" y="1027"/>
                  </a:lnTo>
                  <a:lnTo>
                    <a:pt x="3153" y="672"/>
                  </a:lnTo>
                  <a:lnTo>
                    <a:pt x="2735" y="830"/>
                  </a:lnTo>
                  <a:lnTo>
                    <a:pt x="2551" y="0"/>
                  </a:lnTo>
                  <a:lnTo>
                    <a:pt x="2245" y="891"/>
                  </a:lnTo>
                  <a:lnTo>
                    <a:pt x="2245" y="89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480" y="3373560"/>
              <a:ext cx="8391240" cy="4398840"/>
            </a:xfrm>
            <a:custGeom>
              <a:avLst/>
              <a:gdLst/>
              <a:ahLst/>
              <a:rect l="l" t="t" r="r" b="b"/>
              <a:pathLst>
                <a:path w="5286" h="2771">
                  <a:moveTo>
                    <a:pt x="1613" y="797"/>
                  </a:moveTo>
                  <a:lnTo>
                    <a:pt x="586" y="798"/>
                  </a:lnTo>
                  <a:lnTo>
                    <a:pt x="1344" y="1230"/>
                  </a:lnTo>
                  <a:lnTo>
                    <a:pt x="0" y="1544"/>
                  </a:lnTo>
                  <a:lnTo>
                    <a:pt x="1462" y="1646"/>
                  </a:lnTo>
                  <a:lnTo>
                    <a:pt x="1032" y="2058"/>
                  </a:lnTo>
                  <a:lnTo>
                    <a:pt x="1875" y="1977"/>
                  </a:lnTo>
                  <a:lnTo>
                    <a:pt x="1549" y="2770"/>
                  </a:lnTo>
                  <a:lnTo>
                    <a:pt x="2383" y="2003"/>
                  </a:lnTo>
                  <a:lnTo>
                    <a:pt x="2600" y="2526"/>
                  </a:lnTo>
                  <a:lnTo>
                    <a:pt x="3003" y="2010"/>
                  </a:lnTo>
                  <a:lnTo>
                    <a:pt x="3891" y="2398"/>
                  </a:lnTo>
                  <a:lnTo>
                    <a:pt x="3339" y="1809"/>
                  </a:lnTo>
                  <a:lnTo>
                    <a:pt x="4129" y="1740"/>
                  </a:lnTo>
                  <a:lnTo>
                    <a:pt x="3757" y="1384"/>
                  </a:lnTo>
                  <a:lnTo>
                    <a:pt x="5285" y="1119"/>
                  </a:lnTo>
                  <a:lnTo>
                    <a:pt x="3584" y="1044"/>
                  </a:lnTo>
                  <a:lnTo>
                    <a:pt x="3857" y="621"/>
                  </a:lnTo>
                  <a:lnTo>
                    <a:pt x="3236" y="672"/>
                  </a:lnTo>
                  <a:lnTo>
                    <a:pt x="3202" y="0"/>
                  </a:lnTo>
                  <a:lnTo>
                    <a:pt x="2610" y="673"/>
                  </a:lnTo>
                  <a:lnTo>
                    <a:pt x="2216" y="290"/>
                  </a:lnTo>
                  <a:lnTo>
                    <a:pt x="2081" y="588"/>
                  </a:lnTo>
                  <a:lnTo>
                    <a:pt x="1052" y="62"/>
                  </a:lnTo>
                  <a:lnTo>
                    <a:pt x="1613" y="797"/>
                  </a:lnTo>
                  <a:lnTo>
                    <a:pt x="1613" y="79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0920" y="4657680"/>
              <a:ext cx="338940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Brush738 BT"/>
                </a:rPr>
                <a:t>Pero hay otra manera de ver esto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04920" y="4106160"/>
            <a:ext cx="3900240" cy="912600"/>
          </a:xfrm>
          <a:prstGeom prst="wedgeEllipseCallout">
            <a:avLst>
              <a:gd name="adj1" fmla="val 46046"/>
              <a:gd name="adj2" fmla="val 201060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Restri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362320" y="4597560"/>
            <a:ext cx="3673440" cy="2447640"/>
          </a:xfrm>
          <a:prstGeom prst="line">
            <a:avLst/>
          </a:prstGeom>
          <a:ln w="31680">
            <a:solidFill>
              <a:srgbClr val="ff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27400" y="2571840"/>
            <a:ext cx="4356000" cy="4471920"/>
          </a:xfrm>
          <a:custGeom>
            <a:avLst/>
            <a:gdLst/>
            <a:ahLst/>
            <a:rect l="l" t="t" r="r" b="b"/>
            <a:pathLst>
              <a:path w="2744" h="2817">
                <a:moveTo>
                  <a:pt x="0" y="0"/>
                </a:moveTo>
                <a:lnTo>
                  <a:pt x="0" y="2816"/>
                </a:lnTo>
                <a:lnTo>
                  <a:pt x="2743" y="2816"/>
                </a:lnTo>
              </a:path>
            </a:pathLst>
          </a:custGeom>
          <a:noFill/>
          <a:ln w="4752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349360" y="3998880"/>
            <a:ext cx="4230720" cy="2868480"/>
          </a:xfrm>
          <a:prstGeom prst="line">
            <a:avLst/>
          </a:prstGeom>
          <a:ln w="31680">
            <a:solidFill>
              <a:srgbClr val="ff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51160" y="5113440"/>
            <a:ext cx="3036960" cy="1944720"/>
          </a:xfrm>
          <a:prstGeom prst="line">
            <a:avLst/>
          </a:prstGeom>
          <a:ln w="31680">
            <a:solidFill>
              <a:srgbClr val="ff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52600" y="5537160"/>
            <a:ext cx="2378160" cy="1523880"/>
          </a:xfrm>
          <a:prstGeom prst="line">
            <a:avLst/>
          </a:prstGeom>
          <a:ln w="31680">
            <a:solidFill>
              <a:srgbClr val="ff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350800" y="3449520"/>
            <a:ext cx="5033880" cy="3414960"/>
          </a:xfrm>
          <a:prstGeom prst="line">
            <a:avLst/>
          </a:prstGeom>
          <a:ln w="31680">
            <a:solidFill>
              <a:srgbClr val="ff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6040" y="717480"/>
            <a:ext cx="9453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lternativamente el consumidor intenta minimizar cost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78400" y="6127920"/>
            <a:ext cx="2984040" cy="1619640"/>
            <a:chOff x="4478400" y="6127920"/>
            <a:chExt cx="2984040" cy="1619640"/>
          </a:xfrm>
        </p:grpSpPr>
        <p:sp>
          <p:nvSpPr>
            <p:cNvPr id="271" name=""/>
            <p:cNvSpPr/>
            <p:nvPr/>
          </p:nvSpPr>
          <p:spPr>
            <a:xfrm>
              <a:off x="4478400" y="6127920"/>
              <a:ext cx="1630440" cy="861840"/>
            </a:xfrm>
            <a:custGeom>
              <a:avLst/>
              <a:gdLst/>
              <a:ahLst/>
              <a:rect l="l" t="t" r="r" b="b"/>
              <a:pathLst>
                <a:path w="1027" h="543">
                  <a:moveTo>
                    <a:pt x="1026" y="120"/>
                  </a:moveTo>
                  <a:lnTo>
                    <a:pt x="422" y="472"/>
                  </a:lnTo>
                  <a:lnTo>
                    <a:pt x="502" y="542"/>
                  </a:lnTo>
                  <a:lnTo>
                    <a:pt x="19" y="506"/>
                  </a:lnTo>
                  <a:lnTo>
                    <a:pt x="0" y="232"/>
                  </a:lnTo>
                  <a:lnTo>
                    <a:pt x="77" y="280"/>
                  </a:lnTo>
                  <a:lnTo>
                    <a:pt x="842" y="0"/>
                  </a:lnTo>
                  <a:lnTo>
                    <a:pt x="1026" y="120"/>
                  </a:lnTo>
                  <a:lnTo>
                    <a:pt x="1026" y="12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16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246400">
              <a:off x="5208120" y="6553080"/>
              <a:ext cx="218304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600" spc="-1" strike="noStrike">
                  <a:solidFill>
                    <a:srgbClr val="5f5f5f"/>
                  </a:solidFill>
                  <a:latin typeface="Arial"/>
                </a:rPr>
                <a:t>reduci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600" spc="-1" strike="noStrike">
                  <a:solidFill>
                    <a:srgbClr val="5f5f5f"/>
                  </a:solidFill>
                  <a:latin typeface="Arial"/>
                </a:rPr>
                <a:t>cost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411280" y="2079720"/>
            <a:ext cx="63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6858000"/>
            <a:ext cx="636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4:06Z</dcterms:created>
  <dc:creator>Frank A. Cowell</dc:creator>
  <dc:description/>
  <dc:language>en-US</dc:language>
  <cp:lastModifiedBy>FERNANDO VICTOR TOW</cp:lastModifiedBy>
  <dcterms:modified xsi:type="dcterms:W3CDTF">1998-10-02T01:51:12Z</dcterms:modified>
  <cp:revision>82</cp:revision>
  <dc:subject/>
  <dc:title>Capitilo II Consumidor</dc:title>
</cp:coreProperties>
</file>