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528E-003E-430D-8B1C-94B059F5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8D35-7258-463B-A128-E784BAB7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4BAA-71DB-4E23-919A-8874DDB0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2C3-F319-4AA6-A3E7-9C006EEE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98D5-72FD-4C6F-8250-69DA951C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D871-C54D-48BA-ADA9-AB2AF1C4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255-8251-4DCA-89F4-D92C7CCE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F555-19F3-481D-A37D-73A7D472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FFF-0F0B-4092-A9B3-175B1C7F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0FDA-294D-4C35-82C1-4790C9DD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4D3C-A7CC-436F-BE89-320AB7F0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D90-EE9C-4C74-995A-E2A9905B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&lt;date/time&gt;</a:t>
            </a: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Simulation with Arena, 3</a:t>
            </a:r>
            <a:r>
              <a:rPr b="0" i="1" lang="en-US" sz="1400" spc="-1" strike="noStrike" baseline="30000">
                <a:solidFill>
                  <a:srgbClr val="00009b"/>
                </a:solidFill>
                <a:latin typeface="Arial"/>
              </a:rPr>
              <a:t>rd</a:t>
            </a: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243000" cy="3049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98480" y="6552720"/>
            <a:ext cx="5562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Chapter 11 – Continuous &amp; Combined Discrete/Continuous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72400" y="65527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Slide </a:t>
            </a:r>
            <a:fld id="{EB9C0A44-04F0-4619-9FF9-8AB6F35EBD2F}" type="slidenum">
              <a:rPr b="0" lang="en-US" sz="1400" spc="-1" strike="noStrike">
                <a:solidFill>
                  <a:srgbClr val="00009b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 of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480" y="76320"/>
            <a:ext cx="5109840" cy="6400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81120" y="0"/>
            <a:ext cx="3962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9b"/>
                </a:solidFill>
                <a:latin typeface="Arial"/>
              </a:rPr>
              <a:t>Continuous and Combined Discrete/</a:t>
            </a:r>
            <a:br>
              <a:rPr sz="4000"/>
            </a:br>
            <a:r>
              <a:rPr b="1" lang="en-US" sz="4000" spc="-1" strike="noStrike">
                <a:solidFill>
                  <a:srgbClr val="00009b"/>
                </a:solidFill>
                <a:latin typeface="Arial"/>
              </a:rPr>
              <a:t>Continuous Models</a:t>
            </a:r>
            <a:endParaRPr b="1" lang="en-US" sz="40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81480" y="32767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6248520"/>
            <a:ext cx="19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Last revision July 21,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744-287D-4C3D-B906-1A9D4395EB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b"/>
                </a:solidFill>
                <a:latin typeface="Arial"/>
              </a:rPr>
              <a:t>Combined Discrete/Continuous</a:t>
            </a:r>
            <a:endParaRPr b="1" lang="en-US" sz="40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960" y="1218960"/>
            <a:ext cx="87930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l and empty logic using Detect mod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9040" y="1763640"/>
            <a:ext cx="7615080" cy="461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371-45A0-448F-9BD5-81119C19A2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mplex System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960" y="1219320"/>
            <a:ext cx="869292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-linear systems require special algorithms like Runge-Kutta-Fehlberg (RKF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sizes must be set careful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er step size will generate more accurate results because Arena will calculate continuous-change variables more ofte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r step size will run faster, but your error tolerances will need to be set high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y situations (like a gravity fed tank) are actually non-linear, but can be accurately approximated with faster, linear method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6862-F5EF-45EC-86E4-F7CAC1607B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hat We’ll Do ...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1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continuous syste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linear continuous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bined discrete/continuous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-linear and complex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BAD-F0B2-45C3-BE28-42AE38D995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ntinuous System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crete system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State changes occur at isolated points in time called ev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tinuous system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State changes may occur continuously over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of fluids and fluid-lik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59B6-3769-424E-BB93-407318E59A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ntinuous System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ystems (linea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of change is constant between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value can be calculated from starting value and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tep directly to calculated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systems (non-linea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of change may depend on other continuous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d approaches used to captur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s continuous change by making a series of small steps between the usual discrete ev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68E1-6F9B-4E27-B863-0D5BA1503A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ntinuous System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of simple continuous system filling a tank smoothly over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65280" y="2155680"/>
            <a:ext cx="7940520" cy="427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82B0-E7BF-4ECC-9C33-B489DD673D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ntinuous System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constructs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s &amp; Rates from Elements Pan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v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the value that is changing over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termines the rate of change of th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are similar to Variables in that they can be assigned a new value at any tim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s may also change as time advances if the value of the associated Rate is non-zer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evel and a Rate should be used as a pa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.g. If you have 4 Levels you should have 4 R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536-430B-4A5A-B4CF-F02C3EF1E4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ple Continuous System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ous Element specifies integration parameter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umber of Dif Equ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n simple systems, leave at default of number of Rate/Level pai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tate Equations – Ignore in simple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inimum step 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minimum time advance between integration steps. Use 0.0 in simple syste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ximum step 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maximum time advance between integration steps. Use a high value (100) in simple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Point Interval – The maximum time between save points for recording continuous statistics (CSTA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Us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u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ar algorithm for simple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A43D-71E1-4ABB-AA00-65295B15DC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ple Continuous System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960" y="1218960"/>
            <a:ext cx="87930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rete control loop to empty and refill a tan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2200" y="1881360"/>
            <a:ext cx="8821800" cy="459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5A2B-99C1-47C9-BF4F-2E9AF07A8B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mbined Discrete/Continuou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960" y="1219320"/>
            <a:ext cx="879300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tect Modu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om Blocks panel “watches” for and helps predict ev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ches for value of a variable to cross a threshold value (e.g. a tank level reaching its maximum valu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Create Module in that an entity is created when crossing occu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8030-9D71-470D-92CF-B55370A605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20:49:48Z</dcterms:created>
  <dc:creator>Kelton/Sadowski/Sturrock</dc:creator>
  <dc:description/>
  <dc:language>en-US</dc:language>
  <cp:lastModifiedBy> </cp:lastModifiedBy>
  <dcterms:modified xsi:type="dcterms:W3CDTF">2003-07-22T01:19:51Z</dcterms:modified>
  <cp:revision>442</cp:revision>
  <dc:subject/>
  <dc:title>Chapter 11 -- Continuous and Combined Discrete/Continuous Models</dc:title>
</cp:coreProperties>
</file>