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C7BB-A38C-49F1-9D94-856B469B3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3965400"/>
            <a:ext cx="899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E04F-25D2-4FC4-8F4A-0007DF33E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218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396540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396540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FE00-28F8-4E08-9386-8710E1802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21896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21896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396540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396540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396540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65F2-2275-4AC3-9C04-5E4EFA10E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1E56-E6F6-48CF-BC0F-F0E7F75F7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CB45-FA1F-4DE7-BF10-14E354BA8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4387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218960"/>
            <a:ext cx="4387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C730-B42B-4847-B746-54EC3DB9C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CC62-913E-4792-8D36-F065C2549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899136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569C-DB47-4771-B0C5-3EC065BB8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218960"/>
            <a:ext cx="4387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396540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91C0-1182-467D-B33A-EEB662C7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4387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218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396540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83C1-CC3D-44D1-9FE5-572F4EE1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218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3965400"/>
            <a:ext cx="899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2076-2569-4B4F-8ED8-BFAF6034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12600">
            <a:solidFill>
              <a:srgbClr val="0000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12600">
            <a:solidFill>
              <a:srgbClr val="0000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28600" y="6552720"/>
            <a:ext cx="2743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9b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9b"/>
                </a:solidFill>
                <a:latin typeface="Arial"/>
              </a:rPr>
              <a:t>&lt;date/time&gt;</a:t>
            </a:r>
            <a:r>
              <a:rPr b="0" i="1" lang="en-US" sz="1400" spc="-1" strike="noStrike">
                <a:solidFill>
                  <a:srgbClr val="00009b"/>
                </a:solidFill>
                <a:latin typeface="Arial"/>
              </a:rPr>
              <a:t>Simulation with Arena, 3</a:t>
            </a:r>
            <a:r>
              <a:rPr b="0" i="1" lang="en-US" sz="1400" spc="-1" strike="noStrike" baseline="30000">
                <a:solidFill>
                  <a:srgbClr val="00009b"/>
                </a:solidFill>
                <a:latin typeface="Arial"/>
              </a:rPr>
              <a:t>rd</a:t>
            </a:r>
            <a:r>
              <a:rPr b="0" i="1" lang="en-US" sz="1400" spc="-1" strike="noStrike">
                <a:solidFill>
                  <a:srgbClr val="00009b"/>
                </a:solidFill>
                <a:latin typeface="Arial"/>
              </a:rPr>
              <a:t>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6553080"/>
            <a:ext cx="243000" cy="3049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639520" y="6552720"/>
            <a:ext cx="5348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b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b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0009b"/>
                </a:solidFill>
                <a:latin typeface="Arial"/>
              </a:rPr>
              <a:t>Chapter 7 – Intermediate Modeling &amp; Steady-State Stat.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772400" y="65527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b"/>
                </a:solidFill>
                <a:latin typeface="Arial"/>
              </a:rPr>
              <a:t>Slide </a:t>
            </a:r>
            <a:fld id="{7253C64E-C7A8-4772-8B58-428F2195E7C0}" type="slidenum">
              <a:rPr b="0" lang="en-US" sz="1400" spc="-1" strike="noStrike">
                <a:solidFill>
                  <a:srgbClr val="00009b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9b"/>
                </a:solidFill>
                <a:latin typeface="Arial"/>
              </a:rPr>
              <a:t> of 3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0480" y="76320"/>
            <a:ext cx="5109840" cy="64008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181120" y="0"/>
            <a:ext cx="39625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9b"/>
                </a:solidFill>
                <a:latin typeface="Arial"/>
              </a:rPr>
              <a:t>Intermediate Modeling and Steady-State Statistical Analysis</a:t>
            </a:r>
            <a:endParaRPr b="1" lang="en-US" sz="40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181480" y="32767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162920" y="6248520"/>
            <a:ext cx="198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Last revision June 9,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3082-881D-4D06-88A8-F9BDDE17659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Variable Data Module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ic Process pan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acto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factor at Cell 3 – need a two-row 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new (faster) machine is #1, old (slower) machine is #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.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index 1; set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.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index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ransfer Ti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ds transfer-time constant of 2 minutes between 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st a scalar, not a vector or matri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model generality – if all transfer times changed, this makes it easy to implement this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se are the Initial Values of variables … any entity can change th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ey’re constant in thi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633B-FCB0-4162-9139-3C80ACA6202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et Data Module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ic Process pan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e three se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 set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ell 3 Mach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new and old machine (in that order) at Cell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 Names – could have already defined them in Resource data module, or can define them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ity Picture set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art Pi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ttach to entities once their part type is determ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 Names – could have already defined them elsewhe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d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ntity Pictur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or can define them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ity Type set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tity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ttach to entities once their part type is determ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ity Types – define them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39C9-8D46-433D-BC7F-137822F54B4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Advanced Set Data Module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 Advanced Process pan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eded since Set data module does not have “Other” category for Typ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form a set of Sequences to attach the right one to arriving entities once their part type is determ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Name of set to b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art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Type is “Oth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bers subdialog – Add rows, type in names in “Other” column (have to remember or look up the Sequence nam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DF02-2A72-47A0-9832-6BFA60E2C67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b"/>
                </a:solidFill>
                <a:latin typeface="Arial"/>
              </a:rPr>
              <a:t>Run</a:t>
            </a: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 &gt; </a:t>
            </a:r>
            <a:r>
              <a:rPr b="1" i="1" lang="en-US" sz="3600" spc="-1" strike="noStrike">
                <a:solidFill>
                  <a:srgbClr val="00009b"/>
                </a:solidFill>
                <a:latin typeface="Arial"/>
              </a:rPr>
              <a:t>Setup</a:t>
            </a: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 and </a:t>
            </a:r>
            <a:r>
              <a:rPr b="1" i="1" lang="en-US" sz="3600" spc="-1" strike="noStrike">
                <a:solidFill>
                  <a:srgbClr val="00009b"/>
                </a:solidFill>
                <a:latin typeface="Arial"/>
              </a:rPr>
              <a:t>Edit</a:t>
            </a: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 &gt; </a:t>
            </a:r>
            <a:r>
              <a:rPr b="1" i="1" lang="en-US" sz="3600" spc="-1" strike="noStrike">
                <a:solidFill>
                  <a:srgbClr val="00009b"/>
                </a:solidFill>
                <a:latin typeface="Arial"/>
              </a:rPr>
              <a:t>Entity Picture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etu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Dialo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ication Parameters T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ication Length = 32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 Hours/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 Time Units =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di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ntity Pictu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three custom pictures –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icture.Part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icture.Part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icture.Part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 blue, red, and green ball pi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ame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ture Editor to put white numbers inside via Text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06FF-14D1-40A9-BF05-1F6B345A2C2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Part Arrival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e module for arrival of one pa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at-a-time, Time Between Arrivals is exponential with mean 13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know the part type yet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sign module for part attribu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art 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draw from DISC probability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ir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umula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bability,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tity.Sequ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art Sequences(Part Inde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rt Inde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tribute already assigned … order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x in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rt Sequen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Advanced)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tity.Ty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tity Types(Part Inde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tity.Pic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art Picture(Part Inde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E8A6-E6D9-451F-976F-326EEA93D18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Release Arriving Entity into System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previously defined Sequences, assigned to entity via (Advanced) Set of Sequen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nd arriving entity through a Station module to define its current station lo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on Name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rder Rel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five station names already defined via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ute module to start it on its wa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 Time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ransfer 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 Variable previously defined)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tination Type = Sequ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na will direct this entity according to its own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just arrived so Arena initializes its JobStep attrib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232A-272A-4129-8450-2161463FCA2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Logic for Cell 1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ion module to define the station lo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on Name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ell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n pull-down list for stations since it was previously defined i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ll 1 Process modu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 = Seize Delay Rel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s subdia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= Resource (not Set … y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 Name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ell 1 Machin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ntity to seize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Type = Ex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ell 1 Times(Part Index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inutes, using the previously-defined Expressio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ell 1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ute module from Cell 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tination Type = Sequ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on already defined (on incoming s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5421-645D-44C8-AA70-61FC9236613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Logic for Cells 2 and 4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oming Station module – similar to Cell 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pt for names of Module and 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ss modu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, Resources, Delay Type – similar to Cell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ession for Delay time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cess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ribute defined in Sequence module for each job type at this point in its sequence for Cells 2 and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 that Part Type 2 visits Cell 2 twice in its sequence, wi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ffe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lay-time distributions … this data structure is general enough to handle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going Route module – similar to Cell 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pt for name of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20FD-82E2-4CFB-9237-21BB7F6E7E6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Logic for Cell 3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ion, Route modules – similar to Cells 1, 2, 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ss modu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, Delay Type – similar to Cells 1, 2,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s subdia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= Set, Set Name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ell 3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ion Rule for set = Cycl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ybe Preferred Order would have been better??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Attribute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chine Inde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ill be 1 or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ession for Delay time 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cess Time * Factor(Machine Index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multiply by 0.8 if entity gets the new machine (#1), using the preciously-defined vector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book for alternative (cute) expression that avoids the need for the vector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E33D-E0DC-4051-B636-6546140CB0A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Digression: Data Structure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an Expression for processing times at Cell 1 rather than entity Attribute assigned in Sequences as for the other cell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nk answer: Just to show the use of Ex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easily have treated Cell 1 like the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ersely, could have used Expression for processing times at Cells 3 and 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ere would be a problem with Cell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 2 visits it twice with different processing-time distributions, so would have to indicate which visit some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over, this is a very small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ral:  Think carefully about data structure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0B82-C522-45FB-9724-1E375F52351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What We’ll Do ...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 7-1:  A small manufacturing syst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ity-dependent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requirements and avai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ication (debugg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istical analysis of steady-state simul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mup and run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ncated re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t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methods and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5D2B-F794-4C8E-93A5-CE71EFF7A54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Logic for Exiting the System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ion module to define this lo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on Name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pose modu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Entity Statistics box is che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generate one of the outputs we want, cycle time (time in system) separated out by part type, since they map onto the entity types for thi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don’t need separate Record modules here to collect cycle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 would run at this point, give correct output results … but develop animation to show queues, resources, and movement 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6D66-DF1A-46EC-8149-8F558411E59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Animation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ll animation away from logic, data modu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ve, resize, reorient queues for realis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imate Routes (all movement possibilitie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ck “bundles” of routes — Shift key, Snap to G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ed clockwise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 lines to define route “lan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ort, modify AutoCAD .dxf file for backdrop and resource pictures (see text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e-tune resource pictu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ers for seize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animation, note that entities travel at very different rates, pass each other … realistic??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874D-4290-4C3F-9691-5FB9E8FEA88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Verification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stem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odel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“Code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Valid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 Is Model = System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Verific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 Is “Code” = Model?  (debugging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ruth:  Can probably never completely verify, especially for large mode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054D-EE0F-4B0D-B95C-5D3AD456AF6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Verification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 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 techniques to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ttemp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verif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minate error messages (obvious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entity release, Step through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Max Batches = 1 in Arr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ace part-type distribution with a con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ss” model under extreme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estimation — like slide-rule decimal pla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at generated SIMAN .mod and .exp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un &gt; SIMAN &gt;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6756-A6A8-4AC0-99B2-6EAA6233892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tatistical Analysis of Output from Steady-State Simulation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all:  Difference between terminating, steady-state simul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is appropriate depends on goal of study, and not so much on the model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models could be used for terminating or steady-state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w, assume steady-state is desir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sure this is so, since running and analysis is a lot harder than for terminating sim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turally, simulation run lengths can be lo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portunity for different internal computation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change numerical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cores need for statistical analysis of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A827-49D0-417A-B2B5-46D4F586B0C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Warm Up and Run Length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st models start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empty and i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Emp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No entities are present at time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Id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All resources are idle at time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terminating simulation this is OK if reali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steady-state simulation, though, this can bias the output for a while after star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as can go either 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ually downward (results are biased low) in queueing-type models that eventually get conge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ing on model, parameters, and run length, the bias can be very sev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1211-8DD0-43D2-A472-FC8A9CBCC2F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Warm Up and Run Length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 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medies for initialization bi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starting state, more typical of steady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ow some entities around the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inconvenient to do this in the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you know how many to throw and whe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what you’re trying to estimate in the first plac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the run so long that bias is overwhel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ght work if initial bias is weak or dissipates quick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model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warm u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till starting empty and i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un &gt; Setup &gt; Replication Paramet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Warm-up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unit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s” all statistics at that point for summary report, any Outputs-type saved data from Statistic module of results across re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24FE-5CC1-42D9-9586-CA1101E770B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Warm Up and Run Length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 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m-up and run length time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practical idea: preliminary runs,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y “eyeball”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careful about variability — make multiple replications, superimpos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, be careful to note “explosion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sibility – different Warm-up Periods for different output proces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conservative, take the m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specify a single Warm-up Period for the whol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42A0-A5FC-42F4-9F5A-3395A3E0A0D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Warm Up and Run Length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 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e a single overall output performance measure for Model 7-1 … modify it into Model 7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 is time-average total number of parts in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tic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-Persistent type, Name and Report Label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tal W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 (via Expression Builder … details in boo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titiesWIP(Part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)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titiesWIP(Part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)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titiesWIP(Part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Fil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tal WIP History.d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save within-run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imated plots disappear, can’t overlay plots from multiple replications … will use Output Analyzer to plot the saved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up the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un Contro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atch Run (No Anim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heck boxe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t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ject Paramet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Dispose 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gthen Replications to 5 days, do 10 Re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9543-93D6-4530-A53E-FEF0D183E89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Warm Up and Run Length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 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Output Analyz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data group, Add the fi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otal WIP History.d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rap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l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otal WIP History.d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eplications = All, enter Title, axis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apparent explo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m-up about 2000 min.; round up to 2 days (2880 min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152880" y="2171880"/>
            <a:ext cx="304560" cy="276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33520" y="3200400"/>
            <a:ext cx="8107200" cy="2428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A408-8687-4273-A8DA-93C4AD19D24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Model 7-1:</a:t>
            </a:r>
            <a:br>
              <a:rPr sz="3600"/>
            </a:b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A Small Manufacturing System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320" y="3276720"/>
            <a:ext cx="89913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 arrivals, four cells, part departu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lls 1, 2, and 4: single machine ea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ll 3: two machines — newer one 20% fas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: way to model non-identical resource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ircular layout of cel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s enter at left, exit at right, travel only clockwise, all transfer times = 2 min. (realistic?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881600" cy="2020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AF49-EBF7-40E0-8ABA-3018461191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Truncated Replication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you can identify appropriate warm-up and run-length times, just make replications as for terminating simul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difference:  Specify Warm-up Period in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tu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plication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ed with confidence intervals, comparisons, all statistical analysis as in terminating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 7-3: modify Model 7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m-Up period = 2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ck with (total) replication length of 5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ck with 10 re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ete Output File in Statistic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CA07-49B9-4281-AF30-0595370CC4B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Truncated Replications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 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t cross-replications 95% confidence-interval Half Widths in Repor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verage Total WIP, got 16.39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6.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out the Warm-up, this was 15.3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4.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harpen the comparison of the effect of the Warm-up, did 100 (rather than 10) replications with and without 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Warm-up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.45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.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out Warm-up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.42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0.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lf Widths with Warm-up are larger since each replication is based on the last 3 days, not all 5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maller confidence intervals?  Have a choic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plications, same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number of replications, each one lo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ight be the safer choice to guard against initialization 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8DF0-579B-4A73-97A5-35A9554BC58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Batching in a Single Run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model warms up very slowly, truncated replications can be cost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to “pay” warm-up on each re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ternative:  Just one 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R  E  A  L  L  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long ru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have to “pay” warm-up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:  Have only one “replication” and you need more than that to form a variance estimate (the basic quantity needed for statistical analys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g no-no:  Use the individual points within the run as “data” for variance estim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ually correlated (not indep.), variance estimate bi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446D-F490-4AEA-BA92-43CFBAF7C3F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Batching in a Single Run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 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eak each output record from the run into a few large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atch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lly (discrete-time) outputs:  Observation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-Persistent (continuous-time):  Time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ke averages over batches as “basic” statistics for estimation: 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atch mea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lly outputs:  Simple arithmetic aver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-Persistent:  Continuous-time aver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eat batch means as II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: batch size must be big enough for low correlation between successive batches (details in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might want to truncate (once, time-b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BEC3-C904-4BA6-99C4-378AA9F4273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Batching in a Single Run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 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ify Model 7-3 into Model 7-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replication of 50 days (about the same effort as 10 replications of 5 days ea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ngle 2-day Warm-up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tic module, save WIP data once again for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990720" y="3352680"/>
            <a:ext cx="5486400" cy="2960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477120" y="3657600"/>
            <a:ext cx="2286000" cy="243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ow to choose batch size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quivalently, how to choose the number of batches for a fixed run lengt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ant batches big enough so that batch means appear uncorrelat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60C5-0CAC-4A6F-A780-8E547FC3ABD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Batching in a Single Run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 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na automatically attempts to form 95% confidence intervals on steady-state output measures via batch means from within each single repl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lf Width” column in reports from one re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Category Overview report if you just have one re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Category by Replication report if you have multiple re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gnore if you’re doing a terminating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internal rules for batch sizes (details in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n’t report anything if your run is not long en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nsufficient)” if you don’t have the minimum amount of data Arena requires even to form a c.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rrelated)” if you don’t have enough data to form nearly-uncorrelated batch means, required to be sa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CD82-4F2C-4247-B259-BD46A461AB3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Batching in a Single Run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 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 from Model 7-4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egory Overview report, average total WIP: 13.6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.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lf Width considerably smaller than for truncated replications (10 replications, 5 days each, 2-day Warm-u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re we spend only a total of 2 days warming up, and with truncated replications we spent 1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 = 20 days warming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check batch-means half widths during ru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na variables THALF(Tally ID), DHALF(Dstat 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decide on your own batch sizes, form batch means and c.i.’s “by hand” with Output Analyz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?  Use in statistical comparison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information in 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A16E-5DEE-49BB-B895-F85A9E0218D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What To Do?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ral approaches, methods for steady-state statistical analysis … many more exi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inio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steady-state simulation … look at goal of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really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nt steady-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try Warm-up, truncated re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model warms up slowly, making truncated replications inefficient, consider Arena’s batch-means methods in a single long run with a single Warm-up Period at its beginning … can’t use statistical methods in PAN or OptQuest, th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ther methods, goals – references in tex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FCB0-C527-4CB6-B7BC-90BBA94982D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A Small Manufacturing System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 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ree separate part typ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rrivals (all types merged) ~ expo(13)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% type 1, 48% type 2, 26% typ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fferent part types follow different routes, have different (triangular) processing time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serve utilizations, time/number in queues, cycle times (times in system) by part typ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 for 32 hou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8080" y="3352680"/>
            <a:ext cx="6477120" cy="18496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620120" y="3657600"/>
            <a:ext cx="1295280" cy="945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arameters are for the slow machine at Cell 3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4E05-9DA5-43F8-913B-ABCF189BA6E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New Arena Concept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n-identical machines at Cell 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fferent entity types follow different process pla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ious models – all entities went through same sequence of stations, maybe with Decides for bran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, need process plan with automatic routing by entity type – different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Sequ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signed to each entity (like an attribute), and entity follows its own seq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n’t use direct Connect or Routes … instead we tell entities departing from modules to follow their own Seq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na internally keeps track of where entity is, where it will go n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7E7F-849C-465C-93E2-6D15AF32795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The Modeling Approach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ually there are many ways to build a (correct) Arena mod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also many ways to do so incorrectly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ortant to think about data structu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ata are availa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ill they be stored in the mod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this model 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equence for part transfer (described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part of Sequence definition, can define Attrib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for processing times at all cells but Cell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xpression for processing times at Cell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Variables for new-machine speedup at Cell 3, part transfer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CDFD-E1C7-40C3-9EDD-0D079062F5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equence Data Module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anced Transfer pan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uble-click for new row for each process pl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for each Seq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Steps column for subdia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ordered sequence of Stations to be visited in the Sequence … must have Station Names already def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uble-click to add a new Station to the bottom of the Sequence list; right-click to insert/delete a 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 for each st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Assignments of Attribute, Variable, Pictures, etc. at each station in the Sequence … this is don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ransferring the entity to this step in the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model, Attribute assignment used to atta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ess Ti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tribute to entity for the next Cell (except for Cell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2BF9-D276-41BA-A414-C4E71F0F923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equence Data Module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 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sign Sequence Name to entities that follow i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Route modules, select Sequence as Destination Type (rather than Statio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arting entity looks in its own sequence to know where to go n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na tracks Sequence-following entities via automatic attribu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ce name, NS (or Entity.Seque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on (where entity is or is going to), M (or Entity.St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bStep along the sequence, IS (or Entity.JobSte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rmally, entity is assigned a Sequence, travels its route, then exi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interrupt this sequence, jump forward/backward (trick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member to define the “exit” s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987C-0E9F-48F3-A540-CDBDF9AA37C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Expression Data Module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anced Process pan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for processing times at Cell 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have done in Sequences, as for other Cells … done this way mostly to illustrate its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ree different part types at Cell 1, so use a vector-valued Expression with three row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for the expression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ell 1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ws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ession Values subdia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 1 processing times for the three part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er matters, since index is part type … will reference a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ell 1 Times(Part Index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3A0D-A36E-45F9-AA82-317FFF01ABF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3T20:49:48Z</dcterms:created>
  <dc:creator>Kelton/Sadowski/Sturrock</dc:creator>
  <dc:description/>
  <dc:language>en-US</dc:language>
  <cp:lastModifiedBy> </cp:lastModifiedBy>
  <dcterms:modified xsi:type="dcterms:W3CDTF">2003-06-09T20:11:23Z</dcterms:modified>
  <cp:revision>423</cp:revision>
  <dc:subject/>
  <dc:title>Chapter 7 -- Intermediate Modeling and Steady-State Statistical Analysis</dc:title>
</cp:coreProperties>
</file>