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FA7-07AD-4063-AB6C-616892B6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A45-96AC-42EE-A3EF-A592FF6C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BB4-08FD-4843-AD64-8118445A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4B5-B611-4144-8E40-3B9F76CE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5A8-70DF-42D0-80A8-FA89E0F7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E05-F9E5-4E30-91D9-3C5DAEB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A1C-FE83-4EEF-81E4-A408335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A20-48A3-43B8-8328-F7E7A72B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B4D-2F3A-4A1C-8523-22AC951E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ACE-6963-4D4C-91B8-C851CC20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C62-D002-4CB5-8D77-26E7539F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5B9-AA9C-4DA1-9CC2-F4C2532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39520" y="6552720"/>
            <a:ext cx="53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8 – Entity 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72400" y="65527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329ECA40-ED31-4C50-AD03-F382965C41F3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Entity</a:t>
            </a: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Transfer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9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430-CAFB-4E3F-AB66-56B6871B2D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mall Manufacturing System with Transporte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Transporter in Transporter data module (Advanced transfer pan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pacit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elocit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the Distance Set (later), Units = Per Minute, Initial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ind the 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sistency here, in Distance Set (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ion picture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por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 button     , Animate Transfer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ictures for Idle, Busy, Inactiv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or copy from .plb pictur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e point (details in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it anywhere in flowchart view (hidden during r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05320" y="4343400"/>
            <a:ext cx="304560" cy="27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945-15F8-4DF7-8E10-3F84C1666B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mall Manufacturing System with Transporte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modify existing Leave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25 Min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u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 Trans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Rul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allest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s when &gt; 1 transporter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:  Cyclic, Random, Preferred Order, Largest Distance (?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ttribut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 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member which cart … for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yp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ime disappears … determined by Velocity, Distances (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Typ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 of Leave: Request-Delay-Trans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, more flexible – book has details,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5A5-3751-486E-98AF-6918C46674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mall Manufacturing System with Transporte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he Cart – modify existing Enter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25 Min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I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 Trans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umbe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 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 of part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 of Enter: Station-Delay-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, more flexible – book has details,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1A1-1E53-43E3-9BF6-4CB6844CCA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tances for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contents of Distance S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s (in feet) moved by par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cells: part movements that don’t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 these data in Distance data module (Advanced Transfer pan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s button, add 11 rows with Beginning Station, Ending Station, Distance for abo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is implied; could be a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4876920" cy="1442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96080" y="2819520"/>
            <a:ext cx="83844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5562720"/>
            <a:ext cx="83808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6019920"/>
            <a:ext cx="220968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y are there 25 rows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5BC-B88B-4DE1-85FD-C992BF0B51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imating Transporter Movemen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distances to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all the old Route Path animation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eave the Station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animated transporter distances with Distance button      , Animate Transfer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, placement similar to Rout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Beginning Station marker, intermediate clicks, Ending Station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Rotate,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, Snap to help place animated transporter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38124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018-7502-4E15-BDD5-0701AD551F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king Areas for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e transporters when they’re 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king button      , Animate Transfer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Queue animation – Point vs. Line, Shift, 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sor becomes cross hairs, click near lower left of Station marker to start, click for first Point or head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licks for more Points (double-click to end), or second click to e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enough points/space for all transporters (2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for all Stations where Transporters could be f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457200" cy="3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EB2-F34E-49CD-94EF-481DB7693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Distances </a:t>
            </a:r>
            <a:r>
              <a:rPr b="0" lang="en-US" sz="2800" spc="-1" strike="noStrike">
                <a:solidFill>
                  <a:srgbClr val="00009b"/>
                </a:solidFill>
                <a:latin typeface="Arial"/>
              </a:rPr>
              <a:t>— 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mpty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ve Distances incompl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for part movements along their sequ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ers must also move when empty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adhea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 distances need definition for network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t possible — Order Release to Ex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 more distances to define in Distances data module (not grayed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67080" y="5076720"/>
            <a:ext cx="466884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B45-0C8B-43EF-9DC7-1F9E0B74B9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8-3:  Refining the Animation for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it stands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tities disappear from animation when waiting to be picked up by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por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ogic OK … get right answers … animation is fla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 –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or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entity to reside in, be animated, while it waits for something (here,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por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et statistics on numbers in Sto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Storages not available with modules from Advanced Transfer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er-level SIMAN modules from Blocks panel … see book for specific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1A2-B7C0-42AB-848F-F42AF83FD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3440" y="3914640"/>
            <a:ext cx="4038480" cy="2595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veyo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lace Transporters with a convey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conveyor to follow main path, clockw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 entrance/exit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, Unload takes 0.25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rt is 4 feet per side, but want 6 feet of conveyor space for clearance on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= 20 feet/min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33840" y="3506760"/>
            <a:ext cx="83844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626-8D10-4D9E-BB0D-9DACDF694F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veyor Concep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to be conveyed must wait for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or consists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size, constantly moving – think of a narrow esca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ies might require multiple contiguous 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defin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ell siz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tradeoff involv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:  accurate model but slow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ells:  just the opposi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ace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v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or = series of linea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g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egment starts and ends at a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form loops, diverge points, conver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9BF-8669-4E9D-83EA-07A3E0AE59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Entity Transf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8-1:  Resource-Constrained Transf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8-2, 8-3:  Transpor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8-4:  Non-accu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8-5:  Accu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567-E02E-4B07-A16D-54E0CCCBBB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ypes of Conveyo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travel in a single, irreversible 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naccumul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belt, bucket line, escal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 between entities on it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conveyor stops for entity Access/Exit if Load/Unload time is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ccumul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rollers, free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or never stop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ntity on it stops to Exit, other entities behind it are blocked and bunch up (entities ahead of it keep mo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lockage ends, blocked entities go on but maybe not all at once (spacing requir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6E9-42A7-49CC-8743-E22C42A1E6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8-4: Small Manufacturing System with Nonaccumulating Conveyo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Model 8-1 (resource-constrained transf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new Variabl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load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each with initial value 0.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all the Route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Conveyor via Conveyor data module, Advanced Transfer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e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.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= Non-Accu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eet), Units = Per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Cells Occupied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ells per 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48240" y="5130720"/>
            <a:ext cx="83844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511960"/>
            <a:ext cx="83844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EF9-1A22-4E09-AC75-43A16A4E2F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Leave, Enter Modules for Conveyo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each Leav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its =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ut = Access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or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Cells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ype = Con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each Enter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its =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In = Exit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or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E08-C0F9-4572-98AF-231A60BCE1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veyor Segme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ne-way lengths (in feet) of seg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 data module, Advanced Transfer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.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Statio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er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tion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Next Station in correct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distance (in feet) to this next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ation markers in front of each Resourc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button     , Animate Transfer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, crosshairs, clicking just like Distances for Trans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here, have to place only 6 Segment ani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304920" cy="2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D3E-563D-4336-97D6-312218FF6E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veyor Statistic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ject Param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check Conveyor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percent of time blocked (stopp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ilization statistic is average percent of space occupied on conveyor (not percent of time that a part was on the convey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ee conveyor stop (it’s nonaccumulating) more clearly, chang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load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much greater values th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.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o this during run with VBA (Chapter 10), or Run Controller – see text for details – but makes output statistics nearly impossible to 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4A7-3580-4F6C-875E-22105D86D1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8-5: Change Conveyors to Accumulat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or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Conveyor Type to Accu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Length = 4 (in feet), amount of space the accumulated parts need on the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ning, see very little accumulation in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more, increa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8F5-BEEB-4E52-BA20-43CAED7DC9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ypes of Entity Transfers So Fa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graphic vs. module Labels (no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zero-delay — constant, r.v.,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s, animat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routes vs. entity-dependent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 and Route both assum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mit on number in transi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have their own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A8F-66F7-4E9C-8663-686F6C4D3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ew Types of Entity Transf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ource-constrain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f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otal number of entities in transi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still have their own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communications (number of packets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(number of vehi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al-handling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ranspor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rk lifts, trucks, carts, wheel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place limits on numbers, capabilities of trans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Resource, except mov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nve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ts, hook lines, esca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limit space on conveyor,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accumulating vs. accumul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D8D-EF7E-4EF8-8CD5-C0E8B37A01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8-1: Small Manufacturing System with Resource-Constrained Transf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al system (Model 7-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d all transfer times = 2 minutes … keep (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have their own feet … keep (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mit on number of parts in transit at a time … 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– no more than 2 parts can be in motion at a give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ther parts are ready to go, they must wait until there’s room to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via existing construc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creativ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“space” on the “road” as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Units of this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must Seize unit of “space” resource before beginning trip, Release it at end of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A79-F5E5-47D3-BA13-FBAC377740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wo Ways to Model Resource-Constrained Transf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use a new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ource representing space on the transit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ource data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the most obvious way (but won’t do)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ach Route module insert a Seize module to Seize one uni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ueue, priority details … see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ach Station module (excep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er Rel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sert a Release module to free up one uni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A08-57F1-4A53-8D93-D89343D391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wo Ways to Model Resource-Constrained Transfe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way (will do, to illustrate new modules, set up for transporters and conveyors)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Route modules wi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es (Advanced Transfer pa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Out: Seize uni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urce before leaving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, Resource Set, particular member of a Resource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specify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ntains the Rout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ividual queues, with animation, for parts waiting to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Station modules wi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es (Advanced Transfer pa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the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of an unload Delay ti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is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In: Rel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 – slight increase in cycle times in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253-7256-4C20-925B-D2954FB65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ransporter Concep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ts, fork lifts, trucks, wheelchairs, people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entity is ready to go somewhere, it needs to be “picked up” and mo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ansporters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moveable”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ies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qu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ansp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 Selection Rule: If &gt; 1 transporter is available when Requ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reed and &gt; 1 entity is waiting: Priorities, closes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ypes of Transpor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ree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’ll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depends only on velocity,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“traffic jams” and their resulting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ui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on’t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Vs, interse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ED0-5DBC-4133-8496-CCF80DFAF5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mall Manufacturing System with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two carts to transport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rt can carry one par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s move at 50 feet/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eed to specify accurate distances between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0.25 minute to load part on a cart, 0.25 minute to unload it from a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Model 8-1 to Model 8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5C7-8F9D-49E5-BCED-457280A7C3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11:35Z</dcterms:modified>
  <cp:revision>430</cp:revision>
  <dc:subject/>
  <dc:title>Chapter 8 -- Entity Transfer</dc:title>
</cp:coreProperties>
</file>