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6F88-B031-4573-9339-E11E0A26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732-166D-43B7-9D74-2CCAABB6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71E-296A-4128-AE6C-17ADB1F0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C0E5-9EF2-4E94-ACE5-8614399A9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CAC0-14F0-4ACE-A454-658939DB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8CF9-6B14-4805-B697-9B97F650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CA2C-2430-4843-831E-3F80714F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253-C9A9-4BF9-86CB-FCE7A51E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BA3-0393-49D5-B28A-BCD1CC56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837-DE2A-477D-AA25-C7A05EE47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6EF-04DF-48FE-A045-2ECBE7DA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79B-A496-46B9-B427-928DD2E37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299-180E-4EAF-A976-BB130851D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A63-5A03-448C-B0F1-8CE3F26C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29C-9488-40C2-987C-2ADD3153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AB9-16D1-4EC1-B50E-B4BF38C2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7D4-A7CC-449B-9B68-2D24F58E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19E-4E6A-403F-B9F6-B76CB6BC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98B-8B71-4B36-AD8A-3B167C65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4A6-6D22-44B5-B342-9ECD2FC0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CBE-0E92-4299-A0A6-327B330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29A-592F-46EA-9ED5-A8778FA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3E8-2EC9-4565-B37E-77B86B5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E5D-F76D-41D0-BEB9-06AB7EC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A84-47D2-4948-B90F-CB15CEC1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DC0-1DAA-47BD-A9A1-F5D4CDC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6B7-FC2D-435C-88E8-14156C8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279-082C-4C85-9819-159C656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552720"/>
            <a:ext cx="499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4 – Modeling Basic Operations and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0C2FE0AC-5CDF-4F3C-937A-09C79D51D35F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Modeling Basic Operations and Input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7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8EF-754A-4AF6-A8F8-0AE6D283B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A Create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A Arr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Between Arri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 (Ex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-down list with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-down list with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what’s not mentioned abo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447920"/>
            <a:ext cx="3757680" cy="30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se entries are made, they are placed on the list for names of that type (Module Name, Entity Type, etc.) and will appear on future pull-down lists for that type of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1C5-C9F9-46C5-A79F-ABFD413515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B Create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B Arr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Between Arri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 (Ex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-down list with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-down list with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per Arrival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467-9669-435C-9532-4E44CFC10F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A Attributes Assign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ign Part A Sealer and Arriv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utt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l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IA(1, 3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utt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i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o compute time in system on ex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257800"/>
            <a:ext cx="751176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OW is the internal Arena variable name for the simulation clock;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lp &gt; Arena Help &gt; Contents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s, Functions, and Distributions &gt; Date and Tim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A58-8678-4F45-A1FF-797894F43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B Attributes Assign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ign Part B Sealer and Arriv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utt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l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IB(2.5,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utt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i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257800"/>
            <a:ext cx="83059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for things in Ar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names usually sugg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placed on appropriate pull-down lists for future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ames in a model must be unique (even across different kinds of ob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963-D6BC-4D45-8AE9-C7FDAC5816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ocess Modul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c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just sits here for the specified time; no Resource involved, so multiple entities could be undergoing this Delay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ize De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must first Seize the specified number of units of a Resource (possibility for Queueing if they’re not available), then undergoes the Delay … assume that the entity will Release the Resource units at another downstream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ize 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eize Delay, but entity releases Resource units after Del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we want in thi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entity had already Seized Resource units at another upstream module, now Delays and Releases Resourc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37F-4A16-440E-AF0A-76D768C90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ep A Process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 A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ize 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subdialog (Add button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pull-down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iang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(Most Likely)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u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2666880"/>
            <a:ext cx="281952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veral Resources were named (Add button), entity would have to Seize them all before the Delay could st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F9F-1B47-4971-8FF5-8920026371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ep B Process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p B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ize 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subdialog (Add button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pull-down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iang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(Most Likely)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u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60C-EA72-4A3B-945B-4E1F4A24BF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aler Process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ler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ize 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subdialog (Add button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pull-down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l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724280"/>
            <a:ext cx="35812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–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aler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was defined upstream for both Parts A and B … now its value is being used … allows for different distributions for A and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6A0-F60F-46EB-8A5B-4B93BFBF8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aler Inspection-Result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ecide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module provides branch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y 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ntity Attributes, global Vari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y Ch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-sided, possibly-biased hypercoin fl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ed Sealer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-way by Ch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Tru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xit points for True, False results – connect appropriately downstre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it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, 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ue … so “9” means probability of 0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bitrarily decided “true” meant part failed inspection … could have reversed (but would change numerical results ... why? ... does this upset you? ... wh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rich, deep, versatile module … explore its Help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F21-EA86-48A8-86EF-0E49E0870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work Process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work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ize Delay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subdialog (Add button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pull-down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Nam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PO(4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105520"/>
            <a:ext cx="40384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use the gene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ice for Delay Type since what we want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not directly on the Delay Type pull-down l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5D6-427A-4EC3-B341-27B412FD99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4-1:  Electronic assembly/test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rena modules (Decide,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4-2:  Enhanced electronic assembly/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Schedules, States,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ut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4-3:  Enhancing the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, Entity Pictures, Resource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lots an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A6C-B11B-4A7D-ABEA-673E09B41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work Inspection-Result Decide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ed Rework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-way by Ch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Tru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048120"/>
            <a:ext cx="31240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bitrarily decided “true” meant part failed insp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20B-8201-4733-A7C3-8855D9C783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cord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collects and reports many output statistics by default, but sometimes not all you w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ant time in system (average, max) of parts sorted out by their exit point (Shipped, Salvaged, Scrapp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this sorting that Arena doesn’t do by default ... it would automatically sor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Entity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d Entities checked in Run &gt; Setup &gt; Project Parameters (which we do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module can be placed in the flowchart to collect and report various kinds of statistics from within the model run as entities pass through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ally-type output performance measures (see Chapter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D81-30B2-4D89-99C5-05D744950B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hipped Parts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Record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Modu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cord Shipp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me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ption records the length of time that elapsed up to now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rom when an entity attribute was marked with a time “stamp” upstream ... Attribute Name is below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other options for Type … explore via Record module’s Help butt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ribute 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iv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defined upstream as the clock value in the Assign modules instantly after each entity wa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ly Name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cord Shipp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the label in th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5562720"/>
            <a:ext cx="32004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wo Record modules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this except for Name and Tally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385-0718-438E-A291-1DD8A02941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pose Mo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separate exit points for three separate part disposition (Shipped, Salvaged, Scrapp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have directed all three exit types to a single Dispo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aving separate ones produces animation counts of the three dis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, having separate Dispose modules allows for differentially checking the boxes to Record Entity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flow statistics separated by entity typ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ities Statistics Collection is check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 &gt; Setup &gt; Project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final disposition of part … so w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 our Record modules and Arrive Time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B6B-B73C-442F-A40A-9BE1C522B0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Run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Setup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for Run Contro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this, model would run forever – no defaults for termination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part of modeling, and generally affects resul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arameters tab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Project Title, Analy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s for Statistics Collection, but we cleared the check box for Entities – not needed for what we want (we installed our own Record modules), and would slow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ication Parameters tab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length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ccep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ault for Tim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ime Unit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puts without Time Units option, internal arithmetic, and units on outpu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A8A-DFE1-4B28-ABE2-404633BC51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fferent Part A, B Entity Pi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data module (just single-click on it in Project Bar, edit via spreadsheet on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 for each Entity Typ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l down Initial Picture pull-down menu, select different pictures for each Entity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ity 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, change the list of pictures that’s presented here … more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8F2-F307-471F-AD5A-B39F787314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ning the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      (if desi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button to help fi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      (will automatically pre-Check if need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phics don’t show during run … will return when you End your run … control vi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Bar shows run progress – replication number, simulation time, simulation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 speed – increase (&gt;), decrease (&l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e (    ) or Esc key;      to res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    ) to debu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st-Forwa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    ) to turn off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 Control &gt; Batch Run (No Anima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303480" cy="38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57120" cy="3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4572000"/>
            <a:ext cx="35712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828800" y="457200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114800" y="5562720"/>
            <a:ext cx="380880" cy="32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965-69A5-49AB-A411-A89E90FC67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iewing the Resul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ers during animation for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, Dispose, Decide – incremented when entity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– number of entities currently in th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ed at end if you want to see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get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jec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ks 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ework area is a bottleneck ...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through report with browsing arrows, tree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y, Time-Persistent, and Count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, Min, Max, and 95% Confidence Interval half-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 are for steady-state expectations …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be produced if run is not long enough for reliable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difficult/unreliable to draw conclusions from just one run … more l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836-4064-4F04-83F5-90E8A19E21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4-2: The Enhanced Electronic Assembly and Test Syste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model shown to produ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d out that this is only the first shift of a two-shift day — on second shift there are two operators at Rework (the bottleneck station) … 16-hour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d out that the Sealer fails 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times ~ exponential, mean 2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 times ~ exponential, mean 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buy racks to hold rework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ack holds 10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racks should be bo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for 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 Schedu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 St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 Fail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9C5-4AC8-46AD-B93C-F0D1C24041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ange Run Condi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efine a “day” to be 16 hours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eplication Length to 10 (of these)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095-996A-41DB-A309-978D7DEB8A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4-4:  Adding entity travel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with Stations, Transfers, Routes, animation of entity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input distributions,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tic vs. random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and us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input distributions via the Input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tationary arriv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and correlated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D9F-0D66-4FB4-88CD-09BF5DF2B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che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y Capacity (number of units) of a resource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Resource Data module (spreadsheet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work Resource, change Type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d 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new columns – Schedule Name and Schedul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a schedule 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work Sche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chedule Rule – details of capacity decrease if the Resource is allocated to an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gn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apacity goes down immediately for stat collection, but work goes on until finished … “break” could be shorter or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apacity decrease waits until entity releases Resource, and “break” will be full but maybe start/end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em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ocessing is interrupted, resumed at end of “brea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D47-5520-44DD-8FAC-DBEA97E8DA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chedul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he actual Schedule the Resource will follow – Schedule data module (spreadshe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already there since we defin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work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Type is Duration for entries based on time past simulation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s Capacity, for Resource schedule (more later on Arrival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Durations column, get Graphical Schedule Ed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 is tim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 is Resour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define th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button to control axis scaling, time slots in editor, whether schedule loops or stays at a final level for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Graphical Schedule Editor only if time durations are integers, and there are no Variables or Expression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34A-1549-4809-B0E3-6A27335009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chedul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right-click in the row, select Edit via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schedu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pairs for Capacity, Duration … as many pairs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durations are specified, schedule repeats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 duration is empty, it default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volve Variables,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– right-click in the row, select Edit vi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apacity Value, Duratio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76B-2B99-4CDC-89B5-D07E2EE9A0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ource Fail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used to model unplanned, random down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start definition in Resource or Failure module (Advanced Process panel) … we’ll start in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 Advanced Process panel if needed, single-click on Failure, get spreadsheet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reate new Failure, double-click – add new r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– Time-based, Count-based (we’ll do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Up, Down Time, with Un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1FE-0E12-4CD1-BC64-AA4C609CA8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ource Failur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 this Failure to the correct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odule, Failures column, Sealer row –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op-up Failures window, pick Failure N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ler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ull-dow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Failure Rule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e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 in Sched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have multiple Failures (separate nam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re-use defined Failures for multiple Resources (operate independent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088-FC5D-4CB2-9E29-ACC69B1BE8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requenci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time-persistent occurrence frequency of variable, expression, or resourc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re to record % of time rework queue is of length 0, (0, 10], (10, 20], … to give info on number of rack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 data module (Advanced Process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Types of statistics, of which Frequencies i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work Queue 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Frequency Typ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Expression to track and catego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in field to get to Expression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abel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work Queue 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-up secondary spreadsheet for Categories (browse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76E-D111-482D-B0C3-673D40E91E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requenci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nother Frequency (in Statistic module) to give a finer description of the Sealer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roduce statistics on proportion of time Sealer is in each of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states – Busy, Idle, and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ies are not part of default Category Overview report – open Frequencies report from Project Bar (get a separate window for the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B2C-AC37-40B7-BD53-00B35DB7F6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ults of Model 4-2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 from those of Model 4-1 since this is a longer run, modeling assumptions are differ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which causes underlying random-number stream to be used differently (Chapter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 A/B didn’t change (other than run length and random variation) … need statistical analysis of simulation output (Chapters 6, 7, 1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ler is more congested (it now fai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work is less congested (50% higher staff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ies report suggests one rack suffices about 95% of the time, two racks all th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ext for discussion of Standard, Restricted Perc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FDB-038B-44D1-A7ED-FDA6C18FA8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tilizations – Some Fine Poi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utilizations reported for each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stantaneous Ut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ime-average of the ratio of the number of units that are busy to the number of units that are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inition, counts periods when zero units are scheduled as zero-utilization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cheduled Ut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verage number busy divided by the average number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vision-by-zero problem, assuming there were ever any units of the Resource scheduled at all (if not, it shouldn’t be in the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for fixed-capacity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differ for Resources on a variabl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source capacity varies among several different positive values, it’s better to use Scheduled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ext for discussion of issues and even fin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89D-884E-4BEA-B37C-B98DB0477F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4-3: Enhancing the Anim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“Spartan” generic default animation for some things (queues, connector-animation movem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sufficient for verification,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want to customize, enhance it a b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lism,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pull animation away from model logic in model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big models, complex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Named Views for model logic, animation, or close-ups of parts of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 objects are connected to model log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s, physical location (Shift-drag to decou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0D4-87C7-4D71-B5AC-B541C6A5B5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lectronic Assembly/Test System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(Model 4-1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19840" cy="2136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3352320"/>
            <a:ext cx="89913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two different sealed elect. units (A,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iving parts:  cast metal cases machined to accept the electronic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A, Part B – separate prep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go to Sealer for assembly, testing – then to Shipping (out) if OK, or else to R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work – Salvaged (and Shipped), or Scrapp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332-703E-4DB0-AC63-6C42178EF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anging Animation Que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en (click, drag, maybe hold shift) to “hold” more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logic, results still OK even if animated queue over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to re-orient for rea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“form” of the queue from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the default) 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oint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places for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on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ype to b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Points…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ely click Add for points, then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them around on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e box to show entities 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BA7-DABE-4D10-B4CA-2A792630B41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anging the Entity Pi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ier – used Entity data module to assign different Initial Pictures to different Entity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– customize the list, or alter the pictures in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ity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column – names, pictures currently o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olumn –picture libraries (.plb filename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hand-drawn picture – Add button on left, name it in Value field at top, double-click on blank depressed button, then artwork (or paste in a copied graphic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ame won’t appear in Entity data module until you type it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an existing picture – double-click,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a picture over from pictur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CFD-5E18-4A00-A484-04FE3AC8B3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ng Resource Pi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 a Resource – Resource button        in animate toolbar – get Resource Picture Placement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 column – default pictures for different Resource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logically to a Resource by Identifier pull-dow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to edit the artwork by hand, or paste in previously copied graphics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ze area – where seizing entity will “resi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ize areas for multi-capacit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column – picture libraries (.plb files) – can copy over to selected (depressed) state pi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 window, cross hairs, click to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e, reposi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457200" cy="41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62C-1936-4414-8462-8718732144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ng Variables and Plo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animation – just show a value of something as a number, watch it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object         from Animate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, specify Expression to be shown (Expression Builder), and cos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e, repositio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animated plots – discussed in Chapter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animation objects from Animate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(TNOW), variety of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(thermometer)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53316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B7C-3BD7-443D-95DB-8091FAF86E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4-4:  The Electronic Assembly and Test System with Part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e Model 4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art transfers now take 2 minutes (not instant) … want to model and an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ing parts to prep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ing parts to appropriate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ernal part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less of distance ... will fix this (unrealistic) assumption in Chapte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97B-2EA8-49DA-A961-7DEEC25EA1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Arena Construc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location where some process occ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s, manufacturing cells, depar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ion given a uniqu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erve as an entry point for a section of mode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ation mar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represents a logical station in the flowchart/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ion Transf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entities move between Stations without direct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different types – we’ll us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o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e, which allow for positive transfer time, but no other delays like “room” on the transitway or trans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oute pa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Routes in the flowchart/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609840" cy="2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371-2A56-4C9D-BA58-6893694A0C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ng the Route Logic – From Arriva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s and Station Transfers affect both the model logic and the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Model 4-3 … change to Model 4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incoming parts (A and B) delete connection from Assign modules to “Prep” Process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with Station/Route modul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module (Advanced Transfer panel) – define entity’s current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Name vs. Statio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module (Advanced Transfer panel) – send entit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 Time, Destination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connections exiting from the Route modules – Route module’s Destination Station Name defin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277-3A5F-4F1B-BD17-91D16A8771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ng the Remaining Route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Station modules for entry to each Prep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names a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 A S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 B S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re the destination stations for Routes after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odules for Prep A, Prep B unch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prep, entities connected to Route module to send to next station (seal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need a separate Station module for outgoing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changes for rest of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modules for incoming parts into sealer, rework, each of three Record modules (entity exit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modules for outgoing parts out of sealer inspection, rework inspection (two for each Decide module – pass/f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run model now, get correct results … but no animation of transfer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C90-A083-4D7A-B184-506168CF02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y Not Just Add Delays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r approach than the above to getting the two-minute transfer tim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a Process module with Action = Delay for 2 minutes on each releva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use Delay module from Advanced Process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ly th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rk fine from modeling, numerical-output view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t would not allow animation of part transfers, so we’ll proceed with the Stations and Ro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C1B-A997-45BE-9DE7-54CC7DF2934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ltering the Animation – Station Markers, Rout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nimation for Stations and Ro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button     ,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Identifier to it from pull-down list of station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ross hairs, place (click) marker i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lace several station markers for the same logical station (to represent incoming, outgoing s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rag station markers aroun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button      from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appearance of entities as they travel th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ross hairs; click in origin, destination Station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clicks for corners along th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rag around endpoints, corner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4560" cy="203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819520" y="4343400"/>
            <a:ext cx="304560" cy="2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326-D6C3-458C-BB11-F0C8643FDD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rrivals:  expo (5) 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arrival point, proceed immediately to Part A Prep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= (machine + deburr + clean) ~ tria (1,4,8)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immediately to Sea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= (assemble + test) ~ tria (1,3,4)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1% pass, go to Shipped; Else go to 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work: (re-process + testing) ~ expo (4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pass, go to Salvaged; Else go to Sc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4B5-9079-4A59-813B-8E83463F0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ltering the Animation – Entity Pict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B arrivals are in batches of four parts/b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onstant travel time to Prep B implies they  travel “on top of each other” so it looks like just one par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– change Route time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e separation along th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illusion to animate the b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module just aft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ssignment of Entity Picture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ture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tc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ity 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raw the new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ture.Part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rename 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ture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picture, use Picture Editor to get four cir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atch arrives to Prep B, change to singl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ssign module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 B Arrival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530-EEB8-4C3D-A822-EA2D0B29A8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put Analysis:  Specifying Model Parameters,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ructu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odeling:  what we’ve done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aspects — entities, resources, path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antita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, distribution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tructural modeling, need to observe system’s operation, take data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39E-3740-4623-833D-D7B22973EB1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terministic vs. Random Inpu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terminis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nonrandom, fixe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units of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transfer time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rrival, processing time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.k.a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ochas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:  model as a distribution, “draw” or “generate” values from to drive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, Interarrival, Process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stribution?  What distributional para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simulation output to be random,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just assume randomness away — vali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027-F873-4C82-978C-17C0BD3ACD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llecting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hard, expensive, frustrating, b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ight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vailable on the wrong things — might have to change model according to what’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, “dirty”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data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of outputs to uncertainty in inp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model detail to quality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— should be budgeted in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variability in data — model vali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bage In, Garbage Out (GIG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99A-8AA4-4432-9C29-57E74D3C18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Data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lternatives and Iss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data “directly” in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ctual observed values to drive the model inputs (interarrivals, service times, part type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a ReadWrite module ... see Model 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lues will be “legal” and 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never go outside your observ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have enough data for long or many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slow (reading disk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, fit probability distribution to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” or “generate” synthetic observations from this distribution to drive the mode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done it this way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o beyond observed data (good and 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get a good “fit” to data — valid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980-6564-4AC0-945B-F8C39757E6A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tting Distributions to Data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ith the Arena Input Analyz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ample data:  Independent and Identically Distributed (IID) list of observed values from the actual physic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elect or fit a probability distribution for use in generating inputs for the simu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Input Analy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pplication, also accessible via Tools menu in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s distributions, gives valid Arena expression for generation to paste directly into simu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B78-414A-45E7-9D5A-5A53D7D1EA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tting Distributions to Data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ith the Arena Input Analyzer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ting = deciding on distribution form (exponential, gamma, empirical, etc.) and estimating it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different methods (Maximum likelihood, moment matching, least square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goodness of fit via hypothesis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itted distribution adequately represents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for test (small = poor 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ted “theoretical” vs. empirical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vs. discrete data,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” fit from among several distrib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806-48B4-4288-885C-1A9BED819D6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ata Files for the Input Analyz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he data file (editor, word processor, spreadsheet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lain ASCII text (save as text or ex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separated by white space (blanks, tabs, linef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fre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data file from within Input Analy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histogram, basic summary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data file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generate “fake” data file to play a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rat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47760" cy="406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41256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891-126B-4378-984B-249C55471F0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Fit Menu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s distributions, does goodness-of-fit 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 a specific distribution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s density over histogram for visual “t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exact expression to Copy and Paste (Ctrl+C, Ctrl+V) over into simu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clude “offset” depending 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results of goodness-of-f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, Kolmogorov-Smirnov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part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-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ways between 0 an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ty of getting a data set that’s more inconsistent with the fitted distribution than the data set you actually have, if the the fitted distribution is truly “the tru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”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&lt; 0.05 or so):  poor fit (try again or give 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9B5-0586-401E-895E-D7C6DDE314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Fit Menu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 all of Arena’s (theoretical) distribution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t 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inimum square-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are error = sum of squared discrepancies between histogram frequencies and fitted-distribu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pend on histogram intervals chosen:  different intervals can lead to different “best”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still be a poor fit, though (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all distributions, ranke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t All 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533520" cy="43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236-D790-4E32-AE2C-764BC749AFC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t B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rrivals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t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4, expo (30) m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on arrival, batch separates into 4 individual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arrival point, proceed immediately to Part B Prep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= (machine + deburr +clean) ~ tria (3,5,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to Sea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= (assemble + test) ~ weib (2.5, 5.3) min. 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art A, though at sam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1% pass, go to Shipped; Else go to 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work: (re-process + test) = expo (45) m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pass, go to Salvaged; Else go to Sc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695-0C3B-4B7C-B542-979BDD2B5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Fit Menu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” Empirical distribution (continuous or discrete)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terpret results as a Discrete or Continuou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:  get pair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ability,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:  Arena will linearly interpol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ata range according to these pairs (so you can never generate values outside the range, which might be good or 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distribution can be used when “theoretical” distributions fit poorly, or inten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6B7-25AA-49F1-85F2-05A4231880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ome Issues in Fitting Input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n exact science — no “right” ans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oretical vs. empir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range of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both ways (e.g., 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(e.g., exponential, gam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 (e.g., beta, uni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ease of parameter manipulation to affect means, vari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ers, multimodal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split data set (see textbook for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613-ECF3-48ED-9083-8062178EA6D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 Data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ens more often than you’d li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good solution; some (bad) op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“exp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ax: 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., % error or absolute error: 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ode, Max:  Tria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 can be different from Mean — allows asym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rrivals — independent, sta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— still need some value for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“random” events in an interval: 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independent “pieces”: 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of independent “pieces”:  log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FDF-AA21-4072-AD34-E5EB141E7E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autions on Using Normal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y most familiar distribution – normal “bell curve” used widely in statistical in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t has infinite tails in both directions … in particular, has an infinite left tail so can always (theoretically) generate negative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ulation input quantities (e.g., time durations) must be positive to make sense – Arena truncates negatives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ean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big relative to standard deviation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n P(negative) value is small … one in a m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simulatio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in a million can happ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l – avoid normal distribution as inpu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1F9-354F-404E-8F08-DA2F71A84E4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Arrival Process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events (often arrivals) whose rate varies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time at fast-food 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h-hour traffic in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call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demands for a manufactu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n be critical to model this nonstationarity for model valid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peaks, valleys can mask importa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iss rush hou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model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nstationary 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6FD-893B-431E-B3D8-0A8B915347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Arrival Process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pecify/estimate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t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nerate from it properly during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ways to estimate rate function — we’ll just do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ecewise-cons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ime frame of simulation into subintervals of time over which you think rate is fairly 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observed rate within each sub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rena, must convert to expected number of arrival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er h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subintervals of time that need not be of one-hour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expected 45 arrivals in a half hour; specify rate = 90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Model 5-2 in Chapter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D15-43E8-4329-95B2-FEFABA38935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ultivariate and Correlated Input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we assume that all generated random observations across a simulation are independent (though from possibly different distribu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this isn’t tr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difficult” part requires long processing in both the Prep and Seale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ositiv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such relations can invalidat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textbook for ideas, re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329-78E5-4116-BF23-BB4B8E02CE9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 Conditions, Outpu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empty &amp; idle, run for four 8-hour shifts (1,920 minut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 statistics for each work area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in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n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exit point (Shipped, Salvaged, Scrapped), collect total time in system (a.k.a. cycle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799-58C1-424D-BDA5-5816849B9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veloping a Modeling Approach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pieces of model, modules, data structures, control log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e level of deta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dgment c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multiple ways to model, represent log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ode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are the individual parts (two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Create modules for two par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Process modules for each Prep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odules for Sealer and Rework, each followed by a Decide module (2-way by Ch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 modules for Shipped, Salvaged, Sc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ler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after Creates in Assign modules (parts hav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a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modules just before Departs for time i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3EC-D4C6-43EB-BBC1-6E808E02F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uilding the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model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 Basic Process panel (if need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(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(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(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(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e 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cli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last action (place modu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-Connect, or manually connect vi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265880" y="6032520"/>
            <a:ext cx="304920" cy="290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2971800"/>
            <a:ext cx="28954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strategy – place one module at a time, fill it out comple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033-CA4B-4720-B23C-082C994348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0:42Z</dcterms:modified>
  <cp:revision>340</cp:revision>
  <dc:subject/>
  <dc:title>Chapter 4 -- Modeling Basic Operations and Inputs</dc:title>
</cp:coreProperties>
</file>