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5837288-FFE1-425E-A267-18897FBB91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584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66821E2-CA56-498C-BE07-899779E2E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88584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F94D7C3-1592-4903-BB06-00EF90123B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1456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413240"/>
            <a:ext cx="5029200" cy="41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88584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239DBBC-CCEB-43F5-BA7E-0F9F58C2BB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1456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413240"/>
            <a:ext cx="5029200" cy="41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88584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5FC4477-51FA-4762-BE24-8DF726DD0E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1456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413240"/>
            <a:ext cx="5029200" cy="41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88584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217352B-8CD0-4EC2-BBBD-99B463355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1456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413240"/>
            <a:ext cx="5029200" cy="41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C61C-997D-4136-9E31-DB58367CD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3965400"/>
            <a:ext cx="899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F242-4A84-4EB4-B980-FC3AABA96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218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396540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396540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5A59-239A-4835-A5A6-4E5628287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21896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21896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396540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396540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396540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05AB-FDBF-4DAF-8D4E-4D384B22D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882F-0BBE-47DB-89C5-744C5AC87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EAB1-559C-4FA2-8C1C-666B22410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4387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218960"/>
            <a:ext cx="4387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A09C-281D-4D51-993C-FE0B9DEE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2BD4-C759-4032-8823-C022C961F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899136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44A2-1F8B-4A53-B902-C00F430C5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218960"/>
            <a:ext cx="4387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396540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A9B6-57D7-4C63-8CEB-97477369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4387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218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396540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6F1C-5F91-40B0-85C8-A9E7CBD3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218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3965400"/>
            <a:ext cx="899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CFE7-A1BC-439C-BF0B-4495B0E0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552720"/>
            <a:ext cx="2743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9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9b"/>
                </a:solidFill>
                <a:latin typeface="Arial"/>
              </a:rPr>
              <a:t>&lt;date/time&gt;</a:t>
            </a:r>
            <a:r>
              <a:rPr b="0" i="1" lang="en-US" sz="1400" spc="-1" strike="noStrike">
                <a:solidFill>
                  <a:srgbClr val="00009b"/>
                </a:solidFill>
                <a:latin typeface="Arial"/>
              </a:rPr>
              <a:t>Simulation with Arena, 3</a:t>
            </a:r>
            <a:r>
              <a:rPr b="0" i="1" lang="en-US" sz="1400" spc="-1" strike="noStrike" baseline="30000">
                <a:solidFill>
                  <a:srgbClr val="00009b"/>
                </a:solidFill>
                <a:latin typeface="Arial"/>
              </a:rPr>
              <a:t>rd</a:t>
            </a:r>
            <a:r>
              <a:rPr b="0" i="1" lang="en-US" sz="1400" spc="-1" strike="noStrike">
                <a:solidFill>
                  <a:srgbClr val="00009b"/>
                </a:solidFill>
                <a:latin typeface="Arial"/>
              </a:rPr>
              <a:t>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400" y="6552720"/>
            <a:ext cx="2743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b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b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0009b"/>
                </a:solidFill>
                <a:latin typeface="Arial"/>
              </a:rPr>
              <a:t>Chapter 1 – What Is Simulation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19760" y="6552720"/>
            <a:ext cx="1523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b"/>
                </a:solidFill>
                <a:latin typeface="Arial"/>
              </a:rPr>
              <a:t>Slide </a:t>
            </a:r>
            <a:fld id="{A179086D-6781-4D87-AB7D-61F347B71FA1}" type="slidenum">
              <a:rPr b="0" lang="en-US" sz="1400" spc="-1" strike="noStrike">
                <a:solidFill>
                  <a:srgbClr val="00009b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9b"/>
                </a:solidFill>
                <a:latin typeface="Arial"/>
              </a:rPr>
              <a:t> of 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12600">
            <a:solidFill>
              <a:srgbClr val="0000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12600">
            <a:solidFill>
              <a:srgbClr val="0000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0" y="6553080"/>
            <a:ext cx="243000" cy="30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480" y="76320"/>
            <a:ext cx="5109840" cy="6400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181480" y="32767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181120" y="0"/>
            <a:ext cx="39625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9b"/>
                </a:solidFill>
                <a:latin typeface="Arial"/>
              </a:rPr>
              <a:t>What is Simulation?</a:t>
            </a:r>
            <a:endParaRPr b="1" lang="en-US" sz="40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162920" y="6248520"/>
            <a:ext cx="198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Last revision June 7,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9E83-B642-44A3-883F-0E51F77FB76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Popularity of Simulation 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80:  (A)IIE O.R. division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in utility and interest — 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in familiarity — LP (simulation was seco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83, 1989, 1993:  Longitudinal study of corporate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Statistical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89:  Survey of surv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vy use of simulation consistently re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618A-B562-46CC-8505-445974517DA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Advantages of Simulation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exibility to model things as they are (even if messy and complicat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looking where the light 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 morality play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ows uncertainty, nonstationarity in model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nly thing that’s for sure:  nothing is for 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nger of ignoring system var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vali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47800" y="2438280"/>
            <a:ext cx="82962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’re walking along in the dark and see someone on hands and knees searching the ground under a street ligh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What’s wrong?  Can I help you?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person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I dropped my car keys and can’t find them.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Oh, so you dropped them around here, huh?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person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No, I dropped them over there.”  (Points into the darkness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Then why are you looking here?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person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Because this is where the light is.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4542-0897-498B-B6BC-20207A136C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Advantages of Simulation 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ances in computing/cost rati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d that 75% of computing power is used for various kinds of sim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dicated machines (e.g., real-time shop-floor contr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ances in simulation softwa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r easier to use (GU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longer as restrictive in modeling constructs (hierarchical, down to 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tical design &amp; analysis cap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2B77-2918-40E5-9BE4-5BCA428BC8F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The Bad New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n’t get exact answers, only approximations, estima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true of many other modern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ound errors by machine round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t random output (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RIR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from stochastic simul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tical design, analysis of simulation experi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it:  noise control, replicability, sequential sampling, variance-reductio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ch:  “standard” statistical methods seldom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3520-128E-4368-9CFD-511D2641F9C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Different Kinds of Simulation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ic vs.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Dynami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time have a role in the mod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inuous-change vs.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Discrete-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the “state” change continuously or only at discrete points in ti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erministic vs.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tochasti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everything for sure or is there uncertain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st operational model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Dynam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Discrete-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Stocha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ough Chapter 11 discusses continuous and combined discrete-continuous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411E-8894-4CCD-8C11-E75686D4311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797440" y="1641600"/>
            <a:ext cx="0" cy="379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69000" y="2122560"/>
            <a:ext cx="0" cy="379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475080" y="2122560"/>
            <a:ext cx="0" cy="379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imulation by Hand:</a:t>
            </a:r>
            <a:br>
              <a:rPr sz="3600"/>
            </a:b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The Buffon Needle Problem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320" y="274320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(George Louis Leclerc, c. 173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ss needle of length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nto table with stripes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&gt;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apa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needle crosses a line) =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eat; tall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proportion of times a line is cross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b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971800" y="5562720"/>
            <a:ext cx="577800" cy="934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259080" y="1508040"/>
            <a:ext cx="2772000" cy="644760"/>
          </a:xfrm>
          <a:custGeom>
            <a:avLst/>
            <a:gdLst/>
            <a:ahLst/>
            <a:rect l="l" t="t" r="r" b="b"/>
            <a:pathLst>
              <a:path w="1745" h="405">
                <a:moveTo>
                  <a:pt x="0" y="404"/>
                </a:moveTo>
                <a:lnTo>
                  <a:pt x="576" y="2"/>
                </a:lnTo>
                <a:lnTo>
                  <a:pt x="1744" y="0"/>
                </a:lnTo>
                <a:lnTo>
                  <a:pt x="1164" y="404"/>
                </a:lnTo>
                <a:lnTo>
                  <a:pt x="0" y="404"/>
                </a:lnTo>
              </a:path>
            </a:pathLst>
          </a:custGeom>
          <a:solidFill>
            <a:srgbClr val="ffff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3693600" y="1498680"/>
            <a:ext cx="946440" cy="65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158720" y="1498680"/>
            <a:ext cx="946440" cy="65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4624560" y="1498680"/>
            <a:ext cx="947520" cy="65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64040" y="1554120"/>
            <a:ext cx="171360" cy="123840"/>
          </a:xfrm>
          <a:custGeom>
            <a:avLst/>
            <a:gdLst/>
            <a:ahLst/>
            <a:rect l="l" t="t" r="r" b="b"/>
            <a:pathLst>
              <a:path w="107" h="79">
                <a:moveTo>
                  <a:pt x="0" y="78"/>
                </a:moveTo>
                <a:lnTo>
                  <a:pt x="0" y="78"/>
                </a:lnTo>
                <a:lnTo>
                  <a:pt x="8" y="56"/>
                </a:lnTo>
                <a:lnTo>
                  <a:pt x="8" y="45"/>
                </a:lnTo>
                <a:lnTo>
                  <a:pt x="16" y="45"/>
                </a:lnTo>
                <a:lnTo>
                  <a:pt x="32" y="33"/>
                </a:lnTo>
                <a:lnTo>
                  <a:pt x="40" y="22"/>
                </a:lnTo>
                <a:lnTo>
                  <a:pt x="57" y="11"/>
                </a:lnTo>
                <a:lnTo>
                  <a:pt x="73" y="0"/>
                </a:lnTo>
                <a:lnTo>
                  <a:pt x="81" y="0"/>
                </a:lnTo>
                <a:lnTo>
                  <a:pt x="89" y="0"/>
                </a:lnTo>
                <a:lnTo>
                  <a:pt x="97" y="0"/>
                </a:lnTo>
                <a:lnTo>
                  <a:pt x="106" y="0"/>
                </a:lnTo>
                <a:lnTo>
                  <a:pt x="89" y="22"/>
                </a:lnTo>
                <a:lnTo>
                  <a:pt x="89" y="33"/>
                </a:lnTo>
                <a:lnTo>
                  <a:pt x="65" y="56"/>
                </a:lnTo>
                <a:lnTo>
                  <a:pt x="57" y="56"/>
                </a:lnTo>
                <a:lnTo>
                  <a:pt x="49" y="67"/>
                </a:lnTo>
                <a:lnTo>
                  <a:pt x="32" y="78"/>
                </a:lnTo>
                <a:lnTo>
                  <a:pt x="24" y="78"/>
                </a:lnTo>
                <a:lnTo>
                  <a:pt x="16" y="78"/>
                </a:lnTo>
                <a:lnTo>
                  <a:pt x="8" y="78"/>
                </a:lnTo>
                <a:lnTo>
                  <a:pt x="0" y="78"/>
                </a:lnTo>
              </a:path>
            </a:pathLst>
          </a:custGeom>
          <a:solidFill>
            <a:srgbClr val="cc0000"/>
          </a:solidFill>
          <a:ln cap="rnd" w="1260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998800" y="1657080"/>
            <a:ext cx="196920" cy="19188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181480" y="3809880"/>
            <a:ext cx="517680" cy="8589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2666880" y="4724280"/>
            <a:ext cx="303480" cy="43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9D98-7083-4AD6-8D7A-26A424AE8C9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Why Toss Needles?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ffon needle problem seems silly now, but it has important simulation feature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 to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stim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mething hard to compute exactly (in 173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Randomn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o estimate will not be exact; estimate the error in the est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Repl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the more the better) to reduce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Sequential sampl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control error — keep tossing until probable error in estimate is “small enough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Variance redu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Buffon Cro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50A8-3C31-41E2-8B6C-EF24BBD2F99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Using Computers to Simulate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ral-purpose languages (FORTRA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dious, low-level, error-pr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, almost complete flex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packa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routines for list processing, bookkeeping, time adv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ly distributed, widely mod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readshee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static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cial scenarios, distribution sampling, SQ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599F-F2B0-4F3C-AB21-519554DDF1F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Using Computers to Simulate 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ulation langua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SS, SIMSCRIPT, SLAM, SIMAN (on which Arena is based, and is included in Are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ar, still in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 curve for features, effective use, syn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gh-level simulato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easy, graphical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ain-restricted (manufacturing, communic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flexibility — model valid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006D-737C-4DAF-A8A6-82989DCC877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Where Arena Fits In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erarchical stru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levels of mod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mix different modeling levels together in the same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, start high then go lower a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 ease-of-use advantage of simulators without sacrificing modeling flexi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713120" y="1219320"/>
            <a:ext cx="4287960" cy="525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ED86-4432-45DD-BF0F-D60627B09F2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imulation Is …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imul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very broad term – methods and applications to imitate or mimic real systems, usually via compu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lies in many fields and industr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ry popular and powerful metho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ok covers simulation in general and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ren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imulation software in particul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chapter – general ideas, terminology, examples of applications, good/bad things, kinds of simulation, software options, how/when simulation is us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F004-44FD-4853-A5D4-B70EFF0158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When Simulations are Used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s of simulation have evolved with hardware, softwa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early years (1950s-1960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expensive, specialized tool to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d big computers, special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ly in FORTRAN (or even Assembl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 cost as high as $1000/hour for a sub-286 level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06F9-AA54-4E89-9D89-51EE50E5390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When Simulations are Used 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ormative years (1970s-early 1980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s got faster, che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 of simulation more widely recogn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ion software improved, but they were still languages to be learned, typed, batch proce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used to clean up “disasters” in auto, aerospace indus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 plant; heavy demand for certain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 underperfor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ated, problem ident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demand had dried up — simulation was too 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DE0D-BEB6-454D-ADB3-1F7B458B357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When Simulations are Used 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recent past (late 1980s-1990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computer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ware expanded into GUIs, an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r acceptance across more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itional manufacturing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lth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process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mostly in large fi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a simulation is part of the “spec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2106-EF29-4B32-9F0B-31C54567B5C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When Simulations are Used 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res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liferating into smaller fi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oming a standard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ing used earlier in design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tim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iting interoperability of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ized “templates” for industries, fi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ed statistical design,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ed sharing of data in real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ion with other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model building,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F7A0-6046-46AC-BE83-0FBD1A7D3D0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ystem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yste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facility or process, actual or plann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abound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ufacturing fac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k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rport operations (passengers, security, planes, crews, bagg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portation/logistics/distribution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spital facilities (emergency room, operating room, admiss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r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way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process (insurance offi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minal justic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cal pl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-food restaur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me p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ergency-respons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6820-3D7C-48D2-9435-EF66370DC8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Work With the System?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udy the system – measure, improve, design, contr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just play with the actual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antag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— unquestionably looking at the right 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it’s often impossible to do so in reality with the actual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doesn’t ex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uld be disruptive, expensive, or danger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6493-D041-4A4D-A80F-4CD989A59C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Model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Mode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set of assumptions/approximations about how the system work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y the model instead of the real system … usually much easier, faster, cheaper, sa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try wide-ranging ideas with th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your mistakes on the computer where the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on’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unt, rather than for real where the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, ju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uild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model is instructive – regardless of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alid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ny kind of model … not just simul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e in building to mimic reality faithfu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l of det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same conclusions from the model as you would from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in Chapter 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A788-F584-4B17-A663-CE6EEB3EC06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Types of Model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Physica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iconi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mode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top material-handling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ck-ups of fast-food restaur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simul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Logica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mathematica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mode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imations and assumptions about a system’s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represented via computer program in appropriate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rcise the program to try things, get results, learn about model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6F8C-33C6-440B-99CD-9340A854CCB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tudying Logical Model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model is simple enough, use traditional mathematical analysis … get exact results, lots of insight into mod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ueing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l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ar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t complex systems can seldom be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validl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represented by a simple analytic mod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nger of over-simplifying assumptions … model valid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III error – working on the wrong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ten, a complex system requires a complex model, and analytical methods don’t apply … what to do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61A7-DA67-493D-8C77-76D04989DD1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Computer Simulation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oadly interpreted,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omputer simul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refers to methods for studying a wide variety of models of syste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erically evaluate on a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oftware to imitate the system’s operations and characteristics, often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be used to study simple models but should not use it if an analytical solution is avail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l power of simulation is in studying complex mode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ulation can tolerate complex models since we don’t even aspire to an analytical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3372-2596-4EB7-98BA-F0469E1E5E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Popularity of Simulation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istently ranked as the most useful, popular tool in the broader area of operations research / management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78:  M.S. graduates of CWRU O.R. Department … after grad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Statistical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Foreca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Systems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Information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79:  Survey 137 large firms, which methods u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Statistical analysis (93% used 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Simulation (84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Followed by LP, PERT/CPM, inventory theory, NLP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5045-5E5E-4090-8677-F5E76A3B75E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3T20:49:48Z</dcterms:created>
  <dc:creator>Kelton/Sadowski/Sturrock</dc:creator>
  <dc:description/>
  <dc:language>en-US</dc:language>
  <cp:lastModifiedBy> </cp:lastModifiedBy>
  <dcterms:modified xsi:type="dcterms:W3CDTF">2003-06-09T20:09:56Z</dcterms:modified>
  <cp:revision>63</cp:revision>
  <dc:subject/>
  <dc:title>Chapter 1 -- What is Simulation?</dc:title>
</cp:coreProperties>
</file>