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47.png" ContentType="image/png"/>
  <Override PartName="/ppt/media/image48.png" ContentType="image/png"/>
  <Override PartName="/ppt/media/image38.wmf" ContentType="image/x-wmf"/>
  <Override PartName="/ppt/media/image8.wmf" ContentType="image/x-wmf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036C-A57A-4D7C-B1ED-E781A37A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86D0-5DD0-4498-9F5E-D2CEA9DA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6A9E-D68A-4587-B532-D13B736C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4010-5CA7-436B-A747-0EF55701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E99E-8AE1-4A3A-83BE-4D421F5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CD29-350B-4A29-B90B-D00FE6FF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5E43-0870-4579-AA7A-EA31FFA4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E3E5-041D-4F94-BFBF-0E873CC5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901A-5932-432C-B235-6B50323B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4EA4-2A4C-4772-8A08-826827DF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A959-D3F5-4FF1-BBBA-258D3ED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1B45-6DFC-412C-93BB-5BB3E71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2 – Fundamental Simulation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F1DF5A51-9A74-45E4-9CFE-275BC1B0E929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Fundamental Simulation Concepts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ne 7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EC96-BC98-49C8-A5BB-37294ACDD8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echanistic Simul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operations (arrivals, service times) will occur exactly as in re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ments, changes occur at the right “time,” in the right or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pieces inter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“observers” to get output performanc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rete, “brute-force” analysis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hing mysterious or subt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lot of details, book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software keeps track of thing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0781-34C4-44BE-BEB2-3C9FE9DF7A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ieces of a Simulation 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s” that move around, change status, affect and are affected by other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Dynamic ob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get created, move around, leave (may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present “real”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model:  entities are th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“fake” entities for modeling “tric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down demon, break an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ough Arena has built-in ways to model these examples di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have multipl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aliz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ating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different types of entities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, identifying the types of entities is the first thing to do in build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1748-9A83-4E3B-A918-9F4199756A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ieces of a Simulation Model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of all entities:  describe, differen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ntities have same attribute “slots” but different values for different entities,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arr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value tied to a specific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“local” (to entities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utomatic in Arena, some you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86BA-1125-45C6-B5E9-C56E9819BD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ieces of a Simulation Model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Global)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a characteristic of the whole model, not of specific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many different kinds of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between all station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arts i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clock (built-in Arena vari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, value of which there’s only one copy for the who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ied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can access, chang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on the wall (rewrite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uilt-in by Arena, you can defin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3BA1-FF0C-4CD4-A469-51CAB5E194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ieces of a Simulation Model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ntities compet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iz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source, uses it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l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source being assigned to an 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ather than an entity “belonging to”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” resource can have several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ts at a table in a restau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cal ticketing agents at an airline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units of resource can be changed during th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6CCC-0656-435F-B95F-482B95FFAA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ieces of a Simulation Model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for entities to wait when they can’t move on (maybe since the resource they want to seize is not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names, often tied to a corresponding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a finite capacity to model limited space — have to model what to do if an entity shows up to a queue that’s already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watch the length of a queue, waiting time i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35AC-6399-423C-BC9A-E5CC38F0E2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ieces of a Simulation Model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tistical accumul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hat “watch” what’s hap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 on output performance measures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” in model — don’t participate, just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re automatic in Arena, but some you may have to set up and maintain during th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nd of simulation, used to compute final output performa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4B80-3888-4BE8-BEA9-E8D6E8E926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ieces of a Simulation Model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accumulators for the simple process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arts produced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f the waiting times spent in queue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of parts that have gone through th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time in queue we’ve seen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f times spent i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time in system we’ve seen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so far under queue-length cur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so far under server-busy cur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54BC-5829-49EA-B6B3-755F9CAD94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Dynamics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Event-Scheduling “World View”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characteristic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e 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og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each type of event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tate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even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imes of future events (maybe of this type, other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a simul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loc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futur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vent calend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Jum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one event to the next, process, observe statistics, update event calend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specify an appropriat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opping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done with general-purpose programming language (C, FORTRAN, etc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E1E8-AD55-4A31-903F-4257DE7AFF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vents for the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ple Processing Syste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rriv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 new part to the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ime-persistent statistical accumulators (from last event to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un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un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” arriving part with current time (us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achine is id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processing (schedule departure), Make machine busy, Tally waiting time in queue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(machine is bus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part at end of queue, increase queue-length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the next arriv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D535-7938-4140-A9FE-C45B083EAE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lying ideas, methods, and issues in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-independent (setting up for Aren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ered around an example of a simple process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asic statist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a simulati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EA96-845B-4BFC-9E79-87A0E42C6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vents for the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ple Processing System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par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when a service is complet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number-produced stat accu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&amp; tally time in system (now - time of arri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ime-persistent statistics (as in arrival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ueue is non-emp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first part out of queue, compute &amp; tally its waiting time in queue, begin service (schedule departure ev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(queue is empt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machine idle (Note: there will be no departure event scheduled on the future events calendar, which is as des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FE62-A7C9-4FA6-BFFB-79A1A8D729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vents for the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ple Processing System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e E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ime-persistent statistics (to end of the sim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final output performance measures using current (= final) values of statistical accum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each event, the event calendar’s top record is removed to see what time it is, wha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 must initialize every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42B7-3977-405A-95C3-0D0E932328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ome Additional Specifics for the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ple Processing Syste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clock variable (internal in Aren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 calendar:  list of event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cor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Entity No., Event Time, Event Typ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an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reasing order on Eve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event always in top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schedule first Arrival, The End (Dep.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variables: describe current sta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tat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 for busy, 0 for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ustomers in que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of arrival of each customer now in queue (a list of random 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79AF-D900-4FA6-8768-90C3D21BFD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ly track state variables, statistical accumul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“given” interarrival, service 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track of event calend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rch” clock from one event to the n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omit times in system, “max” computations here (see text for complete detail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F735-6011-4210-8EEC-3477EFA9A9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tup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8888-7238-42B6-87B5-62ED9F1F0E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0.00, Initializ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C544-A541-4E60-919B-CBCD6BCB4B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0.00, Arrival of Part 1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507F-7C59-4FF3-8694-36EB84F54A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.73, Arrival of Part 2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D475-38DA-4E0E-9A76-7961B4A0C5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2.90, Departure of Part 1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0F2C-BADC-40B4-BA9B-76FD7C4C1D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3.08, Arrival of Part 3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DF88-51DE-43A2-A605-91A7BF5D9C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System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 Simple Processing Syste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38080" y="1219320"/>
            <a:ext cx="7511400" cy="1662120"/>
            <a:chOff x="838080" y="1219320"/>
            <a:chExt cx="7511400" cy="1662120"/>
          </a:xfrm>
        </p:grpSpPr>
        <p:sp>
          <p:nvSpPr>
            <p:cNvPr id="55" name=""/>
            <p:cNvSpPr/>
            <p:nvPr/>
          </p:nvSpPr>
          <p:spPr>
            <a:xfrm>
              <a:off x="5051520" y="1782720"/>
              <a:ext cx="672840" cy="59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43320" y="1857240"/>
              <a:ext cx="406440" cy="42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0960" y="1857240"/>
              <a:ext cx="404640" cy="42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44800" y="1857240"/>
              <a:ext cx="406440" cy="42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30440" y="1857240"/>
              <a:ext cx="406440" cy="42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89320" y="207000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17960" y="1996920"/>
              <a:ext cx="101520" cy="147600"/>
            </a:xfrm>
            <a:custGeom>
              <a:avLst/>
              <a:gdLst/>
              <a:ahLst/>
              <a:rect l="l" t="t" r="r" b="b"/>
              <a:pathLst>
                <a:path w="64" h="93">
                  <a:moveTo>
                    <a:pt x="0" y="0"/>
                  </a:moveTo>
                  <a:lnTo>
                    <a:pt x="0" y="92"/>
                  </a:lnTo>
                  <a:lnTo>
                    <a:pt x="63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92760" y="207000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21400" y="1996920"/>
              <a:ext cx="101520" cy="147600"/>
            </a:xfrm>
            <a:custGeom>
              <a:avLst/>
              <a:gdLst/>
              <a:ahLst/>
              <a:rect l="l" t="t" r="r" b="b"/>
              <a:pathLst>
                <a:path w="64" h="93">
                  <a:moveTo>
                    <a:pt x="0" y="0"/>
                  </a:moveTo>
                  <a:lnTo>
                    <a:pt x="0" y="92"/>
                  </a:lnTo>
                  <a:lnTo>
                    <a:pt x="63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1752480"/>
              <a:ext cx="1352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i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ank Pa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06080" y="1752480"/>
              <a:ext cx="1643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ar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ished Pa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7640" y="1219320"/>
              <a:ext cx="1046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erv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5640" y="2438280"/>
              <a:ext cx="1608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 (FIF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63080" y="2514600"/>
              <a:ext cx="166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 in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51400" y="1776240"/>
              <a:ext cx="4568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91200" y="1905120"/>
              <a:ext cx="320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5120" y="1219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14960" y="1905120"/>
              <a:ext cx="320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1905120"/>
              <a:ext cx="320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1905120"/>
              <a:ext cx="320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52280" y="2743200"/>
            <a:ext cx="8991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Aft>
                <a:spcPts val="176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int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expecte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ing time in queue, queue length, proportion of time machine is bu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176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different units in different places … must dec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check the units when specifying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base time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ternal calculations,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reasonable (interpretation, roundoff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3B07-4BD1-4876-83C4-4C92068F44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6360" y="1224000"/>
          <a:ext cx="8574120" cy="52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412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3.79, Arrival of Part 4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523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5304-61EB-4724-A167-9F69AAFFC6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4.41, Arrival of Part 5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523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5238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5B12-6D63-471B-A49B-5DBDBB3FD0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301680" y="1219320"/>
          <a:ext cx="8218440" cy="52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219320"/>
                    <a:ext cx="821844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4.66, Departure of Part 2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1523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666880" y="57146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57146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221C-FC34-4B67-AD91-9E931EBFB6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301680" y="1219320"/>
          <a:ext cx="8218440" cy="52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219320"/>
                    <a:ext cx="821844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8.05, Departure of Part 3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AE77-2598-4ABB-8986-769A11033A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01680" y="1219320"/>
          <a:ext cx="8218440" cy="52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219320"/>
                    <a:ext cx="821844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2.57, Departure of Part 4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9242-6290-4B91-B458-CD8D664EA4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301680" y="1230480"/>
          <a:ext cx="8308800" cy="52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230480"/>
                    <a:ext cx="830880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7.03, Departure of Part 5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97E1-09A2-4038-A25B-36D67767BC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309600" y="1222200"/>
          <a:ext cx="8308800" cy="52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222200"/>
                    <a:ext cx="830880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8.69, Arrival of Part 6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6483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5720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E096-D0E4-4BB6-B87A-4CD6784AD9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303120" y="1228680"/>
          <a:ext cx="8483760" cy="52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228680"/>
                    <a:ext cx="848376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9.39, Arrival of Part 7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6483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18148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5720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43A5-A519-4501-A5BA-002E859A8D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20.00, The End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6483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8148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303120" y="1228680"/>
          <a:ext cx="8483760" cy="523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120" y="1228680"/>
                    <a:ext cx="848376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 flipV="1">
            <a:off x="45720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58DC-B23F-4541-A1DE-7A7CDCD587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inishing Up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waiting time in queu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-average number in queu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ilization of drill pres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84280" y="1752480"/>
                <a:ext cx="8559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of times in queu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times in queu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 minutes per pa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609480" y="3276720"/>
                <a:ext cx="6502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ea under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urv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inal clock valu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 pa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09480" y="4876920"/>
                <a:ext cx="8356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ea under 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urv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inal clock valu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imensionles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6607-73C1-4645-BDE4-9F1443B7A4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Specific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ly (time 0) empty and i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time units:  min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data (assume given for now …), in minut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 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arrival 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3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7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6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5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4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6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3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5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4.9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3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8.0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3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9.8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40.8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when 20 minutes of (simulated) time have pas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08D7-9DB4-4729-8D19-F0EB7E1F46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lete Record of the Hand Simul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10960" y="1371600"/>
            <a:ext cx="8933040" cy="476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C2BE-8887-468A-8F9B-E5CCEADADDF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vent-Scheduling Logic via Programm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rly well suited to standard programming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use “utility” libraries f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-number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-variat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-list and clock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program ties it together, executes events in or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F4E2-13E6-4B77-A9F7-ED1F5697697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Dynamics:  The Process-Interaction World View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characteristic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nt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copies of entities co-exist, interact, compe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” is non-procedu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a “story” about what happens to a “typical” 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have many types of entities, “fake” entities for things like machine breakdow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requires special simulation soft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neath, still executed as event-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iew normally taken by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na translates your model description into a program in the SIMAN simulation language for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0B7E-2B22-4126-AA7A-10B1F1A2E1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andomness in Simul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ove was just one “replication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ample of size one (not worth much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a total of five replic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ce intervals for expected val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Aft>
                <a:spcPts val="30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Aft>
                <a:spcPts val="30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pected total produc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486400" cy="264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438280" y="5410080"/>
                <a:ext cx="246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029200" y="5791320"/>
                <a:ext cx="32083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029200" y="6172200"/>
                <a:ext cx="15177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7014600" y="2895480"/>
            <a:ext cx="172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sta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9B64-ABA5-4678-A7FA-EC88F1652A9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ing Alternativ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, simulation is used for more than just a single model “configuratio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want to compare alternatives, select or search for the best (via some criter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processing system:  What would happen if the arrival rate were to dou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interarrival times in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run the model for double-time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five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BE2C-9BE1-48FE-BEB5-9232502060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sults:  Original vs. Double-Time Arriva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– cir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-time – triang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ication 1 – filled 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ications 2-5 – hol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var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ger of making decisions based on one (first) re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see if there are really dif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:  Statistical analysis of simulation output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490680" y="1219320"/>
            <a:ext cx="358920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BEBC-F310-440D-B4A8-18B0D2584BE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verview of a Simulation Study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clear about the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te the model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ate into modeling soft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y “program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idat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xperi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r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, get insight, document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7DC3-D376-4DEA-A6FA-898BC8BD59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oals of the Study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utput Performance Meas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otal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parts over the ru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verage waiting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parts in queu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ximum waiting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parts in queu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362320"/>
            <a:ext cx="678168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no. of parts completing queue 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waiting time in queu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: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838080" y="2514600"/>
                <a:ext cx="1117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15960" y="4876920"/>
                <a:ext cx="1676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965E-0EAD-4061-AFA2-3D6D1D9222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oals of the Study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utput Performance Measures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ime-average number of parts in que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ximum number of parts in que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ver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ximum total time in syst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parts (a.k.a.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ycle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3280" y="1828800"/>
            <a:ext cx="5486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number of parts in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im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62120" y="1752480"/>
                <a:ext cx="1625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705720" y="2743200"/>
                <a:ext cx="1587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09480" y="4419720"/>
                <a:ext cx="29718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162680" y="4952880"/>
            <a:ext cx="49762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ime in system of par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807B-85B9-42DA-93B2-2E67EB2D2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oals of the Study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utput Performance Measures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tiliz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machine (proportion of time bus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others possible (information overload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79360" y="2209680"/>
                <a:ext cx="88646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the machine is busy at time 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the machine is idle at time 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082D-6951-471A-A23B-3531511098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nalysis Op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ed gu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interarrival time = 4.08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ervice time = 3.46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(on average) parts are being processed faster than they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has a chance of operating in a stable way in the long run, i.e., might not “explo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interarrivals and service times were exactly at their mean, there would never be a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data clearly exhibit variability, so a queue coul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’d had average interarrival &lt; average service time, and this persisted, then queue would expl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between these ex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essing has its limi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01D2-BC60-48AA-949E-FE28B725AA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nalysis Options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ueing 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dditional assumptions about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r, simple model: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/M/1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rrival times ~ 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times ~ exponential, indep. of interarri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have E(service) &lt; E(interarri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(long-run, fore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 analytic results; e.g., average waiting time in queu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  validity, estimating means, tim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seful as first-cut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67000" y="4191120"/>
                <a:ext cx="4222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E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interarrival time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E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ervice time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FD73-4DE3-4B81-A762-7B6C226909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6-09T20:10:11Z</dcterms:modified>
  <cp:revision>115</cp:revision>
  <dc:subject/>
  <dc:title>Chapter 2 -- Fundamental Simulation Concepts</dc:title>
</cp:coreProperties>
</file>