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ACC-7D74-4F99-8D47-653E0569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82D-526B-434F-A117-F533EE9E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418-9DA2-43FF-B589-4B4F6A5E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1D1-2A42-45F2-B060-5AECC71C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CF4-A718-46C1-AA74-5C681897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9FB-D970-4F49-B2BA-8FAC8849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2CA-63EF-4CAB-BAC1-808D0FB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9E3-08AB-4DB8-B339-F55262DE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9F1-3BF7-40F0-ADE6-24003F26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FD0-BD5A-4158-920E-9A46EC8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929-593F-4379-8B6E-1127D647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869-D400-45D9-B33A-31EFC667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600" y="6552720"/>
            <a:ext cx="4114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3 – A Guided Tour Through Ar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4ABF6F76-3C1E-411B-B4B0-EB2FBAC40A0C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A Guided Tour Through Arena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ne 7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503-51C0-4C17-BFDF-5232C63763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u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building blocks of a simulation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basic types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lowch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types of modules for different actions, spec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nk” modules are on the Project 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 a flowchart module to your model, drag it from the Project Bar into the flowchart view of the model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many instances of the same kind of flowchart module in you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a data module, select it (single-click) in the Project Bar and edit in the spreadsheet view of the model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instance of each kind of data module in your model, but it can have many entries (rows) in the spreadshee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dit via dialog – double-click on number in leftmos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794-1280-4C61-94C5-D9ACE412CB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lowchart Modu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dynamic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/places through which entities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connected to each other in so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Process panel flowchart module typ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, Dispose, Process, Decide, Batch, Separate, Assign,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panels – many other ki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pe like flowcharting (also use colors for hin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ways to ed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to open up, then fill out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(single-click) a module type in model or Project Bar, get all modules of that type in the spreadsheet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FA1-0924-4F3D-8C83-66904871E1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ata Modu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values, conditions, etc. for whol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ntity flow, no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Process panel data module typ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, Queue, Resource, Variable, Schedule,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panels – many other ki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ons in Project Bar look like little spreadshe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use a data module, select it (single-click) in the Project Bar, edit in spreadsheet 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dit via dialog – double-click in leftmost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where indicated to add new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-click on row, column to do differe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one instance of each kind of data module in a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ch one can have many entries (r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B2B-B607-479E-B3C4-077DB717B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lations Among Modu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chart and data modules are related via names for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, Resources, Entity types, Variables …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keeps internal lists of different kinds of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s existing lists to you wher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you remember names, protects you from ty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names you make up in a model must be unique across the model, even across different types of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5EB-923E-4259-9967-6543191FBB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nternal Model Document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ata Tip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modules, graphics – hover mouse over object to s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part – generic info on object (name,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defined part – right-click on object, select Properties, enter text under Property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 display of Data tips vi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ject Descri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ject Parameters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ter text under Project Descri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el Documentation Rep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el Documentation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HTML file with model details (can choose which kinds of details to inclu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9AD-8E1A-4DFF-A6A7-6036E775F2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rowsing Through Model 3-1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odel 03-01.m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n Book Examples fold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flowchart modules (Create, Process, Dispo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ies in three data modules (Entity, Queue, Resour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ion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(passive) labels, ar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211-7B8A-444D-819D-E83B3831B1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Flowchart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rth” node for ent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ve this instance of the Create-type module the Nam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 Arrives to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had other Create modules (we don’t) they’d all have different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-click on module to open property dialo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84520" y="4044960"/>
            <a:ext cx="3746520" cy="23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73D-CCA2-4CE3-87B7-9E44B318B9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Flowchart Module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– for module (type it in, overriding defaul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Type – enter a descriptive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multiple Entity Types with distinct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Between Arrivals a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nature of the time separating consecutive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– pull-down list with severa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– depends on Type … for Random (Expo) i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 – time units fo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ies per Arrival – constant, random variable, very general “Expression” (more later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Arrivals – choke off arrivals (from this source) after this many ent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Creation – time of first arrival (need not be 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B31-0F2D-455B-B194-E8FB094BCA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diting Flowchart Modules in the Spreadsheet View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to dialog for each instance of a module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all instances of a module type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t for seeing, editing lots of thing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ng a module in either flowchart or spreadsheet view also selects it in the other 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, double-click fields to view, ed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click in row to Edit via Dialog, define a user Data Tip (via Properti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click in expression fields to get Expression Builder for help in constructing complex expressions with Arena variables (more later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C95-3AE2-449D-A4B2-BABF1E388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tity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Data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ata module, so edit in spreadsheet view on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, edit aspects of different Types of entities in your model (we have just one Type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ll-down lists activated as you select fie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only edit – Initial Picture for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ick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ture.Blue B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defaul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4E5-3717-4B11-A470-74240E2FB8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, explore, run an existing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 the same model as for the hand simulation in Chap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 dialogs and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 the same model from scr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ur menus, toolbars, drawing, pri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s for running and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71A-9FED-4B1A-ADF0-3646DD3D6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rocess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Flowchart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the machine, including the resource, queue, and entity delay time (process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 Name –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illing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– pick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nda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define logic here rather than in a submodel (more later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 Statistics check box at bott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utilizations, queue lengths, queue waiting tim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C34-038E-42CD-8A17-588C78CA24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rocess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Flowchart Module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area – what happens to entities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eize Delay Rel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ntity Seizes some number of units of a Resource (maybe after a wait in queue), Delay itself there for the processing time, then Release the units of the Resource it had Seized – we chose this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just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e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ity (red traffic light) – no Resources or 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also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eize De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lease … Release down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also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elay Rel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f Resource had been Seized up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for seizing – lower numbers mean high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ction choices could allow stringing together several Process modules for modeling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– define Resource(s) to be seized,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on row to open sub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Resource Name, Quantity of units to be Seized/Releas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Resources present (Add) – entities must first Seize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552-243F-481D-9824-F9670FEC12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rocess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Flowchart Module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Type – choice of probability distributions, constant or general Expression (more later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s – time units for the delay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n’t igno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cation – how to “charge” delay in costing (more later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s on next line – change depending on choice of Delay Type – specify numerical parameters invol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also edit in spreadsheet 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dialogs (e.g., Resource here) become secondary spreadsheets that pop up, must be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E91-796E-4A02-83C6-E745683ACE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Resource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Data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illing Center Resour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Process module automatically creates an entry (row) for it in the Resource data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dit it here for more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– could vary capacity via a Schedule instead of having a fixed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define the Schedule via Schedule data module … more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s – could cause resource to fail according to som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is pattern via Failure data module (Advanced Process panel) … more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2B1-83C0-4366-9539-B281FC8DB8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ueue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Data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y aspects of the queues in th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nly have one, nam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rilling Center.Que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default name given the Process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– specifie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u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ranking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west or Highest Attribute Value, then another field appears where you specify which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d – it this queue will be shared among several resources (more later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 Statistics – check to get automatic collection and reporting of queue length, time in 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424-9057-4856-94D1-DEDA84CDBF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nimating Resources and Queu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t queue animation                    automatically by specifying a Seize in the Process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pictures (blue balls) will line up here i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get Resource animation automati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 it, use Resource button     in Animate toolbar … get Resource Picture Placement 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– link to Resource name in pull-dow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different pictures for Idle, Busy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pre-defined artwork, Open a picture library (.plb filename exten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oll up/down on right, select (single-click) a picture on right, select Idle or Busy state on left, then        to copy th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dit later, double-click on picture in flowchart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1677960" cy="225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33960" y="3200400"/>
            <a:ext cx="304920" cy="274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411360" y="5205240"/>
            <a:ext cx="293760" cy="2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47C-55B9-44B4-9681-3C06EC0C8E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ispose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Flowchart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entities leaving model bounda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th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e on Record Entity Statistics (average and maximum time in system of entities exiting here, costing inform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6360" y="4010040"/>
            <a:ext cx="8386560" cy="158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boxes for statistics collection and repor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90000"/>
              </a:lnSpc>
              <a:spcBef>
                <a:spcPts val="45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re checked (turned on) by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90000"/>
              </a:lnSpc>
              <a:spcBef>
                <a:spcPts val="45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modeling effort to say yes to th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90000"/>
              </a:lnSpc>
              <a:spcBef>
                <a:spcPts val="45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 some models this can slow execution marked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90000"/>
              </a:lnSpc>
              <a:spcBef>
                <a:spcPts val="45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al – if you have speed problems, clear these if you don’t care about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179-731B-4371-B913-C90B36DC08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necting Flowchart Modu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es the (fixed) sequence of flowchart modules through which entities will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make a 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Connect button       (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n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sor changes to cross 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xit point      from source module, then entry point    on destinati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intermediate clicks for non-straight line in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 menu togg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Connect – automatically connect entry point of newly placed module from exit point of selected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onnect – force segments to horizontal/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e Connectors – show entities moving along connectors (zero time for statistics coll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381240" cy="33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429000" y="3200400"/>
            <a:ext cx="195120" cy="20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839080" y="3200400"/>
            <a:ext cx="204840" cy="2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0B6-20E8-4B1D-8AE8-3E850B3B7E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ynamic Plo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variables, queues as simulation runs – a kind of “data animatio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ppear after run is ended (to keep, must save data, postprocess via Output Analyz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ot button      from Animate toolbar… “Add”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5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to plot (help via Expression Builder …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/Ma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xis values (initially guesses, maybe rev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a can do this automatically and dynamically in Plot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“corners” to show (# History Points)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ped option (for piecewise-constant cur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lot dialog – Time Rang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xis), cosmetics, automatic scaling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op plot in via crosshairs (resize, move la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67080" y="2857680"/>
            <a:ext cx="380880" cy="3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BDD-C4E6-4A63-A138-8A0D683D39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ressing Things Up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drawing objects from Draw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other drawing, CA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drawing tools (layers, etc.), not just a pai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Text to annotate th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ont, size, color,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3F8-3DA5-42EB-9EFD-39E1CF2970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ehavior of Aren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is a true Windows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ance, operation, functions, ar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with other software (MS Office, C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, communicate with other software (Chapter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you already know basics of Wind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s, files, folders,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ing, keybo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zing, moving, maximizing, minimizing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, Alt, Shift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, copy, 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ing out dialo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BC4-C7AA-4965-90B3-C099FF7C20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tting the Run Condi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nu dialog – five ta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arameters – Title, your name, output statistics, Project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ation options Between Re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Date/Time to associate with start of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-up Period (when statistics are cle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Replication (and Time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Time Units (output measures, internal compu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s per “Day” (convenience for 16-hour day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ng Condition (complex stopping r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abs for animation speed, run conditions,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7280" y="5657760"/>
            <a:ext cx="6134040" cy="84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inating your simul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70000"/>
              </a:lnSpc>
              <a:spcBef>
                <a:spcPts val="34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must specify – part of mod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70000"/>
              </a:lnSpc>
              <a:spcBef>
                <a:spcPts val="34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na has no default 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70000"/>
              </a:lnSpc>
              <a:spcBef>
                <a:spcPts val="34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don’t specify termination, Arena will usually keep running for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BD6-5FEF-4D23-9682-856368E406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unning I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in-vanilla run:  Click      from Standard toolbar (like audio/video play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ime or after changes: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un mode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can move around but not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(&gt; on keyboard) or slow down (&lt;) animation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ne, asked if you want to see summary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     to get out of run mod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’t edit until you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n with     or Esc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run control, viewing, checking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57600" y="1328760"/>
            <a:ext cx="304920" cy="295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00280" y="4356000"/>
            <a:ext cx="29664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618000" y="4775040"/>
            <a:ext cx="29664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DD2-A2A9-4DC1-B154-240557218F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iewing the Repor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Yes in the Arena box at the end of the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up a new reports window (separate from model window) inside the Arena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Bar shows Reports panel, with different reports (each one would be a new wind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close all reports windows before future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installation shows Category Overview report – summarizes many things about the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have “page” to browse (       and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“table contents” tree at left for quick jumps via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s are in Base Time Units for th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00640" y="4853160"/>
            <a:ext cx="477720" cy="214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512040" y="4842000"/>
            <a:ext cx="458640" cy="225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956720" y="52322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416800" y="5241960"/>
            <a:ext cx="30492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D1F-5DDB-4BD4-BD46-3C1B558C4E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iewing the Reports – Examp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i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tal Ti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. time in system was 6.4397 min., max was 12.6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sag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stantaneous Utiliza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rill Pres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tion was 0.9171 (busy 91.71% of the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th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mber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rilling Cent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run, 7 parts entered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ill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th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mber Ou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rilling Cent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entities lef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illing 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 were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im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ait Tim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. wait time in all queues was 3.0340 min. (counts only entities that lef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Que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ing Tim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illing Center.Queue counts all entities that lef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que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 can dif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th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p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ork in Process was 1.7060, max WIP wa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32B-4571-4100-B8B7-B51B1C0AE7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ypes of Statistics Reported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output statistics are one of three typ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vg., max, min of a discrete list of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iscrete-time output processes like waiting times in queue, total times i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ime-persis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ime-average, max, min of a plot of something wher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xis is continuou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continuous-time output processes like queue lengths, WIP, server-busy functions (for utiliz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umulated sums of something, usually just nose counts of how many times something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used to count entities passing through a point in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245-069E-4310-A5BD-7312535DF2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re on Reports and their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s we just saw – based on a MS Access database that Arena writes as it r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aved and view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ing within Arena done via Crystal Reports to query the Acces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also produces a plain-text summary report (.out filename extens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n previous versions of Arena, underlying SIMAN simula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ly cryptic, but gives quick view of lots of out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multiple reports for multiple re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 Width” columns – for confidence intervals on outputs in long-run simulations … more l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D12-126E-47E5-B091-245020E7C3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uild It Yourself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the same model from scratch – see book for more det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y user-interface trick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-click in an empty spot in flowchart view – small box of options, including Repeat Last Action … useful in repetitive editing like placing lots of the same modul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+D or Ins key – duplicates whatever’s selected in flowchart view, offsetting it a bit … usually drag elsewhere and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a new (blank) model window – name it, save it, maybe maximize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h modeling panels you’ll need to Project Bar if they’re not t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6EB-3011-4135-81B7-4B0BE9C2B6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uild It Yourself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 and connect flowchart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it flowchart and data modules as nee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with Expression Builder – right-click in expression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plots, animation, ar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named views (? key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med Vie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, hot key (case-sensitive) – useful in bi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i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alo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lays” in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 way of saying what needs to be done in a 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ts Arena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completed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602-BF27-4EEA-80D2-850058BB6C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play for the Create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22280" y="1297080"/>
            <a:ext cx="6497640" cy="42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009-AF48-4E9D-862D-BAA76BA3EB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play for the Process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5943600" cy="52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6D2-122D-4911-9F3E-3F28A51506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rting Up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ing Arena – Appendix 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 icon or shortcut; double-cli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ogra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Rockwell Softw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ena 7.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ena 7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sed vs. Academic, Evalua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File, View, Tools, Help me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enus present if a model file is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bars with butt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a model file is open, only New model file, Open model file, Template Attach/Detach, Context Help (click it, then click on buttons or menu i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tips – roll over toolbar buttons for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itting Arena: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Alt+F4 or top right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25600" y="6064200"/>
          <a:ext cx="39024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6064200"/>
                    <a:ext cx="3902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9B2-E19F-4EB1-95B9-0ADF515C4C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play for the Dispose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43160" y="2360520"/>
            <a:ext cx="6457680" cy="21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4DE-8696-4EC8-B84F-26F18870EC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play for the Queue-Length Plo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77920" y="1219320"/>
            <a:ext cx="498636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9A0-1BE2-4DE7-B9E8-061734EA51C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xpression Builder for Queue-Length-Plot Express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87680" y="1219320"/>
            <a:ext cx="57672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F98-12E1-44B4-94C1-613A724E01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re on Menus – File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-file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late attach/det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XF import (from CAD packages), Visio im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 palet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 open model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t from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00C-1BAC-4751-A55A-86839D42727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dit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o/Re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/Copy/Pas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te Link (create OLE link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plicate, Delete s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/Deselect 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Pictures – change content, definition of pictures presented in Entity data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ar Schedules – specify complex time patterns in hierarchies (weeks are made of days, which are made of shifts, etc.), exceptions (holidays), view composite net eff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F8F-5AD8-4143-830A-3ECF0798C2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dit Menu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– searches all modules and animation objects for a text string … useful for finding wrong names, typos after an error message from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ies – display internal Arena object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s – to link to other files (spreadsheets, sounds, etc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 New Object – from other applications (e.g., graphic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 – edit object imported from another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3CE-93F6-4E96-9F1C-E2495B561DC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iew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ooming – discussed bef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oom Factor – step size when zoo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s – canned Arena views of flowchart 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d Views – define, change, use vi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id/Snap/Grid Settings – control grid, sn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breaks – shows page breaks if pri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Tips – toggles display of Data T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s – which objects show up in which m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t Screen – toggle for viewing both flowchart and spreadsheet views, or just one of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bars – decide which toolbars show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/Status Bar – toggle to show up or 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7B0-F500-42E2-B3E5-10234723D2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ools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 applications for modeling,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na Symbol Factory – large collection of graphics in categories, use to create graphical symbols for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Analyzer – fit probability distributions for input, using field-collec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nalyzer – run, compare many “scenarios”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Output Analyzer … not on menus ... start from Star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“editions” of Arena (FactoryAnalyzer, Contact Center) – depends on licen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Documentation Report – generate HTML file with many details of this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41D-E4B2-4DD3-BC04-3E2F85A4CE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ools Menu</a:t>
            </a:r>
            <a:r>
              <a:rPr b="1" lang="en-US" sz="20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2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/Export model to/from Database – bring in, save model details to Excel or A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Quest for Arena – separate application that “takes over” running of the model to search for an optimal scen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– create Visual Basic macros (mini programs), VB editor ... more in Chapter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many aspects of how Arena works, loo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F4F-18AF-43DB-8774-09D90B3E94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rrange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odeling, graphics objects – first select object(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ng object to Front, Send it to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“stacking”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, Un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p around Vertical, Horizontal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 object (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clockwi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ign objects on top, bottom, left, or right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 objects evenly (horizontally, verticall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chart Alignment – arrange flowchart modules (horizontally, verticall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ap to Grid the selected object(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Snap Point on object that gets snapp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CDF-F16F-4B4F-AADF-84BD96907E1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pening an Existing 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or        butt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o desired disk/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double-click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del 03-01.d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models: Rockwell Software\Arena 7.0\Book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amples: Rockwell Software\Arena 7.0\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window (usually on right side of Arena windo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model is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ze, maximize, minimize, scroll/pan, z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multiple model windows ope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, Copy, Paste within Arena, and between Arena and other applications (when sensib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533160" cy="428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77120" y="1219320"/>
            <a:ext cx="2514600" cy="82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y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do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default extension to Arena model filenam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C7C-45FB-4AB3-93EC-CEA25657F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bject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 tool – changes cursor to cross hai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-Connect newly placed module to selected module – toggle on/of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rt Connect – new connections in horizontal/vertical segments rather than one diagonal segment – toggle on/of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e Connectors – to show entities moving (at infinite speed for statistics collec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model – define and manage hierarchical submodels (see Chapter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489-5226-4102-8DDA-1BD0292C8FC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un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up – control model run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ies to run, check, pause, step throug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s to watch execution, view results (or erro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how run goes and is display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apabilities on Run or Run Interaction Toolbar, and will be described a bit later in det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the “code” in the underlying SIMAN simulation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1C6-3696-443E-8764-DD9E7DFFDA5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indow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cade, Tile multiple open model 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nge Icons for any minimized model 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system Background Col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Windows colors rather than Arena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open model 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020-B170-47C8-A4B1-0B708A821A7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elp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of several ways to get into Help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Help Topic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C, Index,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’s This? – adds ? to cursor, then click on things for brief descri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ase notes – recent changes,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SMART Files – subject-based index to many small (but complete) models that illustrate specific modeling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6A0-C9DA-4280-AD20-772D4267C3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elp Menu</a:t>
            </a:r>
            <a:r>
              <a:rPr b="1" lang="en-US" sz="20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2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attached modeling pane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to get Help on that 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Manuals – detailed documents on Arena compon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links to product support (must be online ..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support/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y protection information for commercial, research, and lab ver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Arena... – version number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ADE-89EA-4E2C-96F7-1786E1DFD02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re on Toolba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s of buttons for “frequent”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re duplication of menu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, Draw, Animate, Integration, View, Arrange, Run Interaction, Record Macro, Animate Transfer,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Toolb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r right-click in a toolbar area) to decide which ones show up, which to h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bars can be torn off (“floating” palettes), or “docked” to an edge of scre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remembers your Toolbar configuration for next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olb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stomiz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alter how toolbars and buttons are display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text for run-through description of toolbars and butt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0F6-4D2E-461D-B7C0-E649517C7F5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re on Draw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via toolbar buttons only (no menus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, Polyline (hold Shift key for 45</a:t>
            </a:r>
            <a:r>
              <a:rPr b="1" lang="en-US" sz="1600" spc="-1" strike="noStrike" baseline="10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Arc,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ier Cur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x, Polygon, Ellipse (fill, line, shad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(font, size, sty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 for Lines, Fill, Text, Window 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 Style, Fill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far best way to learn:  just play a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33960" cy="4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8F8-9388-477D-9984-6F653F79990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int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 all or parts of flowchart view of active model window – supports col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 Print, Print Preview, Print Setup (File menu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consume many pages … also prints named views separat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Preview, select only what you want for 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ge Brea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how how pages will brea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to printing directly from Arena: PrintScreen ke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s screen to clipboard, paste into another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+PrintScreen — sends only active window to clip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first pass through a paint application to cro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F7F-722E-4FA2-AD4E-7317855B184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elp!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ve, comprehensive online 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complete (electronic) manu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linked via hypertext for cross referenc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entry points, including Help menu (described above), links to websi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ton for context-sensitive he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ton in most dialo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ton (What’s This?) for info on i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ti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l over things, get little sticky no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folder inside Arena 7.0 fol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RTs library – small models illustrating points – subject index vi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a Smart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1143000" cy="371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80880" cy="3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BCE-2848-4577-887A-700D6E3EB68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re on Running Mod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Menu; Standard &amp; Run Interaction toolb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many options to control the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ttached to the model, and are not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simulation “normally” (depends on selections fr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 Contr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 Contr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“step” at a time (verify, debu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ast-Forwa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ble animation (fas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au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(or Esc key)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ze run, resume with 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rt Ov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back to beginning of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17600" y="2376360"/>
            <a:ext cx="357480" cy="381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22520" y="3435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992400" y="4206960"/>
            <a:ext cx="381240" cy="328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795760" y="487836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3409920" y="5635800"/>
            <a:ext cx="380880" cy="32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BF1-A9BA-4D26-8743-8F654AC5203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lowchart and Spreadsheet View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window split into two vi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low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flow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ion,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ings by double-clicking on them, get into a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preadsh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model data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dit, add, delete data in spreadshee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all similar kinds of modeling elements a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odel parameters can be edited in eithe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splitter bar to apportion the two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plit Sc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push     ) to see both flowchart and spreadsheet views (otherwise, get just flowchart vi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7840" y="5715000"/>
            <a:ext cx="304560" cy="2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5FA-0C64-4D0E-8F11-4EBE140E2F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re on Running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out of run m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eck Mod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– like compi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view Erro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for most recent Che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 Contro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m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– bring up interactive command-line window to control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 Contro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ea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– set times, conditions to interrupt for checks, illus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 Contro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– bring up a window to watch a variable or expression during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419200" y="1366920"/>
            <a:ext cx="381240" cy="307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895560" y="1814400"/>
            <a:ext cx="392400" cy="392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905440" y="28479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219640" y="4724280"/>
            <a:ext cx="362160" cy="381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5172120" y="378144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759-A356-44B2-9B22-E66A7965EC6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re on Running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 Contro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eak on Modu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– set/clear break when an entity enters or resumes activity on a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 Contro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ighlight Active Modu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highlight the flowchart module being execu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 Contro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atch Run (No Animation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run model with no animation … this is even faster than Fast-Forward … usually used for “production runs” for statistical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I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view or write the model (.mod) and experiment (.exp) files for the underlying SIMAN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68960" y="128124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D5B-1AC0-4C18-A2F9-B6D272C9ECC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oject Ba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down the left edge of Arena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s panels with modeling building blocks: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flowchart and spreadsheet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lays one panel at a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to different panels via horizontal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s for Basic Process, Reports (after running), Navigate (to different views within a model or to different hierarchical submodels), … others can be attached (Template Attach button      ) for different modeling levels, speci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docked to left edge but can move, flo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de it vi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ject B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its own sm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4876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00880" y="580536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D78-0CD9-44A2-BF76-986CDCA8D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tus Ba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very bottom of Arena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lays various information sensitive to sta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s of cursor in “worldspa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clock value, replication number being executed, number of replications to be done, when simulation i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de by clearing (unchecking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tus 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42F-8CDF-485D-9D8B-CA2D29FA3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ving Around, Up, Down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n Flowchart View of Model Window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lying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world spa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ordinates, arbitrary units (thousands in each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scroll bars, arrow ke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Zo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(down):      or +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oom out (up):        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all at min altitude:      or *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amed vi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5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 pan/zoom view for different parts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5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ot 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se-sensi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5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vi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d Views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?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lay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r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      )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n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grid (       ) togg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76440" y="3060720"/>
            <a:ext cx="505080" cy="5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386160" y="3639960"/>
            <a:ext cx="463680" cy="455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354560" y="4208400"/>
            <a:ext cx="477720" cy="428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871720" y="6054840"/>
            <a:ext cx="486000" cy="463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132600" y="6087960"/>
            <a:ext cx="449280" cy="443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10400" y="2962440"/>
            <a:ext cx="2152440" cy="106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navigate via keyboard, the model window must be active ... click in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472-1C9C-423E-9120-EDAADC4EF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6-09T20:10:28Z</dcterms:modified>
  <cp:revision>287</cp:revision>
  <dc:subject/>
  <dc:title>Chapter 3 -- A Guided Tour Through Arena</dc:title>
</cp:coreProperties>
</file>