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A02-273F-45C5-81CB-A5274976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EE3-E6E1-43F4-8EA4-887D96A0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04F-5089-41F4-8037-BED76DAA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D70-EE4C-4CD3-B430-63AA0BF8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243-25C3-4546-AFC2-EF4A12C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E39-0EEA-4643-9F33-11BC9E0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389-E373-4A51-B002-C983F86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64E-ED5E-42B2-BE75-CFEF0E0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F4A-F010-4401-A324-232619E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5B2-FA7C-4E43-9DD5-894F608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9FF-9703-4621-ACF3-F0DBC34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FFE-3C9B-456D-9795-F7B824C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, 3</a:t>
            </a:r>
            <a:r>
              <a:rPr b="0" i="1" lang="en-US" sz="1400" spc="-1" strike="noStrike" baseline="30000">
                <a:solidFill>
                  <a:srgbClr val="00009b"/>
                </a:solidFill>
                <a:latin typeface="Arial"/>
              </a:rPr>
              <a:t>rd</a:t>
            </a: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243000" cy="304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39520" y="6552720"/>
            <a:ext cx="53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10 – Arena Integration and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400" y="65527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E7CD5EF3-F894-47BE-8D6B-6B709B54EEB4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76320"/>
            <a:ext cx="51098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b"/>
                </a:solidFill>
                <a:latin typeface="Arial"/>
              </a:rPr>
              <a:t>Arena Integration and Customization</a:t>
            </a:r>
            <a:endParaRPr b="1" lang="en-US" sz="40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276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248520"/>
            <a:ext cx="19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st revision July 14,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C16-E29A-4DC0-919F-440E59B4F2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 Termin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Setup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eplications / simulation end time always terminates the simulation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emp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entities on calendar and no other time-based controls, run may terminate earlier than setup options di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ol entity is disposed after it reads the last data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97D-58B8-4B70-AAD9-84F4EBE335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Access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3502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Access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10-03 Input.m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: Arrival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Figure%2010-4" descr=""/>
          <p:cNvPicPr/>
          <p:nvPr/>
        </p:nvPicPr>
        <p:blipFill>
          <a:blip r:embed="rId1"/>
          <a:stretch/>
        </p:blipFill>
        <p:spPr>
          <a:xfrm>
            <a:off x="3664080" y="1300320"/>
            <a:ext cx="5138640" cy="51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33D-1F49-4AB0-93AF-FF6FFE7CA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Access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6310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data module (Advanced Pro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crosoft Access (*.m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ing System File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del 10-03 Input.m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ick to load the Recordset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name an access file the same as the model name or it will conflict with the automatic output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Display%2010-8" descr=""/>
          <p:cNvPicPr/>
          <p:nvPr/>
        </p:nvPicPr>
        <p:blipFill>
          <a:blip r:embed="rId1"/>
          <a:stretch/>
        </p:blipFill>
        <p:spPr>
          <a:xfrm>
            <a:off x="237960" y="4797360"/>
            <a:ext cx="8705880" cy="14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ADA-3BB6-485D-B030-EA2FCF9DCD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Access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sets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ordset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must already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see a sample of the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2800" y="515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isplay%2010-9%20Full" descr=""/>
          <p:cNvPicPr/>
          <p:nvPr/>
        </p:nvPicPr>
        <p:blipFill>
          <a:blip r:embed="rId1"/>
          <a:stretch/>
        </p:blipFill>
        <p:spPr>
          <a:xfrm>
            <a:off x="210960" y="3444840"/>
            <a:ext cx="8539200" cy="29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FB1-113C-4A07-85D6-4A479B481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Access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Write module (Advanced Pro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cordse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e as defined in Recordset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9720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isplay%2010-10" descr=""/>
          <p:cNvPicPr/>
          <p:nvPr/>
        </p:nvPicPr>
        <p:blipFill>
          <a:blip r:embed="rId1"/>
          <a:stretch/>
        </p:blipFill>
        <p:spPr>
          <a:xfrm>
            <a:off x="2451240" y="2252520"/>
            <a:ext cx="4427280" cy="413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E22-0CAE-4BA1-A8BD-EB8BB7FC2E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6310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 is not a relational database but has many similarit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cel workbook is similar to an Access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rows and columns in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ctangular named rang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 an Excel worksheet are similar to the rows and columns of an Acces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372-117E-45AB-BAD7-38D67DFB7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76276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Excel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10-03 Input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Range: Arrival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igure%2010-5" descr=""/>
          <p:cNvPicPr/>
          <p:nvPr/>
        </p:nvPicPr>
        <p:blipFill>
          <a:blip r:embed="rId1"/>
          <a:stretch/>
        </p:blipFill>
        <p:spPr>
          <a:xfrm>
            <a:off x="1206360" y="2617920"/>
            <a:ext cx="739152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608-1F3A-4308-ACA7-7E45A7B5F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6310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data module (Advanced Pro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crosoft Excel (*.x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ing System File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del 10-03 Input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ick to load the Recordset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9428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isplay%2010-11" descr=""/>
          <p:cNvPicPr/>
          <p:nvPr/>
        </p:nvPicPr>
        <p:blipFill>
          <a:blip r:embed="rId1"/>
          <a:stretch/>
        </p:blipFill>
        <p:spPr>
          <a:xfrm>
            <a:off x="277920" y="4691160"/>
            <a:ext cx="8513640" cy="15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AFE-C1F7-471A-8BB5-65CE4C017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sets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a recordset name with a nam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range must already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see a sample of the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0" y="515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6240" y="41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isplay%2010-12" descr=""/>
          <p:cNvPicPr/>
          <p:nvPr/>
        </p:nvPicPr>
        <p:blipFill>
          <a:blip r:embed="rId1"/>
          <a:stretch/>
        </p:blipFill>
        <p:spPr>
          <a:xfrm>
            <a:off x="210960" y="3311640"/>
            <a:ext cx="8587080" cy="30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9AD-FC55-47F8-8B69-81C1D0DECF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riting Access and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6310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fi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able or named range must already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cel named range should be formatted as num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Write modul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ew module to specify which data to wri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51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igure%2010-6" descr=""/>
          <p:cNvPicPr/>
          <p:nvPr/>
        </p:nvPicPr>
        <p:blipFill>
          <a:blip r:embed="rId1"/>
          <a:stretch/>
        </p:blipFill>
        <p:spPr>
          <a:xfrm>
            <a:off x="541440" y="3540240"/>
            <a:ext cx="7551720" cy="2878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07040" y="5340240"/>
            <a:ext cx="1971360" cy="109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CD6-F2D7-4454-B291-E870C16B5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360" y="1142640"/>
            <a:ext cx="8717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nd Writing Data Files (ReadWr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Visual Basic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Applications (VB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Modules with Arena Professional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843-210B-4C17-A717-9E158CB29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riting Access and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6310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Write modul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rite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Recordset ID 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9884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isplay%2010-15" descr=""/>
          <p:cNvPicPr/>
          <p:nvPr/>
        </p:nvPicPr>
        <p:blipFill>
          <a:blip r:embed="rId1"/>
          <a:stretch/>
        </p:blipFill>
        <p:spPr>
          <a:xfrm>
            <a:off x="1008000" y="2676600"/>
            <a:ext cx="7696440" cy="37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3F2-546B-4B30-B2CF-F933E986D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riting Access and Excel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sheet option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predefine a plot on the named range and the plot will be built dynamically as data is added to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884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7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igure%2010-7" descr=""/>
          <p:cNvPicPr/>
          <p:nvPr/>
        </p:nvPicPr>
        <p:blipFill>
          <a:blip r:embed="rId1"/>
          <a:stretch/>
        </p:blipFill>
        <p:spPr>
          <a:xfrm>
            <a:off x="1403280" y="2612880"/>
            <a:ext cx="578952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0E2-09B2-468A-9373-C373AC185C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ced Reading and Wri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ting can be used to handle text files with fields not delimited by space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9884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7880" y="53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Display%2010-15" descr=""/>
          <p:cNvPicPr/>
          <p:nvPr/>
        </p:nvPicPr>
        <p:blipFill>
          <a:blip r:embed="rId1"/>
          <a:stretch/>
        </p:blipFill>
        <p:spPr>
          <a:xfrm>
            <a:off x="237960" y="4876920"/>
            <a:ext cx="8724960" cy="1450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440" y="228960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1  1.03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27 2.37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5194.7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67 9.8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72 10.5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 16217.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819-4BB2-4B38-889C-92159B443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ced Reading and Wri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p columns in Access &amp; Excel by using dummy variabl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9884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87880" y="53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53000" y="35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Display%2010-13" descr=""/>
          <p:cNvPicPr/>
          <p:nvPr/>
        </p:nvPicPr>
        <p:blipFill>
          <a:blip r:embed="rId1"/>
          <a:stretch/>
        </p:blipFill>
        <p:spPr>
          <a:xfrm>
            <a:off x="411120" y="2230560"/>
            <a:ext cx="8205840" cy="41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89A-2755-4832-921F-A59E560B6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vanced Reading and Wri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6310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ata access is available us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 Ty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ive Data Objects (ADO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nection Str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l With Headings Using 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QL Commands Using 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7036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45000" y="48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9884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7880" y="53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6200" y="3056040"/>
            <a:ext cx="7151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=Microsoft.JET.OLEDB.4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ource=C:\Documents\Book1.xl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Properties=””Excel 8.0; HDR=Yes;”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1400" y="4674960"/>
            <a:ext cx="6040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={SQL Server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=RSI-Joe; Database=BizBik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d=BizWareUser; pwd=My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40600" y="4294080"/>
            <a:ext cx="1747800" cy="1247760"/>
          </a:xfrm>
          <a:prstGeom prst="wedgeRectCallout">
            <a:avLst>
              <a:gd name="adj1" fmla="val -38648"/>
              <a:gd name="adj2" fmla="val -777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wo double quotes for each embedded double qu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7C1-98A5-4530-8EDD-585BBDF9E8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360" y="1142640"/>
            <a:ext cx="8717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ading and Writing Data Files (ReadWr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Visual Basic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Applications (VB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reating Modules with Arena Professional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368-08C3-4D39-83C4-CBCE4ED54C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ctiveX Autom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pplications to “automate”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n themselves (e.g., macros in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n other applications (e.g., Arena creating Excel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ogramming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, Visual Basic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v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Basic for Applications (VBA) programming embedded in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sio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CAD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na</a:t>
            </a:r>
            <a:r>
              <a:rPr b="0" lang="en-US" sz="18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ypes work together (e.g., Arena VBA controlling Exc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EFA-20E6-4B97-B16E-BF89DB6A3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pplication Object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je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pplicatio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pon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can be contro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aracteristic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erformed on or by objec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rena Objects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roperties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6B5-35AD-45E7-9EDB-7E9FC24012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isual Basic for Applications (VBA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d with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Visual Basic programming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stored with Arena model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do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Forms (dialogs) for custom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-debugg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hensive online he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Basic Editor window: “child” of Arena (Tools/Show Visual Basic Editor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616-74E3-4889-974F-144470FA00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uilt-in Arena VBA Ev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Document: accesses objects, events in Arena’s objec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t-in VBA events: locations where VBA code can be acti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un events (e.g., Document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-initiated run events (e.g., RunBegin, RunEndRe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/user-initiated run events (e.g., UserFunction, VBA_Block_F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code in Visual Basic Editor to populate an 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056-FD84-4C11-9B15-38945279FD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and Writing Data Fi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entity arrivals from a text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nd writing Microsoft Acc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Excel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reading and wri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BBC-1FC9-4146-AFCA-D7063611E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Run VBA Ev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/VBA sequence of events when model ru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76520" y="1905120"/>
            <a:ext cx="6933240" cy="4342320"/>
            <a:chOff x="1676520" y="1905120"/>
            <a:chExt cx="6933240" cy="4342320"/>
          </a:xfrm>
        </p:grpSpPr>
        <p:sp>
          <p:nvSpPr>
            <p:cNvPr id="177" name=""/>
            <p:cNvSpPr/>
            <p:nvPr/>
          </p:nvSpPr>
          <p:spPr>
            <a:xfrm>
              <a:off x="1676520" y="2001600"/>
              <a:ext cx="142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46400" y="2870280"/>
              <a:ext cx="265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Begin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21240" y="3256200"/>
              <a:ext cx="26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BeginRe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76520" y="5861880"/>
              <a:ext cx="15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6400" y="4993200"/>
              <a:ext cx="218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End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1240" y="4607640"/>
              <a:ext cx="26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RunEndRe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01040" y="3642120"/>
              <a:ext cx="256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Arena runs replic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6400" y="2387520"/>
              <a:ext cx="389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Arena checks and initializes the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46400" y="5476320"/>
              <a:ext cx="370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Arena terminates the simulation r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0800000">
              <a:off x="2436120" y="3351960"/>
              <a:ext cx="568800" cy="14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59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5926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855760" y="2906280"/>
              <a:ext cx="2468880" cy="2315880"/>
              <a:chOff x="5855760" y="2906280"/>
              <a:chExt cx="2468880" cy="2315880"/>
            </a:xfrm>
          </p:grpSpPr>
          <p:sp>
            <p:nvSpPr>
              <p:cNvPr id="188" name=""/>
              <p:cNvSpPr/>
              <p:nvPr/>
            </p:nvSpPr>
            <p:spPr>
              <a:xfrm>
                <a:off x="5855760" y="2906280"/>
                <a:ext cx="474480" cy="2315880"/>
              </a:xfrm>
              <a:custGeom>
                <a:avLst/>
                <a:gdLst>
                  <a:gd name="textAreaLeft" fmla="*/ 0 w 474480"/>
                  <a:gd name="textAreaRight" fmla="*/ 171360 w 474480"/>
                  <a:gd name="textAreaTop" fmla="*/ 60120 h 2315880"/>
                  <a:gd name="textAreaBottom" fmla="*/ 2255760 h 231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28440" y="3774600"/>
                <a:ext cx="1996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imulation run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vail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386160" y="393192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Keystroke, UserFunction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855760" y="1905120"/>
              <a:ext cx="2754000" cy="867960"/>
              <a:chOff x="5855760" y="1905120"/>
              <a:chExt cx="2754000" cy="867960"/>
            </a:xfrm>
          </p:grpSpPr>
          <p:sp>
            <p:nvSpPr>
              <p:cNvPr id="192" name=""/>
              <p:cNvSpPr/>
              <p:nvPr/>
            </p:nvSpPr>
            <p:spPr>
              <a:xfrm>
                <a:off x="5855760" y="1905120"/>
                <a:ext cx="284760" cy="867960"/>
              </a:xfrm>
              <a:custGeom>
                <a:avLst/>
                <a:gdLst>
                  <a:gd name="textAreaLeft" fmla="*/ 0 w 284760"/>
                  <a:gd name="textAreaRight" fmla="*/ 102960 w 284760"/>
                  <a:gd name="textAreaTop" fmla="*/ 22320 h 867960"/>
                  <a:gd name="textAreaBottom" fmla="*/ 845640 h 86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35560" y="2194200"/>
                <a:ext cx="237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dule data avail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855760" y="5379480"/>
              <a:ext cx="2754000" cy="867960"/>
              <a:chOff x="5855760" y="5379480"/>
              <a:chExt cx="2754000" cy="867960"/>
            </a:xfrm>
          </p:grpSpPr>
          <p:sp>
            <p:nvSpPr>
              <p:cNvPr id="195" name=""/>
              <p:cNvSpPr/>
              <p:nvPr/>
            </p:nvSpPr>
            <p:spPr>
              <a:xfrm>
                <a:off x="5855760" y="5379480"/>
                <a:ext cx="284760" cy="867960"/>
              </a:xfrm>
              <a:custGeom>
                <a:avLst/>
                <a:gdLst>
                  <a:gd name="textAreaLeft" fmla="*/ 0 w 284760"/>
                  <a:gd name="textAreaRight" fmla="*/ 102960 w 284760"/>
                  <a:gd name="textAreaTop" fmla="*/ 22320 h 867960"/>
                  <a:gd name="textAreaBottom" fmla="*/ 845640 h 86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35560" y="5668560"/>
                <a:ext cx="237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dule data avail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393-CBF1-4F7D-84AA-B5FDE91040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rena’s Object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-window objects: items placed in model window,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AN object: simulation run data,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objects: access general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817-1188-4A89-9FFD-109D838D90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mple: Create Ten Status Variab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160" y="5638680"/>
            <a:ext cx="8991720" cy="519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0440" y="5334120"/>
            <a:ext cx="76212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P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62840" y="5334120"/>
            <a:ext cx="91440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P(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1324080"/>
            <a:ext cx="670572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oModel As Arena.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i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nX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Add the status variables to this Aren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oModel = ThisDocument.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X = 0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Start at x position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 i = 1 T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Add a status variable to the model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Model.StatusVariables.Create nX, 0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X + 400, 150, "WIP(" &amp; i &amp; ")", "**.*", False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GB(0, 0, 255), RGB(0, 255, 255), RGB(0, 0, 0), "Aria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Move over 500 world units for next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X = nX +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3AF-9274-4BC5-8948-AD2F134B12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mple: Assign Variable Value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uring Ru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62320" y="4495680"/>
            <a:ext cx="4343400" cy="1735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1219320"/>
            <a:ext cx="67057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oSIMAN As Arena.SI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nVarIndex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sNewValue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Prompt for a new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NewValue = InputBox("Enter the new average cycle time: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Assign their answer to the Mean Cycle Time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oSIMAN = ThisDocument.Model.SI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VarIndex = oSIMAN.SymbolNumber("Mean Cycle Tim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SIMAN.VariableArrayValue(nVarIndex) = sNew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68D-1DD7-4A4B-AC62-B7C63C448C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rena Macro Record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cr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VBA function to perform a ta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recording automatically creates the VBA code to reproduce the actions you take while performing the steps in the ta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ord Macr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olbar to start/stop and pause/resume record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for automating repetitive tas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 for learning VBA commands and prototyping  func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1D0-8CDD-4A13-970B-4680A457A5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10-05: Presenting Arrival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oices to the Us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320" y="12193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 at beginning of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entities via random process … 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based on arrival times stored i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34340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D91-819F-46AE-8EA2-468DC868D2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832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sets of logic placed in model window and connected to start of call logic (Process modu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6480" y="2249640"/>
            <a:ext cx="636732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596-59D2-4C97-886B-2AE7333EAE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Max Arrivals field in Create module to turn “on” or “off” its generation of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terarrival-time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te 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te Control Entity to Read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ival times from a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te 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te Control Entity to Read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 unique “tag” to each Create module (so VBA code can find the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7EC-034A-41DB-B8B8-AF03CB28BE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BA UserFor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/UserForm menu in Visual Basic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op controls from Control Toolbox (labels, option buttons, command butt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3632040" cy="2224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183348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71600" y="3886200"/>
            <a:ext cx="68580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4572000"/>
            <a:ext cx="137160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 but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5105520"/>
            <a:ext cx="160020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and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C70-C800-4389-A582-B26CC632E5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how the UserForm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beginning of run (ModelLogic_RunBegin), show the for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362320"/>
            <a:ext cx="67057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tion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Sub ModelLogic_Run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Display the UserForm to ask for the type of arri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mArrivalTypeSelection.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9568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control passes to the form until it’s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run “suspended” while form is i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C21-2B20-4E43-BAAD-15A97FE586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ading Entity Arrivals From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a Text Fil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ata-driven simul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how a particular scenario is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a specific arrival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historical data exist and can be transformed for use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F8F-F3CF-4084-BDC5-078DB5D46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ange Module Data On OK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user clicks OK button on form, modify the Create modul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Creat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Max Arrival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a s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Us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form is closed, simulation run commences with the new data values in the Create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5C4-2C18-4BB0-B798-0228BBA0DD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10-06: Record Call Data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 Microsoft Exc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4395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goa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call data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all duration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7920" y="2646360"/>
            <a:ext cx="4613040" cy="3800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83080" y="1320840"/>
            <a:ext cx="4481640" cy="35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156-51C2-4FF8-B963-DBE7C0DC64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ActiveX Automation in VB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the Excel Object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References menu in Visual Basic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Microsoft Excel Object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link between Arena VBA and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 variables from application’s objec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cel.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cel.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na.SI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ing Exc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arts application, returning “handle” to the program (stor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xcel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xcelApp.Workbooks.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milar to “File/New”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749-53A4-4395-A200-B76AEFBD4E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trieving Simulation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Doc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variable accessing the Aren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within Arena’s V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Document.Model.SI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access simulation ru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VBA window for full list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only when simulation run data is available -- i.e., built-in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(and including) ModelLogic_RunBegin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(and including) ModelLogic_RunEnd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E78-08E4-44A1-91C0-ED48FB122E9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A ModelLogic_RunBegin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beginning of the simulation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Excel with a new spreadsheet (“Workbook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header rows for data work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A ModelLogic_RunBeginRe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t the beginning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headers for the three columns and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he data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CDD-E9D3-468C-ABA3-8C189E1554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2160" y="1971720"/>
            <a:ext cx="7475760" cy="2973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74930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A Module (Blocks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 model logic just before disposing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8211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A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A modules numbered as they’re placed, with corresponding VBA_Block_&lt;n&gt;_Fire events in V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6640" y="3921120"/>
            <a:ext cx="1339920" cy="836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114-35EF-43A8-BFC8-3646B39052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BA_Block_1_F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each time an entity enters the VBA Block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 data from running simulation via SIMAN object (stor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SI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and columns into which to write data stored in global VBA variab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Next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lum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lumn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lum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260-E0AA-4553-A9AD-1BBEEDAD38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ur Approach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Logic_RunEndRe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t end of each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he chart and updates the glob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Excel macro recording for “skeleton” code (e.g., for formatting commands, creation of chart); copy into Arena VBA and adjust variable names (e.g., ad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xcel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ess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Logic_RunEnd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yAle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 (overwri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x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if it ex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to give 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still running. Coul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xcelApp.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29D-3C04-4BAB-A1A4-E5BD6EA004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8360" y="1142640"/>
            <a:ext cx="8717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ading and Writing Data Files (ReadWr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ActiveX</a:t>
            </a:r>
            <a:r>
              <a:rPr b="1" lang="en-US" sz="2800" spc="-1" strike="noStrike" baseline="50000">
                <a:solidFill>
                  <a:srgbClr val="ccccff"/>
                </a:solidFill>
                <a:latin typeface="Arial"/>
                <a:ea typeface="Arial"/>
              </a:rPr>
              <a:t>™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and Visual Basic</a:t>
            </a:r>
            <a:r>
              <a:rPr b="1" lang="en-US" sz="2800" spc="-1" strike="noStrike" baseline="50000">
                <a:solidFill>
                  <a:srgbClr val="cccc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for Applications (VB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Modules with Arena Professional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0DC-80D3-4AB7-9790-A46C04542B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reating Modules with Arena Professional Edi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 10-01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e from 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t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n be attached and used in Academic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nd ed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ny 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Research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Aren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/ed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sour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tp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81280" y="2763720"/>
            <a:ext cx="5430960" cy="29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127-EE17-49C5-A7B2-8381B3F9FD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ple Call Center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769284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all stre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agent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call processing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1816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igure%2010-1" descr=""/>
          <p:cNvPicPr/>
          <p:nvPr/>
        </p:nvPicPr>
        <p:blipFill>
          <a:blip r:embed="rId1"/>
          <a:stretch/>
        </p:blipFill>
        <p:spPr>
          <a:xfrm>
            <a:off x="291960" y="3846600"/>
            <a:ext cx="851724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FA0-8D25-4933-9A5E-BB7453C41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nel Icon and User Vie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nel Ic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“Button” displayed in template panel to represent th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959040" cy="990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274320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er 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Graphics objects placed in the model window with an “instance” of the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, exi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213372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9CF-1D68-47BF-B0D7-01E659F910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perand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er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Fields that can be filled out by the mode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ifferent data for each instance of the same module type in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down to logic via back quotes ( `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exit point operands permit entities to move through underlying modul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314880" cy="1930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62120" y="5029200"/>
            <a:ext cx="10666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82880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2578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30D-C7A0-41BA-8DAF-2FD29CE374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ule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ule Log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 “submodel” containing module inst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aste from a model into a module definition’s logic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interface as for build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6193080" cy="3067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219320" y="4724280"/>
            <a:ext cx="1981080" cy="51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 to module operand (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`Data File`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5257800"/>
            <a:ext cx="1143000" cy="6858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5562720"/>
            <a:ext cx="1981080" cy="51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 to module operand (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`Name`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5867280"/>
            <a:ext cx="914400" cy="763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77E-BC88-48C2-B60F-DF4352A7CF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es of Templat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na templates (Basic Process, Advanced Proces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Center, Packaging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-focused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, modeling capabilities designed for a particular application environment (e.g., mining, material handling, order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” / utilit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what you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your mode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CC8-8D32-42E9-90DC-2F7D34FE847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just barely scratched the surface of Arena customization and interactions with other software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and writing various types of external data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asic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ng with 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custom applications with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other ways of customizing Arena and allowing Arena to interact and exchange data with other softwa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050-A8F5-4C92-80AB-13585E652AE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xternal Call Center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 call arrival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10-02 Input.t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file (e.g., Notepad, saved as text from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 simulation arriv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384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741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7494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8996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5258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09886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F37-FA2F-4FC0-BC61-268FF32EF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igure%2010-3" descr=""/>
          <p:cNvPicPr/>
          <p:nvPr/>
        </p:nvPicPr>
        <p:blipFill>
          <a:blip r:embed="rId1"/>
          <a:stretch/>
        </p:blipFill>
        <p:spPr>
          <a:xfrm>
            <a:off x="530280" y="3220920"/>
            <a:ext cx="6113520" cy="301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Logic to Read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use simple time between arriva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nl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to send actual “call” entity in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24640" y="3365640"/>
            <a:ext cx="137160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rol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0040" y="4753080"/>
            <a:ext cx="167616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tual “Call”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3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A23-C92A-407B-BD54-C2BE249128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Logic to Read Data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Write module (Advanced Pro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na File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cription (actual disk filename is specified in Fil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del variables/attributes to be assigned based on data read from file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Start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/Duplicate Log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contains “absolute” times; Delay module holds entity for a tim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control entity for interval until actual arrival time of call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Start Time - T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uplicate (Separate module) to dispatch actual call into model. Original entity loops back to read nex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2D2-D5BC-4E65-B963-F5992B04D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Logic to Read Data 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data module (Advanced Proc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me referenced in other Arena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indicates to read in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rating System File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name used by file system. May be relative or fully qua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of File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to do when all records are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4760" y="462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3160" y="5006880"/>
            <a:ext cx="8753400" cy="11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9FC-F0A3-4D29-8A0C-7C42B9232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turrock</dc:creator>
  <dc:description/>
  <dc:language>en-US</dc:language>
  <cp:lastModifiedBy> </cp:lastModifiedBy>
  <dcterms:modified xsi:type="dcterms:W3CDTF">2003-07-14T22:37:48Z</dcterms:modified>
  <cp:revision>444</cp:revision>
  <dc:subject/>
  <dc:title>Chapter 10 -- Arena Integration and Customization</dc:title>
</cp:coreProperties>
</file>