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AFD9-0F0C-4EF5-8D04-7C83AFC28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396540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45DB-5067-4B65-AA68-EDAE0C6E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4C04-39D3-42C7-AA1D-F5C94A43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40DA-CBE2-4661-8ABF-1B229C236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19E0-80CA-4055-9123-DE7E21DB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F271-203E-4520-A26E-D0D30BCB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ECC0-1A55-4EEF-BAD0-0265F470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9B99-9ADC-4E1B-9A44-8BB2394F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7376-4298-4CFD-A132-5A2F6439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CA08-247A-4590-B349-4CD25226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950E-D0F3-4BE6-99ED-FB0518C7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282B-3D8B-4028-B3B7-93BADE5D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12600">
            <a:solidFill>
              <a:srgbClr val="0000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0000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28600" y="6552720"/>
            <a:ext cx="2743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b"/>
                </a:solidFill>
                <a:latin typeface="Arial"/>
              </a:rPr>
              <a:t>&lt;date/time&gt;</a:t>
            </a:r>
            <a:r>
              <a:rPr b="0" i="1" lang="en-US" sz="1400" spc="-1" strike="noStrike">
                <a:solidFill>
                  <a:srgbClr val="00009b"/>
                </a:solidFill>
                <a:latin typeface="Arial"/>
              </a:rPr>
              <a:t>Simulation with Arena, 3</a:t>
            </a:r>
            <a:r>
              <a:rPr b="0" i="1" lang="en-US" sz="1400" spc="-1" strike="noStrike" baseline="30000">
                <a:solidFill>
                  <a:srgbClr val="00009b"/>
                </a:solidFill>
                <a:latin typeface="Arial"/>
              </a:rPr>
              <a:t>rd</a:t>
            </a:r>
            <a:r>
              <a:rPr b="0" i="1" lang="en-US" sz="1400" spc="-1" strike="noStrike">
                <a:solidFill>
                  <a:srgbClr val="00009b"/>
                </a:solidFill>
                <a:latin typeface="Arial"/>
              </a:rPr>
              <a:t>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243000" cy="3049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39520" y="6552720"/>
            <a:ext cx="5348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Chapter 12 – Further Statistical Iss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772400" y="65527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Slide </a:t>
            </a:r>
            <a:fld id="{5DACFB5C-B275-422B-9050-063FA21B7E43}" type="slidenum">
              <a:rPr b="0" lang="en-US" sz="1400" spc="-1" strike="noStrike">
                <a:solidFill>
                  <a:srgbClr val="00009b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 of 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480" y="76320"/>
            <a:ext cx="5109840" cy="6400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81120" y="0"/>
            <a:ext cx="3962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9b"/>
                </a:solidFill>
                <a:latin typeface="Arial"/>
              </a:rPr>
              <a:t>Further Statistical Issues</a:t>
            </a:r>
            <a:endParaRPr b="1" lang="en-US" sz="40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81480" y="32767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62920" y="6248520"/>
            <a:ext cx="198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Last revision June 9,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C6B5-EB86-4060-ABD1-BC63C3433C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he Current (2000) Arena RNG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s some of the same ideas as LC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o division, recursive on earlier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is not an LC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s two separate component gen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on involves more than just the preceding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bined multiple recursive generator (CMRG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1403580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810728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mod 42949670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52761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370589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mod 4294944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mod 42949670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d = a six-vector of first thre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96080" y="3809880"/>
            <a:ext cx="1295640" cy="731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imultane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ur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4648320"/>
            <a:ext cx="1676520" cy="30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mbine the tw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5181480"/>
            <a:ext cx="914400" cy="731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57200" y="5029200"/>
            <a:ext cx="5943600" cy="1002600"/>
            <a:chOff x="457200" y="5029200"/>
            <a:chExt cx="5943600" cy="1002600"/>
          </a:xfrm>
        </p:grpSpPr>
        <p:sp>
          <p:nvSpPr>
            <p:cNvPr id="95" name=""/>
            <p:cNvSpPr/>
            <p:nvPr/>
          </p:nvSpPr>
          <p:spPr>
            <a:xfrm>
              <a:off x="1218960" y="5029200"/>
              <a:ext cx="5105520" cy="10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14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/ 4294967088 i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gt;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294967087 / 4294967088 i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95280" y="5105520"/>
              <a:ext cx="152280" cy="7617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52578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6248160" y="5105520"/>
              <a:ext cx="152640" cy="76176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7F04-902B-489C-9DCF-4321B43E68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he Current (2000) Arena RNG – Properti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remely good statistical proper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uniformity in up to 45-dimensional hyperc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cle length = 3.1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5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ycle, all six seeds must match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2 GHz PC, would take 2.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llennia to exha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Moore’s law, it will be 216 years until this generator can be exhausted in a year of nonstop comp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ly slightly slower than old LC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RNG is usually a minor part of overall computi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E5E6-F778-425E-829E-5044C8631A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he Current (2000) Arena RNG – Streams and Substream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ic streams and substrea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reams of length 1.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ream further divided into 2.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bstreams of length 7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GHz PC would take 669 million years to exhaust a sub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ault stream is 10 (historical reason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used for Chance-type Decide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use a different stream, append its number after a distribution’s parame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PO(6.7, 4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use stream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using multiple replications, Arena automatically advances to next substream in each stream for the next repl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synchronize for variance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F63C-F2E5-44D9-83CA-13243220C4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Generating Random Variat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:  Desired input distribution for model (fitted or specified in some way), and RNG (UNIF (0, 1)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nt:  Transform UNIF (0, 1) random numbers into “draws” from the desired input distrib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hod:  Mathematical transformations of random numbers to “deform” them to the desired distrib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transform depends on desired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s in online Help about methods for all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discrete, continuous distributions separate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299C-9352-4FE0-A4DB-20B667C3CC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Generating from Discrete Distribution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960" y="1218960"/>
            <a:ext cx="467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 probability mass fun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vide [0, 1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o subintervals of length 0.1, 0.5, 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 UNIF (0,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which subinterval it’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rresponding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71680" y="2023920"/>
            <a:ext cx="8224920" cy="1681200"/>
            <a:chOff x="571680" y="2023920"/>
            <a:chExt cx="8224920" cy="1681200"/>
          </a:xfrm>
        </p:grpSpPr>
        <p:sp>
          <p:nvSpPr>
            <p:cNvPr id="108" name=""/>
            <p:cNvSpPr/>
            <p:nvPr/>
          </p:nvSpPr>
          <p:spPr>
            <a:xfrm>
              <a:off x="6124680" y="2860560"/>
              <a:ext cx="258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08680" y="29368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570800" y="293688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485200" y="2936880"/>
              <a:ext cx="311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7723080" y="2023920"/>
              <a:ext cx="0" cy="836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7113600" y="2633040"/>
              <a:ext cx="0" cy="227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637480" y="2175840"/>
              <a:ext cx="0" cy="68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571680" y="2114280"/>
              <a:ext cx="5706720" cy="1590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84680" y="4572000"/>
            <a:ext cx="4459320" cy="175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92E1-FECD-42E6-A764-00BCCBC234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Discrete Generation:  Another View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ot cumulative distribution function; generat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plot on vertical axis; read “across and down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6172200" cy="3174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629400" y="3048120"/>
            <a:ext cx="2286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nvert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C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ivalent to earlier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0D33-A48C-4879-A523-B4EBEC61B0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Generating from Continuous Distribution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 EXPO (5) distrib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sity (PD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(CD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algorithm (can be rigorously justified)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te a random numbe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~ UNIF(0,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and solve f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–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ing analytically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y or may not be simple (or pos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use numerical approximation to “solv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327480" y="1662120"/>
            <a:ext cx="3697200" cy="195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F0E2-1154-4A90-AB8E-BCDBC6E71F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Generating from Continuous Distribution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 for EXPO (5) cas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= 1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/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/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1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5 = ln (1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– 5 ln (1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cture (inverting the CDF, as in discrete case)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3520" y="3886200"/>
            <a:ext cx="5209920" cy="2604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486400" y="3962520"/>
            <a:ext cx="3429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6188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uition (garden hose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s will hi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where it’s st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where the densit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tallest, and we want a denser distribution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05E3-2A0D-4353-9EC6-F056DAF21D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Nonstationary Poisson Process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y systems have externally originating events affecting them — e.g., arrivals of custom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process is stationary over time, usually specify a fixed interevent-time distrib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process could vary markedly in its r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-food lunch ru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way rush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gnoring nonstationarity can lead to serious model and output err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ready seen this — automotive repair shop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5166-2353-4A89-B1BE-E085C00421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Nonstationary Poisson Processes – Definitio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ual model: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onstationary Poisson proces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rate 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events in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~ Poisson with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estimate rate fun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n estimate, how to generate during simula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2506680" cy="712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72000" y="4267080"/>
            <a:ext cx="425520" cy="509760"/>
          </a:xfrm>
          <a:custGeom>
            <a:avLst/>
            <a:gdLst/>
            <a:ahLst/>
            <a:rect l="l" t="t" r="r" b="b"/>
            <a:pathLst>
              <a:path w="268" h="321">
                <a:moveTo>
                  <a:pt x="0" y="321"/>
                </a:moveTo>
                <a:lnTo>
                  <a:pt x="0" y="6"/>
                </a:lnTo>
                <a:lnTo>
                  <a:pt x="95" y="21"/>
                </a:lnTo>
                <a:lnTo>
                  <a:pt x="190" y="14"/>
                </a:lnTo>
                <a:lnTo>
                  <a:pt x="268" y="0"/>
                </a:lnTo>
                <a:lnTo>
                  <a:pt x="267" y="321"/>
                </a:lnTo>
                <a:lnTo>
                  <a:pt x="0" y="31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76440" y="3395520"/>
            <a:ext cx="432000" cy="1389240"/>
          </a:xfrm>
          <a:custGeom>
            <a:avLst/>
            <a:gdLst/>
            <a:ahLst/>
            <a:rect l="l" t="t" r="r" b="b"/>
            <a:pathLst>
              <a:path w="272" h="875">
                <a:moveTo>
                  <a:pt x="0" y="861"/>
                </a:moveTo>
                <a:lnTo>
                  <a:pt x="1" y="114"/>
                </a:lnTo>
                <a:lnTo>
                  <a:pt x="38" y="57"/>
                </a:lnTo>
                <a:lnTo>
                  <a:pt x="90" y="15"/>
                </a:lnTo>
                <a:lnTo>
                  <a:pt x="132" y="0"/>
                </a:lnTo>
                <a:lnTo>
                  <a:pt x="165" y="12"/>
                </a:lnTo>
                <a:lnTo>
                  <a:pt x="272" y="89"/>
                </a:lnTo>
                <a:lnTo>
                  <a:pt x="266" y="873"/>
                </a:lnTo>
                <a:lnTo>
                  <a:pt x="0" y="875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35120" y="3389400"/>
            <a:ext cx="5572080" cy="1125360"/>
          </a:xfrm>
          <a:custGeom>
            <a:avLst/>
            <a:gdLst/>
            <a:ahLst/>
            <a:rect l="l" t="t" r="r" b="b"/>
            <a:pathLst>
              <a:path w="3510" h="709">
                <a:moveTo>
                  <a:pt x="0" y="611"/>
                </a:moveTo>
                <a:lnTo>
                  <a:pt x="52" y="651"/>
                </a:lnTo>
                <a:lnTo>
                  <a:pt x="104" y="682"/>
                </a:lnTo>
                <a:lnTo>
                  <a:pt x="171" y="704"/>
                </a:lnTo>
                <a:lnTo>
                  <a:pt x="208" y="708"/>
                </a:lnTo>
                <a:lnTo>
                  <a:pt x="245" y="708"/>
                </a:lnTo>
                <a:lnTo>
                  <a:pt x="290" y="704"/>
                </a:lnTo>
                <a:lnTo>
                  <a:pt x="342" y="690"/>
                </a:lnTo>
                <a:lnTo>
                  <a:pt x="460" y="655"/>
                </a:lnTo>
                <a:lnTo>
                  <a:pt x="579" y="611"/>
                </a:lnTo>
                <a:lnTo>
                  <a:pt x="631" y="589"/>
                </a:lnTo>
                <a:lnTo>
                  <a:pt x="675" y="562"/>
                </a:lnTo>
                <a:lnTo>
                  <a:pt x="750" y="513"/>
                </a:lnTo>
                <a:lnTo>
                  <a:pt x="809" y="451"/>
                </a:lnTo>
                <a:lnTo>
                  <a:pt x="861" y="389"/>
                </a:lnTo>
                <a:lnTo>
                  <a:pt x="913" y="323"/>
                </a:lnTo>
                <a:lnTo>
                  <a:pt x="943" y="288"/>
                </a:lnTo>
                <a:lnTo>
                  <a:pt x="980" y="248"/>
                </a:lnTo>
                <a:lnTo>
                  <a:pt x="1039" y="164"/>
                </a:lnTo>
                <a:lnTo>
                  <a:pt x="1076" y="124"/>
                </a:lnTo>
                <a:lnTo>
                  <a:pt x="1106" y="88"/>
                </a:lnTo>
                <a:lnTo>
                  <a:pt x="1128" y="57"/>
                </a:lnTo>
                <a:lnTo>
                  <a:pt x="1158" y="35"/>
                </a:lnTo>
                <a:lnTo>
                  <a:pt x="1180" y="18"/>
                </a:lnTo>
                <a:lnTo>
                  <a:pt x="1195" y="9"/>
                </a:lnTo>
                <a:lnTo>
                  <a:pt x="1210" y="0"/>
                </a:lnTo>
                <a:lnTo>
                  <a:pt x="1232" y="0"/>
                </a:lnTo>
                <a:lnTo>
                  <a:pt x="1247" y="0"/>
                </a:lnTo>
                <a:lnTo>
                  <a:pt x="1261" y="9"/>
                </a:lnTo>
                <a:lnTo>
                  <a:pt x="1276" y="18"/>
                </a:lnTo>
                <a:lnTo>
                  <a:pt x="1299" y="35"/>
                </a:lnTo>
                <a:lnTo>
                  <a:pt x="1321" y="57"/>
                </a:lnTo>
                <a:lnTo>
                  <a:pt x="1350" y="88"/>
                </a:lnTo>
                <a:lnTo>
                  <a:pt x="1380" y="124"/>
                </a:lnTo>
                <a:lnTo>
                  <a:pt x="1410" y="164"/>
                </a:lnTo>
                <a:lnTo>
                  <a:pt x="1469" y="248"/>
                </a:lnTo>
                <a:lnTo>
                  <a:pt x="1506" y="288"/>
                </a:lnTo>
                <a:lnTo>
                  <a:pt x="1543" y="323"/>
                </a:lnTo>
                <a:lnTo>
                  <a:pt x="1580" y="358"/>
                </a:lnTo>
                <a:lnTo>
                  <a:pt x="1625" y="394"/>
                </a:lnTo>
                <a:lnTo>
                  <a:pt x="1714" y="469"/>
                </a:lnTo>
                <a:lnTo>
                  <a:pt x="1758" y="504"/>
                </a:lnTo>
                <a:lnTo>
                  <a:pt x="1810" y="531"/>
                </a:lnTo>
                <a:lnTo>
                  <a:pt x="1862" y="553"/>
                </a:lnTo>
                <a:lnTo>
                  <a:pt x="1922" y="562"/>
                </a:lnTo>
                <a:lnTo>
                  <a:pt x="1988" y="562"/>
                </a:lnTo>
                <a:lnTo>
                  <a:pt x="2063" y="558"/>
                </a:lnTo>
                <a:lnTo>
                  <a:pt x="2137" y="540"/>
                </a:lnTo>
                <a:lnTo>
                  <a:pt x="2211" y="522"/>
                </a:lnTo>
                <a:lnTo>
                  <a:pt x="2367" y="474"/>
                </a:lnTo>
                <a:lnTo>
                  <a:pt x="2441" y="447"/>
                </a:lnTo>
                <a:lnTo>
                  <a:pt x="2500" y="420"/>
                </a:lnTo>
                <a:lnTo>
                  <a:pt x="2552" y="394"/>
                </a:lnTo>
                <a:lnTo>
                  <a:pt x="2604" y="358"/>
                </a:lnTo>
                <a:lnTo>
                  <a:pt x="2686" y="283"/>
                </a:lnTo>
                <a:lnTo>
                  <a:pt x="2723" y="243"/>
                </a:lnTo>
                <a:lnTo>
                  <a:pt x="2760" y="217"/>
                </a:lnTo>
                <a:lnTo>
                  <a:pt x="2797" y="195"/>
                </a:lnTo>
                <a:lnTo>
                  <a:pt x="2834" y="181"/>
                </a:lnTo>
                <a:lnTo>
                  <a:pt x="2871" y="181"/>
                </a:lnTo>
                <a:lnTo>
                  <a:pt x="2908" y="186"/>
                </a:lnTo>
                <a:lnTo>
                  <a:pt x="2945" y="199"/>
                </a:lnTo>
                <a:lnTo>
                  <a:pt x="2982" y="221"/>
                </a:lnTo>
                <a:lnTo>
                  <a:pt x="3057" y="270"/>
                </a:lnTo>
                <a:lnTo>
                  <a:pt x="3123" y="323"/>
                </a:lnTo>
                <a:lnTo>
                  <a:pt x="3160" y="354"/>
                </a:lnTo>
                <a:lnTo>
                  <a:pt x="3190" y="389"/>
                </a:lnTo>
                <a:lnTo>
                  <a:pt x="3257" y="469"/>
                </a:lnTo>
                <a:lnTo>
                  <a:pt x="3286" y="513"/>
                </a:lnTo>
                <a:lnTo>
                  <a:pt x="3309" y="549"/>
                </a:lnTo>
                <a:lnTo>
                  <a:pt x="3338" y="584"/>
                </a:lnTo>
                <a:lnTo>
                  <a:pt x="3361" y="611"/>
                </a:lnTo>
                <a:lnTo>
                  <a:pt x="3383" y="633"/>
                </a:lnTo>
                <a:lnTo>
                  <a:pt x="3413" y="651"/>
                </a:lnTo>
                <a:lnTo>
                  <a:pt x="3450" y="677"/>
                </a:lnTo>
                <a:lnTo>
                  <a:pt x="3487" y="695"/>
                </a:lnTo>
                <a:lnTo>
                  <a:pt x="3509" y="708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31880" y="3254400"/>
            <a:ext cx="0" cy="159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59080" y="4784760"/>
            <a:ext cx="609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3200400"/>
            <a:ext cx="412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54440" y="4815000"/>
            <a:ext cx="227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B853-6070-49C9-83BF-3ED9347437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What We’ll Do ...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ndom-number gene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ting random vari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stationary Poisson proc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nce re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quential samp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ing and executing simulation experi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495680"/>
            <a:ext cx="8077320" cy="1189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ackup mater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ppendix C: A Refresher on Probability and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ppendix D: Arena’s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0169-BFF0-49F4-83A0-35ED644809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Nonstationary Poisson Processes – Estimating the Rate Functio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on of the rate fun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ly the most practical method is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piecewise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e on a time interval within which rate is fix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from data the (constant) rate during each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reful to get the units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(more complicated) methods exist in the lit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19320" y="3505320"/>
            <a:ext cx="6448320" cy="177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E011-F873-44D1-ACAE-9CCCD39E4E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Nonstationary Poisson Processes – Generatio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na has a built-in method to generate, assuming a piecewise-constant rate fun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i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 in Create module – auto repair (Model 5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hod is to invert a rate-one stationary Poisson process against the cumulate rate functio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inverting CDF for continuous random-variable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s some speed-up pos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s in Help topic “Non-Stationary Exponential Distribu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native method: “thinning” of a stationary Poisson process at the peak r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5CB9-09AB-4D46-BE2E-B3B94739BB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Variance Reductio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ndom input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andom output (RIRO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other words, output ha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ari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output variance means less precis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like to eliminate or reduce output 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(bad) way to eliminate:  replace all input random variables by constants (like their me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get rid of random output, but will also invalidat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best hope is to reduce output var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sy (brute-force) variance reduction:  just simulate some mo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ting:  additional re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ady-state:  additional replications or a longer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9AD5-5847-49C1-A040-F8C8962827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Variance Reduction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sometimes can reduce variance without more runs — free lunch (?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:  unlike physical experiments, can control randomness in computer-simulation experiments via manipulating the R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-use the same “random” numbers either as they were, in some opposite sense, or for a similar but simple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ral different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ariance-reduction techniq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ied into categories —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ommon random numb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antithetic vari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ontrol vari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ndirect esti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requires thorough understanding of model, “cod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look only at common random numbers in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7298-5691-4838-AB1E-56EC3387EBB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ommon Random Numbers (CRN)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lies when objective is to compare two (or more) alternative configurations or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 is in difference(s) of performance measure(s) across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7-2 (small mfg. system), total avg. WIP output — two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Base case (as 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3.5% increase in business (interarrival-time mean falls from 13 to 12.56 minu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run conditions, but change model into Model 12-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Output Fi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tal WIP History.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entry to Statistic module to compute and save to a .dat file the total avg. WIP on each re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D5EB-8FB5-4000-82F6-336C986DBAD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he “Natural” Compariso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906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 case A, make the change to get to case B and run it, then Compare Means via Output Analyzer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4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ce is not statistically significa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the runs of A and B statistically independ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we use the same random numbers running A and 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we use the same random numbers intelligent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133720" y="2174760"/>
            <a:ext cx="5105160" cy="271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E636-32C4-46BD-B2D7-5251CDCC185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RN Intuitio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t sharper comparison if you subject all alternatives to the same “conditions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observed differences are due to model differences rather than random differences in the “condition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mfg. system:  For both A and B runs, 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same” parts arrive at the same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assigned same attributes (job ty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the same process times at each 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n observed differences will be attributable to system differences, not random bou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n’t any random bou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E8F7-B054-4544-8B42-20027E6AB44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ynchronization of Random Numbers  in CR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ly, get CRN by using the same RNG, seed, stream(s) for all alterna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re using the same stream, default = stream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ts usage generally gets mixed up across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t use the same random number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for the same purpos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cross the alternatives —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ynchroniz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random-number us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requires some work, understanding of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use different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tre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R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different ways to do this in a give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can’t synchronize completely for complex models — settle for partial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A3F1-E716-45B9-A761-72F40FA33ED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ynchronization of Random Numbers  in CRN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nchronize by source of randomness (we’ll do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stream to each point of variate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e random-number “faucets” … extra parameter in r.v.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12-1: 14 sources of randomness, separate stream for each (see book for details), modify into Model 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ly simple but might not ensure complete synchronization; still usually get some benefit from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nchronize by entity (won’t do — see Exercise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generate every possible random variate an entity might need when it arrives, assign to attributes, used down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synchronization insurance but uses mor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ross replications, RNG automatically goes to next substream within each stre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s synchronization if alternatives disagree on number of random numbers used per stream per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2E9E-7435-4AB9-AF35-F0367CEEAAE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Effect of CR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5410080" cy="36194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48765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N wa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 mo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mputational eff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ect here is fairly dramatic, but it will not always be this stro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“how similar” A and B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629400" y="182880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5562360" y="2514600"/>
            <a:ext cx="1904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67120" y="1447920"/>
            <a:ext cx="155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25909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ized C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01DF-E2F7-4B03-83F2-D69359E0CA2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Random-Number Generators (RNGs)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gorithm to generate independent, identically distributed draws from the continuous UNIF (0, 1) distrib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called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random numb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is for generating observations from all other distributions and random proc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 random numbers in a way that depends on the desired distribution or process (later in this chap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’s essential to have a good R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are a lot of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a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NGs — this i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er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ric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, coding are both tr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095880" y="2133720"/>
            <a:ext cx="1992960" cy="1124280"/>
            <a:chOff x="6095880" y="2133720"/>
            <a:chExt cx="1992960" cy="1124280"/>
          </a:xfrm>
        </p:grpSpPr>
        <p:sp>
          <p:nvSpPr>
            <p:cNvPr id="55" name=""/>
            <p:cNvSpPr/>
            <p:nvPr/>
          </p:nvSpPr>
          <p:spPr>
            <a:xfrm>
              <a:off x="7827480" y="292752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74320" y="298296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412400" y="294948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6095880" y="2133720"/>
              <a:ext cx="1827000" cy="869760"/>
              <a:chOff x="6095880" y="2133720"/>
              <a:chExt cx="1827000" cy="86976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6095880" y="2133720"/>
                <a:ext cx="1827000" cy="869760"/>
                <a:chOff x="6095880" y="2133720"/>
                <a:chExt cx="1827000" cy="86976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6095880" y="2905200"/>
                  <a:ext cx="1827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6703920" y="2395440"/>
                  <a:ext cx="0" cy="60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6486480" y="2133720"/>
                  <a:ext cx="4050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f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6716520" y="2655720"/>
                  <a:ext cx="83664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7565760" y="2916360"/>
                  <a:ext cx="30348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6183000" y="2917800"/>
                  <a:ext cx="53208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6482160" y="251460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3A36-5D71-45DF-BEE8-198C44094F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RN Statistical Issu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Output Analyzer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nalyze &gt; Compare Mea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ption, have choice of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aired-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Two-Sample-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or c.i. test on difference between mea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ed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btracts results replication by replication — must use this if doing C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Sample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eats the samples independently — can use this if doing independent sampling, often better than Paired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hematical justification for CR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output r.v. from alternative A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output from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Var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+ Var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– 2 Cov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400440" y="5562360"/>
            <a:ext cx="2191320" cy="872280"/>
            <a:chOff x="6400440" y="5562360"/>
            <a:chExt cx="2191320" cy="872280"/>
          </a:xfrm>
        </p:grpSpPr>
        <p:sp>
          <p:nvSpPr>
            <p:cNvPr id="170" name=""/>
            <p:cNvSpPr/>
            <p:nvPr/>
          </p:nvSpPr>
          <p:spPr>
            <a:xfrm>
              <a:off x="6903720" y="5730840"/>
              <a:ext cx="1688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 if inde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&gt; 0 with CR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 rot="16200000">
              <a:off x="6984000" y="4978440"/>
              <a:ext cx="152280" cy="1319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4200 h 1319400"/>
                <a:gd name="textAreaBottom" fmla="*/ 1285200 h 131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944B-1084-4C67-B1D3-13E9C793D81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Other Variance-Reduction Techniqu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single-system simulation, not comparis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ntithetic variat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 make pairs of ru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” on first run of pair, “1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” on second run of 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verage of two runs:  negatively correlated, reducing variance of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CRN, must take care to synchron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trol vari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nternal variate generation to “control” results up,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Indirect esti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estimates something other than what you want, but related to what you want by a fixed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83B4-F648-4ACF-8EFB-6F07B84FA2E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equential Sampling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ways try to quantify imprecision in 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mprecision is “small enough,” you’re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, need to do something to increase pr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saw one way:  variance-reduc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vious way to increase precision:  keep simulating one more “step” at a time, quit when you achieve desired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ting models:  “step” = another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extend length of replications — that’s part of th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ady-state mod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” = another replication if using truncated replications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” = some extension of the run if using batch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CCAC-DE6A-4CD4-998A-ED3E44629E8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equential Sampling — 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erminating Model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ify Model 12-2 (small mfg., base case, with random-number streams) into Model 12-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de 25 replications, get 95% c.i. on expected average Total WIP as 13.03 ± 1.2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the ±1.28 is too big — want to reduce to ±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 formulas from Sec. 6.3:  need 124 or 164 total replications (depending on which formula) rather than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, just make one more at a time, re-compute c.i., stop as soon as half-width is less than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k” Arena to keep making more replications until c.i. half-width &lt; tolerance =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770C-3475-45CC-BCCD-E65814D7544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equential Sampling — 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erminating Model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all:  With &gt; 1 replication, automatically get cross-replication 95% c.i.’s for expected values in Category Overview re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ed internal Arena variabl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UNHALF(Output ID) = half-width of 95% c.i. using completed replications (Output ID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vg Total W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EP = total number of replications asked for (initially, MREP = Number of Replications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t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plication Parame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REP = replication number now in progress (= 1, 2, 3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, manipulate these vari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C4DC-7774-4506-BA22-D82BF18F481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equential Sampling — 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erminating Model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itially set MREP to huge value in Number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lications i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et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plication Parame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replicating until we cut off when half-wid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a logic (in a submodel) to sense when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one “control” entity at beginning of each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entity immediately checks to see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R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:  This is beginning of 1st or 2nd re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RUNHALF(Avg Total WIP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0.5:  c.i. on completed replications is still too b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either case, keep going with this replication (and the next one too); control entity is Disposed and takes no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oth conditions are false, Control entity Assigns MREP = NREP to stop after this replication, and is Dis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93BF-174D-4BCB-B698-FFA5B2B04BE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equential Sampling — 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erminating Model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overshoots required number of replications by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ssign module setting MREP to NREP, have to select Type = Other since MREP is a built-in Arena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:  Stopped with 232 total replications, yielding half width = 0.49699 (barely less than 0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from earlier number-of-replications approximations (they’re just th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iz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ion demands on several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-width stopping:  (half-width) / (pt. estimate)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DF62-CD44-47BE-8B70-7FADC0E3221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equential Sampling — 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teady-State Model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doing truncated-replications approach to steady-state statistical an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strategy as above for terminating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m-up Period specified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t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plication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 on the side of too much warm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-estimator bias is especially dangerous in sequential sam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ting tight c.i. centered in the wrong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ighter the c.i. demand, the worse the coverage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670B-7650-4643-9C4D-6F63D85734B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equential Sampling — 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teady-State Model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tch-means approa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12-4: modification of Model 7-4 (small mfg. system) – want half-width on E(average WIP) to be &l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extending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un to reduce c.i. half-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utomatic run-time batch-means 95% c.i.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ping criterion: Terminating Condition field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t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plication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f-width variables are THALF(Tally ID) or DHALF(Dstat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s, condition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HALF(Total WIP) &lt;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all other stopping devices fro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“Insuf” or “Corr” would be returned because of too little data, half-width variables set to huge value — keep g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demand multiple smallness criteria, relative precision (use TAVG, DAVG variables for point-estimate denomin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3075-4CA1-405B-9312-70C6C5652E2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Designing and Executing Simulation Experiment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nk of a simulation model as a convenient “testbed” or laboratory for experi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different output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effects, interaction of different input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ly classical experimental-design techniq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ial experiments — main effects,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ctional-factorial 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-screening de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-surface methods, “metamodel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N is “blocking” in experimental-design termi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Analyzer (PAN) provides a convenient way to carry out a designed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Chapt. 6 for an example of using PAN for a factorial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B8D7-39F2-4AFB-B4A5-3D8EECAC412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he Nature of RNG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ursive formula (algorithm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a seed (or seed vec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something weird to the seed to get the next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… generate the same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eventually repeat (cycle) … want long cycle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really “random” as in unpredic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is matter?  Philosophically?  Practical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nt to “design” R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cycle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statistical properties (uniform, independent) --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ams (subsegments) – many and long (for variance reduction …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not easy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ing something weird isn’t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F739-5978-4E27-8B00-1356474B16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Linear Congruential Generators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(LCGs)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st common of several different metho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one in Arena (though it’s related) … more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te a sequence of integer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… via the recur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Z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–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(mo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e carefully chosen consta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fy a se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tart of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 means take the remainder of dividing b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s the nex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’s are between 0 an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“random number” a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D454-89BB-440D-999A-611F2CDD8E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Example of a “Toy” LCG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meter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63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22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4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19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(22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–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4) (mod 63), seed with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1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2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–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42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98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97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428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59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492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68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88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15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07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70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238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33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0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6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422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4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0.698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65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972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7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0.4286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66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598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31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0.4921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: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94120" y="2884320"/>
            <a:ext cx="4915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34800" indent="-334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ycl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— will repeat for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cle length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ould be &lt;&lt;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p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paramet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ck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that might not be enoug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good statistical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23960" y="2546280"/>
            <a:ext cx="0" cy="387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43040"/>
            <a:ext cx="0" cy="387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544840"/>
            <a:ext cx="0" cy="387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2549520"/>
            <a:ext cx="3255840" cy="3867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2917800"/>
            <a:ext cx="325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0BE1-4A02-4821-AF6A-E819F780B2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Issues with LCG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cle length: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1 billion (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) or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s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be a lot … more l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arameters chosen so that cycle length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stical proper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ity,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many tests of R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irical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oretical tests — “lattice” structure (next slide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, storage — both are usually f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t be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areful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lever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ded —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I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teg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eproducibilit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— streams (long internal subsequences) with fixed see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1FE5-74A5-4EBA-AA24-A0EB789713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Issues with LCG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ularity” of LCGs (and other kinds of RNGs):  For the earlier “toy” LCG 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” RNGs: dense lattice in high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kinds of RNGs — longer memory in recursion, combination of several R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24480" y="2895480"/>
            <a:ext cx="26672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andom Numbers Fall Mainly in the Plan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—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George Marsag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95640" y="2209680"/>
            <a:ext cx="21675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ot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38480" y="2209680"/>
            <a:ext cx="26114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ot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66680" y="2743200"/>
            <a:ext cx="5052960" cy="192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0BC2-1637-4D7F-BFBC-E8A545CEB4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he Original (1983) Arena RNG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CG with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1 = 2,147,483,64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7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16,80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cle length =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1 = 2.1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n different automatic streams with fixed see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its day, this was a good, well-tested generator in an efficient co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current computer speed make this cycle length inadequ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haust in 10 minutes on 2 GHz PC if we just 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get this generator (not recommend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a Seeds module (Elements panel) in you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3D3C-AEE1-4F93-B992-D9F9CB9DB4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3T20:49:48Z</dcterms:created>
  <dc:creator>Kelton/Sadowski/Sturrock</dc:creator>
  <dc:description/>
  <dc:language>en-US</dc:language>
  <cp:lastModifiedBy> </cp:lastModifiedBy>
  <dcterms:modified xsi:type="dcterms:W3CDTF">2003-06-09T20:11:46Z</dcterms:modified>
  <cp:revision>464</cp:revision>
  <dc:subject/>
  <dc:title>Chapter 12 -- Further Statistical Issues</dc:title>
</cp:coreProperties>
</file>