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F431-B148-4ACA-911D-B8599F16F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CCF3-23BC-4317-8F59-07F275278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3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AD7A-C0B7-4614-A41C-87644703B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3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ACF-FBEE-4855-98EE-AEC94E29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8A3-F736-4254-9F55-F834BB56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0AE-3193-48C7-A787-CB99B69E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6DE-00BA-4145-9747-1430E5D6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51F-8198-4FC1-8437-F511688C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9F9-DDED-4AF6-960F-306E0D1C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CC9-4D6E-478C-BAE6-A245BFCC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5F0B-C51D-4AC7-8843-EFE4008B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A95-2E71-4F58-81A2-C8DBC69E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6A1B-0904-4704-83F4-1E7E59D2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E62D-8FBA-414D-8C51-44086A32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16D-7B11-42D9-ACE3-6BCBB01A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&lt;date/time&gt;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Simulation with Arena, 3</a:t>
            </a:r>
            <a:r>
              <a:rPr b="0" i="1" lang="en-US" sz="1400" spc="-1" strike="noStrike" baseline="30000">
                <a:solidFill>
                  <a:srgbClr val="00009b"/>
                </a:solidFill>
                <a:latin typeface="Arial"/>
              </a:rPr>
              <a:t>rd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243000" cy="3049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552720"/>
            <a:ext cx="502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Chapter 6 – Stat. Output Analysis Terminating Simu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72400" y="65527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Slide </a:t>
            </a:r>
            <a:fld id="{E8E7B9D8-7109-4632-BCDC-A3BFE9B15501}" type="slidenum">
              <a:rPr b="0" lang="en-US" sz="1400" spc="-1" strike="noStrike">
                <a:solidFill>
                  <a:srgbClr val="00009b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 of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480" y="76320"/>
            <a:ext cx="510984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81120" y="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9b"/>
                </a:solidFill>
                <a:latin typeface="Arial"/>
              </a:rPr>
              <a:t>Statistical Analysis of Output from Terminating Simulations</a:t>
            </a:r>
            <a:endParaRPr b="1" lang="en-US" sz="40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32767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248520"/>
            <a:ext cx="19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st revision June 8,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1AF-D6AD-4B90-AE25-BB36095CB3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Half Width and Number of Replication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 to automotive repair sh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itial 10 replications, 95% half-width on Daily Profit w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$50.20 ... let’s get this down to ±$20 or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formula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.9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70.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47.3, so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ond formula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(50.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63.0, so 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ied Model 5-2 into Model 6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eck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n Cont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tch Run (No Animatio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t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lication Parame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changed Number of Replications to 100 (conservative based on abo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t 492.63 ± 13.81, satisfying crite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E38-A937-47FE-A5BC-DFB01BC187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Interpretation of Confidence Interval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al with random (data-dependent) endpoints that’s supposed to have stated probability of containing, or covering, the expected valu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” expected value is a fixed, but unknown,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value = average of infinite number of re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an interval that contains, say, 95% of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d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val … useful too, but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 formulas assume normally-distributed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true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be approximately true if output is an average, rather than an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limit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ness, coverage, precision – see book (Model 6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901D-7A21-4BE1-B12A-5C9371FB77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mparing Two Alternativ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ly compare alternative system scenarios, configurations, layouts, sensitivity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w, just two alternatives ... more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6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6-1, but add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ily Profit.d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atistic module, Output column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ily Prof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this output statistic to this file for each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c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ll inputs as originally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-bookings c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han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 Lo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24 to 28 hours (allow more bookings per day ... increase utilization, profit?  Mayb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701-0A9A-4F2E-AD59-100A9ABE90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mparing Two Alternative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sonable but not-quite-right id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confidence intervals on expected outputs from each alternative, see if they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as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2.6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 13.81, or [478.82, 506.4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-bookings cas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64.53 ± 22.59, or [541.94, 567.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doesn’t allow for a precise, efficient statistical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14840" y="3200400"/>
            <a:ext cx="107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ver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29718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761-DE17-40BB-B84F-BCFEA4085B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mpare Means via the Output Analyzer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 Analyzer is a separate application that operates on .dat files produced by Ar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separately from Windows, not from A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ave output values (Expressions) of entries in Statistic data module (Type = Output) – enter filename.dat in Output File colum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did for Daily Profit, not Daily Late Wait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overwrite this file name next time … either change the name here or out in Windows before the nex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dat files are binary … can only be read by Output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100-36E3-4FAD-8490-CC9E40C6A9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mpare Means via the Output Analyzer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 Output Analyzer, open a new data 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ally, a list of .dat files of current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ave data group for later use – .dgr file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select (Open) .dat files for the data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are Mea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nu o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ata files … “A” and “B” for the two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“Lumped” for Replications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, confidence level, accept Paired-t Test, Scale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4084-0B80-44CF-A367-B7E6D50870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mpare Means via the Output Analyzer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61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dence interval on difference misses 0, so conclude that the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(statistically) significant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0000" y="1758960"/>
            <a:ext cx="6248160" cy="32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B07-F6F1-4B16-BB9F-A1DFED551D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valuating Many Alternatives with the Process Analyzer (PAN)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(many) more than two alternatives to compare, two problems 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mechanics of making many parameter changes, making many runs, keeping track of many outpu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methods for drawing reliable and useful 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Analyzer (PAN) addresses the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N operates on program (.p) files – produced when .doe file is run (or just check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 PAN from Arena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cess Analyz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or via Wind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N runs on its own, separate from Ar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CC0F-B934-4341-994A-2A41C2A8F7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AN Scenario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cenar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PAN is a combination of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(.p)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inpu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ontr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you ch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sen from Variables and Resource capacities – think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fill in specific numerical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outpu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spon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you ch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sen from automatic Arena outputs or your ow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initially empty … to be filled in after run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a new scenario in PAN, double-click where indicated, get Scenario Properties 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Name, Tool Tip Text, .p file, controls,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of controls initially as in the model, b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 can change them in P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is is the real utility of 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licate (right-click, Duplicate) scenarios, then edit for a new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a scenario as a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C53-F3D6-479E-80A1-3F92022EF4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AN Projects and Ru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PAN is a collection of scena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files can be the same .p file, or .p files from different model .do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, responses can be the same or differ across scenarios in a project – usually will be mostly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a project as a collection of scenario rows – a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ave as a PAN (.pan extension)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scenarios in project to run (maybe al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N runs selected models with specified contr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N fills in output-response values in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to setting up, running them all “by hand” but much easier, faster, less error-p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958-253A-43AC-9D0D-B3A891BF61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at We’ll Do ...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frame of simu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y for data collection and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ing two alterna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ing many alternatives via the Arena Process Analyzer (PA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rching for an optimal alternative with OptQu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D72-A5E9-4268-A86A-A1D3B21C6D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6-4 for PAN Experimen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e as Model 6-3 except remove Output File entry in Statistic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 will keep track of outputs itself, so this is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s – set up a formal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actorial experi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ily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ily Late Wait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3200400"/>
          <a:ext cx="5715000" cy="1690560"/>
        </p:xfrm>
        <a:graphic>
          <a:graphicData uri="http://schemas.openxmlformats.org/drawingml/2006/table">
            <a:tbl>
              <a:tblPr/>
              <a:tblGrid>
                <a:gridCol w="2362320"/>
                <a:gridCol w="1676520"/>
                <a:gridCol w="1676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(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“−”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”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x L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x Wa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ait Allow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6484680" y="3720960"/>
            <a:ext cx="247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= 8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so do Bas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5362560"/>
            <a:ext cx="2957760" cy="106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do a designed experiment with PAN, but this is more informative than haphazard fooling a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066-A4C5-48B9-8E1A-59E136AB66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unning Model 6-4 with PA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ll to run (click on left of row, Ctrl-Click or Shift-Click for m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ecute,    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F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98600" y="20970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84360" y="2527200"/>
            <a:ext cx="8459640" cy="3662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248520" y="5867280"/>
            <a:ext cx="274464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o make of all thi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stical meaningfuln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BCE-CB35-4829-BD26-06DF7A687D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tatistical Comparisons with PA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6-4 alternatives were made with 100 replications e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than one replication, but what about statistical validity of comparisons, selection of “the best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Total Cost column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or      or right-click on column, then Insert Char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 Type:  Box and Whis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, Total Cost; Next de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, Identify Best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ger is Better, Error Tolerance = 0 (not the defaul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Best Scenarios; F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001000" y="3048120"/>
            <a:ext cx="380880" cy="36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095-2DBA-451A-9FD6-D31B626A0A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6095880" cy="4340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tatistical Comparisons with PAN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43600" y="1218960"/>
            <a:ext cx="3200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boxes: 95% confidence interv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 scenarios statistically significantly better than b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precisely, red scenarios are 95% sure to contain the bes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ow down red set – more replications, or Error Tolerance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tails in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14E-1956-4CF9-B384-08B8A6561A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 Follow-Up PAN Experimen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actorial experiment, it’s clear tha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x Loa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tters the most, and bigger appears bet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factor 1, varying between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+” in each scenario as ordered there, creating clear down/up/down/up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so see this by comput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in eff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lt an experimental-design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minate other two factors (fix them at their base-case levels) and stud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x Loa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it be 20, 22, 24, ...,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 second PAN experiment to do this, created chart as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98A-7E00-4BA0-898A-8D531E26FD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 Follow-Up PAN Experiment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248360" cy="5257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419720" y="1219320"/>
            <a:ext cx="4724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, profit-maximiz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 Lo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bout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ily Late Wait Job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eeps increasing (worsening)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 Lo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profit-maximiz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 Lo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0, it’s 0.908 job/day, which seems bad since we only take 5 wait jobs/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like to require that it be at most 0.75 job/day ... still want to maximiz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ily 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other two factors back into the pictur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277-64DD-4851-B298-E4A1C45A86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1487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cenarios we’ve considered with PAN are just a few of many possi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1487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k input controls maximiz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aily Profi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hile keep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aily Late Wait Job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0.7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1487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late as an optimization proble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487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i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ily 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487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 Lo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487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 Wa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487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 Allow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1487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ily Late Wait Job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lt; 0.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0"/>
              </a:lnSpc>
              <a:spcBef>
                <a:spcPts val="601"/>
              </a:spcBef>
              <a:buNone/>
              <a:tabLst>
                <a:tab algn="l" pos="1487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1487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e starting place – best acceptable scenario so far: (the base case, act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1487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o go from here?  Explore all of feasible three-dimensional space exhaustively?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arching for an Optimal Alternative with OptQues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758480" y="4444920"/>
            <a:ext cx="2017800" cy="428760"/>
          </a:xfrm>
          <a:custGeom>
            <a:avLst/>
            <a:gdLst>
              <a:gd name="textAreaLeft" fmla="*/ 0 w 2017800"/>
              <a:gd name="textAreaRight" fmla="*/ 2017800 w 20178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0" y="0"/>
                </a:lnTo>
                <a:lnTo>
                  <a:pt x="21600" y="10800"/>
                </a:lnTo>
                <a:lnTo>
                  <a:pt x="199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46680" y="4410000"/>
            <a:ext cx="199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output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require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not an input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constr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200400" y="3392640"/>
            <a:ext cx="3657600" cy="228600"/>
          </a:xfrm>
          <a:custGeom>
            <a:avLst/>
            <a:gdLst>
              <a:gd name="textAreaLeft" fmla="*/ 360 w 3657600"/>
              <a:gd name="textAreaRight" fmla="*/ 3658320 w 3657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0" y="0"/>
                </a:lnTo>
                <a:lnTo>
                  <a:pt x="21600" y="10800"/>
                </a:lnTo>
                <a:lnTo>
                  <a:pt x="199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36920" y="33336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function is the simulation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572000" y="3716280"/>
            <a:ext cx="1720800" cy="665280"/>
          </a:xfrm>
          <a:custGeom>
            <a:avLst/>
            <a:gdLst>
              <a:gd name="textAreaLeft" fmla="*/ 360 w 1720800"/>
              <a:gd name="textAreaRight" fmla="*/ 1721520 w 1720800"/>
              <a:gd name="textAreaTop" fmla="*/ 0 h 665280"/>
              <a:gd name="textAreaBottom" fmla="*/ 665280 h 66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0" y="0"/>
                </a:lnTo>
                <a:lnTo>
                  <a:pt x="21600" y="10800"/>
                </a:lnTo>
                <a:lnTo>
                  <a:pt x="199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18080" y="3673440"/>
            <a:ext cx="17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 on the input control (decision)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84800" y="370836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05520" y="3614760"/>
            <a:ext cx="2130480" cy="945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ld also have constraints on linear combinations of input control variables (but we don’t in this proble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FAB-09A1-4809-81F4-923312C9AD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ptQues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Quest searches intelligently for an optim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PAN, Opt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as a separate application … can be launched from Ar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over” the running of you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s that you identify the input controls and the output (just one) response 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PAN, Opt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you to specify constraints on the input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you to specify requirements on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s itself what input-control-value combinations to 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internal heuristic algorithms to decide how to change the input controls to move toward an optimum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pecify stopping criterion for the searc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82B-3A33-4B95-9964-B5C8F0FFCE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Using OptQues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ptQuest for Ar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sessio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Ctrl+N or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 desired model window is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controls – Variables, Resource lev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 Lo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ower Bound = 20, Upper Bound = 40, Co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 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ower Bound = 1, Upper Bound = 7, Discrete (Input Step Size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 Allow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ower Bound = 0.5, Upper Bound = 2, Co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ai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e here other than earlier Bou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 and Requir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ily Prof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ponse – Select Maximize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ily Late Wait Jo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ponse – Select Requirement, enter 0.75 for Upper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37480" y="171468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43B4-D489-4980-925B-A7CCD8EC3F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Using OptQuest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ons window – computational limits, proced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ab – run for 2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ion tab – vary number of replications from 10 to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ences tab – various settings (accept defaul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revisit Controls, Constraints, Objective and Requirements, or Options windows v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via wizard (first time through a new project),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atus and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erformance Grap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watch 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’t absolutely guarantee a true optim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inds far better configuration than possible by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238880" y="3657600"/>
            <a:ext cx="1219320" cy="285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532320" y="448776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C44-57EC-43F6-8998-C0632A85F3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 input leads to random output (RIR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a simulation (once) — what does it mea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this run “typical” or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ility from run to run (of the same mode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statistical analysis of output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 single model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wo or more different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for an optimal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stical analysis of output is often igno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big mistake – no idea of precis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hard or time-consuming to do this – it just takes a little planning and thought, then some (cheap) comput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526-B4C6-4688-80AD-1B6F9EC642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ime Frame of Simula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ermina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Specific starting, stopping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length will be well-defined (and fin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eady-st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Long-run (technically forev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tically, initial conditions don’t matter (but practically they usually 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clear how to terminate a simulation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really a question of intent of the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major impact on how output analysis is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times it’s not clear which is appropri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: Terminating (steady-state in Section 7.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6546-BA3B-4994-90A5-E1D7ECA319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trategy for Data Collection and Analysi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erminating case, make IID re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ication 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Number of Replications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both boxes for Initialize Between Re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 results for each replication – Category by Replication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5-2; Daily Profit, Daily Late Wait Jobs; 10 re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3886200"/>
            <a:ext cx="5465880" cy="26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CBD-979E-4AE5-B39B-8B79F87DA7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trategy for Data Collection and Analysi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egory Overview report will have some statistical-analysis results of the output across the re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replic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l and error (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number for acceptable precision (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sampling (Chapter 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n off animation altogether for max spe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tch Run (No Ani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7322-9267-4BB7-961B-245D8DBE50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fidence Intervals for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erminating System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formulas in Chapter 2, viewing the cross-replication summary outputs as the basic dat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y most useful part – 95% confidence interval on expected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nformation (except standard deviation) is in Category Overview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&gt; 1 replication specified, Arena uses cross-replication data as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onfidence levels, graphics – Output Analy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87360" y="2055960"/>
            <a:ext cx="6261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91B-96C8-4725-AD44-E2798C9148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Half Width and Number of Replica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er smaller confidence intervals —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dence interval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f-width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’t contro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 increa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— how muc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65720" y="4680000"/>
            <a:ext cx="2666880" cy="53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9456" y="0"/>
                </a:lnTo>
                <a:lnTo>
                  <a:pt x="21600" y="10800"/>
                </a:lnTo>
                <a:lnTo>
                  <a:pt x="1945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36440" y="4689360"/>
            <a:ext cx="2342880" cy="51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nt this to be “small,” s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h where h is prespec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897440" cy="1814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038480" y="3733920"/>
            <a:ext cx="2097360" cy="741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666880" y="4495680"/>
            <a:ext cx="15224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ABB-FDBE-474B-8A2F-DA8B7E4D6A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Half Width and Number of Replication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 half-width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solve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really solved 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pend 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xim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rresponding normal critical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tend that curr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hold for larger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ier but different approximatio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257800" y="1219320"/>
            <a:ext cx="1951200" cy="809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5560" y="3809880"/>
            <a:ext cx="232344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sample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iation from “initia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re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84680" y="5230800"/>
            <a:ext cx="210492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half width from “initial” numbe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re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85120" y="4035600"/>
            <a:ext cx="1428480" cy="1857240"/>
          </a:xfrm>
          <a:custGeom>
            <a:avLst/>
            <a:gdLst>
              <a:gd name="textAreaLeft" fmla="*/ 52200 w 1428480"/>
              <a:gd name="textAreaRight" fmla="*/ 1376280 w 1428480"/>
              <a:gd name="textAreaTop" fmla="*/ 52200 h 1857240"/>
              <a:gd name="textAreaBottom" fmla="*/ 1805040 h 1857240"/>
            </a:gdLst>
            <a:ahLst/>
            <a:rect l="textAreaLeft" t="textAreaTop" r="textAreaRight" b="textAreaBottom"/>
            <a:pathLst>
              <a:path w="21600" h="28082">
                <a:moveTo>
                  <a:pt x="2697" y="0"/>
                </a:moveTo>
                <a:arcTo wR="2697" hR="2697" stAng="16200000" swAng="-5400000"/>
                <a:lnTo>
                  <a:pt x="0" y="25385"/>
                </a:lnTo>
                <a:arcTo wR="2697" hR="2697" stAng="10800000" swAng="-5400000"/>
                <a:lnTo>
                  <a:pt x="18903" y="28082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70800" y="4506840"/>
            <a:ext cx="12985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s quadratic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676520" y="3809880"/>
            <a:ext cx="1619280" cy="800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3880" y="3809880"/>
            <a:ext cx="2159280" cy="785880"/>
          </a:xfrm>
          <a:prstGeom prst="roundRect">
            <a:avLst>
              <a:gd name="adj" fmla="val 1248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682640" y="5159520"/>
            <a:ext cx="1287720" cy="819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08040" y="5146560"/>
            <a:ext cx="2160720" cy="792360"/>
          </a:xfrm>
          <a:prstGeom prst="roundRect">
            <a:avLst>
              <a:gd name="adj" fmla="val 1248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459-2BBA-4C27-8867-56BE5821A0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0:49:48Z</dcterms:created>
  <dc:creator>Kelton/Sadowski/Sturrock</dc:creator>
  <dc:description/>
  <dc:language>en-US</dc:language>
  <cp:lastModifiedBy> </cp:lastModifiedBy>
  <dcterms:modified xsi:type="dcterms:W3CDTF">2003-06-09T20:11:11Z</dcterms:modified>
  <cp:revision>403</cp:revision>
  <dc:subject/>
  <dc:title>Chapter 6 -- Statistical Analysis of Output from Terminating Simulations</dc:title>
</cp:coreProperties>
</file>