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9.png" ContentType="image/png"/>
  <Override PartName="/ppt/media/image3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0B9030-E5FC-476C-B198-8B13CBA08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93D4D9-673B-4314-9E7A-F66C21624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33382D-7167-4541-8C27-360985F1A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DA59B6-399B-47D9-A1F6-957FA809F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0FEA56-B26B-4854-AF41-937D65044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E04A8B-7405-4B96-ADC2-B0099276A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234076-9703-478F-B887-7691B823E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3FBEDD3-40F1-43A0-BFC3-C2A32A8E1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5FE9C6-1C14-4E22-9333-8149CFBCB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38CB45-2FF5-47A7-A764-AB5648B9A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5D5B65-CC3D-486E-A760-F64139092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FAFFC7-ED8B-43B4-9F74-11A1152BB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6DB804-0D23-4DC5-9B46-D3B8BC507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196EA7-7C15-4FC4-9491-495D1CCE3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5069C1-3CDA-4FFB-8343-5A67C9469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1C68E7-4849-4560-B36E-E1CC67A88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D1894B-2250-4210-B918-C2DEA4767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EC8F52-4394-4E3F-BCA2-A024F4720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93CCB1-5111-4EE0-8174-EB26F5A02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666B27-5F2E-44B9-A77A-0A0C4865F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D1A0417-41C0-4957-B620-CD45543A9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A4EA21-3411-4C75-BD90-2670C6439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F5A34B-349F-4991-8337-969814078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ADF86E-1C36-4A9D-91C8-133F498A7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0F8A0C-D90C-4397-8FA0-444EDA99E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296357-92B5-4B1D-AFDD-FA3CE8A7E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3833F15-4B19-4243-94FA-8316282D8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D91CBF-87F6-4392-AC9F-4C1200904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BA736B-F2B0-4858-83EB-C82E1F541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FCAD32B-DEF3-4ABA-A320-C8F5EA95F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D3225B-06D1-4237-A342-96AA7790D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74418A-E2D1-4E92-94F9-DF1461099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69981E-7F11-48EC-B05C-7D4EF5FB0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3274-A0F1-47B9-B845-D5110A85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5B2B-ADF1-4F2C-9FC0-4D5053C2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D560C-6E28-440F-A7F1-3C01269F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F4A8-B153-4C90-AE3C-C3F33053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B54DC-ADD1-4459-875B-7BEBE7C3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8829-47A7-498F-9D1A-A11EF6DA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F702D-28D4-4286-BA64-6301200B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44764-4344-4FD7-ABB4-7334CF16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6029-B9D1-4ABB-82DB-DF04571E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646E-34C0-4A8E-BEAB-1F14DBB2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56BF-4F54-4F0B-AC7F-7D2D6488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A1AB-A961-4115-8838-5A801C04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971800" y="655272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Appendix C – A Refresher on Probability and 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2A0F3B8D-8502-4A09-9859-3E149DEB9433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of 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243000" cy="304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228600" y="65527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&lt;date/time&gt;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, 3</a:t>
            </a:r>
            <a:r>
              <a:rPr b="0" i="1" lang="en-US" sz="1400" spc="-1" strike="noStrike" baseline="30000">
                <a:solidFill>
                  <a:srgbClr val="00009b"/>
                </a:solidFill>
                <a:latin typeface="Arial"/>
              </a:rPr>
              <a:t>rd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480" y="76320"/>
            <a:ext cx="510984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81480" y="3276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x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9b"/>
                </a:solidFill>
                <a:latin typeface="Arial"/>
              </a:rPr>
              <a:t>A Refresher on Probability and Statistics</a:t>
            </a:r>
            <a:endParaRPr b="1" lang="en-US" sz="40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24852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st revision June 7,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C8D6-E702-490E-BFC2-42F37A7C11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crete Distribution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umulative distribution fun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CDF) – probability that the RV will b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fixed valu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ies of discrete CD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for al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nondecreasing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ep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inuous from the right with jumps a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of height equal to the PMF at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60320" y="3276720"/>
            <a:ext cx="30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se four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e also tru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inuous CD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3352680"/>
            <a:ext cx="3124080" cy="1219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3429000"/>
            <a:ext cx="838440" cy="1600200"/>
          </a:xfrm>
          <a:prstGeom prst="rightArrowCallout">
            <a:avLst>
              <a:gd name="adj1" fmla="val 51500"/>
              <a:gd name="adj2" fmla="val 49604"/>
              <a:gd name="adj3" fmla="val 27463"/>
              <a:gd name="adj4" fmla="val 2935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4190760" cy="78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7D6A4-A074-4F0F-B59C-99391D5FBB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crete Distribution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ing probabilities about a discrete RV – usually use the PM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th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satisfying the condition for th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discrete RVs, must be careful about weak vs. strong inequalities – endpoints matter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687840" cy="81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2C2A-B797-4BBF-86A4-33D4A97ADF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crete Expected Valu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set has a “center” – the average (mea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Vs have a “center” –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xpected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ec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RV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mmon notation: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average of the possible valu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 weights being their probability (relative likelihood) of oc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xpectation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“expect” 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might not even be among the possible valu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xpect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“the experiment” many times, observe man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what     converges to (in a certain sense)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153280" y="1295280"/>
            <a:ext cx="282600" cy="303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66880" y="2057400"/>
            <a:ext cx="2917800" cy="72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14600" y="5486400"/>
            <a:ext cx="235080" cy="2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F26C-496E-49BD-80AA-E873311006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crete Variances and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andard Devia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set has measures of “dispersion” 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Vs have corresponding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mmon no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average of squared deviations of the possible valu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devi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analogous to that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603520" cy="75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122868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057400" y="3200400"/>
            <a:ext cx="4292640" cy="809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343400" y="4114800"/>
            <a:ext cx="936720" cy="430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495680" y="5410080"/>
            <a:ext cx="2654280" cy="37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81D15-F4AC-4219-9968-58502F2B07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tinuous Distribu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 le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 a continuous R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limited to a range bounded on left or right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tter how small the range, the number of possible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lways (uncountably) infi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ensible to ask abo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ven if x is in the possibl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ly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lway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describe behavior of X in terms of its fall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1763-8444-46ED-AD51-57825741E3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83200" y="3657600"/>
            <a:ext cx="3160800" cy="56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tinuous Distribution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obability density fun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DF) is a functi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with the following three properti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 for all real valu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area un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fix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probability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fall betwe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area un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twe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 facts about PD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re denser in regions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ight of a density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is not the probability of anything – it can even be 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ntinuous RVs, you can be sloppy with weak vs. strong inequalities and end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1755720" cy="56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13C6-02A2-4469-99B0-5023BD9157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tinuous Distribution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umulative distribution fun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CDF) - probability that the RV will b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fixed valu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ies of continuous CD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for al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nondecreasing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continuous function with slope equal to the PD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962520"/>
            <a:ext cx="838080" cy="1600200"/>
          </a:xfrm>
          <a:prstGeom prst="rightArrowCallout">
            <a:avLst>
              <a:gd name="adj1" fmla="val 51522"/>
              <a:gd name="adj2" fmla="val 49626"/>
              <a:gd name="adj3" fmla="val 27463"/>
              <a:gd name="adj4" fmla="val 2935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60320" y="4114800"/>
            <a:ext cx="30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se four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e also tru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crete CD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4114800"/>
            <a:ext cx="3124080" cy="1219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2133720"/>
            <a:ext cx="2268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x) may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y not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closed-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2133720"/>
            <a:ext cx="2210040" cy="1371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4537080" cy="65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28408-38A6-4C06-86A6-A4982D5707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tinuous Expected Values, Variances, and Standard Devia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ctation or mean of X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, a weighted “continuous” average of possible values f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interpretation as in discrete case:  average of a large number (infinite) of observations on the RV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nce of X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deviation of X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843360" cy="55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6361200" cy="654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666880" y="5562720"/>
            <a:ext cx="3210120" cy="40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79D5-F02A-40E7-AEB3-4F4B394463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Joint Distribu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far:  Looked at only one RV at a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they can come up in pairs, triples, …, tuples, forming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jointly distribut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Vs or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andom ve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(type of part, priority, service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} = output process of times in system of exiting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central issue is whether the individual RVs are independent of each other or rel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take the special case of a pair of RVs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naturally (but messily) to higher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58BC-4212-4499-AD71-18DE09767D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Joint CD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a function of two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definition for discrete and 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both RVs are discrete, define th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joint PM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both RVs are continuous, define th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joint PD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as a nonnegative function with total volume below it equal to 1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CDF (or PMF or PDF) contains a lot of information – usually won’t have in pract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Joint Distribution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011000" y="1752480"/>
            <a:ext cx="1893960" cy="825480"/>
            <a:chOff x="7011000" y="1752480"/>
            <a:chExt cx="1893960" cy="825480"/>
          </a:xfrm>
        </p:grpSpPr>
        <p:sp>
          <p:nvSpPr>
            <p:cNvPr id="122" name=""/>
            <p:cNvSpPr/>
            <p:nvPr/>
          </p:nvSpPr>
          <p:spPr>
            <a:xfrm>
              <a:off x="7011000" y="1752480"/>
              <a:ext cx="189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Rep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nd” with “,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86600" y="1752480"/>
              <a:ext cx="1752480" cy="761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8458200" cy="625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133720" y="3352680"/>
            <a:ext cx="5005440" cy="390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5746680" cy="7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B35C-65A6-4780-85C4-816BC37440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nd-up review of probability and statistics necessary to do and understand 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familiarity wi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mani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tion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alculus ideas (especially integr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– basic ideas,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variables, joint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inference – point estimation, confidence intervals, hypothesi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CABD-2685-4F8F-B4FF-D8766765FA3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arginal Distribu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distribution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one? 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on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ly dis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al PMF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al CDF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ly 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al PDF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al CDF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above is symmetric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ledge of join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nowledge of marginals – but not vice versa (unles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independ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497120" cy="614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3913200" cy="781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86200" y="3505320"/>
            <a:ext cx="2781360" cy="44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886200" y="4038480"/>
            <a:ext cx="3591000" cy="4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BF6F-E726-4E17-9784-61ECC5B01C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variance Between RV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lation betwe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vari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twe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arge (resp. small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nds to go with large (resp. small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covariance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arge (resp. small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nds to go with small (resp. large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covariance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tendency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ccur jointly in agreement or disagreement over being big or small, then Cov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ing value of covariance – difficult since it depends on units of measur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93756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0D74-D968-443E-88B9-952CD5DBF8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rrelation Between RV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rrel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coefficient) betwe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same sign as co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between –1 and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value does not depend on units of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less – universal 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302000" cy="9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1687-8FAC-48E6-B574-AA82198CD5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Independent RV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depend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f their joint CDF factors into the product of their marginal CDF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to use PMF or PDF instead of C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ies of independent RV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nothing (linearly) to do with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cor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vice versa, unless the RVs have a joint norm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in probability – factorization simplifies grea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ting just to assume it whether justified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 in 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 Usually assume separate inputs are indep. – va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 Standard statistics assumes indep. – valid?!?!?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761160" cy="4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2A858-2407-431D-865E-D9D134E215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ampli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atistical analy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estimate or infer something about 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o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ased on only 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a RV with a distribution governing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andom 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e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dependent and identically distribu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ID) observatio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is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imulation, sampling is making some runs of the model and collecting the out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know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opulation (or distribution) and want to estimate them or infer something about them based on 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93C75-9907-48EF-9BA4-077206BCC4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ampling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parame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mea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varia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propo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– need to know whole pop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 (but unknow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estim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propo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ample statis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can be computed from a s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s from one sample to another – is a RV itself, and has a distribution, called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ampling 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03BF-DA97-4941-A1EC-4EBCFB0D88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ampling Distribu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 statistic, like sample mean or sample vari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value will vary from one sample to the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sampling-distribution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less of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varia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14400" y="3429000"/>
            <a:ext cx="3541680" cy="439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4292640" cy="360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81480" y="4267080"/>
            <a:ext cx="3513240" cy="360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895480" y="3124080"/>
            <a:ext cx="400320" cy="360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505320" y="5410080"/>
            <a:ext cx="312480" cy="390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1219320" y="5791320"/>
            <a:ext cx="312480" cy="39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939D-D6CD-4498-862C-CAEC65D4A5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oint Estim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ample statistic that estimates (in some sense) a population parame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iased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stimate) =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stimate) is lowest among competing point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stimate) decreases (usually to 0) as the sample size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528FF-7804-4AB0-BCD2-7E18C63504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fidence Interva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oint estimator is just a single number, with some uncertainty or variability associated with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fidence interv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antifies the likely imprecision in a point estim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val that contain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v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 unknown population parameter with specified (high) probability 1 –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 100 (1 –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% confidence interval for the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dence interval for the population mean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s for some other parameters – in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65640" y="5443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31520" y="4114800"/>
            <a:ext cx="5167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,1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oint below which is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in Student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ion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 degrees of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4191120"/>
            <a:ext cx="53341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85800" y="4343400"/>
                <a:ext cx="23623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D4BE-FB41-487C-92AF-4C07F2EC83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fidence Intervals in Simul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simulations, get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each replication of the simulation as a data 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inpu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andom out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 a confidence inter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ckets (with probability 1 –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the “true” expected output (what you’d get by averaging an infinite number of replication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02E2-1F32-4832-92A3-466655B59C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robability Basic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xperi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activity with uncertain outco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coins, throw dice, pick cards, draw balls from ur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to work tomorrow – Time?  Acci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e a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all center – Number of calls?  Average customer hold time?  Number of customers getting busy sig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u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all center – same questions as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ample spa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complete list of all possible individual outcomes of an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easy or hard to characte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ot be necessary to characte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C9B6-F91E-4D8E-A359-C281488F25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Hypothesis Tes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ome assertion about the population or its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never determine truth or falsity for sure – only get evidence that points one way or ano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ull hypothe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– what is to be tes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lternate hypothe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– denial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     vs.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0   vs.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vs.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a decision rule to decide 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ased on sampl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00EE-6A84-4E6B-B3C2-B0AF489E15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rrors in Hypothesis Testi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17680" y="1704960"/>
          <a:ext cx="8439120" cy="499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1704960"/>
                    <a:ext cx="84391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99C6-5215-4006-BF88-783A830622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-Values for Hypothesis Tes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method is “Accept” or Rejec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e method – comput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-val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alue = probability of getting a test result more in favo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what you got from your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ke &lt; 0.01) is convincing evidence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ke &gt; 0.20) indicates lack of evidence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o traditional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j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o not rej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value quantifies confidence about the d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AF1A-B1D3-4A09-B3E1-86025B7C571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Hypothesis Testing in Simul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s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input distributions to drive th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real-world data on corresponding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” a probability distribution to the observed real-worl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data are well represented by the fitted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 s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wo or more “competing” designs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 designs perform the same on output, or test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e design is better than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a “best” model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7BC97-54D0-44F7-9920-22F5AD1713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robability Basic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v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a subset of the sample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by either listing outcomes, “physical” description, or mathematica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enot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, intersection, complementation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obabil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n event is the relative likelihood that it will occur when you do the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al number between 0 and 1 (inclus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– proportion of time the event occurs in many independent repetitions (replications) of the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or may not be able to derive a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C913-C154-4E5B-9042-855A73FF14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robability Basic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properties of prob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ample space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ev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Ø is the empty event (empty set)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Ø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ev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Ø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omplem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mutually exclusive (i.e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Ø), then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b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, the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lies the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 are the individual outcomes in the sample space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02160" y="3263760"/>
          <a:ext cx="139680" cy="3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2160" y="3263760"/>
                    <a:ext cx="1396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676520" y="5486400"/>
            <a:ext cx="1590480" cy="68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9AE3-365C-4399-B027-0B9D8799AA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robability Basic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dition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bability</a:t>
            </a:r>
            <a:r>
              <a:rPr b="1" lang="en-US" sz="2800" spc="-1" strike="noStrike">
                <a:solidFill>
                  <a:srgbClr val="000000"/>
                </a:solidFill>
                <a:latin typeface="MT Symbol"/>
                <a:ea typeface="MT Symbol"/>
              </a:rPr>
              <a:t>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that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red might affect the probability that another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effective sample space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measure “size”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ve to its overlap (if any)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ather than relativ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(assum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depend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i.e., knowing that one event occurs tells you nothing about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mutually exclusive, are they indepen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624400" cy="87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3E4E4-3D1D-414D-A65C-69498A5F0E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andom Variab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way of quantifying, simplifying events and prob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andom varia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RV) is a number whose value is determined by the outcome of an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ly, a function or mapping from the sample space to the real numbers, but can usually define and work with a RV without going all the way back to the sampl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:  RV is a number whose value we don’t know for sure but we’ll usually know something about what it can be or is likely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enoted as capital letters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stic behavior described by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istribution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2E44A-A632-4D7C-8FCE-99DCDD8004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crete vs. Continuous RV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basic “flavors” of RVs, used to represent or model different th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iscre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can take on only certain separated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ossible values could be finite or infi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inu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can take on any real value in some r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ossible values is always infi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could be bounded on both sides, just one side, or n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0B31-45CB-49B7-B794-831DBEA99F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crete Distribu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 a discrete RV with possible values (range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… (finite or infinite lis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obability mass fun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MF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   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, 2,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tement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an event that may or may not happen, so it has a probability of happening, as measured by the P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xpress PMF as numerical list, table, graph, o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equ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sinc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re all distin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57400" y="5181480"/>
            <a:ext cx="1600200" cy="6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E7D9-F5C0-4E52-B81F-61813579B7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turrock</dc:creator>
  <dc:description/>
  <dc:language>en-US</dc:language>
  <cp:lastModifiedBy> </cp:lastModifiedBy>
  <dcterms:modified xsi:type="dcterms:W3CDTF">2003-06-09T20:09:17Z</dcterms:modified>
  <cp:revision>257</cp:revision>
  <dc:subject/>
  <dc:title>Appendix C -- A Refresher on Probability and Statistics</dc:title>
</cp:coreProperties>
</file>