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355320" y="126720"/>
            <a:ext cx="2971800" cy="547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imulation with Aren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—Chapter 6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mediate Modeling and Terminating Statist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607920" y="1396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45C-9D8E-4520-B587-8FD75D190C32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544560" y="8564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81E0BD-D393-427B-AA08-9470E945D1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:  Open up the Sequences module in Model 6.1 and explore some of it, making sure to go all the way down in the dialog-box chain in at least a couple of c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:  Open up the Expressions module in Model 6.1 and explor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:  Open up the Variables module in Model 6.1 and explor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:  Open up the Sets module in Model 6.1 and explore it.  Also open up Process and Arrive (Assign subdialog) modules to preview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:  Open up the Sets module in Model 6.1 and explore it.  Also open up Arrive (Animate subdialog) and Depart modules to preview u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or:  Open module and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B57-7B9F-4E88-8515-083F66AE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C55-9D6D-4C73-97F4-9517DD39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165A-148A-46B6-A38D-6257E8BD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65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67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3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65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67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2DE-1C42-45C1-8C3F-5E45D957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C661-091D-4A03-B615-4F227964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5EEA-874D-485E-8989-A872F608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91AC-ECDE-4DC8-ADC5-5F6539BA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FFE-CA83-4B47-BB2F-B6C77227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7E08-0F86-4CDF-9DDF-AF9B58F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7AFF-7B11-4B49-9DC7-BF9035A8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FEE3-4082-4F34-B75B-7B2AB20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9E0-626D-4F31-867D-5AC2BA9A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22FF-8442-4308-842B-6334451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686C-AD61-4568-B5AD-3D568BA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FB9A-A924-4440-97C0-423E7547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944D-B046-4C29-8615-8630C5C4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165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56720" y="152352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3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165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56720" y="4269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2EE1-6E31-4E8C-B93D-4F661B5D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05F-B83F-4CB2-AFBB-0B13FCF3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E08-01E0-4305-B232-0900707A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7EF-F665-4BE1-8B51-1FA59375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5B8-2F2E-4468-8AD8-31439B61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EB58-69CB-4B8A-BB96-2800D9C4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0" y="4269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FD2-531F-4976-B1EF-4DC3A830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0" y="152352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320" y="4269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F77-D707-4EB1-B610-64B212E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800" spc="-1" strike="noStrike">
                <a:solidFill>
                  <a:srgbClr val="000099"/>
                </a:solidFill>
                <a:latin typeface="Arial"/>
              </a:rPr>
              <a:t>Simulation with Arena</a:t>
            </a: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—Intermediate Modeling </a:t>
            </a:r>
            <a:br>
              <a:rPr sz="800"/>
            </a:br>
            <a:r>
              <a:rPr b="0" lang="en-US" sz="800" spc="-1" strike="noStrike">
                <a:solidFill>
                  <a:srgbClr val="000099"/>
                </a:solidFill>
                <a:latin typeface="Arial"/>
              </a:rPr>
              <a:t>and Terminating Statistical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2960" y="6280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6/</a:t>
            </a:r>
            <a:fld id="{803CBF04-527E-4611-9315-958B9D22DB5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15328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2960" y="6245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BDCA-2DE2-4DB0-B279-ED785BB92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24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01"/>
              </a:spcBef>
              <a:spcAft>
                <a:spcPts val="201"/>
              </a:spcAft>
              <a:buClr>
                <a:srgbClr val="000099"/>
              </a:buClr>
              <a:buSzPct val="65000"/>
              <a:buFont typeface="CommonBullets" charset="2"/>
              <a:buChar char="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65000"/>
              <a:buFont typeface="CommonBulle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3200" y="18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Capítulo 6</a:t>
            </a: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Modelaje Intermedio y Análisis Estadístico de Sistemas Terminal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R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76C-5335-473D-8CCB-ADF3FF0FF1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t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lemente el Set más común: Recurs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 agrupar recursos distintos—más general que recurso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ntic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 capacidad múlt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ntidades pueden escoger entre miembros del set de recursos de acuerdo a sus preferencias y reg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n animar individualmente los recursos en un set (estado, dibujo) —contrario a recursos con multi-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mbién agrupe secuencias (advanced set) y dibujos en sets para facilidad de acceso (vía número del tipo de part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F45-9D45-4781-ABC6-243159FE34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strategia de modej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mente hay diferentes formas de representar un modelo en un programa de cómpu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enudo depende de los requerimientos de datos y su disponibilid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a y escriba con antelación  como representará las cosas; aquí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s (en un Set) para controlar el flujo de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e las entidades a secuencias y especifique los tiempos de proceso, excepto para la célul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ión (vector) para tiempos de proceso de la célul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ariables para el factor de velocidad (célula 3) y los tiempos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51C-FCCA-44C1-B1E0-A8ED8E9FF0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ntruyendo el modelo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nga los módulos de datos (Secuencias, Expresiones, Variables, Sets, Simulat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a los nombres y valores in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ce los nombres disponibles en las listas “pull-down” para posterior referencia en la edición de los módulos ló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nga los módulos lógicos, haciendo uso de los nombres previamente definidos en los módulos de dato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imació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ortaremos un dibujo de AutoCA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erificación del modelo en Aren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ño estadístico y anális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83A-F48D-48B8-9EFE-4BD89E77FD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ódulo de Secuenci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080" y="159840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a el trayecto de estaciones para los distintos tipos de par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gne nombre a las secuenc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te 1 Plan de Proce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de definir acciones en cada estación como parte de la definición de las secuenci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a atribu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empo de Proces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xcepto en célula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e las secuencias en un set (más adelan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gne una secuencia, indexada por un set, a cada parte que recién ingresa al mode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lvide definir una “salida” a cada secuenc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ena forma (pero no la única) de modelar el probl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233C-09B2-4546-AACD-BE3AF74889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ódulo de Expresion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hos usos potenciales, pero aquí definirá los tiempos de proceso para la célula 1 para cada tipo de par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mbre cada expresión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empos célula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calar, vector, o matriz de 2 dimen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un vector 3x1, un campo para cada tipo de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indexar en el orden correcto—aquí, por número de p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ede ser una expresión 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quí, distribuciones de tiempos de proceso en la célu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ntidades serán indexadas en un vector según su tipo de parte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empo célula 1 (Índice de la Pa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nuevo, ésta no es la única forma de modelar el probl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E7F-A4BD-4AAD-9073-5275905A4B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ódulo de variabl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variables globales y sus valores inici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s expresiones, son globales para 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rio a las expresiones, solo pueden tomar valores numéricos, no así fórmulas u otras variables, expresiones, o atributos (pero el valor numérico puede ser cambiado por una entidad durante la corr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quí, se usará para dos variables diferen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de velocidad en la célula 3:  vect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x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 para índice 1 (máquina nueva), 1.0 para índice 2 (vie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(2) de los tiempos de transferencia de las partes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empo de trans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nuevo, esta no es la única forma de modelar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F24-7093-4B11-B463-0A29FDBD3D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ódulo de Set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upe (nombre e indexe) cosas “similar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sos, colas, estaciones, almacenes, dibujos, contadores, tallies y otros (Secuencia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ede hacer los modelos más generales y “limpios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algunos casos se requiere modelar cosas adecuadamente, como trabajadores (recursos) con unas habilidades diferentes, pero otras en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¡El orden en que se especifican los miembros en el set es crític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quí, haremos sets de recursos, secuencias, dibujos y tall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33D-38E0-44CF-87D4-5A8E958BDC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ódulo de Set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de recurs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dos máquinas distintas en la célul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el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áquinas célul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as listas “pull-down” en los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e en el orden que se construye y se llena e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:  en módulo Process para célula 3 (más adelant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de secuencias (otr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idades de número de tipos de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el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cuencias de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“otros” no hay listas “pull-down”, por lo que tendremos que recordar los nombres asignados en el módulo 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:  en módulo Assign (más adelant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605-F9D2-465A-864B-CDD6E2C291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ódulo de Set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Pictures (dibuj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mostrar la diferenciación de los tipos de partes en la ani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el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os miembro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rt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ye los dibujos en el módulo Simulate (más adelant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:  en módulo Assign (más adelante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F5A4-8B30-4C3F-9B73-519CA6D2DE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imación de las Entidad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mbién define los dibujos de las tres entidades y asocie sus nombres con los miembros del set de dibuj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ble-click en los dibujos “genéricos” de las entidades (círculo de color) localizados en Edit, Entity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ñada un dibujo nuevo o edite los existentes en la 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nombres (o valores) deben estar previamente definidos en lo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667-A44D-46E1-A307-00ACDD155C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Lo que haremos ...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pequeño sistema de producción (Model 6.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y Ex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ción de dibujos 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ció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pul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álisis estadístico de resultados: simulaciones termin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 de tiempo de las simul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plicas e intervalos de confianza (Model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ndo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D68-6F30-4071-BF71-22BBE284B7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Discusión: estructuras de dato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Por qué una Expresión para los tiempos de proceso de la célula 1 en lugar de un atributo asignado en la secuencia, como en las otras célul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uesta:  Solo para mostra uso de las Ex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do haber tratado la célula 1 como las de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mbién se pudo haber usado Expresiones para los tiempos de proceso de las células 3 y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con célula 2:  la parte 2 la visita dos veces con distintas distribuciones de tiempos de proceso, por lo que se debe indicar eso de alguna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más, éste es un modelo muy pequeñ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¡Sea cuidadoso con las estructuras de dato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371-A976-4BC3-AFC0-D9D76252E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Verificació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stema --&gt; Modelo --&gt; “Código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Validació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¿es el modelo = sistem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Verificació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 ¿es el “código” = modelo?  (despulga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realidad:  raras vez podrá verificar por completo, especialmente en modelos gran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99A-CAA1-446C-A205-D1028A505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Verificación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unas técnicas para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intenta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 verific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r mensajes de error (obviam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ción de una sola entidad, caminar sobre la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a en Arrive: Set Max Batches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emplace la distribución del tipo de parte con una con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a el modelo bajo condiciones extr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e el desempeño en la medida de l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a el código generado por SIMAN, archivos .mod y .e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ción de men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/SIMAN/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5BA-BF14-4C37-ACFA-92BDC10E17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álisis estadístico de resultados: sistemas terminal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adas aleatorias llevan a salidas aleatorias (random input, random output - RIR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r una simulación (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qué signific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Fue o no fue esta corrida típ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Variabilidad de corrida a corrida (el mismo modelo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ere análisis estadístico de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co de tiempo de las simula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: Condiciones específicas para el inicio y 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do estable: Corrida larga (técnicamente para siemp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estro modelo: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35C2-F84A-45CE-9B57-3B8B6EB28A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Intervalos de confianza del 95% automáticos, pero solo en texto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 final del reporte de resultados se obtienen intervalos de confianza del 95% como los anteriores, pero solo en formato de texto, solo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ed pide más de una corrida,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ed tiene un módulo Statistics con el tipo Outputs defin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o lo hace para las medidas de desempeño del área Outputs del módulo Statistics y aquellas que por defecto genera Aren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960" y="3575160"/>
            <a:ext cx="861264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entifier             Average    Half-width Minimum    Maximum # Re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art 1.NumberIn         40.050     3.2900     28.000     54.000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art 1.NumberOut        35.150     2.6355     25.000     43.000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art 2.NumberIn         73.200     4.0362     61.000     88.000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art 2.NumberOut        64.000     2.9638     53.000     75.000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art 3.NumberIn         40.850     2.5511     31.000     51.000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Part 3.NumberOut        38.300     2.6478     29.000     49.000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ell 1 Machine.Schedule .84998     .03212     .73103     .96664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ell 2 Machine.Schedule .87320     .03177     .75735     .97124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ell 3 Old.ScheduledUti .87344     .02585     .77682     .94432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ell 3 New.ScheduledUti .86022     .03009     .72842     .95092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urier New"/>
              </a:rPr>
              <a:t>Cell 4 Machine.Schedule .85845     .03381     .71850     .96555    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5E1-ECBF-4EE1-B780-4C451E05204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cho medio y número de corrid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prefieren intervalos de confianza pequeñ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reci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ció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o de confiden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 medio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uede controla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e incrementa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¿pero cuánt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09800" y="4313160"/>
          <a:ext cx="1817640" cy="7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4313160"/>
                    <a:ext cx="181764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267080" y="3657600"/>
          <a:ext cx="2360880" cy="76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657600"/>
                    <a:ext cx="236088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09680" y="2133720"/>
                <a:ext cx="419112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úmero de corridas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edia muestral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=desviación estándar muestral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,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lor crítico de la tabla </m:t>
                        </m:r>
                        <m:r>
                          <m:t xml:space="preserve">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 flipH="1">
            <a:off x="4773600" y="4459320"/>
            <a:ext cx="3532320" cy="658800"/>
          </a:xfrm>
          <a:custGeom>
            <a:avLst/>
            <a:gdLst>
              <a:gd name="textAreaLeft" fmla="*/ 360 w 3532320"/>
              <a:gd name="textAreaRight" fmla="*/ 3533040 w 353232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4495680"/>
            <a:ext cx="2971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Quiere que sea pequeño, dig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h donde h está predefi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734A-17E3-4CE2-91E2-18E1F2B44C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cho medio y número de corrida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a el ancho medio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resuelva pa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mente no se resuelve par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penden 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oximació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em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alor crítico normal correspon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uma que 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ual se mantendrá en muestra may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oximación diferente, pero más fácil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553080" y="1523880"/>
          <a:ext cx="197028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523880"/>
                    <a:ext cx="19702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509920" y="3995640"/>
            <a:ext cx="2158920" cy="6908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819520" y="3962520"/>
          <a:ext cx="14763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962520"/>
                    <a:ext cx="14763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20040" y="3949560"/>
            <a:ext cx="220140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desviación estánd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estral de la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idas“ inicial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5334120"/>
            <a:ext cx="1819440" cy="7221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98600" y="5353200"/>
          <a:ext cx="1041480" cy="6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98600" y="5353200"/>
                    <a:ext cx="10414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791320" y="5334120"/>
            <a:ext cx="2303280" cy="574560"/>
          </a:xfrm>
          <a:prstGeom prst="roundRect">
            <a:avLst>
              <a:gd name="adj" fmla="val 12495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1680" y="5410080"/>
            <a:ext cx="2094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ancho medio de 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rridas ini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8360" y="5367240"/>
            <a:ext cx="2276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rece cuadrátic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orm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cremen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FAA-63D4-45EC-A59F-35B724B321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parando alternativ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mente se busca comparar configuraciones alternativas del sistema, distribuciones, escenarios, análisis de sensibilidad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quí:  Tiempo de transferencia (2 min) suena a “bateo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¿importaría si fuese 1 ó 3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ame estas alternativas A y B en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da general de desempeño: WIP promed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ga dos sets de 20 corridas, para A y para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 cambiar de nombre al los archivos de salida (output files) para poder distinguir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4C0-B466-4C2F-A606-C00D851460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parando alternativa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ú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alyze/Compare 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no hay botó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ada archivos comparables de A y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one Replications: Lum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59080" y="2965320"/>
            <a:ext cx="5556240" cy="327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CCE-64FF-4B4E-B821-03B2F74547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omparando alternativa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ad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25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 i.c. en la diferencia de las medias no incluye 0, por lo que concluimos qu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iste una diferencia estadísticamente significativ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011240" y="1973160"/>
            <a:ext cx="6108840" cy="317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5D2-7BF0-4EEC-8C36-B7B2B8949B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equeño sistema de producción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080" y="3692520"/>
            <a:ext cx="8991360" cy="302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egada de partes, cuatro células, salidas de las par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s 1, 2, y 4: una máquina cada u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 3: dos máqui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ueva 20% más rápid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sito: forma de modelar recurso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ción circular de las célul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partes entran a la izquierda, salen a la derecha, se mueven en sentido horario, todos los tiempos de transferencia = 2 m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176560" y="1473120"/>
          <a:ext cx="465588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6560" y="1473120"/>
                    <a:ext cx="465588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297-B8B2-4041-93CA-709DD090EB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equeño sistema de producción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es tipos distintos de par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mpos entre llegadas (todos los tipos agrupados) ~ expo(13)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% tipo 1, 48% tipo 2, 26% t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da parte sigue una ruta diferente y tiene tiempos de proceso (triangular) distint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: forma de cambiar la ruta de acuerdo con el tipo de parte —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lanes de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90720" y="3886200"/>
          <a:ext cx="6621480" cy="21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62148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BEE-6E43-422F-A16D-573ABCCE03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uencia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ódul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quen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 el panel Advanced Transf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 módulo de da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a el nombre de la secuencia de las estaciones a visit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spcAft>
                <a:spcPts val="275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mente depende del tipo de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spcAft>
                <a:spcPts val="275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pueden asignar atributos y variables en cada estación de la secuencia, los cuales pueden depender del tipo de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spcAft>
                <a:spcPts val="275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el módulo Route, Destination Type, seleccione Sequential (en vez de Station) y la entidad seguirá la secu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spcAft>
                <a:spcPts val="275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be asignar una secuencia para las partes que lo requie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7CC-D4B9-4462-8695-7F5783EA5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cuencia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internamente lleva el registro de las secuencias por medio de atribu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e la secuencia,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ción (donde la entidad está o va),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bajo actual a lo largo de la secuencia,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lmente la entidad llega, se le asigna una secuencia, recorre su ruta y sa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interrumpir la secuencia, hacer saltos hacia delante o atrás (trucul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erde definir la estación de “salida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7D3-A251-46C9-96CE-1AC79A5A9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Variabl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e la re-utilización de los mismos valores in diferentes lug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eden contener solamente valores constantes, pero una entidad puede reasignar el valor de una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ódulo Variables del panel Basic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ódulo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ombres y valores iniciales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ser escalar, vector o matriz de 2 dim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uede incluir aritmética, atributos, otras variables o distribu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CB4-C6D7-4F02-8F37-D568B23AE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Expresione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o similar a las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-utilizar el mismo valor en distintos lugar del mode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fórmula fija o función que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pue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volucrar aritmética, atributos, otras variables y distribuciones - muy gene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 embargo, la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or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expresión no puede cambiar durante la simul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ódulo Expressions en panel Advanced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ódulo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a nombre, forma de las Expre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 ser un escalar, vector o matriz de 2 dim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854-B95A-4F76-99EE-98409DC742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ets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upar objetos similares (recursos, secuencias, colas, otros) bajo un mismo nomb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a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ódulo Sets del panel Basic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ódulo Advanced Set del panel Adv.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iérase  a los objetos en el Set por su nombre original (independiente de la membresía al Set) o por un indicador o índice dentro del 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objeto puede pertenecer a más de un Set (o no estar en ningún Se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pueden hacer prácticamente de cualquier co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spcAft>
                <a:spcPts val="249"/>
              </a:spcAft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mismo Set debe tener el mismo tipo de miemb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797-DE0A-41F1-9380-43E3CC3D86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4T00:30:28Z</dcterms:created>
  <dc:creator>Bernard Farquardt</dc:creator>
  <dc:description/>
  <dc:language>en-US</dc:language>
  <cp:lastModifiedBy>Carlos Saenz</cp:lastModifiedBy>
  <cp:lastPrinted>1996-11-14T04:34:16Z</cp:lastPrinted>
  <dcterms:modified xsi:type="dcterms:W3CDTF">2001-11-07T04:08:54Z</dcterms:modified>
  <cp:revision>324</cp:revision>
  <dc:subject/>
  <dc:title>Simulation with Arena</dc:title>
</cp:coreProperties>
</file>