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2844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95480" y="523800"/>
            <a:ext cx="349272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38400" y="3317760"/>
            <a:ext cx="6806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BF72AC-BE7E-4949-8761-B7E4CB043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6E2D8F-BFB3-43F3-BDC0-2009BDBC4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01960" y="528480"/>
            <a:ext cx="3479760" cy="2610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38400" y="3315960"/>
            <a:ext cx="680688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RO:  Random In, Random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375ADD-FA64-4FED-B384-9F07EADB9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901960" y="528480"/>
            <a:ext cx="3479760" cy="2610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38400" y="3315960"/>
            <a:ext cx="680688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26104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74FE65-783D-41D2-AA43-D9B7E624F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66358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1960" y="528480"/>
            <a:ext cx="3479760" cy="2610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38400" y="3315960"/>
            <a:ext cx="680688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771-B7B6-44DC-94A0-A83D901B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6C9-263E-422F-AE09-C0D516C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60E-05A2-4C3A-972B-20FA96CC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256-8510-4EFA-8CBA-6317D6F2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14EE-50AC-4BEA-9A30-F66DF05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E37-FED8-43EF-BBCA-8496F270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BB6-68A8-4E30-8BA2-8829727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904-E33C-47A6-AEC3-1BABAB9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49F2-F70B-496A-BA99-64FE86BB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988-4B3C-4655-BF3F-E9BC43CB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ECEB-35F1-4BD1-BDCA-E019123D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3D6-2648-46C5-BFD9-E7432EF3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9160" y="655272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apítulo 1 – ¿Qué es Simulació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9E99A9D8-B1ED-4D44-AA89-1F31E0E0450E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de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rontCover" descr=""/>
          <p:cNvPicPr/>
          <p:nvPr/>
        </p:nvPicPr>
        <p:blipFill>
          <a:blip r:embed="rId2"/>
          <a:stretch/>
        </p:blipFill>
        <p:spPr>
          <a:xfrm>
            <a:off x="0" y="6553080"/>
            <a:ext cx="254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b"/>
                </a:solidFill>
                <a:latin typeface="Arial"/>
              </a:rPr>
              <a:t>¿Qué es Simulación?</a:t>
            </a:r>
            <a:endParaRPr b="1" lang="en-US" sz="4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rontCover" descr=""/>
          <p:cNvPicPr/>
          <p:nvPr/>
        </p:nvPicPr>
        <p:blipFill>
          <a:blip r:embed="rId1"/>
          <a:stretch/>
        </p:blipFill>
        <p:spPr>
          <a:xfrm>
            <a:off x="0" y="0"/>
            <a:ext cx="18446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B42-3F9A-4B02-B93A-2154833755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Ventajas de la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Flexibilidad para modelar cosas tal cual son (incluso si son confusas y compleja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vite “mirar donde está la luz” (una moralej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Permite modelar incertidumbre y variabilid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o único que es seguro es que nada es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 peligroso ignorar la variabilidad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lidez d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8120" y="2590920"/>
            <a:ext cx="7369200" cy="22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Miestras usted camina en la oscuridad se encuentra con alguien gateando en el suelo, bajo una de las luces de alumbrado públic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Usted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¿Qué le ocurre?  ¿Le puedo ayudar en algo?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La otra persona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Se me cayeron las llaves del carro y no las puedo encontrar.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Usted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Ah, entonces se le cayeron por aquí?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La otra persona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No, se me cayeron por allá.”  (Señala entre la oscuridad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Usted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Entonces por qué las busca aquí?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La otra persona: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R" sz="1700" spc="-1" strike="noStrike">
                <a:solidFill>
                  <a:srgbClr val="000000"/>
                </a:solidFill>
                <a:latin typeface="Times New Roman"/>
              </a:rPr>
              <a:t>“Porque es aquí donde está la luz.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E93-4898-4641-80A2-47781A94BD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Las malas noticia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No se obtienen respuestas exactas, solo aproxima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ambién es cierto para otros métodos mod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sibles errores por el redondeo del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do a que es un proceso estocástico, sus resultados tienen un component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leato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quiere de diseños estadísticos, así como análisis estadísticos de los exper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proveche técnicas tales como replicabilidad, técnicas de reducción de la var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cuerde:  los métodos estadísticos “tradicionales” no siempre trabaj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DFC-9F7D-4F14-AAC1-D3F420976D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Distintos tipos de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stática vs.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Diná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¿Tiene el tiempo algún impacto en el mode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Cambio-continuo vs.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Cambio-discre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¿Puede el “estado” del sistema cambiar continuamente o solo en puntos discretos en el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eterminístico vs.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Estocásti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¿Es todo seguro o existe incertidu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Modelos más operacional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Dinámicos, Cambio-discreto, Estocá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A22-CDEC-49D7-87BE-646391A2D76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Uso del computador para simular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enguajes de propósito general (FORTRA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edioso, bajo nivel, sujeto muchos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ero, casi flexibilidad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Paquetes de sopor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ubrutinas para procesamiento de listas, registros y avance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e amplia distribución, de amplia m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Hojas de cálcu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r lo general modelo está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cenarios financieros, muestreo de distribuciones, S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9A3-0C94-41FB-AF85-98D3189434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Uso del computador para simular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enguajes de simul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GPSS, SIMSCRIPT, SLAM, SI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pular, de gran uso hoy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quiere de curva de aprendizaje para su uso ef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imuladores de alto ni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uy fáciles, interfaz 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stringidos a sectores específicos (manufactura, comunicationes, servic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Flexibilidad limitada—¿validez del mode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250-472E-4278-BB49-847EDA1DA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¿</a:t>
            </a: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Dónde calza Arena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9880" y="1447920"/>
            <a:ext cx="5141880" cy="4954320"/>
            <a:chOff x="3809880" y="1447920"/>
            <a:chExt cx="5141880" cy="4954320"/>
          </a:xfrm>
        </p:grpSpPr>
        <p:sp>
          <p:nvSpPr>
            <p:cNvPr id="84" name=""/>
            <p:cNvSpPr/>
            <p:nvPr/>
          </p:nvSpPr>
          <p:spPr>
            <a:xfrm>
              <a:off x="3809880" y="1447920"/>
              <a:ext cx="4648320" cy="4954320"/>
            </a:xfrm>
            <a:custGeom>
              <a:avLst/>
              <a:gdLst/>
              <a:ahLst/>
              <a:rect l="l" t="t" r="r" b="b"/>
              <a:pathLst>
                <a:path w="2928" h="3121">
                  <a:moveTo>
                    <a:pt x="0" y="3050"/>
                  </a:moveTo>
                  <a:lnTo>
                    <a:pt x="1" y="3065"/>
                  </a:lnTo>
                  <a:lnTo>
                    <a:pt x="7" y="3080"/>
                  </a:lnTo>
                  <a:lnTo>
                    <a:pt x="16" y="3093"/>
                  </a:lnTo>
                  <a:lnTo>
                    <a:pt x="27" y="3104"/>
                  </a:lnTo>
                  <a:lnTo>
                    <a:pt x="41" y="3113"/>
                  </a:lnTo>
                  <a:lnTo>
                    <a:pt x="55" y="3118"/>
                  </a:lnTo>
                  <a:lnTo>
                    <a:pt x="70" y="3120"/>
                  </a:lnTo>
                  <a:lnTo>
                    <a:pt x="2856" y="3120"/>
                  </a:lnTo>
                  <a:lnTo>
                    <a:pt x="2871" y="3118"/>
                  </a:lnTo>
                  <a:lnTo>
                    <a:pt x="2886" y="3113"/>
                  </a:lnTo>
                  <a:lnTo>
                    <a:pt x="2899" y="3104"/>
                  </a:lnTo>
                  <a:lnTo>
                    <a:pt x="2911" y="3093"/>
                  </a:lnTo>
                  <a:lnTo>
                    <a:pt x="2919" y="3080"/>
                  </a:lnTo>
                  <a:lnTo>
                    <a:pt x="2925" y="3065"/>
                  </a:lnTo>
                  <a:lnTo>
                    <a:pt x="2927" y="3050"/>
                  </a:lnTo>
                  <a:lnTo>
                    <a:pt x="2927" y="69"/>
                  </a:lnTo>
                  <a:lnTo>
                    <a:pt x="2925" y="55"/>
                  </a:lnTo>
                  <a:lnTo>
                    <a:pt x="2919" y="40"/>
                  </a:lnTo>
                  <a:lnTo>
                    <a:pt x="2911" y="27"/>
                  </a:lnTo>
                  <a:lnTo>
                    <a:pt x="2899" y="16"/>
                  </a:lnTo>
                  <a:lnTo>
                    <a:pt x="2886" y="7"/>
                  </a:lnTo>
                  <a:lnTo>
                    <a:pt x="2871" y="1"/>
                  </a:lnTo>
                  <a:lnTo>
                    <a:pt x="2856" y="0"/>
                  </a:lnTo>
                  <a:lnTo>
                    <a:pt x="70" y="0"/>
                  </a:lnTo>
                  <a:lnTo>
                    <a:pt x="55" y="1"/>
                  </a:lnTo>
                  <a:lnTo>
                    <a:pt x="41" y="7"/>
                  </a:lnTo>
                  <a:lnTo>
                    <a:pt x="27" y="16"/>
                  </a:lnTo>
                  <a:lnTo>
                    <a:pt x="16" y="27"/>
                  </a:lnTo>
                  <a:lnTo>
                    <a:pt x="7" y="40"/>
                  </a:lnTo>
                  <a:lnTo>
                    <a:pt x="1" y="55"/>
                  </a:lnTo>
                  <a:lnTo>
                    <a:pt x="0" y="69"/>
                  </a:lnTo>
                  <a:lnTo>
                    <a:pt x="0" y="305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64280" y="3271680"/>
              <a:ext cx="112680" cy="1419480"/>
            </a:xfrm>
            <a:custGeom>
              <a:avLst/>
              <a:gdLst/>
              <a:ahLst/>
              <a:rect l="l" t="t" r="r" b="b"/>
              <a:pathLst>
                <a:path w="71" h="894">
                  <a:moveTo>
                    <a:pt x="0" y="0"/>
                  </a:moveTo>
                  <a:lnTo>
                    <a:pt x="11" y="1"/>
                  </a:lnTo>
                  <a:lnTo>
                    <a:pt x="20" y="6"/>
                  </a:lnTo>
                  <a:lnTo>
                    <a:pt x="28" y="14"/>
                  </a:lnTo>
                  <a:lnTo>
                    <a:pt x="34" y="24"/>
                  </a:lnTo>
                  <a:lnTo>
                    <a:pt x="35" y="34"/>
                  </a:lnTo>
                  <a:lnTo>
                    <a:pt x="35" y="412"/>
                  </a:lnTo>
                  <a:lnTo>
                    <a:pt x="35" y="421"/>
                  </a:lnTo>
                  <a:lnTo>
                    <a:pt x="41" y="432"/>
                  </a:lnTo>
                  <a:lnTo>
                    <a:pt x="49" y="440"/>
                  </a:lnTo>
                  <a:lnTo>
                    <a:pt x="59" y="444"/>
                  </a:lnTo>
                  <a:lnTo>
                    <a:pt x="70" y="446"/>
                  </a:lnTo>
                  <a:lnTo>
                    <a:pt x="59" y="447"/>
                  </a:lnTo>
                  <a:lnTo>
                    <a:pt x="49" y="452"/>
                  </a:lnTo>
                  <a:lnTo>
                    <a:pt x="41" y="461"/>
                  </a:lnTo>
                  <a:lnTo>
                    <a:pt x="35" y="470"/>
                  </a:lnTo>
                  <a:lnTo>
                    <a:pt x="35" y="481"/>
                  </a:lnTo>
                  <a:lnTo>
                    <a:pt x="35" y="857"/>
                  </a:lnTo>
                  <a:lnTo>
                    <a:pt x="34" y="868"/>
                  </a:lnTo>
                  <a:lnTo>
                    <a:pt x="28" y="877"/>
                  </a:lnTo>
                  <a:lnTo>
                    <a:pt x="20" y="886"/>
                  </a:lnTo>
                  <a:lnTo>
                    <a:pt x="11" y="891"/>
                  </a:lnTo>
                  <a:lnTo>
                    <a:pt x="0" y="8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6795720" y="3879720"/>
              <a:ext cx="910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ena Templ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97640" y="3252960"/>
              <a:ext cx="223920" cy="2973240"/>
            </a:xfrm>
            <a:custGeom>
              <a:avLst/>
              <a:gdLst/>
              <a:ahLst/>
              <a:rect l="l" t="t" r="r" b="b"/>
              <a:pathLst>
                <a:path w="141" h="1873">
                  <a:moveTo>
                    <a:pt x="0" y="0"/>
                  </a:moveTo>
                  <a:lnTo>
                    <a:pt x="15" y="1"/>
                  </a:lnTo>
                  <a:lnTo>
                    <a:pt x="30" y="6"/>
                  </a:lnTo>
                  <a:lnTo>
                    <a:pt x="43" y="15"/>
                  </a:lnTo>
                  <a:lnTo>
                    <a:pt x="54" y="25"/>
                  </a:lnTo>
                  <a:lnTo>
                    <a:pt x="63" y="39"/>
                  </a:lnTo>
                  <a:lnTo>
                    <a:pt x="67" y="53"/>
                  </a:lnTo>
                  <a:lnTo>
                    <a:pt x="69" y="68"/>
                  </a:lnTo>
                  <a:lnTo>
                    <a:pt x="69" y="866"/>
                  </a:lnTo>
                  <a:lnTo>
                    <a:pt x="71" y="881"/>
                  </a:lnTo>
                  <a:lnTo>
                    <a:pt x="77" y="896"/>
                  </a:lnTo>
                  <a:lnTo>
                    <a:pt x="85" y="908"/>
                  </a:lnTo>
                  <a:lnTo>
                    <a:pt x="95" y="920"/>
                  </a:lnTo>
                  <a:lnTo>
                    <a:pt x="109" y="929"/>
                  </a:lnTo>
                  <a:lnTo>
                    <a:pt x="124" y="934"/>
                  </a:lnTo>
                  <a:lnTo>
                    <a:pt x="140" y="936"/>
                  </a:lnTo>
                  <a:lnTo>
                    <a:pt x="124" y="937"/>
                  </a:lnTo>
                  <a:lnTo>
                    <a:pt x="109" y="942"/>
                  </a:lnTo>
                  <a:lnTo>
                    <a:pt x="95" y="951"/>
                  </a:lnTo>
                  <a:lnTo>
                    <a:pt x="85" y="962"/>
                  </a:lnTo>
                  <a:lnTo>
                    <a:pt x="77" y="974"/>
                  </a:lnTo>
                  <a:lnTo>
                    <a:pt x="71" y="990"/>
                  </a:lnTo>
                  <a:lnTo>
                    <a:pt x="69" y="1005"/>
                  </a:lnTo>
                  <a:lnTo>
                    <a:pt x="69" y="1802"/>
                  </a:lnTo>
                  <a:lnTo>
                    <a:pt x="67" y="1817"/>
                  </a:lnTo>
                  <a:lnTo>
                    <a:pt x="63" y="1833"/>
                  </a:lnTo>
                  <a:lnTo>
                    <a:pt x="54" y="1845"/>
                  </a:lnTo>
                  <a:lnTo>
                    <a:pt x="43" y="1856"/>
                  </a:lnTo>
                  <a:lnTo>
                    <a:pt x="30" y="1865"/>
                  </a:lnTo>
                  <a:lnTo>
                    <a:pt x="15" y="1870"/>
                  </a:lnTo>
                  <a:lnTo>
                    <a:pt x="0" y="187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7203240" y="4636440"/>
              <a:ext cx="939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ndard Edi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31000" y="1627200"/>
              <a:ext cx="281160" cy="4599000"/>
            </a:xfrm>
            <a:custGeom>
              <a:avLst/>
              <a:gdLst/>
              <a:ahLst/>
              <a:rect l="l" t="t" r="r" b="b"/>
              <a:pathLst>
                <a:path w="177" h="2897">
                  <a:moveTo>
                    <a:pt x="0" y="0"/>
                  </a:moveTo>
                  <a:lnTo>
                    <a:pt x="35" y="0"/>
                  </a:lnTo>
                  <a:lnTo>
                    <a:pt x="50" y="1"/>
                  </a:lnTo>
                  <a:lnTo>
                    <a:pt x="65" y="6"/>
                  </a:lnTo>
                  <a:lnTo>
                    <a:pt x="78" y="14"/>
                  </a:lnTo>
                  <a:lnTo>
                    <a:pt x="89" y="26"/>
                  </a:lnTo>
                  <a:lnTo>
                    <a:pt x="97" y="38"/>
                  </a:lnTo>
                  <a:lnTo>
                    <a:pt x="103" y="54"/>
                  </a:lnTo>
                  <a:lnTo>
                    <a:pt x="105" y="69"/>
                  </a:lnTo>
                  <a:lnTo>
                    <a:pt x="105" y="1378"/>
                  </a:lnTo>
                  <a:lnTo>
                    <a:pt x="107" y="1393"/>
                  </a:lnTo>
                  <a:lnTo>
                    <a:pt x="112" y="1408"/>
                  </a:lnTo>
                  <a:lnTo>
                    <a:pt x="120" y="1421"/>
                  </a:lnTo>
                  <a:lnTo>
                    <a:pt x="132" y="1433"/>
                  </a:lnTo>
                  <a:lnTo>
                    <a:pt x="144" y="1440"/>
                  </a:lnTo>
                  <a:lnTo>
                    <a:pt x="159" y="1446"/>
                  </a:lnTo>
                  <a:lnTo>
                    <a:pt x="176" y="1448"/>
                  </a:lnTo>
                  <a:lnTo>
                    <a:pt x="159" y="1449"/>
                  </a:lnTo>
                  <a:lnTo>
                    <a:pt x="144" y="1455"/>
                  </a:lnTo>
                  <a:lnTo>
                    <a:pt x="132" y="1462"/>
                  </a:lnTo>
                  <a:lnTo>
                    <a:pt x="120" y="1474"/>
                  </a:lnTo>
                  <a:lnTo>
                    <a:pt x="112" y="1487"/>
                  </a:lnTo>
                  <a:lnTo>
                    <a:pt x="107" y="1501"/>
                  </a:lnTo>
                  <a:lnTo>
                    <a:pt x="105" y="1518"/>
                  </a:lnTo>
                  <a:lnTo>
                    <a:pt x="105" y="2826"/>
                  </a:lnTo>
                  <a:lnTo>
                    <a:pt x="103" y="2841"/>
                  </a:lnTo>
                  <a:lnTo>
                    <a:pt x="97" y="2857"/>
                  </a:lnTo>
                  <a:lnTo>
                    <a:pt x="89" y="2869"/>
                  </a:lnTo>
                  <a:lnTo>
                    <a:pt x="78" y="2880"/>
                  </a:lnTo>
                  <a:lnTo>
                    <a:pt x="65" y="2889"/>
                  </a:lnTo>
                  <a:lnTo>
                    <a:pt x="50" y="2894"/>
                  </a:lnTo>
                  <a:lnTo>
                    <a:pt x="35" y="2896"/>
                  </a:lnTo>
                  <a:lnTo>
                    <a:pt x="0" y="289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7524000" y="3821760"/>
              <a:ext cx="10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essional Edi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21680" y="2089080"/>
              <a:ext cx="730080" cy="825480"/>
            </a:xfrm>
            <a:custGeom>
              <a:avLst/>
              <a:gdLst/>
              <a:ahLst/>
              <a:rect l="l" t="t" r="r" b="b"/>
              <a:pathLst>
                <a:path w="460" h="520">
                  <a:moveTo>
                    <a:pt x="69" y="519"/>
                  </a:moveTo>
                  <a:lnTo>
                    <a:pt x="388" y="519"/>
                  </a:lnTo>
                  <a:lnTo>
                    <a:pt x="403" y="517"/>
                  </a:lnTo>
                  <a:lnTo>
                    <a:pt x="417" y="512"/>
                  </a:lnTo>
                  <a:lnTo>
                    <a:pt x="432" y="503"/>
                  </a:lnTo>
                  <a:lnTo>
                    <a:pt x="442" y="492"/>
                  </a:lnTo>
                  <a:lnTo>
                    <a:pt x="451" y="479"/>
                  </a:lnTo>
                  <a:lnTo>
                    <a:pt x="457" y="464"/>
                  </a:lnTo>
                  <a:lnTo>
                    <a:pt x="459" y="449"/>
                  </a:lnTo>
                  <a:lnTo>
                    <a:pt x="459" y="69"/>
                  </a:lnTo>
                  <a:lnTo>
                    <a:pt x="457" y="53"/>
                  </a:lnTo>
                  <a:lnTo>
                    <a:pt x="451" y="38"/>
                  </a:lnTo>
                  <a:lnTo>
                    <a:pt x="442" y="26"/>
                  </a:lnTo>
                  <a:lnTo>
                    <a:pt x="432" y="14"/>
                  </a:lnTo>
                  <a:lnTo>
                    <a:pt x="417" y="5"/>
                  </a:lnTo>
                  <a:lnTo>
                    <a:pt x="403" y="1"/>
                  </a:lnTo>
                  <a:lnTo>
                    <a:pt x="388" y="0"/>
                  </a:lnTo>
                  <a:lnTo>
                    <a:pt x="69" y="0"/>
                  </a:lnTo>
                  <a:lnTo>
                    <a:pt x="53" y="1"/>
                  </a:lnTo>
                  <a:lnTo>
                    <a:pt x="40" y="5"/>
                  </a:lnTo>
                  <a:lnTo>
                    <a:pt x="25" y="14"/>
                  </a:lnTo>
                  <a:lnTo>
                    <a:pt x="14" y="26"/>
                  </a:lnTo>
                  <a:lnTo>
                    <a:pt x="6" y="38"/>
                  </a:lnTo>
                  <a:lnTo>
                    <a:pt x="1" y="53"/>
                  </a:lnTo>
                  <a:lnTo>
                    <a:pt x="0" y="69"/>
                  </a:lnTo>
                  <a:lnTo>
                    <a:pt x="0" y="449"/>
                  </a:lnTo>
                  <a:lnTo>
                    <a:pt x="1" y="464"/>
                  </a:lnTo>
                  <a:lnTo>
                    <a:pt x="6" y="479"/>
                  </a:lnTo>
                  <a:lnTo>
                    <a:pt x="14" y="492"/>
                  </a:lnTo>
                  <a:lnTo>
                    <a:pt x="25" y="503"/>
                  </a:lnTo>
                  <a:lnTo>
                    <a:pt x="40" y="512"/>
                  </a:lnTo>
                  <a:lnTo>
                    <a:pt x="53" y="517"/>
                  </a:lnTo>
                  <a:lnTo>
                    <a:pt x="69" y="5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77040" y="2043000"/>
              <a:ext cx="729000" cy="827280"/>
            </a:xfrm>
            <a:custGeom>
              <a:avLst/>
              <a:gdLst/>
              <a:ahLst/>
              <a:rect l="l" t="t" r="r" b="b"/>
              <a:pathLst>
                <a:path w="459" h="521">
                  <a:moveTo>
                    <a:pt x="70" y="520"/>
                  </a:moveTo>
                  <a:lnTo>
                    <a:pt x="387" y="520"/>
                  </a:lnTo>
                  <a:lnTo>
                    <a:pt x="402" y="518"/>
                  </a:lnTo>
                  <a:lnTo>
                    <a:pt x="418" y="513"/>
                  </a:lnTo>
                  <a:lnTo>
                    <a:pt x="431" y="505"/>
                  </a:lnTo>
                  <a:lnTo>
                    <a:pt x="442" y="493"/>
                  </a:lnTo>
                  <a:lnTo>
                    <a:pt x="450" y="481"/>
                  </a:lnTo>
                  <a:lnTo>
                    <a:pt x="456" y="465"/>
                  </a:lnTo>
                  <a:lnTo>
                    <a:pt x="458" y="450"/>
                  </a:lnTo>
                  <a:lnTo>
                    <a:pt x="458" y="69"/>
                  </a:lnTo>
                  <a:lnTo>
                    <a:pt x="456" y="54"/>
                  </a:lnTo>
                  <a:lnTo>
                    <a:pt x="450" y="38"/>
                  </a:lnTo>
                  <a:lnTo>
                    <a:pt x="442" y="26"/>
                  </a:lnTo>
                  <a:lnTo>
                    <a:pt x="431" y="14"/>
                  </a:lnTo>
                  <a:lnTo>
                    <a:pt x="418" y="6"/>
                  </a:lnTo>
                  <a:lnTo>
                    <a:pt x="402" y="1"/>
                  </a:lnTo>
                  <a:lnTo>
                    <a:pt x="387" y="0"/>
                  </a:lnTo>
                  <a:lnTo>
                    <a:pt x="70" y="0"/>
                  </a:lnTo>
                  <a:lnTo>
                    <a:pt x="53" y="1"/>
                  </a:lnTo>
                  <a:lnTo>
                    <a:pt x="39" y="6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7" y="38"/>
                  </a:lnTo>
                  <a:lnTo>
                    <a:pt x="1" y="54"/>
                  </a:lnTo>
                  <a:lnTo>
                    <a:pt x="0" y="69"/>
                  </a:lnTo>
                  <a:lnTo>
                    <a:pt x="0" y="450"/>
                  </a:lnTo>
                  <a:lnTo>
                    <a:pt x="1" y="465"/>
                  </a:lnTo>
                  <a:lnTo>
                    <a:pt x="7" y="481"/>
                  </a:lnTo>
                  <a:lnTo>
                    <a:pt x="14" y="493"/>
                  </a:lnTo>
                  <a:lnTo>
                    <a:pt x="26" y="505"/>
                  </a:lnTo>
                  <a:lnTo>
                    <a:pt x="39" y="513"/>
                  </a:lnTo>
                  <a:lnTo>
                    <a:pt x="53" y="518"/>
                  </a:lnTo>
                  <a:lnTo>
                    <a:pt x="70" y="5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23400" y="2046240"/>
              <a:ext cx="549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ing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23400" y="2163600"/>
              <a:ext cx="825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raphical us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23040" y="2282760"/>
              <a:ext cx="57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21600" y="2398680"/>
              <a:ext cx="7610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sistent 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22680" y="2517840"/>
              <a:ext cx="703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y level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124480" y="2635200"/>
              <a:ext cx="597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0800" y="1627200"/>
              <a:ext cx="558720" cy="222120"/>
            </a:xfrm>
            <a:custGeom>
              <a:avLst/>
              <a:gdLst/>
              <a:ahLst/>
              <a:rect l="l" t="t" r="r" b="b"/>
              <a:pathLst>
                <a:path w="352" h="140">
                  <a:moveTo>
                    <a:pt x="0" y="139"/>
                  </a:moveTo>
                  <a:lnTo>
                    <a:pt x="351" y="139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13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9240" y="1620720"/>
              <a:ext cx="4838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gh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60800" y="3695760"/>
              <a:ext cx="558720" cy="441360"/>
            </a:xfrm>
            <a:custGeom>
              <a:avLst/>
              <a:gdLst/>
              <a:ahLst/>
              <a:rect l="l" t="t" r="r" b="b"/>
              <a:pathLst>
                <a:path w="352" h="278">
                  <a:moveTo>
                    <a:pt x="0" y="277"/>
                  </a:moveTo>
                  <a:lnTo>
                    <a:pt x="351" y="277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2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60800" y="3740040"/>
              <a:ext cx="543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vel o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35240" y="3857760"/>
              <a:ext cx="597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60800" y="5948280"/>
              <a:ext cx="558720" cy="220680"/>
            </a:xfrm>
            <a:custGeom>
              <a:avLst/>
              <a:gdLst/>
              <a:ahLst/>
              <a:rect l="l" t="t" r="r" b="b"/>
              <a:pathLst>
                <a:path w="352" h="139">
                  <a:moveTo>
                    <a:pt x="0" y="138"/>
                  </a:moveTo>
                  <a:lnTo>
                    <a:pt x="351" y="138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0" y="13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00400" y="5940360"/>
              <a:ext cx="460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38720" y="1909800"/>
              <a:ext cx="0" cy="178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05240" y="184788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38720" y="4135320"/>
              <a:ext cx="0" cy="175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05240" y="5881680"/>
              <a:ext cx="71640" cy="6840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44" y="0"/>
                  </a:moveTo>
                  <a:lnTo>
                    <a:pt x="22" y="42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64280" y="4792680"/>
              <a:ext cx="112680" cy="604800"/>
            </a:xfrm>
            <a:custGeom>
              <a:avLst/>
              <a:gdLst/>
              <a:ahLst/>
              <a:rect l="l" t="t" r="r" b="b"/>
              <a:pathLst>
                <a:path w="71" h="381">
                  <a:moveTo>
                    <a:pt x="0" y="0"/>
                  </a:moveTo>
                  <a:lnTo>
                    <a:pt x="11" y="1"/>
                  </a:lnTo>
                  <a:lnTo>
                    <a:pt x="20" y="5"/>
                  </a:lnTo>
                  <a:lnTo>
                    <a:pt x="28" y="14"/>
                  </a:lnTo>
                  <a:lnTo>
                    <a:pt x="34" y="24"/>
                  </a:lnTo>
                  <a:lnTo>
                    <a:pt x="35" y="34"/>
                  </a:lnTo>
                  <a:lnTo>
                    <a:pt x="35" y="154"/>
                  </a:lnTo>
                  <a:lnTo>
                    <a:pt x="35" y="166"/>
                  </a:lnTo>
                  <a:lnTo>
                    <a:pt x="41" y="175"/>
                  </a:lnTo>
                  <a:lnTo>
                    <a:pt x="49" y="183"/>
                  </a:lnTo>
                  <a:lnTo>
                    <a:pt x="59" y="188"/>
                  </a:lnTo>
                  <a:lnTo>
                    <a:pt x="70" y="190"/>
                  </a:lnTo>
                  <a:lnTo>
                    <a:pt x="59" y="192"/>
                  </a:lnTo>
                  <a:lnTo>
                    <a:pt x="49" y="196"/>
                  </a:lnTo>
                  <a:lnTo>
                    <a:pt x="41" y="204"/>
                  </a:lnTo>
                  <a:lnTo>
                    <a:pt x="35" y="214"/>
                  </a:lnTo>
                  <a:lnTo>
                    <a:pt x="35" y="224"/>
                  </a:lnTo>
                  <a:lnTo>
                    <a:pt x="35" y="346"/>
                  </a:lnTo>
                  <a:lnTo>
                    <a:pt x="34" y="355"/>
                  </a:lnTo>
                  <a:lnTo>
                    <a:pt x="28" y="366"/>
                  </a:lnTo>
                  <a:lnTo>
                    <a:pt x="20" y="373"/>
                  </a:lnTo>
                  <a:lnTo>
                    <a:pt x="11" y="378"/>
                  </a:lnTo>
                  <a:lnTo>
                    <a:pt x="0" y="3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6765840" y="4992480"/>
              <a:ext cx="963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MAN Templa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64280" y="2481120"/>
              <a:ext cx="112680" cy="716040"/>
            </a:xfrm>
            <a:custGeom>
              <a:avLst/>
              <a:gdLst/>
              <a:ahLst/>
              <a:rect l="l" t="t" r="r" b="b"/>
              <a:pathLst>
                <a:path w="71" h="451">
                  <a:moveTo>
                    <a:pt x="0" y="0"/>
                  </a:moveTo>
                  <a:lnTo>
                    <a:pt x="11" y="1"/>
                  </a:lnTo>
                  <a:lnTo>
                    <a:pt x="20" y="6"/>
                  </a:lnTo>
                  <a:lnTo>
                    <a:pt x="28" y="15"/>
                  </a:lnTo>
                  <a:lnTo>
                    <a:pt x="34" y="24"/>
                  </a:lnTo>
                  <a:lnTo>
                    <a:pt x="35" y="35"/>
                  </a:lnTo>
                  <a:lnTo>
                    <a:pt x="35" y="189"/>
                  </a:lnTo>
                  <a:lnTo>
                    <a:pt x="35" y="201"/>
                  </a:lnTo>
                  <a:lnTo>
                    <a:pt x="41" y="210"/>
                  </a:lnTo>
                  <a:lnTo>
                    <a:pt x="49" y="218"/>
                  </a:lnTo>
                  <a:lnTo>
                    <a:pt x="59" y="223"/>
                  </a:lnTo>
                  <a:lnTo>
                    <a:pt x="70" y="225"/>
                  </a:lnTo>
                  <a:lnTo>
                    <a:pt x="59" y="227"/>
                  </a:lnTo>
                  <a:lnTo>
                    <a:pt x="49" y="231"/>
                  </a:lnTo>
                  <a:lnTo>
                    <a:pt x="41" y="238"/>
                  </a:lnTo>
                  <a:lnTo>
                    <a:pt x="35" y="249"/>
                  </a:lnTo>
                  <a:lnTo>
                    <a:pt x="35" y="259"/>
                  </a:lnTo>
                  <a:lnTo>
                    <a:pt x="35" y="415"/>
                  </a:lnTo>
                  <a:lnTo>
                    <a:pt x="34" y="425"/>
                  </a:lnTo>
                  <a:lnTo>
                    <a:pt x="28" y="435"/>
                  </a:lnTo>
                  <a:lnTo>
                    <a:pt x="20" y="444"/>
                  </a:lnTo>
                  <a:lnTo>
                    <a:pt x="11" y="448"/>
                  </a:lnTo>
                  <a:lnTo>
                    <a:pt x="0" y="45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6759720" y="2737440"/>
              <a:ext cx="975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rtical Solut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73600" y="1673280"/>
              <a:ext cx="2225520" cy="716040"/>
            </a:xfrm>
            <a:custGeom>
              <a:avLst/>
              <a:gdLst/>
              <a:ahLst/>
              <a:rect l="l" t="t" r="r" b="b"/>
              <a:pathLst>
                <a:path w="1402" h="451">
                  <a:moveTo>
                    <a:pt x="0" y="450"/>
                  </a:moveTo>
                  <a:lnTo>
                    <a:pt x="1401" y="450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4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30760" y="1627200"/>
              <a:ext cx="2222640" cy="717480"/>
            </a:xfrm>
            <a:custGeom>
              <a:avLst/>
              <a:gdLst/>
              <a:ahLst/>
              <a:rect l="l" t="t" r="r" b="b"/>
              <a:pathLst>
                <a:path w="1400" h="452">
                  <a:moveTo>
                    <a:pt x="0" y="451"/>
                  </a:moveTo>
                  <a:lnTo>
                    <a:pt x="1399" y="451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4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73880" y="1635120"/>
              <a:ext cx="1355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-Created 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9200" y="1752480"/>
              <a:ext cx="1506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only used constru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0" y="1871640"/>
              <a:ext cx="1579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any-specific process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9200" y="1989000"/>
              <a:ext cx="1556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any-specific 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73160" y="2104920"/>
              <a:ext cx="437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3600" y="2544840"/>
              <a:ext cx="2225520" cy="628560"/>
            </a:xfrm>
            <a:custGeom>
              <a:avLst/>
              <a:gdLst/>
              <a:ahLst/>
              <a:rect l="l" t="t" r="r" b="b"/>
              <a:pathLst>
                <a:path w="1402" h="396">
                  <a:moveTo>
                    <a:pt x="0" y="395"/>
                  </a:moveTo>
                  <a:lnTo>
                    <a:pt x="1401" y="395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3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30760" y="2503440"/>
              <a:ext cx="2222640" cy="625680"/>
            </a:xfrm>
            <a:custGeom>
              <a:avLst/>
              <a:gdLst/>
              <a:ahLst/>
              <a:rect l="l" t="t" r="r" b="b"/>
              <a:pathLst>
                <a:path w="1400" h="394">
                  <a:moveTo>
                    <a:pt x="0" y="393"/>
                  </a:moveTo>
                  <a:lnTo>
                    <a:pt x="1399" y="393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39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70280" y="2523960"/>
              <a:ext cx="17136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plication Solution Templat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73520" y="2639880"/>
              <a:ext cx="27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59920" y="2639880"/>
              <a:ext cx="524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l$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2800" y="2759040"/>
              <a:ext cx="573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$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73160" y="2873520"/>
              <a:ext cx="437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73600" y="3330720"/>
              <a:ext cx="2225520" cy="626760"/>
            </a:xfrm>
            <a:custGeom>
              <a:avLst/>
              <a:gdLst/>
              <a:ahLst/>
              <a:rect l="l" t="t" r="r" b="b"/>
              <a:pathLst>
                <a:path w="1402" h="395">
                  <a:moveTo>
                    <a:pt x="0" y="394"/>
                  </a:moveTo>
                  <a:lnTo>
                    <a:pt x="1401" y="394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3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30760" y="3287880"/>
              <a:ext cx="2222640" cy="625320"/>
            </a:xfrm>
            <a:custGeom>
              <a:avLst/>
              <a:gdLst/>
              <a:ahLst/>
              <a:rect l="l" t="t" r="r" b="b"/>
              <a:pathLst>
                <a:path w="1400" h="394">
                  <a:moveTo>
                    <a:pt x="0" y="393"/>
                  </a:moveTo>
                  <a:lnTo>
                    <a:pt x="1399" y="393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39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72080" y="3308400"/>
              <a:ext cx="930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mon Pa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73520" y="3422520"/>
              <a:ext cx="27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55240" y="3422520"/>
              <a:ext cx="179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ny common modeling construc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67400" y="3541680"/>
              <a:ext cx="1571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ry accessible, easy to u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71360" y="3660840"/>
              <a:ext cx="1231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asonable flexi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73600" y="4121280"/>
              <a:ext cx="2225520" cy="552240"/>
            </a:xfrm>
            <a:custGeom>
              <a:avLst/>
              <a:gdLst/>
              <a:ahLst/>
              <a:rect l="l" t="t" r="r" b="b"/>
              <a:pathLst>
                <a:path w="1402" h="348">
                  <a:moveTo>
                    <a:pt x="0" y="347"/>
                  </a:moveTo>
                  <a:lnTo>
                    <a:pt x="1401" y="347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3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30760" y="4078440"/>
              <a:ext cx="2222640" cy="550800"/>
            </a:xfrm>
            <a:custGeom>
              <a:avLst/>
              <a:gdLst/>
              <a:ahLst/>
              <a:rect l="l" t="t" r="r" b="b"/>
              <a:pathLst>
                <a:path w="1400" h="347">
                  <a:moveTo>
                    <a:pt x="0" y="346"/>
                  </a:moveTo>
                  <a:lnTo>
                    <a:pt x="1399" y="346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3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1720" y="4118040"/>
              <a:ext cx="1399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upport, Transfer Pane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4600" y="423720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7520" y="4237200"/>
              <a:ext cx="224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to more detailed modeling for grea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0640" y="4351320"/>
              <a:ext cx="747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lexi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3600" y="4857840"/>
              <a:ext cx="2225520" cy="550800"/>
            </a:xfrm>
            <a:custGeom>
              <a:avLst/>
              <a:gdLst/>
              <a:ahLst/>
              <a:rect l="l" t="t" r="r" b="b"/>
              <a:pathLst>
                <a:path w="1402" h="347">
                  <a:moveTo>
                    <a:pt x="0" y="346"/>
                  </a:moveTo>
                  <a:lnTo>
                    <a:pt x="1401" y="346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3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0760" y="4813200"/>
              <a:ext cx="2222640" cy="550800"/>
            </a:xfrm>
            <a:custGeom>
              <a:avLst/>
              <a:gdLst/>
              <a:ahLst/>
              <a:rect l="l" t="t" r="r" b="b"/>
              <a:pathLst>
                <a:path w="1400" h="347">
                  <a:moveTo>
                    <a:pt x="0" y="346"/>
                  </a:moveTo>
                  <a:lnTo>
                    <a:pt x="1399" y="346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34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1360" y="4856040"/>
              <a:ext cx="13888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locks, Elements Pane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4600" y="4973760"/>
              <a:ext cx="2430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25000" y="4973760"/>
              <a:ext cx="2044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ll the flexibility of the SIMAN simul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72800" y="5089680"/>
              <a:ext cx="776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73600" y="5586480"/>
              <a:ext cx="2225520" cy="628560"/>
            </a:xfrm>
            <a:custGeom>
              <a:avLst/>
              <a:gdLst/>
              <a:ahLst/>
              <a:rect l="l" t="t" r="r" b="b"/>
              <a:pathLst>
                <a:path w="1402" h="396">
                  <a:moveTo>
                    <a:pt x="0" y="395"/>
                  </a:moveTo>
                  <a:lnTo>
                    <a:pt x="1401" y="395"/>
                  </a:lnTo>
                  <a:lnTo>
                    <a:pt x="1401" y="0"/>
                  </a:lnTo>
                  <a:lnTo>
                    <a:pt x="0" y="0"/>
                  </a:lnTo>
                  <a:lnTo>
                    <a:pt x="0" y="3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30760" y="5541840"/>
              <a:ext cx="2222640" cy="627120"/>
            </a:xfrm>
            <a:custGeom>
              <a:avLst/>
              <a:gdLst/>
              <a:ahLst/>
              <a:rect l="l" t="t" r="r" b="b"/>
              <a:pathLst>
                <a:path w="1400" h="395">
                  <a:moveTo>
                    <a:pt x="0" y="394"/>
                  </a:moveTo>
                  <a:lnTo>
                    <a:pt x="1399" y="394"/>
                  </a:lnTo>
                  <a:lnTo>
                    <a:pt x="1399" y="0"/>
                  </a:lnTo>
                  <a:lnTo>
                    <a:pt x="0" y="0"/>
                  </a:lnTo>
                  <a:lnTo>
                    <a:pt x="0" y="39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71000" y="5562720"/>
              <a:ext cx="2332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er-Written Visual Basic, C/C++, FORTR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74600" y="5678640"/>
              <a:ext cx="439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73520" y="5797440"/>
              <a:ext cx="27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55240" y="5797440"/>
              <a:ext cx="1273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he ultimate in flexibili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71000" y="5916600"/>
              <a:ext cx="189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/C++/FORTRAN requires compil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37335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Estructura jerárqu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Míltiples nileveles de model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ueden combinar diferentes niveles de modelaje en cada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Generalmente empiezan alto y bajan según se vaya requiri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Obtenga la facilidad de uso de los simuladores sin perder flexibilidad en los mode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BF0-2F24-4395-A5F6-42BA6E2966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¿Cuándo se usa la simulación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os usos de la simulación han evolucionado con el hardware y softwa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os primeros años (1950s-196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Herramienta especializada de alto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quería de grandes computadores y capacitación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asi todo hecho en FORTRAN (o incluso Ensambl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costo de proceso llegaba a precios tan altos como $1000 la hora en un computador inferior a un AT-2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F6E-B3AD-4A22-A39F-A0903834FF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¿Cuándo se usa la simulación?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os años de formación (1970s- inicios 198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os computadores se hicieron más rápidos y ba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e reconoce más ampliamente el valor de la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software de simulación es mejorado, pero todavía se requiere aprender y utilizar lenguajes de progra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munmente empleada para limpiar “desastres” en la industria automovilística y espa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lanta de carros; alta demanda por un modelo espec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Línea con bajo 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imulado, se identifica 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La demanda cayó—la simulación llegó muy t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A0E-F549-4F7D-9499-2AF0003E7E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¿Cuándo se usa la simulación?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l pasado reciente (finales de los 80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der de los micro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e expande el software a interfaz gráfica, an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yor acceptación y más 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Aplicaciones de manufactura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entr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rocesos de negoci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odavía empleado principalmente en grandes compañ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n múltiples ocasiones una simulación es parte de los requisitos de diseño u operación de la p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BE3-3389-46CB-98E8-1FD8F481ED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¿Cuándo se usa la simulación?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l presen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liferación en empresas de menor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e está transformando en una herramient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e utiliza cada vez al inicio de la etapa de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ntrol en tiempo-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l futu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xplotar la interoperabilidad de los sistemas oper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emplates” o machotes especializados para industrias y 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utomatización del diseño y análisis estad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69F-A4D0-41AA-BDC5-64C6809B2F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Simulación es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Simulación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– término muy amplio – métodos y aplicaciones para imitar o representar sistemas reales, usualmente mediante una computador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plica en muchos casos y empresa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Involucra un modelo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validez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No obtiene soluciones analíti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No se obtienen resultados exactos (ma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ermite analizar sistema reales complejos (bue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a respuesta aproximada al problema exacto es mejor que la respuesta exacta al problema apr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Considerada una de las herramientas de modeleje más útiles y poderosa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AB29-2E4C-4870-8EB7-CB5A1C7773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stema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– conjunto de elementos que funcionan juntos para el logro de un objetivo, ya sea a nivel real o planead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jemplo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planta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 Banco u otra operación de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operación de Transporte/logística/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Hospital (sala de emergencias, operaciones, admis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Red de cómp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Una autop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roceso de negocios (una oficina asegurado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istema jud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lanta quí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Restaurante de comida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uper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C10-9B78-40EB-AB94-2CAA09FDCA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¿Ensayar en vivo con el sistema?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studie el sistema – mida, mejore, diseñe y contro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dría simplemente jugar con el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Ventaja </a:t>
            </a:r>
            <a:r>
              <a:rPr b="0" lang="es-C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estamos valorando directamente el sistem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n ocasiones resulta imposible o impráctico hacerlo con el sistema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l sistema no ex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odría interrumpir el proceso regular, ser muy caro o pelig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C9D7-00CA-456F-9385-FC41C972C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Modelo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Modelo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– conjunto de supuestos y aproximaciones de cómo opera el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studie el modelo en lugar del sistema real ... Generalmente mucho más fácil, rápido, barato y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uede evaluar gran variedad de ideas con 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ometa sus errores en la computadora, donde no cuenta, en lugar de en el sistema real, donde SÍ cue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 menudo ya solo la construcción del modelo nos instruye sobre el proceso, independientemente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ntenga en menta la validez del modelo (aplica para todo tipo, no solo la simul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92CF-1F3B-495C-890F-657A8F5BB2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ipos de Modelo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Físico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icónico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delos a escala de sistemas de manejo de ma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aqueta de un edi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imuladores de v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Lógico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matemático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proximaciones y supuestos del funcionamiento de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r lo general representado mediante programas para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Juegue con el programa para evaluar escenarios, obtener resultados y aprender sobre el comportamiento d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96E9-738C-49DF-8EAD-5D6B198B9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studiando modelos lógico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i el modelo es suficientemente simple, utilice matemáticas tradicionales ... se obtienen resultados exac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eoría de c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cuaciones difer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ción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in embargo, un sistema analítico puede involucrar muchos supuestos simplificadores que atenten contra la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validez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del modelo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 menudo un sistema complejo requiere un modelo complejo, y los sistemas analíticos no aplican, ... ¿entonces que podemos hac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08C-44E4-491D-BDA2-CEEA9D7F5C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por computadora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n términos amplios, la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simulación por computadora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se refiere a métodos para estudiar una amplia gama de sistemas de la vida r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tilice una computadora para la evaluación nu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tilice software para imitar las operaciones y características del sistemas a través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n la práctica, es un proceso de diseño y creación de modelos computadorizados para  experimentar con ell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Verdadero poder</a:t>
            </a: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plicable a sistema complej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a simulación puede manejar modelos complejos ya que no aspira a soluciones analíti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854-8615-4413-8280-456D0BBE6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opularidad de la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n la actualidad tanto profesionales graduados con posgrados en investigación de operaciones, así como grandes compañías consideran a la simulación como una de las técnicas más valiosas, junto con otras com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nálisis estad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nó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ción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gramación PERT/C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14D-F9E7-43F2-8D82-1656E43796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adowski</dc:creator>
  <dc:description/>
  <dc:language>en-US</dc:language>
  <cp:lastModifiedBy>Carlos Saenz</cp:lastModifiedBy>
  <dcterms:modified xsi:type="dcterms:W3CDTF">2002-09-15T05:03:41Z</dcterms:modified>
  <cp:revision>60</cp:revision>
  <dc:subject/>
  <dc:title>Chapter 1 -- What is Simulation?</dc:title>
</cp:coreProperties>
</file>