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9283700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A287-A886-48FD-936D-B667DE7BA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396540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6C52-A1A5-41D6-89E9-D5087C11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FAB5-9101-4511-85BE-046B3B1A0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4E6E-900B-4E85-BDE8-02CB2746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F290-E8DF-49AC-B6B9-108A96B8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DD8A-089C-4033-A03B-F7EEE339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B38D-05F5-4E37-9304-82965EF0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76B1-3E05-4A80-9F8F-5BDF7C47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2E38-9ABF-4205-B8AF-DCA9BF07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D61A-ABBB-4CA0-9F4B-0D668E7B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B7E1-9596-4069-9209-0982FA07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0966-CF36-45C4-A403-783B7EFB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b"/>
                </a:solidFill>
                <a:latin typeface="Arial"/>
              </a:rPr>
              <a:t>Simulation with Ar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Chapter 7 – Entity Trans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19760" y="655272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Slide </a:t>
            </a:r>
            <a:fld id="{4FB3BD00-DE0C-484B-A7C9-DFA84A8D251F}" type="slidenum">
              <a:rPr b="0" lang="en-US" sz="1400" spc="-1" strike="noStrike">
                <a:solidFill>
                  <a:srgbClr val="00009b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 of 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12600">
            <a:solidFill>
              <a:srgbClr val="0000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0000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FrontCover" descr=""/>
          <p:cNvPicPr/>
          <p:nvPr/>
        </p:nvPicPr>
        <p:blipFill>
          <a:blip r:embed="rId2"/>
          <a:stretch/>
        </p:blipFill>
        <p:spPr>
          <a:xfrm>
            <a:off x="0" y="6553080"/>
            <a:ext cx="25416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b"/>
                </a:solidFill>
                <a:latin typeface="Arial"/>
              </a:rPr>
              <a:t>Entity Transfer</a:t>
            </a:r>
            <a:endParaRPr b="1" lang="en-US" sz="44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FrontCover" descr=""/>
          <p:cNvPicPr/>
          <p:nvPr/>
        </p:nvPicPr>
        <p:blipFill>
          <a:blip r:embed="rId1"/>
          <a:stretch/>
        </p:blipFill>
        <p:spPr>
          <a:xfrm>
            <a:off x="0" y="0"/>
            <a:ext cx="184644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461B-3B9C-4ED9-9740-11D1AD3B2F2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he Small Manufacturing System with Transporter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Transporter in Transporter data module (Advanced transfer pane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apacity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elocity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the Distance Set (later), Units = Per Minute, Initial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Mind the un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consistency here, in Distance Set (l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imation picture f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a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ranspor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er button     , Animate Transfer too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r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ictures for Idle, Busy, Inactiv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or copy from .plb picture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de point (details in bo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 it anywhere in flowchart view (hidden during ru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505320" y="4343400"/>
            <a:ext cx="304560" cy="27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5C45-94C8-4424-B04F-DFE3769DD6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he Small Manufacturing System with Transporter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est 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a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modify existing Leave modu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.25 Min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loa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 Out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quest Transpo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er Name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Rule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mallest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es when &gt; 1 transporter i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:  Cyclic, Random, Preferred Order, Largest Distance (??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Attribute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rt #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emember which cart … for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Type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ime disappears … determined by Velocity, Distances (l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on Type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ead of Leave: Request-Delay-Trans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omplex, more flexible – book has details,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3427-4DD6-4512-9A02-891C40021A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he Small Manufacturing System with Transporter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 the Cart – modify existing Enter modu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.25 Min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unloa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 In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ee Transpo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er Name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Number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rt #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ribute of part 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ead of Enter: Station-Delay-Fr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omplex, more flexible – book has details,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7727-DECA-4E72-A843-A669CE13C2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Distances for Transporter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contents of Distance Se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art.Dist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ances (in feet) moved by part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nk cells: part movements that don’t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er these data in Distance data module (Advanced Transfer pane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rt.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ons button, add 11 rows with Beginning Station, Ending Station, Distance for abo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 is implied; could be asym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4876920" cy="1442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96080" y="2819520"/>
            <a:ext cx="838440" cy="30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nits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772400" y="5562720"/>
            <a:ext cx="838080" cy="30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nits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05720" y="6019920"/>
            <a:ext cx="2209680" cy="30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hy are there 25 rows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15F5-52B2-4427-99C0-2DE829E68A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Animating Transporter Movement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distances to ani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ete all the old Route Path animation obj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leave the Station ani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animated transporter distances with Distance button      , Animate Transfer toolb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log, placement similar to Rout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r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rt.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in Beginning Station marker, intermediate clicks, Ending Station ma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for Rotate, F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, Snap to help place animated transporter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352680" y="3200400"/>
            <a:ext cx="381240" cy="35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3CD8-58D8-451D-B94A-97227DA672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Parking Areas for Transporter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imate transporters when they’re fr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king button      , Animate Transfer toolb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a Queue animation – Point vs. Line, Shift, Ro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sor becomes cross hairs, click near lower left of Station marker to start, click for first Point or head of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licks for more Points (double-click to end), or second click to end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enough points/space for all transporters (2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for all Stations where Transporters could be fr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457200" cy="371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D459-CD90-4670-81D8-280B84581D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More Distances </a:t>
            </a:r>
            <a:r>
              <a:rPr b="0" lang="en-US" sz="2800" spc="-1" strike="noStrike">
                <a:solidFill>
                  <a:srgbClr val="00009b"/>
                </a:solidFill>
                <a:latin typeface="Arial"/>
              </a:rPr>
              <a:t>— 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Empty Transporter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ove Distances incomple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ly for part movements along their seque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porters must also move when empty (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eadhead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1) distances need definition for network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not possible — Order Release to Ex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 more distances to define in Distances data module (not grayed)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267080" y="5076720"/>
            <a:ext cx="4668840" cy="139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4B7D-520D-44C9-9D3D-E78371EBFA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Model 7-3:  Refining the Animation for Transporter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it stands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a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ntities disappear from animation when waiting to be picked up by 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a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ranspor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logic OK … get right answers … animation is fla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 –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torag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or entity to reside in, be animated, while it waits for something (here, a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a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ransporte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get statistics on numbers in Stor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Storages not available with modules from Advanced Transfer pan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lower-level SIMAN modules from Blocks panel … see book for specific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3C18-A9EE-4B1B-8E2B-DB65C2F016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onveyor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lace Transporters with a convey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p conveyor to follow main path, clockwi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 entrance/exit poi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, Unload takes 0.25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art is 4 feet per side, but want 6 feet of conveyor space for clearance on cor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= 20 feet/minu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anc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38280" y="3886200"/>
            <a:ext cx="4038840" cy="2595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495680" y="3581280"/>
            <a:ext cx="838440" cy="30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nits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635F-3090-4138-8CD8-4387909896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onveyor Concept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ity to be conveyed must wait for sp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eyor consists of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el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 size, constantly moving – think of a narrow esca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ities might require multiple contiguous cel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t define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ell siz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 tradeoff involved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ells:  accurate model but slow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cells:  just the opposi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itie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cces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pace,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ve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Ex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eyor = series of linear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g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egment starts and ends at a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to form loops, diverge points, converg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CFFF-586B-456B-806C-D879E2ECB1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What We’ll Do ...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s of Entity Transf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7-1:  Resource-Constrained Transf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s 7-2, 7-3:  Transpor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ey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7-4:  Non-accumul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7-5:  Accumul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819F-7BE0-43FE-A456-71F0DF13CA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ypes of Conveyor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h travel in a single, irreversible dir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onaccumulat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belt, bucket line, escala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ing between entities on it doesn’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re conveyor stops for entity Access/Exit if Load/Unload time is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ccumulat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rollers, freew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yor never stops m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entity on it stops to Exit, other entities behind it are blocked and bunch up (entities ahead of it keep mov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blockage ends, blocked entities go on but maybe not all at once (spacing require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37A7-C271-49DF-B150-49727D29F0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Model 7-4: Small Manufacturing System with Nonaccumulating Conveyor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ify Model 7-1 (resource-constrained transfe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new Variable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ad Ti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nload Ti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each with initial value 0.2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ete all the Route Path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Conveyor via Conveyor data module, Advanced Transfer pan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yer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op Conve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Name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op Conveyor.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= Non-Accumul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feet), Units = Per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Size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fe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 Cells Occupied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ells per ent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77120" y="5105520"/>
            <a:ext cx="838080" cy="30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nits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1280" y="5486400"/>
            <a:ext cx="838440" cy="30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nits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96BA-5134-4E51-B540-B588AAE970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Leave, Enter Modules for Conveyor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each Leave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ad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Units =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 Out = Access Conve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yor Name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op Conve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of Cells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Type = Con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nge each Enter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load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Units =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 In = Exit Conve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yor Name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op Conve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F171-7BDB-408A-B023-CDEE374047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onveyor Segment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one-way lengths (in feet) of seg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gment data module, Advanced Transfer pan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op Conveyor.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ning Station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rder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Stations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Next Station in correct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 distance (in feet) to this next 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gment ani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Station markers in front of each Resource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button     , Animate Transfer too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log, crosshairs, clicking just like Distances for Transpo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 here, have to place only 6 Segment anim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124080" y="4952880"/>
            <a:ext cx="304920" cy="27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33D9-3535-4D5B-AECB-4920F756F4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onveyor Statistic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tu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ject Paramete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check Conveyor Statist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t percent of time blocked (stopp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tilization statistic is average percent of space occupied on conveyor (not percent of time that a part was on the convey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see conveyor stop (it’s nonaccumulating) more clearly, chang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ad Ti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nload Ti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much greater values tha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0.2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do this during run with VBA (Chapter 9), or Run Controller – see text for details – but makes output statistics nearly impossible to interp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5640-FC44-4F52-8EDE-927AA6B4987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Model 7-5: Change Conveyors to Accumulating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eyor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Conveyor Type to Accumul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mulation Length = 4 (in feet), amount of space the accumulated parts need on the conve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ning, see very little accumulation in ani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ee more, increa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ad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loa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9F5F-A2F6-4852-9CFD-E8EDD41582E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ypes of Entity Transfers So Far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-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graphic vs. module Labels (no graph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zero-delay — constant, r.v., 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ons, animated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routes vs. entity-dependent 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 and Route both assum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imit on number in transit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ies have their own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53B9-16D9-40C0-A225-3A9DFC4178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New Types of Entity Transfer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esource-constrain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ransf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 total number of entities in transit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ies still have their own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communications (number of packets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stics (number of vehic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erial-handling de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ranspor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fork lifts, trucks, carts, wheelch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place limits on numbers, capabilities of transpor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a Resource, except move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onvey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ts, hook lines, escal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limit space on conveyor, sp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accumulating vs. accumul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24ED-38DD-40A1-A9A0-7EB2133C3D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Model 7-1: Small Manufacturing System with Resource-Constrained Transfer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al system (Model 6-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d all transfer times = 2 minutes … keep (for n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s have their own feet … keep (for n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imit on number of parts in transit at a time … d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– no more than 2 parts can be in motion at a give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other parts are ready to go, they must wait until there’s room to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via existing construc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nk creative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“space” on the “road” as a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 the number of Units of this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y must Seize unit of “space” resource before beginning trip, Release it at end of t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273A-1E9D-4C60-9BB7-41EA90A9EF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wo Ways to Model Resource-Constrained Transfer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h use a new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ransf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esource representing space on the transitw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y set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Resource data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the most obvious way (but won’t do) 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each Route module insert a Seize module to Seize one uni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ansf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queue, priority details … see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each Station module (excep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rder Rele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nsert a Release module to free up one uni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0478-CF94-4B40-9C3E-E85ADAE6B2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wo Ways to Model Resource-Constrained Transfers (cont’d.)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t way (will do, to illustrate new modules, set up for transporters and conveyors)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Route modules with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Lea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ules (Advanced Transfer pan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 Out: Seize unit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ansf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ource before leaving 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, Resource Set, particular member of a Resource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specify prior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contains the Route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individual queues, with animation, for parts waiting to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Station modules with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E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ules (Advanced Transfer pan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the 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 of an unload Delay time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his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 In: Releas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ansf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 – slight increase in cycle times in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C9FE-CB29-42F3-9AC3-BEFA31965F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ransporter Concept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ts, fork lifts, trucks, wheelchairs, people, 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entity is ready to go somewhere, it needs to be “picked up” and mov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Transporters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moveable”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ities: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eque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Transpo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Fre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er Selection Rule: If &gt; 1 transporter is available when Requ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freed and &gt; 1 entity is waiting: Priorities, closest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types of Transpor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Free-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we’ll 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vel time depends only on velocity,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nore “traffic jams” and their resulting del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Guid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won’t 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Vs, intersection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0D28-EA76-4B43-B0B7-1B089C1894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he Small Manufacturing System with Transporter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two carts to transport pa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rt can carry one part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ts move at 50 feet/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need to specify accurate distances between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takes 0.25 minute to load part on a cart, 0.25 minute to unload it from a c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ify Model 7-1 to Model 7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7B06-4158-4F4E-82A2-F8F700D62F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3T20:49:48Z</dcterms:created>
  <dc:creator>Kelton/Sadowski/Sadowski</dc:creator>
  <dc:description/>
  <dc:language>en-US</dc:language>
  <cp:lastModifiedBy>Carlos Saenz</cp:lastModifiedBy>
  <cp:lastPrinted>2001-11-11T22:00:00Z</cp:lastPrinted>
  <dcterms:modified xsi:type="dcterms:W3CDTF">2002-05-18T06:02:05Z</dcterms:modified>
  <cp:revision>693</cp:revision>
  <dc:subject/>
  <dc:title>Chapter 7 -- Entity Transfer</dc:title>
</cp:coreProperties>
</file>