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.wmf" ContentType="image/x-wmf"/>
  <Override PartName="/ppt/media/image35.wmf" ContentType="image/x-wmf"/>
  <Override PartName="/ppt/media/image51.wmf" ContentType="image/x-wmf"/>
  <Override PartName="/ppt/media/image52.png" ContentType="image/png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E2A-01C2-4226-88C2-DB2B9E6A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CD0-EC28-4007-8352-8658DD0C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E2B-34B1-48E6-A27C-84DCD977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21896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965400"/>
            <a:ext cx="28951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546-607A-42B0-84DA-D8B6F592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D1A6-FB2F-499D-81A4-84779DAE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7B3-A362-4371-B153-FF5B0658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5A7-025C-42AF-A44B-44B1883D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34C-ACC5-4173-BC03-750554B7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3DC-7A05-4C56-A093-1598DBA9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9590-7E85-492F-A655-E23252F1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96540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382-08B6-46AE-AFCA-31FCF92A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218960"/>
            <a:ext cx="43876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965400"/>
            <a:ext cx="899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78A-F562-4E6C-893D-978568FC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9b"/>
                </a:solidFill>
                <a:latin typeface="Arial"/>
              </a:rPr>
              <a:t>Simulation with Are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Capítulo 2 – Conceptos Básicos de Sim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Slide </a:t>
            </a:r>
            <a:fld id="{D9513766-0437-4BC8-B63F-56DE4CF05822}" type="slidenum">
              <a:rPr b="0" lang="en-US" sz="1400" spc="-1" strike="noStrike">
                <a:solidFill>
                  <a:srgbClr val="00009b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9b"/>
                </a:solidFill>
                <a:latin typeface="Arial"/>
              </a:rPr>
              <a:t> de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0000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FrontCover" descr=""/>
          <p:cNvPicPr/>
          <p:nvPr/>
        </p:nvPicPr>
        <p:blipFill>
          <a:blip r:embed="rId2"/>
          <a:stretch/>
        </p:blipFill>
        <p:spPr>
          <a:xfrm>
            <a:off x="0" y="6553080"/>
            <a:ext cx="254160" cy="3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b"/>
                </a:solidFill>
                <a:latin typeface="Arial"/>
              </a:rPr>
              <a:t>Conceptos Básicos de Simulación</a:t>
            </a:r>
            <a:endParaRPr b="1" lang="en-US" sz="4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ítu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FrontCover" descr=""/>
          <p:cNvPicPr/>
          <p:nvPr/>
        </p:nvPicPr>
        <p:blipFill>
          <a:blip r:embed="rId1"/>
          <a:stretch/>
        </p:blipFill>
        <p:spPr>
          <a:xfrm>
            <a:off x="0" y="0"/>
            <a:ext cx="184464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C42-C3A3-4E5D-A135-3D0568C4A5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Mecanismo de la simulació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Operaciones individuales (llegadas, tiempos de servicio) ocurren igual que en la realid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Los movimientos y cambios ocurren en el momento correcto, en el orden correc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Interacción de los diferentes componen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Instalar “observadores” para obtener las medidas de desempeñ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Nada misterioso u oscur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ero muchos detalles y registro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l software de simulación hace esa tarea por 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7B5-35E9-4E97-A41D-CA30B6D514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Elementos de la simulació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Entidades (entiti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Jugadores” que se mueven por el modelo, cambian de estatus, afectan y son afectadas por otras 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ff0000"/>
                </a:solidFill>
                <a:latin typeface="Arial"/>
              </a:rPr>
              <a:t>Objetos Dinámicos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—son creados, se mueven alrededor, salen del sistema (a ve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Usualmente representan objetos verd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Nuestro modelo:  las entidades son las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ueden haber entidades “ficticias” para modelar “truc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Fallas, paros, descan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Usualmente hay multiplicidad de entidades del mismo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Se pueden tener distintos tipos de entidades al mism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CAD-8444-4313-AB10-9A364C31AB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Elementos de la simulación </a:t>
            </a:r>
            <a:r>
              <a:rPr b="1" lang="es-CR" sz="1400" spc="-1" strike="noStrike">
                <a:solidFill>
                  <a:srgbClr val="00009b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048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Atribu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aracterísticas de las entidades:  describir, diferen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odas las entidades tienen los mismos campos para atributos, pero con valores distintos, por 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Hora de ingr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Fecha de ven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Prio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Valor del atributo unido a una entidad espec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omo variables “locales” (para las entida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lgunos son automáticos en Arena, otros deben ser definidos por el usu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3592-6C75-41E8-8278-85E30FD921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Elementos de la simulación </a:t>
            </a:r>
            <a:r>
              <a:rPr b="1" lang="es-CR" sz="1400" spc="-1" strike="noStrike">
                <a:solidFill>
                  <a:srgbClr val="00009b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Variables</a:t>
            </a:r>
            <a:r>
              <a:rPr b="1" i="1" lang="es-CR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(Global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Reflejan una característica del sistema, independiente de las 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Solo existe un valor asociado al nombre de la variable en todo el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No relacionadas con las 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as entidades pueden accesar y cambia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Tiempo de viaje entre es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Númbero de partes en el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Reloj de la simu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lgunas están predefinidas en Arena, otras deben ser definidos por el usu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CCE-AEB8-408B-9190-2DC77BF0C2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Elementos de la simulación </a:t>
            </a:r>
            <a:r>
              <a:rPr b="1" lang="es-CR" sz="1400" spc="-1" strike="noStrike">
                <a:solidFill>
                  <a:srgbClr val="00009b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Recursos (resourc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or lo que compiten las 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spa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a entidad </a:t>
            </a:r>
            <a:r>
              <a:rPr b="0" i="1" lang="es-CR" sz="2400" spc="-1" strike="noStrike">
                <a:solidFill>
                  <a:srgbClr val="ff0000"/>
                </a:solidFill>
                <a:latin typeface="Arial"/>
              </a:rPr>
              <a:t>toma (seize)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un recurso, lo usa </a:t>
            </a:r>
            <a:r>
              <a:rPr b="0" i="1" lang="es-CR" sz="2400" spc="-1" strike="noStrike">
                <a:solidFill>
                  <a:srgbClr val="ff0000"/>
                </a:solidFill>
                <a:latin typeface="Arial"/>
              </a:rPr>
              <a:t>(delay)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, lo </a:t>
            </a:r>
            <a:r>
              <a:rPr b="0" i="1" lang="es-CR" sz="2400" spc="-1" strike="noStrike">
                <a:solidFill>
                  <a:srgbClr val="ff0000"/>
                </a:solidFill>
                <a:latin typeface="Arial"/>
              </a:rPr>
              <a:t>libera (rel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os recursos se asignan a las entidades, pero las entidades no pertenecen a ningún recurso en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Un” recurso puede tener múltiples </a:t>
            </a:r>
            <a:r>
              <a:rPr b="0" i="1" lang="es-CR" sz="2400" spc="-1" strike="noStrike">
                <a:solidFill>
                  <a:srgbClr val="ff0000"/>
                </a:solidFill>
                <a:latin typeface="Arial"/>
              </a:rPr>
              <a:t>unidades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de 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Sillas en la mesa de un restaur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Múltiples agentes (idénticos) en el mostrador de una aero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Número de unidades de un recurso puede cambiar a lo largo de la sim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441-E2BD-4BEC-88DC-4C2738AF4E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Elementos de la simulación </a:t>
            </a:r>
            <a:r>
              <a:rPr b="1" lang="es-CR" sz="1400" spc="-1" strike="noStrike">
                <a:solidFill>
                  <a:srgbClr val="00009b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Colas (queu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ugar donde las entidades esperan cuando no pueden continuar su ruta (pues probablemente el recurso que quieren tomar (seize) no está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ienen nombre, a veces ligados al recurso aso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ueden tener capacidad finita para modelar limitaciones de espacio del modelo—hay que modelar que hacer con la entidad si llega una entidad a una cola que está l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Usualmente se llevan estadísticas del largo de la cola y del tiempo de espera en é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6F3-2C87-40F5-8503-0CFCF02295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Elementos de la simulación </a:t>
            </a:r>
            <a:r>
              <a:rPr b="1" lang="es-CR" sz="1400" spc="-1" strike="noStrike">
                <a:solidFill>
                  <a:srgbClr val="00009b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Acumuladores de estadístic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Variables que observan lo que está ocurri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Dependen de las medidas de desempeño dese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ctitud “pasivas” en el modelo—solo obser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uchos son automáticos en Arena, pero algunos deben ser definidos por el usu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l final de la simulación se utilizan para calcular las medidads de desempeño del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AF7-F3E6-439C-9159-0CB3307B9B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Elementos de la simulación </a:t>
            </a:r>
            <a:r>
              <a:rPr b="1" lang="es-CR" sz="1400" spc="-1" strike="noStrike">
                <a:solidFill>
                  <a:srgbClr val="00009b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Acumuladores de estadísticas para nuestro ejemp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Número de partes producidas hasta el mo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iempo total de espera en 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No. de partes que han pasado por la 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iempo máximo de espera en 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iempo promedio de fl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iempo máximo de fl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Área bajo la curva de </a:t>
            </a:r>
            <a:r>
              <a:rPr b="0" i="1" lang="es-CR" sz="2400" spc="-1" strike="noStrike">
                <a:solidFill>
                  <a:srgbClr val="000000"/>
                </a:solidFill>
                <a:latin typeface="Arial"/>
              </a:rPr>
              <a:t>largo de la cola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Valor máximo de </a:t>
            </a:r>
            <a:r>
              <a:rPr b="0" i="1" lang="es-CR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Área bajo la curva de </a:t>
            </a:r>
            <a:r>
              <a:rPr b="0" i="1" lang="es-CR" sz="2400" spc="-1" strike="noStrike">
                <a:solidFill>
                  <a:srgbClr val="000000"/>
                </a:solidFill>
                <a:latin typeface="Arial"/>
              </a:rPr>
              <a:t>utilización del recurso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s-C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7CF7-7771-4CE0-932A-7B90F256D3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leve el control manual de las variables de estado y de las medidas de desempeñ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los tiempos dados para los tiempos entre llegadas y los tiempos de proce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leve el control del calendario de ev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lice el reloj luego de cada event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4BA3-E471-4AEB-A86C-D26183CF25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Preparació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D55-282B-47E3-B2EB-0FDC90E93A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Lo que haremos ...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upuestos, métodos y conceptos de la simul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Independiente del software (base para Aren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Basado alrededor de un ejemplo de un sistema con un proceso sencil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Descomponer e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ermi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Simulación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lgunos aspectos estadístic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Vistazo a un estudio de sim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DDF-BA5B-4383-968B-5E9B86A538A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</a:t>
            </a:r>
            <a:br>
              <a:rPr sz="3600"/>
            </a:b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0.00, Inicio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616-9181-4EBC-BB94-9C85B008DE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0.00, Arribo de Parte 1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4A2-D7C8-4B30-8D7C-C4CAA97A00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1.73, Arribo de Parte 2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19A-0A1C-421F-8B45-5034F19223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2.90, Salida de Parte 1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5C1-B0F3-4368-A95D-2102B30421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3.08, Arribo de Parte 3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3C2-1FA6-423A-AD9F-A54180D71F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06360" y="1224000"/>
          <a:ext cx="8574120" cy="52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412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3.79, Arribo de Parte 4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1523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0D0-BB71-4AD2-AE6E-6CA9159992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306360" y="1224000"/>
          <a:ext cx="857268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24000"/>
                    <a:ext cx="85726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4.41, Arribo de Parte 5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1523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52388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844-88E9-4BB8-A4BB-0A2E525C55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301680" y="1219320"/>
          <a:ext cx="8218440" cy="523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219320"/>
                    <a:ext cx="8218440" cy="52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4.66, Salida de Parte 2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1523880"/>
            <a:ext cx="30456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666880" y="57146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00400" y="57146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042B-05F9-4739-A6DA-5761C05240F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301680" y="1219320"/>
          <a:ext cx="8218440" cy="523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219320"/>
                    <a:ext cx="8218440" cy="52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8.05, Salida de Parte 3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2004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6576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343-8FB2-41DB-AFD2-96D61F7EE3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1680" y="1219320"/>
          <a:ext cx="8218440" cy="523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219320"/>
                    <a:ext cx="8218440" cy="52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12.57, Salida de Parte 4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004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6576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1148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48E-A47D-4CAE-98F0-5C553AD5AF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Ejercicio:</a:t>
            </a:r>
            <a:br>
              <a:rPr sz="3600"/>
            </a:b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Sistema simple de proceso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35680" y="1987560"/>
            <a:ext cx="672840" cy="5968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27480" y="2062080"/>
            <a:ext cx="40644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45120" y="2062080"/>
            <a:ext cx="40464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28960" y="2062080"/>
            <a:ext cx="40644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14600" y="2062080"/>
            <a:ext cx="406440" cy="4287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73480" y="227484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02120" y="2201760"/>
            <a:ext cx="101520" cy="147600"/>
          </a:xfrm>
          <a:custGeom>
            <a:avLst/>
            <a:gdLst/>
            <a:ahLst/>
            <a:rect l="l" t="t" r="r" b="b"/>
            <a:pathLst>
              <a:path w="64" h="93">
                <a:moveTo>
                  <a:pt x="0" y="0"/>
                </a:moveTo>
                <a:lnTo>
                  <a:pt x="0" y="92"/>
                </a:lnTo>
                <a:lnTo>
                  <a:pt x="63" y="4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6920" y="2274840"/>
            <a:ext cx="75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05560" y="2201760"/>
            <a:ext cx="101520" cy="147600"/>
          </a:xfrm>
          <a:custGeom>
            <a:avLst/>
            <a:gdLst/>
            <a:ahLst/>
            <a:rect l="l" t="t" r="r" b="b"/>
            <a:pathLst>
              <a:path w="64" h="93">
                <a:moveTo>
                  <a:pt x="0" y="0"/>
                </a:moveTo>
                <a:lnTo>
                  <a:pt x="0" y="92"/>
                </a:lnTo>
                <a:lnTo>
                  <a:pt x="63" y="4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480" y="29714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Aft>
                <a:spcPts val="201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Objetivo general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Estimar la producción espe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Tiempo en cola, largo de la cola, % del tiempo que la máquina pasa ocup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spcAft>
                <a:spcPts val="201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Arial"/>
              </a:rPr>
              <a:t>Unidades de tiempo:  arbitrarias, pero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ea consistente (la simulación no sa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76"/>
              </a:spcBef>
              <a:spcAft>
                <a:spcPts val="176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Sea razonable (interpretación, error de redond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3680" y="1957320"/>
            <a:ext cx="99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eg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90600" y="1957320"/>
            <a:ext cx="2112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es Termin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61800" y="1424160"/>
            <a:ext cx="1058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qu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60160" y="2643120"/>
            <a:ext cx="139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a (FIF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47600" y="2719440"/>
            <a:ext cx="184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e in Serv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560" y="1981080"/>
            <a:ext cx="4568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75360" y="210996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89280" y="1424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99120" y="210996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70360" y="2109960"/>
            <a:ext cx="32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89480" y="2109960"/>
            <a:ext cx="32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7B2-30CB-4B8F-89B4-A0E9F9FBCF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301680" y="1230480"/>
          <a:ext cx="8308800" cy="523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230480"/>
                    <a:ext cx="8308800" cy="52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17.03, Salida de Parte 5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32004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6576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41148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B6B6-DF5A-44AC-89F3-A7023B6B96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309600" y="1222200"/>
          <a:ext cx="8308800" cy="52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222200"/>
                    <a:ext cx="830880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18.69, Arribo de Parte 6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2004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6576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1148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46483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5720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F6F-82F5-4E27-ADAC-093406C1DF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303120" y="1228680"/>
          <a:ext cx="8483760" cy="523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228680"/>
                    <a:ext cx="848376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19.39, Arribo de Parte 7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2004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6576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1148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6483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18148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5720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B73-4F82-47E1-814B-B2B32ABA65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9b"/>
                </a:solidFill>
                <a:latin typeface="Arial"/>
              </a:rPr>
              <a:t>t</a:t>
            </a: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 = 20.00, FI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133720" y="3200400"/>
          <a:ext cx="6095880" cy="131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609588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2133720" y="4419720"/>
          <a:ext cx="6095880" cy="79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419720"/>
                    <a:ext cx="60958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1523880" y="1447920"/>
            <a:ext cx="4572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002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1523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002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43000" y="1523880"/>
            <a:ext cx="31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7432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2096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66688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2004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2860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65760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1911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32004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6576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1148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48320" y="5486040"/>
            <a:ext cx="30456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181480" y="548604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03120" y="1228680"/>
          <a:ext cx="8483760" cy="5237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3120" y="1228680"/>
                    <a:ext cx="8483760" cy="52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 flipV="1">
            <a:off x="4572000" y="5790960"/>
            <a:ext cx="304920" cy="17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0B7C-A5F1-4369-B7F6-200FE2F414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Tabla en Excel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57200" y="1600200"/>
          <a:ext cx="8305920" cy="34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305920" cy="34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6D36-4ECD-41B2-9F8C-A407E1099AF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Simulación Manual: </a:t>
            </a:r>
            <a:br>
              <a:rPr sz="3600"/>
            </a:b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Estadística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295280" y="1270080"/>
          <a:ext cx="678204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70080"/>
                    <a:ext cx="678204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EA2-EBD8-4924-8074-834CA10C915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Aleatoriedad en la Simulació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resultados anteriores fueron solo para una “corrida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estra de uno no vale gran cos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ego de un total de cinco corrida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alos de confianza para valores esperado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Aft>
                <a:spcPts val="300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gener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Aft>
                <a:spcPts val="300"/>
              </a:spcAft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ción total espera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5486400" cy="264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438280" y="5410080"/>
                <a:ext cx="2468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029200" y="5791320"/>
                <a:ext cx="32083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6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029200" y="6172200"/>
                <a:ext cx="15177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7014600" y="2895480"/>
            <a:ext cx="18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e la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n varia-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lidad entr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r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0D1-F7C9-4534-AC6D-DD4CC6D5FCA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omparando Opcione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174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Usualmente la simulación se utiliza en más de una configuración o escenario del mode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749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A menudo se busca comparar opciones, seleccionar o buscar lo mejor (a través de un crite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7F5E-B291-4076-A3D4-BEBE69270CB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b"/>
                </a:solidFill>
                <a:latin typeface="Arial"/>
              </a:rPr>
              <a:t>Cuidados con el análisis de los resultados de un modelo de Simulació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8991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Cuidado con la variabilidad de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Peligro de tomar decisión con base en solo una (la primer) corri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Es difícil ver si realmente existen diferenc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Se requiere:  Análisis estadístico de los resultados de la simul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F6E-A7D1-41F7-9B1D-B8C5212DC0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Reseña de un </a:t>
            </a:r>
            <a:br>
              <a:rPr sz="3600"/>
            </a:b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Estudio de Simulación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Entienda el siste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Tenga las metas claramente definid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Formule la representación del mode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Trasládalo a un “softwar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Verique el “programa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Valide el mode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Diseñe los experimen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Haga las corrid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Analice y documente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19A-24B2-4B59-8C53-44F27AE010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Especificaciones del modelo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Inicialmente (tiempo 0) vacío y desocupa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Unidades de tiempo:  minu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os de entrada, en minuto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úm. Par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a de Llegad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empo entre Llegad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empo de Servici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9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3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7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3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7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6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5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4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2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4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.6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7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3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3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5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4.9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3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8.0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3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9.8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3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40.8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r" pos="914400"/>
                <a:tab algn="r" pos="3197160"/>
                <a:tab algn="r" pos="5479920"/>
                <a:tab algn="r" pos="777708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e luego de haber corrido la simulación durante 20 minut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963-5413-4D92-9337-8AC6B1D0C8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Metas del Estudio:</a:t>
            </a:r>
            <a:br>
              <a:rPr sz="3600"/>
            </a:b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Medidas de Desempeño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Producción total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 de partes en la corrida (</a:t>
            </a:r>
            <a:r>
              <a:rPr b="1" i="1" lang="es-CR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Tiempo promedio de espera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 de las partes en la col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Tiempo de espera máximo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 de las partes en col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70040" y="2971800"/>
                <a:ext cx="11253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209680" y="3108240"/>
            <a:ext cx="701064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o. de partes completando espera en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empo de espera en cola par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sab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(¿por qué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(¿por qué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8640" y="5653080"/>
          <a:ext cx="148896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5653080"/>
                    <a:ext cx="14889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56C-1ACD-4B20-BF6C-3B48F52B38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Metas del Estudio:</a:t>
            </a:r>
            <a:br>
              <a:rPr sz="3600"/>
            </a:b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Medidas de Desempeño </a:t>
            </a:r>
            <a:r>
              <a:rPr b="1" lang="es-CR" sz="1400" spc="-1" strike="noStrike">
                <a:solidFill>
                  <a:srgbClr val="00009b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Promedio de partes</a:t>
            </a:r>
            <a:r>
              <a:rPr b="1" i="1" lang="es-C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en cola a través del tiemp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Máxima cantidad de partes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en cola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Tiempo promedio 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 máximo en el siste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52560" y="1828800"/>
            <a:ext cx="4878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= cantidad de partes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a en el momen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" y="1600200"/>
                <a:ext cx="320040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705720" y="2743200"/>
                <a:ext cx="1587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lim>
                    </m:limLow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09480" y="4267080"/>
                <a:ext cx="29718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163400" y="4419720"/>
            <a:ext cx="4600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tiempo en el sistem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 al par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5A9-AC78-490D-936C-663FC87FF6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Metas del Estudio:</a:t>
            </a:r>
            <a:br>
              <a:rPr sz="3600"/>
            </a:b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Medidas de Desempeño </a:t>
            </a:r>
            <a:r>
              <a:rPr b="1" lang="es-CR" sz="1400" spc="-1" strike="noStrike">
                <a:solidFill>
                  <a:srgbClr val="00009b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0000"/>
                </a:solidFill>
                <a:latin typeface="Arial"/>
              </a:rPr>
              <a:t>Utilización</a:t>
            </a: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 de la máquina (proporción del tiempo ocupad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Muchas otras medidas de desempeño posibl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Cuidado con saturarse con demasiadas medidas de desempeñ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7200" y="2058840"/>
                <a:ext cx="83059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≈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 má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ocupada en </m:t>
                              </m:r>
                              <m:r>
                                <m:t xml:space="preserve">t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 má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desocupada en </m:t>
                              </m:r>
                              <m:r>
                                <m:t xml:space="preserve">t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6D8-794B-4473-A21E-B1512AA056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Opciones de Análisis</a:t>
            </a:r>
            <a:endParaRPr b="1" lang="en-US" sz="36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Adivinanza o “Bateo” educa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iempo promedio entre llegadas = 4.08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Tiempo promedio de servicio = 3.46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promedio las partes están siendo procesadas más rápidamente de lo que ll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sistema tiene oportunidad de operar de manera estable a largo plazo, no debería “explot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todas los tiempos entre llegas y de servicio fueses iguales a sus medias, nunca tendríamos partes en c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o los datos claramente indican variabilidad, entonces sí se puede formar una c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tuviésemos medias de los tiempos entre llegadas &lt; tiempos de servicio, la cola “explotarí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a verdad está entre ambos extr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divinar (batear) tiene sus limi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153C-8429-4DBD-A2C1-72431B44D0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9b"/>
                </a:solidFill>
                <a:latin typeface="Arial"/>
              </a:rPr>
              <a:t>Opciones de análisis </a:t>
            </a:r>
            <a:r>
              <a:rPr b="1" lang="es-CR" sz="1400" spc="-1" strike="noStrike">
                <a:solidFill>
                  <a:srgbClr val="00009b"/>
                </a:solidFill>
                <a:latin typeface="Arial"/>
              </a:rPr>
              <a:t>(cont.)</a:t>
            </a:r>
            <a:endParaRPr b="1" lang="en-US" sz="1400" spc="-1" strike="noStrike">
              <a:solidFill>
                <a:srgbClr val="00009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000000"/>
                </a:solidFill>
                <a:latin typeface="Arial"/>
              </a:rPr>
              <a:t>Teoría de col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Requiere supuestos adicionales sobre el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Modelo puro y simple: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/M/1 c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Tiempo entre llegadas ~ expon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Tiempo de servicio ~ exponencial, indep. de tiempos entre lleg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(servicio) &lt; E(entre llegad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Estado escionario (corrida larga, para siemp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Resultados analíticos exactos; e.g., tiempo promedio en cola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Problemas:  validez, estimación de las medias, marco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b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A menudo útil como primera aproxi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065320" y="4267080"/>
          <a:ext cx="957240" cy="7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5320" y="4267080"/>
                    <a:ext cx="9572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116240" y="4330800"/>
          <a:ext cx="271476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6240" y="4330800"/>
                    <a:ext cx="27147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619-A35B-4CDF-A44D-B0527E3B42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3T20:49:48Z</dcterms:created>
  <dc:creator>Kelton/Sadowski/Sadowski</dc:creator>
  <dc:description/>
  <dc:language>en-US</dc:language>
  <cp:lastModifiedBy>Carlos Saenz</cp:lastModifiedBy>
  <dcterms:modified xsi:type="dcterms:W3CDTF">2002-05-20T05:09:18Z</dcterms:modified>
  <cp:revision>114</cp:revision>
  <dc:subject/>
  <dc:title>Chapter 2 -- Fundamental Simulation Concepts</dc:title>
</cp:coreProperties>
</file>