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9283700" cy="6983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348F-EC6F-4D87-909C-7987FF4D1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3965400"/>
            <a:ext cx="899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A89E-C99C-49EB-87C3-9365357C5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43876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218960"/>
            <a:ext cx="43876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3965400"/>
            <a:ext cx="43876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3965400"/>
            <a:ext cx="43876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710D-8807-4333-B309-31361C7FD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28951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218960"/>
            <a:ext cx="28951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218960"/>
            <a:ext cx="28951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3965400"/>
            <a:ext cx="28951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3965400"/>
            <a:ext cx="28951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3965400"/>
            <a:ext cx="28951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DD8E-A39A-4721-A400-EFC59F863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AC57-5B9B-4506-8A8D-9B71EEAD8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4710-6576-40BB-9244-7548886BF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4387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218960"/>
            <a:ext cx="4387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CD94-C895-458A-AE75-DA537406E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9164-91D4-49C9-94DC-32B29E55A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320" y="75960"/>
            <a:ext cx="899136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6D56-6EF1-4F5B-9C10-C168857F9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43876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218960"/>
            <a:ext cx="4387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3965400"/>
            <a:ext cx="43876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384E-625E-4808-A5F9-5B3137A67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4387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218960"/>
            <a:ext cx="43876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3965400"/>
            <a:ext cx="43876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D581-467A-4A4A-8211-9DA7EC711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43876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218960"/>
            <a:ext cx="43876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3965400"/>
            <a:ext cx="899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3513-41AB-4638-8DB2-CE88436EE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240" y="6552720"/>
            <a:ext cx="2057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9b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9b"/>
                </a:solidFill>
                <a:latin typeface="Arial"/>
              </a:rPr>
              <a:t>Simulation with Are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b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b"/>
                </a:solidFill>
                <a:latin typeface="Arial"/>
              </a:rPr>
              <a:t>Chapter 11 – Further Statistical Issu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19760" y="6552720"/>
            <a:ext cx="15238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b"/>
                </a:solidFill>
                <a:latin typeface="Arial"/>
              </a:rPr>
              <a:t>Slide </a:t>
            </a:r>
            <a:fld id="{2E21001C-6B37-4913-B9B7-1E33ABF99222}" type="slidenum">
              <a:rPr b="0" lang="en-US" sz="1400" spc="-1" strike="noStrike">
                <a:solidFill>
                  <a:srgbClr val="00009b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9b"/>
                </a:solidFill>
                <a:latin typeface="Arial"/>
              </a:rPr>
              <a:t> of 3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12600">
            <a:solidFill>
              <a:srgbClr val="0000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6553080"/>
            <a:ext cx="9144000" cy="0"/>
          </a:xfrm>
          <a:prstGeom prst="line">
            <a:avLst/>
          </a:prstGeom>
          <a:ln w="12600">
            <a:solidFill>
              <a:srgbClr val="0000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FrontCover" descr=""/>
          <p:cNvPicPr/>
          <p:nvPr/>
        </p:nvPicPr>
        <p:blipFill>
          <a:blip r:embed="rId2"/>
          <a:stretch/>
        </p:blipFill>
        <p:spPr>
          <a:xfrm>
            <a:off x="0" y="6553080"/>
            <a:ext cx="254160" cy="304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b"/>
                </a:solidFill>
                <a:latin typeface="Arial"/>
              </a:rPr>
              <a:t>Further Statistical Issues</a:t>
            </a:r>
            <a:endParaRPr b="1" lang="en-US" sz="44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pter 1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FrontCover" descr=""/>
          <p:cNvPicPr/>
          <p:nvPr/>
        </p:nvPicPr>
        <p:blipFill>
          <a:blip r:embed="rId1"/>
          <a:stretch/>
        </p:blipFill>
        <p:spPr>
          <a:xfrm>
            <a:off x="0" y="0"/>
            <a:ext cx="1846440" cy="220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F63F-04BA-4845-86A0-8F59C9A8EC5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The Current (2000) Arena RNG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es some of the same ideas as LC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ulo division, recursive on earlier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ut is not an LC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bines two separate component gen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ursion involves more than just the preceding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bined multiple recursive generator (CMRG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(1403580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810728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-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mod 429496708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(527612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1370589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-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mod 4294944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mod 429496708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d = a six-vector of first thre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’s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696080" y="3809880"/>
            <a:ext cx="1295640" cy="731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w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imultaneo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urs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029200" y="4648320"/>
            <a:ext cx="1676520" cy="305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ombine the tw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553080" y="5181480"/>
            <a:ext cx="914400" cy="731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he nex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457200" y="5029200"/>
            <a:ext cx="5943600" cy="1002600"/>
            <a:chOff x="457200" y="5029200"/>
            <a:chExt cx="5943600" cy="1002600"/>
          </a:xfrm>
        </p:grpSpPr>
        <p:sp>
          <p:nvSpPr>
            <p:cNvPr id="94" name=""/>
            <p:cNvSpPr/>
            <p:nvPr/>
          </p:nvSpPr>
          <p:spPr>
            <a:xfrm>
              <a:off x="1218960" y="5029200"/>
              <a:ext cx="5105520" cy="10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114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/ 4294967088 if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&gt; 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14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294967087 / 4294967088 if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= 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295280" y="5105520"/>
              <a:ext cx="152280" cy="76176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19800 h 761760"/>
                <a:gd name="textAreaBottom" fmla="*/ 741960 h 76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57200" y="5257800"/>
              <a:ext cx="838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>
              <a:off x="6248160" y="5105520"/>
              <a:ext cx="152640" cy="761760"/>
            </a:xfrm>
            <a:custGeom>
              <a:avLst/>
              <a:gdLst>
                <a:gd name="textAreaLeft" fmla="*/ 97560 w 152640"/>
                <a:gd name="textAreaRight" fmla="*/ 153000 w 152640"/>
                <a:gd name="textAreaTop" fmla="*/ 19800 h 761760"/>
                <a:gd name="textAreaBottom" fmla="*/ 741960 h 76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92C6-ED65-40EC-AE3F-6D154DBFFD8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The Current (2000) Arena RNG – Properties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tremely good statistical propert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uniformity in up to 45-dimensional hypercu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ycle length = 3.1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57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cycle, all six seeds must match 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600 MHz PC, would take 8.4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illennia to exhau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Moore’s law, it will be 219 years until this generator can be exhausted in a year of nonstop compu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nly slightly slower than old LC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RNG is usually a minor part of overall computing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03A5-601C-471A-9943-25CEB319DDB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The Current (2000) Arena RNG – Streams and Substreams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tomatic streams and substrea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8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1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treams of length 1.7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stream further divided into 2.3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1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ubstreams of length 7.6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00 MHz PC would take 1.8 billion years to exhaust a substr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fault stream is 10 (historical reasons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used for Chance-type Decide mo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use a different stream, append its number after a distribution’s paramet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PO(6.7, 4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use stream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en using multiple replications, Arena automatically advances to next substream in each stream for the next replic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ps synchronize for variance re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8FBE-0EFB-4C04-A30E-ADE584CAFDE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Generating Random Variates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ave:  Desired input distribution for model (fitted or specified in some way), and RNG (UNIF (0, 1)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nt:  Transform UNIF (0, 1) random numbers into “draws” from the desired input distribu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thod:  Mathematical transformations of random numbers to “deform” them to the desired distribu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fic transform depends on desired dis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ails in online Help about methods for all distrib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 discrete, continuous distributions separatel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1E6B-A7A5-4A66-9F73-DE0C62D78D8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Generating from Discrete Distributions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:  probability mass fun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vide [0, 1] into subintervals of length 0.1, 0.5, 0.4; generat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~ UNIF (0, 1); see which subinterval it’s in; return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 corresponding valu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609480" y="1676520"/>
            <a:ext cx="8224920" cy="1681200"/>
            <a:chOff x="609480" y="1676520"/>
            <a:chExt cx="8224920" cy="1681200"/>
          </a:xfrm>
        </p:grpSpPr>
        <p:sp>
          <p:nvSpPr>
            <p:cNvPr id="107" name=""/>
            <p:cNvSpPr/>
            <p:nvPr/>
          </p:nvSpPr>
          <p:spPr>
            <a:xfrm>
              <a:off x="6162480" y="2513160"/>
              <a:ext cx="258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846480" y="2589480"/>
              <a:ext cx="4381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08600" y="2589480"/>
              <a:ext cx="3110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523000" y="2589480"/>
              <a:ext cx="3114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V="1">
              <a:off x="7760880" y="1676520"/>
              <a:ext cx="0" cy="836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V="1">
              <a:off x="7151400" y="2285640"/>
              <a:ext cx="0" cy="227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8675280" y="1828440"/>
              <a:ext cx="0" cy="684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609480" y="1766880"/>
              <a:ext cx="5706720" cy="1590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2133720" y="4572000"/>
            <a:ext cx="4459320" cy="1757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CE1A-8FBC-44CC-A277-6A29D9F62D6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Discrete Generation:  Another View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lot cumulative distribution function; generat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nd plot on vertical axis; read “across and down”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80880" y="2590920"/>
            <a:ext cx="6172200" cy="31748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6629400" y="3048120"/>
            <a:ext cx="22860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5960" indent="-345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Invert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he CD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quivalent to earlier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DF56-9092-4630-B525-239E60706C3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Generating from Continuous Distributions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:  EXPO (5) distribu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nsity (PD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ion (CD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neral algorithm (can be rigorously justified)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nerate a random numbe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~ UNIF(0, 1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t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 and solve f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–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ving fo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ay or may not be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times use numerical approximation to “solv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352680" y="1752480"/>
            <a:ext cx="3697560" cy="1951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4133-5487-4315-87DC-464BA6968BA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Generating from Continuous Distributions</a:t>
            </a:r>
            <a:r>
              <a:rPr b="1" lang="en-US" sz="1800" spc="-1" strike="noStrike">
                <a:solidFill>
                  <a:srgbClr val="00009b"/>
                </a:solidFill>
                <a:latin typeface="Arial"/>
              </a:rPr>
              <a:t> (cont’d.)</a:t>
            </a:r>
            <a:endParaRPr b="1" lang="en-US" sz="18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lution for EXPO (5) case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 = 1 –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/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/5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 1 –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U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5 = ln (1 –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 – 5 ln (1 –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icture (inverting the CDF, as in discrete case)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33520" y="3886200"/>
            <a:ext cx="5209920" cy="26049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5486400" y="3962520"/>
            <a:ext cx="3429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61880" indent="-231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uition (garden hose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231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s will hi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where it’s st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231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where the density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is tallest, and we want a denser distribution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290B-7721-4480-B6E2-FCBCDFD8F80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Nonstationary Poisson Processes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ny systems have externally originating events affecting them — e.g., arrivals of custom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f process is stationary over time, usually specify a fixed interevent-time distribu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ut process could vary markedly in its rat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st-food lunch ru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eway rush h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gnoring nonstationarity can lead to serious model and output erro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ready seen this — call-center arrivals,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pter 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2006-BD4D-4861-B941-1256524FD75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Nonstationary Poisson Processes – Definition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ual model: 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nonstationary Poisson proces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e a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rate fun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 of events in [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 ~ Poisson with m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estimate rate func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n an estimate, how to generate during simulation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14400" y="2438280"/>
            <a:ext cx="2506680" cy="7128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4572000" y="4267080"/>
            <a:ext cx="425520" cy="509760"/>
          </a:xfrm>
          <a:custGeom>
            <a:avLst/>
            <a:gdLst/>
            <a:ahLst/>
            <a:rect l="l" t="t" r="r" b="b"/>
            <a:pathLst>
              <a:path w="268" h="321">
                <a:moveTo>
                  <a:pt x="0" y="321"/>
                </a:moveTo>
                <a:lnTo>
                  <a:pt x="0" y="6"/>
                </a:lnTo>
                <a:lnTo>
                  <a:pt x="95" y="21"/>
                </a:lnTo>
                <a:lnTo>
                  <a:pt x="190" y="14"/>
                </a:lnTo>
                <a:lnTo>
                  <a:pt x="268" y="0"/>
                </a:lnTo>
                <a:lnTo>
                  <a:pt x="267" y="321"/>
                </a:lnTo>
                <a:lnTo>
                  <a:pt x="0" y="31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376440" y="3395520"/>
            <a:ext cx="432000" cy="1389240"/>
          </a:xfrm>
          <a:custGeom>
            <a:avLst/>
            <a:gdLst/>
            <a:ahLst/>
            <a:rect l="l" t="t" r="r" b="b"/>
            <a:pathLst>
              <a:path w="272" h="875">
                <a:moveTo>
                  <a:pt x="0" y="861"/>
                </a:moveTo>
                <a:lnTo>
                  <a:pt x="1" y="114"/>
                </a:lnTo>
                <a:lnTo>
                  <a:pt x="38" y="57"/>
                </a:lnTo>
                <a:lnTo>
                  <a:pt x="90" y="15"/>
                </a:lnTo>
                <a:lnTo>
                  <a:pt x="132" y="0"/>
                </a:lnTo>
                <a:lnTo>
                  <a:pt x="165" y="12"/>
                </a:lnTo>
                <a:lnTo>
                  <a:pt x="272" y="89"/>
                </a:lnTo>
                <a:lnTo>
                  <a:pt x="266" y="873"/>
                </a:lnTo>
                <a:lnTo>
                  <a:pt x="0" y="875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635120" y="3389400"/>
            <a:ext cx="5572080" cy="1125360"/>
          </a:xfrm>
          <a:custGeom>
            <a:avLst/>
            <a:gdLst/>
            <a:ahLst/>
            <a:rect l="l" t="t" r="r" b="b"/>
            <a:pathLst>
              <a:path w="3510" h="709">
                <a:moveTo>
                  <a:pt x="0" y="611"/>
                </a:moveTo>
                <a:lnTo>
                  <a:pt x="52" y="651"/>
                </a:lnTo>
                <a:lnTo>
                  <a:pt x="104" y="682"/>
                </a:lnTo>
                <a:lnTo>
                  <a:pt x="171" y="704"/>
                </a:lnTo>
                <a:lnTo>
                  <a:pt x="208" y="708"/>
                </a:lnTo>
                <a:lnTo>
                  <a:pt x="245" y="708"/>
                </a:lnTo>
                <a:lnTo>
                  <a:pt x="290" y="704"/>
                </a:lnTo>
                <a:lnTo>
                  <a:pt x="342" y="690"/>
                </a:lnTo>
                <a:lnTo>
                  <a:pt x="460" y="655"/>
                </a:lnTo>
                <a:lnTo>
                  <a:pt x="579" y="611"/>
                </a:lnTo>
                <a:lnTo>
                  <a:pt x="631" y="589"/>
                </a:lnTo>
                <a:lnTo>
                  <a:pt x="675" y="562"/>
                </a:lnTo>
                <a:lnTo>
                  <a:pt x="750" y="513"/>
                </a:lnTo>
                <a:lnTo>
                  <a:pt x="809" y="451"/>
                </a:lnTo>
                <a:lnTo>
                  <a:pt x="861" y="389"/>
                </a:lnTo>
                <a:lnTo>
                  <a:pt x="913" y="323"/>
                </a:lnTo>
                <a:lnTo>
                  <a:pt x="943" y="288"/>
                </a:lnTo>
                <a:lnTo>
                  <a:pt x="980" y="248"/>
                </a:lnTo>
                <a:lnTo>
                  <a:pt x="1039" y="164"/>
                </a:lnTo>
                <a:lnTo>
                  <a:pt x="1076" y="124"/>
                </a:lnTo>
                <a:lnTo>
                  <a:pt x="1106" y="88"/>
                </a:lnTo>
                <a:lnTo>
                  <a:pt x="1128" y="57"/>
                </a:lnTo>
                <a:lnTo>
                  <a:pt x="1158" y="35"/>
                </a:lnTo>
                <a:lnTo>
                  <a:pt x="1180" y="18"/>
                </a:lnTo>
                <a:lnTo>
                  <a:pt x="1195" y="9"/>
                </a:lnTo>
                <a:lnTo>
                  <a:pt x="1210" y="0"/>
                </a:lnTo>
                <a:lnTo>
                  <a:pt x="1232" y="0"/>
                </a:lnTo>
                <a:lnTo>
                  <a:pt x="1247" y="0"/>
                </a:lnTo>
                <a:lnTo>
                  <a:pt x="1261" y="9"/>
                </a:lnTo>
                <a:lnTo>
                  <a:pt x="1276" y="18"/>
                </a:lnTo>
                <a:lnTo>
                  <a:pt x="1299" y="35"/>
                </a:lnTo>
                <a:lnTo>
                  <a:pt x="1321" y="57"/>
                </a:lnTo>
                <a:lnTo>
                  <a:pt x="1350" y="88"/>
                </a:lnTo>
                <a:lnTo>
                  <a:pt x="1380" y="124"/>
                </a:lnTo>
                <a:lnTo>
                  <a:pt x="1410" y="164"/>
                </a:lnTo>
                <a:lnTo>
                  <a:pt x="1469" y="248"/>
                </a:lnTo>
                <a:lnTo>
                  <a:pt x="1506" y="288"/>
                </a:lnTo>
                <a:lnTo>
                  <a:pt x="1543" y="323"/>
                </a:lnTo>
                <a:lnTo>
                  <a:pt x="1580" y="358"/>
                </a:lnTo>
                <a:lnTo>
                  <a:pt x="1625" y="394"/>
                </a:lnTo>
                <a:lnTo>
                  <a:pt x="1714" y="469"/>
                </a:lnTo>
                <a:lnTo>
                  <a:pt x="1758" y="504"/>
                </a:lnTo>
                <a:lnTo>
                  <a:pt x="1810" y="531"/>
                </a:lnTo>
                <a:lnTo>
                  <a:pt x="1862" y="553"/>
                </a:lnTo>
                <a:lnTo>
                  <a:pt x="1922" y="562"/>
                </a:lnTo>
                <a:lnTo>
                  <a:pt x="1988" y="562"/>
                </a:lnTo>
                <a:lnTo>
                  <a:pt x="2063" y="558"/>
                </a:lnTo>
                <a:lnTo>
                  <a:pt x="2137" y="540"/>
                </a:lnTo>
                <a:lnTo>
                  <a:pt x="2211" y="522"/>
                </a:lnTo>
                <a:lnTo>
                  <a:pt x="2367" y="474"/>
                </a:lnTo>
                <a:lnTo>
                  <a:pt x="2441" y="447"/>
                </a:lnTo>
                <a:lnTo>
                  <a:pt x="2500" y="420"/>
                </a:lnTo>
                <a:lnTo>
                  <a:pt x="2552" y="394"/>
                </a:lnTo>
                <a:lnTo>
                  <a:pt x="2604" y="358"/>
                </a:lnTo>
                <a:lnTo>
                  <a:pt x="2686" y="283"/>
                </a:lnTo>
                <a:lnTo>
                  <a:pt x="2723" y="243"/>
                </a:lnTo>
                <a:lnTo>
                  <a:pt x="2760" y="217"/>
                </a:lnTo>
                <a:lnTo>
                  <a:pt x="2797" y="195"/>
                </a:lnTo>
                <a:lnTo>
                  <a:pt x="2834" y="181"/>
                </a:lnTo>
                <a:lnTo>
                  <a:pt x="2871" y="181"/>
                </a:lnTo>
                <a:lnTo>
                  <a:pt x="2908" y="186"/>
                </a:lnTo>
                <a:lnTo>
                  <a:pt x="2945" y="199"/>
                </a:lnTo>
                <a:lnTo>
                  <a:pt x="2982" y="221"/>
                </a:lnTo>
                <a:lnTo>
                  <a:pt x="3057" y="270"/>
                </a:lnTo>
                <a:lnTo>
                  <a:pt x="3123" y="323"/>
                </a:lnTo>
                <a:lnTo>
                  <a:pt x="3160" y="354"/>
                </a:lnTo>
                <a:lnTo>
                  <a:pt x="3190" y="389"/>
                </a:lnTo>
                <a:lnTo>
                  <a:pt x="3257" y="469"/>
                </a:lnTo>
                <a:lnTo>
                  <a:pt x="3286" y="513"/>
                </a:lnTo>
                <a:lnTo>
                  <a:pt x="3309" y="549"/>
                </a:lnTo>
                <a:lnTo>
                  <a:pt x="3338" y="584"/>
                </a:lnTo>
                <a:lnTo>
                  <a:pt x="3361" y="611"/>
                </a:lnTo>
                <a:lnTo>
                  <a:pt x="3383" y="633"/>
                </a:lnTo>
                <a:lnTo>
                  <a:pt x="3413" y="651"/>
                </a:lnTo>
                <a:lnTo>
                  <a:pt x="3450" y="677"/>
                </a:lnTo>
                <a:lnTo>
                  <a:pt x="3487" y="695"/>
                </a:lnTo>
                <a:lnTo>
                  <a:pt x="3509" y="708"/>
                </a:lnTo>
              </a:path>
            </a:pathLst>
          </a:custGeom>
          <a:noFill/>
          <a:ln cap="rnd"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631880" y="3254400"/>
            <a:ext cx="0" cy="1598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59080" y="4784760"/>
            <a:ext cx="6094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219320" y="3200400"/>
            <a:ext cx="4125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354440" y="4815000"/>
            <a:ext cx="227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0447-4C75-4993-9167-6F0509DCD1F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What We’ll Do ...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andom-number gener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nerating random variat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nstationary Poisson process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ariance redu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quential sampl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igning and executing simulation experimen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4495680"/>
            <a:ext cx="8077320" cy="1189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ackup materi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ppendix C: A Refresher on Probability and Stat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ppendix D: Arena’s Probabilit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5429-771A-4D9C-8315-4FA9AC1FDB6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Nonstationary Poisson Processes – Estimating the Rate Function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timation of the rate fun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ably the most practical method is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piecewise cons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ide on a time interval within which rate is fix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imate from data the (constant) rate during each inter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 careful to get the units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(more complicated) methods exist in the lit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219320" y="3505320"/>
            <a:ext cx="6448320" cy="1776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553A-AD93-45E5-81F1-2186B301B43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Nonstationary Poisson Processes – Generation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na has a built-in method to generate, assuming a piecewise-constant rate fun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rival Schedule in Create module – call center (Model 5-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thod is to invert a rate-one stationary Poisson process against the cumulate rate function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ilar to inverting CDF for continuous random-variable gen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oits some speed-up possib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ails in Help topic “Non-Stationary Exponential Distributio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ternative method: “thinning” of a stationary Poisson process at the peak rat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928D-ED91-4365-B91F-C104946915A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Variance Reduction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andom input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random output (RIRO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 other words, output has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varia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er output variance means less precise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uld like to eliminate or reduce output vari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(bad) way to eliminate:  replace all input random variables by constants (like their mea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ll get rid of random output, but will also invalidate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us, best hope is to reduce output vari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asy (brute-force) variance reduction:  just simulate some mor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minating:  additional re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ady-state:  additional replications or a longer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B616-1E9B-478D-868C-84523A81D2B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Variance Reduction</a:t>
            </a:r>
            <a:r>
              <a:rPr b="1" lang="en-US" sz="1800" spc="-1" strike="noStrike">
                <a:solidFill>
                  <a:srgbClr val="00009b"/>
                </a:solidFill>
                <a:latin typeface="Arial"/>
              </a:rPr>
              <a:t> (cont’d.)</a:t>
            </a:r>
            <a:endParaRPr b="1" lang="en-US" sz="18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ut sometimes can reduce variance without more runs — free lunch (?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ey:  unlike physical experiments, can control randomness in computer-simulation experiments via manipulating the R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-use the same “random” numbers either as they were, in some opposite sense, or for a similar but simpler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ral different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variance-reduction techniqu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ified into categories —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common random numb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antithetic varia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control varia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indirect estim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ually requires thorough understanding of model, “cod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look only at common random numbers in det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CC84-5C5C-48AE-9113-7440DB51088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Common Random Numbers (CRN)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pplies when objective is to compare two (or more) alternative configurations or mode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est is in difference(s) of performance measure(s) across altern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all Model 5-3 (call center) — two altern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.  Base 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.  One more unit of resource to sales, tech-support types, trunk l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uition:  get sharper comparison if you subject all alternatives to the same “conditions”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n observed differences are due to model differences rather than random differences in the “condition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center:  calls arrive at the same times, assigned same attributes, same process times, same chance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7F3A-F700-4EB7-9EA8-827D841F772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Synchronization of Random Numbers  in CRN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nerally, get CRN by using the same RNG, seed, stream(s) for all alternativ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re using the same stream, default = stream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its usage generally gets mixed up across altern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ust use the same random numbers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for the same purpose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cross the alternatives —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synchronizati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of random-number usa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ually requires some work, understanding of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ually use different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stream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the R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ually different ways to do this in a given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times can’t synchronize completely for complex models — settle for partial 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AA0E-7087-4A2D-B1A1-D51F6AB9504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Synchronization of Random Numbers  in CRN</a:t>
            </a:r>
            <a:r>
              <a:rPr b="1" lang="en-US" sz="1800" spc="-1" strike="noStrike">
                <a:solidFill>
                  <a:srgbClr val="00009b"/>
                </a:solidFill>
                <a:latin typeface="Arial"/>
              </a:rPr>
              <a:t> (cont’d.)</a:t>
            </a:r>
            <a:endParaRPr b="1" lang="en-US" sz="18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ynchronize by source of randomness (we’ll do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ign stream to each point of variate gen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parate random-number “faucets” … extra parameter in r.v. c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l center, Model 5-3: 13 sources of randomness, separate stream for each (see book for details), modify into Model 11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-did chance-type Decide modules “by hand” to control random-number allocation (to avoid default use of stream 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irly simple but might not ensure complete 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ill usually get some benefit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ynchronize by entity (won’t do — see Exercises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-generate every possible random variate an entity might need when it arrives, assign to attributes, used downstr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ter synchronization insurance but uses mor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AC7C-31F3-4831-B456-F4592D14682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Effect of CRN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o versions of call-center mod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 case – no extra resources – alternative “A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ra $1200 – spend on any one resource – alternative “B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rlier comparison (Chapter 5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 Analyzer, Compare Means – half-width on expected difference = 12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same random numbers (default stream 10 for everything), but was unsynchroniz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mon random numbers, source-synchroniz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 Analyzer, Compare Means – half-width on expected difference = 1080 … no more simulation “effort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ross replications, RNG goes to next substrea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ains synchronization if alternatives disagree on number of random nu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AE5D-FE07-4883-ACD2-F0CB31F6E06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CRN Statistical Issues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 Output Analyzer,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nalyze/Compare Mean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option, have choice of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Paired-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Two-Sample-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for c.i. test on difference between mea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ired-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ubtracts results replication by replication — must use this if doing C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Sample-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reats the samples independently — can use this if doing independent sampling, often better than Paired-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thematical justification for CR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output r.v. from alternative A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output from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= Var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+ Var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– 2 Cov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6400440" y="5562360"/>
            <a:ext cx="2191320" cy="872280"/>
            <a:chOff x="6400440" y="5562360"/>
            <a:chExt cx="2191320" cy="872280"/>
          </a:xfrm>
        </p:grpSpPr>
        <p:sp>
          <p:nvSpPr>
            <p:cNvPr id="159" name=""/>
            <p:cNvSpPr/>
            <p:nvPr/>
          </p:nvSpPr>
          <p:spPr>
            <a:xfrm>
              <a:off x="6903720" y="5730840"/>
              <a:ext cx="1688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 if inde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&gt; 0 with CR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 rot="16200000">
              <a:off x="6984000" y="4978440"/>
              <a:ext cx="152280" cy="131940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34200 h 1319400"/>
                <a:gd name="textAreaBottom" fmla="*/ 1285200 h 1319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4CA7-60EF-456F-9F37-9A63A8CAF56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Other Variance-Reduction Techniques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 single-system simulation, not comparis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Antithetic variate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  make pairs of ru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’s” on first run of pair, “1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’s” on second run of p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e average of two runs:  negatively correlated, reducing variance of av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ke CRN, must take care to synchron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Control variat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internal variate generation to “control” results up, d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Indirect estim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ulation estimates something other than what you want, but related to what you want by a fixed form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B214-A95A-4ADD-9579-B4C32B0D6A0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Random-Number Generators (RNGs)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gorithm to generate independent, identically distributed draws from the continuous UNIF (0, 1) distribu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are called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random number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sim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sis for generating observations from all other distributions and random process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form random numbers in a way that depends on the desired distribution or process (later in this chap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t’s essential to have a good R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re are a lot of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ba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RNGs — this is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very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trick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hods, coding are both tr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6095880" y="2133720"/>
            <a:ext cx="1992960" cy="1124280"/>
            <a:chOff x="6095880" y="2133720"/>
            <a:chExt cx="1992960" cy="1124280"/>
          </a:xfrm>
        </p:grpSpPr>
        <p:sp>
          <p:nvSpPr>
            <p:cNvPr id="54" name=""/>
            <p:cNvSpPr/>
            <p:nvPr/>
          </p:nvSpPr>
          <p:spPr>
            <a:xfrm>
              <a:off x="7827480" y="2927520"/>
              <a:ext cx="2613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574320" y="2982960"/>
              <a:ext cx="2703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412400" y="2949480"/>
              <a:ext cx="2703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6095880" y="2133720"/>
              <a:ext cx="1827000" cy="869760"/>
              <a:chOff x="6095880" y="2133720"/>
              <a:chExt cx="1827000" cy="869760"/>
            </a:xfrm>
          </p:grpSpPr>
          <p:grpSp>
            <p:nvGrpSpPr>
              <p:cNvPr id="58" name=""/>
              <p:cNvGrpSpPr/>
              <p:nvPr/>
            </p:nvGrpSpPr>
            <p:grpSpPr>
              <a:xfrm>
                <a:off x="6095880" y="2133720"/>
                <a:ext cx="1827000" cy="869760"/>
                <a:chOff x="6095880" y="2133720"/>
                <a:chExt cx="1827000" cy="869760"/>
              </a:xfrm>
            </p:grpSpPr>
            <p:sp>
              <p:nvSpPr>
                <p:cNvPr id="59" name=""/>
                <p:cNvSpPr/>
                <p:nvPr/>
              </p:nvSpPr>
              <p:spPr>
                <a:xfrm>
                  <a:off x="6095880" y="2905200"/>
                  <a:ext cx="1827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6703920" y="2395440"/>
                  <a:ext cx="0" cy="608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6486480" y="2133720"/>
                  <a:ext cx="40500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f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(</a:t>
                  </a:r>
                  <a:r>
                    <a:rPr b="0" i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x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6716520" y="2655720"/>
                  <a:ext cx="836640" cy="0"/>
                </a:xfrm>
                <a:prstGeom prst="line">
                  <a:avLst/>
                </a:prstGeom>
                <a:ln w="255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7565760" y="2916360"/>
                  <a:ext cx="303480" cy="0"/>
                </a:xfrm>
                <a:prstGeom prst="line">
                  <a:avLst/>
                </a:prstGeom>
                <a:ln w="255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6183000" y="2917800"/>
                  <a:ext cx="532080" cy="0"/>
                </a:xfrm>
                <a:prstGeom prst="line">
                  <a:avLst/>
                </a:prstGeom>
                <a:ln w="255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5" name=""/>
              <p:cNvSpPr/>
              <p:nvPr/>
            </p:nvSpPr>
            <p:spPr>
              <a:xfrm>
                <a:off x="6482160" y="2514600"/>
                <a:ext cx="2703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B8C8-45FA-4CF2-8ED7-7EDD23DF7D9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Sequential Sampling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ways try to quantify imprecision in resul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imprecision is “small enough,” you’re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not, need to do something to increase prec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st saw one way:  variance-reduction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vious way to increase precision:  keep simulating one more “step” at a time, quit when you achieve desired preci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minating models:  “step” = another re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not extend length of replications — that’s part of the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ady-state mod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p” = another replication if using truncated replications, 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p” = some extension of the run if using batch me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92AD-82EF-4B25-ABA7-F95B6D91AB0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Sequential Sampling — </a:t>
            </a:r>
            <a:br>
              <a:rPr sz="3600"/>
            </a:b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Terminating Models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dify Model 11-1 (call center, base case, with random-number streams) into Model 11-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de 10 replications, get 95% c.i. on expected average Total Cost as 34,137 ± 98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from Chapter 5 results due to stream sepa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se the ± 982 is too big — want to reduce to ± 4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ximate formulas from Sec. 5.8.3:  need 46 or 61 total replications (depending on which formula) rather than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ead, just make one more at a time, re-compute c.i., stop as soon as half-width is less than 4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ick” Arena to keep making more replications until c.i. half-width &lt; tolerance = 4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F7C8-50FD-4B89-9312-65CA81023A6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Sequential Sampling — </a:t>
            </a:r>
            <a:br>
              <a:rPr sz="3600"/>
            </a:b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Terminating Models</a:t>
            </a:r>
            <a:r>
              <a:rPr b="1" lang="en-US" sz="1800" spc="-1" strike="noStrike">
                <a:solidFill>
                  <a:srgbClr val="00009b"/>
                </a:solidFill>
                <a:latin typeface="Arial"/>
              </a:rPr>
              <a:t> (cont’d.)</a:t>
            </a:r>
            <a:endParaRPr b="1" lang="en-US" sz="18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call:  With &gt; 1 replication, automatically get cross-replication 95% c.i.’s for expected values in repor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lated internal Arena variables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UNHALF(Output ID) = half-width of 95% c.i. using completed replications (for us, Output ID =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otal Co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REP = total number of replications asked for (initially, MREP = Number of Replications i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tu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plication Paramet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REP = replication number in progress at the moment (= 1, 2, 3, 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e, manipulate these variabl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874B-996C-4891-A4F0-9F1ADD3A2B8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Sequential Sampling — </a:t>
            </a:r>
            <a:br>
              <a:rPr sz="3600"/>
            </a:b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Terminating Models</a:t>
            </a:r>
            <a:r>
              <a:rPr b="1" lang="en-US" sz="1800" spc="-1" strike="noStrike">
                <a:solidFill>
                  <a:srgbClr val="00009b"/>
                </a:solidFill>
                <a:latin typeface="Arial"/>
              </a:rPr>
              <a:t> (cont’d.)</a:t>
            </a:r>
            <a:endParaRPr b="1" lang="en-US" sz="18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itially set MREP to huge value in Number of Replications in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etup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Replication Paramet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replicating until we cut off when half-width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4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a chunk of logic to sense when d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one “control” entity at beginning of each re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entity immediately checks to see i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RE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2:  This is beginning of 1st or 2nd re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RUNHALF(Total Cost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&gt; 400:  c.i. on completed replications is still too bi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either case, keep going with this replication (and the next one too); control entity is Disposed and takes no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both conditions are false, Control entity Assigns MREP = NREP to stop after this replication, and is Dispo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0675-145A-4B3F-A1DF-C87B79DF1E9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Sequential Sampling — </a:t>
            </a:r>
            <a:br>
              <a:rPr sz="3600"/>
            </a:b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Terminating Models</a:t>
            </a:r>
            <a:r>
              <a:rPr b="1" lang="en-US" sz="1800" spc="-1" strike="noStrike">
                <a:solidFill>
                  <a:srgbClr val="00009b"/>
                </a:solidFill>
                <a:latin typeface="Arial"/>
              </a:rPr>
              <a:t> (cont’d.)</a:t>
            </a:r>
            <a:endParaRPr b="1" lang="en-US" sz="18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tai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overshoots required number of replications by 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Assign module setting MREP to NREP, have to select Type = Other since MREP is a built-in Arena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s:  Stopped with 69 total replications, yielding half width = 382.83 (barely less than 4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from earlier approximations (they’re just tha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neraliza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cision demands on several out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-width stopping:  (half-width) / (pt. estimate) sm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0FB1-C545-40E7-9427-1F18E4BF0B97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Sequential Sampling — </a:t>
            </a:r>
            <a:br>
              <a:rPr sz="3600"/>
            </a:b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Steady-State Models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f doing truncated-replications approach to steady-state statistical analysi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e strategy as above for terminating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rm-up Period specified i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tu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plication Para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r on the side of too much warm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int-estimator bias is especially dangerous in sequential samp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ting tight c.i. centered in the wrong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ighter the c.i. demand, the worse the coverage prob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D89B-0C5A-48F6-8CF5-242D667C3F12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Sequential Sampling — </a:t>
            </a:r>
            <a:br>
              <a:rPr sz="3600"/>
            </a:b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Steady-State Models</a:t>
            </a:r>
            <a:r>
              <a:rPr b="1" lang="en-US" sz="1800" spc="-1" strike="noStrike">
                <a:solidFill>
                  <a:srgbClr val="00009b"/>
                </a:solidFill>
                <a:latin typeface="Arial"/>
              </a:rPr>
              <a:t> (cont’d.)</a:t>
            </a:r>
            <a:endParaRPr b="1" lang="en-US" sz="18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tch-means approac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5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 11-3: modification of Model 6-5 (manufacturing system) – want half-width on E(average WIP) to be &lt;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5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extending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un to reduce c.i. half-wid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5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utomatic run-time batch-means 95% c.i.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5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pping criterion: Terminating Condition field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tu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plication Para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lf-width variables are THALF(Tally ID) or DHALF(Dstat I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us, condition i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HALF(Total WIP) &lt;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5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ove all other stopping devices from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5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“Insuf” or “Corr” would be returned because of too little data, half-width variables set to huge value — keep go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5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ld demand multiple smallness criteria, relative precision (use TAVG, DAVG variables for point-estimate denominat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0C2D-FA96-44CD-92A4-AE9F97F5FE39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Designing and Executing Simulation Experiments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nk of a simulation model as a convenient “testbed” or laboratory for experiment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 at different output respon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 at effects, interaction of different input fa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pply classical experimental-design techniqu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torial experiments — main effects,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actional-factorial experi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tor-screening desig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onse-surface methods, “metamodel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N is “blocking” in experimental-design termi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 Analyzer (PAN) provides a convenient way to carry out a designed experi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9967-39A8-411B-8CEB-2D4952E8CD29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The Nature of RNGs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cursive formula (algorithm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65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 with a seed (or seed vect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65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something to the seed to get the next 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65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… generate the same sequ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65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eventually repeat (cycle) … want long cycle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t really “random” as in unpredict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65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 this matter?  Philosophically?  Practicall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nt to “design” RNG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65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cycle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65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statistical properties (uniform, independent) --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65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65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ams (subsegments) – many and long (for variance reduction … la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s is not easy!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65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ing something weird isn’t enou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D06F-D80B-43B3-A096-23AF5B89F5E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Linear Congruential Generators</a:t>
            </a:r>
            <a:br>
              <a:rPr sz="3600"/>
            </a:b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(LCGs)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5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most common of several different method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5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one in Arena (though it’s related) … more l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5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nerate a sequence of integers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… via the recur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Z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–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 (mod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5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re carefully chosen constan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5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cify a seed,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to start off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5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d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” means take the remainder of dividing b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s the next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5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l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’s are between 0 and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5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turn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“random number” as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78D3-C867-4612-93A2-24EA6B383E0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Example of a “Toy” LCG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rameters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= 63,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= 22,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= 4,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= 19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= (22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–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+ 4) (mod 63), seed with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= 19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2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–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42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.698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97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.428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59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.492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68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.8889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15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.5079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70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.238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33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9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.301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64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422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44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0.6984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65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972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7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0.4286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66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598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31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0.4921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: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735360" y="3429000"/>
            <a:ext cx="496764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34800" indent="-3348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Cycl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— will repeat fore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ycle length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could be &lt;&lt;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epe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 paramete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ick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BI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t that might not be enough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good statistical prope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514600" y="2514600"/>
            <a:ext cx="0" cy="387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905120" y="2514600"/>
            <a:ext cx="0" cy="387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14400" y="2514600"/>
            <a:ext cx="0" cy="387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57200" y="2514600"/>
            <a:ext cx="3255840" cy="3867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57200" y="2854440"/>
            <a:ext cx="3259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1E96-9CAC-4513-B5ED-938486DB3CC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Issues with LCGs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ycle length: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&lt;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ically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2.1 billion (=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1) or m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ch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s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be a lot … more l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parameters chosen so that cycle length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tistical propert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formity, indepen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many tests of R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pirical te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oretical tests — “lattice” structure (next slide 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, storage — both are usually fi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ust be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carefully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cleverly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coded —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BI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integ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Reproducibility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— streams (long internal subsequences) with fixed seed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44F2-AE7E-4C2D-9831-77FD9EB8C14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Issues with LCGs</a:t>
            </a:r>
            <a:r>
              <a:rPr b="1" lang="en-US" sz="1800" spc="-1" strike="noStrike">
                <a:solidFill>
                  <a:srgbClr val="00009b"/>
                </a:solidFill>
                <a:latin typeface="Arial"/>
              </a:rPr>
              <a:t> (cont’d.)</a:t>
            </a:r>
            <a:endParaRPr b="1" lang="en-US" sz="18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gularity” of LCGs (and other kinds of RNGs):  For the earlier “toy” LCG 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ign” RNGs: dense lattice in high dimen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ther kinds of RNGs — longer memory in recursion, combination of several RNG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324480" y="2895480"/>
            <a:ext cx="26672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Random Numbers Fall Mainly in the Planes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—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George Marsagl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295640" y="2209680"/>
            <a:ext cx="216756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ot of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vs.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038480" y="2209680"/>
            <a:ext cx="26114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ot of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i+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vs.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066680" y="2743200"/>
            <a:ext cx="5052960" cy="1922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1317-4DA1-4B67-A8E7-17C134FB7B3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The Original (1983) Arena RNG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CG with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 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3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1 = 2,147,483,647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 7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 16,807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ycle length =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1 = 2.1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9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n different automatic streams with fixed seed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 its day, this was a good, well-tested generator in an efficient co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ut current computer speed make this cycle length inadequat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haust in half hour on 600 MHz PC if we just 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n get this generator (not recommended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ce a Seeds module (Elements panel) in your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56C6-266B-4F68-A3CF-2839230FDFF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3T20:49:48Z</dcterms:created>
  <dc:creator>Kelton/Sadowski/Sadowski</dc:creator>
  <dc:description/>
  <dc:language>en-US</dc:language>
  <cp:lastModifiedBy>Carlos Saenz</cp:lastModifiedBy>
  <cp:lastPrinted>2001-11-11T22:00:00Z</cp:lastPrinted>
  <dcterms:modified xsi:type="dcterms:W3CDTF">2002-05-18T06:03:23Z</dcterms:modified>
  <cp:revision>762</cp:revision>
  <dc:subject/>
  <dc:title>Chapter 11 -- Further Statistical Issues</dc:title>
</cp:coreProperties>
</file>