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notesSlide72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232240" y="-360"/>
            <a:ext cx="40039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659640"/>
            <a:ext cx="400356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232240" y="6659640"/>
            <a:ext cx="400392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9D199A-B0BC-4562-A087-23BFDC555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5232240" y="6659640"/>
            <a:ext cx="400392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90FF1A1-7FD4-4340-9E9E-05669120B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6659640"/>
            <a:ext cx="400356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232240" y="-360"/>
            <a:ext cx="40039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71720" y="53028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5232240" y="6659640"/>
            <a:ext cx="400392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C6759B-F6BC-411A-ABD4-0C223AE3A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6659640"/>
            <a:ext cx="4003560" cy="350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32240" y="-360"/>
            <a:ext cx="40039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71720" y="530280"/>
            <a:ext cx="3492720" cy="2619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31920" y="3330720"/>
            <a:ext cx="677232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253-ECD4-482B-AE98-A8BC46CF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88A-572D-42AF-B064-A9E8725E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CEF-834A-4CEA-9DED-C7C8F44E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AEE-9DED-4D63-9932-B5E35E75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957-EC23-41C9-94A1-27C5ED3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3D1-DBA7-4CDF-BED6-058DB2CC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A821-32D0-41AF-B518-6E9B8A05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5E1-6174-443F-A98A-514CC74B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E3F-C3E0-4B79-B162-6861CD2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616-96F7-4DD1-B758-28E8F99A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9D7-2A75-4420-99A1-4C5E5CA1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B96-7869-4F05-AA4A-39DE0EF9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hapter 5 – Detailed Modeling and Terminating Statistical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BC35A5BF-E50D-43ED-B3CF-1F92C48FCBE3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of 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rontCover" descr=""/>
          <p:cNvPicPr/>
          <p:nvPr/>
        </p:nvPicPr>
        <p:blipFill>
          <a:blip r:embed="rId2"/>
          <a:stretch/>
        </p:blipFill>
        <p:spPr>
          <a:xfrm>
            <a:off x="0" y="6553080"/>
            <a:ext cx="254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b"/>
                </a:solidFill>
                <a:latin typeface="Arial"/>
              </a:rPr>
              <a:t>Detailed Modeling and Terminating Statistical Analysis</a:t>
            </a:r>
            <a:endParaRPr b="1" lang="en-US" sz="4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rontCover" descr=""/>
          <p:cNvPicPr/>
          <p:nvPr/>
        </p:nvPicPr>
        <p:blipFill>
          <a:blip r:embed="rId1"/>
          <a:stretch/>
        </p:blipFill>
        <p:spPr>
          <a:xfrm>
            <a:off x="0" y="0"/>
            <a:ext cx="18446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B0C0-00A4-42A1-8B9A-BF0C943F17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ffing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staff:  7 people with staggered sche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on duty for first 90 minutes (notation:  3@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7@90, 6@90, 7@60, 6@120, 7@120, 4@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 support staff:  11 people variously qualified for the three different product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eight-hour days plus 30 minutes off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only qualified on on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qualified on two or maybe all three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staffing description and schedul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1E0-4A28-46BA-9441-9F69A9B05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chnical-Support Staff Schedul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410320" cy="410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76A-4542-4A47-A767-495F53F9FB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Modeling Issu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 service (not manufacturing)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n use same model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stationary arrival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ivals occur one at a time and are independent of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rat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 (would be constant for a stationary Poisso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to Create module (beware of popular-but-wrong methods … details in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k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because there are only 26 trunk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arrives at queue, which is full (capacity is 0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departs from system – count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65-AD0F-4E5F-886A-C97E8FA075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 Modeling Issu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-way dec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or call can go to one of three places in model based on ca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ly, tech-support calls can go to one of three places based on produ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available in Decid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s of similar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ferenced by a common set name and index (1, 2, 3, …) into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be referenced by original name, independent of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-support staff requires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can be a member of more than on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3A1-D01A-4C3E-A05C-9038E4B73A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 Modeling Issu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 and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ferenced in model b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one- or two-dimensional arrays, indexed by one or two inte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some numerical value (not a formu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initialized in Variable data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, reassigned during the simulation run by any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ame defined by a mathematica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name can be references anywhere in th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nstants, Variables, Attributes, system state variables, values from distribution – connected via mathematic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use Expression Builder to help 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in Expression data module (Advanced Process pa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4E4-AD38-482A-BD6F-FB2E2B0011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New  Modeling Issue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tion simulation model into several smaller sub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link them together, more manageable pi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like a normal model view within a sub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odels can also contain further submodels, etc. – hierarch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odels can be externally connected to other modules or sub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e panel in Project Bar shows submodels, under Top-Lev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ime and cost information for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, value-added, non-value-added, transfer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enter cost information – Entity and Resource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576-ABA8-4152-9B04-C72D115F36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Key Output Performance Meas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alk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— no. of attempted incoming calls sent away due to all 26 trunk lines being bu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not model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reneg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customers in queue leaving the system if they get sick of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time in system, by custome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waiting for a real person, by custome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time, by custome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of calls waiting, by customer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util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42B-63BB-43A4-81F8-9065973A62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on Requiremen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ntity movement to animate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still display que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e how well staffing matches up with load, craft appropriate plots vs.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alls b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s of qu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dl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 to improve performance — alter the staffing schedule, see if it produces a better matchup of the plo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DE3-04CC-4B32-B3D4-8B705BE2E6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ystem or Simulation Typ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ermin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starting and stopping conditions – part of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is known (and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eady-St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ditions are not always well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fined stopping condition (theoretically in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ed in system response over the long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-center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8 AM and end at 7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chnical support calls are held over, but not many – we’ll ignore this aspect (sort of … fixed be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the system as terminating (sort of … see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793-503C-48EB-9419-77A1725D68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rena Modeling Pan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 of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Process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etailed (and different) modeling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Transfer pan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-handling, entity-movement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cks, Elements pan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level of modeling capabilities – the underlying SIMAN simulation language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anels are created using modules from these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needed, but not very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1B0-D57B-443D-ACE0-2E76902AF7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lower-level modeling constr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5-1:  A generic call-center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stationary arriv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king, three-way decisions, sets, variables, expressions, submodels, and 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5-2:  Animating the call center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s, global pictures, and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5-3:  The model with overall performance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conditions, model size and speed, overall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1AF-A6EB-4718-8D0A-568C8448A8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Building the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ng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model Cre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 model in sections or sub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the Tim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rrivals and Direct to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upport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upport Returned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-Status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’ll discuss each of these in turn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FED-BA9D-4DBF-8944-22EC4C03EE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tion Replication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replication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/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alog – Replication Parameters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eplications of 11 hours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options for Initialization Between Re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ystem (yes), initialize statistics (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independent and identical replications – no calls carried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for each day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ystem (yes), initialize statistics (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independent and identical replications – no calls carried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ulative summary reports (day 1, days 1-2, days 1-3, …, days 1-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ystem (no), initialize statistics (yes):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continuous days – calls carried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 are by replication (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system (no), initialize statistics (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continuous days – calls carried 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mulative summary re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EDD-EAB0-4A3C-B850-25845A76C8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chedule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into Schedule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schedule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or each of the 11 technical-support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for the sales staff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rival process (Typ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i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o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aphical schedule editor (ini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dit via Dialog (or Edit via Spreadsheet) if you need trailing zeros in the capacity to fill out the cycling time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need this in this model due to not Initializing System between replications … see book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832-F9DE-43F4-BD9B-6C69752181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ource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re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source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es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technical 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k Line (single resource with 26 un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Schedule Name for all but Trunk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sources on a Schedule, use Ignore option for Schedule Rule to ensure correct cross-day modeling … details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hourly wage under cos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2DA0-2C9A-44E1-8EFF-4F949F8753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ts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Set data module (Basic Process pane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three Resource sets for technical support sta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ity, Noah, Molly, Anna, Sa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ney, Sean, Emma, Anna, Sa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ey, Jenny, Christie, Molly, Anna, Sa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nna and Sammy are in all thre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ly listed the more versatile staff at the end of the list in each set … “save” them … discussed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0F1-8F02-41B1-A4FC-7B385612E5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ts Data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two Tally 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1 Call, Product 2 Call, Product 3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1 Call, Return 2 Call, Return 3 C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used to collect statistics by produ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a Counter 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rack of number of balks per half-hou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 counters – one for each half-hou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fined 22 counters in Statistic data module (Advanced Process pa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963-E63F-45F5-9F5D-1C0AA293B1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Variables and Expressions Dat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ariable data module to define the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he current time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sy Per 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usy signals in current time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 Period Bal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otal balks for last completed time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– explicit use of Variables module is required only if you want a Variable to have a non-zero initi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xpression data module to define thre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ed Tech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duration of returned tech-support calls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(2, 4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ch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duration of tech-support calls 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A(3, 6, 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ailabl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ailabl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vailab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 of currently available, but idle, resources by product type, for staffing pl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Expression Builder … details in book,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02D-8BC4-41EC-999A-13FCDF23A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Creatio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3200400"/>
            <a:ext cx="89913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/Submodel/Add Submode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nu option to create a submodel … we’ll use six sub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(right-click, then Proper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ntry, exit points (could be 0 if there’s no flow inter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between submodels: Navigate panel, Named Views, or 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click on a submodel to ope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n a submodel, right-click in an empty place, then Close Submodel, to go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478720" cy="182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CFE-573F-4322-97D8-B9227ACB78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ime Period Counter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s the time period cou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entry or exit points – interacts via Variables, not fl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Counter Entity – Creat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Arrivals – 660 minutes (cons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Period – Assign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7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Period variable value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799480" cy="23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6207-0C0F-42B5-865F-7547623FC7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ime Period Counter Submodel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Variables – Assign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for the next half-hou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 Period B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y Per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value (number of calls balked during previous half ho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y Per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to zero to start balk counting during the half hour starting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Period – Decid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Way by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f there are still more periods in this day (i.e., i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:  Delay for a half hour – Delay module, then loop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 Dispose of entity – Dispose 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109-9ED4-47DF-BAD0-8A6F0E2208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What We’ll Do ...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analysis of simulation output (terminating syste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ame of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for data collect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two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many alternatives via the Arena Process Analyzer (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for and optimal alternative with Opt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61F-E090-4683-8169-D8E1E0676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reate and Direct Arrivals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4495680"/>
            <a:ext cx="8991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s arrivals, checks for available trunk line, and directs to appropriate type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ntr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exit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 Call, Sales Call, Order Status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32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9F1-DBBE-42C0-BE63-A71A026CBC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arriving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runk line is available – seize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ival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(for use down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to listen to reco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call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all and assign entit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(all trunk lines are bus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balked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sy Per Peri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e of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19D-6A14-4626-BDEC-0E35011F20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velop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arriving calls – Creat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etween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Nam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ival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defined when we defined the data for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for available trunk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/Seize module combination (Blocks pa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queue capacity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runk line available, resource seized in following Seiz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truck line available, entity will automatically b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852-1731-4DFA-8C2D-91ACCC6F57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velop Submodel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arrival time – Assign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rena variable TNOW = current simulation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for Recording – Delay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Delay module from Blocks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of units – no choice here (uses Base Time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call – Decid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-way by Chanc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probabilities as percents (0 –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call type – Assign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ntity type to ca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A17-07CF-41DD-B525-FD32A368B9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Develop Submodel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lking ent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balked call – Recor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into counter se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sy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index is the varia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sy Per Peri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 – Assig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e of balked call call – Dispos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CDE-6BC0-4EBA-928A-DB7443124CD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chnical Support Calls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320" y="5181120"/>
            <a:ext cx="8991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for servicing technical support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entry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exit point – follow-up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48720" cy="39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609-A261-444E-8EA2-6D4347C30F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to listen to recording – Delay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(0.1, 0.5)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product type – Decid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ay by Ch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ze technical support per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ze module – Advanced Process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from appropriate set for produ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red order within th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more versatile employees for other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set index (particular tech-support person) in attrib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Agent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returned tech call is needed – get same tech-support person to call customer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E68-93E5-41FC-8B93-05F1CA44A5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product type and call start time – Assign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ype (1, 2, or 3) in attrib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value from TNOW to attrib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ll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for call – Delay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alue from expressi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tech-support person and trunk 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module – Advanced Process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t index in attribut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Agent 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lease the particular tech-support person assigned from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the seized uni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nk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E07-5AA9-400C-B3A6-32B3D64959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call and line time – Record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nterva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y 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nde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du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only the time spent during the tech-support conversation (necessar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tech line time – Record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Interva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Support Lin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Tally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riv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ribute set when call first arrived, so this records the total time in the system so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to exit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D14-7DED-4ABD-B6B4-95E64AD79C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turned Tech Calls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548640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for returned tech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entry point, no exit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10600" cy="42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597-2F95-404D-8EA3-4812640C04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ic Call Center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(Model 5-1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telephone number, 26 trunk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ll 26 lines busy, caller gets busy signal and goe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ed call gets recording asking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support? (76% of callers choose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information? (1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-status inquiry?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for caller to choose ~ UNIF (0.1, 0.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imes are in minutes in this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F6D-E324-435E-8B1B-1D474A499E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for returned call – Decid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 returned call i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e of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returned call i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Type set to Returned Call – Assign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or response time – Delay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by produc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way by Condition based on attrib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ze tech-support person and trunk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ze module:  Seize specific member of appropriate Resourc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Set Index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ch Agent Ind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ize Trunk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4343400"/>
            <a:ext cx="129528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use of “==” to check for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A9B-6DB0-49BA-9B11-4E7D6109FB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or call time – Delay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ed Tec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tech person and trunk line – Releas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returned time – Recor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beginning-time attrib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ival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fined when call first arrived, so this records total time i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ally Se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x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e of entity – Dispos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B03C-8352-4F15-9F13-254E6277CD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les Calls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20" y="3504960"/>
            <a:ext cx="8991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for sales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entry point, no exit poi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s 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hared 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by two or more seize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the “real” incoming sales calls, as well as those order-status calls requiring more than just the automate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325840" cy="186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390-30BC-4A77-A38F-C1B875B726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ize sales person – Seiz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queue declared in Queue data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for call – Delay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sales person and Trunk Line – Relea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call time – Record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elapsed time from call’s original arrival until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ose of entity - Dispo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99F5-43B2-4628-907D-AFAE1E3C1B4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rder-Status Calls Sub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320" y="4572000"/>
            <a:ext cx="8991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 for order-status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entry point, no exit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d queue used when sales person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88120" cy="29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061-284A-4412-98AE-208B9C62EE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ubmodel Logic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for call – Delay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de if Sales person required – Decid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sales person is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ize sales person – Seize module, shared 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delay – Delay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sales person – Release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call – Record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psed time from call’s arrival to system up to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ease trunk line – Relea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ose of entity – Dispose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33E-502E-40FA-96BC-D8C944628E8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nding and Fixing Model Error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na picks up “simple” errors in Check phase, and leads you to them via Find and Edit buttons in Errors/Warnings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fined variables, attributes,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nnecte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icate modu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kinds of errors are more complex, can’t be detected without trying to run — options on Run Interaction toolbar or on Run men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mention capabilities here; see text for detai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3E71-7563-45CE-B3A6-C82DA903C6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nding and Fixing Model Erro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Controller — Command-driven window to control, display details about model operation and underlying SIMAN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ce — Follow active modules, selected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light active module – highlights the active module during the simulation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s – gives control over what you see during the simulation r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C52-792C-419E-ACC1-51EF53DD8D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Finding and Fixing Model Error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on Module; Break — stop run when entity hits a selected module, at a specific time, or when a selected entity is about to become ac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ch — select expressions to display in a window as model ru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ok at reports when model is running or pa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to close reports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355-5BD1-4B65-B7A6-796A01D46F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5-2: Animating the Mod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“normal” entity animation — just plots, queues, a few other “data” anim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s (all vs. time on horizontal axi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lengths (as in earlier mod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ks per period — reason for variable Per Period B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ech support people available for each product type — reason for the “Available” expressions defined in Expressions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multiple plots, configure first one, then copy/edit for others to get consistent look and feel; snap to grid to al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animations for Period and D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41F9-FC62-4ECA-92AC-84F4D54A90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chnical Support Cal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t second recording asking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ype 1? (25% of tech support callers choose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ype 2? (3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type 3? (41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ing and choosing takes UNIF(0.1, 0.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qualified tech-support person is available for chosen product, call routed for immediate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call placed in (electronic) queue, subjected to annoying rock mu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ech support conversations ~ TRIA (3, 6, 18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call done, customer exits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30B-1FE0-4011-ACF2-B756DB09A4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ng the Model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d digital clock “by hand” (details in tex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not ready-made animated clocks?  We didn’t reset the system state between replications, so internal clock just keeps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and queue anim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for realism — doesn’t add any analysis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 button from Animate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pictures from libraries (.plb files),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ue button from Animate tool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various text annotations, boxes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1BA-1CA4-4299-B874-80BB888077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nimating the Model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s for further ani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using Delay modules from Blocks panel, not Advanced Process 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 this only for the delay listening to the first recorded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a Storage name in the Blocks Delay modul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ssag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button from Animate Transfer too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imated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vailable trunk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available sales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ales call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EDC-6C75-4529-A275-733C1C28C2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 5-3: Model for Analysis with Overall Performance Measur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y the call-center model for intensiv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un conditions – to allow valid statistic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size – to continue to fit in academic version and make room for other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– to allow for extens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verall performance measures to consider both resource costs and customer-orient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on Model 5-1 rather than Model 5-2 since the latter adds only animation and we’re now crunching nu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48A-21A1-4ABE-B758-75346832DD8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 Condi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valid terminating statistical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plications must start independently with no model-state carry-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“Initialize System Between Replica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check “Initialize Statistics Between Replica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truly independent and identically distributed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turned tech-support follow-up calls lost – unreal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omise – redefine a “replication” to be a five-day work week … Monday-Thursday returned tech-support calls carried over, Friday-night one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eplication Length = 5 Days, specify 11 Hour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Batch Run (No Animatio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405-5BB0-4AC8-86D4-E94513FBE5C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limming Down and Speeding Up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ademic version places several different kinds of limits on model “siz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of 150 concurrent entities … though millions could pass through … this limit is not a problem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of 150 “module instances” … includes flowchart modules, and each entry (line) in data modules … this lim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need room to add new output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number of module inst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many statistical accumulators … included getting rid of lines in data modules, entire flowchart modules, and unchecking stat-collection boxes … details in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lso increased speed by factor of 3 to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since this model will be exercised inten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AEC-254E-4089-B2AE-2C3631B5C2A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verall Performance Measur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n overall cost measure – reduce, minim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rollable input parameters affect cost? 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components to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staffing and resources – tangible, meas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poor customer service – intangible, hard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ffing and resource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salaries: $18 for sales, $16 to $20 for tech-support depending on training (see Resource data mo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ies paid whenever person is on duty, whether busy or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current weekly payroll of $13,110 =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ff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10D-3EE9-4F8C-A293-EE505248FD3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Generalize for More Staff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improve service via more sta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certainly increase staff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improve customer service to make it worth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-model results – worst staffing shortfalls are between 11:30AM and 3:30P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sales and tech-support staff for that four-hour period (half-hours 8 through 1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F1B0-53E6-4D54-A010-C14C59E5FE1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tional Sales Staff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Sa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be the number of additional salespersons to add in periods 8-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in Variable data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 Schedule data module (un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es Sche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… add to number of sales staff in base model in periods 8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use Edit via Dialog or Spreadsheet since Graphical Schedule Editor cannot handle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for each new salesperson: $15/hou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ill work 20 hours/week, so cost $300/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ales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t to 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st i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*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ales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used in Expression for for new resource co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es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838-98FC-40BC-B6D6-252F8E22BFF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dditional Tech-Support Staff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y add new tech-support staff for products 1, 2, 3 (only), and for all pro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Larrys, Moes, and Curlys, resp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id $14/hr * 20 hrs/week = $280/week (varia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MC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d Herman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id $17/hr * 20 hrs/week = $340/week (varia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r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data module – define resource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rma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and hourly costs for them (not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data module – ad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rma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ppropriate resource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data module – ad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r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ur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erman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hedules … can’t use Graphical Schedule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928A-B6A9-44C1-85B8-DD683B76DD7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hanging the Number of Trunk Lin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trunk line costs a flat $89/week, including all calls (even long-dist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26 the right numb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change it, just edit the Capacity entry in the Resource data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variabl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ne C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be $89, multiply by number of trunk line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R(Trunk Line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to get weekly cost of trunk 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F0D-8E2F-46CD-83FD-5FFB3363900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chnical Support Call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% of tech support calls need further assistance after completion of their c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 forwarded to another tech group that prepares a response; time to prepare this response ~ EXPO (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sent back to the same tech-support person who took the origina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erson calls the customer back and talks, which lasts TRIA (2, 4,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lls require one of the 26 trunk lines and take priority over incoming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turn call not completed on same day, it’s carried over to th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515-A7EA-4C90-AE56-172BE3BAD2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otal New Resource Co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an Expression call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 Res Co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ales * New Sales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(New Tech 1 + New Tech 2 + New Tech 3) * LMC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New Tech All * 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Line Cost * MR(Trunk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depend on what happens during simulation … used only at end in Statistic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es not include cost of the base-model human staff (sales, tech-support) … viewed as sunk, and constant for all variants of staffing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6F10-14ED-466E-9878-29BBB18B413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sts for Putting Customers on Hold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ute a cost for making customers wait on ho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 off against resour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del to understand, improve, optimize this 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customer-dissatisfaction costs are hard to qua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have a “tolerance” for hol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-support calls: 3 minutes (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lerance Te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calls: 1 min.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lerance S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-status calls: 2 min.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olerance Order Sta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yond the tolerance point, system incurs cost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-support calls: $1.67/min. (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T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calls: $3.72/min.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WT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-status calls: $1.58/min.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SWT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513-5018-4406-BEE2-19607BA4180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sts for Putting Customers on Hold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umulate “excess” waiting time (time past tolerance) for each call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module when call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built-in Arena attribute ENTITY.WAIT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total of times in queues as entity goes along, and other “Wait”-allocated times … but there are none upstream in this model so this attribute will have the waiting time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Costing box be check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jec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cess Tech Wait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umulates via adding in for each tech-support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X( ENTITY.WAITTIME  - Tolerance Tech, 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nd of run, multip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ch Wait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W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 for Sales, Order-Status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57B-FCB0-4926-90EF-001CEF4F0A9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otal Co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together all the costs, get the overall economic (cost) performance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Cost = New Res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Excess Sales Wait Time * SWT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Excess Status Wait Time * OSWT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Excess Tech Wait Time * TWT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Staff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defined in Statistic data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Output – already being computed, just repor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tegory Overview Report, get via User Specifi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A808-0D48-4CF7-B568-9E738A7F5DF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ercent-Busy Requiremen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ve cost performance measure ignores calls balked away due to no trunk line … busy sig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ly, undesirable – very hard to put a cost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have a strong goal to limit this to no more than 5% of incoming calls … a model configuration not satisfying this will be deemed unacceptable no matter how attractive (low) the cost may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constraint except it’s on an output, not an input … call it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 via two Record modules in arrival submodel to count incoming and balked calls …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rcent Bus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ne in Statistic mo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82F-5008-4D5A-9CB7-8D507365AFB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side – Generality of Mode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uld have done a lot of things in very different ways in this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rena’s costing functions more and doing fewer of our own external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arameterize using only “primitive” parameters (e.g., hourly wage rates) and programming Arena to do the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of this you do depends on model’s intended use and u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deoff between generality (elegance?) vs. time spent building the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5AA-2E66-46E8-B7E8-B4649352CA7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case (no more people, 26 trunk lin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 (for the week) = $34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busy signals = 11% (unaccep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ed one resource unit for each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S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o to 27 trunk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 (for the week) = $28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resources reduced customer waiting time by more than enough to cover thei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busy signals = 3% (accep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trunk line, plus added resources to move call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modification truly and reliably better?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BCF-4A7B-49D7-81E0-3580D36361F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Analysis of Output from Terminating Simul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 input leads to random output (RIRO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a simulation (once) — what does it mea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this run “typical” or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ility from run to run (of the same model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statistical analysis of output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 single model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wo or more different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for an optimal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stical analysis of output is often igno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big mistake – no idea of precis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hard or time-consuming to do this – it just takes a little planning and thought, then some (cheap) comput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CC2-73FE-45E9-9649-71AB1C436A0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ime Frame of Simul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erminat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Specific starting, stopping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length will be well-defined (and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teady-st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Long-run (technically foreve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tically, initial conditions don’t matter (but practically they usually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lear how to terminate a simulation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really a question of intent of th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major impact on how output analysis is d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it’s not clear which is appropri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: Terminating (steady-state in Section 6.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9E2-3AB8-4A25-9100-F27360E2512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rategy for Data Collection and Analysi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erminating case, make IID re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plication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Number of Replication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th boxes for Initialize Between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 results for each replication – Category by Replication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5-3, base case, 10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5873760" cy="238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B755-F71D-4567-95E0-A8850B0B67E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ales Cal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utomatically routed to sales sta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 staff is separate from tech-support staf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sales-staff person is available, call gets immediate ser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, call placed in (electronic) queue, treated to soothing new-age space mus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sales conversations ~ TRIA (4, 15, 4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call done, customer exits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275-B533-484C-BB6A-B27DAB05B0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rategy for Data Collection and Analysi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y Overview report will have some statistical-analysis results of the output across the re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replica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l and error (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number for acceptable precision (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sampling (Chapter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rn off animation altogether for max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tch Run (No Ani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550-A40D-4FFC-8811-AEAB562DC4D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nfidence Intervals for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erminating System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formulas in Chapter 2, viewing the cross-replication summary outputs as the basic 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y most useful part – 95% confidence interval on expecte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nformation (except standard deviation) is in Category Overview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&gt; 1 replication specified, Arena uses cross-replication data a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onfidence levels, graphics – Output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873760" cy="14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229-FCE0-43E2-9269-AD84F9AEEEF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alf Width and Number of Replicatio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er smaller confidence intervals —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lf-width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contro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increa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— how mu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647600" y="4495680"/>
            <a:ext cx="2895480" cy="838440"/>
          </a:xfrm>
          <a:custGeom>
            <a:avLst/>
            <a:gdLst>
              <a:gd name="textAreaLeft" fmla="*/ -360 w 2895480"/>
              <a:gd name="textAreaRight" fmla="*/ 2895480 w 28954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18" y="0"/>
                </a:lnTo>
                <a:lnTo>
                  <a:pt x="21600" y="10800"/>
                </a:lnTo>
                <a:lnTo>
                  <a:pt x="15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400" y="4648320"/>
            <a:ext cx="2342880" cy="51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nt this to be “small,” s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h where h is prespec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897440" cy="1814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038480" y="3733920"/>
            <a:ext cx="2097360" cy="7412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2666880" y="4495680"/>
            <a:ext cx="1522440" cy="71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20D-EAD9-4A3E-BF16-F4AF09F88F7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Half Width and Number of Replications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half-width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solve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really solved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pend 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xim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t by z, corresponding normal critica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end that current s will hold for larger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r but different approxim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1951200" cy="809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805560" y="3809880"/>
            <a:ext cx="2323440" cy="7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sample stand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iation from “initial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re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84680" y="5230800"/>
            <a:ext cx="2104920" cy="7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half width from “initial” numbe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re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85120" y="4035600"/>
            <a:ext cx="1428480" cy="1857240"/>
          </a:xfrm>
          <a:custGeom>
            <a:avLst/>
            <a:gdLst>
              <a:gd name="textAreaLeft" fmla="*/ 52200 w 1428480"/>
              <a:gd name="textAreaRight" fmla="*/ 1376280 w 1428480"/>
              <a:gd name="textAreaTop" fmla="*/ 52200 h 1857240"/>
              <a:gd name="textAreaBottom" fmla="*/ 1805040 h 1857240"/>
            </a:gdLst>
            <a:ahLst/>
            <a:rect l="textAreaLeft" t="textAreaTop" r="textAreaRight" b="textAreaBottom"/>
            <a:pathLst>
              <a:path w="21600" h="28082">
                <a:moveTo>
                  <a:pt x="2697" y="0"/>
                </a:moveTo>
                <a:arcTo wR="2697" hR="2697" stAng="16200000" swAng="-5400000"/>
                <a:lnTo>
                  <a:pt x="0" y="25385"/>
                </a:lnTo>
                <a:arcTo wR="2697" hR="2697" stAng="10800000" swAng="-5400000"/>
                <a:lnTo>
                  <a:pt x="18903" y="28082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70800" y="4506840"/>
            <a:ext cx="129852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s quadra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decreas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1676520" y="3809880"/>
            <a:ext cx="1619280" cy="800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23880" y="3809880"/>
            <a:ext cx="2159280" cy="78588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682640" y="5159520"/>
            <a:ext cx="1287720" cy="819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467000" y="5154480"/>
            <a:ext cx="2160360" cy="792360"/>
          </a:xfrm>
          <a:prstGeom prst="roundRect">
            <a:avLst>
              <a:gd name="adj" fmla="val 1248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DD32-4984-45E3-8F4B-507D2C32213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Interpretation of Confidence Inter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 with random (data-dependent) endpoints that’s supposed to have stated probability of containing, or covering, the expected valu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” expected value is a fixed, but unknown,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value = average of infinite number of re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an interval that contains, say, 95% of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’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al … useful too, but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 formulas assume normally-distribute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true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approximately true if output is an average, rather than an ext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of robustness, coverage, precision – details in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633-B375-40BA-9882-5FDD8477C1D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ing Two Alternativ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ally, want to compare alternative system configurations, layouts, scenarios, sensitivity analysis … here just two altern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case of Model 5-3, vs. adding one resource unit for each ty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Sa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w Tech 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o to 27 trunk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r, one run of each suggested big differences … r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sonable but not-quite-right idea:  Make confidence intervals on expected outputs from each alternative, see if they overl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allow for a precise, efficient statistical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E29-F476-44B6-8F62-6818BD64AD6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ut Analyzer is a separate application that operates on .dat files produced by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stalled by default from book CD – need custom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separately from Windows, not from 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ave output values (Expressions) of entries in Statistic data module (Type = Output) – enter filename.dat in Output File colum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did for Total Cost, not Percent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verwrite this file name next time … either change the name here or out in Windows before the nex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dat files are binary … can only be read by Output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F42-D82B-4653-8C11-721EA9D08B7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Output Analyzer, open a new data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a list of .dat files of curren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ave data group for later use – .dgr file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select (Open) .dat files for the data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mpare Mea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nu o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ata files … “A” and “B” for the two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“Lumped” for Replications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, confidence level, accept Pared-t Test, Scale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EC0-C1FD-4E56-9F25-5A80308DB1E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e Means via the Output Analyzer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dence interval on difference misses 0, so conclude that ther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(statistically) significant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38028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468-CFDC-4455-825F-F522DBFB875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valuating Many Alternatives with the Process Analyzer (PAN)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(many) more than two alternatives to compare, two problems 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mechanics of making the possibly many parameter changes, making the runs, keeping track of the many outpu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methods for drawing reliable and useful 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Analyzer (PAN) addresses the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operates on program (.p) files – produced when .doe file is run (or just check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PAN from Arena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 Analyz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or via Wind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runs on its own, separate from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A898-9271-4244-9085-8FFD6B93433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rder-Status Cal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omatically handled by phone system — no peop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imit on number handled at a time (but still limited by the 26 trunk line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me for “conversation” ~ TRIA (2, 3, 4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ter call, 15% take option to talk to a real person (the rest exit the system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calls are routed to sales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ame priority as incoming sales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ation durations ~ TRIA (3, 5,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xit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32D9-C2B2-4EF0-B44B-D4FB64702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N Scenario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cenar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PAN is a combination of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gram (.p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inp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contr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n from Variables and Resource capacities – think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fill in specific numerical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outpu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you cho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n from automatic Arena outputs or your ow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initially empty … to be filled in after run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new scenario in PAN, double-click where indicated, get Scenario Properties di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Name, Tool Tip Text, .p file, controls,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of controls initially as in the model, bu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change them in 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is is the real utility of 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uplicate (right-click, Duplicate) scenarios, then edit for a new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scenario as a 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20B-05A7-4336-9F19-953193A728F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AN Projects and Run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PAN is a collection of scena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files can be the same .p file, or .p files from different model .do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, responses can be the same or differ across scenarios in a project – usually will be mostly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a project as a collection of scenario rows – a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save as a PAN (.pan extension)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scenarios in project to run (maybe al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runs selected models with specified contro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N fills in output-response values in t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to setting up, running them all “by hand” but much easier, faster, less error-p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DCD-8482-4DB5-91CF-BEC69ABDB45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Running Model 5-3 with PA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 (no additional 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$1200/week to spend on each additional resource type, one at a time (no mixed enhanc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scenarios in all (details in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ll to run (click on left of row, Ctrl-Click or Shift-Click for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ecute,    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822960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7A4-4D30-4B34-8BE4-351DC9E0C8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Comparisons with PA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5-3 alternatives were made with 10 replications e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than one replication, but what about statistical validity of comparisons, selection of “the best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Total Cost column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or      or right-click on column, then Insert Char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 Type:  Box and Whis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Total Cost; Next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Identify Best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er is Better, Error Tolerance = 0 (not the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est Scenarios;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20120" y="3048120"/>
            <a:ext cx="380880" cy="36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4CB-3310-4774-9013-C4463328BFD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tatistical Comparisons with PAN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562360" y="1218960"/>
            <a:ext cx="342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boxes: 95% confidence interv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 scenarios statistically significantly better than b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recisely, red scenarios are 95% sure to contain the bes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 down red set – more replications, or Error Tolerance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tails in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346720" cy="42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6D0-6909-4BE7-A16A-220A1D34646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9040" y="3359160"/>
            <a:ext cx="8566200" cy="1830240"/>
          </a:xfrm>
          <a:custGeom>
            <a:avLst/>
            <a:gdLst/>
            <a:ahLst/>
            <a:rect l="l" t="t" r="r" b="b"/>
            <a:pathLst>
              <a:path w="5396" h="1153">
                <a:moveTo>
                  <a:pt x="72" y="71"/>
                </a:moveTo>
                <a:cubicBezTo>
                  <a:pt x="163" y="8"/>
                  <a:pt x="267" y="28"/>
                  <a:pt x="376" y="23"/>
                </a:cubicBezTo>
                <a:cubicBezTo>
                  <a:pt x="601" y="0"/>
                  <a:pt x="828" y="21"/>
                  <a:pt x="1053" y="1"/>
                </a:cubicBezTo>
                <a:cubicBezTo>
                  <a:pt x="1152" y="4"/>
                  <a:pt x="1244" y="5"/>
                  <a:pt x="1341" y="17"/>
                </a:cubicBezTo>
                <a:cubicBezTo>
                  <a:pt x="1387" y="23"/>
                  <a:pt x="1480" y="33"/>
                  <a:pt x="1480" y="33"/>
                </a:cubicBezTo>
                <a:cubicBezTo>
                  <a:pt x="1510" y="40"/>
                  <a:pt x="1539" y="35"/>
                  <a:pt x="1560" y="60"/>
                </a:cubicBezTo>
                <a:cubicBezTo>
                  <a:pt x="1577" y="80"/>
                  <a:pt x="1567" y="73"/>
                  <a:pt x="1581" y="97"/>
                </a:cubicBezTo>
                <a:cubicBezTo>
                  <a:pt x="1588" y="108"/>
                  <a:pt x="1603" y="129"/>
                  <a:pt x="1603" y="129"/>
                </a:cubicBezTo>
                <a:cubicBezTo>
                  <a:pt x="1608" y="145"/>
                  <a:pt x="1607" y="165"/>
                  <a:pt x="1619" y="177"/>
                </a:cubicBezTo>
                <a:cubicBezTo>
                  <a:pt x="1647" y="205"/>
                  <a:pt x="1710" y="210"/>
                  <a:pt x="1747" y="220"/>
                </a:cubicBezTo>
                <a:cubicBezTo>
                  <a:pt x="1899" y="260"/>
                  <a:pt x="2064" y="271"/>
                  <a:pt x="2221" y="279"/>
                </a:cubicBezTo>
                <a:cubicBezTo>
                  <a:pt x="2239" y="290"/>
                  <a:pt x="2269" y="321"/>
                  <a:pt x="2269" y="321"/>
                </a:cubicBezTo>
                <a:cubicBezTo>
                  <a:pt x="2276" y="339"/>
                  <a:pt x="2287" y="372"/>
                  <a:pt x="2301" y="385"/>
                </a:cubicBezTo>
                <a:cubicBezTo>
                  <a:pt x="2411" y="485"/>
                  <a:pt x="2597" y="473"/>
                  <a:pt x="2728" y="476"/>
                </a:cubicBezTo>
                <a:cubicBezTo>
                  <a:pt x="2839" y="493"/>
                  <a:pt x="2927" y="484"/>
                  <a:pt x="3048" y="481"/>
                </a:cubicBezTo>
                <a:cubicBezTo>
                  <a:pt x="3410" y="439"/>
                  <a:pt x="3824" y="477"/>
                  <a:pt x="4189" y="481"/>
                </a:cubicBezTo>
                <a:cubicBezTo>
                  <a:pt x="4358" y="478"/>
                  <a:pt x="4524" y="477"/>
                  <a:pt x="4691" y="460"/>
                </a:cubicBezTo>
                <a:cubicBezTo>
                  <a:pt x="4793" y="463"/>
                  <a:pt x="4835" y="470"/>
                  <a:pt x="4920" y="481"/>
                </a:cubicBezTo>
                <a:cubicBezTo>
                  <a:pt x="4985" y="505"/>
                  <a:pt x="5070" y="500"/>
                  <a:pt x="5139" y="513"/>
                </a:cubicBezTo>
                <a:cubicBezTo>
                  <a:pt x="5160" y="517"/>
                  <a:pt x="5182" y="523"/>
                  <a:pt x="5203" y="529"/>
                </a:cubicBezTo>
                <a:cubicBezTo>
                  <a:pt x="5215" y="532"/>
                  <a:pt x="5228" y="536"/>
                  <a:pt x="5240" y="540"/>
                </a:cubicBezTo>
                <a:cubicBezTo>
                  <a:pt x="5245" y="542"/>
                  <a:pt x="5256" y="545"/>
                  <a:pt x="5256" y="545"/>
                </a:cubicBezTo>
                <a:cubicBezTo>
                  <a:pt x="5275" y="558"/>
                  <a:pt x="5298" y="570"/>
                  <a:pt x="5320" y="577"/>
                </a:cubicBezTo>
                <a:cubicBezTo>
                  <a:pt x="5335" y="592"/>
                  <a:pt x="5351" y="602"/>
                  <a:pt x="5363" y="620"/>
                </a:cubicBezTo>
                <a:cubicBezTo>
                  <a:pt x="5373" y="652"/>
                  <a:pt x="5383" y="683"/>
                  <a:pt x="5389" y="716"/>
                </a:cubicBezTo>
                <a:cubicBezTo>
                  <a:pt x="5396" y="808"/>
                  <a:pt x="5389" y="857"/>
                  <a:pt x="5363" y="940"/>
                </a:cubicBezTo>
                <a:cubicBezTo>
                  <a:pt x="5357" y="958"/>
                  <a:pt x="5300" y="960"/>
                  <a:pt x="5293" y="961"/>
                </a:cubicBezTo>
                <a:cubicBezTo>
                  <a:pt x="5070" y="952"/>
                  <a:pt x="4853" y="897"/>
                  <a:pt x="4632" y="887"/>
                </a:cubicBezTo>
                <a:cubicBezTo>
                  <a:pt x="4324" y="891"/>
                  <a:pt x="4017" y="895"/>
                  <a:pt x="3709" y="876"/>
                </a:cubicBezTo>
                <a:cubicBezTo>
                  <a:pt x="3562" y="853"/>
                  <a:pt x="3418" y="868"/>
                  <a:pt x="3267" y="871"/>
                </a:cubicBezTo>
                <a:cubicBezTo>
                  <a:pt x="3186" y="880"/>
                  <a:pt x="3108" y="896"/>
                  <a:pt x="3027" y="903"/>
                </a:cubicBezTo>
                <a:cubicBezTo>
                  <a:pt x="2855" y="898"/>
                  <a:pt x="2680" y="891"/>
                  <a:pt x="2509" y="871"/>
                </a:cubicBezTo>
                <a:cubicBezTo>
                  <a:pt x="2360" y="875"/>
                  <a:pt x="2364" y="869"/>
                  <a:pt x="2269" y="881"/>
                </a:cubicBezTo>
                <a:cubicBezTo>
                  <a:pt x="2238" y="885"/>
                  <a:pt x="2214" y="888"/>
                  <a:pt x="2184" y="897"/>
                </a:cubicBezTo>
                <a:cubicBezTo>
                  <a:pt x="2172" y="901"/>
                  <a:pt x="2147" y="908"/>
                  <a:pt x="2147" y="908"/>
                </a:cubicBezTo>
                <a:cubicBezTo>
                  <a:pt x="2119" y="927"/>
                  <a:pt x="2140" y="908"/>
                  <a:pt x="2125" y="935"/>
                </a:cubicBezTo>
                <a:cubicBezTo>
                  <a:pt x="2119" y="946"/>
                  <a:pt x="2104" y="967"/>
                  <a:pt x="2104" y="967"/>
                </a:cubicBezTo>
                <a:cubicBezTo>
                  <a:pt x="2097" y="991"/>
                  <a:pt x="2104" y="1018"/>
                  <a:pt x="2093" y="1041"/>
                </a:cubicBezTo>
                <a:cubicBezTo>
                  <a:pt x="2078" y="1071"/>
                  <a:pt x="2089" y="1098"/>
                  <a:pt x="2061" y="1121"/>
                </a:cubicBezTo>
                <a:cubicBezTo>
                  <a:pt x="2044" y="1136"/>
                  <a:pt x="1987" y="1137"/>
                  <a:pt x="1965" y="1143"/>
                </a:cubicBezTo>
                <a:cubicBezTo>
                  <a:pt x="1951" y="1147"/>
                  <a:pt x="1923" y="1153"/>
                  <a:pt x="1923" y="1153"/>
                </a:cubicBezTo>
                <a:cubicBezTo>
                  <a:pt x="1832" y="1149"/>
                  <a:pt x="1735" y="1146"/>
                  <a:pt x="1645" y="1127"/>
                </a:cubicBezTo>
                <a:cubicBezTo>
                  <a:pt x="1568" y="1111"/>
                  <a:pt x="1501" y="1086"/>
                  <a:pt x="1421" y="1079"/>
                </a:cubicBezTo>
                <a:cubicBezTo>
                  <a:pt x="1315" y="1082"/>
                  <a:pt x="1244" y="1086"/>
                  <a:pt x="1149" y="1116"/>
                </a:cubicBezTo>
                <a:cubicBezTo>
                  <a:pt x="948" y="1109"/>
                  <a:pt x="1004" y="1149"/>
                  <a:pt x="973" y="1015"/>
                </a:cubicBezTo>
                <a:cubicBezTo>
                  <a:pt x="971" y="999"/>
                  <a:pt x="968" y="983"/>
                  <a:pt x="968" y="967"/>
                </a:cubicBezTo>
                <a:cubicBezTo>
                  <a:pt x="965" y="823"/>
                  <a:pt x="1056" y="441"/>
                  <a:pt x="808" y="401"/>
                </a:cubicBezTo>
                <a:cubicBezTo>
                  <a:pt x="776" y="403"/>
                  <a:pt x="744" y="403"/>
                  <a:pt x="712" y="407"/>
                </a:cubicBezTo>
                <a:cubicBezTo>
                  <a:pt x="674" y="412"/>
                  <a:pt x="633" y="432"/>
                  <a:pt x="600" y="449"/>
                </a:cubicBezTo>
                <a:cubicBezTo>
                  <a:pt x="580" y="459"/>
                  <a:pt x="557" y="458"/>
                  <a:pt x="536" y="465"/>
                </a:cubicBezTo>
                <a:cubicBezTo>
                  <a:pt x="390" y="461"/>
                  <a:pt x="253" y="445"/>
                  <a:pt x="109" y="428"/>
                </a:cubicBezTo>
                <a:cubicBezTo>
                  <a:pt x="75" y="420"/>
                  <a:pt x="92" y="429"/>
                  <a:pt x="67" y="391"/>
                </a:cubicBezTo>
                <a:cubicBezTo>
                  <a:pt x="63" y="386"/>
                  <a:pt x="56" y="375"/>
                  <a:pt x="56" y="375"/>
                </a:cubicBezTo>
                <a:cubicBezTo>
                  <a:pt x="44" y="338"/>
                  <a:pt x="33" y="301"/>
                  <a:pt x="24" y="263"/>
                </a:cubicBezTo>
                <a:cubicBezTo>
                  <a:pt x="18" y="215"/>
                  <a:pt x="0" y="144"/>
                  <a:pt x="45" y="113"/>
                </a:cubicBezTo>
                <a:cubicBezTo>
                  <a:pt x="55" y="99"/>
                  <a:pt x="72" y="88"/>
                  <a:pt x="72" y="71"/>
                </a:cubicBezTo>
                <a:close/>
              </a:path>
            </a:pathLst>
          </a:custGeom>
          <a:solidFill>
            <a:srgbClr val="c3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cenarios just considered with PAN are just 7 of many, many possi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find input-control values that minimize Total Cost while keeping Percent Busy &lt; 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ate as an optimization 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i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unk Lin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ales, New Tech 1, New Tech 2, New Tech 3, New Tech Al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Sales + New Tech 1 + New Tech 2 + New Tech 3 + New Tech Al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 Busy &lt;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able starting place – best acceptable scenario so far: Add 3 New Tech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from here?  Explore all of feasible six-dimensional space exhaustively?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earching for an Optimal Alternative with 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86200" y="4767120"/>
            <a:ext cx="4648320" cy="307080"/>
            <a:chOff x="3886200" y="4767120"/>
            <a:chExt cx="4648320" cy="307080"/>
          </a:xfrm>
        </p:grpSpPr>
        <p:sp>
          <p:nvSpPr>
            <p:cNvPr id="255" name=""/>
            <p:cNvSpPr/>
            <p:nvPr/>
          </p:nvSpPr>
          <p:spPr>
            <a:xfrm flipH="1">
              <a:off x="3886200" y="4817880"/>
              <a:ext cx="4038480" cy="228600"/>
            </a:xfrm>
            <a:custGeom>
              <a:avLst/>
              <a:gdLst>
                <a:gd name="textAreaLeft" fmla="*/ 360 w 4038480"/>
                <a:gd name="textAreaRight" fmla="*/ 4039200 w 4038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90" y="0"/>
                  </a:lnTo>
                  <a:lnTo>
                    <a:pt x="21600" y="10800"/>
                  </a:lnTo>
                  <a:lnTo>
                    <a:pt x="19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4800" y="4767120"/>
              <a:ext cx="441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 output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requiremen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not an input </a:t>
              </a:r>
              <a:r>
                <a:rPr b="0" i="1" lang="en-US" sz="1400" spc="-1" strike="noStrike">
                  <a:solidFill>
                    <a:srgbClr val="ff0000"/>
                  </a:solidFill>
                  <a:latin typeface="Arial"/>
                </a:rPr>
                <a:t>constra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047760" y="3411360"/>
            <a:ext cx="4198680" cy="307080"/>
            <a:chOff x="3047760" y="3411360"/>
            <a:chExt cx="4198680" cy="307080"/>
          </a:xfrm>
        </p:grpSpPr>
        <p:sp>
          <p:nvSpPr>
            <p:cNvPr id="258" name=""/>
            <p:cNvSpPr/>
            <p:nvPr/>
          </p:nvSpPr>
          <p:spPr>
            <a:xfrm flipH="1">
              <a:off x="3047400" y="3470040"/>
              <a:ext cx="3657240" cy="228600"/>
            </a:xfrm>
            <a:custGeom>
              <a:avLst/>
              <a:gdLst>
                <a:gd name="textAreaLeft" fmla="*/ -360 w 3657240"/>
                <a:gd name="textAreaRight" fmla="*/ 3657240 w 36572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90" y="0"/>
                  </a:lnTo>
                  <a:lnTo>
                    <a:pt x="21600" y="10800"/>
                  </a:lnTo>
                  <a:lnTo>
                    <a:pt x="19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84280" y="3411360"/>
              <a:ext cx="3962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 function is the simulatio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114440" y="3774960"/>
            <a:ext cx="3954960" cy="307080"/>
            <a:chOff x="4114440" y="3774960"/>
            <a:chExt cx="3954960" cy="307080"/>
          </a:xfrm>
        </p:grpSpPr>
        <p:sp>
          <p:nvSpPr>
            <p:cNvPr id="261" name=""/>
            <p:cNvSpPr/>
            <p:nvPr/>
          </p:nvSpPr>
          <p:spPr>
            <a:xfrm flipH="1">
              <a:off x="4114080" y="3825720"/>
              <a:ext cx="3429000" cy="228600"/>
            </a:xfrm>
            <a:custGeom>
              <a:avLst/>
              <a:gdLst>
                <a:gd name="textAreaLeft" fmla="*/ -360 w 3429000"/>
                <a:gd name="textAreaRight" fmla="*/ 3429000 w 34290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990" y="0"/>
                  </a:lnTo>
                  <a:lnTo>
                    <a:pt x="21600" y="10800"/>
                  </a:lnTo>
                  <a:lnTo>
                    <a:pt x="199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35480" y="3774960"/>
              <a:ext cx="373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actual obligation, space lim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04920" y="4419720"/>
            <a:ext cx="1752480" cy="307080"/>
            <a:chOff x="304920" y="4419720"/>
            <a:chExt cx="1752480" cy="307080"/>
          </a:xfrm>
        </p:grpSpPr>
        <p:sp>
          <p:nvSpPr>
            <p:cNvPr id="264" name=""/>
            <p:cNvSpPr/>
            <p:nvPr/>
          </p:nvSpPr>
          <p:spPr>
            <a:xfrm>
              <a:off x="314280" y="4478040"/>
              <a:ext cx="1599840" cy="228240"/>
            </a:xfrm>
            <a:custGeom>
              <a:avLst/>
              <a:gdLst>
                <a:gd name="textAreaLeft" fmla="*/ 0 w 1599840"/>
                <a:gd name="textAreaRight" fmla="*/ 1600200 w 159984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00" y="0"/>
                  </a:lnTo>
                  <a:lnTo>
                    <a:pt x="21600" y="10800"/>
                  </a:lnTo>
                  <a:lnTo>
                    <a:pt x="180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920" y="44197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ace limi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04920" y="4114800"/>
            <a:ext cx="1752480" cy="307080"/>
            <a:chOff x="304920" y="4114800"/>
            <a:chExt cx="1752480" cy="307080"/>
          </a:xfrm>
        </p:grpSpPr>
        <p:sp>
          <p:nvSpPr>
            <p:cNvPr id="267" name=""/>
            <p:cNvSpPr/>
            <p:nvPr/>
          </p:nvSpPr>
          <p:spPr>
            <a:xfrm>
              <a:off x="304920" y="4157640"/>
              <a:ext cx="1600200" cy="22860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00" y="0"/>
                  </a:lnTo>
                  <a:lnTo>
                    <a:pt x="21600" y="10800"/>
                  </a:lnTo>
                  <a:lnTo>
                    <a:pt x="180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920" y="41148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body’s fi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EC1-2AFA-4A1E-9C7F-11AC1EC8EB2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Quest searches intelligently for an opt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PAN, Opt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as a separate application … can be launched from 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over” the running of your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 that you identify the input controls and the output (just one) response 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AN, Opt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 that you specify constraints on the input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s that you specify requirements on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s itself what input-control-value combinations to 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internal heuristic algorithms to decide how to change the input controls to move toward an optimum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stopping criterion for the searc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3498-25F4-4C9B-A323-9533913E534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OptQues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tQuest for Ar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session (File/New or Ctrl+N or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 desired model window is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controls – Variables, Resource lev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 Line, New Tech 1, 2, 3, and New Tech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s: 2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unk Lin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, others between 0 and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s Discrete for all, Input Step Siz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ts – e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ales + New Tech 1 + New Tech 2 + New Tech 3 + New Tech All &lt;=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 and Requi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ost Response – Select Minimiz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nt Busy Response – Select Requirement, enter 5 for Upper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287280" cy="30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072-53FA-4269-ADA3-F2DB5F815BD5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Using OptQuest</a:t>
            </a:r>
            <a:r>
              <a:rPr b="1" lang="en-US" sz="1800" spc="-1" strike="noStrike">
                <a:solidFill>
                  <a:srgbClr val="00009b"/>
                </a:solidFill>
                <a:latin typeface="Arial"/>
              </a:rPr>
              <a:t> (cont’d.)</a:t>
            </a:r>
            <a:endParaRPr b="1" lang="en-US" sz="18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ons window – computational limits, proced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ab – accept Run for 10 minutes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ion tab – vary number of replications from 3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erences tab – various settings (accept defaul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revisit Controls, Constraints, Objective and Requirements, or Options windows v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via wizard (first time through a new project),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tus and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erformance Grap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watch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’t absolutely guarantee a true opt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inds far better configuration than possible by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38880" y="3657600"/>
            <a:ext cx="1219320" cy="2858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124080" y="4495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0A1-964E-420A-B17E-E3D2705C3C7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all Arrival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s accepted from 8 AM until 6 P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staff available until 7 P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calls shut out after 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ll calls that entered before 6 PM are answ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l arrival rate varies substantially over the d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n rate (calls per hour) for each half-hour peri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38188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0B8-F5DD-4114-999E-F59E18B4A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adowski</dc:creator>
  <dc:description/>
  <dc:language>en-US</dc:language>
  <cp:lastModifiedBy>Carlos Saenz</cp:lastModifiedBy>
  <dcterms:modified xsi:type="dcterms:W3CDTF">2002-05-18T06:01:04Z</dcterms:modified>
  <cp:revision>529</cp:revision>
  <dc:subject/>
  <dc:title>Chapter 5 -- Detailed Modeling and Terminating Statistical Analysis</dc:title>
</cp:coreProperties>
</file>