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3F6-EBE0-4E3B-BBED-FD5A4783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320" y="4269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E52-B72E-4523-BABD-EFD117AC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320" y="4269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600" y="4269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2B3-735E-4571-B0CC-9C126150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6520" y="152352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6720" y="152352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320" y="4269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6520" y="4269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6720" y="4269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90E-5433-4681-B7ED-781EDB21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7DA5-A597-4DD4-A48B-C184FE94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1861-694F-4E90-B8C8-3B0DA507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3998-C6AE-4953-B272-1F8D3490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1F08-D5B9-43EE-B277-0EDA12C8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818A-CA4D-43EA-8C51-FB82A477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5DE1-ACB5-4480-B7ED-F55F9652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320" y="4269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2698-0F06-4C22-93FE-6B298BE7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850E-9841-4E82-9898-03858383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0" y="4269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C04E-F433-4D80-8AA4-C9E41491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320" y="4269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71CC-B619-4B80-AEC1-AC0B5927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320" y="4269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EFC8-B6C5-473F-84C3-C910DECD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320" y="4269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0" y="4269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C2EE-92D3-475E-A3C8-11E1E876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16520" y="152352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6720" y="152352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320" y="4269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16520" y="4269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6720" y="4269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D3B3-E948-4E83-BB49-6950539A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B7D-14D5-47B4-BBC4-DABF6E5F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E0A2-3249-4588-A78A-4C39DE50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6A82-DBF7-4759-A08B-56CB986D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CC77-EF73-49EE-9AA0-19000CF9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320" y="4269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D871-B1BE-4032-AAEF-503B6D5A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0" y="4269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8E4-FDB1-4920-B43A-E9CF8A29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320" y="4269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BCB-6983-426E-A000-F696FA73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65000"/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65000"/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65000"/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371600"/>
            <a:ext cx="815328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99"/>
                </a:solidFill>
                <a:latin typeface="Arial"/>
              </a:rPr>
              <a:t>&lt;footer&gt;</a:t>
            </a:r>
            <a:r>
              <a:rPr b="0" i="1" lang="en-US" sz="800" spc="-1" strike="noStrike">
                <a:solidFill>
                  <a:srgbClr val="000099"/>
                </a:solidFill>
                <a:latin typeface="Arial"/>
              </a:rPr>
              <a:t>Simulation with Arena</a:t>
            </a:r>
            <a:r>
              <a:rPr b="0" lang="en-US" sz="800" spc="-1" strike="noStrike">
                <a:solidFill>
                  <a:srgbClr val="000099"/>
                </a:solidFill>
                <a:latin typeface="Arial"/>
              </a:rPr>
              <a:t>—What is Simulation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1/</a:t>
            </a:r>
            <a:fld id="{031C2677-0AA4-49F4-AA2D-5F9520C28F4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62560" y="76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277A-A9EB-42EF-B984-793C494BF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224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01"/>
              </a:spcBef>
              <a:spcAft>
                <a:spcPts val="201"/>
              </a:spcAft>
              <a:buClr>
                <a:srgbClr val="000099"/>
              </a:buClr>
              <a:buSzPct val="65000"/>
              <a:buFont typeface="CommonBullets" charset="2"/>
              <a:buChar char="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65000"/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65000"/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400" spc="-1" strike="noStrike">
                <a:solidFill>
                  <a:srgbClr val="000099"/>
                </a:solidFill>
                <a:latin typeface="Arial"/>
              </a:rPr>
              <a:t>Teoría de Colas y la Simulación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fesor: Ing. Carlos Sáenz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C0E3-01F6-4BD9-ACFA-1C32DA0A03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2133720"/>
                <a:ext cx="6400800" cy="42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ρ</m:t>
                                        </m:r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  <m:sup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</m:e>
                                </m:d>
                                <m:r>
                                  <m:t xml:space="preserve">,</m:t>
                                </m:r>
                                <m:r>
                                  <m:t xml:space="preserve">ρ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Fórmulas M/M/1:GD/N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/M/1; Para capacidad fini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B5AE-7A11-40B7-B632-77F3D0F2D6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Fórmulas M/M/1:GD/N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838080" y="1828800"/>
                <a:ext cx="3579840" cy="28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λ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f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λ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413-189A-46CD-91FE-0B9F6A2D1F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Fórmulas M/M/c:GD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/M/c; Para varios servidores paralel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30400" y="2209680"/>
                <a:ext cx="4751280" cy="419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f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λ</m:t>
                                            </m:r>
                                            <m:r>
                                              <m:t xml:space="preserve">/</m:t>
                                            </m:r>
                                            <m:r>
                                              <m:t xml:space="preserve">μ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!</m:t>
                                    </m:r>
                                  </m:den>
                                </m:f>
                              </m:e>
                            </m:nary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λ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μ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sμ</m:t>
                                    </m:r>
                                  </m:e>
                                </m:d>
                              </m:den>
                            </m:f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μ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∀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n</m:t>
                            </m:r>
                            <m:r>
                              <m:t xml:space="preserve">≤</m:t>
                            </m:r>
                            <m:r>
                              <m:t xml:space="preserve">s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289D-70DC-4AC0-8962-605A088B2C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Fórmulas M/M/c:GD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90720" y="1752480"/>
                <a:ext cx="5030640" cy="451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&gt;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t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  <m:r>
                                          <m:t xml:space="preserve">/</m:t>
                                        </m:r>
                                        <m:r>
                                          <m:t xml:space="preserve">μ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!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</m:e>
                                </m:d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μt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s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λ</m:t>
                                            </m:r>
                                            <m:r>
                                              <m:t xml:space="preserve">/</m:t>
                                            </m:r>
                                            <m:r>
                                              <m:t xml:space="preserve">μ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s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t xml:space="preserve">μ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&gt;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s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C83-8270-4DE4-9D73-465B0384A3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Fórmulas M/M/c:GD/N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/M/c; Servidores paralelos, población finita, c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35080" y="2136600"/>
                <a:ext cx="4351320" cy="409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λ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N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726-1BA6-4AE8-9D3B-930CA08916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Fórmulas M/M/c:GD/N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23800" y="1413000"/>
                <a:ext cx="6953400" cy="49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0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c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  <m:e>
                                            <m:f>
                                              <m:num>
                                                <m:sSup>
                                                  <m:e>
                                                    <m:r>
                                                      <m:t xml:space="preserve">ρ</m:t>
                                                    </m:r>
                                                  </m:e>
                                                  <m:sup>
                                                    <m:r>
                                                      <m:t xml:space="preserve">n</m:t>
                                                    </m:r>
                                                  </m:sup>
                                                </m:sSup>
                                              </m:num>
                                              <m:den>
                                                <m:r>
                                                  <m:t xml:space="preserve">n</m:t>
                                                </m:r>
                                                <m:r>
                                                  <m:t xml:space="preserve">!</m:t>
                                                </m:r>
                                              </m:den>
                                            </m:f>
                                          </m:e>
                                        </m:nary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sSup>
                                              <m:e>
                                                <m:r>
                                                  <m:t xml:space="preserve">ρ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c</m:t>
                                                </m:r>
                                              </m:sup>
                                            </m:sSup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  <m:r>
                                                  <m:t xml:space="preserve">−</m:t>
                                                </m:r>
                                                <m:sSup>
                                                  <m:e>
                                                    <m:d>
                                                      <m:dPr>
                                                        <m:begChr m:val="("/>
                                                        <m:endChr m:val=")"/>
                                                      </m:dPr>
                                                      <m:e>
                                                        <m:f>
                                                          <m:fPr>
                                                            <m:type m:val="lin"/>
                                                          </m:fPr>
                                                          <m:num>
                                                            <m:r>
                                                              <m:t xml:space="preserve">ρ</m:t>
                                                            </m:r>
                                                          </m:num>
                                                          <m:den>
                                                            <m:r>
                                                              <m:t xml:space="preserve">c</m:t>
                                                            </m:r>
                                                          </m:den>
                                                        </m:f>
                                                      </m:e>
                                                    </m:d>
                                                  </m:e>
                                                  <m:sup>
                                                    <m:r>
                                                      <m:t xml:space="preserve">N</m:t>
                                                    </m:r>
                                                    <m:r>
                                                      <m:t xml:space="preserve">−</m:t>
                                                    </m:r>
                                                    <m:r>
                                                      <m:t xml:space="preserve">c</m:t>
                                                    </m:r>
                                                    <m:r>
                                                      <m:t xml:space="preserve">+</m:t>
                                                    </m:r>
                                                    <m:r>
                                                      <m:t xml:space="preserve">1</m:t>
                                                    </m:r>
                                                  </m:sup>
                                                </m:sSup>
                                              </m:e>
                                            </m:d>
                                          </m:num>
                                          <m:den>
                                            <m:r>
                                              <m:t xml:space="preserve">c</m:t>
                                            </m:r>
                                            <m:r>
                                              <m:t xml:space="preserve">!</m:t>
                                            </m:r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r>
                                                  <m:t xml:space="preserve">1</m:t>
                                                </m:r>
                                                <m:r>
                                                  <m:t xml:space="preserve">−</m:t>
                                                </m:r>
                                                <m:f>
                                                  <m:fPr>
                                                    <m:type m:val="lin"/>
                                                  </m:fPr>
                                                  <m:num>
                                                    <m:r>
                                                      <m:t xml:space="preserve">ρ</m:t>
                                                    </m:r>
                                                  </m:num>
                                                  <m:den>
                                                    <m:r>
                                                      <m:t xml:space="preserve">c</m:t>
                                                    </m:r>
                                                  </m:den>
                                                </m:f>
                                              </m:e>
                                            </m:d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ρ</m:t>
                                    </m:r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  <m:r>
                                  <m:t xml:space="preserve">≠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E03-FF47-476C-835C-4031D0FE14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Fórmulas M/M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:GD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/M/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; Modelo de autoservic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79320" y="2165400"/>
                <a:ext cx="5261040" cy="404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da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μ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ar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da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ρ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W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680-C07D-4C97-B7EA-C70B7BEA83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Fórmulas M</a:t>
            </a:r>
            <a:r>
              <a:rPr b="1" lang="es-ES_tradnl" sz="36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/G</a:t>
            </a:r>
            <a:r>
              <a:rPr b="1" lang="es-ES_tradnl" sz="36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/1:NPRP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neas de espera (k) con prioridades de servic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33520" y="2057400"/>
                <a:ext cx="7027920" cy="45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a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≡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íne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;</m:t>
                            </m:r>
                            <m:r>
                              <m:t xml:space="preserve">λ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;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λW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59F8-DB08-46DF-9CF2-2F35796445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Fórmulas M</a:t>
            </a:r>
            <a:r>
              <a:rPr b="1" lang="es-ES_tradnl" sz="36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/M/c:NPRP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neas de espera (k), servidores (c) con prioridades de servic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33520" y="2590920"/>
                <a:ext cx="8153280" cy="38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ξ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≡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cμ</m:t>
                                </m:r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íne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</m:e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c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c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ρ</m:t>
                                    </m:r>
                                  </m:e>
                                </m:d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!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  <m:e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ρ</m:t>
                                            </m:r>
                                          </m:e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!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nary>
                              </m:e>
                            </m:d>
                          </m:den>
                        </m:f>
                        <m:r>
                          <m:t xml:space="preserve">,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e>
                        </m:nary>
                        <m:r>
                          <m:t xml:space="preserve">;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nary>
                        <m:r>
                          <m:t xml:space="preserve">;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D0D-9236-4622-81AF-5D95D7DD97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Fórmulas M/G/1:GD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/G/1: Llegadas Poisson, servicio general, c=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371600" y="2209680"/>
                <a:ext cx="2190600" cy="403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419720" y="274320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ncillo y práctico, pero la limitante es que no se ha podido generalizar para s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F7B-C7C6-45C1-A595-DBCDF5F058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9"/>
                </a:solidFill>
                <a:latin typeface="Arial"/>
              </a:rPr>
              <a:t>Teoría de colas y Simulació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¿Qué es la teoría de colas (TC)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Una teoría matemática para describir el desempeño de sistemas modelados como servidores y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¿Que importancia tiene TC para la simulació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Validación y ver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spectos d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costo beneficio entre la tasa de servicio y el tamaño de c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cálculo del número de serv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¿Por qué no utilizamos siempre la TC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l rango de su aplicación no es suficientemente amp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EBC-6622-4273-9D0B-ADCA2FA0D16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Fórmulas M/D/1:GD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 y </a:t>
            </a:r>
            <a:br>
              <a:rPr sz="3600"/>
            </a:b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M/E</a:t>
            </a:r>
            <a:r>
              <a:rPr b="1" lang="es-ES_tradnl" sz="36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/s:GD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/D/1: Aplicar M/G/1 co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= 0 ¿Por qué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/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rlang: fundador de la teoría de co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las tareas respectivas de un conjunto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rvidores en serie siguen una distribución exponencial con media 1/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déntica para su duración, entoces el tiempo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servicio tendrá una distribución Erlang con media 1/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lo tanto, la distribución exponencial es un caso especial de la Erlang par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DA2-0CF0-4077-ACA2-DD985245A9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Fórmulas M/E</a:t>
            </a:r>
            <a:r>
              <a:rPr b="1" lang="es-ES_tradnl" sz="36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/s:GD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/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295280" y="2158920"/>
                <a:ext cx="5334120" cy="382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p>
                              <m:e>
                                <m:r>
                                  <m:t xml:space="preserve">k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λ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λW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λ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E4A-EFED-436F-AFB7-E3CC8BE5B5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Descripción de una col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/B/c/D/N/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Distribución del tiempo entre llegadas (M, G, D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Distribución de los tiempo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número de servidores paral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disciplina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apacidad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tamaño de la pob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glas de priorización de colas (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FO (peps), LIFO (ueps), SPT (tpc), LVF (de menor a mayor, atributo); HVF (de mayor a menor, atributo)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modelarlo en un lenguaje de simu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B1F-ED8F-4667-B84C-04F2BB67F6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Estado establ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análisis de los sistemas de colas por medio de TC estará limitado para propósitos del alcance del curso a los resultados esperados durante el estado est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Qué hacer con un sistema no estacionari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regunta es válida, aplica a mayoría de sistemas de servicios y muchos de manufa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de estos sistemas alcanzan el estado estable después de dejarlos correr (calentar) durante determinado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C no analizará los resultados durante el “calentamient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A00-C64C-431C-BD86-537941B83F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Notación de TC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960" y="1523520"/>
            <a:ext cx="3429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do del sist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gitud de co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N(t)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(t)</a:t>
            </a:r>
            <a:br>
              <a:rPr sz="2400"/>
            </a:b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52320" y="1523520"/>
            <a:ext cx="5715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: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úmero de clientes en el sist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: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úmero de clientes en co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: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úm. clientes en el sistema de colas en el momento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: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babilidad de que hayan exactamente n clientes en el sistema en el momento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: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úmero de servidores en el s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: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asa media de llegada (clientes/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: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asa media de servicio (clientes/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231-790A-418F-83EE-C216A559AD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Notación de TC (cont.)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960" y="1523520"/>
            <a:ext cx="1066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W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18960" y="152352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: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 de utilización de los servid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: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babilidad de que exactamente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clientes se encuentren en el sist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: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úmero esperado de clientes en el sist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: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ngitud esperada de la cola (excluye clientes en servici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: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mpo medio de espera en el sistema (incluye tiempo de servicio); tiempo de fluj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: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mpo medio de espera en co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: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mpo flujo para un cliente en partic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: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mpo espera en cola para cliente en partic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127-66FC-4781-97FC-E233C28B78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Proceso de llegadas y </a:t>
            </a:r>
            <a:br>
              <a:rPr sz="3600"/>
            </a:b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Proceso de salida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ceso de llegad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: Probabilidad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legadas durante periodo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ceso de salid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: Prob. que quede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liente después de periodo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71600" y="2590920"/>
                <a:ext cx="41911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t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t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371600" y="4572000"/>
                <a:ext cx="456732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μt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μt</m:t>
                                </m:r>
                              </m:sup>
                            </m:s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EEA-758C-458D-96E5-9D6EA7C45F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Fórmulas M/M/1:GD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 asumino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constant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 = W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 1/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s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/M/1; Para 1 servidor donde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066680" y="4419720"/>
                <a:ext cx="243864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A31-B9B8-4195-A83C-416FD387AD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Fórmulas M/M/1:GD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s-ES_tradnl" sz="36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s-ES_tradnl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Arial"/>
              </a:rPr>
              <a:t>(cont.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62120" y="1600200"/>
                <a:ext cx="6324480" cy="445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λ</m:t>
                                </m:r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e>
                        </m:d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∀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&gt;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e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&gt;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ρ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e>
                            </m:d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D9D-1081-4175-9A17-812B009D03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4T00:30:28Z</dcterms:created>
  <dc:creator>Bernard Farquardt</dc:creator>
  <dc:description/>
  <dc:language>en-US</dc:language>
  <cp:lastModifiedBy>CARLOS SÁENZ</cp:lastModifiedBy>
  <cp:lastPrinted>1999-09-13T02:38:03Z</cp:lastPrinted>
  <dcterms:modified xsi:type="dcterms:W3CDTF">2000-01-24T23:09:28Z</dcterms:modified>
  <cp:revision>189</cp:revision>
  <dc:subject/>
  <dc:title>Simulation with Arena</dc:title>
</cp:coreProperties>
</file>