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1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5F41-0862-4DA6-90DE-550F97C3A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CFC9-DE75-4F75-AABD-55C5D237C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56D5-AC6A-44B9-82D2-0BA7ADC51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31D5-F0D6-41D6-9D8A-C653AC0B2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D6889-DFF9-4136-9043-E3E08E09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D9726-011A-4541-8BA6-50EA0877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8178A-CCDB-4899-978F-29775370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B0115-3042-4EBC-9B97-B8C554B2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433BC-CCA5-4753-B7D6-5AA8894E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6C9B0-17B5-4EFA-BA13-95F75C1E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229FC-19E4-4BC2-BFE1-B400A8E2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DD28-E26F-4FE7-B0F0-366EBF2B0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7E22B-A969-4794-9638-594BB298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5C385-E391-46E6-BD9B-D4963C2B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2CF09-09D1-434F-9AA5-0DDE7328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3F695-92E1-4593-862D-E0959A13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577E2-3C92-4764-B463-FD61D658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B5CD-44E0-4B6C-97F0-814CDE688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7229-8D09-49EE-B92C-8B13CE21B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784E-C07D-483F-B3B4-ADB512EBD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61B9-50D6-45A6-8978-6332E74D0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CCD1-60DB-4BDB-9DFC-370F5B773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4642-EF6C-4357-8B99-C030DE442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DA6D-D2A3-403C-A30D-F7A9FA165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533520"/>
          </a:xfrm>
          <a:prstGeom prst="rect">
            <a:avLst/>
          </a:prstGeom>
          <a:gradFill rotWithShape="0">
            <a:gsLst>
              <a:gs pos="0">
                <a:srgbClr val="200b5b"/>
              </a:gs>
              <a:gs pos="100000">
                <a:srgbClr val="eeb0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200400"/>
            <a:ext cx="1143000" cy="365616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200b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495360"/>
            <a:ext cx="114300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DCD9-D9A0-4DBF-9B3A-64E40C13B33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1160640" cy="28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828800" cy="1628640"/>
          </a:xfrm>
          <a:prstGeom prst="rect">
            <a:avLst/>
          </a:prstGeom>
          <a:gradFill rotWithShape="0">
            <a:gsLst>
              <a:gs pos="0">
                <a:srgbClr val="200b5b"/>
              </a:gs>
              <a:gs pos="100000">
                <a:srgbClr val="eeb0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9880"/>
            <a:ext cx="1828800" cy="304668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200b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631880"/>
            <a:ext cx="1828800" cy="2222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FDBE-AA12-4E83-B70B-3DB510602B8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752480" cy="198144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828800" cy="171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HISTÓRICO - EVOLUÇÃ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(Os primórdi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Prof. Nhemias Bast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Faculdade Novo Milên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epartamento de Engenha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488360" cy="4229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presentação dos logaritmos de Napier em escalas de madeira, marfim ou outro material (sacerdote inglês William Oughtred - Inglaterra,1633):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círculos de proporçã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4460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44600" indent="-444600"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írculos de proporção dão origem à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régua de cálcul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logaritmos representados por traços e sua divisão e produto obtidos pela adição e subtração de comprimen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3946-47A7-4B4D-AB8F-46058B6B45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37160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Régua de Cálculos: o primeiro computador analógico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6575400" cy="1457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193212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191120" y="2133720"/>
            <a:ext cx="4495680" cy="812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1592-FE9E-4605-B22E-11702E3DE8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790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Os problemas surgidos durante a Revolução Francesa determinaram a necessidade de uma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comunicação rápida, fiável e cifrável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s irmãos Claude e Ignace Chappe desenvolvem um "aparelho" com um sistema de braços articulados que permitiam a codificação de 196 sinais diferente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om o aparelho começaram a construir postos de transmissão, utilizando sinais ópticos, entre Lille e Paris. Os sinais ópticos "percorriam" 230 Km em dois minuto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B04A-1503-470E-AB02-4DE7EBE37C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71600" y="5714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Telégrafo de Chappe e código alfanumérico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3457440" cy="3740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A516-C0E7-4368-AAB9-898FFB915E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Meados do século 19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um computador não era uma máquina, mas uma pessoa, que tinha a função de fazer contas e arbitrar conflitos que envolvessem número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A aplicação do termo moderno ao computador só aconteceria a partir de 1944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O jornal inglês </a:t>
            </a:r>
            <a:r>
              <a:rPr b="0" i="1" lang="pt-BR" sz="2200" spc="-1" strike="noStrike">
                <a:solidFill>
                  <a:srgbClr val="ffffcc"/>
                </a:solidFill>
                <a:latin typeface="Arial"/>
              </a:rPr>
              <a:t>London Times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publicou uma matéria sobre alguns equipamentos inteligentes que no futuro poderiam vir a substituir o esforço humano. O jornal chamou uma hipotética máquina pensante de </a:t>
            </a: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COMPUTER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O computador sempre foi um aperfeiçoamento constante de idéias anterior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07FE-E42C-4B88-BC14-A0DA4679DD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642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imeiro instrumento moderno de calcular – uma somador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Máquina de Pascal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truído po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Blaise Pasca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físico, matemático e filósofo francês)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47720" y="3257640"/>
            <a:ext cx="1806840" cy="227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087720" cy="182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4572000" y="5334120"/>
            <a:ext cx="4267080" cy="916920"/>
          </a:xfrm>
          <a:prstGeom prst="rect">
            <a:avLst/>
          </a:prstGeom>
          <a:noFill/>
          <a:ln cap="sq" w="381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spositivo inteiramente mecânico, usava várias engrenagens, acionado por uma alavanc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791320"/>
            <a:ext cx="2713320" cy="642600"/>
          </a:xfrm>
          <a:prstGeom prst="rect">
            <a:avLst/>
          </a:prstGeom>
          <a:noFill/>
          <a:ln cap="sq" w="255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ascal construiu a máquina com 19 an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FABB-F0DC-44CD-8854-2610EE46F9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365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áquina de Pasc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44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444600" indent="-444600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áquina com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rodas dentadas, cada uma contendo algarismos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176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marL="444600" indent="-444600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ermitia somar até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parcelas de cada vez, desde que o total não ultrapassass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999 999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09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marL="444600" indent="-444600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 multiplicação era feita a partir de somas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x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6,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era feita somando-s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vezes o número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52680" y="5054760"/>
            <a:ext cx="3429000" cy="1650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989A-79A3-4C66-BF57-59881A18C8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371600" y="16765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b00b"/>
                </a:solidFill>
                <a:latin typeface="Arial"/>
              </a:rPr>
              <a:t>Máquina de Pasca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da úti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ase 200 anos e foi sendo aperfeiçoada por diversos inventor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mit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- a entrada de dados dependia da eficiência da pessoa que estivesse batendo os números em suas tecl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5A8D-FCBE-40B1-BC06-445F7ABBA5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41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1671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Gottfried Wilhelm Leibnitz (filósofo e um dos formuladores do cálculo integral) projetou a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rimeira máquina de multiplicação e divisã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, além de soma e subtraçã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02120" y="3619440"/>
            <a:ext cx="4417920" cy="1895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187164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954600" y="5734080"/>
            <a:ext cx="4541760" cy="642600"/>
          </a:xfrm>
          <a:prstGeom prst="rect">
            <a:avLst/>
          </a:prstGeom>
          <a:noFill/>
          <a:ln cap="sq" w="255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quivalente às calculadoras de bolso que efetuam as quatro operaçõ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881A-2A28-443C-99FC-877BBBE8DF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600" y="14479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802 - Jacquard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desenvolveu os cartões-perfurados para entrada de dad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038840" cy="256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2514600" cy="1743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905120" y="2438280"/>
            <a:ext cx="1288800" cy="1874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EB77-4699-4DCB-8D68-F2AA354623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133360" y="13716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Primeira forma de cálcul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Ába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Bastões de Napi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Régua de Cálcul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Telégrafo de Chapp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Máquina de Pasc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Máquina de Leibnitz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artões de Jacquar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Máquina Diferencial/ Analíti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ódigo Mor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Álgebra de Boo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Máquina de Tabulação de Dad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-914760" y="3733560"/>
            <a:ext cx="5181840" cy="762120"/>
          </a:xfrm>
          <a:custGeom>
            <a:avLst/>
            <a:gdLst>
              <a:gd name="textAreaLeft" fmla="*/ 809640 w 5181840"/>
              <a:gd name="textAreaRight" fmla="*/ 4534200 w 5181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d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725A-B368-4189-A493-FA358AB226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818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- o francês Charles Xavier Thomas de Colmar inventou um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calculador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que permitia efetuar cálculos complexos, por pessoas pouco experientes, num intervalo de tempo reduzido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Baseada na Máquina de Pascal e os aperfeiçoamentos de  Leibnitz, podia efetuar as 4 operações aritméticas: adição, subtracção, multiplicação e divisão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2590560" cy="1413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6705720" y="4572000"/>
            <a:ext cx="198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Arithmométre de Thoma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0B51-9DFC-4FD7-92FE-2238E8EC93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822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harles Babbage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(matemático) inventa a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áquina Diferencial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, utilizando os cartões de Jacquard. Funções trigonométricas e logaritmos eram calculados na máquina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2801880" cy="2898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73320" y="3276720"/>
            <a:ext cx="2398680" cy="259056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6313320"/>
            <a:ext cx="3867120" cy="368280"/>
          </a:xfrm>
          <a:prstGeom prst="rect">
            <a:avLst/>
          </a:prstGeom>
          <a:noFill/>
          <a:ln cap="sq" w="255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ra invenção -  Velocímetr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84EA-5BCA-4F6D-8F3E-256A67F49A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áquina Diferen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dealizada para construir tabelas de números para navegação nava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struída para executar um único algoritm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– método das diferenças finitas usando polinômio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étodo para disponibilizar informações na saíd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sultados perfurados em um prato de cobr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6EDA-2AC3-4CBA-810E-F06279E09D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1834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– Babbage inventou a precursora dos computadores digitais de hoje, a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áquina Analític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c5"/>
                </a:solidFill>
                <a:latin typeface="Arial"/>
              </a:rPr>
              <a:t>Usava a base 10, máquina “mecânica”, trabalhava a vapor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rogramação seqüencial de operaçõe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um procedimento que hoje chamamos de sistema operaciona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or seu trabalho na máquina analítica, Babbage  é considerado um dos pioneiros dos computadore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6338880"/>
            <a:ext cx="735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i="1" lang="pt-PT" sz="2000" spc="-1" strike="noStrike">
                <a:solidFill>
                  <a:srgbClr val="ffff66"/>
                </a:solidFill>
                <a:latin typeface="Arial"/>
              </a:rPr>
              <a:t>As máquinas de Babbage nunca foram construídas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3AAB-8EA8-41F1-83E6-ACC7CCE960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áquina Analítica de Babbage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Anteviu os passos que até hoje são a base do funcionamento de um computador, possuindo 4 component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Unidade de entrada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- alimentação de dados, através de cartões perfurados;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Unidade de saída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– saída impressa e perfurada em cartões;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Unidade de memória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– 1000 palavras de 50 dígitos DECIMAIS, capaz de armazenar variáveis e resultado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Unidade de computação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– aceitava operandos da memória, operações – soma, subtração, multiplicação e divisão (somava dois desses números em 1 s) e enviava o resultado para a memóri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6099120"/>
            <a:ext cx="7238880" cy="824040"/>
          </a:xfrm>
          <a:prstGeom prst="rect">
            <a:avLst/>
          </a:prstGeom>
          <a:noFill/>
          <a:ln cap="sq" w="255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Termos originais dos 4 componentes:                                                          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ffff66"/>
                </a:solidFill>
                <a:latin typeface="Arial"/>
              </a:rPr>
              <a:t>store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i="1" lang="pt-BR" sz="1600" spc="-1" strike="noStrike">
                <a:solidFill>
                  <a:srgbClr val="ffff66"/>
                </a:solidFill>
                <a:latin typeface="Arial"/>
              </a:rPr>
              <a:t> mill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1600" spc="-1" strike="noStrike">
                <a:solidFill>
                  <a:srgbClr val="ffff66"/>
                </a:solidFill>
                <a:latin typeface="Arial"/>
              </a:rPr>
              <a:t>input section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i="1" lang="pt-BR" sz="1600" spc="-1" strike="noStrike">
                <a:solidFill>
                  <a:srgbClr val="ffff66"/>
                </a:solidFill>
                <a:latin typeface="Arial"/>
              </a:rPr>
              <a:t>output section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D0D5-6908-4D26-9F4C-01A0AEC704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2057400" cy="3211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6477120" y="495288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b00b"/>
                </a:solidFill>
                <a:latin typeface="Arial"/>
              </a:rPr>
              <a:t>O primeiro "homem" a programar um </a:t>
            </a:r>
            <a:br>
              <a:rPr sz="2000"/>
            </a:br>
            <a:r>
              <a:rPr b="1" lang="en-US" sz="2000" spc="-1" strike="noStrike">
                <a:solidFill>
                  <a:srgbClr val="eeb00b"/>
                </a:solidFill>
                <a:latin typeface="Arial"/>
              </a:rPr>
              <a:t>computador foi uma mulher!!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5105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  <a:ea typeface="Arial"/>
              </a:rPr>
              <a:t>Máquina Analítica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-  programável  em linguagem de montagem simples </a:t>
            </a:r>
            <a:r>
              <a:rPr b="0" lang="pt-BR" sz="2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software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  <a:ea typeface="Arial"/>
              </a:rPr>
              <a:t>Ada Byron King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(Matemática), compreendeu o funcionamento da Máquina Analítica e escreveu os melhores relatos sobre o processo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ompanheira de Babbage, iniciou o ambicioso projeto de construção da Máquina Analítica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riou programas para a máquina - </a:t>
            </a:r>
            <a:r>
              <a:rPr b="1" lang="pt-BR" sz="2200" spc="-1" strike="noStrike">
                <a:solidFill>
                  <a:srgbClr val="ffff00"/>
                </a:solidFill>
                <a:latin typeface="Arial"/>
                <a:ea typeface="Arial"/>
              </a:rPr>
              <a:t>primeira programadora de computador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É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uma das poucas mulheres a figurar na história do processamento de dado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29F8-D680-461B-B815-713E8AF49C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295280" y="16002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bbage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d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estavam muito além do seu tempo e não conseguiram financiamento para construir o seu Computador Analítico, que ficou apenas como uma belíssima idéia no papel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 nunca foi concluíd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 não tem pretensões de originar nada, mas pode processar qualquer coisa que nós soubermos programá-lo para realizar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"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 Ada Augusta Byron, falando sobre o Engenho Analítico de Babbage, precursor dos modernos computadores (Londres, cerca de 1830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FBD9-8EB5-4CD1-84B7-EB787C1857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40976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máquina de Babbage não foi construíd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a tecnologia da época era incapaz de fornecer a precisão necessária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Babbage não dispunha de recursos para financiá-la, nem encontrou investidores dispostos a ir além de algumas doações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us projetos e idéias foram a base para outros projetos anos adiant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477120" y="4395960"/>
            <a:ext cx="2097000" cy="2233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1523880" y="4876920"/>
            <a:ext cx="4400640" cy="1191240"/>
          </a:xfrm>
          <a:prstGeom prst="rect">
            <a:avLst/>
          </a:prstGeom>
          <a:noFill/>
          <a:ln cap="sq" w="381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Em 1991, o Science Museum de Londres desenvolveu o Engenho Diferencial utilizando os planos de Babbage e funcionou perfeitament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64A7-AB4D-42BD-BACC-25DECAE5F2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218960" y="14479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837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Samuel F. B. Morse iniciou o desenvolvimento de um sistema telegráfico que utilizasse a energia elétrica para transmitir sinais à distânci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código Morse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continua a ser utilizado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Ficou célebre a mensagem enviada pelo operador telegráfico do Titanic antes do seu afundamento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... --- ... SOS - Save Our Souls (salvai as nossas alma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3352680" cy="1803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02EB-A950-4F3C-9B5E-5D09AE6F48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505560" y="4648320"/>
            <a:ext cx="169560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549440"/>
            <a:ext cx="7507440" cy="3022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413280" indent="-413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cepção dos fundamentos lógicos para a criação de programas: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lógica matemática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álgebra booleana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matemático George Boole, Inglaterra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854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132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413280" indent="-413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tabelecimento de uma forma de armazenamento e processamento de dados utilizando relações binárias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As leis do pensamento</a:t>
            </a:r>
            <a:r>
              <a:rPr b="0" i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matemático George Boole, Inglaterra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854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11D5-7615-4DB9-AE0C-6710A5AFEA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47800" y="5791320"/>
            <a:ext cx="5029200" cy="533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rimeiro ser humano a CALCULA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pas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Técnica utilizad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empilhamento de pedras para controlar a quantidade de ovelhas de seu rebanh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</a:rPr>
              <a:t>Calculus 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lat.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ff"/>
                </a:solidFill>
                <a:latin typeface="Arial"/>
              </a:rPr>
              <a:t>Ped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0920" y="3714840"/>
            <a:ext cx="5790960" cy="1371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91EF-5027-409B-81D0-C0403D0921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69704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867280" y="3871800"/>
            <a:ext cx="2968920" cy="269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890 - Herman Holleri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artões de Jacquard + conceito de impulsos elétricos para transmissão de dados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(conversão de dados em impulsos magnéticos nos cartões perfurados)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onstrução de um tabulador que utiliza os cartões e torna mais rápido o processamento de estatística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2F6D-16F4-46D9-B8B3-A13A135FC2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890 - Herman Holleri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Sistema  reconhecido no recenseamento americano de 1890. Eliminou  o trabalho braçal de tabular os milhões de dados que coletado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Os resultados ficaram prontos em um tempo muito menor que normalmente levaria, gerando enorme economia (redução de 8 para 3 anos)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Em 1896, Hollerith fundou a "Tabulating Machine Company" para explorar suas invenções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Sua empresa acaba sendo bem sucedida depois de seu computador mecânico vencer uma concorrência do governo Americano e em </a:t>
            </a: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1924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torna-se a </a:t>
            </a: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International Business Machines Corp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. (</a:t>
            </a: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IBM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B143-74F3-4E9F-AEFB-246B1DD242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23520" y="16765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óximos pass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Tentativas de substituir as partes mecânicas dos “computadores” por partes elétric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879E-55F3-465E-A06E-FD31FEAE81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666880" y="5486400"/>
            <a:ext cx="502920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94920" y="16761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Primeira maneira que os seres humanos encontraram para mostrar a que quantidade estavam se referindo: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uso dos dedos da mã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</a:rPr>
              <a:t>Digitus </a:t>
            </a:r>
            <a:r>
              <a:rPr b="0" i="1" lang="pt-BR" sz="2800" spc="-1" strike="noStrike">
                <a:solidFill>
                  <a:srgbClr val="ffff00"/>
                </a:solidFill>
                <a:latin typeface="Arial"/>
              </a:rPr>
              <a:t>– lat.</a:t>
            </a:r>
            <a:r>
              <a:rPr b="0" i="1" lang="pt-BR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ff"/>
                </a:solidFill>
                <a:latin typeface="Arial"/>
              </a:rPr>
              <a:t>de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410080" cy="1352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0F84-9C05-4356-AFA6-6D39705942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129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imeira tentativa bem sucedida de criação  de uma máquina de contar: 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ábac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China, cerca de 2500 a.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5495760"/>
            <a:ext cx="5943600" cy="676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  <a:effectLst>
            <a:outerShdw dist="45929" dir="19571123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cc"/>
                </a:solidFill>
                <a:latin typeface="Penguin"/>
              </a:rPr>
              <a:t>Abacus</a:t>
            </a:r>
            <a:r>
              <a:rPr b="1" i="1" lang="pt-BR" sz="2800" spc="-1" strike="noStrike">
                <a:solidFill>
                  <a:srgbClr val="ff9900"/>
                </a:solidFill>
                <a:latin typeface="Times New Roman"/>
              </a:rPr>
              <a:t> – lat. </a:t>
            </a:r>
            <a:r>
              <a:rPr b="1" i="1" lang="pt-BR" sz="2800" spc="-1" strike="noStrike">
                <a:solidFill>
                  <a:srgbClr val="0000ff"/>
                </a:solidFill>
                <a:latin typeface="Arial"/>
              </a:rPr>
              <a:t>tábua de argi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94200" y="3086280"/>
            <a:ext cx="3078000" cy="192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FE49-5280-479B-A7C0-39159D7E38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90920" y="6019920"/>
            <a:ext cx="5181480" cy="533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b00b"/>
                </a:solidFill>
                <a:latin typeface="Arial"/>
              </a:rPr>
              <a:t>Cerca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 de 4 mil anos trás -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imeiro sistema científico para contar e acumular grandes quanti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– desenvolvido por mercadores da Mesopotâmia.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Técnica utilizada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imeiro faziam um sulco na areia e iam colocando nele sementes secas (ou contas) até chegar a dez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pois faziam um segundo sulco, onde colocavam uma só conta – que equivalia a 10 -, esvaziavam o primeiro sulco e iam repetindo a operaçã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b00b"/>
                </a:solidFill>
                <a:latin typeface="Arial"/>
              </a:rPr>
              <a:t>Origem da expressão Conta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033A-FFE1-48F6-972C-3B1CF3EEF6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240" y="2361960"/>
            <a:ext cx="746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s algarismos atuais, conhecidos por </a:t>
            </a:r>
            <a:r>
              <a:rPr b="1" i="1" lang="en-US" sz="2400" spc="-1" strike="noStrike">
                <a:solidFill>
                  <a:srgbClr val="eeb00b"/>
                </a:solidFill>
                <a:latin typeface="Arial"/>
              </a:rPr>
              <a:t>algarismos arábico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tem pouco mais de mil ano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zão pela qual os algarismos arábicos se tornaram o padrão numérico mundial -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poderio militar dos árab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AB9F-63F1-41C9-9E54-52BDE5B8DF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614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Bastões de Napier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criados como auxílio à multiplicação (matemático John Napier, inventor dos logaritmos)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s bastões de Napier eram um conjunto de 9 bastões, um para cada dígito, que transformavam a multiplicação de dois números numa soma das tabuadas de cada dígito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2012760" cy="2438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EA29-2B25-4A32-A41A-8B536E797D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5345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Simulação da multiplicação de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por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384 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com Bastões de Napi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20840" y="2184480"/>
          <a:ext cx="457200" cy="414936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552760" y="589428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2760" y="5451480"/>
            <a:ext cx="492120" cy="442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2760" y="5011560"/>
            <a:ext cx="492120" cy="4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2760" y="4554360"/>
            <a:ext cx="4921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71840" y="4111560"/>
            <a:ext cx="473040" cy="46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52760" y="367020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52760" y="322884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2760" y="278748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2760" y="2184480"/>
            <a:ext cx="492120" cy="60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Penguin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52760" y="218448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52760" y="278748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2760" y="322884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2760" y="367020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52760" y="41115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2760" y="45543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52760" y="50115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52760" y="545148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589428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2760" y="633564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52760" y="278748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52760" y="322884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52760" y="367020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52760" y="4111560"/>
            <a:ext cx="492120" cy="4428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52760" y="4554360"/>
            <a:ext cx="492120" cy="4572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52760" y="5011560"/>
            <a:ext cx="492120" cy="43992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552760" y="5451480"/>
            <a:ext cx="492120" cy="4428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52760" y="589428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52760" y="2184480"/>
            <a:ext cx="0" cy="415116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4880" y="2184480"/>
            <a:ext cx="0" cy="415116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727440" y="2185920"/>
          <a:ext cx="507960" cy="414972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5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7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923000" y="2190600"/>
          <a:ext cx="496800" cy="4146480"/>
        </p:xfrm>
        <a:graphic>
          <a:graphicData uri="http://schemas.openxmlformats.org/drawingml/2006/table">
            <a:tbl>
              <a:tblPr/>
              <a:tblGrid>
                <a:gridCol w="49680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955880" y="5794200"/>
            <a:ext cx="444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Penguin"/>
              </a:rPr>
              <a:t>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11480" y="5987520"/>
            <a:ext cx="584280" cy="101880"/>
          </a:xfrm>
          <a:prstGeom prst="line">
            <a:avLst/>
          </a:prstGeom>
          <a:ln cap="sq" w="28440">
            <a:solidFill>
              <a:srgbClr val="ffffcc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281480" y="5987520"/>
            <a:ext cx="584280" cy="101880"/>
          </a:xfrm>
          <a:prstGeom prst="line">
            <a:avLst/>
          </a:prstGeom>
          <a:ln cap="sq" w="28440">
            <a:solidFill>
              <a:srgbClr val="ffffcc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00800" y="5794200"/>
            <a:ext cx="444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Pengui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08840" y="5727600"/>
            <a:ext cx="1473120" cy="622440"/>
          </a:xfrm>
          <a:prstGeom prst="rect">
            <a:avLst/>
          </a:prstGeom>
          <a:solidFill>
            <a:srgbClr val="ffffcc"/>
          </a:solidFill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nguin"/>
              </a:rPr>
              <a:t>3.45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891040" y="2754360"/>
            <a:ext cx="2948040" cy="1957320"/>
          </a:xfrm>
          <a:prstGeom prst="rect">
            <a:avLst/>
          </a:prstGeom>
          <a:ln w="0">
            <a:noFill/>
          </a:ln>
          <a:effectLst>
            <a:outerShdw dist="63504" dir="19383909" blurRad="0" rotWithShape="0">
              <a:srgbClr val="b2b2b2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F94B-4203-41C3-B8AF-E180620770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*</cp:lastModifiedBy>
  <dcterms:modified xsi:type="dcterms:W3CDTF">2006-04-08T15:59:01Z</dcterms:modified>
  <cp:revision>206</cp:revision>
  <dc:subject/>
  <dc:title>Introdução à Computação</dc:title>
</cp:coreProperties>
</file>