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DB13F-5318-4C06-8B81-692869E7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14539-DD7F-419B-AEC0-3EA49122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D83A4-4D5C-47D7-ABE4-66DCD041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3195E-7B08-48F0-BDDF-185D6000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E2C27-91E5-479F-9E8B-F27ACFD1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A60F7-90ED-4A36-B0E5-745F880E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1908E-4983-41FA-A9AA-37CC8FB0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BDE21-782E-4A95-8947-90D5DA52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6C5A5-4BF7-4D2F-BA22-FCBE9C5C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00E27-212F-455A-862D-FDD6FC23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58715-631B-4AE1-9A27-66E28E70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2CCB0-349C-4E88-B9B2-BFFD231A0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5E7C-99B6-4383-A5C9-FF8807B36BF4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040" y="15228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Redes d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77B7-C20C-458C-8C89-C60B6E0995A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ahoo.com.br/" TargetMode="External"/><Relationship Id="rId2" Type="http://schemas.openxmlformats.org/officeDocument/2006/relationships/hyperlink" Target="http://www.google.com.br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2 Redes de Computadores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rreio eletrônico (SM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iversos programas que servem como servidores de correio eletr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rreio eletrônico na internet é referenciado por sua sigla em inglês e-mail (eletronic 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ndereço de correio eletrônico segue o padrão: usuario@domi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suário é o dono da ‘conta’ de e-mail. O @ é conhecido como ‘at’ ou on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internet existem diversos sítios (sites) de correio eletrônico gratuitos. (Hotmail, Yahoo, IG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ransferência de arquivos (F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longo da internet existem diversos servidores de arqu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je não é tão comum usar diretamente o servidor de arquivos uma vez que as páginas web se tornaram uma forma mais simples de ac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cesso aos arquivos é dado por coman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diversos programas que tornam o acesso ao serviço de arquivos simples. ( WinFTP, WS_FTP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ir do e-mail surgiram outros serviços como listas de discu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mplo de programa para FT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WS F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124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10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avegação em hipertexto (HTTP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rviços anteriores são fundamentais mas pressupõe o conhecimento prévio da localização da in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crescimento da rede surgiu uma ferramenta bastante eficiente para a localização de informações de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i criado o serviço World Wide Web para a visualização de hiper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um conjunto de páginas com um fim específico chamamos de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serviço foi amplamente difundido depois do surgimento de sites de alojamento de sites pessoais e de sites de busca. (Geocities e Yahoo por exemp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buscas na Internet podem se dar por textos pré-cadastrados ou pelo conteúdo das páginas. (Yahoo – </a:t>
            </a:r>
            <a:r>
              <a:rPr b="0" lang="pt-BR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yahoo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Google – </a:t>
            </a:r>
            <a:r>
              <a:rPr b="0" lang="pt-BR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google.com.b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 fator facilitador foi o de que a linguagem de hipertexto utilizada na internet é extremamente simples. Ela é chamada HTML (Hiper Text Markup Langu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elementos principais são o texto, a marcação/formatação e as ligações ou l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diversas ferramentas para criação de páginas (FrontPage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80880"/>
            <a:ext cx="8107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avegação em hipertexto (HTTP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exão remota TELNE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grama 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programa serve para testar um endereço n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 dá como resposta o tempo de ida e volta de pacotes para o computador des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66680" y="2792520"/>
            <a:ext cx="6858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utros serviç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ersa interativa via texto / voz ou vídeo (ICQ, NetMeeting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contrar pessoas 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men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dereçamento do TCP/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rviços da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io eletrô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erência de 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vegação em hipertex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exão rem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endendo a World Wide Web e os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66 – O governo americano resolve financiar a construção de uma rede de computadores que não fosse dependente de um elemento central. Seu principal objetivo é garantir o funcionamento desta rede mesmo que ocorra um ataque nuclear. O projeto é chamad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RPA Net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dvanced Reserch Project Agency Network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69 – A ARPANet entra no ar com seu primeiro ponto na Universidade da Califórnia em Los Ang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79 – É criada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Usen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uma rede de grupos de discuss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1 – É criada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tNet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cooperativa com serviço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rreio eletrônic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transferência de arqu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inente acadê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2 – O nom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ssa a ser usado para as redes que utilizam o conjunto de protocolos TCP/I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86 – A NSF, órgão do governo americano, cria uma rede de comunicações de alta velocidade para interligar os 5 principais supercomputadores da internet, chamado NSFN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2 – É inventada 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www). Esta ferramenta é inicialmente usada como ferramenta de trabalhos para cientistas do mundo t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4 – O tráfego na NSFNET ultrapassa 10 trilhões de bytes por mês (16 mil CD-ROMs). A maior parte deste tráfego é comercial. O governo americano passa a tentar repassar este tráfego para a própria iniciativa privad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junto de protocolos usado na Internet é chamado de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ido à idéia inicial de descentralização e independência da ARPANet o TCP/IP é altamente focado na interligação de redes de comp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tal o TCP/IP está altamente focado nas camadas de Rede e Transporte do Modelo 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tocolos d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657600"/>
            <a:ext cx="25146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ransmission Contr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tocol (T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657600"/>
            <a:ext cx="2514600" cy="533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ser Data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tocol (UD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6576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20574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590920"/>
            <a:ext cx="1828800" cy="533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resen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12408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4191120"/>
            <a:ext cx="1828800" cy="53316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72428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257800"/>
            <a:ext cx="1828800" cy="53352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13716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3080" y="5867280"/>
            <a:ext cx="9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2240" y="5867280"/>
            <a:ext cx="17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191120"/>
            <a:ext cx="5029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P – Internetwork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5268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2057400"/>
            <a:ext cx="5335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0120" y="2057400"/>
            <a:ext cx="5331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70520" y="251460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724280"/>
            <a:ext cx="5029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lquer protocolo enlace compatível. Ex.: 80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257800"/>
            <a:ext cx="5029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ualquer interligação física compatí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ETHERNET, TOKEN RING, FDDI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tocolos d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pessoa pode criar um novo protocolo para aplicações no TCP/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ós a criação dos protocolos estes podem ser homologados. Os protocolos são submetidos através de arquivos chamados RF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protocolo nas camadas superiores define um novo serviço na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incipais serviços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rreio eletrônico – 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erência de arquivos – 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vegação em hipertexto –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ão remota – TEL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ndereçamento n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que a camada de rede (IP) funcione é necessário que cada máquina ligada na internet possua um ende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endereço deve ser único, isto é, em toda a internet não podem haver duas máquinas com o mesmo ende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ndereço IP é composto por 4 números de 0 a 255 separados por ponto. Exemplo: 200.233.2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imeiros números representam o endereço da rede e os últimos o endereço da estação dentro da rede. A quantidade de números para rede e estações pode variar. No exemplo: 200.233 é a rede e 20.8 a es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a forma a camada de rede sabe se um ‘pacote’ é para a rede local ou para uma rede exter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ndereçamento no TCP/I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endereços numéricos são pouco pr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i criado então o conceito de domínio, através de um protocolo de nomes (D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domínios devem possuir terminações indicando seu tipo (com – comercial, edu – educação, gov – governo, ...) e seu país (br – Brasil, pt – Portugal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emplos de domínio: cade.com.br, ftc.br, harvard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7-10T20:54:58Z</dcterms:modified>
  <cp:revision>111</cp:revision>
  <dc:subject/>
  <dc:title>Introdução ás Linguagens de Programação</dc:title>
</cp:coreProperties>
</file>