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35426-2E6E-4DBD-AD40-A226ACC43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2330C-2228-4B38-A64B-DC0C9666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E966C-8FCF-4991-B894-6C18F50F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05F20-61A1-4E5B-8E13-6C21446C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351ED-F5F5-4D9D-A019-48387EDA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60A93-0F60-493C-B782-5632720E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7558D-8D20-4A80-AAD3-38AE2F18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3375B-F96B-48D5-97A6-8E07B6B4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1C3E2-A7EC-4D37-A519-4705C3A8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34CB0-601B-425F-BF8F-389E374F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6F387-37EB-4F8C-BCE4-A2DF43D32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41ADD-48AC-418E-9C39-B1F8815DB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D09C-FA68-4CB0-B1F9-04F7E3F8CDCE}" type="slidenum"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190040" y="152280"/>
            <a:ext cx="495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Introdução à Computação: Redes de Comput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6858720" y="632448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Eduardo Arg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6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7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73240" y="-89892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A6B4-FFF6-455C-B357-D3F752304E1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156744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3366"/>
                </a:solidFill>
                <a:latin typeface="Times New Roman"/>
              </a:rPr>
              <a:t>Introdução à Computação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33520" y="3886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Unidade 3.2 Redes de Computad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duardo Arg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Topologi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opologia parcialmente ligada ou em gra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É o ‘meio termo’ entre as anteri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495680" y="2743200"/>
          <a:ext cx="4419720" cy="33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2743200"/>
                    <a:ext cx="441972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990720" y="2514600"/>
            <a:ext cx="3504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m todas as ligações entre os pares estão presentes mas existe redundância, caso um caminho não esteja disponível outro pode ser ten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Topologi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opologia em estr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comunicação se dá através de um elemento cent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495680" y="2743200"/>
          <a:ext cx="4419720" cy="33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2743200"/>
                    <a:ext cx="441972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990720" y="2438280"/>
            <a:ext cx="3504960" cy="43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Todas as mensagens passam pelo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nó central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m algumas redes a única função do nó central é o chaveamento (ou comutação) entre as estações. Ele é denominado comutador ou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ste arranjo é melhor aproveitado quando o nó central é responsável pelo processamento de informações dos perifé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4120" y="762120"/>
            <a:ext cx="3276360" cy="703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uito usado no caso de arquitetura cliente x serv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Topologi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opologia em barr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Todas as estações se ligam ao mesmo meio de transmiss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omo todos os nós podem ouvir as informações transmitidas ela facilita as mensagens glob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É necessário a existência de mecanismos de controle de acesso à bar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 falha em uma estação não causam a parada total do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Não é ponto a ponto e sim multipo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 adição de um nó pode ser um grande inconveniente, bem como o controle das características elétricas do meio para que não ocor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4343400"/>
            <a:ext cx="35049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falh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stes aspectos limitam o comprimento e a quantidade de estações do barram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m concentrador ou </a:t>
            </a:r>
            <a:r>
              <a:rPr b="1" i="1" lang="pt-BR" sz="2000" spc="-1" strike="noStrike">
                <a:solidFill>
                  <a:srgbClr val="000000"/>
                </a:solidFill>
                <a:latin typeface="Times New Roman"/>
              </a:rPr>
              <a:t>hub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4120" y="762120"/>
            <a:ext cx="3276360" cy="703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sta topologia é muito usada em 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Redes Loc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502160" y="4402080"/>
          <a:ext cx="4416480" cy="16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2160" y="4402080"/>
                    <a:ext cx="4416480" cy="1673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omunicação numa re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que os equipamentos se comuniquem é necessária uma formalização de como se dará a comunic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a formalização veio através dos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protocolos de comunic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rotocol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é um conjunto de regras que regem o envio no computador emissor e o recebimento no computador desti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máquina pode ter vários protocolos instal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que haja comunicação é necessário que o computador de origem e destino estejam usando o mesmo protoco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Alguns Protocol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etbe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X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PX/SP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I Protocol Su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Funcionamento dos protocol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 o crescimento da complexidade das redes ficou difícil para os protocolos controlar todos os passos da comun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cidiu-se dividir um protocolo em camadas hierárqu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camada utiliza os recursos da camada inf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camada se comunica com a camada correspondente no outro comput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 isto divide-se o problema da comunicação em problemas menores que podem ser resolvidos de forma mais fá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Exemplo de camada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44040" y="1652760"/>
            <a:ext cx="1185120" cy="39888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01280" y="1652760"/>
            <a:ext cx="1271880" cy="39888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T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38480" y="586728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67080" y="5334120"/>
            <a:ext cx="1143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67080" y="4724280"/>
            <a:ext cx="1143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67080" y="4114800"/>
            <a:ext cx="1143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67080" y="2971800"/>
            <a:ext cx="1143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67080" y="2362320"/>
            <a:ext cx="1143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029200" y="609480"/>
            <a:ext cx="4114800" cy="82548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da  camada relaciona-se com a mesma camada no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981080" y="2133720"/>
          <a:ext cx="2210040" cy="4063680"/>
        </p:xfrm>
        <a:graphic>
          <a:graphicData uri="http://schemas.openxmlformats.org/drawingml/2006/table">
            <a:tbl>
              <a:tblPr/>
              <a:tblGrid>
                <a:gridCol w="221004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ada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ada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ada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ada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ada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ada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ís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5486400" y="2133720"/>
          <a:ext cx="2209680" cy="4063680"/>
        </p:xfrm>
        <a:graphic>
          <a:graphicData uri="http://schemas.openxmlformats.org/drawingml/2006/table">
            <a:tbl>
              <a:tblPr/>
              <a:tblGrid>
                <a:gridCol w="220968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ada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ada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ada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ada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ada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ada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ís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Ainda falando em camadas..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a é a maneira mais eficiente de se estruturar uma re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ligação entre dois níveis é chamada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icialmente cada fabricante criou sua própria estrutura de camadas =&gt; Proprietárias do fabric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ra preciso se ter um padr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oi então criado 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Reference Model for Open Systems Interconnection (OS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O modelo OS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iado pela ISO (Internacional Organization for Standarization) em 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ssui 7 cam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de ser usado em qualquer tipo de rede, desde LAN até W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OSI é um modelo teórico, existem protocolos baseados neste modelo mas não há um número significativo de estações usando estes protoco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amadas do Modelo OS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38080" y="1295280"/>
            <a:ext cx="8001000" cy="518184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62120" y="1752480"/>
          <a:ext cx="3475080" cy="429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52480"/>
                    <a:ext cx="3475080" cy="42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4952880" y="1752480"/>
          <a:ext cx="3475080" cy="4299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1752480"/>
                    <a:ext cx="3475080" cy="42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1830960" y="60199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RIG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8040" y="601992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ST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62520" y="541008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4876920"/>
            <a:ext cx="11430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4267080"/>
            <a:ext cx="11430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62520" y="3657600"/>
            <a:ext cx="11430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62520" y="2514600"/>
            <a:ext cx="11430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62520" y="1905120"/>
            <a:ext cx="11430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62520" y="3048120"/>
            <a:ext cx="11430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ment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istó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que é uma re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que eu ganho com uma re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opologias de r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I – Um conceito teór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madas do Modelo O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quipamentos de comunic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TCP/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277800" y="685800"/>
            <a:ext cx="195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ÍS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59120" y="1752480"/>
            <a:ext cx="7108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ira camada do mod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a a inserssão e retirada de dado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 mí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ipula apenas bits ( 1 e 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ipula um bit de cada v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a apenas as caracteristicas fís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277440" y="685800"/>
            <a:ext cx="238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N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94080" y="1828800"/>
            <a:ext cx="5997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a as estruturas de d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e o endereçamento 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a o C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verte estrutura dados em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via o “recibo de envio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be o “recibo de entrega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nculo de d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277800" y="685800"/>
            <a:ext cx="164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898640" y="1752480"/>
            <a:ext cx="5682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tem nenhum mecanismo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cção de er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 rota entre origem 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t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liga computadores ent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277080" y="685800"/>
            <a:ext cx="378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RANSPO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97920" y="1752480"/>
            <a:ext cx="6228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a os pacotes na orig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ntifica a sequencia 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o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organiza na sequencia adequa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 pacotes no dest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nta as estruturas de d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277800" y="685800"/>
            <a:ext cx="226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ESS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898640" y="1752480"/>
            <a:ext cx="5410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co utiliz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ocia e gerencia o fluxo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 o sentido do flux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dire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direcion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209680" y="762120"/>
            <a:ext cx="459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RESENT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00080" y="1752480"/>
            <a:ext cx="5532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encia como os dados v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 apresent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iptograf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e os sistemas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ficação (ASCII - EBCDI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rime / Descompr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895480" y="762120"/>
            <a:ext cx="338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LIC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13200" y="2133720"/>
            <a:ext cx="6427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nece interface entre as aplicaç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a re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quipamentos de Comunica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UB ou Concentrador: Participa da camada física fazendo o barramento. Amplifica os sinais dos B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WITCH ou Comutador: Atua na camada de enlace, interligando seguimentos (barramentos) montando uma re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oteador: Interliga diversas redes. Está fazendo parte da camada de Re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Histór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mitivos sinais de fumaça e pombos-corre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838 – Telégrafo (Samuel Mor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ímbolos binários transmitidos por pulsos elét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unicação de sinais elétricos evoluiu para: Telefone, rádio, televisão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de comput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950 – Máquina central que processava todas as informações – Fila de ‘clientes’ para submeter um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960 – Sistemas de terminais = Máquina central com terminais ligados – SO Multitare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970 – Recursos distribuídos, poder computacional nas pontas -&gt; Redes de comput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O que é uma rede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eu conceito mais Básico uma rede são dois ou mais computadores interligados entre si de forma que possam compartilhar informaçõ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equipamentos utilizados não precisam realmente ser computadores, podem ser unidades capazes de se comunicar através da rede. Por exemplo uma impressora para rede ou um print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14600" y="4724280"/>
            <a:ext cx="1905120" cy="1314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095880" y="4724280"/>
            <a:ext cx="1905120" cy="1314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648320" y="5181480"/>
            <a:ext cx="1087200" cy="6987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809880" y="518148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562720" y="502920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O que eu ganho com uma rede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rede permite o compartilhamento de informações e recur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mite uma melhoria na relação custo x benefício do recur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s: Compartilhar impressora, comunicação via correio eletrônico, compartilhamento de arquivos, sistemas utilizados através de toda a rede, compartilhamento de internet, . 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886200" y="4648320"/>
            <a:ext cx="2088720" cy="1676160"/>
            <a:chOff x="3886200" y="4648320"/>
            <a:chExt cx="2088720" cy="1676160"/>
          </a:xfrm>
        </p:grpSpPr>
        <p:sp>
          <p:nvSpPr>
            <p:cNvPr id="145" name=""/>
            <p:cNvSpPr/>
            <p:nvPr/>
          </p:nvSpPr>
          <p:spPr>
            <a:xfrm flipV="1">
              <a:off x="4847400" y="5621040"/>
              <a:ext cx="61812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641480" y="5134680"/>
              <a:ext cx="411840" cy="34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4160880" y="5064480"/>
              <a:ext cx="0" cy="41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3886200" y="5343120"/>
              <a:ext cx="1167480" cy="9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465520" y="5273280"/>
              <a:ext cx="509400" cy="64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3"/>
            <a:stretch/>
          </p:blipFill>
          <p:spPr>
            <a:xfrm>
              <a:off x="4847400" y="4787280"/>
              <a:ext cx="509400" cy="6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4"/>
            <a:stretch/>
          </p:blipFill>
          <p:spPr>
            <a:xfrm>
              <a:off x="4023360" y="4648320"/>
              <a:ext cx="509400" cy="64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"/>
          <p:cNvGrpSpPr/>
          <p:nvPr/>
        </p:nvGrpSpPr>
        <p:grpSpPr>
          <a:xfrm>
            <a:off x="1371600" y="4648320"/>
            <a:ext cx="2209680" cy="1523880"/>
            <a:chOff x="1371600" y="4648320"/>
            <a:chExt cx="2209680" cy="1523880"/>
          </a:xfrm>
        </p:grpSpPr>
        <p:sp>
          <p:nvSpPr>
            <p:cNvPr id="153" name=""/>
            <p:cNvSpPr/>
            <p:nvPr/>
          </p:nvSpPr>
          <p:spPr>
            <a:xfrm flipV="1">
              <a:off x="2533680" y="5258880"/>
              <a:ext cx="611280" cy="6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5"/>
            <a:stretch/>
          </p:blipFill>
          <p:spPr>
            <a:xfrm>
              <a:off x="3078000" y="4876920"/>
              <a:ext cx="503280" cy="59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 flipH="1" flipV="1">
              <a:off x="1447560" y="5068440"/>
              <a:ext cx="74772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584360" y="5707080"/>
              <a:ext cx="745920" cy="2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6"/>
            <a:stretch/>
          </p:blipFill>
          <p:spPr>
            <a:xfrm>
              <a:off x="1922400" y="5068800"/>
              <a:ext cx="951120" cy="75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7"/>
            <a:stretch/>
          </p:blipFill>
          <p:spPr>
            <a:xfrm>
              <a:off x="1371600" y="4648320"/>
              <a:ext cx="565200" cy="70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8"/>
            <a:stretch/>
          </p:blipFill>
          <p:spPr>
            <a:xfrm>
              <a:off x="1515960" y="5580000"/>
              <a:ext cx="503280" cy="59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"/>
          <p:cNvGrpSpPr/>
          <p:nvPr/>
        </p:nvGrpSpPr>
        <p:grpSpPr>
          <a:xfrm>
            <a:off x="6248520" y="4876920"/>
            <a:ext cx="914400" cy="1143000"/>
            <a:chOff x="6248520" y="4876920"/>
            <a:chExt cx="914400" cy="1143000"/>
          </a:xfrm>
        </p:grpSpPr>
        <p:pic>
          <p:nvPicPr>
            <p:cNvPr id="161" name="" descr=""/>
            <p:cNvPicPr/>
            <p:nvPr/>
          </p:nvPicPr>
          <p:blipFill>
            <a:blip r:embed="rId9"/>
            <a:stretch/>
          </p:blipFill>
          <p:spPr>
            <a:xfrm>
              <a:off x="6400800" y="5105520"/>
              <a:ext cx="69372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 flipH="1">
              <a:off x="6248520" y="5334120"/>
              <a:ext cx="914400" cy="457200"/>
            </a:xfrm>
            <a:prstGeom prst="line">
              <a:avLst/>
            </a:prstGeom>
            <a:ln w="190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00800" y="4876920"/>
              <a:ext cx="685800" cy="1143000"/>
            </a:xfrm>
            <a:prstGeom prst="line">
              <a:avLst/>
            </a:prstGeom>
            <a:ln w="190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Tipos de red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 acordo com a distribuição geográfica tem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AN – Local Area Network – Redes locais: São redes que permitem a comunicação de equipamentos em uma pequena região, normalmente entre 100m e poucos quilômetros. Normalmente possuem altas taxas de transmissão (0,1 a 1 Gbit) e baixa taxa de erro (10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-8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10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-1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N – Metropolitan Area Network – Redes Metropolitanas: Quando a rede começa a atingir distâncias metropolitanas. Possuem características semelhantes às das redes locais mas com dimensão metropolit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AN – Wide Area Network – Redes Geograficamente Distribuídas: Atinge usuários geograficamente distribuídos. Por possuírem alto custo de comunicação (satélites, microondas, . . .) normalmente são geridas por grandes operadoras. Normalmente possuem velocidades de transmissão baixa (da ordem de Kbits ou poucos M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Topologias - Conceit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ravés da organização dos enlaces físicos (os meios de transmissão), uma rede passará a possuir um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rranjo topológic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arranjo depende do tipo de rede (LAN, MAN ou WAN) e pode ser fator determinante na sua eficiência e veloc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ligações físicas podem ser de dois tip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nto a ponto: Apenas dois pontos de comunicação (um em cada extremida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ultiponto: Três ou mais dispositivos de comunicação usando um mesmo enl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523880" y="5486400"/>
          <a:ext cx="274320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5486400"/>
                    <a:ext cx="2743200" cy="990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53120" y="5340240"/>
          <a:ext cx="2828880" cy="103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3120" y="5340240"/>
                    <a:ext cx="2828880" cy="10382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1448280" y="510552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nto a po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81120" y="495288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ultipo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Topologi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opologia totalmente lig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odos os equipamentos estão ligados entre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495680" y="2743200"/>
          <a:ext cx="4419720" cy="33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2743200"/>
                    <a:ext cx="441972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990720" y="2514600"/>
            <a:ext cx="350496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comunicação entre cada par se dá pelo enlace que liga este p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uando aumenta o número de equipamentos fica inviável se aumentar a quantidade de enl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uma rede com n estações são necessárias n(n-1)/2 ligações ponto a po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Topologi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opologia em a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É o extremo oposto da topologia totalmente lig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495680" y="2743200"/>
          <a:ext cx="4419720" cy="33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2743200"/>
                    <a:ext cx="441972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990720" y="2514600"/>
            <a:ext cx="350496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comunicação opera num único sent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mensagem terá que circular o anel do computador origem até o computador dest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la tem grandes problemas como a ausência de caminhos alterna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5880" y="3581280"/>
            <a:ext cx="685800" cy="685800"/>
          </a:xfrm>
          <a:custGeom>
            <a:avLst/>
            <a:gdLst>
              <a:gd name="textAreaLeft" fmla="*/ 0 w 685800"/>
              <a:gd name="textAreaRight" fmla="*/ 686160 w 6858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 rot="16200000">
            <a:off x="6857280" y="3580200"/>
            <a:ext cx="685800" cy="838440"/>
          </a:xfrm>
          <a:custGeom>
            <a:avLst/>
            <a:gdLst>
              <a:gd name="textAreaLeft" fmla="*/ -360 w 685800"/>
              <a:gd name="textAreaRight" fmla="*/ 685800 w 685800"/>
              <a:gd name="textAreaTop" fmla="*/ -360 h 838440"/>
              <a:gd name="textAreaBottom" fmla="*/ 8384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6780960" y="4342680"/>
            <a:ext cx="685800" cy="685800"/>
          </a:xfrm>
          <a:custGeom>
            <a:avLst/>
            <a:gdLst>
              <a:gd name="textAreaLeft" fmla="*/ -360 w 685800"/>
              <a:gd name="textAreaRight" fmla="*/ 685800 w 68580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6057720" y="4228560"/>
            <a:ext cx="685800" cy="761760"/>
          </a:xfrm>
          <a:custGeom>
            <a:avLst/>
            <a:gdLst>
              <a:gd name="textAreaLeft" fmla="*/ 0 w 685800"/>
              <a:gd name="textAreaRight" fmla="*/ 686160 w 6858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5T18:55:06Z</dcterms:created>
  <dc:creator>Eduardo Argollo</dc:creator>
  <dc:description/>
  <dc:language>en-US</dc:language>
  <cp:lastModifiedBy>Eduardo Argollo</cp:lastModifiedBy>
  <dcterms:modified xsi:type="dcterms:W3CDTF">2002-06-28T20:59:52Z</dcterms:modified>
  <cp:revision>78</cp:revision>
  <dc:subject/>
  <dc:title>Introdução ás Linguagens de Programação</dc:title>
</cp:coreProperties>
</file>