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E718D-0B65-4919-AD21-D2EAF0D9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A42AE-9432-4721-8A71-8A7C350B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24B57-ECD4-47E4-BBE0-73BFF85A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F3C9B-B259-48EE-9502-1921A482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A8812-5476-4FC6-BD57-348FB3C8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E5DFE-487D-4205-9F8D-A5B4736F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42F6A-F7B0-4178-9D7E-6525D59C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094E6-6DC1-49B2-978B-95ABEBB4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91736-57BC-43F6-9E41-DB49F0B4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82E5C-93BC-4408-A085-8D1F1BED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5D0D6-2C28-49FA-B868-87BB5CDB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5556F-FBA0-4732-9FB5-B7BA51110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F95E-115A-4EA6-9B8A-32A2E278F3D0}" type="slidenum"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4190760" y="152280"/>
            <a:ext cx="48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Introdução à Computação: Sistemas Oper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6858720" y="63244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Eduardo Arg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37B4-6201-4FE3-88E6-A33A737CA09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5674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3366"/>
                </a:solidFill>
                <a:latin typeface="Times New Roman"/>
              </a:rPr>
              <a:t>Introdução à Computação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Unidade 3.I Sistemas Operacion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duardo Arg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</a:t>
            </a: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105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Escalonador de Processos (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ível mais baixo do S. 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função do escalonador de processos é decidir qual processo vai rodar e por quanto tem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modelo probabilístico afirma que os processos gastam 80 % do seu tempo esperando por E/S. Assim o escalonador tem que gerenciar os processos de forma a o processador não ficar par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erência de Memó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trabalho do gerente de memória é controlar quais partes da memória estão em uso e quais não estão, alocar memória a processos quando estes precisarem, liberar memória que está sendo ocupada por um processo que terminou, e trata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wapp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É muito importante pois a memória é essencial ao computador e é cara. Se o acesso for eficiente o sistema como um todo fica efic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WAP e paginação são artifícios utilizados quando há falta de memó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WAPPING - É o movimento de processos entre a memória e o disco, uma vez que a memória não foi suficiente para guardar todos os processos em andamento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ência de Entrada/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a das principais funções do S. O. é controlar todos os dispositivos de entrada/saída (E/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105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pooling é uma forma de se tratar com dispositivos dedicados que fazem parte de um sistema multiprogramado. Permite que vários processos possam  usar o mesmo dispositivo de E/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Ex : Impressão num sistema multiprogramado. Coloca os arquivos de impressão em uma fila de esper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79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iciando o Sistema Operacional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(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ão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oot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- Procedimento de carregar um sistema operacional na memória principal RAM, executado por um pequeno programa contido na memória ROM, que instrui o microprocessador sobre como proceder para localizar o sistema operacional no disco e carregá-lo na memóri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é um sistema operacion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133720"/>
            <a:ext cx="6934320" cy="2340000"/>
          </a:xfrm>
          <a:prstGeom prst="rect">
            <a:avLst/>
          </a:prstGeom>
          <a:solidFill>
            <a:srgbClr val="e1e1b7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istema oper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 programa que age como um intermediário entr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usuári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um computador. Seu propósito é prover um ambiente onde o usuário possa executar programas de for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onvenien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Operating System Conce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4572000"/>
            <a:ext cx="733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SO (sistema operacional) por si próprio não faz nenhuma tarefa útil. Ele somente provê o ambiente para que outros programas façam seu trabal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 pode ser visto como u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locador e administrador de recurs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mponen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4 os componentes de um sistema comput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91120" y="1905120"/>
          <a:ext cx="450684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905120"/>
                    <a:ext cx="450684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990720" y="4952880"/>
            <a:ext cx="3581280" cy="1459800"/>
          </a:xfrm>
          <a:prstGeom prst="rect">
            <a:avLst/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OBS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Kernel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As funções centrais de 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.O. são controladas pelo 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Shell -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terface com o usuário é controlada pelo She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lvez seja mais fácil entender um SO vendo melhor suas fun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incipais funções 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cionar uma interface para o usuário se comunicar com 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r os dispositivos de hardware do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ciar e manter o sistema de arquivos em d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r suporte a outr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– Interface com o usu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 é o programa responsável pela interação direta com o usuário para que este execute os a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2 tipos básicos de 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face em linha de comando: Os programas e comandos são acessados através de palavras ou símbolos teclados no compu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rface gráfica: As ações são selecionadas usando o mouse ou semelhante para dar ‘cliques’ em ícones ou em m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Funções do 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 – Gerenciar o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 gerencia como o hardware é us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executamos programas estes precisam usar os recursos de hardware do computador (acessar a memória, monitor, unidades de disco, ...). O controle e gerenciamento do uso destes recursos é feito pelo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 serve de intermediário entre os programas e o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267080"/>
            <a:ext cx="10540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49760" y="4267080"/>
            <a:ext cx="98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Usu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952880"/>
            <a:ext cx="105408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79920" y="4952880"/>
            <a:ext cx="98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40240" y="5638680"/>
            <a:ext cx="1123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56386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S.O. Kern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6324480"/>
            <a:ext cx="10540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79920" y="6324480"/>
            <a:ext cx="1073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0400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04000" y="5943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45720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terface com o Usuár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(telas de Programa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29280" y="47242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52578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terface com o Program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(Chamadas ao S.O.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99120" y="5410080"/>
            <a:ext cx="70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3366"/>
                </a:solidFill>
                <a:latin typeface="Times New Roman"/>
              </a:rPr>
              <a:t>Sistemas Operacionais - Funçõ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Gerenciando o Sistema de Arqu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.O. agrupa os dados e a esses dados chamamos Arquivos. Os computadores armazenam as informações em Arquiv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 S.O. mantém a lista de arquivos contidos em um disco (H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ndo há centenas de arquivos em um disco, pode-se levar tempo para encontrar um arquivo desejado. Para evitar esta perda de tempo, o S.O. oferece uma maneira para organizar seus arquivos em grupos menores e mais lógicos (Diretórios e Sub-diretóri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- Apoio a Programas - Oferecer serviços a outros progra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rviços oferecidos pelo S.O. : Salvar arquivos em disco; Ler arquivos do disco; Verificar o espaço disponível no disco ou na memória; Ler toques de teclas do teclado e exibir caracteres ou gráficos na tela;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Os programadores incluem nos programas instruções que solicitam esses serviços ao S.O. “Chamadas ao S.O.. O resultado das chamadas é enviado para o programa que solicitou o serviç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9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07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ategorias de Sistemas Operaciona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tarefas 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Operacionais capazes de rodar mais de u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grama ao mesm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usuários - Permite que mais de um usuário acesse o mesm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utador ao mesmo t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través de modem, Ligação de terminais ao micro (teclado e monitor ligado com um fio de telefone, Rede, Ex.: Unix (ún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Marlett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ultiprocessadores -  usar um computador com mais de uma CPU.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pacidade de usar e gerenciar uma série de CPU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Times New Roman"/>
              </a:rPr>
              <a:t>Sistemas Operacionais - Process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finição - Um processo é basicamente um programa em exec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programação - O chaveamento do processador entre diversos programas em exec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processo possui um programa, uma entrada, uma saída e um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pesar de cada processo ser uma entidade independente, com seu próprio fluxo de controle e com seu próprio estado interno, eles muitas vezes  têm necessidade de interagir com outros proces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tados pelo qual um processo pode pass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- Rodando, usando o processador neste inst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2- Pronto, em condições de rodar mas esperando a processador ficar disponí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99ccff"/>
              </a:buClr>
              <a:buFont typeface="Marlett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3- Bloqueado, impedido de rodar até que ocorra um determinado evento externo ao processo( ex.: uma entrada de dados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71720" y="5334120"/>
            <a:ext cx="17128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7760" y="5257800"/>
            <a:ext cx="128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od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6095880"/>
            <a:ext cx="14414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42920" y="6019920"/>
            <a:ext cx="215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loqu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5760" y="60958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3280" y="6019920"/>
            <a:ext cx="995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876320" y="5473800"/>
            <a:ext cx="9208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08440" y="6248520"/>
            <a:ext cx="14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37240" y="5473800"/>
            <a:ext cx="8902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4663800" y="5638320"/>
            <a:ext cx="61740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57320" y="53910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78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24480" y="56386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1560" y="5791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4952880"/>
            <a:ext cx="281916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- O processo é bloqueado para  faz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entrada de dad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2- O escalonador escolhe um no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process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3- Escalonador entrega o processador 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esse novo process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4- Entrada de dados concluída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18:55:06Z</dcterms:created>
  <dc:creator>Eduardo Argollo</dc:creator>
  <dc:description/>
  <dc:language>en-US</dc:language>
  <cp:lastModifiedBy>Eduardo Argollo</cp:lastModifiedBy>
  <dcterms:modified xsi:type="dcterms:W3CDTF">2002-06-19T14:49:13Z</dcterms:modified>
  <cp:revision>44</cp:revision>
  <dc:subject/>
  <dc:title>Introdução ás Linguagens de Programação</dc:title>
</cp:coreProperties>
</file>