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7957-9774-4117-8AFD-860EAF47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FF3-2934-43D9-94D6-1123078F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196-4574-4E7F-B690-3F2FB953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E45-E743-495E-AFD6-ED0957C9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8BAB-A762-48D6-BAF9-531B9F01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323F-F1E7-4EBB-B8BA-EC652693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1F42-385B-45C5-B33A-C835BA91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A063-14AD-4899-BD41-5816826E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A538-09DF-4409-85E8-0C2DCA4B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E6DE-E393-4114-8A86-34397C80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A2F6-7744-4111-87D8-E4775A6C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F8E-8EF4-433B-BEE6-D9B1642F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3028-6BD4-4FE3-8DF3-F6888A09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D490-55B5-49BF-B777-F4972A4A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5CCB-754A-407D-9779-EA239E62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2C01-DF29-4647-B00A-87A4D69A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6439-8054-4C6C-8DA6-61CA9E48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31D6-A49A-4BA6-8984-836C85B3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11E-7500-4E6C-9FB3-48F64D38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136-5B7C-4E23-BBEA-6AAF0106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41D-0EA0-4C6F-B885-17651635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952-C40F-4D5B-A1B4-928EDDC0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D03-AF4B-47B7-A3AB-5D6C49C1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BC7-B794-4762-90F1-79B8BE97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32D3-8FFF-4C40-B720-F65A9EAB2B8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72DA-DA1E-444B-B5D1-45F0FEB7485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7444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66"/>
                </a:solidFill>
                <a:latin typeface="Times New Roman"/>
              </a:rPr>
              <a:t>Introdução às Linguagens de Programação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duardo Arg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Nível de linguag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to mais alto o nível menos instruções são necessárias para a construção de um progra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 outro lado mais instruções de máquina serão geradas para cada instrução de alto ní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go, existe uma tendência de que quanto mais alto o nível men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otimiza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erá o código de máqu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rq6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50292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emplos de Linguagen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nguagens de script são normalmente interpretadas. Ex.: Arquivos tipo .BAT no DOS, scripts de rede,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traduzidas linguagens como Visual Basic (necessita do interpretador que é o VBRUNXXX.DLL), PowerBuilder (PB*.DLL),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compiladas linguagens como C, C++, PASCAL, DELPHI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 mais de um paradigma de program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nguagens como C, Pascal, BASIC, ALGOL, Clipper, COBOL, etc., são chamadas d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procedur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devido ao fato das instruções serem executadas de forma seqü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linguagens baseadas no conceit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vent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o C++, Visual BASIC, Visual Objects, Power Builder, Delphi utilizam outra estratégia de programação (Programação Orientada a Objetos/Event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733920" y="3124080"/>
            <a:ext cx="2209680" cy="1752840"/>
          </a:xfrm>
          <a:prstGeom prst="ellipse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função dos computadores é resolver problemas (para determinados tipos sua eficiência é notáve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cessamento de da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qualquer atividade que se utilize de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nformações e dados básicos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fetue transformaç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obter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ovas informações ou da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o resul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tarefa executada pelos computadores é somente parte da solução de um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886200"/>
            <a:ext cx="1676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886200"/>
            <a:ext cx="1676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aí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65640" y="403848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ntrodução - Algoritm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tapas na solução de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tendimento do proble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iação de uma seqüência de operações (ou ações) que, quando executadas, produzem a solução para o proble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cução da seqüência de oper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6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priedades dos Algorit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ções simples e não ambíg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qüência lógica de instru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qüência finita de pa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: Receita de Bolo, Manual de instru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3200400"/>
            <a:ext cx="68580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e-se algoritmo como um conjunto de ações que devem ser executadas para se obter a solução de determinado probl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Introdução – Programas e linguage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xecução de um algoritmo só é possível através de um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gra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UCP é dotada de instruções fundamen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s instruções são chamadas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Linguagem de Máqui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são compostas por zeros e u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01011010 | 0000 0100 | 0000 0111 = somar 4,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implificar o processo de programação se construiu uma linguagem a partir do conjunto básico de instruções da Linguagem de Máquina, 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Linguagem de Mon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: Add 4,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Processo de criação de program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cesso de criação de programas em linguagem de montagem ainda era custoso. Era necessário se aproximar a linguagem de programação do nível das linguagens or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rgiu então o processo de compil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3886200"/>
            <a:ext cx="7086600" cy="947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adução/Compilaçã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écnica de se traduzir todas as instruções em linguagem de programação de alto nível para instruções em linguagem de máqu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ocesso de Compil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32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ódigo Fonte - Programa escrito em linguagem de programação de alto ní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ódigo Objeto - Programa traduzido para linguagem de máqu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ódigo Executável - Código objeto após substituir as funções especiais pelas suas rotinas específ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9000" y="1371600"/>
            <a:ext cx="1849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ódigo F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2209680"/>
            <a:ext cx="2133720" cy="1143000"/>
          </a:xfrm>
          <a:prstGeom prst="ellipse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8240" y="6095880"/>
            <a:ext cx="2511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ódigo Execut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4572000"/>
            <a:ext cx="2133720" cy="1143000"/>
          </a:xfrm>
          <a:prstGeom prst="ellipse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nk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00920" y="3733920"/>
            <a:ext cx="1985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ódigo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6120" y="4952880"/>
            <a:ext cx="2891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utros Código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181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Interpretaçã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rpretação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écnica que examina e traduz instrução por instrução à medida que o programa é executado. Através desta técnica o programa é traduzido a medida que é executado, ou seja, o programa é traduzido em tempo de execu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mpinter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6553080" cy="3591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90720" y="6172200"/>
            <a:ext cx="8001000" cy="4597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e processo requer que 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erpretado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eja executa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mpilação x Interpret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xecução de um programa compilado é mais rápida, uma vez que não é necessária a tradução dos comandos. Eles já se encontram em linguagem de máqu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rograma compilado não precisa da existência d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terpretad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interpretação não é necessário se compilar o programa a cada alte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4648320"/>
            <a:ext cx="7467480" cy="15570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termo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ompilaç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normalmente usado de forma genérica para denominar todos os processos existentes, uma vez que o método utilizado é quase sempre indiferente ao usuário não profiss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radu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processo intermediário onde há a compilação para uma linguagem intermediária chamada de p-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 linguagem intermediária é executada pelo método de interpre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incipal vantagem desta abordagem é que o código intermediário não exige tanto espaço de memória quanto o código fonte orig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a grande vantagem é a facilitação d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ortabi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410080"/>
            <a:ext cx="7391520" cy="82548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programa é dito portável quando pode ser facilmente transportado entre computadores de plataformas dif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8:55:06Z</dcterms:created>
  <dc:creator>Eduardo Argollo</dc:creator>
  <dc:description/>
  <dc:language>en-US</dc:language>
  <cp:lastModifiedBy>Eduardo Argollo</cp:lastModifiedBy>
  <dcterms:modified xsi:type="dcterms:W3CDTF">2002-05-20T15:23:01Z</dcterms:modified>
  <cp:revision>26</cp:revision>
  <dc:subject/>
  <dc:title>Introdução ás Linguagens de Programação</dc:title>
</cp:coreProperties>
</file>