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DBB-E274-4340-9FE6-2BD48641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277-8D15-42B1-9AF1-8441020D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C18-BCA4-4D4A-BB6A-264F17C4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5AD-2BE4-40D3-A780-3B1F5D6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9CEA-0CD9-4317-A22C-AE03433A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B795-1928-4C8D-9F9B-039DBF8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92C-BD69-4E26-8B0C-97F85BC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4AEF-3AA5-42F5-82E2-B3C6A38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3ACF-B95D-4E6B-AA38-8CEF023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4AF-6E79-4D95-A64F-31452BB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4CF3-C702-41E0-B12A-1E16331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2ED-BF9B-41B7-88DF-E56FAE99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28F9-F357-4F0A-BB16-8BB880F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98C0-6D4E-4CA8-8F6C-0D6AFBE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DA50-58C8-49CD-83FF-33AE09A9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4F15-5100-450D-A9D5-AD22AE65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FE1A-632A-462B-8AD2-5E091CAA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89A-7F09-4EF5-8D20-976D5FB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7DA-8FBB-4486-BF5F-1A2F454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D88-A105-4587-8DAB-C01E846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A6-E0DD-45B8-886F-5072DBE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159-C83E-47C3-B4CF-D39E68FD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113-B08D-4AF6-B966-3177C3C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E8C-316F-42A9-A17B-5457D00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7920"/>
            <a:ext cx="1065240" cy="6864480"/>
            <a:chOff x="0" y="-7920"/>
            <a:chExt cx="1065240" cy="6864480"/>
          </a:xfrm>
        </p:grpSpPr>
        <p:grpSp>
          <p:nvGrpSpPr>
            <p:cNvPr id="1" name=""/>
            <p:cNvGrpSpPr/>
            <p:nvPr/>
          </p:nvGrpSpPr>
          <p:grpSpPr>
            <a:xfrm>
              <a:off x="39600" y="-7920"/>
              <a:ext cx="1003320" cy="6862680"/>
              <a:chOff x="39600" y="-7920"/>
              <a:chExt cx="1003320" cy="6862680"/>
            </a:xfrm>
          </p:grpSpPr>
          <p:sp>
            <p:nvSpPr>
              <p:cNvPr id="2" name=""/>
              <p:cNvSpPr/>
              <p:nvPr/>
            </p:nvSpPr>
            <p:spPr>
              <a:xfrm>
                <a:off x="49320" y="-7920"/>
                <a:ext cx="992160" cy="6838920"/>
              </a:xfrm>
              <a:custGeom>
                <a:avLst/>
                <a:gdLst/>
                <a:ahLst/>
                <a:rect l="l" t="t" r="r" b="b"/>
                <a:pathLst>
                  <a:path w="625" h="4308">
                    <a:moveTo>
                      <a:pt x="624" y="0"/>
                    </a:moveTo>
                    <a:lnTo>
                      <a:pt x="624" y="4307"/>
                    </a:lnTo>
                    <a:lnTo>
                      <a:pt x="0" y="4307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9320" y="1692360"/>
                <a:ext cx="992160" cy="450720"/>
              </a:xfrm>
              <a:custGeom>
                <a:avLst/>
                <a:gdLst/>
                <a:ahLst/>
                <a:rect l="l" t="t" r="r" b="b"/>
                <a:pathLst>
                  <a:path w="625" h="284">
                    <a:moveTo>
                      <a:pt x="624" y="0"/>
                    </a:moveTo>
                    <a:lnTo>
                      <a:pt x="624" y="2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35"/>
                    </a:lnTo>
                    <a:lnTo>
                      <a:pt x="624" y="183"/>
                    </a:lnTo>
                    <a:lnTo>
                      <a:pt x="624" y="208"/>
                    </a:lnTo>
                    <a:lnTo>
                      <a:pt x="624" y="228"/>
                    </a:lnTo>
                    <a:lnTo>
                      <a:pt x="624" y="245"/>
                    </a:lnTo>
                    <a:lnTo>
                      <a:pt x="624" y="259"/>
                    </a:lnTo>
                    <a:lnTo>
                      <a:pt x="624" y="267"/>
                    </a:lnTo>
                    <a:lnTo>
                      <a:pt x="624" y="270"/>
                    </a:lnTo>
                    <a:lnTo>
                      <a:pt x="584" y="265"/>
                    </a:lnTo>
                    <a:lnTo>
                      <a:pt x="547" y="263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6"/>
                    </a:lnTo>
                    <a:lnTo>
                      <a:pt x="415" y="256"/>
                    </a:lnTo>
                    <a:lnTo>
                      <a:pt x="386" y="256"/>
                    </a:lnTo>
                    <a:lnTo>
                      <a:pt x="358" y="256"/>
                    </a:lnTo>
                    <a:lnTo>
                      <a:pt x="333" y="256"/>
                    </a:lnTo>
                    <a:lnTo>
                      <a:pt x="309" y="259"/>
                    </a:lnTo>
                    <a:lnTo>
                      <a:pt x="286" y="259"/>
                    </a:lnTo>
                    <a:lnTo>
                      <a:pt x="264" y="261"/>
                    </a:lnTo>
                    <a:lnTo>
                      <a:pt x="244" y="263"/>
                    </a:lnTo>
                    <a:lnTo>
                      <a:pt x="224" y="265"/>
                    </a:lnTo>
                    <a:lnTo>
                      <a:pt x="206" y="267"/>
                    </a:lnTo>
                    <a:lnTo>
                      <a:pt x="189" y="270"/>
                    </a:lnTo>
                    <a:lnTo>
                      <a:pt x="158" y="274"/>
                    </a:lnTo>
                    <a:lnTo>
                      <a:pt x="130" y="276"/>
                    </a:lnTo>
                    <a:lnTo>
                      <a:pt x="104" y="281"/>
                    </a:lnTo>
                    <a:lnTo>
                      <a:pt x="81" y="283"/>
                    </a:lnTo>
                    <a:lnTo>
                      <a:pt x="59" y="283"/>
                    </a:lnTo>
                    <a:lnTo>
                      <a:pt x="39" y="281"/>
                    </a:lnTo>
                    <a:lnTo>
                      <a:pt x="19" y="276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9320" y="128124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272"/>
                    </a:lnTo>
                    <a:lnTo>
                      <a:pt x="613" y="276"/>
                    </a:lnTo>
                    <a:lnTo>
                      <a:pt x="602" y="279"/>
                    </a:lnTo>
                    <a:lnTo>
                      <a:pt x="589" y="281"/>
                    </a:lnTo>
                    <a:lnTo>
                      <a:pt x="576" y="285"/>
                    </a:lnTo>
                    <a:lnTo>
                      <a:pt x="560" y="285"/>
                    </a:lnTo>
                    <a:lnTo>
                      <a:pt x="544" y="287"/>
                    </a:lnTo>
                    <a:lnTo>
                      <a:pt x="510" y="287"/>
                    </a:lnTo>
                    <a:lnTo>
                      <a:pt x="472" y="287"/>
                    </a:lnTo>
                    <a:lnTo>
                      <a:pt x="432" y="285"/>
                    </a:lnTo>
                    <a:lnTo>
                      <a:pt x="389" y="281"/>
                    </a:lnTo>
                    <a:lnTo>
                      <a:pt x="345" y="278"/>
                    </a:lnTo>
                    <a:lnTo>
                      <a:pt x="254" y="270"/>
                    </a:lnTo>
                    <a:lnTo>
                      <a:pt x="209" y="269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9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320" y="152280"/>
                <a:ext cx="992160" cy="28908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3"/>
                    </a:moveTo>
                    <a:lnTo>
                      <a:pt x="624" y="164"/>
                    </a:lnTo>
                    <a:lnTo>
                      <a:pt x="613" y="166"/>
                    </a:lnTo>
                    <a:lnTo>
                      <a:pt x="601" y="168"/>
                    </a:lnTo>
                    <a:lnTo>
                      <a:pt x="587" y="170"/>
                    </a:lnTo>
                    <a:lnTo>
                      <a:pt x="571" y="172"/>
                    </a:lnTo>
                    <a:lnTo>
                      <a:pt x="555" y="173"/>
                    </a:lnTo>
                    <a:lnTo>
                      <a:pt x="537" y="174"/>
                    </a:lnTo>
                    <a:lnTo>
                      <a:pt x="518" y="176"/>
                    </a:lnTo>
                    <a:lnTo>
                      <a:pt x="497" y="177"/>
                    </a:lnTo>
                    <a:lnTo>
                      <a:pt x="454" y="179"/>
                    </a:lnTo>
                    <a:lnTo>
                      <a:pt x="409" y="180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4" y="181"/>
                    </a:lnTo>
                    <a:lnTo>
                      <a:pt x="216" y="180"/>
                    </a:lnTo>
                    <a:lnTo>
                      <a:pt x="171" y="179"/>
                    </a:lnTo>
                    <a:lnTo>
                      <a:pt x="127" y="177"/>
                    </a:lnTo>
                    <a:lnTo>
                      <a:pt x="106" y="176"/>
                    </a:lnTo>
                    <a:lnTo>
                      <a:pt x="88" y="174"/>
                    </a:lnTo>
                    <a:lnTo>
                      <a:pt x="70" y="173"/>
                    </a:lnTo>
                    <a:lnTo>
                      <a:pt x="53" y="172"/>
                    </a:lnTo>
                    <a:lnTo>
                      <a:pt x="37" y="170"/>
                    </a:lnTo>
                    <a:lnTo>
                      <a:pt x="24" y="168"/>
                    </a:lnTo>
                    <a:lnTo>
                      <a:pt x="11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4"/>
                    </a:lnTo>
                    <a:lnTo>
                      <a:pt x="29" y="11"/>
                    </a:lnTo>
                    <a:lnTo>
                      <a:pt x="40" y="8"/>
                    </a:lnTo>
                    <a:lnTo>
                      <a:pt x="53" y="6"/>
                    </a:lnTo>
                    <a:lnTo>
                      <a:pt x="67" y="4"/>
                    </a:lnTo>
                    <a:lnTo>
                      <a:pt x="96" y="1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1"/>
                    </a:lnTo>
                    <a:lnTo>
                      <a:pt x="307" y="2"/>
                    </a:lnTo>
                    <a:lnTo>
                      <a:pt x="332" y="3"/>
                    </a:lnTo>
                    <a:lnTo>
                      <a:pt x="386" y="6"/>
                    </a:lnTo>
                    <a:lnTo>
                      <a:pt x="441" y="10"/>
                    </a:lnTo>
                    <a:lnTo>
                      <a:pt x="495" y="14"/>
                    </a:lnTo>
                    <a:lnTo>
                      <a:pt x="520" y="16"/>
                    </a:lnTo>
                    <a:lnTo>
                      <a:pt x="545" y="18"/>
                    </a:lnTo>
                    <a:lnTo>
                      <a:pt x="568" y="19"/>
                    </a:lnTo>
                    <a:lnTo>
                      <a:pt x="589" y="21"/>
                    </a:lnTo>
                    <a:lnTo>
                      <a:pt x="607" y="22"/>
                    </a:lnTo>
                    <a:lnTo>
                      <a:pt x="624" y="23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320" y="984240"/>
                <a:ext cx="992160" cy="336600"/>
              </a:xfrm>
              <a:custGeom>
                <a:avLst/>
                <a:gdLst/>
                <a:ahLst/>
                <a:rect l="l" t="t" r="r" b="b"/>
                <a:pathLst>
                  <a:path w="625" h="212">
                    <a:moveTo>
                      <a:pt x="624" y="0"/>
                    </a:moveTo>
                    <a:lnTo>
                      <a:pt x="624" y="188"/>
                    </a:lnTo>
                    <a:lnTo>
                      <a:pt x="613" y="190"/>
                    </a:lnTo>
                    <a:lnTo>
                      <a:pt x="601" y="193"/>
                    </a:lnTo>
                    <a:lnTo>
                      <a:pt x="587" y="196"/>
                    </a:lnTo>
                    <a:lnTo>
                      <a:pt x="571" y="198"/>
                    </a:lnTo>
                    <a:lnTo>
                      <a:pt x="555" y="200"/>
                    </a:lnTo>
                    <a:lnTo>
                      <a:pt x="537" y="203"/>
                    </a:lnTo>
                    <a:lnTo>
                      <a:pt x="518" y="204"/>
                    </a:lnTo>
                    <a:lnTo>
                      <a:pt x="497" y="205"/>
                    </a:lnTo>
                    <a:lnTo>
                      <a:pt x="454" y="208"/>
                    </a:lnTo>
                    <a:lnTo>
                      <a:pt x="409" y="209"/>
                    </a:lnTo>
                    <a:lnTo>
                      <a:pt x="361" y="211"/>
                    </a:lnTo>
                    <a:lnTo>
                      <a:pt x="312" y="211"/>
                    </a:lnTo>
                    <a:lnTo>
                      <a:pt x="264" y="211"/>
                    </a:lnTo>
                    <a:lnTo>
                      <a:pt x="216" y="209"/>
                    </a:lnTo>
                    <a:lnTo>
                      <a:pt x="171" y="208"/>
                    </a:lnTo>
                    <a:lnTo>
                      <a:pt x="127" y="205"/>
                    </a:lnTo>
                    <a:lnTo>
                      <a:pt x="106" y="204"/>
                    </a:lnTo>
                    <a:lnTo>
                      <a:pt x="88" y="203"/>
                    </a:lnTo>
                    <a:lnTo>
                      <a:pt x="70" y="200"/>
                    </a:lnTo>
                    <a:lnTo>
                      <a:pt x="53" y="198"/>
                    </a:lnTo>
                    <a:lnTo>
                      <a:pt x="37" y="196"/>
                    </a:lnTo>
                    <a:lnTo>
                      <a:pt x="24" y="193"/>
                    </a:lnTo>
                    <a:lnTo>
                      <a:pt x="11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2"/>
                    </a:lnTo>
                    <a:lnTo>
                      <a:pt x="69" y="4"/>
                    </a:lnTo>
                    <a:lnTo>
                      <a:pt x="101" y="6"/>
                    </a:lnTo>
                    <a:lnTo>
                      <a:pt x="132" y="8"/>
                    </a:lnTo>
                    <a:lnTo>
                      <a:pt x="161" y="9"/>
                    </a:lnTo>
                    <a:lnTo>
                      <a:pt x="189" y="10"/>
                    </a:lnTo>
                    <a:lnTo>
                      <a:pt x="216" y="10"/>
                    </a:lnTo>
                    <a:lnTo>
                      <a:pt x="241" y="12"/>
                    </a:lnTo>
                    <a:lnTo>
                      <a:pt x="266" y="12"/>
                    </a:lnTo>
                    <a:lnTo>
                      <a:pt x="289" y="12"/>
                    </a:lnTo>
                    <a:lnTo>
                      <a:pt x="311" y="12"/>
                    </a:lnTo>
                    <a:lnTo>
                      <a:pt x="332" y="12"/>
                    </a:lnTo>
                    <a:lnTo>
                      <a:pt x="371" y="12"/>
                    </a:lnTo>
                    <a:lnTo>
                      <a:pt x="407" y="10"/>
                    </a:lnTo>
                    <a:lnTo>
                      <a:pt x="440" y="9"/>
                    </a:lnTo>
                    <a:lnTo>
                      <a:pt x="471" y="8"/>
                    </a:lnTo>
                    <a:lnTo>
                      <a:pt x="499" y="5"/>
                    </a:lnTo>
                    <a:lnTo>
                      <a:pt x="525" y="4"/>
                    </a:lnTo>
                    <a:lnTo>
                      <a:pt x="550" y="2"/>
                    </a:lnTo>
                    <a:lnTo>
                      <a:pt x="576" y="1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320" y="677880"/>
                <a:ext cx="992160" cy="433440"/>
              </a:xfrm>
              <a:custGeom>
                <a:avLst/>
                <a:gdLst/>
                <a:ahLst/>
                <a:rect l="l" t="t" r="r" b="b"/>
                <a:pathLst>
                  <a:path w="625" h="273">
                    <a:moveTo>
                      <a:pt x="624" y="0"/>
                    </a:moveTo>
                    <a:lnTo>
                      <a:pt x="624" y="1"/>
                    </a:lnTo>
                    <a:lnTo>
                      <a:pt x="624" y="3"/>
                    </a:lnTo>
                    <a:lnTo>
                      <a:pt x="624" y="6"/>
                    </a:lnTo>
                    <a:lnTo>
                      <a:pt x="624" y="11"/>
                    </a:lnTo>
                    <a:lnTo>
                      <a:pt x="624" y="18"/>
                    </a:lnTo>
                    <a:lnTo>
                      <a:pt x="624" y="24"/>
                    </a:lnTo>
                    <a:lnTo>
                      <a:pt x="624" y="42"/>
                    </a:lnTo>
                    <a:lnTo>
                      <a:pt x="624" y="62"/>
                    </a:lnTo>
                    <a:lnTo>
                      <a:pt x="624" y="86"/>
                    </a:lnTo>
                    <a:lnTo>
                      <a:pt x="624" y="111"/>
                    </a:lnTo>
                    <a:lnTo>
                      <a:pt x="624" y="136"/>
                    </a:lnTo>
                    <a:lnTo>
                      <a:pt x="624" y="161"/>
                    </a:lnTo>
                    <a:lnTo>
                      <a:pt x="624" y="186"/>
                    </a:lnTo>
                    <a:lnTo>
                      <a:pt x="624" y="209"/>
                    </a:lnTo>
                    <a:lnTo>
                      <a:pt x="624" y="229"/>
                    </a:lnTo>
                    <a:lnTo>
                      <a:pt x="624" y="247"/>
                    </a:lnTo>
                    <a:lnTo>
                      <a:pt x="624" y="254"/>
                    </a:lnTo>
                    <a:lnTo>
                      <a:pt x="624" y="261"/>
                    </a:lnTo>
                    <a:lnTo>
                      <a:pt x="624" y="265"/>
                    </a:lnTo>
                    <a:lnTo>
                      <a:pt x="624" y="269"/>
                    </a:lnTo>
                    <a:lnTo>
                      <a:pt x="624" y="271"/>
                    </a:lnTo>
                    <a:lnTo>
                      <a:pt x="624" y="272"/>
                    </a:lnTo>
                    <a:lnTo>
                      <a:pt x="607" y="266"/>
                    </a:lnTo>
                    <a:lnTo>
                      <a:pt x="590" y="262"/>
                    </a:lnTo>
                    <a:lnTo>
                      <a:pt x="561" y="254"/>
                    </a:lnTo>
                    <a:lnTo>
                      <a:pt x="534" y="248"/>
                    </a:lnTo>
                    <a:lnTo>
                      <a:pt x="507" y="245"/>
                    </a:lnTo>
                    <a:lnTo>
                      <a:pt x="480" y="243"/>
                    </a:lnTo>
                    <a:lnTo>
                      <a:pt x="452" y="241"/>
                    </a:lnTo>
                    <a:lnTo>
                      <a:pt x="436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4" y="241"/>
                    </a:lnTo>
                    <a:lnTo>
                      <a:pt x="342" y="242"/>
                    </a:lnTo>
                    <a:lnTo>
                      <a:pt x="317" y="244"/>
                    </a:lnTo>
                    <a:lnTo>
                      <a:pt x="293" y="245"/>
                    </a:lnTo>
                    <a:lnTo>
                      <a:pt x="242" y="251"/>
                    </a:lnTo>
                    <a:lnTo>
                      <a:pt x="189" y="256"/>
                    </a:lnTo>
                    <a:lnTo>
                      <a:pt x="136" y="262"/>
                    </a:lnTo>
                    <a:lnTo>
                      <a:pt x="111" y="265"/>
                    </a:lnTo>
                    <a:lnTo>
                      <a:pt x="87" y="267"/>
                    </a:lnTo>
                    <a:lnTo>
                      <a:pt x="62" y="269"/>
                    </a:lnTo>
                    <a:lnTo>
                      <a:pt x="40" y="271"/>
                    </a:lnTo>
                    <a:lnTo>
                      <a:pt x="19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320" y="395280"/>
                <a:ext cx="993600" cy="325440"/>
              </a:xfrm>
              <a:custGeom>
                <a:avLst/>
                <a:gdLst/>
                <a:ahLst/>
                <a:rect l="l" t="t" r="r" b="b"/>
                <a:pathLst>
                  <a:path w="626" h="205">
                    <a:moveTo>
                      <a:pt x="625" y="13"/>
                    </a:moveTo>
                    <a:lnTo>
                      <a:pt x="625" y="191"/>
                    </a:lnTo>
                    <a:lnTo>
                      <a:pt x="616" y="195"/>
                    </a:lnTo>
                    <a:lnTo>
                      <a:pt x="606" y="199"/>
                    </a:lnTo>
                    <a:lnTo>
                      <a:pt x="596" y="202"/>
                    </a:lnTo>
                    <a:lnTo>
                      <a:pt x="584" y="203"/>
                    </a:lnTo>
                    <a:lnTo>
                      <a:pt x="572" y="204"/>
                    </a:lnTo>
                    <a:lnTo>
                      <a:pt x="559" y="204"/>
                    </a:lnTo>
                    <a:lnTo>
                      <a:pt x="529" y="202"/>
                    </a:lnTo>
                    <a:lnTo>
                      <a:pt x="496" y="198"/>
                    </a:lnTo>
                    <a:lnTo>
                      <a:pt x="460" y="195"/>
                    </a:lnTo>
                    <a:lnTo>
                      <a:pt x="423" y="192"/>
                    </a:lnTo>
                    <a:lnTo>
                      <a:pt x="384" y="191"/>
                    </a:lnTo>
                    <a:lnTo>
                      <a:pt x="363" y="191"/>
                    </a:lnTo>
                    <a:lnTo>
                      <a:pt x="341" y="192"/>
                    </a:lnTo>
                    <a:lnTo>
                      <a:pt x="315" y="193"/>
                    </a:lnTo>
                    <a:lnTo>
                      <a:pt x="290" y="195"/>
                    </a:lnTo>
                    <a:lnTo>
                      <a:pt x="262" y="197"/>
                    </a:lnTo>
                    <a:lnTo>
                      <a:pt x="234" y="198"/>
                    </a:lnTo>
                    <a:lnTo>
                      <a:pt x="177" y="202"/>
                    </a:lnTo>
                    <a:lnTo>
                      <a:pt x="150" y="203"/>
                    </a:lnTo>
                    <a:lnTo>
                      <a:pt x="122" y="204"/>
                    </a:lnTo>
                    <a:lnTo>
                      <a:pt x="96" y="204"/>
                    </a:lnTo>
                    <a:lnTo>
                      <a:pt x="72" y="203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9" y="8"/>
                    </a:lnTo>
                    <a:lnTo>
                      <a:pt x="31" y="6"/>
                    </a:lnTo>
                    <a:lnTo>
                      <a:pt x="43" y="4"/>
                    </a:lnTo>
                    <a:lnTo>
                      <a:pt x="57" y="3"/>
                    </a:lnTo>
                    <a:lnTo>
                      <a:pt x="72" y="2"/>
                    </a:lnTo>
                    <a:lnTo>
                      <a:pt x="105" y="1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8" y="1"/>
                    </a:lnTo>
                    <a:lnTo>
                      <a:pt x="258" y="2"/>
                    </a:lnTo>
                    <a:lnTo>
                      <a:pt x="298" y="4"/>
                    </a:lnTo>
                    <a:lnTo>
                      <a:pt x="339" y="5"/>
                    </a:lnTo>
                    <a:lnTo>
                      <a:pt x="377" y="7"/>
                    </a:lnTo>
                    <a:lnTo>
                      <a:pt x="414" y="9"/>
                    </a:lnTo>
                    <a:lnTo>
                      <a:pt x="448" y="10"/>
                    </a:lnTo>
                    <a:lnTo>
                      <a:pt x="479" y="11"/>
                    </a:lnTo>
                    <a:lnTo>
                      <a:pt x="493" y="12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3" y="13"/>
                    </a:lnTo>
                    <a:lnTo>
                      <a:pt x="599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3" y="13"/>
                    </a:lnTo>
                    <a:lnTo>
                      <a:pt x="616" y="13"/>
                    </a:lnTo>
                    <a:lnTo>
                      <a:pt x="619" y="13"/>
                    </a:lnTo>
                    <a:lnTo>
                      <a:pt x="621" y="13"/>
                    </a:lnTo>
                    <a:lnTo>
                      <a:pt x="625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9600" y="3932280"/>
                <a:ext cx="992160" cy="457200"/>
              </a:xfrm>
              <a:custGeom>
                <a:avLst/>
                <a:gdLst/>
                <a:ahLst/>
                <a:rect l="l" t="t" r="r" b="b"/>
                <a:pathLst>
                  <a:path w="625" h="288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4"/>
                    </a:lnTo>
                    <a:lnTo>
                      <a:pt x="624" y="27"/>
                    </a:lnTo>
                    <a:lnTo>
                      <a:pt x="624" y="45"/>
                    </a:lnTo>
                    <a:lnTo>
                      <a:pt x="624" y="85"/>
                    </a:lnTo>
                    <a:lnTo>
                      <a:pt x="624" y="139"/>
                    </a:lnTo>
                    <a:lnTo>
                      <a:pt x="624" y="188"/>
                    </a:lnTo>
                    <a:lnTo>
                      <a:pt x="624" y="233"/>
                    </a:lnTo>
                    <a:lnTo>
                      <a:pt x="624" y="246"/>
                    </a:lnTo>
                    <a:lnTo>
                      <a:pt x="624" y="260"/>
                    </a:lnTo>
                    <a:lnTo>
                      <a:pt x="624" y="269"/>
                    </a:lnTo>
                    <a:lnTo>
                      <a:pt x="624" y="273"/>
                    </a:lnTo>
                    <a:lnTo>
                      <a:pt x="584" y="269"/>
                    </a:lnTo>
                    <a:lnTo>
                      <a:pt x="547" y="264"/>
                    </a:lnTo>
                    <a:lnTo>
                      <a:pt x="512" y="264"/>
                    </a:lnTo>
                    <a:lnTo>
                      <a:pt x="477" y="260"/>
                    </a:lnTo>
                    <a:lnTo>
                      <a:pt x="445" y="260"/>
                    </a:lnTo>
                    <a:lnTo>
                      <a:pt x="415" y="260"/>
                    </a:lnTo>
                    <a:lnTo>
                      <a:pt x="386" y="260"/>
                    </a:lnTo>
                    <a:lnTo>
                      <a:pt x="359" y="260"/>
                    </a:lnTo>
                    <a:lnTo>
                      <a:pt x="334" y="260"/>
                    </a:lnTo>
                    <a:lnTo>
                      <a:pt x="309" y="260"/>
                    </a:lnTo>
                    <a:lnTo>
                      <a:pt x="286" y="260"/>
                    </a:lnTo>
                    <a:lnTo>
                      <a:pt x="264" y="264"/>
                    </a:lnTo>
                    <a:lnTo>
                      <a:pt x="244" y="264"/>
                    </a:lnTo>
                    <a:lnTo>
                      <a:pt x="225" y="269"/>
                    </a:lnTo>
                    <a:lnTo>
                      <a:pt x="206" y="269"/>
                    </a:lnTo>
                    <a:lnTo>
                      <a:pt x="189" y="273"/>
                    </a:lnTo>
                    <a:lnTo>
                      <a:pt x="158" y="278"/>
                    </a:lnTo>
                    <a:lnTo>
                      <a:pt x="129" y="282"/>
                    </a:lnTo>
                    <a:lnTo>
                      <a:pt x="104" y="282"/>
                    </a:lnTo>
                    <a:lnTo>
                      <a:pt x="81" y="287"/>
                    </a:lnTo>
                    <a:lnTo>
                      <a:pt x="59" y="287"/>
                    </a:lnTo>
                    <a:lnTo>
                      <a:pt x="39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400" y="3532320"/>
                <a:ext cx="992160" cy="460080"/>
              </a:xfrm>
              <a:custGeom>
                <a:avLst/>
                <a:gdLst/>
                <a:ahLst/>
                <a:rect l="l" t="t" r="r" b="b"/>
                <a:pathLst>
                  <a:path w="625" h="290">
                    <a:moveTo>
                      <a:pt x="624" y="0"/>
                    </a:moveTo>
                    <a:lnTo>
                      <a:pt x="624" y="272"/>
                    </a:lnTo>
                    <a:lnTo>
                      <a:pt x="614" y="276"/>
                    </a:lnTo>
                    <a:lnTo>
                      <a:pt x="602" y="280"/>
                    </a:lnTo>
                    <a:lnTo>
                      <a:pt x="590" y="280"/>
                    </a:lnTo>
                    <a:lnTo>
                      <a:pt x="575" y="284"/>
                    </a:lnTo>
                    <a:lnTo>
                      <a:pt x="560" y="284"/>
                    </a:lnTo>
                    <a:lnTo>
                      <a:pt x="544" y="284"/>
                    </a:lnTo>
                    <a:lnTo>
                      <a:pt x="509" y="289"/>
                    </a:lnTo>
                    <a:lnTo>
                      <a:pt x="472" y="284"/>
                    </a:lnTo>
                    <a:lnTo>
                      <a:pt x="431" y="284"/>
                    </a:lnTo>
                    <a:lnTo>
                      <a:pt x="389" y="280"/>
                    </a:lnTo>
                    <a:lnTo>
                      <a:pt x="345" y="276"/>
                    </a:lnTo>
                    <a:lnTo>
                      <a:pt x="254" y="268"/>
                    </a:lnTo>
                    <a:lnTo>
                      <a:pt x="208" y="268"/>
                    </a:lnTo>
                    <a:lnTo>
                      <a:pt x="164" y="264"/>
                    </a:lnTo>
                    <a:lnTo>
                      <a:pt x="120" y="264"/>
                    </a:lnTo>
                    <a:lnTo>
                      <a:pt x="77" y="264"/>
                    </a:lnTo>
                    <a:lnTo>
                      <a:pt x="38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400" y="2400480"/>
                <a:ext cx="992160" cy="291960"/>
              </a:xfrm>
              <a:custGeom>
                <a:avLst/>
                <a:gdLst/>
                <a:ahLst/>
                <a:rect l="l" t="t" r="r" b="b"/>
                <a:pathLst>
                  <a:path w="625" h="184">
                    <a:moveTo>
                      <a:pt x="624" y="22"/>
                    </a:moveTo>
                    <a:lnTo>
                      <a:pt x="624" y="164"/>
                    </a:lnTo>
                    <a:lnTo>
                      <a:pt x="614" y="166"/>
                    </a:lnTo>
                    <a:lnTo>
                      <a:pt x="601" y="169"/>
                    </a:lnTo>
                    <a:lnTo>
                      <a:pt x="588" y="169"/>
                    </a:lnTo>
                    <a:lnTo>
                      <a:pt x="572" y="172"/>
                    </a:lnTo>
                    <a:lnTo>
                      <a:pt x="555" y="174"/>
                    </a:lnTo>
                    <a:lnTo>
                      <a:pt x="536" y="174"/>
                    </a:lnTo>
                    <a:lnTo>
                      <a:pt x="518" y="177"/>
                    </a:lnTo>
                    <a:lnTo>
                      <a:pt x="497" y="177"/>
                    </a:lnTo>
                    <a:lnTo>
                      <a:pt x="454" y="180"/>
                    </a:lnTo>
                    <a:lnTo>
                      <a:pt x="408" y="180"/>
                    </a:lnTo>
                    <a:lnTo>
                      <a:pt x="360" y="183"/>
                    </a:lnTo>
                    <a:lnTo>
                      <a:pt x="313" y="183"/>
                    </a:lnTo>
                    <a:lnTo>
                      <a:pt x="264" y="183"/>
                    </a:lnTo>
                    <a:lnTo>
                      <a:pt x="216" y="180"/>
                    </a:lnTo>
                    <a:lnTo>
                      <a:pt x="170" y="180"/>
                    </a:lnTo>
                    <a:lnTo>
                      <a:pt x="127" y="177"/>
                    </a:lnTo>
                    <a:lnTo>
                      <a:pt x="106" y="177"/>
                    </a:lnTo>
                    <a:lnTo>
                      <a:pt x="88" y="174"/>
                    </a:lnTo>
                    <a:lnTo>
                      <a:pt x="70" y="174"/>
                    </a:lnTo>
                    <a:lnTo>
                      <a:pt x="52" y="172"/>
                    </a:lnTo>
                    <a:lnTo>
                      <a:pt x="38" y="169"/>
                    </a:lnTo>
                    <a:lnTo>
                      <a:pt x="23" y="169"/>
                    </a:lnTo>
                    <a:lnTo>
                      <a:pt x="10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8" y="17"/>
                    </a:lnTo>
                    <a:lnTo>
                      <a:pt x="18" y="14"/>
                    </a:lnTo>
                    <a:lnTo>
                      <a:pt x="28" y="11"/>
                    </a:lnTo>
                    <a:lnTo>
                      <a:pt x="40" y="8"/>
                    </a:lnTo>
                    <a:lnTo>
                      <a:pt x="52" y="6"/>
                    </a:lnTo>
                    <a:lnTo>
                      <a:pt x="66" y="3"/>
                    </a:lnTo>
                    <a:lnTo>
                      <a:pt x="96" y="0"/>
                    </a:lnTo>
                    <a:lnTo>
                      <a:pt x="129" y="0"/>
                    </a:lnTo>
                    <a:lnTo>
                      <a:pt x="165" y="0"/>
                    </a:lnTo>
                    <a:lnTo>
                      <a:pt x="201" y="0"/>
                    </a:lnTo>
                    <a:lnTo>
                      <a:pt x="240" y="0"/>
                    </a:lnTo>
                    <a:lnTo>
                      <a:pt x="260" y="0"/>
                    </a:lnTo>
                    <a:lnTo>
                      <a:pt x="282" y="0"/>
                    </a:lnTo>
                    <a:lnTo>
                      <a:pt x="307" y="3"/>
                    </a:lnTo>
                    <a:lnTo>
                      <a:pt x="332" y="3"/>
                    </a:lnTo>
                    <a:lnTo>
                      <a:pt x="385" y="6"/>
                    </a:lnTo>
                    <a:lnTo>
                      <a:pt x="441" y="11"/>
                    </a:lnTo>
                    <a:lnTo>
                      <a:pt x="495" y="14"/>
                    </a:lnTo>
                    <a:lnTo>
                      <a:pt x="520" y="17"/>
                    </a:lnTo>
                    <a:lnTo>
                      <a:pt x="545" y="17"/>
                    </a:lnTo>
                    <a:lnTo>
                      <a:pt x="568" y="19"/>
                    </a:lnTo>
                    <a:lnTo>
                      <a:pt x="589" y="19"/>
                    </a:lnTo>
                    <a:lnTo>
                      <a:pt x="607" y="22"/>
                    </a:lnTo>
                    <a:lnTo>
                      <a:pt x="624" y="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400" y="3230640"/>
                <a:ext cx="992160" cy="339480"/>
              </a:xfrm>
              <a:custGeom>
                <a:avLst/>
                <a:gdLst/>
                <a:ahLst/>
                <a:rect l="l" t="t" r="r" b="b"/>
                <a:pathLst>
                  <a:path w="625" h="214">
                    <a:moveTo>
                      <a:pt x="624" y="0"/>
                    </a:moveTo>
                    <a:lnTo>
                      <a:pt x="624" y="188"/>
                    </a:lnTo>
                    <a:lnTo>
                      <a:pt x="614" y="191"/>
                    </a:lnTo>
                    <a:lnTo>
                      <a:pt x="601" y="195"/>
                    </a:lnTo>
                    <a:lnTo>
                      <a:pt x="588" y="195"/>
                    </a:lnTo>
                    <a:lnTo>
                      <a:pt x="572" y="198"/>
                    </a:lnTo>
                    <a:lnTo>
                      <a:pt x="555" y="202"/>
                    </a:lnTo>
                    <a:lnTo>
                      <a:pt x="536" y="202"/>
                    </a:lnTo>
                    <a:lnTo>
                      <a:pt x="518" y="206"/>
                    </a:lnTo>
                    <a:lnTo>
                      <a:pt x="497" y="206"/>
                    </a:lnTo>
                    <a:lnTo>
                      <a:pt x="454" y="209"/>
                    </a:lnTo>
                    <a:lnTo>
                      <a:pt x="408" y="209"/>
                    </a:lnTo>
                    <a:lnTo>
                      <a:pt x="360" y="213"/>
                    </a:lnTo>
                    <a:lnTo>
                      <a:pt x="313" y="213"/>
                    </a:lnTo>
                    <a:lnTo>
                      <a:pt x="264" y="213"/>
                    </a:lnTo>
                    <a:lnTo>
                      <a:pt x="216" y="209"/>
                    </a:lnTo>
                    <a:lnTo>
                      <a:pt x="170" y="209"/>
                    </a:lnTo>
                    <a:lnTo>
                      <a:pt x="127" y="206"/>
                    </a:lnTo>
                    <a:lnTo>
                      <a:pt x="106" y="206"/>
                    </a:lnTo>
                    <a:lnTo>
                      <a:pt x="88" y="202"/>
                    </a:lnTo>
                    <a:lnTo>
                      <a:pt x="70" y="202"/>
                    </a:lnTo>
                    <a:lnTo>
                      <a:pt x="52" y="198"/>
                    </a:lnTo>
                    <a:lnTo>
                      <a:pt x="38" y="195"/>
                    </a:lnTo>
                    <a:lnTo>
                      <a:pt x="23" y="195"/>
                    </a:lnTo>
                    <a:lnTo>
                      <a:pt x="10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35" y="4"/>
                    </a:lnTo>
                    <a:lnTo>
                      <a:pt x="69" y="4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11"/>
                    </a:lnTo>
                    <a:lnTo>
                      <a:pt x="190" y="11"/>
                    </a:lnTo>
                    <a:lnTo>
                      <a:pt x="216" y="11"/>
                    </a:lnTo>
                    <a:lnTo>
                      <a:pt x="242" y="11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1"/>
                    </a:lnTo>
                    <a:lnTo>
                      <a:pt x="407" y="11"/>
                    </a:lnTo>
                    <a:lnTo>
                      <a:pt x="441" y="11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4"/>
                    </a:lnTo>
                    <a:lnTo>
                      <a:pt x="551" y="4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1400" y="2925720"/>
                <a:ext cx="992160" cy="432000"/>
              </a:xfrm>
              <a:custGeom>
                <a:avLst/>
                <a:gdLst/>
                <a:ahLst/>
                <a:rect l="l" t="t" r="r" b="b"/>
                <a:pathLst>
                  <a:path w="625" h="272">
                    <a:moveTo>
                      <a:pt x="624" y="0"/>
                    </a:moveTo>
                    <a:lnTo>
                      <a:pt x="624" y="4"/>
                    </a:lnTo>
                    <a:lnTo>
                      <a:pt x="624" y="11"/>
                    </a:lnTo>
                    <a:lnTo>
                      <a:pt x="624" y="24"/>
                    </a:lnTo>
                    <a:lnTo>
                      <a:pt x="624" y="44"/>
                    </a:lnTo>
                    <a:lnTo>
                      <a:pt x="624" y="85"/>
                    </a:lnTo>
                    <a:lnTo>
                      <a:pt x="624" y="136"/>
                    </a:lnTo>
                    <a:lnTo>
                      <a:pt x="624" y="186"/>
                    </a:lnTo>
                    <a:lnTo>
                      <a:pt x="624" y="230"/>
                    </a:lnTo>
                    <a:lnTo>
                      <a:pt x="624" y="247"/>
                    </a:lnTo>
                    <a:lnTo>
                      <a:pt x="624" y="261"/>
                    </a:lnTo>
                    <a:lnTo>
                      <a:pt x="624" y="268"/>
                    </a:lnTo>
                    <a:lnTo>
                      <a:pt x="624" y="271"/>
                    </a:lnTo>
                    <a:lnTo>
                      <a:pt x="606" y="264"/>
                    </a:lnTo>
                    <a:lnTo>
                      <a:pt x="591" y="261"/>
                    </a:lnTo>
                    <a:lnTo>
                      <a:pt x="560" y="251"/>
                    </a:lnTo>
                    <a:lnTo>
                      <a:pt x="533" y="244"/>
                    </a:lnTo>
                    <a:lnTo>
                      <a:pt x="507" y="241"/>
                    </a:lnTo>
                    <a:lnTo>
                      <a:pt x="480" y="241"/>
                    </a:lnTo>
                    <a:lnTo>
                      <a:pt x="452" y="237"/>
                    </a:lnTo>
                    <a:lnTo>
                      <a:pt x="436" y="237"/>
                    </a:lnTo>
                    <a:lnTo>
                      <a:pt x="421" y="237"/>
                    </a:lnTo>
                    <a:lnTo>
                      <a:pt x="403" y="237"/>
                    </a:lnTo>
                    <a:lnTo>
                      <a:pt x="384" y="237"/>
                    </a:lnTo>
                    <a:lnTo>
                      <a:pt x="364" y="237"/>
                    </a:lnTo>
                    <a:lnTo>
                      <a:pt x="342" y="237"/>
                    </a:lnTo>
                    <a:lnTo>
                      <a:pt x="319" y="241"/>
                    </a:lnTo>
                    <a:lnTo>
                      <a:pt x="294" y="244"/>
                    </a:lnTo>
                    <a:lnTo>
                      <a:pt x="243" y="247"/>
                    </a:lnTo>
                    <a:lnTo>
                      <a:pt x="190" y="254"/>
                    </a:lnTo>
                    <a:lnTo>
                      <a:pt x="136" y="261"/>
                    </a:lnTo>
                    <a:lnTo>
                      <a:pt x="110" y="264"/>
                    </a:lnTo>
                    <a:lnTo>
                      <a:pt x="85" y="264"/>
                    </a:lnTo>
                    <a:lnTo>
                      <a:pt x="63" y="268"/>
                    </a:lnTo>
                    <a:lnTo>
                      <a:pt x="40" y="271"/>
                    </a:lnTo>
                    <a:lnTo>
                      <a:pt x="19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400" y="264312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2"/>
                    </a:moveTo>
                    <a:lnTo>
                      <a:pt x="624" y="190"/>
                    </a:lnTo>
                    <a:lnTo>
                      <a:pt x="615" y="196"/>
                    </a:lnTo>
                    <a:lnTo>
                      <a:pt x="607" y="199"/>
                    </a:lnTo>
                    <a:lnTo>
                      <a:pt x="596" y="202"/>
                    </a:lnTo>
                    <a:lnTo>
                      <a:pt x="584" y="202"/>
                    </a:lnTo>
                    <a:lnTo>
                      <a:pt x="572" y="202"/>
                    </a:lnTo>
                    <a:lnTo>
                      <a:pt x="558" y="202"/>
                    </a:lnTo>
                    <a:lnTo>
                      <a:pt x="528" y="202"/>
                    </a:lnTo>
                    <a:lnTo>
                      <a:pt x="495" y="199"/>
                    </a:lnTo>
                    <a:lnTo>
                      <a:pt x="460" y="193"/>
                    </a:lnTo>
                    <a:lnTo>
                      <a:pt x="422" y="190"/>
                    </a:lnTo>
                    <a:lnTo>
                      <a:pt x="384" y="190"/>
                    </a:lnTo>
                    <a:lnTo>
                      <a:pt x="363" y="190"/>
                    </a:lnTo>
                    <a:lnTo>
                      <a:pt x="340" y="190"/>
                    </a:lnTo>
                    <a:lnTo>
                      <a:pt x="316" y="193"/>
                    </a:lnTo>
                    <a:lnTo>
                      <a:pt x="289" y="193"/>
                    </a:lnTo>
                    <a:lnTo>
                      <a:pt x="262" y="196"/>
                    </a:lnTo>
                    <a:lnTo>
                      <a:pt x="233" y="199"/>
                    </a:lnTo>
                    <a:lnTo>
                      <a:pt x="176" y="202"/>
                    </a:lnTo>
                    <a:lnTo>
                      <a:pt x="149" y="202"/>
                    </a:lnTo>
                    <a:lnTo>
                      <a:pt x="122" y="202"/>
                    </a:lnTo>
                    <a:lnTo>
                      <a:pt x="96" y="202"/>
                    </a:lnTo>
                    <a:lnTo>
                      <a:pt x="72" y="202"/>
                    </a:lnTo>
                    <a:lnTo>
                      <a:pt x="50" y="202"/>
                    </a:lnTo>
                    <a:lnTo>
                      <a:pt x="31" y="199"/>
                    </a:lnTo>
                    <a:lnTo>
                      <a:pt x="14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9" y="9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4" y="3"/>
                    </a:lnTo>
                    <a:lnTo>
                      <a:pt x="57" y="3"/>
                    </a:lnTo>
                    <a:lnTo>
                      <a:pt x="73" y="0"/>
                    </a:lnTo>
                    <a:lnTo>
                      <a:pt x="105" y="0"/>
                    </a:lnTo>
                    <a:lnTo>
                      <a:pt x="141" y="0"/>
                    </a:lnTo>
                    <a:lnTo>
                      <a:pt x="179" y="0"/>
                    </a:lnTo>
                    <a:lnTo>
                      <a:pt x="218" y="0"/>
                    </a:lnTo>
                    <a:lnTo>
                      <a:pt x="258" y="0"/>
                    </a:lnTo>
                    <a:lnTo>
                      <a:pt x="299" y="3"/>
                    </a:lnTo>
                    <a:lnTo>
                      <a:pt x="339" y="3"/>
                    </a:lnTo>
                    <a:lnTo>
                      <a:pt x="377" y="6"/>
                    </a:lnTo>
                    <a:lnTo>
                      <a:pt x="414" y="9"/>
                    </a:lnTo>
                    <a:lnTo>
                      <a:pt x="448" y="9"/>
                    </a:lnTo>
                    <a:lnTo>
                      <a:pt x="479" y="12"/>
                    </a:lnTo>
                    <a:lnTo>
                      <a:pt x="493" y="12"/>
                    </a:lnTo>
                    <a:lnTo>
                      <a:pt x="505" y="12"/>
                    </a:lnTo>
                    <a:lnTo>
                      <a:pt x="517" y="12"/>
                    </a:lnTo>
                    <a:lnTo>
                      <a:pt x="528" y="12"/>
                    </a:lnTo>
                    <a:lnTo>
                      <a:pt x="545" y="12"/>
                    </a:lnTo>
                    <a:lnTo>
                      <a:pt x="561" y="12"/>
                    </a:lnTo>
                    <a:lnTo>
                      <a:pt x="574" y="12"/>
                    </a:lnTo>
                    <a:lnTo>
                      <a:pt x="583" y="12"/>
                    </a:lnTo>
                    <a:lnTo>
                      <a:pt x="592" y="12"/>
                    </a:lnTo>
                    <a:lnTo>
                      <a:pt x="598" y="12"/>
                    </a:lnTo>
                    <a:lnTo>
                      <a:pt x="603" y="12"/>
                    </a:lnTo>
                    <a:lnTo>
                      <a:pt x="608" y="12"/>
                    </a:lnTo>
                    <a:lnTo>
                      <a:pt x="612" y="12"/>
                    </a:lnTo>
                    <a:lnTo>
                      <a:pt x="615" y="12"/>
                    </a:lnTo>
                    <a:lnTo>
                      <a:pt x="618" y="12"/>
                    </a:lnTo>
                    <a:lnTo>
                      <a:pt x="620" y="12"/>
                    </a:lnTo>
                    <a:lnTo>
                      <a:pt x="624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7520" y="4971960"/>
                <a:ext cx="992160" cy="447840"/>
              </a:xfrm>
              <a:custGeom>
                <a:avLst/>
                <a:gdLst/>
                <a:ahLst/>
                <a:rect l="l" t="t" r="r" b="b"/>
                <a:pathLst>
                  <a:path w="625" h="282">
                    <a:moveTo>
                      <a:pt x="624" y="0"/>
                    </a:moveTo>
                    <a:lnTo>
                      <a:pt x="624" y="5"/>
                    </a:lnTo>
                    <a:lnTo>
                      <a:pt x="624" y="11"/>
                    </a:lnTo>
                    <a:lnTo>
                      <a:pt x="624" y="44"/>
                    </a:lnTo>
                    <a:lnTo>
                      <a:pt x="624" y="88"/>
                    </a:lnTo>
                    <a:lnTo>
                      <a:pt x="624" y="138"/>
                    </a:lnTo>
                    <a:lnTo>
                      <a:pt x="624" y="187"/>
                    </a:lnTo>
                    <a:lnTo>
                      <a:pt x="624" y="226"/>
                    </a:lnTo>
                    <a:lnTo>
                      <a:pt x="624" y="259"/>
                    </a:lnTo>
                    <a:lnTo>
                      <a:pt x="624" y="264"/>
                    </a:lnTo>
                    <a:lnTo>
                      <a:pt x="624" y="270"/>
                    </a:lnTo>
                    <a:lnTo>
                      <a:pt x="584" y="264"/>
                    </a:lnTo>
                    <a:lnTo>
                      <a:pt x="547" y="264"/>
                    </a:lnTo>
                    <a:lnTo>
                      <a:pt x="512" y="259"/>
                    </a:lnTo>
                    <a:lnTo>
                      <a:pt x="477" y="259"/>
                    </a:lnTo>
                    <a:lnTo>
                      <a:pt x="446" y="259"/>
                    </a:lnTo>
                    <a:lnTo>
                      <a:pt x="415" y="253"/>
                    </a:lnTo>
                    <a:lnTo>
                      <a:pt x="386" y="253"/>
                    </a:lnTo>
                    <a:lnTo>
                      <a:pt x="359" y="253"/>
                    </a:lnTo>
                    <a:lnTo>
                      <a:pt x="334" y="253"/>
                    </a:lnTo>
                    <a:lnTo>
                      <a:pt x="309" y="259"/>
                    </a:lnTo>
                    <a:lnTo>
                      <a:pt x="285" y="259"/>
                    </a:lnTo>
                    <a:lnTo>
                      <a:pt x="264" y="259"/>
                    </a:lnTo>
                    <a:lnTo>
                      <a:pt x="244" y="264"/>
                    </a:lnTo>
                    <a:lnTo>
                      <a:pt x="225" y="264"/>
                    </a:lnTo>
                    <a:lnTo>
                      <a:pt x="207" y="264"/>
                    </a:lnTo>
                    <a:lnTo>
                      <a:pt x="189" y="270"/>
                    </a:lnTo>
                    <a:lnTo>
                      <a:pt x="158" y="270"/>
                    </a:lnTo>
                    <a:lnTo>
                      <a:pt x="129" y="275"/>
                    </a:lnTo>
                    <a:lnTo>
                      <a:pt x="104" y="281"/>
                    </a:lnTo>
                    <a:lnTo>
                      <a:pt x="81" y="281"/>
                    </a:lnTo>
                    <a:lnTo>
                      <a:pt x="59" y="281"/>
                    </a:lnTo>
                    <a:lnTo>
                      <a:pt x="39" y="281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7520" y="4562640"/>
                <a:ext cx="992160" cy="453960"/>
              </a:xfrm>
              <a:custGeom>
                <a:avLst/>
                <a:gdLst/>
                <a:ahLst/>
                <a:rect l="l" t="t" r="r" b="b"/>
                <a:pathLst>
                  <a:path w="625" h="286">
                    <a:moveTo>
                      <a:pt x="624" y="0"/>
                    </a:moveTo>
                    <a:lnTo>
                      <a:pt x="624" y="270"/>
                    </a:lnTo>
                    <a:lnTo>
                      <a:pt x="613" y="275"/>
                    </a:lnTo>
                    <a:lnTo>
                      <a:pt x="602" y="275"/>
                    </a:lnTo>
                    <a:lnTo>
                      <a:pt x="589" y="280"/>
                    </a:lnTo>
                    <a:lnTo>
                      <a:pt x="576" y="280"/>
                    </a:lnTo>
                    <a:lnTo>
                      <a:pt x="560" y="285"/>
                    </a:lnTo>
                    <a:lnTo>
                      <a:pt x="544" y="285"/>
                    </a:lnTo>
                    <a:lnTo>
                      <a:pt x="510" y="285"/>
                    </a:lnTo>
                    <a:lnTo>
                      <a:pt x="472" y="285"/>
                    </a:lnTo>
                    <a:lnTo>
                      <a:pt x="432" y="280"/>
                    </a:lnTo>
                    <a:lnTo>
                      <a:pt x="389" y="280"/>
                    </a:lnTo>
                    <a:lnTo>
                      <a:pt x="345" y="275"/>
                    </a:lnTo>
                    <a:lnTo>
                      <a:pt x="255" y="270"/>
                    </a:lnTo>
                    <a:lnTo>
                      <a:pt x="209" y="265"/>
                    </a:lnTo>
                    <a:lnTo>
                      <a:pt x="164" y="265"/>
                    </a:lnTo>
                    <a:lnTo>
                      <a:pt x="120" y="265"/>
                    </a:lnTo>
                    <a:lnTo>
                      <a:pt x="78" y="265"/>
                    </a:lnTo>
                    <a:lnTo>
                      <a:pt x="38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600" y="5675400"/>
                <a:ext cx="992160" cy="288720"/>
              </a:xfrm>
              <a:custGeom>
                <a:avLst/>
                <a:gdLst/>
                <a:ahLst/>
                <a:rect l="l" t="t" r="r" b="b"/>
                <a:pathLst>
                  <a:path w="625" h="182">
                    <a:moveTo>
                      <a:pt x="624" y="24"/>
                    </a:moveTo>
                    <a:lnTo>
                      <a:pt x="624" y="163"/>
                    </a:lnTo>
                    <a:lnTo>
                      <a:pt x="614" y="163"/>
                    </a:lnTo>
                    <a:lnTo>
                      <a:pt x="601" y="169"/>
                    </a:lnTo>
                    <a:lnTo>
                      <a:pt x="587" y="169"/>
                    </a:lnTo>
                    <a:lnTo>
                      <a:pt x="572" y="169"/>
                    </a:lnTo>
                    <a:lnTo>
                      <a:pt x="554" y="175"/>
                    </a:lnTo>
                    <a:lnTo>
                      <a:pt x="537" y="175"/>
                    </a:lnTo>
                    <a:lnTo>
                      <a:pt x="518" y="175"/>
                    </a:lnTo>
                    <a:lnTo>
                      <a:pt x="497" y="175"/>
                    </a:lnTo>
                    <a:lnTo>
                      <a:pt x="454" y="181"/>
                    </a:lnTo>
                    <a:lnTo>
                      <a:pt x="409" y="181"/>
                    </a:lnTo>
                    <a:lnTo>
                      <a:pt x="361" y="181"/>
                    </a:lnTo>
                    <a:lnTo>
                      <a:pt x="312" y="181"/>
                    </a:lnTo>
                    <a:lnTo>
                      <a:pt x="263" y="181"/>
                    </a:lnTo>
                    <a:lnTo>
                      <a:pt x="215" y="181"/>
                    </a:lnTo>
                    <a:lnTo>
                      <a:pt x="169" y="181"/>
                    </a:lnTo>
                    <a:lnTo>
                      <a:pt x="127" y="175"/>
                    </a:lnTo>
                    <a:lnTo>
                      <a:pt x="106" y="175"/>
                    </a:lnTo>
                    <a:lnTo>
                      <a:pt x="87" y="175"/>
                    </a:lnTo>
                    <a:lnTo>
                      <a:pt x="70" y="175"/>
                    </a:lnTo>
                    <a:lnTo>
                      <a:pt x="52" y="169"/>
                    </a:lnTo>
                    <a:lnTo>
                      <a:pt x="37" y="169"/>
                    </a:lnTo>
                    <a:lnTo>
                      <a:pt x="23" y="169"/>
                    </a:lnTo>
                    <a:lnTo>
                      <a:pt x="10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8" y="18"/>
                    </a:lnTo>
                    <a:lnTo>
                      <a:pt x="18" y="12"/>
                    </a:lnTo>
                    <a:lnTo>
                      <a:pt x="28" y="12"/>
                    </a:lnTo>
                    <a:lnTo>
                      <a:pt x="41" y="6"/>
                    </a:lnTo>
                    <a:lnTo>
                      <a:pt x="67" y="6"/>
                    </a:lnTo>
                    <a:lnTo>
                      <a:pt x="97" y="0"/>
                    </a:lnTo>
                    <a:lnTo>
                      <a:pt x="129" y="0"/>
                    </a:lnTo>
                    <a:lnTo>
                      <a:pt x="164" y="0"/>
                    </a:lnTo>
                    <a:lnTo>
                      <a:pt x="202" y="0"/>
                    </a:lnTo>
                    <a:lnTo>
                      <a:pt x="240" y="0"/>
                    </a:lnTo>
                    <a:lnTo>
                      <a:pt x="261" y="0"/>
                    </a:lnTo>
                    <a:lnTo>
                      <a:pt x="283" y="0"/>
                    </a:lnTo>
                    <a:lnTo>
                      <a:pt x="308" y="0"/>
                    </a:lnTo>
                    <a:lnTo>
                      <a:pt x="333" y="6"/>
                    </a:lnTo>
                    <a:lnTo>
                      <a:pt x="386" y="6"/>
                    </a:lnTo>
                    <a:lnTo>
                      <a:pt x="441" y="12"/>
                    </a:lnTo>
                    <a:lnTo>
                      <a:pt x="495" y="12"/>
                    </a:lnTo>
                    <a:lnTo>
                      <a:pt x="520" y="18"/>
                    </a:lnTo>
                    <a:lnTo>
                      <a:pt x="545" y="18"/>
                    </a:lnTo>
                    <a:lnTo>
                      <a:pt x="568" y="18"/>
                    </a:lnTo>
                    <a:lnTo>
                      <a:pt x="589" y="24"/>
                    </a:lnTo>
                    <a:lnTo>
                      <a:pt x="607" y="24"/>
                    </a:lnTo>
                    <a:lnTo>
                      <a:pt x="624" y="24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600" y="6502320"/>
                <a:ext cx="993960" cy="352440"/>
              </a:xfrm>
              <a:custGeom>
                <a:avLst/>
                <a:gdLst/>
                <a:ahLst/>
                <a:rect l="l" t="t" r="r" b="b"/>
                <a:pathLst>
                  <a:path w="626" h="222">
                    <a:moveTo>
                      <a:pt x="624" y="0"/>
                    </a:moveTo>
                    <a:lnTo>
                      <a:pt x="625" y="221"/>
                    </a:lnTo>
                    <a:lnTo>
                      <a:pt x="6" y="22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9" y="7"/>
                    </a:lnTo>
                    <a:lnTo>
                      <a:pt x="101" y="7"/>
                    </a:lnTo>
                    <a:lnTo>
                      <a:pt x="132" y="7"/>
                    </a:lnTo>
                    <a:lnTo>
                      <a:pt x="161" y="7"/>
                    </a:lnTo>
                    <a:lnTo>
                      <a:pt x="190" y="14"/>
                    </a:lnTo>
                    <a:lnTo>
                      <a:pt x="216" y="14"/>
                    </a:lnTo>
                    <a:lnTo>
                      <a:pt x="242" y="14"/>
                    </a:lnTo>
                    <a:lnTo>
                      <a:pt x="266" y="14"/>
                    </a:lnTo>
                    <a:lnTo>
                      <a:pt x="289" y="14"/>
                    </a:lnTo>
                    <a:lnTo>
                      <a:pt x="311" y="14"/>
                    </a:lnTo>
                    <a:lnTo>
                      <a:pt x="332" y="14"/>
                    </a:lnTo>
                    <a:lnTo>
                      <a:pt x="372" y="14"/>
                    </a:lnTo>
                    <a:lnTo>
                      <a:pt x="407" y="14"/>
                    </a:lnTo>
                    <a:lnTo>
                      <a:pt x="441" y="7"/>
                    </a:lnTo>
                    <a:lnTo>
                      <a:pt x="471" y="7"/>
                    </a:lnTo>
                    <a:lnTo>
                      <a:pt x="499" y="7"/>
                    </a:lnTo>
                    <a:lnTo>
                      <a:pt x="526" y="7"/>
                    </a:lnTo>
                    <a:lnTo>
                      <a:pt x="551" y="0"/>
                    </a:lnTo>
                    <a:lnTo>
                      <a:pt x="576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9600" y="6195960"/>
                <a:ext cx="992160" cy="436680"/>
              </a:xfrm>
              <a:custGeom>
                <a:avLst/>
                <a:gdLst/>
                <a:ahLst/>
                <a:rect l="l" t="t" r="r" b="b"/>
                <a:pathLst>
                  <a:path w="625" h="275">
                    <a:moveTo>
                      <a:pt x="624" y="0"/>
                    </a:moveTo>
                    <a:lnTo>
                      <a:pt x="624" y="13"/>
                    </a:lnTo>
                    <a:lnTo>
                      <a:pt x="624" y="40"/>
                    </a:lnTo>
                    <a:lnTo>
                      <a:pt x="624" y="87"/>
                    </a:lnTo>
                    <a:lnTo>
                      <a:pt x="624" y="140"/>
                    </a:lnTo>
                    <a:lnTo>
                      <a:pt x="624" y="187"/>
                    </a:lnTo>
                    <a:lnTo>
                      <a:pt x="624" y="234"/>
                    </a:lnTo>
                    <a:lnTo>
                      <a:pt x="624" y="261"/>
                    </a:lnTo>
                    <a:lnTo>
                      <a:pt x="624" y="274"/>
                    </a:lnTo>
                    <a:lnTo>
                      <a:pt x="606" y="267"/>
                    </a:lnTo>
                    <a:lnTo>
                      <a:pt x="591" y="261"/>
                    </a:lnTo>
                    <a:lnTo>
                      <a:pt x="561" y="254"/>
                    </a:lnTo>
                    <a:lnTo>
                      <a:pt x="533" y="247"/>
                    </a:lnTo>
                    <a:lnTo>
                      <a:pt x="507" y="247"/>
                    </a:lnTo>
                    <a:lnTo>
                      <a:pt x="480" y="241"/>
                    </a:lnTo>
                    <a:lnTo>
                      <a:pt x="451" y="241"/>
                    </a:lnTo>
                    <a:lnTo>
                      <a:pt x="437" y="241"/>
                    </a:lnTo>
                    <a:lnTo>
                      <a:pt x="420" y="241"/>
                    </a:lnTo>
                    <a:lnTo>
                      <a:pt x="402" y="241"/>
                    </a:lnTo>
                    <a:lnTo>
                      <a:pt x="384" y="241"/>
                    </a:lnTo>
                    <a:lnTo>
                      <a:pt x="363" y="241"/>
                    </a:lnTo>
                    <a:lnTo>
                      <a:pt x="341" y="241"/>
                    </a:lnTo>
                    <a:lnTo>
                      <a:pt x="318" y="241"/>
                    </a:lnTo>
                    <a:lnTo>
                      <a:pt x="293" y="247"/>
                    </a:lnTo>
                    <a:lnTo>
                      <a:pt x="242" y="254"/>
                    </a:lnTo>
                    <a:lnTo>
                      <a:pt x="189" y="261"/>
                    </a:lnTo>
                    <a:lnTo>
                      <a:pt x="136" y="261"/>
                    </a:lnTo>
                    <a:lnTo>
                      <a:pt x="110" y="267"/>
                    </a:lnTo>
                    <a:lnTo>
                      <a:pt x="85" y="267"/>
                    </a:lnTo>
                    <a:lnTo>
                      <a:pt x="62" y="274"/>
                    </a:lnTo>
                    <a:lnTo>
                      <a:pt x="39" y="274"/>
                    </a:lnTo>
                    <a:lnTo>
                      <a:pt x="19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624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9600" y="5916600"/>
                <a:ext cx="992160" cy="322200"/>
              </a:xfrm>
              <a:custGeom>
                <a:avLst/>
                <a:gdLst/>
                <a:ahLst/>
                <a:rect l="l" t="t" r="r" b="b"/>
                <a:pathLst>
                  <a:path w="625" h="203">
                    <a:moveTo>
                      <a:pt x="624" y="13"/>
                    </a:moveTo>
                    <a:lnTo>
                      <a:pt x="624" y="189"/>
                    </a:lnTo>
                    <a:lnTo>
                      <a:pt x="615" y="196"/>
                    </a:lnTo>
                    <a:lnTo>
                      <a:pt x="606" y="196"/>
                    </a:lnTo>
                    <a:lnTo>
                      <a:pt x="595" y="202"/>
                    </a:lnTo>
                    <a:lnTo>
                      <a:pt x="584" y="202"/>
                    </a:lnTo>
                    <a:lnTo>
                      <a:pt x="557" y="202"/>
                    </a:lnTo>
                    <a:lnTo>
                      <a:pt x="528" y="202"/>
                    </a:lnTo>
                    <a:lnTo>
                      <a:pt x="495" y="196"/>
                    </a:lnTo>
                    <a:lnTo>
                      <a:pt x="459" y="196"/>
                    </a:lnTo>
                    <a:lnTo>
                      <a:pt x="422" y="189"/>
                    </a:lnTo>
                    <a:lnTo>
                      <a:pt x="383" y="189"/>
                    </a:lnTo>
                    <a:lnTo>
                      <a:pt x="362" y="189"/>
                    </a:lnTo>
                    <a:lnTo>
                      <a:pt x="340" y="189"/>
                    </a:lnTo>
                    <a:lnTo>
                      <a:pt x="315" y="189"/>
                    </a:lnTo>
                    <a:lnTo>
                      <a:pt x="289" y="196"/>
                    </a:lnTo>
                    <a:lnTo>
                      <a:pt x="261" y="196"/>
                    </a:lnTo>
                    <a:lnTo>
                      <a:pt x="234" y="196"/>
                    </a:lnTo>
                    <a:lnTo>
                      <a:pt x="177" y="202"/>
                    </a:lnTo>
                    <a:lnTo>
                      <a:pt x="150" y="202"/>
                    </a:lnTo>
                    <a:lnTo>
                      <a:pt x="122" y="202"/>
                    </a:lnTo>
                    <a:lnTo>
                      <a:pt x="97" y="202"/>
                    </a:lnTo>
                    <a:lnTo>
                      <a:pt x="73" y="202"/>
                    </a:lnTo>
                    <a:lnTo>
                      <a:pt x="51" y="202"/>
                    </a:lnTo>
                    <a:lnTo>
                      <a:pt x="31" y="196"/>
                    </a:lnTo>
                    <a:lnTo>
                      <a:pt x="14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9" y="13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43" y="6"/>
                    </a:lnTo>
                    <a:lnTo>
                      <a:pt x="57" y="0"/>
                    </a:lnTo>
                    <a:lnTo>
                      <a:pt x="73" y="0"/>
                    </a:lnTo>
                    <a:lnTo>
                      <a:pt x="104" y="0"/>
                    </a:lnTo>
                    <a:lnTo>
                      <a:pt x="140" y="0"/>
                    </a:lnTo>
                    <a:lnTo>
                      <a:pt x="178" y="0"/>
                    </a:lnTo>
                    <a:lnTo>
                      <a:pt x="217" y="0"/>
                    </a:lnTo>
                    <a:lnTo>
                      <a:pt x="258" y="0"/>
                    </a:lnTo>
                    <a:lnTo>
                      <a:pt x="298" y="0"/>
                    </a:lnTo>
                    <a:lnTo>
                      <a:pt x="338" y="6"/>
                    </a:lnTo>
                    <a:lnTo>
                      <a:pt x="377" y="6"/>
                    </a:lnTo>
                    <a:lnTo>
                      <a:pt x="414" y="6"/>
                    </a:lnTo>
                    <a:lnTo>
                      <a:pt x="448" y="13"/>
                    </a:lnTo>
                    <a:lnTo>
                      <a:pt x="478" y="13"/>
                    </a:lnTo>
                    <a:lnTo>
                      <a:pt x="493" y="13"/>
                    </a:lnTo>
                    <a:lnTo>
                      <a:pt x="506" y="13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6" y="13"/>
                    </a:lnTo>
                    <a:lnTo>
                      <a:pt x="561" y="13"/>
                    </a:lnTo>
                    <a:lnTo>
                      <a:pt x="574" y="13"/>
                    </a:lnTo>
                    <a:lnTo>
                      <a:pt x="584" y="13"/>
                    </a:lnTo>
                    <a:lnTo>
                      <a:pt x="592" y="13"/>
                    </a:lnTo>
                    <a:lnTo>
                      <a:pt x="598" y="13"/>
                    </a:lnTo>
                    <a:lnTo>
                      <a:pt x="604" y="13"/>
                    </a:lnTo>
                    <a:lnTo>
                      <a:pt x="608" y="13"/>
                    </a:lnTo>
                    <a:lnTo>
                      <a:pt x="612" y="13"/>
                    </a:lnTo>
                    <a:lnTo>
                      <a:pt x="615" y="13"/>
                    </a:lnTo>
                    <a:lnTo>
                      <a:pt x="618" y="13"/>
                    </a:lnTo>
                    <a:lnTo>
                      <a:pt x="620" y="13"/>
                    </a:lnTo>
                    <a:lnTo>
                      <a:pt x="624" y="1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>
              <a:off x="0" y="-4680"/>
              <a:ext cx="446040" cy="6861240"/>
            </a:xfrm>
            <a:custGeom>
              <a:avLst/>
              <a:gdLst/>
              <a:ahLst/>
              <a:rect l="l" t="t" r="r" b="b"/>
              <a:pathLst>
                <a:path w="281" h="4322">
                  <a:moveTo>
                    <a:pt x="210" y="0"/>
                  </a:moveTo>
                  <a:lnTo>
                    <a:pt x="219" y="55"/>
                  </a:lnTo>
                  <a:lnTo>
                    <a:pt x="227" y="118"/>
                  </a:lnTo>
                  <a:lnTo>
                    <a:pt x="235" y="173"/>
                  </a:lnTo>
                  <a:lnTo>
                    <a:pt x="242" y="228"/>
                  </a:lnTo>
                  <a:lnTo>
                    <a:pt x="248" y="283"/>
                  </a:lnTo>
                  <a:lnTo>
                    <a:pt x="254" y="332"/>
                  </a:lnTo>
                  <a:lnTo>
                    <a:pt x="264" y="436"/>
                  </a:lnTo>
                  <a:lnTo>
                    <a:pt x="270" y="539"/>
                  </a:lnTo>
                  <a:lnTo>
                    <a:pt x="276" y="643"/>
                  </a:lnTo>
                  <a:lnTo>
                    <a:pt x="278" y="740"/>
                  </a:lnTo>
                  <a:lnTo>
                    <a:pt x="280" y="837"/>
                  </a:lnTo>
                  <a:lnTo>
                    <a:pt x="279" y="933"/>
                  </a:lnTo>
                  <a:lnTo>
                    <a:pt x="277" y="1030"/>
                  </a:lnTo>
                  <a:lnTo>
                    <a:pt x="274" y="1127"/>
                  </a:lnTo>
                  <a:lnTo>
                    <a:pt x="269" y="1231"/>
                  </a:lnTo>
                  <a:lnTo>
                    <a:pt x="264" y="1327"/>
                  </a:lnTo>
                  <a:lnTo>
                    <a:pt x="258" y="1431"/>
                  </a:lnTo>
                  <a:lnTo>
                    <a:pt x="243" y="1652"/>
                  </a:lnTo>
                  <a:lnTo>
                    <a:pt x="228" y="1880"/>
                  </a:lnTo>
                  <a:lnTo>
                    <a:pt x="213" y="2136"/>
                  </a:lnTo>
                  <a:lnTo>
                    <a:pt x="206" y="2268"/>
                  </a:lnTo>
                  <a:lnTo>
                    <a:pt x="199" y="2413"/>
                  </a:lnTo>
                  <a:lnTo>
                    <a:pt x="193" y="2565"/>
                  </a:lnTo>
                  <a:lnTo>
                    <a:pt x="188" y="2717"/>
                  </a:lnTo>
                  <a:lnTo>
                    <a:pt x="184" y="2883"/>
                  </a:lnTo>
                  <a:lnTo>
                    <a:pt x="182" y="3056"/>
                  </a:lnTo>
                  <a:lnTo>
                    <a:pt x="180" y="3242"/>
                  </a:lnTo>
                  <a:lnTo>
                    <a:pt x="180" y="3436"/>
                  </a:lnTo>
                  <a:lnTo>
                    <a:pt x="182" y="3643"/>
                  </a:lnTo>
                  <a:lnTo>
                    <a:pt x="186" y="3858"/>
                  </a:lnTo>
                  <a:lnTo>
                    <a:pt x="192" y="4079"/>
                  </a:lnTo>
                  <a:lnTo>
                    <a:pt x="201" y="4321"/>
                  </a:lnTo>
                  <a:lnTo>
                    <a:pt x="4" y="4321"/>
                  </a:lnTo>
                  <a:lnTo>
                    <a:pt x="0" y="0"/>
                  </a:lnTo>
                  <a:lnTo>
                    <a:pt x="210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3560" y="-4680"/>
              <a:ext cx="301680" cy="6859440"/>
            </a:xfrm>
            <a:custGeom>
              <a:avLst/>
              <a:gdLst/>
              <a:ahLst/>
              <a:rect l="l" t="t" r="r" b="b"/>
              <a:pathLst>
                <a:path w="190" h="4321">
                  <a:moveTo>
                    <a:pt x="28" y="0"/>
                  </a:moveTo>
                  <a:lnTo>
                    <a:pt x="26" y="76"/>
                  </a:lnTo>
                  <a:lnTo>
                    <a:pt x="25" y="159"/>
                  </a:lnTo>
                  <a:lnTo>
                    <a:pt x="25" y="256"/>
                  </a:lnTo>
                  <a:lnTo>
                    <a:pt x="26" y="366"/>
                  </a:lnTo>
                  <a:lnTo>
                    <a:pt x="27" y="484"/>
                  </a:lnTo>
                  <a:lnTo>
                    <a:pt x="29" y="615"/>
                  </a:lnTo>
                  <a:lnTo>
                    <a:pt x="31" y="753"/>
                  </a:lnTo>
                  <a:lnTo>
                    <a:pt x="34" y="892"/>
                  </a:lnTo>
                  <a:lnTo>
                    <a:pt x="42" y="1203"/>
                  </a:lnTo>
                  <a:lnTo>
                    <a:pt x="49" y="1528"/>
                  </a:lnTo>
                  <a:lnTo>
                    <a:pt x="57" y="1866"/>
                  </a:lnTo>
                  <a:lnTo>
                    <a:pt x="64" y="2205"/>
                  </a:lnTo>
                  <a:lnTo>
                    <a:pt x="70" y="2551"/>
                  </a:lnTo>
                  <a:lnTo>
                    <a:pt x="72" y="2882"/>
                  </a:lnTo>
                  <a:lnTo>
                    <a:pt x="72" y="3200"/>
                  </a:lnTo>
                  <a:lnTo>
                    <a:pt x="71" y="3352"/>
                  </a:lnTo>
                  <a:lnTo>
                    <a:pt x="69" y="3497"/>
                  </a:lnTo>
                  <a:lnTo>
                    <a:pt x="64" y="3636"/>
                  </a:lnTo>
                  <a:lnTo>
                    <a:pt x="60" y="3760"/>
                  </a:lnTo>
                  <a:lnTo>
                    <a:pt x="54" y="3885"/>
                  </a:lnTo>
                  <a:lnTo>
                    <a:pt x="46" y="3995"/>
                  </a:lnTo>
                  <a:lnTo>
                    <a:pt x="38" y="4092"/>
                  </a:lnTo>
                  <a:lnTo>
                    <a:pt x="27" y="4182"/>
                  </a:lnTo>
                  <a:lnTo>
                    <a:pt x="14" y="4258"/>
                  </a:lnTo>
                  <a:lnTo>
                    <a:pt x="0" y="4320"/>
                  </a:lnTo>
                  <a:lnTo>
                    <a:pt x="189" y="4320"/>
                  </a:lnTo>
                  <a:lnTo>
                    <a:pt x="189" y="0"/>
                  </a:lnTo>
                  <a:lnTo>
                    <a:pt x="2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6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657-FA00-436D-8E8A-875940B2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925680" y="0"/>
            <a:ext cx="223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ção à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240" y="2440080"/>
            <a:ext cx="9150480" cy="1065240"/>
            <a:chOff x="-3240" y="2440080"/>
            <a:chExt cx="9150480" cy="1065240"/>
          </a:xfrm>
        </p:grpSpPr>
        <p:grpSp>
          <p:nvGrpSpPr>
            <p:cNvPr id="66" name=""/>
            <p:cNvGrpSpPr/>
            <p:nvPr/>
          </p:nvGrpSpPr>
          <p:grpSpPr>
            <a:xfrm>
              <a:off x="-3240" y="2478240"/>
              <a:ext cx="9148680" cy="1004760"/>
              <a:chOff x="-3240" y="2478240"/>
              <a:chExt cx="9148680" cy="1004760"/>
            </a:xfrm>
          </p:grpSpPr>
          <p:sp>
            <p:nvSpPr>
              <p:cNvPr id="67" name=""/>
              <p:cNvSpPr/>
              <p:nvPr/>
            </p:nvSpPr>
            <p:spPr>
              <a:xfrm>
                <a:off x="23760" y="2489040"/>
                <a:ext cx="9121680" cy="992520"/>
              </a:xfrm>
              <a:custGeom>
                <a:avLst/>
                <a:gdLst/>
                <a:ahLst/>
                <a:rect l="l" t="t" r="r" b="b"/>
                <a:pathLst>
                  <a:path w="5746" h="625">
                    <a:moveTo>
                      <a:pt x="5745" y="624"/>
                    </a:moveTo>
                    <a:lnTo>
                      <a:pt x="0" y="624"/>
                    </a:lnTo>
                    <a:lnTo>
                      <a:pt x="0" y="0"/>
                    </a:lnTo>
                    <a:lnTo>
                      <a:pt x="5745" y="0"/>
                    </a:lnTo>
                    <a:lnTo>
                      <a:pt x="5745" y="62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86680" y="2489040"/>
                <a:ext cx="596880" cy="993960"/>
              </a:xfrm>
              <a:custGeom>
                <a:avLst/>
                <a:gdLst/>
                <a:ahLst/>
                <a:rect l="l" t="t" r="r" b="b"/>
                <a:pathLst>
                  <a:path w="376" h="626">
                    <a:moveTo>
                      <a:pt x="375" y="625"/>
                    </a:moveTo>
                    <a:lnTo>
                      <a:pt x="368" y="625"/>
                    </a:lnTo>
                    <a:lnTo>
                      <a:pt x="361" y="625"/>
                    </a:lnTo>
                    <a:lnTo>
                      <a:pt x="320" y="625"/>
                    </a:lnTo>
                    <a:lnTo>
                      <a:pt x="264" y="625"/>
                    </a:lnTo>
                    <a:lnTo>
                      <a:pt x="195" y="625"/>
                    </a:lnTo>
                    <a:lnTo>
                      <a:pt x="125" y="625"/>
                    </a:lnTo>
                    <a:lnTo>
                      <a:pt x="70" y="625"/>
                    </a:lnTo>
                    <a:lnTo>
                      <a:pt x="28" y="625"/>
                    </a:lnTo>
                    <a:lnTo>
                      <a:pt x="21" y="625"/>
                    </a:lnTo>
                    <a:lnTo>
                      <a:pt x="14" y="625"/>
                    </a:lnTo>
                    <a:lnTo>
                      <a:pt x="21" y="548"/>
                    </a:lnTo>
                    <a:lnTo>
                      <a:pt x="28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28" y="309"/>
                    </a:lnTo>
                    <a:lnTo>
                      <a:pt x="28" y="267"/>
                    </a:lnTo>
                    <a:lnTo>
                      <a:pt x="21" y="225"/>
                    </a:lnTo>
                    <a:lnTo>
                      <a:pt x="14" y="190"/>
                    </a:lnTo>
                    <a:lnTo>
                      <a:pt x="7" y="158"/>
                    </a:lnTo>
                    <a:lnTo>
                      <a:pt x="0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14" y="0"/>
                    </a:lnTo>
                    <a:lnTo>
                      <a:pt x="375" y="0"/>
                    </a:lnTo>
                    <a:lnTo>
                      <a:pt x="375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16600" y="2489040"/>
                <a:ext cx="608040" cy="993960"/>
              </a:xfrm>
              <a:custGeom>
                <a:avLst/>
                <a:gdLst/>
                <a:ahLst/>
                <a:rect l="l" t="t" r="r" b="b"/>
                <a:pathLst>
                  <a:path w="383" h="626">
                    <a:moveTo>
                      <a:pt x="382" y="625"/>
                    </a:moveTo>
                    <a:lnTo>
                      <a:pt x="15" y="625"/>
                    </a:lnTo>
                    <a:lnTo>
                      <a:pt x="8" y="604"/>
                    </a:lnTo>
                    <a:lnTo>
                      <a:pt x="0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0" y="432"/>
                    </a:lnTo>
                    <a:lnTo>
                      <a:pt x="8" y="344"/>
                    </a:lnTo>
                    <a:lnTo>
                      <a:pt x="23" y="257"/>
                    </a:lnTo>
                    <a:lnTo>
                      <a:pt x="23" y="165"/>
                    </a:lnTo>
                    <a:lnTo>
                      <a:pt x="23" y="78"/>
                    </a:lnTo>
                    <a:lnTo>
                      <a:pt x="15" y="0"/>
                    </a:lnTo>
                    <a:lnTo>
                      <a:pt x="382" y="0"/>
                    </a:lnTo>
                    <a:lnTo>
                      <a:pt x="382" y="625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555040" y="2489040"/>
                <a:ext cx="372960" cy="993960"/>
              </a:xfrm>
              <a:custGeom>
                <a:avLst/>
                <a:gdLst/>
                <a:ahLst/>
                <a:rect l="l" t="t" r="r" b="b"/>
                <a:pathLst>
                  <a:path w="235" h="626">
                    <a:moveTo>
                      <a:pt x="207" y="625"/>
                    </a:moveTo>
                    <a:lnTo>
                      <a:pt x="18" y="625"/>
                    </a:lnTo>
                    <a:lnTo>
                      <a:pt x="18" y="600"/>
                    </a:lnTo>
                    <a:lnTo>
                      <a:pt x="9" y="572"/>
                    </a:lnTo>
                    <a:lnTo>
                      <a:pt x="9" y="537"/>
                    </a:lnTo>
                    <a:lnTo>
                      <a:pt x="0" y="499"/>
                    </a:lnTo>
                    <a:lnTo>
                      <a:pt x="0" y="453"/>
                    </a:lnTo>
                    <a:lnTo>
                      <a:pt x="0" y="407"/>
                    </a:lnTo>
                    <a:lnTo>
                      <a:pt x="0" y="313"/>
                    </a:lnTo>
                    <a:lnTo>
                      <a:pt x="0" y="218"/>
                    </a:lnTo>
                    <a:lnTo>
                      <a:pt x="0" y="172"/>
                    </a:lnTo>
                    <a:lnTo>
                      <a:pt x="0" y="127"/>
                    </a:lnTo>
                    <a:lnTo>
                      <a:pt x="9" y="88"/>
                    </a:lnTo>
                    <a:lnTo>
                      <a:pt x="9" y="53"/>
                    </a:lnTo>
                    <a:lnTo>
                      <a:pt x="18" y="25"/>
                    </a:lnTo>
                    <a:lnTo>
                      <a:pt x="18" y="0"/>
                    </a:lnTo>
                    <a:lnTo>
                      <a:pt x="207" y="0"/>
                    </a:lnTo>
                    <a:lnTo>
                      <a:pt x="216" y="18"/>
                    </a:lnTo>
                    <a:lnTo>
                      <a:pt x="225" y="39"/>
                    </a:lnTo>
                    <a:lnTo>
                      <a:pt x="234" y="67"/>
                    </a:lnTo>
                    <a:lnTo>
                      <a:pt x="234" y="95"/>
                    </a:lnTo>
                    <a:lnTo>
                      <a:pt x="234" y="165"/>
                    </a:lnTo>
                    <a:lnTo>
                      <a:pt x="234" y="239"/>
                    </a:lnTo>
                    <a:lnTo>
                      <a:pt x="234" y="281"/>
                    </a:lnTo>
                    <a:lnTo>
                      <a:pt x="234" y="334"/>
                    </a:lnTo>
                    <a:lnTo>
                      <a:pt x="225" y="386"/>
                    </a:lnTo>
                    <a:lnTo>
                      <a:pt x="225" y="443"/>
                    </a:lnTo>
                    <a:lnTo>
                      <a:pt x="216" y="495"/>
                    </a:lnTo>
                    <a:lnTo>
                      <a:pt x="216" y="544"/>
                    </a:lnTo>
                    <a:lnTo>
                      <a:pt x="207" y="590"/>
                    </a:lnTo>
                    <a:lnTo>
                      <a:pt x="207" y="625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75680" y="2489040"/>
                <a:ext cx="452160" cy="993960"/>
              </a:xfrm>
              <a:custGeom>
                <a:avLst/>
                <a:gdLst/>
                <a:ahLst/>
                <a:rect l="l" t="t" r="r" b="b"/>
                <a:pathLst>
                  <a:path w="285" h="626">
                    <a:moveTo>
                      <a:pt x="284" y="625"/>
                    </a:moveTo>
                    <a:lnTo>
                      <a:pt x="32" y="625"/>
                    </a:lnTo>
                    <a:lnTo>
                      <a:pt x="24" y="600"/>
                    </a:lnTo>
                    <a:lnTo>
                      <a:pt x="16" y="572"/>
                    </a:lnTo>
                    <a:lnTo>
                      <a:pt x="16" y="537"/>
                    </a:lnTo>
                    <a:lnTo>
                      <a:pt x="8" y="499"/>
                    </a:lnTo>
                    <a:lnTo>
                      <a:pt x="8" y="453"/>
                    </a:lnTo>
                    <a:lnTo>
                      <a:pt x="8" y="407"/>
                    </a:lnTo>
                    <a:lnTo>
                      <a:pt x="0" y="313"/>
                    </a:lnTo>
                    <a:lnTo>
                      <a:pt x="8" y="218"/>
                    </a:lnTo>
                    <a:lnTo>
                      <a:pt x="8" y="172"/>
                    </a:lnTo>
                    <a:lnTo>
                      <a:pt x="8" y="127"/>
                    </a:lnTo>
                    <a:lnTo>
                      <a:pt x="16" y="88"/>
                    </a:lnTo>
                    <a:lnTo>
                      <a:pt x="16" y="53"/>
                    </a:lnTo>
                    <a:lnTo>
                      <a:pt x="24" y="25"/>
                    </a:lnTo>
                    <a:lnTo>
                      <a:pt x="32" y="0"/>
                    </a:lnTo>
                    <a:lnTo>
                      <a:pt x="284" y="0"/>
                    </a:lnTo>
                    <a:lnTo>
                      <a:pt x="276" y="71"/>
                    </a:lnTo>
                    <a:lnTo>
                      <a:pt x="276" y="130"/>
                    </a:lnTo>
                    <a:lnTo>
                      <a:pt x="268" y="190"/>
                    </a:lnTo>
                    <a:lnTo>
                      <a:pt x="268" y="243"/>
                    </a:lnTo>
                    <a:lnTo>
                      <a:pt x="268" y="288"/>
                    </a:lnTo>
                    <a:lnTo>
                      <a:pt x="268" y="330"/>
                    </a:lnTo>
                    <a:lnTo>
                      <a:pt x="268" y="372"/>
                    </a:lnTo>
                    <a:lnTo>
                      <a:pt x="268" y="407"/>
                    </a:lnTo>
                    <a:lnTo>
                      <a:pt x="276" y="471"/>
                    </a:lnTo>
                    <a:lnTo>
                      <a:pt x="276" y="527"/>
                    </a:lnTo>
                    <a:lnTo>
                      <a:pt x="284" y="576"/>
                    </a:lnTo>
                    <a:lnTo>
                      <a:pt x="284" y="6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53240" y="2489040"/>
                <a:ext cx="581040" cy="993960"/>
              </a:xfrm>
              <a:custGeom>
                <a:avLst/>
                <a:gdLst/>
                <a:ahLst/>
                <a:rect l="l" t="t" r="r" b="b"/>
                <a:pathLst>
                  <a:path w="366" h="626">
                    <a:moveTo>
                      <a:pt x="365" y="625"/>
                    </a:moveTo>
                    <a:lnTo>
                      <a:pt x="365" y="625"/>
                    </a:lnTo>
                    <a:lnTo>
                      <a:pt x="348" y="625"/>
                    </a:lnTo>
                    <a:lnTo>
                      <a:pt x="307" y="625"/>
                    </a:lnTo>
                    <a:lnTo>
                      <a:pt x="249" y="625"/>
                    </a:lnTo>
                    <a:lnTo>
                      <a:pt x="182" y="625"/>
                    </a:lnTo>
                    <a:lnTo>
                      <a:pt x="116" y="625"/>
                    </a:lnTo>
                    <a:lnTo>
                      <a:pt x="58" y="625"/>
                    </a:lnTo>
                    <a:lnTo>
                      <a:pt x="17" y="625"/>
                    </a:lnTo>
                    <a:lnTo>
                      <a:pt x="8" y="625"/>
                    </a:lnTo>
                    <a:lnTo>
                      <a:pt x="0" y="625"/>
                    </a:lnTo>
                    <a:lnTo>
                      <a:pt x="17" y="590"/>
                    </a:lnTo>
                    <a:lnTo>
                      <a:pt x="25" y="562"/>
                    </a:lnTo>
                    <a:lnTo>
                      <a:pt x="33" y="506"/>
                    </a:lnTo>
                    <a:lnTo>
                      <a:pt x="41" y="453"/>
                    </a:lnTo>
                    <a:lnTo>
                      <a:pt x="41" y="418"/>
                    </a:lnTo>
                    <a:lnTo>
                      <a:pt x="41" y="383"/>
                    </a:lnTo>
                    <a:lnTo>
                      <a:pt x="41" y="341"/>
                    </a:lnTo>
                    <a:lnTo>
                      <a:pt x="33" y="295"/>
                    </a:lnTo>
                    <a:lnTo>
                      <a:pt x="25" y="243"/>
                    </a:lnTo>
                    <a:lnTo>
                      <a:pt x="25" y="190"/>
                    </a:lnTo>
                    <a:lnTo>
                      <a:pt x="17" y="137"/>
                    </a:lnTo>
                    <a:lnTo>
                      <a:pt x="8" y="85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65" y="0"/>
                    </a:lnTo>
                    <a:lnTo>
                      <a:pt x="365" y="625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74160" y="2487600"/>
                <a:ext cx="430200" cy="990720"/>
              </a:xfrm>
              <a:custGeom>
                <a:avLst/>
                <a:gdLst/>
                <a:ahLst/>
                <a:rect l="l" t="t" r="r" b="b"/>
                <a:pathLst>
                  <a:path w="271" h="624">
                    <a:moveTo>
                      <a:pt x="252" y="623"/>
                    </a:moveTo>
                    <a:lnTo>
                      <a:pt x="17" y="623"/>
                    </a:lnTo>
                    <a:lnTo>
                      <a:pt x="9" y="606"/>
                    </a:lnTo>
                    <a:lnTo>
                      <a:pt x="0" y="585"/>
                    </a:lnTo>
                    <a:lnTo>
                      <a:pt x="0" y="560"/>
                    </a:lnTo>
                    <a:lnTo>
                      <a:pt x="9" y="528"/>
                    </a:lnTo>
                    <a:lnTo>
                      <a:pt x="9" y="461"/>
                    </a:lnTo>
                    <a:lnTo>
                      <a:pt x="17" y="384"/>
                    </a:lnTo>
                    <a:lnTo>
                      <a:pt x="17" y="342"/>
                    </a:lnTo>
                    <a:lnTo>
                      <a:pt x="9" y="289"/>
                    </a:lnTo>
                    <a:lnTo>
                      <a:pt x="9" y="236"/>
                    </a:lnTo>
                    <a:lnTo>
                      <a:pt x="9" y="176"/>
                    </a:lnTo>
                    <a:lnTo>
                      <a:pt x="0" y="123"/>
                    </a:lnTo>
                    <a:lnTo>
                      <a:pt x="0" y="74"/>
                    </a:lnTo>
                    <a:lnTo>
                      <a:pt x="9" y="32"/>
                    </a:lnTo>
                    <a:lnTo>
                      <a:pt x="9" y="14"/>
                    </a:lnTo>
                    <a:lnTo>
                      <a:pt x="17" y="0"/>
                    </a:lnTo>
                    <a:lnTo>
                      <a:pt x="252" y="0"/>
                    </a:lnTo>
                    <a:lnTo>
                      <a:pt x="261" y="21"/>
                    </a:lnTo>
                    <a:lnTo>
                      <a:pt x="261" y="42"/>
                    </a:lnTo>
                    <a:lnTo>
                      <a:pt x="270" y="74"/>
                    </a:lnTo>
                    <a:lnTo>
                      <a:pt x="270" y="106"/>
                    </a:lnTo>
                    <a:lnTo>
                      <a:pt x="270" y="180"/>
                    </a:lnTo>
                    <a:lnTo>
                      <a:pt x="270" y="261"/>
                    </a:lnTo>
                    <a:lnTo>
                      <a:pt x="261" y="338"/>
                    </a:lnTo>
                    <a:lnTo>
                      <a:pt x="261" y="416"/>
                    </a:lnTo>
                    <a:lnTo>
                      <a:pt x="252" y="451"/>
                    </a:lnTo>
                    <a:lnTo>
                      <a:pt x="252" y="479"/>
                    </a:lnTo>
                    <a:lnTo>
                      <a:pt x="252" y="507"/>
                    </a:lnTo>
                    <a:lnTo>
                      <a:pt x="252" y="528"/>
                    </a:lnTo>
                    <a:lnTo>
                      <a:pt x="252" y="564"/>
                    </a:lnTo>
                    <a:lnTo>
                      <a:pt x="252" y="585"/>
                    </a:lnTo>
                    <a:lnTo>
                      <a:pt x="252" y="599"/>
                    </a:lnTo>
                    <a:lnTo>
                      <a:pt x="252" y="609"/>
                    </a:lnTo>
                    <a:lnTo>
                      <a:pt x="252" y="613"/>
                    </a:lnTo>
                    <a:lnTo>
                      <a:pt x="252" y="616"/>
                    </a:lnTo>
                    <a:lnTo>
                      <a:pt x="252" y="620"/>
                    </a:lnTo>
                    <a:lnTo>
                      <a:pt x="252" y="623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87880" y="2478240"/>
                <a:ext cx="598320" cy="996840"/>
              </a:xfrm>
              <a:custGeom>
                <a:avLst/>
                <a:gdLst/>
                <a:ahLst/>
                <a:rect l="l" t="t" r="r" b="b"/>
                <a:pathLst>
                  <a:path w="377" h="628">
                    <a:moveTo>
                      <a:pt x="376" y="627"/>
                    </a:moveTo>
                    <a:lnTo>
                      <a:pt x="372" y="627"/>
                    </a:lnTo>
                    <a:lnTo>
                      <a:pt x="360" y="627"/>
                    </a:lnTo>
                    <a:lnTo>
                      <a:pt x="345" y="627"/>
                    </a:lnTo>
                    <a:lnTo>
                      <a:pt x="321" y="627"/>
                    </a:lnTo>
                    <a:lnTo>
                      <a:pt x="294" y="627"/>
                    </a:lnTo>
                    <a:lnTo>
                      <a:pt x="262" y="627"/>
                    </a:lnTo>
                    <a:lnTo>
                      <a:pt x="196" y="627"/>
                    </a:lnTo>
                    <a:lnTo>
                      <a:pt x="129" y="627"/>
                    </a:lnTo>
                    <a:lnTo>
                      <a:pt x="98" y="627"/>
                    </a:lnTo>
                    <a:lnTo>
                      <a:pt x="71" y="627"/>
                    </a:lnTo>
                    <a:lnTo>
                      <a:pt x="51" y="627"/>
                    </a:lnTo>
                    <a:lnTo>
                      <a:pt x="31" y="627"/>
                    </a:lnTo>
                    <a:lnTo>
                      <a:pt x="20" y="627"/>
                    </a:lnTo>
                    <a:lnTo>
                      <a:pt x="16" y="627"/>
                    </a:lnTo>
                    <a:lnTo>
                      <a:pt x="24" y="550"/>
                    </a:lnTo>
                    <a:lnTo>
                      <a:pt x="31" y="480"/>
                    </a:lnTo>
                    <a:lnTo>
                      <a:pt x="35" y="417"/>
                    </a:lnTo>
                    <a:lnTo>
                      <a:pt x="35" y="361"/>
                    </a:lnTo>
                    <a:lnTo>
                      <a:pt x="31" y="312"/>
                    </a:lnTo>
                    <a:lnTo>
                      <a:pt x="28" y="266"/>
                    </a:lnTo>
                    <a:lnTo>
                      <a:pt x="24" y="224"/>
                    </a:lnTo>
                    <a:lnTo>
                      <a:pt x="16" y="189"/>
                    </a:lnTo>
                    <a:lnTo>
                      <a:pt x="12" y="158"/>
                    </a:lnTo>
                    <a:lnTo>
                      <a:pt x="4" y="130"/>
                    </a:lnTo>
                    <a:lnTo>
                      <a:pt x="0" y="81"/>
                    </a:lnTo>
                    <a:lnTo>
                      <a:pt x="0" y="39"/>
                    </a:lnTo>
                    <a:lnTo>
                      <a:pt x="8" y="21"/>
                    </a:lnTo>
                    <a:lnTo>
                      <a:pt x="16" y="0"/>
                    </a:lnTo>
                    <a:lnTo>
                      <a:pt x="376" y="0"/>
                    </a:lnTo>
                    <a:lnTo>
                      <a:pt x="376" y="627"/>
                    </a:lnTo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16360" y="2478240"/>
                <a:ext cx="611280" cy="996840"/>
              </a:xfrm>
              <a:custGeom>
                <a:avLst/>
                <a:gdLst/>
                <a:ahLst/>
                <a:rect l="l" t="t" r="r" b="b"/>
                <a:pathLst>
                  <a:path w="385" h="628">
                    <a:moveTo>
                      <a:pt x="384" y="627"/>
                    </a:moveTo>
                    <a:lnTo>
                      <a:pt x="23" y="627"/>
                    </a:lnTo>
                    <a:lnTo>
                      <a:pt x="14" y="606"/>
                    </a:lnTo>
                    <a:lnTo>
                      <a:pt x="5" y="578"/>
                    </a:lnTo>
                    <a:lnTo>
                      <a:pt x="5" y="546"/>
                    </a:lnTo>
                    <a:lnTo>
                      <a:pt x="0" y="511"/>
                    </a:lnTo>
                    <a:lnTo>
                      <a:pt x="5" y="434"/>
                    </a:lnTo>
                    <a:lnTo>
                      <a:pt x="14" y="347"/>
                    </a:lnTo>
                    <a:lnTo>
                      <a:pt x="23" y="256"/>
                    </a:lnTo>
                    <a:lnTo>
                      <a:pt x="32" y="165"/>
                    </a:lnTo>
                    <a:lnTo>
                      <a:pt x="32" y="77"/>
                    </a:lnTo>
                    <a:lnTo>
                      <a:pt x="23" y="0"/>
                    </a:lnTo>
                    <a:lnTo>
                      <a:pt x="384" y="0"/>
                    </a:lnTo>
                    <a:lnTo>
                      <a:pt x="384" y="6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5080" y="2478240"/>
                <a:ext cx="392040" cy="996840"/>
              </a:xfrm>
              <a:custGeom>
                <a:avLst/>
                <a:gdLst/>
                <a:ahLst/>
                <a:rect l="l" t="t" r="r" b="b"/>
                <a:pathLst>
                  <a:path w="247" h="628">
                    <a:moveTo>
                      <a:pt x="216" y="627"/>
                    </a:moveTo>
                    <a:lnTo>
                      <a:pt x="24" y="627"/>
                    </a:lnTo>
                    <a:lnTo>
                      <a:pt x="18" y="602"/>
                    </a:lnTo>
                    <a:lnTo>
                      <a:pt x="12" y="574"/>
                    </a:lnTo>
                    <a:lnTo>
                      <a:pt x="12" y="539"/>
                    </a:lnTo>
                    <a:lnTo>
                      <a:pt x="6" y="501"/>
                    </a:lnTo>
                    <a:lnTo>
                      <a:pt x="6" y="455"/>
                    </a:lnTo>
                    <a:lnTo>
                      <a:pt x="6" y="410"/>
                    </a:lnTo>
                    <a:lnTo>
                      <a:pt x="0" y="315"/>
                    </a:lnTo>
                    <a:lnTo>
                      <a:pt x="6" y="217"/>
                    </a:lnTo>
                    <a:lnTo>
                      <a:pt x="6" y="172"/>
                    </a:lnTo>
                    <a:lnTo>
                      <a:pt x="6" y="126"/>
                    </a:lnTo>
                    <a:lnTo>
                      <a:pt x="12" y="88"/>
                    </a:lnTo>
                    <a:lnTo>
                      <a:pt x="12" y="53"/>
                    </a:lnTo>
                    <a:lnTo>
                      <a:pt x="18" y="25"/>
                    </a:lnTo>
                    <a:lnTo>
                      <a:pt x="24" y="0"/>
                    </a:lnTo>
                    <a:lnTo>
                      <a:pt x="216" y="0"/>
                    </a:lnTo>
                    <a:lnTo>
                      <a:pt x="228" y="18"/>
                    </a:lnTo>
                    <a:lnTo>
                      <a:pt x="234" y="42"/>
                    </a:lnTo>
                    <a:lnTo>
                      <a:pt x="240" y="67"/>
                    </a:lnTo>
                    <a:lnTo>
                      <a:pt x="246" y="98"/>
                    </a:lnTo>
                    <a:lnTo>
                      <a:pt x="246" y="165"/>
                    </a:lnTo>
                    <a:lnTo>
                      <a:pt x="246" y="242"/>
                    </a:lnTo>
                    <a:lnTo>
                      <a:pt x="246" y="284"/>
                    </a:lnTo>
                    <a:lnTo>
                      <a:pt x="240" y="336"/>
                    </a:lnTo>
                    <a:lnTo>
                      <a:pt x="240" y="389"/>
                    </a:lnTo>
                    <a:lnTo>
                      <a:pt x="234" y="445"/>
                    </a:lnTo>
                    <a:lnTo>
                      <a:pt x="228" y="497"/>
                    </a:lnTo>
                    <a:lnTo>
                      <a:pt x="222" y="546"/>
                    </a:lnTo>
                    <a:lnTo>
                      <a:pt x="222" y="592"/>
                    </a:lnTo>
                    <a:lnTo>
                      <a:pt x="216" y="627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75080" y="2478240"/>
                <a:ext cx="457200" cy="996840"/>
              </a:xfrm>
              <a:custGeom>
                <a:avLst/>
                <a:gdLst/>
                <a:ahLst/>
                <a:rect l="l" t="t" r="r" b="b"/>
                <a:pathLst>
                  <a:path w="288" h="628">
                    <a:moveTo>
                      <a:pt x="287" y="627"/>
                    </a:moveTo>
                    <a:lnTo>
                      <a:pt x="34" y="627"/>
                    </a:lnTo>
                    <a:lnTo>
                      <a:pt x="24" y="602"/>
                    </a:lnTo>
                    <a:lnTo>
                      <a:pt x="19" y="574"/>
                    </a:lnTo>
                    <a:lnTo>
                      <a:pt x="14" y="539"/>
                    </a:lnTo>
                    <a:lnTo>
                      <a:pt x="9" y="501"/>
                    </a:lnTo>
                    <a:lnTo>
                      <a:pt x="5" y="455"/>
                    </a:lnTo>
                    <a:lnTo>
                      <a:pt x="5" y="410"/>
                    </a:lnTo>
                    <a:lnTo>
                      <a:pt x="0" y="315"/>
                    </a:lnTo>
                    <a:lnTo>
                      <a:pt x="5" y="217"/>
                    </a:lnTo>
                    <a:lnTo>
                      <a:pt x="5" y="172"/>
                    </a:lnTo>
                    <a:lnTo>
                      <a:pt x="9" y="126"/>
                    </a:lnTo>
                    <a:lnTo>
                      <a:pt x="14" y="88"/>
                    </a:lnTo>
                    <a:lnTo>
                      <a:pt x="19" y="53"/>
                    </a:lnTo>
                    <a:lnTo>
                      <a:pt x="24" y="25"/>
                    </a:lnTo>
                    <a:lnTo>
                      <a:pt x="34" y="0"/>
                    </a:lnTo>
                    <a:lnTo>
                      <a:pt x="287" y="0"/>
                    </a:lnTo>
                    <a:lnTo>
                      <a:pt x="282" y="70"/>
                    </a:lnTo>
                    <a:lnTo>
                      <a:pt x="277" y="133"/>
                    </a:lnTo>
                    <a:lnTo>
                      <a:pt x="272" y="189"/>
                    </a:lnTo>
                    <a:lnTo>
                      <a:pt x="272" y="242"/>
                    </a:lnTo>
                    <a:lnTo>
                      <a:pt x="268" y="291"/>
                    </a:lnTo>
                    <a:lnTo>
                      <a:pt x="272" y="333"/>
                    </a:lnTo>
                    <a:lnTo>
                      <a:pt x="272" y="375"/>
                    </a:lnTo>
                    <a:lnTo>
                      <a:pt x="272" y="410"/>
                    </a:lnTo>
                    <a:lnTo>
                      <a:pt x="277" y="473"/>
                    </a:lnTo>
                    <a:lnTo>
                      <a:pt x="282" y="529"/>
                    </a:lnTo>
                    <a:lnTo>
                      <a:pt x="287" y="578"/>
                    </a:lnTo>
                    <a:lnTo>
                      <a:pt x="287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57680" y="2478240"/>
                <a:ext cx="579600" cy="996840"/>
              </a:xfrm>
              <a:custGeom>
                <a:avLst/>
                <a:gdLst/>
                <a:ahLst/>
                <a:rect l="l" t="t" r="r" b="b"/>
                <a:pathLst>
                  <a:path w="365" h="628">
                    <a:moveTo>
                      <a:pt x="364" y="627"/>
                    </a:moveTo>
                    <a:lnTo>
                      <a:pt x="359" y="627"/>
                    </a:lnTo>
                    <a:lnTo>
                      <a:pt x="348" y="627"/>
                    </a:lnTo>
                    <a:lnTo>
                      <a:pt x="332" y="627"/>
                    </a:lnTo>
                    <a:lnTo>
                      <a:pt x="306" y="627"/>
                    </a:lnTo>
                    <a:lnTo>
                      <a:pt x="248" y="627"/>
                    </a:lnTo>
                    <a:lnTo>
                      <a:pt x="185" y="627"/>
                    </a:lnTo>
                    <a:lnTo>
                      <a:pt x="116" y="627"/>
                    </a:lnTo>
                    <a:lnTo>
                      <a:pt x="58" y="627"/>
                    </a:lnTo>
                    <a:lnTo>
                      <a:pt x="32" y="627"/>
                    </a:lnTo>
                    <a:lnTo>
                      <a:pt x="16" y="627"/>
                    </a:lnTo>
                    <a:lnTo>
                      <a:pt x="5" y="627"/>
                    </a:lnTo>
                    <a:lnTo>
                      <a:pt x="0" y="627"/>
                    </a:lnTo>
                    <a:lnTo>
                      <a:pt x="16" y="592"/>
                    </a:lnTo>
                    <a:lnTo>
                      <a:pt x="26" y="564"/>
                    </a:lnTo>
                    <a:lnTo>
                      <a:pt x="37" y="508"/>
                    </a:lnTo>
                    <a:lnTo>
                      <a:pt x="42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2" y="343"/>
                    </a:lnTo>
                    <a:lnTo>
                      <a:pt x="37" y="294"/>
                    </a:lnTo>
                    <a:lnTo>
                      <a:pt x="21" y="189"/>
                    </a:lnTo>
                    <a:lnTo>
                      <a:pt x="16" y="137"/>
                    </a:lnTo>
                    <a:lnTo>
                      <a:pt x="5" y="8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4" y="0"/>
                    </a:lnTo>
                    <a:lnTo>
                      <a:pt x="364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78600" y="2482920"/>
                <a:ext cx="434880" cy="987480"/>
              </a:xfrm>
              <a:custGeom>
                <a:avLst/>
                <a:gdLst/>
                <a:ahLst/>
                <a:rect l="l" t="t" r="r" b="b"/>
                <a:pathLst>
                  <a:path w="274" h="622">
                    <a:moveTo>
                      <a:pt x="256" y="621"/>
                    </a:moveTo>
                    <a:lnTo>
                      <a:pt x="17" y="621"/>
                    </a:lnTo>
                    <a:lnTo>
                      <a:pt x="6" y="604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0" y="527"/>
                    </a:lnTo>
                    <a:lnTo>
                      <a:pt x="11" y="460"/>
                    </a:lnTo>
                    <a:lnTo>
                      <a:pt x="17" y="383"/>
                    </a:lnTo>
                    <a:lnTo>
                      <a:pt x="17" y="340"/>
                    </a:lnTo>
                    <a:lnTo>
                      <a:pt x="11" y="288"/>
                    </a:lnTo>
                    <a:lnTo>
                      <a:pt x="6" y="235"/>
                    </a:lnTo>
                    <a:lnTo>
                      <a:pt x="0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6" y="0"/>
                    </a:lnTo>
                    <a:lnTo>
                      <a:pt x="262" y="21"/>
                    </a:lnTo>
                    <a:lnTo>
                      <a:pt x="268" y="42"/>
                    </a:lnTo>
                    <a:lnTo>
                      <a:pt x="273" y="73"/>
                    </a:lnTo>
                    <a:lnTo>
                      <a:pt x="273" y="105"/>
                    </a:lnTo>
                    <a:lnTo>
                      <a:pt x="273" y="179"/>
                    </a:lnTo>
                    <a:lnTo>
                      <a:pt x="273" y="260"/>
                    </a:lnTo>
                    <a:lnTo>
                      <a:pt x="268" y="337"/>
                    </a:lnTo>
                    <a:lnTo>
                      <a:pt x="262" y="414"/>
                    </a:lnTo>
                    <a:lnTo>
                      <a:pt x="262" y="449"/>
                    </a:lnTo>
                    <a:lnTo>
                      <a:pt x="256" y="477"/>
                    </a:lnTo>
                    <a:lnTo>
                      <a:pt x="256" y="506"/>
                    </a:lnTo>
                    <a:lnTo>
                      <a:pt x="256" y="527"/>
                    </a:lnTo>
                    <a:lnTo>
                      <a:pt x="256" y="562"/>
                    </a:lnTo>
                    <a:lnTo>
                      <a:pt x="256" y="583"/>
                    </a:lnTo>
                    <a:lnTo>
                      <a:pt x="256" y="597"/>
                    </a:lnTo>
                    <a:lnTo>
                      <a:pt x="256" y="607"/>
                    </a:lnTo>
                    <a:lnTo>
                      <a:pt x="256" y="611"/>
                    </a:lnTo>
                    <a:lnTo>
                      <a:pt x="256" y="614"/>
                    </a:lnTo>
                    <a:lnTo>
                      <a:pt x="256" y="618"/>
                    </a:lnTo>
                    <a:lnTo>
                      <a:pt x="256" y="62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08000" y="2489040"/>
                <a:ext cx="603360" cy="993960"/>
              </a:xfrm>
              <a:custGeom>
                <a:avLst/>
                <a:gdLst/>
                <a:ahLst/>
                <a:rect l="l" t="t" r="r" b="b"/>
                <a:pathLst>
                  <a:path w="380" h="626">
                    <a:moveTo>
                      <a:pt x="379" y="625"/>
                    </a:moveTo>
                    <a:lnTo>
                      <a:pt x="374" y="625"/>
                    </a:lnTo>
                    <a:lnTo>
                      <a:pt x="364" y="625"/>
                    </a:lnTo>
                    <a:lnTo>
                      <a:pt x="346" y="625"/>
                    </a:lnTo>
                    <a:lnTo>
                      <a:pt x="323" y="625"/>
                    </a:lnTo>
                    <a:lnTo>
                      <a:pt x="296" y="625"/>
                    </a:lnTo>
                    <a:lnTo>
                      <a:pt x="265" y="625"/>
                    </a:lnTo>
                    <a:lnTo>
                      <a:pt x="199" y="625"/>
                    </a:lnTo>
                    <a:lnTo>
                      <a:pt x="131" y="625"/>
                    </a:lnTo>
                    <a:lnTo>
                      <a:pt x="101" y="625"/>
                    </a:lnTo>
                    <a:lnTo>
                      <a:pt x="73" y="625"/>
                    </a:lnTo>
                    <a:lnTo>
                      <a:pt x="50" y="625"/>
                    </a:lnTo>
                    <a:lnTo>
                      <a:pt x="32" y="625"/>
                    </a:lnTo>
                    <a:lnTo>
                      <a:pt x="22" y="625"/>
                    </a:lnTo>
                    <a:lnTo>
                      <a:pt x="17" y="625"/>
                    </a:lnTo>
                    <a:lnTo>
                      <a:pt x="27" y="548"/>
                    </a:lnTo>
                    <a:lnTo>
                      <a:pt x="32" y="478"/>
                    </a:lnTo>
                    <a:lnTo>
                      <a:pt x="35" y="418"/>
                    </a:lnTo>
                    <a:lnTo>
                      <a:pt x="35" y="362"/>
                    </a:lnTo>
                    <a:lnTo>
                      <a:pt x="32" y="309"/>
                    </a:lnTo>
                    <a:lnTo>
                      <a:pt x="30" y="267"/>
                    </a:lnTo>
                    <a:lnTo>
                      <a:pt x="25" y="225"/>
                    </a:lnTo>
                    <a:lnTo>
                      <a:pt x="17" y="190"/>
                    </a:lnTo>
                    <a:lnTo>
                      <a:pt x="12" y="158"/>
                    </a:lnTo>
                    <a:lnTo>
                      <a:pt x="7" y="130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2" y="39"/>
                    </a:lnTo>
                    <a:lnTo>
                      <a:pt x="7" y="21"/>
                    </a:lnTo>
                    <a:lnTo>
                      <a:pt x="17" y="0"/>
                    </a:lnTo>
                    <a:lnTo>
                      <a:pt x="379" y="0"/>
                    </a:lnTo>
                    <a:lnTo>
                      <a:pt x="379" y="62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46200" y="2489040"/>
                <a:ext cx="606600" cy="993960"/>
              </a:xfrm>
              <a:custGeom>
                <a:avLst/>
                <a:gdLst/>
                <a:ahLst/>
                <a:rect l="l" t="t" r="r" b="b"/>
                <a:pathLst>
                  <a:path w="382" h="626">
                    <a:moveTo>
                      <a:pt x="381" y="625"/>
                    </a:moveTo>
                    <a:lnTo>
                      <a:pt x="18" y="625"/>
                    </a:lnTo>
                    <a:lnTo>
                      <a:pt x="9" y="604"/>
                    </a:lnTo>
                    <a:lnTo>
                      <a:pt x="3" y="576"/>
                    </a:lnTo>
                    <a:lnTo>
                      <a:pt x="0" y="544"/>
                    </a:lnTo>
                    <a:lnTo>
                      <a:pt x="0" y="509"/>
                    </a:lnTo>
                    <a:lnTo>
                      <a:pt x="3" y="432"/>
                    </a:lnTo>
                    <a:lnTo>
                      <a:pt x="12" y="344"/>
                    </a:lnTo>
                    <a:lnTo>
                      <a:pt x="21" y="257"/>
                    </a:lnTo>
                    <a:lnTo>
                      <a:pt x="27" y="165"/>
                    </a:lnTo>
                    <a:lnTo>
                      <a:pt x="27" y="78"/>
                    </a:lnTo>
                    <a:lnTo>
                      <a:pt x="24" y="39"/>
                    </a:lnTo>
                    <a:lnTo>
                      <a:pt x="18" y="0"/>
                    </a:lnTo>
                    <a:lnTo>
                      <a:pt x="381" y="0"/>
                    </a:lnTo>
                    <a:lnTo>
                      <a:pt x="381" y="625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81160" y="2478240"/>
                <a:ext cx="384120" cy="996840"/>
              </a:xfrm>
              <a:custGeom>
                <a:avLst/>
                <a:gdLst/>
                <a:ahLst/>
                <a:rect l="l" t="t" r="r" b="b"/>
                <a:pathLst>
                  <a:path w="242" h="628">
                    <a:moveTo>
                      <a:pt x="209" y="627"/>
                    </a:moveTo>
                    <a:lnTo>
                      <a:pt x="22" y="627"/>
                    </a:lnTo>
                    <a:lnTo>
                      <a:pt x="17" y="602"/>
                    </a:lnTo>
                    <a:lnTo>
                      <a:pt x="12" y="574"/>
                    </a:lnTo>
                    <a:lnTo>
                      <a:pt x="8" y="539"/>
                    </a:lnTo>
                    <a:lnTo>
                      <a:pt x="4" y="501"/>
                    </a:lnTo>
                    <a:lnTo>
                      <a:pt x="3" y="455"/>
                    </a:lnTo>
                    <a:lnTo>
                      <a:pt x="1" y="410"/>
                    </a:lnTo>
                    <a:lnTo>
                      <a:pt x="0" y="315"/>
                    </a:lnTo>
                    <a:lnTo>
                      <a:pt x="1" y="217"/>
                    </a:lnTo>
                    <a:lnTo>
                      <a:pt x="3" y="172"/>
                    </a:lnTo>
                    <a:lnTo>
                      <a:pt x="4" y="126"/>
                    </a:lnTo>
                    <a:lnTo>
                      <a:pt x="8" y="88"/>
                    </a:lnTo>
                    <a:lnTo>
                      <a:pt x="12" y="53"/>
                    </a:lnTo>
                    <a:lnTo>
                      <a:pt x="17" y="25"/>
                    </a:lnTo>
                    <a:lnTo>
                      <a:pt x="22" y="0"/>
                    </a:lnTo>
                    <a:lnTo>
                      <a:pt x="209" y="0"/>
                    </a:lnTo>
                    <a:lnTo>
                      <a:pt x="220" y="18"/>
                    </a:lnTo>
                    <a:lnTo>
                      <a:pt x="230" y="42"/>
                    </a:lnTo>
                    <a:lnTo>
                      <a:pt x="234" y="67"/>
                    </a:lnTo>
                    <a:lnTo>
                      <a:pt x="239" y="98"/>
                    </a:lnTo>
                    <a:lnTo>
                      <a:pt x="241" y="130"/>
                    </a:lnTo>
                    <a:lnTo>
                      <a:pt x="241" y="165"/>
                    </a:lnTo>
                    <a:lnTo>
                      <a:pt x="241" y="242"/>
                    </a:lnTo>
                    <a:lnTo>
                      <a:pt x="239" y="284"/>
                    </a:lnTo>
                    <a:lnTo>
                      <a:pt x="236" y="336"/>
                    </a:lnTo>
                    <a:lnTo>
                      <a:pt x="233" y="389"/>
                    </a:lnTo>
                    <a:lnTo>
                      <a:pt x="228" y="445"/>
                    </a:lnTo>
                    <a:lnTo>
                      <a:pt x="222" y="497"/>
                    </a:lnTo>
                    <a:lnTo>
                      <a:pt x="217" y="546"/>
                    </a:lnTo>
                    <a:lnTo>
                      <a:pt x="212" y="592"/>
                    </a:lnTo>
                    <a:lnTo>
                      <a:pt x="209" y="627"/>
                    </a:lnTo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3240" y="2478240"/>
                <a:ext cx="463680" cy="996840"/>
              </a:xfrm>
              <a:custGeom>
                <a:avLst/>
                <a:gdLst/>
                <a:ahLst/>
                <a:rect l="l" t="t" r="r" b="b"/>
                <a:pathLst>
                  <a:path w="292" h="628">
                    <a:moveTo>
                      <a:pt x="291" y="623"/>
                    </a:moveTo>
                    <a:lnTo>
                      <a:pt x="0" y="627"/>
                    </a:lnTo>
                    <a:lnTo>
                      <a:pt x="0" y="7"/>
                    </a:lnTo>
                    <a:lnTo>
                      <a:pt x="291" y="0"/>
                    </a:lnTo>
                    <a:lnTo>
                      <a:pt x="285" y="70"/>
                    </a:lnTo>
                    <a:lnTo>
                      <a:pt x="280" y="133"/>
                    </a:lnTo>
                    <a:lnTo>
                      <a:pt x="277" y="189"/>
                    </a:lnTo>
                    <a:lnTo>
                      <a:pt x="275" y="242"/>
                    </a:lnTo>
                    <a:lnTo>
                      <a:pt x="274" y="291"/>
                    </a:lnTo>
                    <a:lnTo>
                      <a:pt x="274" y="333"/>
                    </a:lnTo>
                    <a:lnTo>
                      <a:pt x="275" y="371"/>
                    </a:lnTo>
                    <a:lnTo>
                      <a:pt x="277" y="406"/>
                    </a:lnTo>
                    <a:lnTo>
                      <a:pt x="281" y="469"/>
                    </a:lnTo>
                    <a:lnTo>
                      <a:pt x="285" y="525"/>
                    </a:lnTo>
                    <a:lnTo>
                      <a:pt x="288" y="550"/>
                    </a:lnTo>
                    <a:lnTo>
                      <a:pt x="290" y="574"/>
                    </a:lnTo>
                    <a:lnTo>
                      <a:pt x="291" y="599"/>
                    </a:lnTo>
                    <a:lnTo>
                      <a:pt x="291" y="6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9080" y="2478240"/>
                <a:ext cx="574560" cy="996840"/>
              </a:xfrm>
              <a:custGeom>
                <a:avLst/>
                <a:gdLst/>
                <a:ahLst/>
                <a:rect l="l" t="t" r="r" b="b"/>
                <a:pathLst>
                  <a:path w="362" h="628">
                    <a:moveTo>
                      <a:pt x="361" y="627"/>
                    </a:moveTo>
                    <a:lnTo>
                      <a:pt x="360" y="627"/>
                    </a:lnTo>
                    <a:lnTo>
                      <a:pt x="357" y="627"/>
                    </a:lnTo>
                    <a:lnTo>
                      <a:pt x="352" y="627"/>
                    </a:lnTo>
                    <a:lnTo>
                      <a:pt x="345" y="627"/>
                    </a:lnTo>
                    <a:lnTo>
                      <a:pt x="338" y="627"/>
                    </a:lnTo>
                    <a:lnTo>
                      <a:pt x="328" y="627"/>
                    </a:lnTo>
                    <a:lnTo>
                      <a:pt x="317" y="627"/>
                    </a:lnTo>
                    <a:lnTo>
                      <a:pt x="305" y="627"/>
                    </a:lnTo>
                    <a:lnTo>
                      <a:pt x="291" y="627"/>
                    </a:lnTo>
                    <a:lnTo>
                      <a:pt x="278" y="627"/>
                    </a:lnTo>
                    <a:lnTo>
                      <a:pt x="247" y="627"/>
                    </a:lnTo>
                    <a:lnTo>
                      <a:pt x="214" y="627"/>
                    </a:lnTo>
                    <a:lnTo>
                      <a:pt x="181" y="627"/>
                    </a:lnTo>
                    <a:lnTo>
                      <a:pt x="147" y="627"/>
                    </a:lnTo>
                    <a:lnTo>
                      <a:pt x="114" y="627"/>
                    </a:lnTo>
                    <a:lnTo>
                      <a:pt x="83" y="627"/>
                    </a:lnTo>
                    <a:lnTo>
                      <a:pt x="70" y="627"/>
                    </a:lnTo>
                    <a:lnTo>
                      <a:pt x="56" y="627"/>
                    </a:lnTo>
                    <a:lnTo>
                      <a:pt x="44" y="627"/>
                    </a:lnTo>
                    <a:lnTo>
                      <a:pt x="33" y="627"/>
                    </a:lnTo>
                    <a:lnTo>
                      <a:pt x="23" y="627"/>
                    </a:lnTo>
                    <a:lnTo>
                      <a:pt x="16" y="627"/>
                    </a:lnTo>
                    <a:lnTo>
                      <a:pt x="9" y="627"/>
                    </a:lnTo>
                    <a:lnTo>
                      <a:pt x="4" y="627"/>
                    </a:lnTo>
                    <a:lnTo>
                      <a:pt x="1" y="627"/>
                    </a:lnTo>
                    <a:lnTo>
                      <a:pt x="0" y="627"/>
                    </a:lnTo>
                    <a:lnTo>
                      <a:pt x="7" y="609"/>
                    </a:lnTo>
                    <a:lnTo>
                      <a:pt x="14" y="592"/>
                    </a:lnTo>
                    <a:lnTo>
                      <a:pt x="24" y="564"/>
                    </a:lnTo>
                    <a:lnTo>
                      <a:pt x="31" y="536"/>
                    </a:lnTo>
                    <a:lnTo>
                      <a:pt x="36" y="508"/>
                    </a:lnTo>
                    <a:lnTo>
                      <a:pt x="40" y="483"/>
                    </a:lnTo>
                    <a:lnTo>
                      <a:pt x="41" y="455"/>
                    </a:lnTo>
                    <a:lnTo>
                      <a:pt x="42" y="420"/>
                    </a:lnTo>
                    <a:lnTo>
                      <a:pt x="42" y="385"/>
                    </a:lnTo>
                    <a:lnTo>
                      <a:pt x="41" y="364"/>
                    </a:lnTo>
                    <a:lnTo>
                      <a:pt x="40" y="343"/>
                    </a:lnTo>
                    <a:lnTo>
                      <a:pt x="36" y="294"/>
                    </a:lnTo>
                    <a:lnTo>
                      <a:pt x="29" y="242"/>
                    </a:lnTo>
                    <a:lnTo>
                      <a:pt x="21" y="189"/>
                    </a:lnTo>
                    <a:lnTo>
                      <a:pt x="13" y="137"/>
                    </a:lnTo>
                    <a:lnTo>
                      <a:pt x="7" y="88"/>
                    </a:lnTo>
                    <a:lnTo>
                      <a:pt x="2" y="42"/>
                    </a:lnTo>
                    <a:lnTo>
                      <a:pt x="1" y="21"/>
                    </a:lnTo>
                    <a:lnTo>
                      <a:pt x="0" y="0"/>
                    </a:lnTo>
                    <a:lnTo>
                      <a:pt x="361" y="0"/>
                    </a:lnTo>
                    <a:lnTo>
                      <a:pt x="361" y="627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8200" y="2482920"/>
                <a:ext cx="433080" cy="987480"/>
              </a:xfrm>
              <a:custGeom>
                <a:avLst/>
                <a:gdLst/>
                <a:ahLst/>
                <a:rect l="l" t="t" r="r" b="b"/>
                <a:pathLst>
                  <a:path w="273" h="622">
                    <a:moveTo>
                      <a:pt x="255" y="621"/>
                    </a:moveTo>
                    <a:lnTo>
                      <a:pt x="17" y="621"/>
                    </a:lnTo>
                    <a:lnTo>
                      <a:pt x="11" y="614"/>
                    </a:lnTo>
                    <a:lnTo>
                      <a:pt x="6" y="604"/>
                    </a:lnTo>
                    <a:lnTo>
                      <a:pt x="3" y="593"/>
                    </a:lnTo>
                    <a:lnTo>
                      <a:pt x="0" y="583"/>
                    </a:lnTo>
                    <a:lnTo>
                      <a:pt x="0" y="558"/>
                    </a:lnTo>
                    <a:lnTo>
                      <a:pt x="3" y="527"/>
                    </a:lnTo>
                    <a:lnTo>
                      <a:pt x="7" y="495"/>
                    </a:lnTo>
                    <a:lnTo>
                      <a:pt x="12" y="460"/>
                    </a:lnTo>
                    <a:lnTo>
                      <a:pt x="16" y="421"/>
                    </a:lnTo>
                    <a:lnTo>
                      <a:pt x="17" y="383"/>
                    </a:lnTo>
                    <a:lnTo>
                      <a:pt x="16" y="340"/>
                    </a:lnTo>
                    <a:lnTo>
                      <a:pt x="12" y="288"/>
                    </a:lnTo>
                    <a:lnTo>
                      <a:pt x="7" y="235"/>
                    </a:lnTo>
                    <a:lnTo>
                      <a:pt x="3" y="175"/>
                    </a:lnTo>
                    <a:lnTo>
                      <a:pt x="0" y="123"/>
                    </a:lnTo>
                    <a:lnTo>
                      <a:pt x="0" y="73"/>
                    </a:lnTo>
                    <a:lnTo>
                      <a:pt x="3" y="49"/>
                    </a:lnTo>
                    <a:lnTo>
                      <a:pt x="6" y="31"/>
                    </a:lnTo>
                    <a:lnTo>
                      <a:pt x="11" y="14"/>
                    </a:lnTo>
                    <a:lnTo>
                      <a:pt x="17" y="0"/>
                    </a:lnTo>
                    <a:lnTo>
                      <a:pt x="255" y="0"/>
                    </a:lnTo>
                    <a:lnTo>
                      <a:pt x="262" y="21"/>
                    </a:lnTo>
                    <a:lnTo>
                      <a:pt x="267" y="42"/>
                    </a:lnTo>
                    <a:lnTo>
                      <a:pt x="269" y="73"/>
                    </a:lnTo>
                    <a:lnTo>
                      <a:pt x="272" y="105"/>
                    </a:lnTo>
                    <a:lnTo>
                      <a:pt x="272" y="179"/>
                    </a:lnTo>
                    <a:lnTo>
                      <a:pt x="269" y="260"/>
                    </a:lnTo>
                    <a:lnTo>
                      <a:pt x="265" y="337"/>
                    </a:lnTo>
                    <a:lnTo>
                      <a:pt x="260" y="414"/>
                    </a:lnTo>
                    <a:lnTo>
                      <a:pt x="259" y="449"/>
                    </a:lnTo>
                    <a:lnTo>
                      <a:pt x="256" y="477"/>
                    </a:lnTo>
                    <a:lnTo>
                      <a:pt x="255" y="506"/>
                    </a:lnTo>
                    <a:lnTo>
                      <a:pt x="255" y="527"/>
                    </a:lnTo>
                    <a:lnTo>
                      <a:pt x="255" y="562"/>
                    </a:lnTo>
                    <a:lnTo>
                      <a:pt x="255" y="583"/>
                    </a:lnTo>
                    <a:lnTo>
                      <a:pt x="255" y="597"/>
                    </a:lnTo>
                    <a:lnTo>
                      <a:pt x="255" y="607"/>
                    </a:lnTo>
                    <a:lnTo>
                      <a:pt x="255" y="611"/>
                    </a:lnTo>
                    <a:lnTo>
                      <a:pt x="255" y="614"/>
                    </a:lnTo>
                    <a:lnTo>
                      <a:pt x="255" y="618"/>
                    </a:lnTo>
                    <a:lnTo>
                      <a:pt x="255" y="621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-3240" y="2440080"/>
              <a:ext cx="9150480" cy="442800"/>
            </a:xfrm>
            <a:custGeom>
              <a:avLst/>
              <a:gdLst/>
              <a:ahLst/>
              <a:rect l="l" t="t" r="r" b="b"/>
              <a:pathLst>
                <a:path w="5764" h="279">
                  <a:moveTo>
                    <a:pt x="5763" y="209"/>
                  </a:moveTo>
                  <a:lnTo>
                    <a:pt x="5459" y="240"/>
                  </a:lnTo>
                  <a:lnTo>
                    <a:pt x="5182" y="262"/>
                  </a:lnTo>
                  <a:lnTo>
                    <a:pt x="4915" y="275"/>
                  </a:lnTo>
                  <a:lnTo>
                    <a:pt x="4647" y="278"/>
                  </a:lnTo>
                  <a:lnTo>
                    <a:pt x="4389" y="278"/>
                  </a:lnTo>
                  <a:lnTo>
                    <a:pt x="4122" y="269"/>
                  </a:lnTo>
                  <a:lnTo>
                    <a:pt x="3854" y="256"/>
                  </a:lnTo>
                  <a:lnTo>
                    <a:pt x="3559" y="244"/>
                  </a:lnTo>
                  <a:lnTo>
                    <a:pt x="3255" y="228"/>
                  </a:lnTo>
                  <a:lnTo>
                    <a:pt x="2914" y="212"/>
                  </a:lnTo>
                  <a:lnTo>
                    <a:pt x="2739" y="206"/>
                  </a:lnTo>
                  <a:lnTo>
                    <a:pt x="2545" y="200"/>
                  </a:lnTo>
                  <a:lnTo>
                    <a:pt x="2342" y="194"/>
                  </a:lnTo>
                  <a:lnTo>
                    <a:pt x="2139" y="187"/>
                  </a:lnTo>
                  <a:lnTo>
                    <a:pt x="1918" y="184"/>
                  </a:lnTo>
                  <a:lnTo>
                    <a:pt x="1687" y="181"/>
                  </a:lnTo>
                  <a:lnTo>
                    <a:pt x="1438" y="181"/>
                  </a:lnTo>
                  <a:lnTo>
                    <a:pt x="1180" y="181"/>
                  </a:lnTo>
                  <a:lnTo>
                    <a:pt x="904" y="181"/>
                  </a:lnTo>
                  <a:lnTo>
                    <a:pt x="618" y="187"/>
                  </a:lnTo>
                  <a:lnTo>
                    <a:pt x="323" y="191"/>
                  </a:lnTo>
                  <a:lnTo>
                    <a:pt x="0" y="200"/>
                  </a:lnTo>
                  <a:lnTo>
                    <a:pt x="0" y="3"/>
                  </a:lnTo>
                  <a:lnTo>
                    <a:pt x="5763" y="0"/>
                  </a:lnTo>
                  <a:lnTo>
                    <a:pt x="5763" y="20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3240" y="3200400"/>
              <a:ext cx="9148680" cy="304920"/>
            </a:xfrm>
            <a:custGeom>
              <a:avLst/>
              <a:gdLst/>
              <a:ahLst/>
              <a:rect l="l" t="t" r="r" b="b"/>
              <a:pathLst>
                <a:path w="5763" h="192">
                  <a:moveTo>
                    <a:pt x="5762" y="29"/>
                  </a:moveTo>
                  <a:lnTo>
                    <a:pt x="5661" y="25"/>
                  </a:lnTo>
                  <a:lnTo>
                    <a:pt x="5550" y="25"/>
                  </a:lnTo>
                  <a:lnTo>
                    <a:pt x="5421" y="25"/>
                  </a:lnTo>
                  <a:lnTo>
                    <a:pt x="5273" y="25"/>
                  </a:lnTo>
                  <a:lnTo>
                    <a:pt x="5117" y="29"/>
                  </a:lnTo>
                  <a:lnTo>
                    <a:pt x="4941" y="29"/>
                  </a:lnTo>
                  <a:lnTo>
                    <a:pt x="4757" y="32"/>
                  </a:lnTo>
                  <a:lnTo>
                    <a:pt x="4573" y="36"/>
                  </a:lnTo>
                  <a:lnTo>
                    <a:pt x="4158" y="43"/>
                  </a:lnTo>
                  <a:lnTo>
                    <a:pt x="3725" y="50"/>
                  </a:lnTo>
                  <a:lnTo>
                    <a:pt x="3273" y="57"/>
                  </a:lnTo>
                  <a:lnTo>
                    <a:pt x="2821" y="64"/>
                  </a:lnTo>
                  <a:lnTo>
                    <a:pt x="2360" y="71"/>
                  </a:lnTo>
                  <a:lnTo>
                    <a:pt x="1918" y="74"/>
                  </a:lnTo>
                  <a:lnTo>
                    <a:pt x="1494" y="74"/>
                  </a:lnTo>
                  <a:lnTo>
                    <a:pt x="1291" y="71"/>
                  </a:lnTo>
                  <a:lnTo>
                    <a:pt x="1097" y="71"/>
                  </a:lnTo>
                  <a:lnTo>
                    <a:pt x="913" y="67"/>
                  </a:lnTo>
                  <a:lnTo>
                    <a:pt x="747" y="60"/>
                  </a:lnTo>
                  <a:lnTo>
                    <a:pt x="581" y="53"/>
                  </a:lnTo>
                  <a:lnTo>
                    <a:pt x="433" y="46"/>
                  </a:lnTo>
                  <a:lnTo>
                    <a:pt x="304" y="39"/>
                  </a:lnTo>
                  <a:lnTo>
                    <a:pt x="184" y="29"/>
                  </a:lnTo>
                  <a:lnTo>
                    <a:pt x="83" y="14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5762" y="191"/>
                  </a:lnTo>
                  <a:lnTo>
                    <a:pt x="5762" y="29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D64-A392-46A5-B0A3-08C2D0FC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Subsistema de Memória e Microprocessador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960" y="7160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pacidade de uma memória é dada pela fórmula: T = N x M, onde T = capacidade total em bits; N = Número de endereços; M = Número de bits de cada célula. Ex: Qual a capacidade de uma memória de 1024 endereços de 16 bits cada ? 1024 x 16 = 1638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981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pos de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2544840"/>
            <a:ext cx="8016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mórias podem ser divididas em dois grup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e abaixo quadro ilustrando tal divis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64080" y="4121280"/>
            <a:ext cx="2120760" cy="2919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ó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54040" y="450216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ão 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4040" y="5035680"/>
            <a:ext cx="2121120" cy="2919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721480"/>
            <a:ext cx="8254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721480"/>
            <a:ext cx="97776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5721480"/>
            <a:ext cx="1054080" cy="520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55840" y="5486400"/>
            <a:ext cx="220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572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549576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23600" y="4267080"/>
            <a:ext cx="11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2768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3760" y="450216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át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3760" y="5035680"/>
            <a:ext cx="2120760" cy="2919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541980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5721480"/>
            <a:ext cx="113040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6760" y="5721480"/>
            <a:ext cx="1206360" cy="52056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6480" y="548640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54957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8099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00680" y="4267080"/>
            <a:ext cx="1133640" cy="228600"/>
            <a:chOff x="5800680" y="4267080"/>
            <a:chExt cx="1133640" cy="228600"/>
          </a:xfrm>
        </p:grpSpPr>
        <p:sp>
          <p:nvSpPr>
            <p:cNvPr id="190" name=""/>
            <p:cNvSpPr/>
            <p:nvPr/>
          </p:nvSpPr>
          <p:spPr>
            <a:xfrm>
              <a:off x="5800680" y="4267080"/>
              <a:ext cx="113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4276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Não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792000"/>
            <a:ext cx="80168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teúdo não é perdido ao cortar o fornecimento de energia elétrica, ou seja, as informações armazenadas nestas memórias estão presentes independentemente da alimentação estar ou não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icamente utilizadas para armazenar dados ou programas que depois de testados e certificados não necessitam mais ser modificados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- Ready Only Memor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Memória Somente de Leitura) pertencem ao grupo de memórias não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vários tipos de memórias ROM com características técnicas dif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9960" y="3962520"/>
            <a:ext cx="8016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dos armazenados são gravados durante a sua fabricação. Por isso esta memória também é conhecida como memória do “fabricant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iniciar o processo de fabricação define-se o dado que será gravado em cada posição de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esta definição são criadas máscaras que serão utilizadas durante o processo de fabric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sa forma as posições já são programadas com os dados desej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mória ROM não permite que os dados sejam alterados após sua progra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o se liga uma máquina é da ROM que vêm os programas que são carregados e processados no “boot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447920"/>
            <a:ext cx="640080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oot é o processo de inicialização e carga dos programas básicos de um computador de forma automática e sem intervenção exter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5909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60" y="3124080"/>
            <a:ext cx="8016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Programmable Read Only Memory, Memória Somente de leitura Program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ivale a uma memória ROM que se pode programar utilizando-se máquinas adequadas chamadas de queimadores de P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PROM geralmente é comprada “virgem”, sem nada gr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ito utilizada para testar programas no lugar de se utilizar uma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vez programada, não pode mais ser alte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rasable Programmable Read Only Memory ou Memória Somente de Leitura Programável e Apagáv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é possível apagar uma EPROM utilizando-se máquinas específicas à base de raios ultra-vio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é uma PROM apag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a utilização é basicamente igual a da PROM. Entretanto possui a vantagem de poder ser apa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743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EP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9960" y="3276720"/>
            <a:ext cx="8016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gnifica: Eletrically Erasable Programmable Read Only Memory ou Memória Somente de Leitura, programável e eletronicamente Alter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bém pode ser chamada de EAROM - Electrically Alterable 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memória corresponde a uma memória EPROM apagável por processo eletrônico, sob o controle de uma UCP, com programas e equipamentos adequ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geralmente utilizado em dispositivos aos quais se deseja permitir a alteração, via modem, possibilitando a carga de novas versões de programas à distância ou para permitir a reprogramação dinâmica de funções específicas de um determinado programa, geralmente relativas ao hardware. Ex: reconfiguração de teclado ou mode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Volá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609480"/>
            <a:ext cx="8016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assim chamadas porque as informações armazenadas internamente são perdidas quando a alimentação é interromp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s memórias são utilizadas para o armazenamento temporário de dados ou programas, que são utilizados pelo processador no decorrer do processamento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do tipo RAM (Random Access Memory - Memória de Acesso Randômico ou Aleatório) pertencem ao grupo das memórias volát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048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9960" y="3733920"/>
            <a:ext cx="801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RAM estática pode também ser chamada de S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ui seu funcionamento baseado em circuitos flip-flops, portanto, não necessitam de um circuito externo de “refresh”, refrescamento, já que os flip-flops evitam a perda dos dados, armazenados internamente, ao longo do tempo, considerando que as SRAMs estejam alimentadas adequad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desvantagem da SRAM é o seu baixo fator de integração. Por ser baseada em flip-flops ocupam muito espaço resultando em uma baixa capacidade de armazenamento por C.I. (circuito integr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Static RAM - RAM Est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incipal vantagem está no tempo de acesso aos dados que é bem menor do que as memórias dinâ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SRAMs são utilizadas em aplicações que exigem alta performance e baixa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Dynamic RAM - RAM Dinâ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9960" y="2819520"/>
            <a:ext cx="8016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ser chamada de D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baseadas em capacitores. Por este motivo têm a característica de perder a carga armazenada, ou seja, se descarregam ao longo do t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não sejam perdidos, as DRAMs necessitam de um circuito externo, que em ciclos periódicos predeterminados, rescreva os dados nas D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circuito externo é chamado de Circuito de Refre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ao contrário das SRAMs possuem uma alta integração resultando em alta capacidade de armazenamento por circuito integ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os PC´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Aplicações das 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9960" y="762120"/>
            <a:ext cx="8016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ido a alta performance das SRAMs elas são utilizadas como memórias secundárias nos caches L1, L2 e L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DRAMs são utilizadas como memória principal devido a sua alta capacidade de integ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22096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9960" y="2895480"/>
            <a:ext cx="80168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diversos componentes do computador: UCP, memória e periféricos se comunicam através de um componente denominado barramento. O barramento é um conjunto de condutores elétricos e de circuitos eletrônicos que controlam o fluxo interno dos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um dado ser transportado de um componente a outro, é preciso emitir os sinais de controle necessários para o componente-origem colocar o dado no barramento e para o componente-destino ler o dado do barram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ado é composto por bits. Portanto, um barramento deverá ter tantas linhas condutoras quanto forem os bits a serem transportados de uma vez. Imagine o barramento como uma rua. Quanto mais faixas esta rua tiver, mais carros poderão trafegar simultane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3049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unicação: Memória Principal e U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914400"/>
            <a:ext cx="8016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omunicação entre a MP e a UCP utiliza dois registradores da UCP: Registrador de Endereços de Memória - REM (MAR - Memory Address Register, em inglês), e Registrador de Dados da Memória - RDM (MBR - Memory Buffer Regi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1337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9960" y="2666880"/>
            <a:ext cx="8016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BIT - Binary Digit ou Dígito Binário, a menor porção de informação que um computador pode interpretar. Corresponde a um 0 ou um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conjunto de 8 Bits chamamos byte. O byte é a unidade de medida para armazenamento de dados nos computadores. Com um byte podemos armazenar uma letra ou um número ou um símb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lavra é a unidade de informação do sistema UCP /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dizer que palavra é a capacidade de manipulação de bits do núcleo do computador, que é constituído pela UCP e pel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e salientar que nem sempre todos os elementos do núcleo de um computador: registradores da UCP, ULA e barramento de dados têm a mesma largura, ou seja, processem simultaneamente a mesma quantidade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ts, Bytes e Palav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960" y="685800"/>
            <a:ext cx="8016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-se encontrar computadores em que o tamanho da ULA e dos acumuladores e registradores gerais, da UCP, não é o mesmo tamanho dos barra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tanto é possível encontrar computadores “ditos“ de 64 bits tendo seu barramento de dados de 32 bits. Neste caso a capacidade da ULA e dos registradores é de 64 bits porém o barramento só consegue transferir 32 bits por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exemplos temos o processador Intel 8086 que possuía todos os seus componentes com 16 bits, inclusive o barramento de dados e o processador Intel 8088, que foi usado nos primeiros PC-XT. O 8088 também era dito um processador de 16 bits. Entretanto, possuía a ULA e os registradores trabalhando a 16 bits e o barramento de dados a 8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s casos a transferência de dados através do barramento se faz em duas etapas, um byte de cada vez, e em consequência no 8088, essa transferência consome o dobro dos ciclos de barramento em relação ao 808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cesso à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9960" y="5791320"/>
            <a:ext cx="801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cesso à MP é aleatório, portanto qualquer que seja o endereço de memória (posição) que se queira acessar, o tempo de acesso é o mesmo (const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pode ser acessada através de duas operações: leitura ou grav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leitura significa requisitar à memória principal o conteúdo de uma determinada célula. Esta operação de leitura consiste na transferência de um conjunto de bits (cópia) da memória principal para a UCP. A operação de leitura não é destrutiva, isto é, o conteúdo da célula não é alte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leitu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onde a informação requerida está armaze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lei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eúdo da posição identificada pelo endereço contido no REM é transferido para o RDM e fica disponível para 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sar para escrita significa escrever uma informação em uma célula da memória principal. Esta operação de armazenamento consiste na transferência de um conjunto de bits da UCP para a memória principal. Esta operação é destrutiva pois a informação que estiver gravada naquela célula será sobr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a Informát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 e qualquer parte física que compõe um computador. Ex: UCP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lógica de um sistema computador. São os programas e sistemas contidos num determinado computador. Ex: Sistemas Operacionais, Aplicativos/Utílitários, Linguagens de Progra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opl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pessoas que trabalham diretamente com informática. Ex: Analistas de Sistemas, programadores, operadores, digitadores, Engenheiros, Médicos, qualquer pessoa que utilize a informática no seu dia-a-dia como ferramenta de trab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uncionamento 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68580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s executados pelo Hardaware, UCP, numa operação de escri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armazena no REM o endereço de memória da informação a ser gravada e no RDM a própria inform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comanda a operação de escr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nformação armazenada no RDM é transferida para a posição de memória cujo endereço está contido no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5146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960" y="3048120"/>
            <a:ext cx="8016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unção básica de um processador é receber dados aplicados à sua entrada, processá-los da maneira apropriada e apresentar resultados bem definidos em sua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cessamento é feito de maneira sequencial, ou seja, passo a 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um processamento existe uma ordem de execução a ser seguida, entretanto não há a ocorrência de um passo simultâneo a outro. Não há execução de dois passos simultâneos. Quanto mais rápido for executado um passo, menos tempo de espera haverá para o próiximo pa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64080" y="4044960"/>
            <a:ext cx="1892160" cy="82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ixa Pr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P rocess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3880" y="3968640"/>
            <a:ext cx="1434960" cy="1054080"/>
          </a:xfrm>
          <a:prstGeom prst="rightArrow">
            <a:avLst>
              <a:gd name="adj1" fmla="val 50000"/>
              <a:gd name="adj2" fmla="val 6808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21480" y="3968640"/>
            <a:ext cx="1358640" cy="1054080"/>
          </a:xfrm>
          <a:prstGeom prst="rightArrow">
            <a:avLst>
              <a:gd name="adj1" fmla="val 50000"/>
              <a:gd name="adj2" fmla="val 6446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locidade de processamento dos dados está intimamente ligada à velocidade na qual o processador está operando. Logo, quanto maior for a velocidade de operação, mais rapidamente os dados processados chegarão à saí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ontrolar a execução dos passos de execução em função do tempo, é utilizado um relógio ou clock externo a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lock externo é responsável por enviar pulsos quadrados periódicos para o processador. É por meio deses pulsos periódicos que o processador realiza processamento ordenado. Através do clock ocorre a sincronização dos passos que serão executados intern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ulsos são quadrados porque estão operando em um sistema digital. Portanto só utilizam dois valores: 0 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63880" y="2368440"/>
            <a:ext cx="5016240" cy="1663920"/>
            <a:chOff x="2063880" y="2368440"/>
            <a:chExt cx="5016240" cy="1663920"/>
          </a:xfrm>
        </p:grpSpPr>
        <p:sp>
          <p:nvSpPr>
            <p:cNvPr id="237" name=""/>
            <p:cNvSpPr/>
            <p:nvPr/>
          </p:nvSpPr>
          <p:spPr>
            <a:xfrm>
              <a:off x="3664080" y="244476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63880" y="236844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1480" y="236844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3880" y="3587760"/>
              <a:ext cx="9777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9560" y="3277800"/>
              <a:ext cx="1598760" cy="532080"/>
              <a:chOff x="3049560" y="3277800"/>
              <a:chExt cx="1598760" cy="532080"/>
            </a:xfrm>
          </p:grpSpPr>
          <p:sp>
            <p:nvSpPr>
              <p:cNvPr id="242" name=""/>
              <p:cNvSpPr/>
              <p:nvPr/>
            </p:nvSpPr>
            <p:spPr>
              <a:xfrm>
                <a:off x="3049560" y="380988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648320" y="327780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78160" y="373392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505320" y="343008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0676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904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11680" y="3429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62520" y="3430440"/>
                <a:ext cx="0" cy="30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639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icroprocess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9960" y="609480"/>
            <a:ext cx="8016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queremos que a “caixa preta“, processador, realize determinada tarefa, fornecemos a ela uma sequência de instruçõ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 sequência de instruções recebe o nome de software ou programa. Portanto, qualquer programa é simplesmente uma sequência de instruções que pode ser interpretada e executada por um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063880" y="2139840"/>
            <a:ext cx="5016240" cy="2197080"/>
            <a:chOff x="2063880" y="2139840"/>
            <a:chExt cx="5016240" cy="2197080"/>
          </a:xfrm>
        </p:grpSpPr>
        <p:sp>
          <p:nvSpPr>
            <p:cNvPr id="256" name=""/>
            <p:cNvSpPr/>
            <p:nvPr/>
          </p:nvSpPr>
          <p:spPr>
            <a:xfrm>
              <a:off x="3664080" y="2749680"/>
              <a:ext cx="1892160" cy="825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aixa Pr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(P rocessad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63880" y="2673360"/>
              <a:ext cx="1434960" cy="1054080"/>
            </a:xfrm>
            <a:prstGeom prst="rightArrow">
              <a:avLst>
                <a:gd name="adj1" fmla="val 50000"/>
                <a:gd name="adj2" fmla="val 680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1480" y="2673360"/>
              <a:ext cx="1358640" cy="1054080"/>
            </a:xfrm>
            <a:prstGeom prst="rightArrow">
              <a:avLst>
                <a:gd name="adj1" fmla="val 50000"/>
                <a:gd name="adj2" fmla="val 64464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3880" y="3892680"/>
              <a:ext cx="977760" cy="444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049560" y="3582720"/>
              <a:ext cx="1598760" cy="532080"/>
              <a:chOff x="3049560" y="3582720"/>
              <a:chExt cx="1598760" cy="532080"/>
            </a:xfrm>
          </p:grpSpPr>
          <p:sp>
            <p:nvSpPr>
              <p:cNvPr id="261" name=""/>
              <p:cNvSpPr/>
              <p:nvPr/>
            </p:nvSpPr>
            <p:spPr>
              <a:xfrm>
                <a:off x="3049560" y="4114800"/>
                <a:ext cx="15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648320" y="3582720"/>
                <a:ext cx="0" cy="5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78160" y="4038480"/>
                <a:ext cx="22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35053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0676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5760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5904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988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11680" y="3733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62520" y="373536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63960" y="4038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664080" y="2139840"/>
              <a:ext cx="1206360" cy="44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8360" y="2362320"/>
              <a:ext cx="3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1480" y="236376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39640" y="4654440"/>
            <a:ext cx="806472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m sempre um programa desenvolvido para um processador A funcionará em um processador B. Por exemplo: os softwares desenvolvidos para a plataforma PC (x86) não rodam em MAC, e vice-versa. Isto ocorré devido às diferenças entre os “sets“, conjuntos, de instruções específicas a cada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838080"/>
            <a:ext cx="8016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o processador, a memória e os dispositivos de entrada e saída ocorrerá a transferência de sinais elétricos, ou seja, a transmissão de informações entre eles. Os meios pelos quais as informações trafegam são chamados de barramentos (bus, em inglê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que trafegam em um barramento são: dados, endereços e sinais de cont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ada tipo de conjunto de informações existe um barramento dedic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que interligam o processador com os demais dispositivos do sistema são: barramento de dados (data bus), baramento de endereços (address bus) e barramento de controle (control bu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barramentos de dados e de controle são ditos barramentos bidirecionais, podem tanto entrar quanto sair do processador e/ou dispositivo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barramento de endereços é unidirecional. As informações que trafegam podem somente sair do processador e entrar nos dispositivos de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20880" y="615960"/>
            <a:ext cx="7994520" cy="3949560"/>
            <a:chOff x="920880" y="615960"/>
            <a:chExt cx="7994520" cy="3949560"/>
          </a:xfrm>
        </p:grpSpPr>
        <p:sp>
          <p:nvSpPr>
            <p:cNvPr id="280" name=""/>
            <p:cNvSpPr/>
            <p:nvPr/>
          </p:nvSpPr>
          <p:spPr>
            <a:xfrm>
              <a:off x="366408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6040" y="1835280"/>
              <a:ext cx="1968480" cy="74916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3200" y="762120"/>
              <a:ext cx="4800600" cy="3808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Endere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1800" y="3962520"/>
              <a:ext cx="594360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Sinais de 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92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2590920"/>
              <a:ext cx="380880" cy="761760"/>
            </a:xfrm>
            <a:prstGeom prst="upArrow">
              <a:avLst>
                <a:gd name="adj1" fmla="val 50000"/>
                <a:gd name="adj2" fmla="val 99972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71800" y="3352680"/>
              <a:ext cx="5943600" cy="3049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Barramento de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2590920"/>
              <a:ext cx="380880" cy="1371600"/>
            </a:xfrm>
            <a:prstGeom prst="downArrow">
              <a:avLst>
                <a:gd name="adj1" fmla="val 50000"/>
                <a:gd name="adj2" fmla="val 18010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2590920"/>
              <a:ext cx="380880" cy="1371600"/>
            </a:xfrm>
            <a:prstGeom prst="upArrow">
              <a:avLst>
                <a:gd name="adj1" fmla="val 50000"/>
                <a:gd name="adj2" fmla="val 18000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2590920"/>
              <a:ext cx="381240" cy="1371600"/>
            </a:xfrm>
            <a:prstGeom prst="downArrow">
              <a:avLst>
                <a:gd name="adj1" fmla="val 50000"/>
                <a:gd name="adj2" fmla="val 179936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9400" y="2590920"/>
              <a:ext cx="380880" cy="761760"/>
            </a:xfrm>
            <a:prstGeom prst="downArrow">
              <a:avLst>
                <a:gd name="adj1" fmla="val 50000"/>
                <a:gd name="adj2" fmla="val 100028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1066680"/>
              <a:ext cx="381240" cy="762120"/>
            </a:xfrm>
            <a:prstGeom prst="downArrow">
              <a:avLst>
                <a:gd name="adj1" fmla="val 50000"/>
                <a:gd name="adj2" fmla="val 9998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762120"/>
              <a:ext cx="304920" cy="1066680"/>
            </a:xfrm>
            <a:prstGeom prst="downArrow">
              <a:avLst>
                <a:gd name="adj1" fmla="val 50000"/>
                <a:gd name="adj2" fmla="val 17496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0880" y="615960"/>
              <a:ext cx="1815840" cy="3949560"/>
            </a:xfrm>
            <a:prstGeom prst="cube">
              <a:avLst>
                <a:gd name="adj" fmla="val 16986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3962520"/>
              <a:ext cx="685800" cy="304560"/>
            </a:xfrm>
            <a:prstGeom prst="leftArrow">
              <a:avLst>
                <a:gd name="adj1" fmla="val 75009"/>
                <a:gd name="adj2" fmla="val 112557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352680"/>
              <a:ext cx="685800" cy="304920"/>
            </a:xfrm>
            <a:prstGeom prst="leftArrow">
              <a:avLst>
                <a:gd name="adj1" fmla="val 75009"/>
                <a:gd name="adj2" fmla="val 112424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69960" y="4724280"/>
            <a:ext cx="8016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Da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todos os dados e instruções de dados que serão manipulados internamente pelo processador utilizam o barramento de dados para serem transferidos dos periféricos do sistema para o processador. Quando as informações já foram processadas e os resultados estão disponíveis, elas retornam para os periféricos do sistema, utilizando-se do mesmo barramento de dados que foi utilizado para a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09480" y="763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609480"/>
            <a:ext cx="801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Endereç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o barramento de endereços é utilizado pelo processador para fazer o endereçamento de todos os periféricos do sistema, tais como: memórias RAM, controladores de vídeo, unidades de disco, entre ou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barramento é unidirecional porque o processador utiliza-o para apontar um determinado endereço em um determinado instante. Em um próximo instante esse barramento apontará novamente para outro endereço e assim sucessivamente. Portanto o tráfego de bits no barramento de endereços será sempre do processador para os periféric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de Contro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través do barramento de controle o processador recebe e envia sinais de controle para todos os dispositivos d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60" y="4952880"/>
            <a:ext cx="8016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rquitetura interna de um processador pode ser dividida em três blocos básic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Lógico e Aritmética - 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e de Controle - 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dores Internos - 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19320" y="3200400"/>
            <a:ext cx="6843240" cy="3201120"/>
            <a:chOff x="1219320" y="3200400"/>
            <a:chExt cx="6843240" cy="3201120"/>
          </a:xfrm>
        </p:grpSpPr>
        <p:sp>
          <p:nvSpPr>
            <p:cNvPr id="305" name=""/>
            <p:cNvSpPr/>
            <p:nvPr/>
          </p:nvSpPr>
          <p:spPr>
            <a:xfrm>
              <a:off x="1219320" y="320040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295280" y="3429000"/>
              <a:ext cx="6767280" cy="2972520"/>
              <a:chOff x="1295280" y="3429000"/>
              <a:chExt cx="6767280" cy="2972520"/>
            </a:xfrm>
          </p:grpSpPr>
          <p:sp>
            <p:nvSpPr>
              <p:cNvPr id="307" name=""/>
              <p:cNvSpPr/>
              <p:nvPr/>
            </p:nvSpPr>
            <p:spPr>
              <a:xfrm>
                <a:off x="1295280" y="3429000"/>
                <a:ext cx="1447920" cy="251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86080" y="350532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de Contro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6080" y="4267080"/>
                <a:ext cx="1066680" cy="685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nidade Lógica e Aritmét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6080" y="5029200"/>
                <a:ext cx="106668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74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00200" y="541008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0574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00200" y="5105520"/>
                <a:ext cx="380880" cy="2286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1986120" y="4884840"/>
                <a:ext cx="90648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00440" y="4735440"/>
                <a:ext cx="138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rado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4800" y="4419720"/>
                <a:ext cx="1066680" cy="685800"/>
              </a:xfrm>
              <a:prstGeom prst="rect">
                <a:avLst/>
              </a:prstGeom>
              <a:solidFill>
                <a:srgbClr val="00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mória Princip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7800" y="4419720"/>
                <a:ext cx="106668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i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00800" y="4419720"/>
                <a:ext cx="1219320" cy="685800"/>
              </a:xfrm>
              <a:prstGeom prst="rect">
                <a:avLst/>
              </a:prstGeom>
              <a:solidFill>
                <a:srgbClr val="00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mpresso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4880" y="4041720"/>
                <a:ext cx="998640" cy="382680"/>
              </a:xfrm>
              <a:custGeom>
                <a:avLst/>
                <a:gdLst/>
                <a:ahLst/>
                <a:rect l="l" t="t" r="r" b="b"/>
                <a:pathLst>
                  <a:path w="629" h="241">
                    <a:moveTo>
                      <a:pt x="628" y="235"/>
                    </a:moveTo>
                    <a:lnTo>
                      <a:pt x="628" y="189"/>
                    </a:lnTo>
                    <a:lnTo>
                      <a:pt x="613" y="152"/>
                    </a:lnTo>
                    <a:lnTo>
                      <a:pt x="599" y="125"/>
                    </a:lnTo>
                    <a:lnTo>
                      <a:pt x="584" y="120"/>
                    </a:lnTo>
                    <a:lnTo>
                      <a:pt x="577" y="115"/>
                    </a:lnTo>
                    <a:lnTo>
                      <a:pt x="365" y="120"/>
                    </a:lnTo>
                    <a:lnTo>
                      <a:pt x="358" y="115"/>
                    </a:lnTo>
                    <a:lnTo>
                      <a:pt x="343" y="111"/>
                    </a:lnTo>
                    <a:lnTo>
                      <a:pt x="329" y="83"/>
                    </a:lnTo>
                    <a:lnTo>
                      <a:pt x="322" y="46"/>
                    </a:lnTo>
                    <a:lnTo>
                      <a:pt x="314" y="0"/>
                    </a:lnTo>
                    <a:lnTo>
                      <a:pt x="314" y="46"/>
                    </a:lnTo>
                    <a:lnTo>
                      <a:pt x="300" y="83"/>
                    </a:lnTo>
                    <a:lnTo>
                      <a:pt x="285" y="111"/>
                    </a:lnTo>
                    <a:lnTo>
                      <a:pt x="270" y="115"/>
                    </a:lnTo>
                    <a:lnTo>
                      <a:pt x="263" y="120"/>
                    </a:lnTo>
                    <a:lnTo>
                      <a:pt x="51" y="120"/>
                    </a:lnTo>
                    <a:lnTo>
                      <a:pt x="44" y="125"/>
                    </a:lnTo>
                    <a:lnTo>
                      <a:pt x="37" y="129"/>
                    </a:lnTo>
                    <a:lnTo>
                      <a:pt x="15" y="152"/>
                    </a:lnTo>
                    <a:lnTo>
                      <a:pt x="8" y="194"/>
                    </a:lnTo>
                    <a:lnTo>
                      <a:pt x="0" y="2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2480" y="3809880"/>
                <a:ext cx="2890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ositivos de Entrada e Saí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52480" y="595152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05120" y="5951520"/>
                <a:ext cx="0" cy="22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0400" y="6324480"/>
                <a:ext cx="60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13040" y="6172200"/>
                <a:ext cx="265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572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4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2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715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7280" y="51134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75200" y="6172200"/>
                <a:ext cx="98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85800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010280" y="5109840"/>
                <a:ext cx="0" cy="10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18200" y="6172200"/>
                <a:ext cx="75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10480" y="6095880"/>
                <a:ext cx="2015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Barramento de da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1295280" y="914400"/>
            <a:ext cx="7315200" cy="2438280"/>
            <a:chOff x="1295280" y="914400"/>
            <a:chExt cx="7315200" cy="2438280"/>
          </a:xfrm>
        </p:grpSpPr>
        <p:sp>
          <p:nvSpPr>
            <p:cNvPr id="337" name=""/>
            <p:cNvSpPr/>
            <p:nvPr/>
          </p:nvSpPr>
          <p:spPr>
            <a:xfrm>
              <a:off x="1295280" y="1820880"/>
              <a:ext cx="191952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54400" y="2093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496760" y="2455920"/>
              <a:ext cx="484200" cy="19368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92560" y="2455920"/>
              <a:ext cx="484200" cy="19368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27520" y="1820880"/>
              <a:ext cx="2176560" cy="5176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em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56400" y="1820880"/>
              <a:ext cx="1954080" cy="534960"/>
            </a:xfrm>
            <a:prstGeom prst="rect">
              <a:avLst/>
            </a:prstGeom>
            <a:solidFill>
              <a:srgbClr val="00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dade de Sa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84600" y="2817720"/>
              <a:ext cx="24526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Lógica e Aritmé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2040" y="914400"/>
              <a:ext cx="1995480" cy="534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e de 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3280" y="2093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496760" y="1549440"/>
              <a:ext cx="484200" cy="195120"/>
            </a:xfrm>
            <a:prstGeom prst="downArrow">
              <a:avLst>
                <a:gd name="adj1" fmla="val 50000"/>
                <a:gd name="adj2" fmla="val 5019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92560" y="1549440"/>
              <a:ext cx="484200" cy="195120"/>
            </a:xfrm>
            <a:prstGeom prst="upArrow">
              <a:avLst>
                <a:gd name="adj1" fmla="val 50000"/>
                <a:gd name="adj2" fmla="val 49829"/>
              </a:avLst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47560" y="118728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921280" y="1187280"/>
              <a:ext cx="1555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77200" y="11970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456000" y="1370160"/>
              <a:ext cx="445680" cy="1720800"/>
              <a:chOff x="3456000" y="1370160"/>
              <a:chExt cx="445680" cy="172080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3465000" y="1370160"/>
                <a:ext cx="43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560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65360" y="309096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921280" y="1370160"/>
              <a:ext cx="438120" cy="1720800"/>
              <a:chOff x="5921280" y="1370160"/>
              <a:chExt cx="438120" cy="1720800"/>
            </a:xfrm>
          </p:grpSpPr>
          <p:sp>
            <p:nvSpPr>
              <p:cNvPr id="357" name=""/>
              <p:cNvSpPr/>
              <p:nvPr/>
            </p:nvSpPr>
            <p:spPr>
              <a:xfrm>
                <a:off x="5921280" y="1370160"/>
                <a:ext cx="43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59400" y="1379520"/>
                <a:ext cx="0" cy="171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144840" y="3090960"/>
                <a:ext cx="21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9960" y="533520"/>
            <a:ext cx="80168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que os dados e instruções armazenadas na memória fiquem disponíveis para a UCP ela conta com os seguintes registra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 de Instruções (C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róxima instrução 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Endereços (RE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endereço da palavra a ser retirada ou colocada n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Dados (RDM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o dado a ser retirado ou colocado da/na memória no endereço indicado pelo 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 de Instruções (RI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Contém a instrução retirada da memória para ser execu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umulador (AC)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tém operandos para as operações lógicas e aritméticas e pode ser usado como registrador para entrada e saída de 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LA é responsável por executar operações lógicas e aritméticas como: disjunção, conjunção, ou exclusivo e outras operações 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perações na ULA são extremamente rápidas. Leva cerca de 1 nanosegundo, 10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gundos, para operar duas palavras de 16 b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 é responsável por controlar a sincronização de todas as transferências de dados e instruções. É onde os códigos que representam as operações a serem realizadas são identificados e através da qual os dados são obtidos d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croprocessadores - Arquitetura In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2240" y="387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143000" y="609480"/>
          <a:ext cx="7023240" cy="58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0232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divisões do Hard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nidade Central de Processamento UCP (Central Processing Unity - CPU) é considerada o cérebro da máqu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ponsável pelo processamento e execução dos programas armazenados n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ncipais funções da UCP são busca, análise e execu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da pela ULA - Unidade Lógica e Aritmética, responsável pelos cálculos matemáticos e pelas operações lógicas, e pela UC - Unidade de Controle, responsável pelo controle e administração da ULA, memória e perifé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onente dotado da capacidade de reter, armazenar e recuperar informações sobre as quais serão efetuados os cálculos, resultados parcias produzidos pela ULA, ou instruções detalhadas para manipular estas inform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69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i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s que ligam o computador ao meio externo e vice-versa. São meios através dos quais as informações são enviadas ou retiradas dos comput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9960" y="1096920"/>
            <a:ext cx="801684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imeiras tecnologias utilizavam memórias de núcleos magné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órias atuais são compostas por circuitos semicondu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podem ser classificadas de acordo com as suas carcterísticas como tempo de acesso, capacidade de armazenamento, cust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tuma-se, então, definir uma hierarquia de dispositivos de armazenamento em computadores. A tabela abaixo ilustra esta hierarqu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UCP enxerga nessa ordem e acessa primeiro a que está mais próxima. Subindo na hierarquia, quanto mais próximo da UCP, maior velocidade, maior custo, porém menor capacidade de armazen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74800" y="3713040"/>
          <a:ext cx="6041880" cy="9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3713040"/>
                    <a:ext cx="60418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149480" y="5844600"/>
            <a:ext cx="722628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nde-se por memória VOLÁTIL a memória que tem seu conteúdo perdido ao cortar-se o fornecimento de energia elét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9960" y="792000"/>
            <a:ext cx="80168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dispositivos de armazenamento tempor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calizados n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tremamente rápidos e com capacidade para apenas um dado (uma palav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alto custo provém da tecnologia utilizada na sua constução e por estar localizado na própria pastilha d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u conceito surgiu da necessidade da UCP armazenar temporariamente dados intermediários durante um processamento. Ex: o resultado parcial de uma operação que necessita ser guardado até o resultado de uma busca da memória estar disponível para com ele realizar uma nova oper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1911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9960" y="4830840"/>
            <a:ext cx="80168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ção da tecnologia de construção da UCP x lenta evolução na tecnologia de construção de memórias = UCP’s Rápidas; Memórias len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, os tempos de acesso às memórias foram ficando insatisf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CP precisava ficar “esperando“ até que a memória retornasse o dado solicit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9960" y="639720"/>
            <a:ext cx="801684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problema gerava um “gargalo” que nesse caso era a memó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apidamente surgiram arquiteturas de memória privilegiando a velocidade de ac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cesso a uma memória cache é muitas vezes mais rápido do que o acesso à memória principal. Ex: 5 nanosegundos x 70 nanosegun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entanto o custo de fabricação de uma memória cache é maior que de um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é econômico construir um computador somente com tecnologia de memória ca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-se, então, o artifício de incorporar ao computador uma pequena porção de memória cache, localizada entre a UCP e a memória principal, e que funciona como um “espelho“ de parte d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utiliza algoritmos que fazem com que a cada momento ela armazene parte do código, do programa, ou dados que estão sendo utilizados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0880" y="5264280"/>
            <a:ext cx="768348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a UCP necessita de algum dado e encontra-o na memória cache dá-se um “cache HIT”. Se não estiver presente na cache, a UCP deverá solicitá-lo a memória principal acarretando atraso no processamento. Chamamos de “cache fault” ou “cache miss”. A taxa de chace HIT é geralmente superior a 90%. A memória cache também é volát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9960" y="762120"/>
            <a:ext cx="80168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cache pode implementada na motherboard ( placa mãe) ou diretamente na pastilha do process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ache L1 as memórias implementadas diretamente na pastilha do proces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que são implementadas na motherboard são chamadas de cache L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m processadores que possuem ainda um terceiro cache, L3 que é implementado também na mother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desempenho do sistema de cache está diretamente relacionado à sua capacidade de armazenamento. Quanto maior a capacidade do cache, maior será a chance da próxima instrução a ser executada estar armazenada no cache, evitando assim acesso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mória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9960" y="63972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olvem os problemas de armazenamento de grandes quantidades de informa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auxiliares possuem o custo por bit armazenado menor que a memória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ão volát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ispositivos de memória auxiliar: discos rígidos/winchesters/HD’s, fitas, disquetes, CD-ROM, DVD-R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unidades de disco possuem chips de memória para acelerar a transferência de d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5053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9960" y="3992400"/>
            <a:ext cx="80168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te do computador onde os programas e dados são armazenados para process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informações permanecem na memória principal apenas enquanto for necessário, para o seu emprego, pela UC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sua utilização a informação é liberada da memória principal e a área que estava ocupando pode serr então ocupada por outra informa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m controla toda utilização da memória principal e alocação é o Sistema Oper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2240" y="409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móri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960" y="716040"/>
            <a:ext cx="801684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ecisa ter uma organização que permita ao computador guardar e recuperar informaçõ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do necess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hamamos de célula a unidade de armazenamento de um comput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emória principal é organizada em cél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élula é a menor quantidade de memória que se pode endereçar, ou seja, não se pode endereçar parte de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memórias são compostas de um determinado número de células ou posições que por sua vez são compostas por um determinad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as as células de um computador possuem o mesmo tamanho, o mesmo número de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élula é identificada por um endereço único, pelo qual é referenciado pelos sistemas ou program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e endereço é numerado sequencialmente de 0 à (N-1) e através dele conseguimos localizar uma cél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órmula: x = log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fornece o número de bits necessários para representar os endereços de célula, onde N é igual ao número de endereços. Ex: O número de bits necessários para representar 1024 endereços é 10. Pois,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024 endere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23:49:52Z</dcterms:created>
  <dc:creator>-</dc:creator>
  <dc:description/>
  <dc:language>en-US</dc:language>
  <cp:lastModifiedBy>Eduardo Argollo</cp:lastModifiedBy>
  <dcterms:modified xsi:type="dcterms:W3CDTF">2002-05-10T15:54:33Z</dcterms:modified>
  <cp:revision>98</cp:revision>
  <dc:subject/>
  <dc:title>Subsistema de Memória e Microprocessadores</dc:title>
</cp:coreProperties>
</file>