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FDB-B404-4FFE-9B59-C9C7BACB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B0C-61E3-4CD4-9175-16479BC6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8AA-EF62-42FB-9DCE-320554FF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443-F9D7-4782-8425-AE66637A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551B-028E-4ABF-846F-574E0E5A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6F94-C4EE-472C-8932-9070A59F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5683-97A9-46DE-B499-1B2B2188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3F73-F45D-4448-95A6-5176FCFC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23D0-03F1-4D10-88B9-AB7372A5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DB41-5281-4752-A865-46688ADD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52D2-349A-4D41-AE4A-D8EB6D11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0D5-AB89-4616-965E-D5AFC64C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226E-02E7-4D54-A962-D1A1393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76AA-1C95-45B5-86B8-C5149612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3B3D-F379-4358-B4DF-74DB1716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9126-B72D-4A91-9A13-E1B4EB7A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5871-E6DB-4E4D-8E64-C0E6F4DA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DC9-F5F4-4C7F-BB30-672C86DE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C59-93D0-4AAA-ABEE-55C3380B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2D3-D453-46D9-9A16-A94399C6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20C-DD4B-4D4F-9E44-C6A96680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411-1E18-41F9-A9E2-8B0BC26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0F3-1E9E-4344-B4D4-48809BF7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DB4-E00F-4EC1-8524-00DB89B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F4C1-BD6F-4673-B903-FB0D195AE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D15D-BA37-4FFF-8604-ECBBDEC02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59436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9718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0292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400800" y="0"/>
            <a:ext cx="2819520" cy="6858000"/>
            <a:chOff x="6400800" y="0"/>
            <a:chExt cx="2819520" cy="6858000"/>
          </a:xfrm>
        </p:grpSpPr>
        <p:sp>
          <p:nvSpPr>
            <p:cNvPr id="88" name=""/>
            <p:cNvSpPr/>
            <p:nvPr/>
          </p:nvSpPr>
          <p:spPr>
            <a:xfrm>
              <a:off x="6400800" y="0"/>
              <a:ext cx="2743200" cy="685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00800" y="0"/>
              <a:ext cx="2743200" cy="762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5720" y="346680"/>
              <a:ext cx="251460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CitizenBold"/>
                </a:rPr>
                <a:t>Características \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CitizenBold"/>
                </a:rPr>
                <a:t>distintiv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09480" y="1171800"/>
            <a:ext cx="22100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9df21"/>
                </a:solidFill>
                <a:latin typeface="CitizenBold"/>
              </a:rPr>
              <a:t>Micropor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9df21"/>
                </a:solidFill>
                <a:latin typeface="CitizenBold"/>
              </a:rPr>
              <a:t>2.5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SW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SV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10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W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11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SW 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SV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85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W 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8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1155960"/>
            <a:ext cx="22860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9df21"/>
                </a:solidFill>
                <a:latin typeface="CitizenBold"/>
              </a:rPr>
              <a:t>Ultrapor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9df21"/>
                </a:solidFill>
                <a:latin typeface="CitizenBold"/>
              </a:rPr>
              <a:t>3.9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SU 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SV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17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U 30/XU 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1400/20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SU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SV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12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U 20/XUP 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1000/12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1173960"/>
            <a:ext cx="228600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9df21"/>
                </a:solidFill>
                <a:latin typeface="CitizenBold"/>
              </a:rPr>
              <a:t>Por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9df21"/>
                </a:solidFill>
                <a:latin typeface="CitizenBold"/>
              </a:rPr>
              <a:t>Menos de 7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P 40/XP 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2600/3500 Ans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P 21/XP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2000/2500 Ans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P 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3000 Ans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4040280"/>
            <a:ext cx="8001000" cy="2313720"/>
            <a:chOff x="609480" y="4040280"/>
            <a:chExt cx="8001000" cy="2313720"/>
          </a:xfrm>
        </p:grpSpPr>
        <p:sp>
          <p:nvSpPr>
            <p:cNvPr id="95" name=""/>
            <p:cNvSpPr/>
            <p:nvPr/>
          </p:nvSpPr>
          <p:spPr>
            <a:xfrm rot="16164000">
              <a:off x="3570840" y="2349720"/>
              <a:ext cx="2214360" cy="5734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50505"/>
                </a:gs>
                <a:gs pos="100000">
                  <a:srgbClr val="ff0b0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480" y="5106960"/>
              <a:ext cx="1219320" cy="228600"/>
            </a:xfrm>
            <a:prstGeom prst="rect">
              <a:avLst/>
            </a:prstGeom>
            <a:noFill/>
            <a:ln w="3816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800" y="4040280"/>
              <a:ext cx="2209680" cy="2209680"/>
            </a:xfrm>
            <a:prstGeom prst="ellipse">
              <a:avLst/>
            </a:prstGeom>
            <a:solidFill>
              <a:srgbClr val="ff0b0b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cc"/>
                </a:buClr>
                <a:buFont typeface="Citizen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38280" y="1768320"/>
            <a:ext cx="6172200" cy="2287440"/>
            <a:chOff x="2438280" y="1768320"/>
            <a:chExt cx="6172200" cy="2287440"/>
          </a:xfrm>
        </p:grpSpPr>
        <p:sp>
          <p:nvSpPr>
            <p:cNvPr id="99" name=""/>
            <p:cNvSpPr/>
            <p:nvPr/>
          </p:nvSpPr>
          <p:spPr>
            <a:xfrm rot="16164000">
              <a:off x="4758480" y="1256040"/>
              <a:ext cx="2214360" cy="3349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50505"/>
                </a:gs>
                <a:gs pos="100000">
                  <a:srgbClr val="ff0b0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2041560"/>
              <a:ext cx="1752840" cy="1844640"/>
            </a:xfrm>
            <a:prstGeom prst="rect">
              <a:avLst/>
            </a:prstGeom>
            <a:noFill/>
            <a:ln w="3816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0800" y="1768320"/>
              <a:ext cx="2209680" cy="2210040"/>
            </a:xfrm>
            <a:prstGeom prst="ellipse">
              <a:avLst/>
            </a:prstGeom>
            <a:solidFill>
              <a:srgbClr val="ff0b0b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cc"/>
                </a:buClr>
                <a:buFont typeface="Citizen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85800" y="198108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8960"/>
            <a:ext cx="51818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Proyectores multi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96252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4344840"/>
            <a:ext cx="203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itizenLight"/>
              </a:rPr>
              <a:t>Sistema de auto imag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itizenLight"/>
              </a:rPr>
              <a:t>Unico con entrada de video por compon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2057400"/>
            <a:ext cx="1905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itizenLight"/>
              </a:rPr>
              <a:t>Alta luminosidad en equipos por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01:23:17Z</dcterms:created>
  <dc:creator>Miriam Sattolo</dc:creator>
  <dc:description/>
  <dc:language>en-US</dc:language>
  <cp:lastModifiedBy>Miriam Sattolo</cp:lastModifiedBy>
  <dcterms:modified xsi:type="dcterms:W3CDTF">2001-12-13T22:05:55Z</dcterms:modified>
  <cp:revision>24</cp:revision>
  <dc:subject/>
  <dc:title>Sin título de diapositiva</dc:title>
</cp:coreProperties>
</file>