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72D-C1B6-4413-AF0F-5FEFF8AE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C87-898E-4818-A6E0-72728CEA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975-C11E-4B33-A56B-2DE05C97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4FC-D8F9-4EB7-87CE-6090FD3E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1E85-55E9-4DBF-9AF1-CA73393B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A6C5-0EFB-407E-AC77-18DE7C86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A19B-73D7-4771-9EF5-3201CB99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80E4-230F-4266-BF0F-FCBFA4AA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693C-B2FF-496D-BD6B-43238C70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0D2E-82F6-4836-BD3E-9EE21A4D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8C70-260F-40E8-8B10-28C70DEE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E11-F1D2-4757-B642-ECEED8A4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C3A3-3683-4589-8FCF-EE4D8623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964C-40AC-4169-80EA-2580C49D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FB92-F34F-4438-9722-DD35C931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C5DE-2278-4460-B647-29FCBBBE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84B4-4193-498E-BB3C-63CF1BDD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EBB-CBD6-4AD9-BB0F-CE0F1941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2CB-296E-4484-979E-0008D275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15D-2766-4C08-9301-B80D075E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62D-2532-4416-BA38-F840C7B2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B78-62F1-476F-8A82-7FA661B1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634-B381-4685-BC47-DC2C6D46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786-A432-454C-BFE1-14145A16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68C3-DC55-43FC-8DF4-B13AF0092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11F0-A625-4411-AE8E-B78A772AB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89440" y="623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95 Helvetica Black"/>
              </a:rPr>
              <a:t>La selección de in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27040" y="685800"/>
            <a:ext cx="7016760" cy="3733920"/>
            <a:chOff x="527040" y="685800"/>
            <a:chExt cx="7016760" cy="3733920"/>
          </a:xfrm>
        </p:grpSpPr>
        <p:sp>
          <p:nvSpPr>
            <p:cNvPr id="83" name=""/>
            <p:cNvSpPr/>
            <p:nvPr/>
          </p:nvSpPr>
          <p:spPr>
            <a:xfrm>
              <a:off x="2971800" y="3124080"/>
              <a:ext cx="4572000" cy="129564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7040" y="685800"/>
              <a:ext cx="1987560" cy="3733920"/>
            </a:xfrm>
            <a:custGeom>
              <a:avLst/>
              <a:gdLst>
                <a:gd name="textAreaLeft" fmla="*/ 266040 w 1987560"/>
                <a:gd name="textAreaRight" fmla="*/ 1721520 w 1987560"/>
                <a:gd name="textAreaTop" fmla="*/ 735480 h 3733920"/>
                <a:gd name="textAreaBottom" fmla="*/ 259380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09" stAng="-5400000" swAng="-5400000"/>
                  <a:lnTo>
                    <a:pt x="0" y="10749"/>
                  </a:lnTo>
                  <a:arcTo wR="21600" hR="8509" stAng="10800000" swAng="-3261343"/>
                  <a:lnTo>
                    <a:pt x="15728" y="21280"/>
                  </a:lnTo>
                  <a:lnTo>
                    <a:pt x="21600" y="18138"/>
                  </a:lnTo>
                  <a:lnTo>
                    <a:pt x="15728" y="14356"/>
                  </a:lnTo>
                  <a:lnTo>
                    <a:pt x="15728" y="16698"/>
                  </a:lnTo>
                  <a:arcTo wR="21600" hR="8509" stAng="7538657" swAng="3081689"/>
                  <a:lnTo>
                    <a:pt x="188" y="9629"/>
                  </a:lnTo>
                  <a:arcTo wR="21600" hR="8509" stAng="-10620346" swAng="5220346"/>
                  <a:close/>
                </a:path>
                <a:path fill="darkenLess" w="21600" h="21600">
                  <a:moveTo>
                    <a:pt x="21600" y="0"/>
                  </a:moveTo>
                  <a:arcTo wR="21600" hR="8509" stAng="-5400000" swAng="-5400000"/>
                  <a:lnTo>
                    <a:pt x="0" y="8509"/>
                  </a:lnTo>
                  <a:arcTo wR="21600" hR="8509" stAng="10800000" swAng="-179654"/>
                  <a:lnTo>
                    <a:pt x="188" y="9629"/>
                  </a:lnTo>
                  <a:arcTo wR="21600" hR="8509" stAng="-10620346" swAng="5220346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buClr>
                  <a:srgbClr val="0000cc"/>
                </a:buClr>
                <a:buFont typeface="Citizen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8600" y="685800"/>
            <a:ext cx="7315200" cy="5410080"/>
            <a:chOff x="228600" y="685800"/>
            <a:chExt cx="7315200" cy="5410080"/>
          </a:xfrm>
        </p:grpSpPr>
        <p:sp>
          <p:nvSpPr>
            <p:cNvPr id="86" name=""/>
            <p:cNvSpPr/>
            <p:nvPr/>
          </p:nvSpPr>
          <p:spPr>
            <a:xfrm>
              <a:off x="2971800" y="4800600"/>
              <a:ext cx="4572000" cy="129528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" y="685800"/>
              <a:ext cx="2286000" cy="5410080"/>
            </a:xfrm>
            <a:custGeom>
              <a:avLst/>
              <a:gdLst>
                <a:gd name="textAreaLeft" fmla="*/ 306000 w 2286000"/>
                <a:gd name="textAreaRight" fmla="*/ 1980000 w 2286000"/>
                <a:gd name="textAreaTop" fmla="*/ 1148400 h 5410080"/>
                <a:gd name="textAreaBottom" fmla="*/ 3839040 h 541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172" stAng="-5400000" swAng="-5400000"/>
                  <a:lnTo>
                    <a:pt x="0" y="10742"/>
                  </a:lnTo>
                  <a:arcTo wR="21600" hR="9172" stAng="10800000" swAng="-3563295"/>
                  <a:lnTo>
                    <a:pt x="16337" y="21324"/>
                  </a:lnTo>
                  <a:lnTo>
                    <a:pt x="21600" y="19128"/>
                  </a:lnTo>
                  <a:lnTo>
                    <a:pt x="16337" y="16380"/>
                  </a:lnTo>
                  <a:lnTo>
                    <a:pt x="16337" y="18067"/>
                  </a:lnTo>
                  <a:arcTo wR="21600" hR="9172" stAng="7236705" swAng="3437954"/>
                  <a:lnTo>
                    <a:pt x="79" y="9956"/>
                  </a:lnTo>
                  <a:arcTo wR="21600" hR="9172" stAng="-10674659" swAng="5274659"/>
                  <a:close/>
                </a:path>
                <a:path fill="darkenLess" w="21600" h="21600">
                  <a:moveTo>
                    <a:pt x="21600" y="0"/>
                  </a:moveTo>
                  <a:arcTo wR="21600" hR="9172" stAng="-5400000" swAng="-5400000"/>
                  <a:lnTo>
                    <a:pt x="0" y="9172"/>
                  </a:lnTo>
                  <a:arcTo wR="21600" hR="9172" stAng="10800000" swAng="-125341"/>
                  <a:lnTo>
                    <a:pt x="79" y="9956"/>
                  </a:lnTo>
                  <a:arcTo wR="21600" hR="9172" stAng="-10674659" swAng="5274659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buClr>
                  <a:srgbClr val="0000cc"/>
                </a:buClr>
                <a:buFont typeface="Citizen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914400" y="685800"/>
            <a:ext cx="6629400" cy="2009880"/>
            <a:chOff x="914400" y="685800"/>
            <a:chExt cx="6629400" cy="2009880"/>
          </a:xfrm>
        </p:grpSpPr>
        <p:sp>
          <p:nvSpPr>
            <p:cNvPr id="89" name=""/>
            <p:cNvSpPr/>
            <p:nvPr/>
          </p:nvSpPr>
          <p:spPr>
            <a:xfrm>
              <a:off x="2971800" y="1828800"/>
              <a:ext cx="4572000" cy="86688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4400" y="685800"/>
              <a:ext cx="1590840" cy="1981080"/>
            </a:xfrm>
            <a:custGeom>
              <a:avLst/>
              <a:gdLst>
                <a:gd name="textAreaLeft" fmla="*/ 213120 w 1590840"/>
                <a:gd name="textAreaRight" fmla="*/ 1377720 w 1590840"/>
                <a:gd name="textAreaTop" fmla="*/ 349920 h 1981080"/>
                <a:gd name="textAreaBottom" fmla="*/ 143316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631" stAng="-5400000" swAng="-5400000"/>
                  <a:lnTo>
                    <a:pt x="0" y="11809"/>
                  </a:lnTo>
                  <a:arcTo wR="21600" hR="7631" stAng="10800000" swAng="-2698705"/>
                  <a:lnTo>
                    <a:pt x="14400" y="21164"/>
                  </a:lnTo>
                  <a:lnTo>
                    <a:pt x="21600" y="17351"/>
                  </a:lnTo>
                  <a:lnTo>
                    <a:pt x="14400" y="12666"/>
                  </a:lnTo>
                  <a:lnTo>
                    <a:pt x="14400" y="14826"/>
                  </a:lnTo>
                  <a:arcTo wR="21600" hR="7631" stAng="8101295" swAng="2354183"/>
                  <a:lnTo>
                    <a:pt x="825" y="9720"/>
                  </a:lnTo>
                  <a:arcTo wR="21600" hR="7631" stAng="-10455479" swAng="5055479"/>
                  <a:close/>
                </a:path>
                <a:path fill="darkenLess" w="21600" h="21600">
                  <a:moveTo>
                    <a:pt x="21600" y="0"/>
                  </a:moveTo>
                  <a:arcTo wR="21600" hR="7631" stAng="-5400000" swAng="-5400000"/>
                  <a:lnTo>
                    <a:pt x="0" y="7631"/>
                  </a:lnTo>
                  <a:arcTo wR="21600" hR="7631" stAng="10800000" swAng="-344521"/>
                  <a:lnTo>
                    <a:pt x="825" y="9720"/>
                  </a:lnTo>
                  <a:arcTo wR="21600" hR="7631" stAng="-10455479" swAng="5055479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buClr>
                  <a:srgbClr val="0000cc"/>
                </a:buClr>
                <a:buFont typeface="Citizen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666880" y="18288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itizenBold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itizenBold"/>
              </a:rPr>
              <a:t>Cada imagen debe tener un solo punto princip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38440" y="32004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itizenBold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itizenBold"/>
              </a:rPr>
              <a:t>La selección de información debe focalizar la atención sobre este pu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8440" y="48006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itizenBold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itizenBold"/>
              </a:rPr>
              <a:t>Es necesario omitir toda aquella información que el presentador puede dec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01:23:17Z</dcterms:created>
  <dc:creator>Miriam Sattolo</dc:creator>
  <dc:description/>
  <dc:language>en-US</dc:language>
  <cp:lastModifiedBy>Miriam Sattolo</cp:lastModifiedBy>
  <dcterms:modified xsi:type="dcterms:W3CDTF">2001-12-13T22:06:17Z</dcterms:modified>
  <cp:revision>24</cp:revision>
  <dc:subject/>
  <dc:title>Sin título de diapositiva</dc:title>
</cp:coreProperties>
</file>