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0A5-9C00-4E37-A74B-FC741038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F87-5D03-484B-8A5F-87131937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821-2138-44FB-B6DD-4095C756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F1D-F31C-4A27-8B8C-D0356CDF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3EB6-DE29-42CC-8A56-3AAC5C0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958-529C-49BF-85A8-337AD5FB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455D-75B0-4FF1-A0AE-D6BA860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A429-1007-4699-A72D-CCB4E4AD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964E-CB08-4AA6-801F-B6C384FB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2154-3A47-40E0-A0FC-A676AEB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4FB0-6A8F-4D75-AB41-484DAA8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57B-D6C4-475B-BA0E-A7ACE837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C440-D85D-4EA9-8507-55AAB5B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9D01-705E-44AF-BD53-AE61BAA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AB68-C6A6-4ED6-87D5-5AD5CEDB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0EEF-B2B9-4447-B9BA-CC7050E8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5C59-F029-49EA-9639-2570BCA1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78D-8EAD-47E8-9149-A95AF2BA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145-2C6F-433A-8206-7E4156E8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09E-E8F4-4F87-939F-1E72D58D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497-C158-4E1D-9BD4-0F0C9FC1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134-9140-4891-88C1-6FC6537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D5A-3D08-4F52-973C-CA123821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06B-4CB2-4CDE-989D-4592438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221D-9250-4A44-89DB-42113E46B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D38D-366F-4B01-AF43-3F287F64F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1600200"/>
            <a:ext cx="61722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41280" y="29718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743200"/>
            <a:ext cx="3657600" cy="9144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523880"/>
            <a:ext cx="15228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800">
            <a:off x="857880" y="1997640"/>
            <a:ext cx="1177920" cy="312840"/>
          </a:xfrm>
          <a:prstGeom prst="rightArrow">
            <a:avLst>
              <a:gd name="adj1" fmla="val 50000"/>
              <a:gd name="adj2" fmla="val 94131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7064280" y="1949400"/>
            <a:ext cx="1130040" cy="304560"/>
          </a:xfrm>
          <a:prstGeom prst="rightArrow">
            <a:avLst>
              <a:gd name="adj1" fmla="val 48963"/>
              <a:gd name="adj2" fmla="val 72593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508040"/>
            <a:ext cx="2438280" cy="1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7553160" y="3817800"/>
            <a:ext cx="15264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1800">
            <a:off x="6960240" y="4326480"/>
            <a:ext cx="1330560" cy="312480"/>
          </a:xfrm>
          <a:prstGeom prst="rightArrow">
            <a:avLst>
              <a:gd name="adj1" fmla="val 50000"/>
              <a:gd name="adj2" fmla="val 106452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34480" y="4401360"/>
            <a:ext cx="1226880" cy="349200"/>
          </a:xfrm>
          <a:prstGeom prst="rightArrow">
            <a:avLst>
              <a:gd name="adj1" fmla="val 42731"/>
              <a:gd name="adj2" fmla="val 72399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5267160" y="5027400"/>
            <a:ext cx="2438640" cy="16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1371600" y="5036760"/>
            <a:ext cx="229536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440000"/>
            <a:ext cx="2743200" cy="312480"/>
          </a:xfrm>
          <a:prstGeom prst="rightArrow">
            <a:avLst>
              <a:gd name="adj1" fmla="val 58333"/>
              <a:gd name="adj2" fmla="val 101606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1523880"/>
            <a:ext cx="228600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9800" y="1447920"/>
            <a:ext cx="2286000" cy="304560"/>
          </a:xfrm>
          <a:prstGeom prst="rightArrow">
            <a:avLst>
              <a:gd name="adj1" fmla="val 50000"/>
              <a:gd name="adj2" fmla="val 95909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5028840" y="4936680"/>
            <a:ext cx="2590920" cy="336600"/>
          </a:xfrm>
          <a:prstGeom prst="rightArrow">
            <a:avLst>
              <a:gd name="adj1" fmla="val 48963"/>
              <a:gd name="adj2" fmla="val 104235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447920" y="4936680"/>
            <a:ext cx="2286000" cy="352440"/>
          </a:xfrm>
          <a:prstGeom prst="rightArrow">
            <a:avLst>
              <a:gd name="adj1" fmla="val 43759"/>
              <a:gd name="adj2" fmla="val 90116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280" y="2666880"/>
            <a:ext cx="1218960" cy="1219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1608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666880"/>
            <a:ext cx="1219320" cy="1219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9973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38420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0440" y="137160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45000" y="4889520"/>
            <a:ext cx="1765080" cy="457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75240" y="48769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1:23:17Z</dcterms:created>
  <dc:creator>Miriam Sattolo</dc:creator>
  <dc:description/>
  <dc:language>en-US</dc:language>
  <cp:lastModifiedBy>Miriam Sattolo</cp:lastModifiedBy>
  <dcterms:modified xsi:type="dcterms:W3CDTF">2001-12-13T22:05:39Z</dcterms:modified>
  <cp:revision>24</cp:revision>
  <dc:subject/>
  <dc:title>Sin título de diapositiva</dc:title>
</cp:coreProperties>
</file>