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5.png" ContentType="image/png"/>
  <Override PartName="/ppt/media/image10.png" ContentType="image/png"/>
  <Override PartName="/ppt/media/image19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30.jpeg" ContentType="image/jpeg"/>
  <Override PartName="/ppt/media/image11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0.png" ContentType="image/png"/>
  <Override PartName="/ppt/media/image28.jpeg" ContentType="image/jpe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39018-684E-4441-8172-7C8AAEFC70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31783-F730-476E-B8C9-3376BFE130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724DB-3FC2-4CB5-89C5-9362AF099F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DC2FE-62EC-4196-A068-47BCFC897D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89EAF-EEE9-4EA7-B9B2-3539D8469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D3FA7-D4BB-48C2-9EA2-D7E0AC61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2E4FD-4915-4E6E-88FC-518E78D0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7AFE1-A089-47FB-AD70-EBFC1B76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7CC08-08EC-4F9F-BB28-59EF37EA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BF27C-BA9E-4B73-A96C-8BDC9856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BDA79-316D-4A1E-8E26-EAFE56DC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D7CA7-708F-4DFA-87DD-EA483B1E39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40FED-823B-4E5B-BA71-0B599712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5EC50-C134-4868-9F65-E76F8B01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B7C93-4A66-4F6A-9638-18574218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993DE-4FCA-4D30-AFA8-B9411F471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DE54C-B329-4781-A5CA-19CD8BD43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51C53-E8B1-42A2-9F2D-DACC946246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7B0B0-1349-4CAC-A962-8313EAB344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18691-FB81-418F-990C-37FE716251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8FA11-59FC-45F2-A07A-6019C31EFF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10C71-E997-4275-827B-8F3EF73A53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E373C-23E6-442E-B742-3AB6C4648D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369CC-7B63-4B7F-A061-4EE7A6C57F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143000" cy="533520"/>
          </a:xfrm>
          <a:prstGeom prst="rect">
            <a:avLst/>
          </a:prstGeom>
          <a:gradFill rotWithShape="0">
            <a:gsLst>
              <a:gs pos="0">
                <a:srgbClr val="200b5b"/>
              </a:gs>
              <a:gs pos="100000">
                <a:srgbClr val="eeb00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200400"/>
            <a:ext cx="1143000" cy="3656160"/>
          </a:xfrm>
          <a:prstGeom prst="rect">
            <a:avLst/>
          </a:prstGeom>
          <a:gradFill rotWithShape="0">
            <a:gsLst>
              <a:gs pos="0">
                <a:srgbClr val="eeb00b"/>
              </a:gs>
              <a:gs pos="100000">
                <a:srgbClr val="200b5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495360"/>
            <a:ext cx="1143000" cy="297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2833-0AD2-4742-B94A-1BFE8B9713A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143000" y="1219320"/>
            <a:ext cx="8001000" cy="0"/>
          </a:xfrm>
          <a:prstGeom prst="line">
            <a:avLst/>
          </a:prstGeom>
          <a:ln cap="sq" w="10152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533520"/>
            <a:ext cx="1160640" cy="289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1828800" cy="1628640"/>
          </a:xfrm>
          <a:prstGeom prst="rect">
            <a:avLst/>
          </a:prstGeom>
          <a:gradFill rotWithShape="0">
            <a:gsLst>
              <a:gs pos="0">
                <a:srgbClr val="200b5b"/>
              </a:gs>
              <a:gs pos="100000">
                <a:srgbClr val="eeb00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809880"/>
            <a:ext cx="1828800" cy="3046680"/>
          </a:xfrm>
          <a:prstGeom prst="rect">
            <a:avLst/>
          </a:prstGeom>
          <a:gradFill rotWithShape="0">
            <a:gsLst>
              <a:gs pos="0">
                <a:srgbClr val="eeb00b"/>
              </a:gs>
              <a:gs pos="100000">
                <a:srgbClr val="200b5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1631880"/>
            <a:ext cx="1828800" cy="2222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6FD5-E047-4FBA-B0A8-897A1DAB9EF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752480" cy="1981440"/>
          </a:xfrm>
          <a:prstGeom prst="rect">
            <a:avLst/>
          </a:pr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1828800" cy="171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eb00b"/>
                </a:solidFill>
                <a:latin typeface="Tahoma"/>
              </a:rPr>
              <a:t>Introdução à Computação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HISTÓRICO - EVOLUÇÃO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Tahoma"/>
              </a:rPr>
              <a:t>(Os primórdio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1" lang="pt-BR" sz="2000" spc="-1" strike="noStrike">
                <a:solidFill>
                  <a:srgbClr val="ffffcc"/>
                </a:solidFill>
                <a:latin typeface="Tahoma"/>
              </a:rPr>
              <a:t>Prof. Nhemias Basto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57400" y="457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Faculdade Novo Milêni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Departamento de Engenhar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4920" y="1752480"/>
            <a:ext cx="7488360" cy="4229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4600" indent="-444600"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Representação dos logaritmos de Napier em escalas de madeira, marfim ou outro material (sacerdote inglês William Oughtred - Inglaterra,1633): </a:t>
            </a:r>
            <a:r>
              <a:rPr b="1" i="1" lang="pt-BR" sz="2400" spc="-1" strike="noStrike">
                <a:solidFill>
                  <a:srgbClr val="ffff00"/>
                </a:solidFill>
                <a:latin typeface="Arial"/>
              </a:rPr>
              <a:t>círculos de proporção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444600"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444600" indent="-444600"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Círculos de proporção dão origem à </a:t>
            </a:r>
            <a:r>
              <a:rPr b="1" i="1" lang="pt-BR" sz="2400" spc="-1" strike="noStrike">
                <a:solidFill>
                  <a:srgbClr val="ffff00"/>
                </a:solidFill>
                <a:latin typeface="Arial"/>
              </a:rPr>
              <a:t>régua de cálcul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: logaritmos representados por traços e sua divisão e produto obtidos pela adição e subtração de compriment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23E0C-A2A1-4F23-8E6A-7AB1CA20D6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371600" y="6172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Arial"/>
              </a:rPr>
              <a:t>Régua de Cálculos: o primeiro computador analógico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905120" y="4343400"/>
            <a:ext cx="6575400" cy="1457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1932120" cy="2057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191120" y="2133720"/>
            <a:ext cx="4495680" cy="8125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F9C5E-742D-4DA3-8FB8-92F502DDCC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eb00b"/>
                </a:solidFill>
                <a:latin typeface="Arial"/>
              </a:rPr>
              <a:t>1790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- Os problemas surgidos durante a Revolução Francesa determinaram a necessidade de uma </a:t>
            </a:r>
            <a:r>
              <a:rPr b="1" lang="pt-BR" sz="2400" spc="-1" strike="noStrike">
                <a:solidFill>
                  <a:srgbClr val="eeb00b"/>
                </a:solidFill>
                <a:latin typeface="Arial"/>
              </a:rPr>
              <a:t>comunicação rápida, fiável e cifrável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Os irmãos Claude e Ignace Chappe desenvolvem um "aparelho" com um sistema de braços articulados que permitiam a codificação de 196 sinais diferentes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Com o aparelho começaram a construir postos de transmissão, utilizando sinais ópticos, entre Lille e Paris. Os sinais ópticos "percorriam" 230 Km em dois minutos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2A595-EE18-46E0-9314-91556D32C4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371600" y="5714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Telégrafo de Chappe e código alfanumérico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3457440" cy="37400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068AE-FD4E-405A-9CEF-762A5278EF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29492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eb00b"/>
                </a:solidFill>
                <a:latin typeface="Arial"/>
              </a:rPr>
              <a:t>Meados do século 19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- um computador não era uma máquina, mas uma pessoa, que tinha a função de fazer contas e arbitrar conflitos que envolvessem número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A aplicação do termo moderno ao computador só aconteceria a partir de 1944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O jornal inglês </a:t>
            </a:r>
            <a:r>
              <a:rPr b="0" i="1" lang="pt-BR" sz="2200" spc="-1" strike="noStrike">
                <a:solidFill>
                  <a:srgbClr val="ffffcc"/>
                </a:solidFill>
                <a:latin typeface="Arial"/>
              </a:rPr>
              <a:t>London Times</a:t>
            </a: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 publicou uma matéria sobre alguns equipamentos inteligentes que no futuro poderiam vir a substituir o esforço humano. O jornal chamou uma hipotética máquina pensante de </a:t>
            </a:r>
            <a:r>
              <a:rPr b="1" lang="pt-BR" sz="2200" spc="-1" strike="noStrike">
                <a:solidFill>
                  <a:srgbClr val="eeb00b"/>
                </a:solidFill>
                <a:latin typeface="Arial"/>
              </a:rPr>
              <a:t>COMPUTER</a:t>
            </a: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O computador sempre foi um aperfeiçoamento constante de idéias anteriore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86AB7-977E-4B4E-99A8-2F2F502A68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95280" y="14479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1642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-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Primeiro instrumento moderno de calcular – uma somadora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(Máquina de Pascal)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–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construído por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Blaise Pascal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(físico, matemático e filósofo francês)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647720" y="3257640"/>
            <a:ext cx="1806840" cy="2270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334120" y="3276720"/>
            <a:ext cx="3087720" cy="1822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4572000" y="5334120"/>
            <a:ext cx="4267080" cy="916920"/>
          </a:xfrm>
          <a:prstGeom prst="rect">
            <a:avLst/>
          </a:prstGeom>
          <a:noFill/>
          <a:ln cap="sq" w="38160">
            <a:solidFill>
              <a:srgbClr val="fff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spositivo inteiramente mecânico, usava várias engrenagens, acionado por uma alavanca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5791320"/>
            <a:ext cx="2713320" cy="642600"/>
          </a:xfrm>
          <a:prstGeom prst="rect">
            <a:avLst/>
          </a:prstGeom>
          <a:noFill/>
          <a:ln cap="sq" w="25560">
            <a:solidFill>
              <a:srgbClr val="fff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Pascal construiu a máquina com 19 ano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47C70-DC9D-4666-8989-9D7EEED193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47920" y="1447920"/>
            <a:ext cx="7696080" cy="3657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000" rIns="90000" tIns="46800" bIns="46800" anchor="t">
            <a:normAutofit/>
          </a:bodyPr>
          <a:p>
            <a:pPr marL="444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áquina de Pasc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44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444600" indent="-444600"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Máquina com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rodas dentadas, cada uma contendo algarismos d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a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3176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  <a:p>
            <a:pPr marL="444600" indent="-444600"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Permitia somar até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parcelas de cada vez, desde que o total não ultrapassass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999 999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097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  <a:p>
            <a:pPr marL="444600" indent="-444600"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A multiplicação era feita a partir de somas 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26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x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16,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era feita somando-s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vezes o número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26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352680" y="5054760"/>
            <a:ext cx="3429000" cy="1650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46D2A-EA1F-4732-A352-87D46525E4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371600" y="16765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b00b"/>
                </a:solidFill>
                <a:latin typeface="Arial"/>
              </a:rPr>
              <a:t>Máquina de Pascal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ida útil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quase 200 anos e foi sendo aperfeiçoada por diversos inventore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imite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- a entrada de dados dependia da eficiência da pessoa que estivesse batendo os números em suas tecla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FD185-F3C2-4A53-9F1B-175590506F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410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1671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- Gottfried Wilhelm Leibnitz (filósofo e um dos formuladores do cálculo integral) projetou a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primeira máquina de multiplicação e divisão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, além de soma e subtração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002120" y="3619440"/>
            <a:ext cx="4417920" cy="1895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447920" y="3657600"/>
            <a:ext cx="1871640" cy="2286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85" name=""/>
          <p:cNvSpPr/>
          <p:nvPr/>
        </p:nvSpPr>
        <p:spPr>
          <a:xfrm>
            <a:off x="3954600" y="5734080"/>
            <a:ext cx="4541760" cy="642600"/>
          </a:xfrm>
          <a:prstGeom prst="rect">
            <a:avLst/>
          </a:prstGeom>
          <a:noFill/>
          <a:ln cap="sq" w="25560">
            <a:solidFill>
              <a:srgbClr val="fff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Equivalente às calculadoras de bolso que efetuam as quatro operaçõ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9847B-7CDF-4615-826D-3D080553DF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371600" y="14479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eb00b"/>
                </a:solidFill>
                <a:latin typeface="Arial"/>
              </a:rPr>
              <a:t>1802 - Jacquard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desenvolveu os cartões-perfurados para entrada de dad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495680" y="2819520"/>
            <a:ext cx="4038840" cy="2566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371600" y="4572000"/>
            <a:ext cx="2514600" cy="1743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1905120" y="2438280"/>
            <a:ext cx="1288800" cy="18748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C2926-6F07-4D16-A7D4-ECDE58FD1F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133360" y="1371600"/>
            <a:ext cx="7010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Primeira forma de cálcul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O Ábac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Bastões de Napi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Régua de Cálcul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Telégrafo de Chapp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Máquina de Pasc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Máquina de Leibnitz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Cartões de Jacquar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Máquina Diferencial/ Analític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Código Mor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Álgebra de Boo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Máquina de Tabulação de Dad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-914760" y="3733560"/>
            <a:ext cx="5181840" cy="762120"/>
          </a:xfrm>
          <a:custGeom>
            <a:avLst/>
            <a:gdLst>
              <a:gd name="textAreaLeft" fmla="*/ 809640 w 5181840"/>
              <a:gd name="textAreaRight" fmla="*/ 4534200 w 5181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df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A9516-44B0-4CB0-A740-C45966DE8C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5029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eb00b"/>
                </a:solidFill>
                <a:latin typeface="Arial"/>
              </a:rPr>
              <a:t>1818 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- o francês Charles Xavier Thomas de Colmar inventou um </a:t>
            </a:r>
            <a:r>
              <a:rPr b="1" lang="pt-BR" sz="2400" spc="-1" strike="noStrike">
                <a:solidFill>
                  <a:srgbClr val="eeb00b"/>
                </a:solidFill>
                <a:latin typeface="Arial"/>
              </a:rPr>
              <a:t>calculador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que permitia efetuar cálculos complexos, por pessoas pouco experientes, num intervalo de tempo reduzido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Baseada na Máquina de Pascal e os aperfeiçoamentos de  Leibnitz, podia efetuar as 4 operações aritméticas: adição, subtracção, multiplicação e divisão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248520" y="2971800"/>
            <a:ext cx="2590560" cy="1413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6705720" y="4572000"/>
            <a:ext cx="1981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Arithmométre de Thomas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9125F-2E39-4B03-B534-40B0993795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3716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eb00b"/>
                </a:solidFill>
                <a:latin typeface="Arial"/>
              </a:rPr>
              <a:t>1822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-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Charles Babbage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(matemático) inventa a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Máquina Diferencial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, utilizando os cartões de Jacquard. Funções trigonométricas e logaritmos eram calculados na máquina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410080" y="3124080"/>
            <a:ext cx="2801880" cy="2898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173320" y="3276720"/>
            <a:ext cx="2398680" cy="2590560"/>
          </a:xfrm>
          <a:prstGeom prst="rect">
            <a:avLst/>
          </a:prstGeom>
          <a:ln w="25560">
            <a:solidFill>
              <a:srgbClr val="200b5b"/>
            </a:solidFill>
            <a:miter/>
          </a:ln>
        </p:spPr>
      </p:pic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6313320"/>
            <a:ext cx="3867120" cy="368280"/>
          </a:xfrm>
          <a:prstGeom prst="rect">
            <a:avLst/>
          </a:prstGeom>
          <a:noFill/>
          <a:ln cap="sq" w="25560">
            <a:solidFill>
              <a:srgbClr val="fff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Outra invenção -  Velocímetr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FDC13-B102-4B4D-B670-121E262585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1523520"/>
            <a:ext cx="7238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áquina Diferenci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dealizada para construir tabelas de números para navegação nava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43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struída para executar um único algoritmo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– método das diferenças finitas usando polinômios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43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étodo para disponibilizar informações na saída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resultados perfurados em um prato de cobre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E8D82-5E9C-4A42-9878-CB6DB0F429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197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1834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– Babbage inventou a precursora dos computadores digitais de hoje, a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Máquina Analítica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c5"/>
                </a:solidFill>
                <a:latin typeface="Arial"/>
              </a:rPr>
              <a:t>Usava a base 10, máquina “mecânica”, trabalhava a vapor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Programação seqüencial de operações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, um procedimento que hoje chamamos de sistema operaciona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Por seu trabalho na máquina analítica, Babbage  é considerado um dos pioneiros dos computadores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6338880"/>
            <a:ext cx="735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i="1" lang="pt-PT" sz="2000" spc="-1" strike="noStrike">
                <a:solidFill>
                  <a:srgbClr val="ffff66"/>
                </a:solidFill>
                <a:latin typeface="Arial"/>
              </a:rPr>
              <a:t>As máquinas de Babbage nunca foram construídas…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AEDE6-1B2C-41B4-88DE-35C67B1361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Máquina Analítica de Babbage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-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Anteviu os passos que até hoje são a base do funcionamento de um computador, possuindo 4 componentes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Unidade de entrada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 - alimentação de dados, através de cartões perfurados;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Unidade de saída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 – saída impressa e perfurada em cartões;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Unidade de memória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 – 1000 palavras de 50 dígitos DECIMAIS, capaz de armazenar variáveis e resultados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Unidade de computação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 – aceitava operandos da memória, operações – soma, subtração, multiplicação e divisão (somava dois desses números em 1 s) e enviava o resultado para a memória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47920" y="6099120"/>
            <a:ext cx="7238880" cy="824040"/>
          </a:xfrm>
          <a:prstGeom prst="rect">
            <a:avLst/>
          </a:prstGeom>
          <a:noFill/>
          <a:ln cap="sq" w="25560">
            <a:solidFill>
              <a:srgbClr val="fff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Termos originais dos 4 componentes:                                                          </a:t>
            </a: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i="1" lang="pt-BR" sz="1600" spc="-1" strike="noStrike">
                <a:solidFill>
                  <a:srgbClr val="ffff66"/>
                </a:solidFill>
                <a:latin typeface="Arial"/>
              </a:rPr>
              <a:t>store</a:t>
            </a: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1" i="1" lang="pt-BR" sz="1600" spc="-1" strike="noStrike">
                <a:solidFill>
                  <a:srgbClr val="ffff66"/>
                </a:solidFill>
                <a:latin typeface="Arial"/>
              </a:rPr>
              <a:t> mill</a:t>
            </a: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i="1" lang="pt-BR" sz="1600" spc="-1" strike="noStrike">
                <a:solidFill>
                  <a:srgbClr val="ffff66"/>
                </a:solidFill>
                <a:latin typeface="Arial"/>
              </a:rPr>
              <a:t>input section</a:t>
            </a: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 e </a:t>
            </a:r>
            <a:r>
              <a:rPr b="1" i="1" lang="pt-BR" sz="1600" spc="-1" strike="noStrike">
                <a:solidFill>
                  <a:srgbClr val="ffff66"/>
                </a:solidFill>
                <a:latin typeface="Arial"/>
              </a:rPr>
              <a:t>output section</a:t>
            </a: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FCDF1-E348-4FE5-9ABB-6C6BFAC20E7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629400" y="1600200"/>
            <a:ext cx="2057400" cy="32115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6477120" y="4952880"/>
            <a:ext cx="2666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b00b"/>
                </a:solidFill>
                <a:latin typeface="Arial"/>
              </a:rPr>
              <a:t>O primeiro "homem" a programar um </a:t>
            </a:r>
            <a:br>
              <a:rPr sz="2000"/>
            </a:br>
            <a:r>
              <a:rPr b="1" lang="en-US" sz="2000" spc="-1" strike="noStrike">
                <a:solidFill>
                  <a:srgbClr val="eeb00b"/>
                </a:solidFill>
                <a:latin typeface="Arial"/>
              </a:rPr>
              <a:t>computador foi uma mulher!!!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5105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00"/>
                </a:solidFill>
                <a:latin typeface="Arial"/>
                <a:ea typeface="Arial"/>
              </a:rPr>
              <a:t>Máquina Analítica</a:t>
            </a:r>
            <a:r>
              <a:rPr b="0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 -  programável  em linguagem de montagem simples </a:t>
            </a:r>
            <a:r>
              <a:rPr b="0" lang="pt-BR" sz="22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 software. 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00"/>
                </a:solidFill>
                <a:latin typeface="Arial"/>
                <a:ea typeface="Arial"/>
              </a:rPr>
              <a:t>Ada Byron King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0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(Matemática), compreendeu o funcionamento da Máquina Analítica e escreveu os melhores relatos sobre o processo. 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Companheira de Babbage, iniciou o ambicioso projeto de construção da Máquina Analítica. 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Criou programas para a máquina - </a:t>
            </a:r>
            <a:r>
              <a:rPr b="1" lang="pt-BR" sz="2200" spc="-1" strike="noStrike">
                <a:solidFill>
                  <a:srgbClr val="ffff00"/>
                </a:solidFill>
                <a:latin typeface="Arial"/>
                <a:ea typeface="Arial"/>
              </a:rPr>
              <a:t>primeira programadora de computador</a:t>
            </a:r>
            <a:r>
              <a:rPr b="0" lang="pt-BR" sz="22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É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  <a:ea typeface="Arial"/>
              </a:rPr>
              <a:t> uma das poucas mulheres a figurar na história do processamento de dados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199C5-EACE-47BF-82DD-BBAFC9E3219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295280" y="160020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abbage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Ada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estavam muito além do seu tempo e não conseguiram financiamento para construir o seu Computador Analítico, que ficou apenas como uma belíssima idéia no papel 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le nunca foi concluído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"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le não tem pretensões de originar nada, mas pode processar qualquer coisa que nós soubermos programá-lo para realizar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."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- Ada Augusta Byron, falando sobre o Engenho Analítico de Babbage, precursor dos modernos computadores (Londres, cerca de 1830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99A46-D310-4549-AE79-E59C5E20A43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95280" y="140976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 máquina de Babbage não foi construída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a tecnologia da época era incapaz de fornecer a precisão necessária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Babbage não dispunha de recursos para financiá-la, nem encontrou investidores dispostos a ir além de algumas doações. 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eus projetos e idéias foram a base para outros projetos anos adiante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477120" y="4395960"/>
            <a:ext cx="2097000" cy="2233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17" name=""/>
          <p:cNvSpPr/>
          <p:nvPr/>
        </p:nvSpPr>
        <p:spPr>
          <a:xfrm>
            <a:off x="1523880" y="4876920"/>
            <a:ext cx="4400640" cy="1191240"/>
          </a:xfrm>
          <a:prstGeom prst="rect">
            <a:avLst/>
          </a:prstGeom>
          <a:noFill/>
          <a:ln cap="sq" w="3816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Em 1991, o Science Museum de Londres desenvolveu o Engenho Diferencial utilizando os planos de Babbage e funcionou perfeitamente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3C522-66A3-4685-B6BB-7E8A15EB4D9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218960" y="14479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eb00b"/>
                </a:solidFill>
                <a:latin typeface="Arial"/>
              </a:rPr>
              <a:t>1837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- Samuel F. B. Morse iniciou o desenvolvimento de um sistema telegráfico que utilizasse a energia elétrica para transmitir sinais à distância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O </a:t>
            </a:r>
            <a:r>
              <a:rPr b="1" lang="pt-BR" sz="2400" spc="-1" strike="noStrike">
                <a:solidFill>
                  <a:srgbClr val="eeb00b"/>
                </a:solidFill>
                <a:latin typeface="Arial"/>
              </a:rPr>
              <a:t>código Morse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continua a ser utilizado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Ficou célebre a mensagem enviada pelo operador telegráfico do Titanic antes do seu afundamento: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Arial"/>
              </a:rPr>
              <a:t>... --- ... SOS - Save Our Souls (salvai as nossas almas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429000" y="2743200"/>
            <a:ext cx="3352680" cy="1803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7E94B-4B38-410C-A7B1-F2C5D86796D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505560" y="4648320"/>
            <a:ext cx="1695600" cy="2057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1549440"/>
            <a:ext cx="7507440" cy="3022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413280" indent="-4132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Concepção dos fundamentos lógicos para a criação de programas: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ffff00"/>
                </a:solidFill>
                <a:latin typeface="Arial"/>
              </a:rPr>
              <a:t>lógica matemática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/ </a:t>
            </a:r>
            <a:r>
              <a:rPr b="1" i="1" lang="pt-BR" sz="2400" spc="-1" strike="noStrike">
                <a:solidFill>
                  <a:srgbClr val="ffff00"/>
                </a:solidFill>
                <a:latin typeface="Arial"/>
              </a:rPr>
              <a:t>álgebra booleana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(matemático George Boole, Inglaterra,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1854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4132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413280" indent="-4132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stabelecimento de uma forma de armazenamento e processamento de dados utilizando relações binárias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: </a:t>
            </a:r>
            <a:r>
              <a:rPr b="1" i="1" lang="pt-BR" sz="2400" spc="-1" strike="noStrike">
                <a:solidFill>
                  <a:srgbClr val="ffff00"/>
                </a:solidFill>
                <a:latin typeface="Arial"/>
              </a:rPr>
              <a:t>As leis do pensamento</a:t>
            </a:r>
            <a:r>
              <a:rPr b="0" i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(matemático George Boole, Inglaterra,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1854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47827-5D01-428E-BDC0-3A15A9BE31E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47800" y="5791320"/>
            <a:ext cx="5029200" cy="5331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Primeiro ser humano a CALCULAR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: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pas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Técnica utilizada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: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empilhamento de pedras para controlar a quantidade de ovelhas de seu rebanho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ff"/>
                </a:solidFill>
                <a:latin typeface="Arial"/>
              </a:rPr>
              <a:t>Calculus </a:t>
            </a: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i="1" lang="pt-BR" sz="2800" spc="-1" strike="noStrike">
                <a:solidFill>
                  <a:srgbClr val="ffff00"/>
                </a:solidFill>
                <a:latin typeface="Arial"/>
              </a:rPr>
              <a:t>lat.</a:t>
            </a:r>
            <a:r>
              <a:rPr b="0" i="1" lang="pt-BR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pt-BR" sz="2800" spc="-1" strike="noStrike">
                <a:solidFill>
                  <a:srgbClr val="0000ff"/>
                </a:solidFill>
                <a:latin typeface="Arial"/>
              </a:rPr>
              <a:t>Pedr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90920" y="3714840"/>
            <a:ext cx="5790960" cy="1371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72C62-2EB4-4394-9CF3-EC3EE0FC45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400800" y="1523880"/>
            <a:ext cx="1697040" cy="2057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867280" y="3871800"/>
            <a:ext cx="2968920" cy="2694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4647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1890 - Herman Hollerith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Cartões de Jacquard + conceito de impulsos elétricos para transmissão de dados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(conversão de dados em impulsos magnéticos nos cartões perfurados)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536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Construção de um tabulador que utiliza os cartões e torna mais rápido o processamento de estatísticas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49ED9-AA47-4AEC-A4AE-40437D084A5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eb00b"/>
                </a:solidFill>
                <a:latin typeface="Arial"/>
              </a:rPr>
              <a:t>1890 - Herman Hollerith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Sistema  reconhecido no recenseamento americano de 1890. Eliminou  o trabalho braçal de tabular os milhões de dados que coletado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Os resultados ficaram prontos em um tempo muito menor que normalmente levaria, gerando enorme economia (redução de 8 para 3 anos). 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Em 1896, Hollerith fundou a "Tabulating Machine Company" para explorar suas invenções. 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Sua empresa acaba sendo bem sucedida depois de seu computador mecânico vencer uma concorrência do governo Americano e em </a:t>
            </a:r>
            <a:r>
              <a:rPr b="1" lang="pt-BR" sz="2200" spc="-1" strike="noStrike">
                <a:solidFill>
                  <a:srgbClr val="eeb00b"/>
                </a:solidFill>
                <a:latin typeface="Arial"/>
              </a:rPr>
              <a:t>1924</a:t>
            </a: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 torna-se a </a:t>
            </a:r>
            <a:r>
              <a:rPr b="1" lang="pt-BR" sz="2200" spc="-1" strike="noStrike">
                <a:solidFill>
                  <a:srgbClr val="eeb00b"/>
                </a:solidFill>
                <a:latin typeface="Arial"/>
              </a:rPr>
              <a:t>International Business Machines Corp</a:t>
            </a: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. (</a:t>
            </a:r>
            <a:r>
              <a:rPr b="1" lang="pt-BR" sz="2200" spc="-1" strike="noStrike">
                <a:solidFill>
                  <a:srgbClr val="eeb00b"/>
                </a:solidFill>
                <a:latin typeface="Arial"/>
              </a:rPr>
              <a:t>IBM</a:t>
            </a:r>
            <a:r>
              <a:rPr b="0" lang="pt-BR" sz="2200" spc="-1" strike="noStrike">
                <a:solidFill>
                  <a:srgbClr val="ffffcc"/>
                </a:solidFill>
                <a:latin typeface="Arial"/>
              </a:rPr>
              <a:t>). 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69773-17CA-4A0B-A7A0-8A4BF4CFAEE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523520" y="167652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Próximos passo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99"/>
                </a:solidFill>
                <a:latin typeface="Arial"/>
              </a:rPr>
              <a:t>Tentativas de substituir as partes mecânicas dos “computadores” por partes elétrica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9B1A9-7B09-4AE7-A7A4-BC85B073F44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666880" y="5486400"/>
            <a:ext cx="5029200" cy="609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294920" y="167616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Primeira maneira que os seres humanos encontraram para mostrar a que quantidade estavam se referindo: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eeb00b"/>
                </a:solidFill>
                <a:latin typeface="Arial"/>
              </a:rPr>
              <a:t>uso dos dedos da mão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ff"/>
                </a:solidFill>
                <a:latin typeface="Arial"/>
              </a:rPr>
              <a:t>Digitus </a:t>
            </a:r>
            <a:r>
              <a:rPr b="0" i="1" lang="pt-BR" sz="2800" spc="-1" strike="noStrike">
                <a:solidFill>
                  <a:srgbClr val="ffff00"/>
                </a:solidFill>
                <a:latin typeface="Arial"/>
              </a:rPr>
              <a:t>– lat.</a:t>
            </a:r>
            <a:r>
              <a:rPr b="0" i="1" lang="pt-BR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pt-BR" sz="2800" spc="-1" strike="noStrike">
                <a:solidFill>
                  <a:srgbClr val="0000ff"/>
                </a:solidFill>
                <a:latin typeface="Arial"/>
              </a:rPr>
              <a:t>ded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62320" y="3657600"/>
            <a:ext cx="5410080" cy="13525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42C5A-0C91-4E59-A54D-24372CCCC8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1295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imeira tentativa bem sucedida de criação  de uma máquina de contar: 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ábaco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(China, cerca de 2500 a.C.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5495760"/>
            <a:ext cx="5943600" cy="6764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  <a:effectLst>
            <a:outerShdw dist="45929" dir="19571123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33cc"/>
                </a:solidFill>
                <a:latin typeface="Penguin"/>
              </a:rPr>
              <a:t>Abacus</a:t>
            </a:r>
            <a:r>
              <a:rPr b="1" i="1" lang="pt-BR" sz="2800" spc="-1" strike="noStrike">
                <a:solidFill>
                  <a:srgbClr val="ff9900"/>
                </a:solidFill>
                <a:latin typeface="Times New Roman"/>
              </a:rPr>
              <a:t> – lat. </a:t>
            </a:r>
            <a:r>
              <a:rPr b="1" i="1" lang="pt-BR" sz="2800" spc="-1" strike="noStrike">
                <a:solidFill>
                  <a:srgbClr val="0000ff"/>
                </a:solidFill>
                <a:latin typeface="Arial"/>
              </a:rPr>
              <a:t>tábua de argil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94200" y="3086280"/>
            <a:ext cx="3078000" cy="19238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4311B-5A10-4650-B432-CE70067EB3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90920" y="6019920"/>
            <a:ext cx="5181480" cy="5331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294920" y="14479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b00b"/>
                </a:solidFill>
                <a:latin typeface="Arial"/>
              </a:rPr>
              <a:t>Cerca</a:t>
            </a:r>
            <a:r>
              <a:rPr b="1" lang="en-US" sz="2400" spc="-1" strike="noStrike">
                <a:solidFill>
                  <a:srgbClr val="eeb00b"/>
                </a:solidFill>
                <a:latin typeface="Arial"/>
              </a:rPr>
              <a:t> de 4 mil anos trás -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imeiro sistema científico para contar e acumular grandes quantia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– desenvolvido por mercadores da Mesopotâmia.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b00b"/>
                </a:solidFill>
                <a:latin typeface="Arial"/>
              </a:rPr>
              <a:t>Técnica utilizada: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rimeiro faziam um sulco na areia e iam colocando nele sementes secas (ou contas) até chegar a dez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pois faziam um segundo sulco, onde colocavam uma só conta – que equivalia a 10 -, esvaziavam o primeiro sulco e iam repetindo a operação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b00b"/>
                </a:solidFill>
                <a:latin typeface="Arial"/>
              </a:rPr>
              <a:t>Origem da expressão Conta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ED4CA-49D7-4D8C-B911-4EFA203DF1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71240" y="2361960"/>
            <a:ext cx="74674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s algarismos atuais, conhecidos por </a:t>
            </a:r>
            <a:r>
              <a:rPr b="1" i="1" lang="en-US" sz="2400" spc="-1" strike="noStrike">
                <a:solidFill>
                  <a:srgbClr val="eeb00b"/>
                </a:solidFill>
                <a:latin typeface="Arial"/>
              </a:rPr>
              <a:t>algarismos arábico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, tem pouco mais de mil ano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azão pela qual os algarismos arábicos se tornaram o padrão numérico mundial - </a:t>
            </a:r>
            <a:r>
              <a:rPr b="1" lang="en-US" sz="2400" spc="-1" strike="noStrike">
                <a:solidFill>
                  <a:srgbClr val="eeb00b"/>
                </a:solidFill>
                <a:latin typeface="Arial"/>
              </a:rPr>
              <a:t>poderio militar dos árabes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FFE3E-810D-4FB6-9902-C2E7F370F6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eb00b"/>
                </a:solidFill>
                <a:latin typeface="Arial"/>
              </a:rPr>
              <a:t>1614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- </a:t>
            </a:r>
            <a:r>
              <a:rPr b="1" lang="pt-BR" sz="2400" spc="-1" strike="noStrike">
                <a:solidFill>
                  <a:srgbClr val="eeb00b"/>
                </a:solidFill>
                <a:latin typeface="Arial"/>
              </a:rPr>
              <a:t>Bastões de Napier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- criados como auxílio à multiplicação (matemático John Napier, inventor dos logaritmos)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Os bastões de Napier eram um conjunto de 9 bastões, um para cada dígito, que transformavam a multiplicação de dois números numa soma das tabuadas de cada dígito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019920" y="4114800"/>
            <a:ext cx="2012760" cy="2438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69E15-6807-484D-974A-4BAA8373E1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b00b"/>
                </a:solidFill>
                <a:latin typeface="Tahoma"/>
              </a:rPr>
              <a:t>Histórico - Evolução (Primórdios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5345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Simulação da multiplicação de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por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384 </a:t>
            </a: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com Bastões de Napi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320840" y="2184480"/>
          <a:ext cx="457200" cy="414936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Penguin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2552760" y="5894280"/>
            <a:ext cx="492120" cy="441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24000">
                <a:solidFill>
                  <a:srgbClr val="990000"/>
                </a:solidFill>
                <a:latin typeface="Penguin"/>
              </a:rPr>
              <a:t>2</a:t>
            </a:r>
            <a:r>
              <a:rPr b="1" lang="en-US" sz="2000" spc="-1" strike="noStrike" baseline="-25000">
                <a:solidFill>
                  <a:srgbClr val="990000"/>
                </a:solidFill>
                <a:latin typeface="Penguin"/>
              </a:rPr>
              <a:t>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52760" y="5451480"/>
            <a:ext cx="492120" cy="442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24000">
                <a:solidFill>
                  <a:srgbClr val="990000"/>
                </a:solidFill>
                <a:latin typeface="Penguin"/>
              </a:rPr>
              <a:t>2</a:t>
            </a:r>
            <a:r>
              <a:rPr b="1" lang="en-US" sz="2000" spc="-1" strike="noStrike" baseline="-25000">
                <a:solidFill>
                  <a:srgbClr val="990000"/>
                </a:solidFill>
                <a:latin typeface="Penguin"/>
              </a:rPr>
              <a:t>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52760" y="5011560"/>
            <a:ext cx="492120" cy="439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24000">
                <a:solidFill>
                  <a:srgbClr val="990000"/>
                </a:solidFill>
                <a:latin typeface="Penguin"/>
              </a:rPr>
              <a:t>2</a:t>
            </a:r>
            <a:r>
              <a:rPr b="1" lang="en-US" sz="2000" spc="-1" strike="noStrike" baseline="-25000">
                <a:solidFill>
                  <a:srgbClr val="990000"/>
                </a:solidFill>
                <a:latin typeface="Penguin"/>
              </a:rPr>
              <a:t>1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52760" y="4554360"/>
            <a:ext cx="49212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24000">
                <a:solidFill>
                  <a:srgbClr val="990000"/>
                </a:solidFill>
                <a:latin typeface="Penguin"/>
              </a:rPr>
              <a:t>1</a:t>
            </a:r>
            <a:r>
              <a:rPr b="1" lang="en-US" sz="2000" spc="-1" strike="noStrike" baseline="-25000">
                <a:solidFill>
                  <a:srgbClr val="990000"/>
                </a:solidFill>
                <a:latin typeface="Penguin"/>
              </a:rPr>
              <a:t>8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71840" y="4111560"/>
            <a:ext cx="473040" cy="461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24000">
                <a:solidFill>
                  <a:srgbClr val="990000"/>
                </a:solidFill>
                <a:latin typeface="Penguin"/>
              </a:rPr>
              <a:t>1</a:t>
            </a:r>
            <a:r>
              <a:rPr b="1" lang="en-US" sz="2000" spc="-1" strike="noStrike" baseline="-25000">
                <a:solidFill>
                  <a:srgbClr val="990000"/>
                </a:solidFill>
                <a:latin typeface="Penguin"/>
              </a:rPr>
              <a:t>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52760" y="3670200"/>
            <a:ext cx="492120" cy="441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24000">
                <a:solidFill>
                  <a:srgbClr val="990000"/>
                </a:solidFill>
                <a:latin typeface="Penguin"/>
              </a:rPr>
              <a:t>1</a:t>
            </a:r>
            <a:r>
              <a:rPr b="1" lang="en-US" sz="2000" spc="-1" strike="noStrike" baseline="-25000">
                <a:solidFill>
                  <a:srgbClr val="990000"/>
                </a:solidFill>
                <a:latin typeface="Penguin"/>
              </a:rPr>
              <a:t>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52760" y="3228840"/>
            <a:ext cx="492120" cy="441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990000"/>
                </a:solidFill>
                <a:latin typeface="Penguin"/>
              </a:rPr>
              <a:t>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52760" y="2787480"/>
            <a:ext cx="492120" cy="441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-25000">
                <a:solidFill>
                  <a:srgbClr val="990000"/>
                </a:solidFill>
                <a:latin typeface="Penguin"/>
              </a:rPr>
              <a:t>6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52760" y="2184480"/>
            <a:ext cx="492120" cy="60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Penguin"/>
              </a:rPr>
              <a:t>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52760" y="2184480"/>
            <a:ext cx="492120" cy="0"/>
          </a:xfrm>
          <a:prstGeom prst="line">
            <a:avLst/>
          </a:prstGeom>
          <a:ln cap="sq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52760" y="2787480"/>
            <a:ext cx="492120" cy="0"/>
          </a:xfrm>
          <a:prstGeom prst="line">
            <a:avLst/>
          </a:prstGeom>
          <a:ln cap="sq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52760" y="3228840"/>
            <a:ext cx="49212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52760" y="3670200"/>
            <a:ext cx="49212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52760" y="4111560"/>
            <a:ext cx="49212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52760" y="4554360"/>
            <a:ext cx="49212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52760" y="5011560"/>
            <a:ext cx="49212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52760" y="5451480"/>
            <a:ext cx="49212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52760" y="5894280"/>
            <a:ext cx="49212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52760" y="6335640"/>
            <a:ext cx="492120" cy="0"/>
          </a:xfrm>
          <a:prstGeom prst="line">
            <a:avLst/>
          </a:prstGeom>
          <a:ln cap="sq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552760" y="2787480"/>
            <a:ext cx="492120" cy="441360"/>
          </a:xfrm>
          <a:prstGeom prst="line">
            <a:avLst/>
          </a:prstGeom>
          <a:ln cap="rnd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552760" y="3228840"/>
            <a:ext cx="492120" cy="441360"/>
          </a:xfrm>
          <a:prstGeom prst="line">
            <a:avLst/>
          </a:prstGeom>
          <a:ln cap="rnd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552760" y="3670200"/>
            <a:ext cx="492120" cy="441360"/>
          </a:xfrm>
          <a:prstGeom prst="line">
            <a:avLst/>
          </a:prstGeom>
          <a:ln cap="rnd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552760" y="4111560"/>
            <a:ext cx="492120" cy="442800"/>
          </a:xfrm>
          <a:prstGeom prst="line">
            <a:avLst/>
          </a:prstGeom>
          <a:ln cap="rnd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552760" y="4554360"/>
            <a:ext cx="492120" cy="457200"/>
          </a:xfrm>
          <a:prstGeom prst="line">
            <a:avLst/>
          </a:prstGeom>
          <a:ln cap="rnd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552760" y="5011560"/>
            <a:ext cx="492120" cy="439920"/>
          </a:xfrm>
          <a:prstGeom prst="line">
            <a:avLst/>
          </a:prstGeom>
          <a:ln cap="rnd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552760" y="5451480"/>
            <a:ext cx="492120" cy="442800"/>
          </a:xfrm>
          <a:prstGeom prst="line">
            <a:avLst/>
          </a:prstGeom>
          <a:ln cap="rnd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552760" y="5894280"/>
            <a:ext cx="492120" cy="441360"/>
          </a:xfrm>
          <a:prstGeom prst="line">
            <a:avLst/>
          </a:prstGeom>
          <a:ln cap="rnd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52760" y="2184480"/>
            <a:ext cx="0" cy="4151160"/>
          </a:xfrm>
          <a:prstGeom prst="line">
            <a:avLst/>
          </a:prstGeom>
          <a:ln cap="sq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4880" y="2184480"/>
            <a:ext cx="0" cy="4151160"/>
          </a:xfrm>
          <a:prstGeom prst="line">
            <a:avLst/>
          </a:prstGeom>
          <a:ln cap="sq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727440" y="2185920"/>
          <a:ext cx="507960" cy="414972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Pengui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1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2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3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4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4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5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6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7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923000" y="2190600"/>
          <a:ext cx="496800" cy="4146480"/>
        </p:xfrm>
        <a:graphic>
          <a:graphicData uri="http://schemas.openxmlformats.org/drawingml/2006/table">
            <a:tbl>
              <a:tblPr/>
              <a:tblGrid>
                <a:gridCol w="496800"/>
              </a:tblGrid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Pengui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1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1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2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2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2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3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24000">
                          <a:solidFill>
                            <a:srgbClr val="990000"/>
                          </a:solidFill>
                          <a:latin typeface="Penguin"/>
                        </a:rPr>
                        <a:t>3</a:t>
                      </a:r>
                      <a:r>
                        <a:rPr b="1" lang="en-US" sz="2000" spc="-1" strike="noStrike" baseline="-25000">
                          <a:solidFill>
                            <a:srgbClr val="990000"/>
                          </a:solidFill>
                          <a:latin typeface="Penguin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1955880" y="5794200"/>
            <a:ext cx="444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Penguin"/>
              </a:rPr>
              <a:t>x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111480" y="5987520"/>
            <a:ext cx="584280" cy="101880"/>
          </a:xfrm>
          <a:prstGeom prst="line">
            <a:avLst/>
          </a:prstGeom>
          <a:ln cap="sq" w="28440">
            <a:solidFill>
              <a:srgbClr val="ffffcc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281480" y="5987520"/>
            <a:ext cx="584280" cy="101880"/>
          </a:xfrm>
          <a:prstGeom prst="line">
            <a:avLst/>
          </a:prstGeom>
          <a:ln cap="sq" w="28440">
            <a:solidFill>
              <a:srgbClr val="ffffcc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00800" y="5794200"/>
            <a:ext cx="444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Penguin"/>
              </a:rPr>
              <a:t>=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08840" y="5727600"/>
            <a:ext cx="1473120" cy="622440"/>
          </a:xfrm>
          <a:prstGeom prst="rect">
            <a:avLst/>
          </a:prstGeom>
          <a:solidFill>
            <a:srgbClr val="ffffcc"/>
          </a:solidFill>
          <a:ln cap="sq"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enguin"/>
              </a:rPr>
              <a:t>3.456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891040" y="2754360"/>
            <a:ext cx="2948040" cy="1957320"/>
          </a:xfrm>
          <a:prstGeom prst="rect">
            <a:avLst/>
          </a:prstGeom>
          <a:ln w="0">
            <a:noFill/>
          </a:ln>
          <a:effectLst>
            <a:outerShdw dist="63504" dir="19383909" blurRad="0" rotWithShape="0">
              <a:srgbClr val="b2b2b2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76371-E2F7-43FE-9BB2-8FA5614B81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/DSC/UFCG</dc:creator>
  <dc:description/>
  <dc:language>en-US</dc:language>
  <cp:lastModifiedBy>*</cp:lastModifiedBy>
  <dcterms:modified xsi:type="dcterms:W3CDTF">2006-04-08T15:59:01Z</dcterms:modified>
  <cp:revision>206</cp:revision>
  <dc:subject/>
  <dc:title>Introdução à Computação</dc:title>
</cp:coreProperties>
</file>