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BC1D-4851-47E4-B079-70A665CC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D3B4D-CD33-4F52-BC44-F9A61AC7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4E742-BD31-4BD9-A68A-1BC6799C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883B-5859-4291-87AD-43CC1B1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DA8D-2407-481D-86BF-A388A6F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E6C96-87B8-459C-BB9C-8806EE2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4BD4C-15DE-46A3-AD1E-4C7F596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CEB5B-212D-4380-96A1-1C99B73D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D3C1-7D4F-48EF-AE5E-22F554F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8F599-EBC5-4940-9276-C425A01C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17D6F-5739-461F-A74C-E7B1330D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BD9B9-B29D-4535-9DFE-AE98A0F7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A1B7-1557-4CBA-9968-54CAFB8A272B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760" y="1522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Sistemas Oper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8CD-3E08-41FD-B11F-979E25C9CCB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I Sistemas Operac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Escalonador de Processos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ível mais baixo do S. 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função do escalonador de processos é decidir qual processo vai rodar e por quanto t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modelo probabilístico afirma que os processos gastam 80 % do seu tempo esperando por E/S. Assim o escalonador tem que gerenciar os processos de forma a o processador não ficar pa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erência d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trabalho do gerente de memória é controlar quais partes da memória estão em uso e quais não estão, alocar memória a processos quando estes precisarem, liberar memória que está sendo ocupada por um processo que terminou, e trata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w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muito importante pois a memória é essencial ao computador e é cara. Se o acesso for eficiente o sistema como um todo fica 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WAP e paginação são artifícios utilizados quando há falta de memó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WAPPING - É o movimento de processos entre a memória e o disco, uma vez que a memória não foi suficiente para guardar todos os processos em andamento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ência de Entrada/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das principais funções do S. O. é controlar todos os dispositivos de entrada/saída (E/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0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pooling é uma forma de se tratar com dispositivos dedicados que fazem parte de um sistema multiprogramado. Permite que vários processos possam  usar o mesmo dispositivo de E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Ex : Impressão num sistema multiprogramado. Coloca os arquivos de impressão em uma fila de esper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iciando o Sistema Operacional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(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- Procedimento de carregar um sistema operacional na memória principal RAM, executado por um pequeno programa contido na memória ROM, que instrui o microprocessador sobre como proceder para localizar o sistema operacional no disco e carregá-lo na memóri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 um sistema oper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133720"/>
            <a:ext cx="6934320" cy="2340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oper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programa que age como um intermediário entr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uári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 computador. Seu propósito é prover um ambiente onde o usuário possa executar programas de for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ven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erating System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4572000"/>
            <a:ext cx="733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SO (sistema operacional) por si próprio não faz nenhuma tarefa útil. Ele somente provê o ambiente para que outros programas façam seu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 pode ser visto como u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ocador e administrador de recurs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4 os componentes de um sistema comput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91120" y="1905120"/>
          <a:ext cx="450684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05120"/>
                    <a:ext cx="45068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990720" y="4952880"/>
            <a:ext cx="3581280" cy="14598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S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As funções centrais de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.O. são controladas pelo 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Shell -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terface com o usuário é controlada pelo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lvez seja mais fácil entender um SO vendo melhor suas fun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incipais funçõe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cionar uma interface para o usuário se comunicar com 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os dispositivos de hardware d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e manter o sistema de arquivos em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r suporte a outr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– Interface com 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 é o programa responsável pela interação direta com o usuário para que este execute os a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2 tipos básicos de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em linha de comando: Os programas e comandos são acessados através de palavras ou símbolos teclados no compu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gráfica: As ações são selecionadas usando o mouse ou semelhante para dar ‘cliques’ em ícones ou em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– Gerenciar 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gerencia como o hardware é u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ecutamos programas estes precisam usar os recursos de hardware do computador (acessar a memória, monitor, unidades de disco, ...). O controle e gerenciamento do uso destes recursos é feito pel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serve de intermediário entre os programas e o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2670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49760" y="4267080"/>
            <a:ext cx="98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9528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920" y="4952880"/>
            <a:ext cx="98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0240" y="5638680"/>
            <a:ext cx="1123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S.O. 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6324480"/>
            <a:ext cx="10540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79920" y="6324480"/>
            <a:ext cx="10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04000" y="5943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572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telas de Programa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9280" y="47242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5257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Progra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Chamadas ao S.O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99120" y="541008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istemas Operacionais - Fun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renciando o Sistema de Arqu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agrupa os dados e a esses dados chamamos Arquivos. Os computadores armazenam as informações em Arqu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mantém a lista de arquivos contidos em um disco (H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há centenas de arquivos em um disco, pode-se levar tempo para encontrar um arquivo desejado. Para evitar esta perda de tempo, o S.O. oferece uma maneira para organizar seus arquivos em grupos menores e mais lógicos (Diretórios e Sub-diretóri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- Apoio a Programas - Oferecer serviços a outr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viços oferecidos pelo S.O. : Salvar arquivos em disco; Ler arquivos do disco; Verificar o espaço disponível no disco ou na memória; Ler toques de teclas do teclado e exibir caracteres ou gráficos na tela;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programadores incluem nos programas instruções que solicitam esses serviços ao S.O. “Chamadas ao S.O.. O resultado das chamadas é enviado para o programa que solicitou o serviç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07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tegorias de Sistemas Operaciona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tarefas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Operacionais capazes de rodar mais de u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usuários - Permite que mais de um usuário acesse o mesm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utador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ravés de modem, Ligação de terminais ao micro (teclado e monitor ligado com um fio de telefone, Rede, Ex.: Unix (ún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processadores -  usar um computador com mais de uma CPU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dade de usar e gerenciar uma série de CPU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 - Process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 - Um processo é basicamente um programa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programação - O chaveamento do processador entre diversos programas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processo possui um programa, uma entrada, uma saída e um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esar de cada processo ser uma entidade independente, com seu próprio fluxo de controle e com seu próprio estado interno, eles muitas vezes  têm necessidade de interagir com outros proces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tados pelo qual um processo pode pas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- Rodando, usando o processador neste i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- Pronto, em condições de rodar mas esperando a processador ficar disponí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- Bloqueado, impedido de rodar até que ocorra um determinado evento externo ao processo( ex.: uma entrada de dado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71720" y="5334120"/>
            <a:ext cx="17128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7760" y="525780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d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6095880"/>
            <a:ext cx="14414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6019920"/>
            <a:ext cx="215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oqu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5760" y="60958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3280" y="6019920"/>
            <a:ext cx="99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76320" y="5473800"/>
            <a:ext cx="9208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08440" y="6248520"/>
            <a:ext cx="14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5473800"/>
            <a:ext cx="8902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663800" y="5638320"/>
            <a:ext cx="61740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7320" y="5391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78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24480" y="5638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1560" y="5791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952880"/>
            <a:ext cx="28191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- O processo é bloqueado para  faz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ntrada de dad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2- O escalonador escolhe um no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3- Escalonador entrega o processador 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sse novo 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4- Entrada de dados concluída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19T14:49:13Z</dcterms:modified>
  <cp:revision>44</cp:revision>
  <dc:subject/>
  <dc:title>Introdução ás Linguagens de Programação</dc:title>
</cp:coreProperties>
</file>