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1193E-9E83-4231-AD94-22F30E7E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3F8EC-6423-4774-A0A7-691F86DE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C8E25-A9A1-4133-BF08-EDF177D9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DFAFF-8E2A-4459-A9B0-BFCDABE5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8C0CF-DBFE-45B7-AA04-A69E6004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CD3FD-14D3-4EB3-BF0D-A3D8961C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27218-CA77-46A6-9CEB-E235065A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D2581-7FBD-4AEB-AD34-6476D5B2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3BC26-A74A-41AD-9BC2-73FBAA85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58428-2D8A-40C8-8B98-5EFB13FE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EBC51-D019-465D-9044-BD23559E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57463-63AD-43E5-9D87-5EB00685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6D57-FAB7-4F6D-9EED-17971C3306C3}" type="slidenum"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90040" y="152280"/>
            <a:ext cx="49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Introdução à Computação: Redes de Compu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6858720" y="63244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Eduardo Arg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7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9EC5-169A-4C6A-B5C3-F29839F4772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ahoo.com.br/" TargetMode="External"/><Relationship Id="rId2" Type="http://schemas.openxmlformats.org/officeDocument/2006/relationships/hyperlink" Target="http://www.google.com.br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15674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66"/>
                </a:solidFill>
                <a:latin typeface="Times New Roman"/>
              </a:rPr>
              <a:t>Introdução à Computaçã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Unidade 3.2 Redes de Computadores -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ardo Arg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rreio eletrônico (SMTP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m diversos programas que servem como servidores de correio eletrô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rreio eletrônico na internet é referenciado por sua sigla em inglês e-mail (eletronic ma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endereço de correio eletrônico segue o padrão: usuario@domin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usuário é o dono da ‘conta’ de e-mail. O @ é conhecido como ‘at’ ou on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internet existem diversos sítios (sites) de correio eletrônico gratuitos. (Hotmail, Yahoo, IG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ransferência de arquivos (FTP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o longo da internet existem diversos servidores de arqu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je não é tão comum usar diretamente o servidor de arquivos uma vez que as páginas web se tornaram uma forma mais simples de ac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cesso aos arquivos é dado por coman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diversos programas que tornam o acesso ao serviço de arquivos simples. ( WinFTP, WS_FTP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artir do e-mail surgiram outros serviços como listas de discu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mplo de programa para FT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S 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124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avegação em hipertexto (HTTP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serviços anteriores são fundamentais mas pressupõe o conhecimento prévio da localização da inform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o crescimento da rede surgiu uma ferramenta bastante eficiente para a localização de informações de 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i criado o serviço World Wide Web para a visualização de hiper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um conjunto de páginas com um fim específico chamamos de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serviço foi amplamente difundido depois do surgimento de sites de alojamento de sites pessoais e de sites de busca. (Geocities e Yahoo por exemp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buscas na Internet podem se dar por textos pré-cadastrados ou pelo conteúdo das páginas. (Yahoo – </a:t>
            </a:r>
            <a:r>
              <a:rPr b="0" lang="pt-BR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yahoo.com.b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Google – </a:t>
            </a:r>
            <a:r>
              <a:rPr b="0" lang="pt-BR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google.com.b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o fator facilitador foi o de que a linguagem de hipertexto utilizada na internet é extremamente simples. Ela é chamada HTML (Hiper Text Markup Langu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elementos principais são o texto, a marcação/formatação e as ligações ou l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m diversas ferramentas para criação de páginas (FrontPage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380880"/>
            <a:ext cx="8107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avegação em hipertexto (HTT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exão remota TEL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grama 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programa serve para testar um endereço na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 dá como resposta o tempo de ida e volta de pacotes para o computador dest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66680" y="2792520"/>
            <a:ext cx="6858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utros serviç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versa interativa via texto / voz ou vídeo (ICQ, NetMeeting, 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contrar pessoas 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men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dereçamento do TCP/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viços da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erência de 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vegação em hiper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exão rem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endendo a World Wide Web e os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66 – O governo americano resolve financiar a construção de uma rede de computadores que não fosse dependente de um elemento central. Seu principal objetivo é garantir o funcionamento desta rede mesmo que ocorra um ataque nuclear. O projeto é chamado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RPA Net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dvanced Reserch Project Agency Network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69 – A ARPANet entra no ar com seu primeiro ponto na Universidade da Califórnia em Los Ang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79 – É criada 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Usene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uma rede de grupos de discuss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81 – É criada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tNet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rede cooperativa com serviço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rreio eletrônic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transferência de arquiv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inente acadê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82 – O nom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ssa a ser usado para as redes que utilizam o conjunto de protocolos TCP/I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86 – A NSF, órgão do governo americano, cria uma rede de comunicações de alta velocidade para interligar os 5 principais supercomputadores da internet, chamado NSFN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92 – É inventada 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www). Esta ferramenta é inicialmente usada como ferramenta de trabalhos para cientistas do mundo t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94 – O tráfego na NSFNET ultrapassa 10 trilhões de bytes por mês (16 mil CD-ROMs). A maior parte deste tráfego é comercial. O governo americano passa a tentar repassar este tráfego para a própria iniciativa privad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junto de protocolos usado na Internet é chamado de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ido à idéia inicial de descentralização e independência da ARPANet o TCP/IP é altamente focado na interligação de redes de comput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tal o TCP/IP está altamente focado nas camadas de Rede e Transporte do Modelo 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tocolos do 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657600"/>
            <a:ext cx="25146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ransmission Contr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tocol (T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657600"/>
            <a:ext cx="25146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ser Datag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tocol (U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657600"/>
            <a:ext cx="1828800" cy="533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057400"/>
            <a:ext cx="1828800" cy="533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l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590920"/>
            <a:ext cx="1828800" cy="53316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3124080"/>
            <a:ext cx="1828800" cy="533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4191120"/>
            <a:ext cx="1828800" cy="53316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724280"/>
            <a:ext cx="1828800" cy="533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5257800"/>
            <a:ext cx="1828800" cy="533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3080" y="5867280"/>
            <a:ext cx="99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2240" y="5867280"/>
            <a:ext cx="17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191120"/>
            <a:ext cx="5029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P – Internetwork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2057400"/>
            <a:ext cx="5335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2057400"/>
            <a:ext cx="53316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057400"/>
            <a:ext cx="5335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2057400"/>
            <a:ext cx="5335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057400"/>
            <a:ext cx="53316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2057400"/>
            <a:ext cx="53316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70520" y="2514600"/>
            <a:ext cx="93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724280"/>
            <a:ext cx="5029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ualquer protocolo enlace compatível. Ex.: 80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5257800"/>
            <a:ext cx="5029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ualquer interligação física compatí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ETHERNET, TOKEN RING, FDDI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tocolos do 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quer pessoa pode criar um novo protocolo para aplicações no TCP/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a criação dos protocolos estes podem ser homologados. Os protocolos são submetidos através de arquivos chamados RF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protocolo nas camadas superiores define um novo serviço na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rincipais serviços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rreio eletrônico – 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ferência de arquivos – 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vegação em hipertexto – 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exão remota – TEL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ndereçamento no 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que a camada de rede (IP) funcione é necessário que cada máquina ligada na internet possua um ende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endereço deve ser único, isto é, em toda a internet não podem haver duas máquinas com o mesmo ende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endereço IP é composto por 4 números de 0 a 255 separados por ponto. Exemplo: 200.233.2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rimeiros números representam o endereço da rede e os últimos o endereço da estação dentro da rede. A quantidade de números para rede e estações pode variar. No exemplo: 200.233 é a rede e 20.8 a es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ta forma a camada de rede sabe se um ‘pacote’ é para a rede local ou para uma rede ex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ndereçamento no 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endereços numéricos são pouco prá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oi criado então o conceito de domínio, através de um protocolo de nomes (D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domínios devem possuir terminações indicando seu tipo (com – comercial, edu – educação, gov – governo, ...) e seu país (br – Brasil, pt – Portugal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mplos de domínio: cade.com.br, ftc.br, harva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8:55:06Z</dcterms:created>
  <dc:creator>Eduardo Argollo</dc:creator>
  <dc:description/>
  <dc:language>en-US</dc:language>
  <cp:lastModifiedBy>Eduardo Argollo</cp:lastModifiedBy>
  <dcterms:modified xsi:type="dcterms:W3CDTF">2002-07-10T20:54:58Z</dcterms:modified>
  <cp:revision>111</cp:revision>
  <dc:subject/>
  <dc:title>Introdução ás Linguagens de Programação</dc:title>
</cp:coreProperties>
</file>