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86540-6053-4091-8C9B-22E88D5A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680E2-4397-496D-A00B-1EB0B1D3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DBD1C-8EA9-431B-9013-B3B70CC8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58FE0-C88C-4625-9983-E3B65ED2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4E0C2-A76E-4169-986D-BD86C16A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C3175-6D7E-447F-81FA-7677454A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E40E8-973C-49D2-BE98-560B28FB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B3042-EB87-4FD1-93D3-590116E5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95C53-8F63-4FA8-A011-84C626D4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1165C-F2C3-498A-8C87-56F736B7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93C73-E5E5-4A70-BF0F-E6150D1A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03825-9A24-43DF-8362-3473FA2C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6D41-F4B7-4C35-B964-98F85F0B7848}" type="slidenum"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190040" y="152280"/>
            <a:ext cx="49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Introdução à Computação: Redes de Compu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6858720" y="632448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Eduardo Arg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6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7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B568-60D3-4328-B792-028DE7D7490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15674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3366"/>
                </a:solidFill>
                <a:latin typeface="Times New Roman"/>
              </a:rPr>
              <a:t>Introdução à Computação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Unidade 3.2 Redes de Computad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uardo Arg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opolog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pologia parcialmente ligada ou em gra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É o ‘meio termo’ entre a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495680" y="2743200"/>
          <a:ext cx="441972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743200"/>
                    <a:ext cx="441972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990720" y="2514600"/>
            <a:ext cx="3504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m todas as ligações entre os pares estão presentes mas existe redundância, caso um caminho não esteja disponível outro pode ser te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opolog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pologia em estr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comunicação se dá através de um elemento cent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495680" y="2743200"/>
          <a:ext cx="441972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743200"/>
                    <a:ext cx="441972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990720" y="2438280"/>
            <a:ext cx="350496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odas as mensagens passam pelo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nó central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m algumas redes a única função do nó central é o chaveamento (ou comutação) entre as estações. Ele é denominado comutador ou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te arranjo é melhor aproveitado quando o nó central é responsável pelo processamento de informações dos perifé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762120"/>
            <a:ext cx="327636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uito usado no caso de arquitetura cliente x 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opolog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pologia em bar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odas as estações se ligam ao mesmo meio de transmis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mo todos os nós podem ouvir as informações transmitidas ela facilita as mensagens glob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É necessário a existência de mecanismos de controle de acesso à bar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falha em uma estação não causam a parada total do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ão é ponto a ponto e sim multipo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adição de um nó pode ser um grande inconveniente, bem como o controle das características elétricas do meio para que não ocor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4343400"/>
            <a:ext cx="35049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alh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tes aspectos limitam o comprimento e a quantidade de estações do barr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m concentrador ou 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hub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4120" y="762120"/>
            <a:ext cx="327636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ta topologia é muito usada em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Redes Loc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02160" y="4402080"/>
          <a:ext cx="441648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2160" y="4402080"/>
                    <a:ext cx="4416480" cy="1673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municação numa re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que os equipamentos se comuniquem é necessária uma formalização de como se dará a comun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 formalização veio através dos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rotocolos de comunic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tocol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um conjunto de regras que regem o envio no computador emissor e o recebimento no computador desti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máquina pode ter vários protocolos instal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que haja comunicação é necessário que o computador de origem e destino estejam usando o mesmo protoco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Alguns Protocol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etbe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PX/SP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I Protocol Su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Funcionamento dos protocol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o crescimento da complexidade das redes ficou difícil para os protocolos controlar todos os passos da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idiu-se dividir um protocolo em camadas hierárqu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camada utiliza os recursos da camada inf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camada se comunica com a camada correspondente no outro compu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isto divide-se o problema da comunicação em problemas menores que podem ser resolvidos de forma mais fá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Exemplo de camad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44040" y="1652760"/>
            <a:ext cx="1185120" cy="39888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01280" y="1652760"/>
            <a:ext cx="1271880" cy="39888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586728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533412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472428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411480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297180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36232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609480"/>
            <a:ext cx="4114800" cy="82548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a  camada relaciona-se com a mesma camada no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981080" y="2133720"/>
          <a:ext cx="2210040" cy="4063680"/>
        </p:xfrm>
        <a:graphic>
          <a:graphicData uri="http://schemas.openxmlformats.org/drawingml/2006/table">
            <a:tbl>
              <a:tblPr/>
              <a:tblGrid>
                <a:gridCol w="221004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486400" y="2133720"/>
          <a:ext cx="2209680" cy="406368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Ainda falando em camadas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 é a maneira mais eficiente de se estruturar uma re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ligação entre dois níveis é chamad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icialmente cada fabricante criou sua própria estrutura de camadas =&gt; Proprietárias do fabric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ra preciso se ter um padr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i então criado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eference Model for Open Systems Interconnection (O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 modelo OS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do pela ISO (Internacional Organization for Standarization) em 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sui 7 ca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ser usado em qualquer tipo de rede, desde LAN até W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OSI é um modelo teórico, existem protocolos baseados neste modelo mas não há um número significativo de estações usando estes protoco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amadas do Modelo OS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1295280"/>
            <a:ext cx="8001000" cy="51818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752480"/>
          <a:ext cx="3475080" cy="42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3475080" cy="42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4952880" y="1752480"/>
          <a:ext cx="3475080" cy="4299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752480"/>
                    <a:ext cx="3475080" cy="42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1830960" y="60199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I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8040" y="60199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54100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4876920"/>
            <a:ext cx="1143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4267080"/>
            <a:ext cx="1143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657600"/>
            <a:ext cx="1143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2514600"/>
            <a:ext cx="1143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1905120"/>
            <a:ext cx="1143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3048120"/>
            <a:ext cx="1143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men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que é uma re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que eu ganho com uma re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pologias de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I – Um conceito teó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madas do Modelo 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quipamentos de comun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277800" y="685800"/>
            <a:ext cx="19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Í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59120" y="1752480"/>
            <a:ext cx="7108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ira camada do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a a inserssão e retirada de dado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mí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ipula apenas bits ( 1 e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ipula um bit de cada v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a apenas as caracteristicas fí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277440" y="685800"/>
            <a:ext cx="238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94080" y="1828800"/>
            <a:ext cx="5997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a as estruturas de d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e o endereçament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a o C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verte estrutura dados em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a o “recibo de envi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be o “recibo de entrega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nculo de 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277800" y="685800"/>
            <a:ext cx="164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98640" y="1752480"/>
            <a:ext cx="5682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tem nenhum mecanism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cção de er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rota entre origem 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liga computadores ent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277080" y="685800"/>
            <a:ext cx="378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ANSP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97920" y="1752480"/>
            <a:ext cx="622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a os pacotes na ori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ntifica a sequencia 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o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ganiza na sequencia adequ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pacotes no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nta as estruturas de d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277800" y="685800"/>
            <a:ext cx="226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SS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98640" y="1752480"/>
            <a:ext cx="5410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co util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cia e gerencia o fluxo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 o sentido do flux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dire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direc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09680" y="762120"/>
            <a:ext cx="459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RESEN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00080" y="1752480"/>
            <a:ext cx="5532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encia como os dados v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 apresen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iptogra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e os sistemas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ficação (ASCII - EBCD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ime / Descomp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895480" y="762120"/>
            <a:ext cx="33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LIC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3200" y="2133720"/>
            <a:ext cx="642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nece interface entre as aplic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a re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quipamentos de Comunic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UB ou Concentrador: Participa da camada física fazendo o barramento. Amplifica os sinais dos B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WITCH ou Comutador: Atua na camada de enlace, interligando seguimentos (barramentos) montando uma re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oteador: Interliga diversas redes. Está fazendo parte da camada de Re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mitivos sinais de fumaça e pombos-corre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838 – Telégrafo (Samuel Mo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ímbolos binários transmitidos por pulsos el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 de sinais elétricos evoluiu para: Telefone, rádio, televisão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50 – Máquina central que processava todas as informações – Fila de ‘clientes’ para submeter u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60 – Sistemas de terminais = Máquina central com terminais ligados – SO Multitare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70 – Recursos distribuídos, poder computacional nas pontas -&gt; Redes de compu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 que é uma red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eu conceito mais Básico uma rede são dois ou mais computadores interligados entre si de forma que possam compartilhar informaçõ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equipamentos utilizados não precisam realmente ser computadores, podem ser unidades capazes de se comunicar através da rede. Por exemplo uma impressora para rede ou um print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14600" y="4724280"/>
            <a:ext cx="1905120" cy="131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95880" y="4724280"/>
            <a:ext cx="1905120" cy="131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648320" y="5181480"/>
            <a:ext cx="1087200" cy="698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9880" y="51814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562720" y="502920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 que eu ganho com uma red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rede permite o compartilhamento de informações 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 uma melhoria na relação custo x benefício do recu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: Compartilhar impressora, comunicação via correio eletrônico, compartilhamento de arquivos, sistemas utilizados através de toda a rede, compartilhamento de internet,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86200" y="4648320"/>
            <a:ext cx="2088720" cy="1676160"/>
            <a:chOff x="3886200" y="4648320"/>
            <a:chExt cx="2088720" cy="1676160"/>
          </a:xfrm>
        </p:grpSpPr>
        <p:sp>
          <p:nvSpPr>
            <p:cNvPr id="145" name=""/>
            <p:cNvSpPr/>
            <p:nvPr/>
          </p:nvSpPr>
          <p:spPr>
            <a:xfrm flipV="1">
              <a:off x="4847400" y="5621040"/>
              <a:ext cx="61812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641480" y="5134680"/>
              <a:ext cx="411840" cy="3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160880" y="5064480"/>
              <a:ext cx="0" cy="4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3886200" y="5343120"/>
              <a:ext cx="1167480" cy="9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465520" y="5273280"/>
              <a:ext cx="509400" cy="64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4847400" y="4787280"/>
              <a:ext cx="509400" cy="6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4"/>
            <a:stretch/>
          </p:blipFill>
          <p:spPr>
            <a:xfrm>
              <a:off x="4023360" y="4648320"/>
              <a:ext cx="509400" cy="64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1371600" y="4648320"/>
            <a:ext cx="2209680" cy="1523880"/>
            <a:chOff x="1371600" y="4648320"/>
            <a:chExt cx="2209680" cy="1523880"/>
          </a:xfrm>
        </p:grpSpPr>
        <p:sp>
          <p:nvSpPr>
            <p:cNvPr id="153" name=""/>
            <p:cNvSpPr/>
            <p:nvPr/>
          </p:nvSpPr>
          <p:spPr>
            <a:xfrm flipV="1">
              <a:off x="2533680" y="5258880"/>
              <a:ext cx="61128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5"/>
            <a:stretch/>
          </p:blipFill>
          <p:spPr>
            <a:xfrm>
              <a:off x="3078000" y="4876920"/>
              <a:ext cx="503280" cy="5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flipH="1" flipV="1">
              <a:off x="1447560" y="5068440"/>
              <a:ext cx="74772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584360" y="5707080"/>
              <a:ext cx="74592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6"/>
            <a:stretch/>
          </p:blipFill>
          <p:spPr>
            <a:xfrm>
              <a:off x="1922400" y="5068800"/>
              <a:ext cx="95112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7"/>
            <a:stretch/>
          </p:blipFill>
          <p:spPr>
            <a:xfrm>
              <a:off x="1371600" y="4648320"/>
              <a:ext cx="565200" cy="70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8"/>
            <a:stretch/>
          </p:blipFill>
          <p:spPr>
            <a:xfrm>
              <a:off x="1515960" y="5580000"/>
              <a:ext cx="50328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6248520" y="4876920"/>
            <a:ext cx="914400" cy="1143000"/>
            <a:chOff x="6248520" y="4876920"/>
            <a:chExt cx="914400" cy="1143000"/>
          </a:xfrm>
        </p:grpSpPr>
        <p:pic>
          <p:nvPicPr>
            <p:cNvPr id="161" name="" descr=""/>
            <p:cNvPicPr/>
            <p:nvPr/>
          </p:nvPicPr>
          <p:blipFill>
            <a:blip r:embed="rId9"/>
            <a:stretch/>
          </p:blipFill>
          <p:spPr>
            <a:xfrm>
              <a:off x="6400800" y="5105520"/>
              <a:ext cx="6937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 flipH="1">
              <a:off x="6248520" y="5334120"/>
              <a:ext cx="914400" cy="457200"/>
            </a:xfrm>
            <a:prstGeom prst="line">
              <a:avLst/>
            </a:prstGeom>
            <a:ln w="190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0800" y="4876920"/>
              <a:ext cx="685800" cy="1143000"/>
            </a:xfrm>
            <a:prstGeom prst="line">
              <a:avLst/>
            </a:prstGeom>
            <a:ln w="190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ipos de re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acordo com a distribuição geográfica te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N – Local Area Network – Redes locais: São redes que permitem a comunicação de equipamentos em uma pequena região, normalmente entre 100m e poucos quilômetros. Normalmente possuem altas taxas de transmissão (0,1 a 1 Gbit) e baixa taxa de erro (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8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 – Metropolitan Area Network – Redes Metropolitanas: Quando a rede começa a atingir distâncias metropolitanas. Possuem características semelhantes às das redes locais mas com dimensão metropolit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AN – Wide Area Network – Redes Geograficamente Distribuídas: Atinge usuários geograficamente distribuídos. Por possuírem alto custo de comunicação (satélites, microondas, . . .) normalmente são geridas por grandes operadoras. Normalmente possuem velocidades de transmissão baixa (da ordem de Kbits ou poucos M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opologias - Concei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avés da organização dos enlaces físicos (os meios de transmissão), uma rede passará a possuir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rranjo topológ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rranjo depende do tipo de rede (LAN, MAN ou WAN) e pode ser fator determinante na sua eficiência e veloc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ligações físicas podem ser de dois ti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nto a ponto: Apenas dois pontos de comunicação (um em cada extremid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ltiponto: Três ou mais dispositivos de comunicação usando um mesmo en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5486400"/>
          <a:ext cx="27432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5486400"/>
                    <a:ext cx="2743200" cy="99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53120" y="5340240"/>
          <a:ext cx="282888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3120" y="5340240"/>
                    <a:ext cx="2828880" cy="10382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448280" y="510552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nto a p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120" y="49528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ultip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opolog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pologia totalmente lig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dos os equipamentos estão ligados entre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495680" y="2743200"/>
          <a:ext cx="441972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743200"/>
                    <a:ext cx="441972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990720" y="2514600"/>
            <a:ext cx="35049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comunicação entre cada par se dá pelo enlace que liga est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ndo aumenta o número de equipamentos fica inviável se aumentar a quantidade de en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uma rede com n estações são necessárias n(n-1)/2 ligações ponto a po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opolog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pologia em a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É o extremo oposto da topologia totalmente lig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95680" y="2743200"/>
          <a:ext cx="441972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743200"/>
                    <a:ext cx="441972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990720" y="2514600"/>
            <a:ext cx="35049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comunicação opera num único sent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mensagem terá que circular o anel do computador origem até o computador 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a tem grandes problemas como a ausência de caminhos altern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3581280"/>
            <a:ext cx="685800" cy="685800"/>
          </a:xfrm>
          <a:custGeom>
            <a:avLst/>
            <a:gdLst>
              <a:gd name="textAreaLeft" fmla="*/ 0 w 685800"/>
              <a:gd name="textAreaRight" fmla="*/ 686160 w 685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 rot="16200000">
            <a:off x="6857280" y="3580200"/>
            <a:ext cx="685800" cy="838440"/>
          </a:xfrm>
          <a:custGeom>
            <a:avLst/>
            <a:gdLst>
              <a:gd name="textAreaLeft" fmla="*/ -360 w 685800"/>
              <a:gd name="textAreaRight" fmla="*/ 685800 w 685800"/>
              <a:gd name="textAreaTop" fmla="*/ -360 h 838440"/>
              <a:gd name="textAreaBottom" fmla="*/ 8384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780960" y="4342680"/>
            <a:ext cx="685800" cy="685800"/>
          </a:xfrm>
          <a:custGeom>
            <a:avLst/>
            <a:gdLst>
              <a:gd name="textAreaLeft" fmla="*/ -360 w 685800"/>
              <a:gd name="textAreaRight" fmla="*/ 685800 w 68580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6057720" y="422856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8:55:06Z</dcterms:created>
  <dc:creator>Eduardo Argollo</dc:creator>
  <dc:description/>
  <dc:language>en-US</dc:language>
  <cp:lastModifiedBy>Eduardo Argollo</cp:lastModifiedBy>
  <dcterms:modified xsi:type="dcterms:W3CDTF">2002-06-28T20:59:52Z</dcterms:modified>
  <cp:revision>78</cp:revision>
  <dc:subject/>
  <dc:title>Introdução ás Linguagens de Programação</dc:title>
</cp:coreProperties>
</file>