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F0E-9E73-44F2-853C-137C2621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AE7-CEC7-45F1-B92E-F2829BA9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6BB-0244-4904-8259-FD4AF79F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614-D9AD-418D-BD3C-9DCC98A1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CD00-079C-405A-9B4C-2812952F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FF35-09F2-4728-A55C-435C9053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7CB0-7784-4E6C-AB13-ECA9436A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0DE6-15CF-4ADB-A522-60DD042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2A03-183D-4475-A3B3-1B9C41B1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03AF-D11C-41AC-8831-9E6F5AF3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D770-8D91-4648-B376-7D694A67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EA5-963B-4367-9289-A7D1030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466E-BA1F-40A1-8D16-3F15758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E0A5-063C-4CF0-84FB-0967919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0FD9-190F-48E2-830D-0EC8F3D0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488-8C78-4FE6-B53B-4125D4EB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4A12-EBBE-447F-83D0-A8A12244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931-977E-42EC-A5F9-4C6B1873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21A-3B3B-428A-8F3F-92FF793E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299-11E6-4E9A-B4FA-E6C9A318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519-E00F-4290-9C31-5D02DFFB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E36-3A59-4417-9D54-37DFD75C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0E5-E771-4678-8ABB-8766596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FC6-F27A-4FE6-BB7C-45DA9B19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DB3B-7B78-4488-A5D0-55987A8404D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D24A-B947-4666-B6BC-E9253B75411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744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s Linguagens de Program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ível de lingu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ais alto o nível menos instruções são necessárias para a construção de um progr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 outro lado mais instruções de máquina serão geradas para cada instrução de alto n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go, existe uma tendência de que quanto mais alto o nível men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timiz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rá o código de máqu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rq6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5029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mplos de Linguagen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de script são normalmente interpretadas. Ex.: Arquivos tipo .BAT no DOS, scripts de rede,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traduzidas linguagens como Visual Basic (necessita do interpretador que é o VBRUNXXX.DLL), PowerBuilder (PB*.DLL),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compiladas linguagens como C, C++, PASCAL, DELPHI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 mais de um paradigma de program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como C, Pascal, BASIC, ALGOL, Clipper, COBOL, etc., são chamadas 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rocedur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evido ao fato das instruções serem executadas de forma seqü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linguagens baseadas no concei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o C++, Visual BASIC, Visual Objects, Power Builder, Delphi utilizam outra estratégia de programação (Programação Orientada a Objetos/Even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33920" y="3124080"/>
            <a:ext cx="2209680" cy="175284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unção dos computadores é resolver problemas (para determinados tipos sua eficiência é notáv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cessamento de d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qualquer atividade que se utilize d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formações e dados básico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fetue transforma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obter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as informações ou d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refa executada pelos computadores é somente parte da solução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886200"/>
            <a:ext cx="1676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886200"/>
            <a:ext cx="1676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65640" y="40384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rodução - Algoritm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tapas na solução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endimento do probl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ação de uma seqüência de operações (ou ações) que, quando executadas, produzem a solução para o probl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ção da seqüência de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priedades dos Algorit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ções simples e não ambí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qüência lógica de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qüência finita de p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: Receita de Bolo, Manual de instru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200400"/>
            <a:ext cx="6858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e-se algoritmo como um conjunto de ações que devem ser executadas para se obter a solução de determinado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Introdução – Programas e linguage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ecução de um algoritmo só é possível através de um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gra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CP é dotada de instruções funda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s instruções são chamada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nguagem de Máqui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são compostas por zeros e 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01011010 | 0000 0100 | 0000 0111 = somar 4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implificar o processo de programação se construiu uma linguagem a partir do conjunto básico de instruções da Linguagem de Máquina,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nguagem de Mon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Add 4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rocesso de criação de program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o de criação de programas em linguagem de montagem ainda era custoso. Era necessário se aproximar a linguagem de programação do nível das linguagens o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rgiu então o processo de compi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886200"/>
            <a:ext cx="7086600" cy="947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dução/Compilaç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écnica de se traduzir todas as instruções em linguagem de programação de alto nível para instruções em linguagem de máqu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cesso de Compil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3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Fonte - Programa escrito em linguagem de programação de alto ní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Objeto - Programa traduzido para linguagem de máqu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Executável - Código objeto após substituir as funções especiais pelas suas rotinas específ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9000" y="1371600"/>
            <a:ext cx="184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2209680"/>
            <a:ext cx="2133720" cy="114300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8240" y="6095880"/>
            <a:ext cx="251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Execu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572000"/>
            <a:ext cx="2133720" cy="114300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nk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0920" y="3733920"/>
            <a:ext cx="1985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6120" y="4952880"/>
            <a:ext cx="289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tros Código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181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Interpretaç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pretação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écnica que examina e traduz instrução por instrução à medida que o programa é executado. Através desta técnica o programa é traduzido a medida que é executado, ou seja, o programa é traduzido em tempo de exec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mpinter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553080" cy="3591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6172200"/>
            <a:ext cx="8001000" cy="4597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e processo requer qu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pretado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eja execut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pilação x Interpre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ecução de um programa compilado é mais rápida, uma vez que não é necessária a tradução dos comandos. Eles já se encontram em linguagem de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grama compilado não precisa da existência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rpret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interpretação não é necessário se compilar o programa a cada al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648320"/>
            <a:ext cx="7467480" cy="15570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term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mpil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normalmente usado de forma genérica para denominar todos os processos existentes, uma vez que o método utilizado é quase sempre indiferente ao usuário não profis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rad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processo intermediário onde há a compilação para uma linguagem intermediária chamada de p-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linguagem intermediária é executada pelo método de interpre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vantagem desta abordagem é que o código intermediário não exige tanto espaço de memória quanto o código font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 grande vantagem é a facilitação d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rtab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410080"/>
            <a:ext cx="7391520" cy="8254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programa é dito portável quando pode ser facilmente transportado entre computadores de plataformas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5-20T15:23:01Z</dcterms:modified>
  <cp:revision>26</cp:revision>
  <dc:subject/>
  <dc:title>Introdução ás Linguagens de Programação</dc:title>
</cp:coreProperties>
</file>