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A9F93-F744-4AD1-BC6F-C3102BF0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CCB1-0F88-4ECB-AA3B-6110294E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28B4-28FC-45A0-8FF9-AB13011A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28E9-293B-417A-ABA5-43F521F5E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6B15-11E6-4FC8-BC3E-5F58DCDF4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8FD65-6523-4C83-8CBC-6E0F7DD64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A6A2-50ED-4495-B7BC-4671A2AC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84F4-3C33-482D-818A-E52F11E5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BBA10-2410-47DD-9525-915A8489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599A-623F-48F4-BCD7-6CC54BF8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C17CA-BDF3-4B55-9DB7-901E3630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3E06-DBD0-4F95-A080-C791CFCD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1A93-92A7-4B74-BA7D-A171F994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85CE3-6073-4F5A-8411-B6A6FCD3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ABF1-3598-435E-A141-9815A8788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288B9-F705-4AEC-A4A4-4876509C6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228564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315680"/>
            <a:ext cx="2502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AE3A-D8C1-4AC4-8FEC-EFA7B1E1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65A6-2884-4520-A326-D2949AAA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B727-BCF5-4C66-8FDD-F0A0B946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587-048D-4E86-8BF8-0D319F7FD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F4EB-01BB-4049-9416-1111045F9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DD20-174E-4535-96A6-B88CBAB5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31568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1539-7DCB-46FB-915A-305259BF5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85640"/>
            <a:ext cx="3792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315680"/>
            <a:ext cx="777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CAB-E519-4C7F-8610-34A76665E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856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424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0408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93392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93392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933920" indent="-21456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7220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C1EEB-28F7-49EC-BF2E-A0C851F9BE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3241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22B1-DDE6-4D4F-8C91-2A84B7938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989440" y="623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95 Helvetica Black"/>
              </a:rPr>
              <a:t>La selección de inform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27040" y="685800"/>
            <a:ext cx="7016760" cy="3733920"/>
            <a:chOff x="527040" y="685800"/>
            <a:chExt cx="7016760" cy="3733920"/>
          </a:xfrm>
        </p:grpSpPr>
        <p:sp>
          <p:nvSpPr>
            <p:cNvPr id="83" name=""/>
            <p:cNvSpPr/>
            <p:nvPr/>
          </p:nvSpPr>
          <p:spPr>
            <a:xfrm>
              <a:off x="2971800" y="3124080"/>
              <a:ext cx="4572000" cy="129564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27040" y="685800"/>
              <a:ext cx="1987560" cy="3733920"/>
            </a:xfrm>
            <a:custGeom>
              <a:avLst/>
              <a:gdLst>
                <a:gd name="textAreaLeft" fmla="*/ 266040 w 1987560"/>
                <a:gd name="textAreaRight" fmla="*/ 1721520 w 1987560"/>
                <a:gd name="textAreaTop" fmla="*/ 735480 h 3733920"/>
                <a:gd name="textAreaBottom" fmla="*/ 2593800 h 373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509" stAng="-5400000" swAng="-5400000"/>
                  <a:lnTo>
                    <a:pt x="0" y="10749"/>
                  </a:lnTo>
                  <a:arcTo wR="21600" hR="8509" stAng="10800000" swAng="-3261343"/>
                  <a:lnTo>
                    <a:pt x="15728" y="21280"/>
                  </a:lnTo>
                  <a:lnTo>
                    <a:pt x="21600" y="18138"/>
                  </a:lnTo>
                  <a:lnTo>
                    <a:pt x="15728" y="14356"/>
                  </a:lnTo>
                  <a:lnTo>
                    <a:pt x="15728" y="16698"/>
                  </a:lnTo>
                  <a:arcTo wR="21600" hR="8509" stAng="7538657" swAng="3081689"/>
                  <a:lnTo>
                    <a:pt x="188" y="9629"/>
                  </a:lnTo>
                  <a:arcTo wR="21600" hR="8509" stAng="-10620346" swAng="5220346"/>
                  <a:close/>
                </a:path>
                <a:path fill="darkenLess" w="21600" h="21600">
                  <a:moveTo>
                    <a:pt x="21600" y="0"/>
                  </a:moveTo>
                  <a:arcTo wR="21600" hR="8509" stAng="-5400000" swAng="-5400000"/>
                  <a:lnTo>
                    <a:pt x="0" y="8509"/>
                  </a:lnTo>
                  <a:arcTo wR="21600" hR="8509" stAng="10800000" swAng="-179654"/>
                  <a:lnTo>
                    <a:pt x="188" y="9629"/>
                  </a:lnTo>
                  <a:arcTo wR="21600" hR="8509" stAng="-10620346" swAng="5220346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buClr>
                  <a:srgbClr val="0000cc"/>
                </a:buClr>
                <a:buFont typeface="Citizen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228600" y="685800"/>
            <a:ext cx="7315200" cy="5410080"/>
            <a:chOff x="228600" y="685800"/>
            <a:chExt cx="7315200" cy="5410080"/>
          </a:xfrm>
        </p:grpSpPr>
        <p:sp>
          <p:nvSpPr>
            <p:cNvPr id="86" name=""/>
            <p:cNvSpPr/>
            <p:nvPr/>
          </p:nvSpPr>
          <p:spPr>
            <a:xfrm>
              <a:off x="2971800" y="4800600"/>
              <a:ext cx="4572000" cy="129528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8600" y="685800"/>
              <a:ext cx="2286000" cy="5410080"/>
            </a:xfrm>
            <a:custGeom>
              <a:avLst/>
              <a:gdLst>
                <a:gd name="textAreaLeft" fmla="*/ 306000 w 2286000"/>
                <a:gd name="textAreaRight" fmla="*/ 1980000 w 2286000"/>
                <a:gd name="textAreaTop" fmla="*/ 1148400 h 5410080"/>
                <a:gd name="textAreaBottom" fmla="*/ 3839040 h 5410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9172" stAng="-5400000" swAng="-5400000"/>
                  <a:lnTo>
                    <a:pt x="0" y="10742"/>
                  </a:lnTo>
                  <a:arcTo wR="21600" hR="9172" stAng="10800000" swAng="-3563295"/>
                  <a:lnTo>
                    <a:pt x="16337" y="21324"/>
                  </a:lnTo>
                  <a:lnTo>
                    <a:pt x="21600" y="19128"/>
                  </a:lnTo>
                  <a:lnTo>
                    <a:pt x="16337" y="16380"/>
                  </a:lnTo>
                  <a:lnTo>
                    <a:pt x="16337" y="18067"/>
                  </a:lnTo>
                  <a:arcTo wR="21600" hR="9172" stAng="7236705" swAng="3437954"/>
                  <a:lnTo>
                    <a:pt x="79" y="9956"/>
                  </a:lnTo>
                  <a:arcTo wR="21600" hR="9172" stAng="-10674659" swAng="5274659"/>
                  <a:close/>
                </a:path>
                <a:path fill="darkenLess" w="21600" h="21600">
                  <a:moveTo>
                    <a:pt x="21600" y="0"/>
                  </a:moveTo>
                  <a:arcTo wR="21600" hR="9172" stAng="-5400000" swAng="-5400000"/>
                  <a:lnTo>
                    <a:pt x="0" y="9172"/>
                  </a:lnTo>
                  <a:arcTo wR="21600" hR="9172" stAng="10800000" swAng="-125341"/>
                  <a:lnTo>
                    <a:pt x="79" y="9956"/>
                  </a:lnTo>
                  <a:arcTo wR="21600" hR="9172" stAng="-10674659" swAng="5274659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buClr>
                  <a:srgbClr val="0000cc"/>
                </a:buClr>
                <a:buFont typeface="Citizen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914400" y="685800"/>
            <a:ext cx="6629400" cy="2009880"/>
            <a:chOff x="914400" y="685800"/>
            <a:chExt cx="6629400" cy="2009880"/>
          </a:xfrm>
        </p:grpSpPr>
        <p:sp>
          <p:nvSpPr>
            <p:cNvPr id="89" name=""/>
            <p:cNvSpPr/>
            <p:nvPr/>
          </p:nvSpPr>
          <p:spPr>
            <a:xfrm>
              <a:off x="2971800" y="1828800"/>
              <a:ext cx="4572000" cy="866880"/>
            </a:xfrm>
            <a:prstGeom prst="foldedCorner">
              <a:avLst>
                <a:gd name="adj" fmla="val 12500"/>
              </a:avLst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14400" y="685800"/>
              <a:ext cx="1590840" cy="1981080"/>
            </a:xfrm>
            <a:custGeom>
              <a:avLst/>
              <a:gdLst>
                <a:gd name="textAreaLeft" fmla="*/ 213120 w 1590840"/>
                <a:gd name="textAreaRight" fmla="*/ 1377720 w 1590840"/>
                <a:gd name="textAreaTop" fmla="*/ 349920 h 1981080"/>
                <a:gd name="textAreaBottom" fmla="*/ 143316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631" stAng="-5400000" swAng="-5400000"/>
                  <a:lnTo>
                    <a:pt x="0" y="11809"/>
                  </a:lnTo>
                  <a:arcTo wR="21600" hR="7631" stAng="10800000" swAng="-2698705"/>
                  <a:lnTo>
                    <a:pt x="14400" y="21164"/>
                  </a:lnTo>
                  <a:lnTo>
                    <a:pt x="21600" y="17351"/>
                  </a:lnTo>
                  <a:lnTo>
                    <a:pt x="14400" y="12666"/>
                  </a:lnTo>
                  <a:lnTo>
                    <a:pt x="14400" y="14826"/>
                  </a:lnTo>
                  <a:arcTo wR="21600" hR="7631" stAng="8101295" swAng="2354183"/>
                  <a:lnTo>
                    <a:pt x="825" y="9720"/>
                  </a:lnTo>
                  <a:arcTo wR="21600" hR="7631" stAng="-10455479" swAng="5055479"/>
                  <a:close/>
                </a:path>
                <a:path fill="darkenLess" w="21600" h="21600">
                  <a:moveTo>
                    <a:pt x="21600" y="0"/>
                  </a:moveTo>
                  <a:arcTo wR="21600" hR="7631" stAng="-5400000" swAng="-5400000"/>
                  <a:lnTo>
                    <a:pt x="0" y="7631"/>
                  </a:lnTo>
                  <a:arcTo wR="21600" hR="7631" stAng="10800000" swAng="-344521"/>
                  <a:lnTo>
                    <a:pt x="825" y="9720"/>
                  </a:lnTo>
                  <a:arcTo wR="21600" hR="7631" stAng="-10455479" swAng="5055479"/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buClr>
                  <a:srgbClr val="0000cc"/>
                </a:buClr>
                <a:buFont typeface="CitizenBold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2666880" y="182880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itizenBold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itizenBold"/>
              </a:rPr>
              <a:t>Cada imagen debe tener un solo punto princip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638440" y="320040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itizenBold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itizenBold"/>
              </a:rPr>
              <a:t>La selección de información debe focalizar la atención sobre este pun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38440" y="4800600"/>
            <a:ext cx="52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itizenBold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CitizenBold"/>
              </a:rPr>
              <a:t>Es necesario omitir toda aquella información que el presentador puede dec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1T01:23:17Z</dcterms:created>
  <dc:creator>Miriam Sattolo</dc:creator>
  <dc:description/>
  <dc:language>en-US</dc:language>
  <cp:lastModifiedBy>Miriam Sattolo</cp:lastModifiedBy>
  <dcterms:modified xsi:type="dcterms:W3CDTF">2001-12-13T22:06:17Z</dcterms:modified>
  <cp:revision>24</cp:revision>
  <dc:subject/>
  <dc:title>Sin título de diapositiva</dc:title>
</cp:coreProperties>
</file>