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90D4-4592-4077-A766-29F04B47B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6ED-6A76-4B75-BE45-7FE40C40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0931-7E40-49EA-932D-25DB8AB7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79B2-D23E-46B3-9EAC-753173A60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ED06-4C29-4C98-9C3D-A00F8613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20D6-5469-4527-9EB0-3157F1302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240A-C840-4C00-A3F1-9EAF462A0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3BEE5-0220-466C-B2D4-E5B782CFD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E256E-1767-4E69-9C0D-5A7BCCA43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81DA-A288-47AA-B6E2-B23C62277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3B2DC-C362-4BDD-8B5B-EF730BD4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0550-9F55-47CA-A5C2-6858C454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78F3-D6DA-4C2E-B82A-31B73D28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43982-BCAF-45D2-BDD8-D30F64EF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0FBA-66D5-4887-85AE-96CFDA8D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8E43D-B5FB-482F-8542-26B264383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A56F-4193-49F2-8D4D-9FDE61313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C75-37D2-42C4-8486-90437890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2FEC-38B8-4D41-83FE-71FD6ABC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2B6B-9DBE-41B7-886B-40081368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708B-2644-42AA-B56A-93DDEDA3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1C29-5C7B-4273-8C44-CD3341DE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FFE-8AC3-49FD-83A1-0F224A86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5F7-6AEA-45B6-8306-6D4EF093D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2E14-F8AF-47CD-8436-DA89C3A5B3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3D789-C387-4FE5-9C2F-CDBCA18E2B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594360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97180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502920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400800" y="0"/>
            <a:ext cx="2819520" cy="6858000"/>
            <a:chOff x="6400800" y="0"/>
            <a:chExt cx="2819520" cy="6858000"/>
          </a:xfrm>
        </p:grpSpPr>
        <p:sp>
          <p:nvSpPr>
            <p:cNvPr id="88" name=""/>
            <p:cNvSpPr/>
            <p:nvPr/>
          </p:nvSpPr>
          <p:spPr>
            <a:xfrm>
              <a:off x="6400800" y="0"/>
              <a:ext cx="2743200" cy="68580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400800" y="0"/>
              <a:ext cx="2743200" cy="7621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705720" y="346680"/>
              <a:ext cx="251460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CitizenBold"/>
                </a:rPr>
                <a:t>Características \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CitizenBold"/>
                </a:rPr>
                <a:t>distintiva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609480" y="1171800"/>
            <a:ext cx="221004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9df21"/>
                </a:solidFill>
                <a:latin typeface="CitizenBold"/>
              </a:rPr>
              <a:t>Micropor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9df21"/>
                </a:solidFill>
                <a:latin typeface="CitizenBold"/>
              </a:rPr>
              <a:t>2.5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SW 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itizenLight"/>
              </a:rPr>
              <a:t>SV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itizenLight"/>
              </a:rPr>
              <a:t>1000 An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XW 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itizenLight"/>
              </a:rPr>
              <a:t>X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itizenLight"/>
              </a:rPr>
              <a:t>1100 An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SW 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itizenLight"/>
              </a:rPr>
              <a:t>SV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itizenLight"/>
              </a:rPr>
              <a:t>850 An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XW 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itizenLight"/>
              </a:rPr>
              <a:t>X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CitizenLight"/>
              </a:rPr>
              <a:t>800 An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38280" y="1155960"/>
            <a:ext cx="2286000" cy="46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9df21"/>
                </a:solidFill>
                <a:latin typeface="CitizenBold"/>
              </a:rPr>
              <a:t>Ultrapor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9df21"/>
                </a:solidFill>
                <a:latin typeface="CitizenBold"/>
              </a:rPr>
              <a:t>3.9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SU 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SV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1700 An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XU 30/XU 3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X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1400/2000 An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SU 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SV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1200 An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XU 20/XUP 2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X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1000/1200 An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1173960"/>
            <a:ext cx="2286000" cy="36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9df21"/>
                </a:solidFill>
                <a:latin typeface="CitizenBold"/>
              </a:rPr>
              <a:t>Por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9df21"/>
                </a:solidFill>
                <a:latin typeface="CitizenBold"/>
              </a:rPr>
              <a:t>Menos de 7 kg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XP 40/XP 4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X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2600/3500 Ans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XP 21/XP 1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X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2000/2500 Ans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e9df21"/>
                </a:solidFill>
                <a:uFillTx/>
                <a:latin typeface="CitizenLight"/>
              </a:rPr>
              <a:t>XP 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XG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CitizenBold"/>
              </a:rPr>
              <a:t>3000 Ans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09480" y="4040280"/>
            <a:ext cx="8001000" cy="2313720"/>
            <a:chOff x="609480" y="4040280"/>
            <a:chExt cx="8001000" cy="2313720"/>
          </a:xfrm>
        </p:grpSpPr>
        <p:sp>
          <p:nvSpPr>
            <p:cNvPr id="95" name=""/>
            <p:cNvSpPr/>
            <p:nvPr/>
          </p:nvSpPr>
          <p:spPr>
            <a:xfrm rot="16164000">
              <a:off x="3570840" y="2349720"/>
              <a:ext cx="2214360" cy="57340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50505"/>
                </a:gs>
                <a:gs pos="100000">
                  <a:srgbClr val="ff0b0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09480" y="5106960"/>
              <a:ext cx="1219320" cy="228600"/>
            </a:xfrm>
            <a:prstGeom prst="rect">
              <a:avLst/>
            </a:prstGeom>
            <a:noFill/>
            <a:ln w="3816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400800" y="4040280"/>
              <a:ext cx="2209680" cy="2209680"/>
            </a:xfrm>
            <a:prstGeom prst="ellipse">
              <a:avLst/>
            </a:prstGeom>
            <a:solidFill>
              <a:srgbClr val="ff0b0b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buClr>
                  <a:srgbClr val="0000cc"/>
                </a:buClr>
                <a:buFont typeface="Citizen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438280" y="1768320"/>
            <a:ext cx="6172200" cy="2287440"/>
            <a:chOff x="2438280" y="1768320"/>
            <a:chExt cx="6172200" cy="2287440"/>
          </a:xfrm>
        </p:grpSpPr>
        <p:sp>
          <p:nvSpPr>
            <p:cNvPr id="99" name=""/>
            <p:cNvSpPr/>
            <p:nvPr/>
          </p:nvSpPr>
          <p:spPr>
            <a:xfrm rot="16164000">
              <a:off x="4758480" y="1256040"/>
              <a:ext cx="2214360" cy="33494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750505"/>
                </a:gs>
                <a:gs pos="100000">
                  <a:srgbClr val="ff0b0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438280" y="2041560"/>
              <a:ext cx="1752840" cy="1844640"/>
            </a:xfrm>
            <a:prstGeom prst="rect">
              <a:avLst/>
            </a:prstGeom>
            <a:noFill/>
            <a:ln w="38160">
              <a:solidFill>
                <a:srgbClr val="ff0b0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0800" y="1768320"/>
              <a:ext cx="2209680" cy="2210040"/>
            </a:xfrm>
            <a:prstGeom prst="ellipse">
              <a:avLst/>
            </a:prstGeom>
            <a:solidFill>
              <a:srgbClr val="ff0b0b"/>
            </a:solidFill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buClr>
                  <a:srgbClr val="0000cc"/>
                </a:buClr>
                <a:buFont typeface="Citizen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85800" y="198108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228960"/>
            <a:ext cx="51818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ctr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itizenBold"/>
              </a:rPr>
              <a:t>Proyectores multimed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3962520"/>
            <a:ext cx="5334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29400" y="4344840"/>
            <a:ext cx="2033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itizenLight"/>
              </a:rPr>
              <a:t>Sistema de auto image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itizenLight"/>
              </a:rPr>
              <a:t>Unico con entrada de video por compon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29400" y="2057400"/>
            <a:ext cx="1905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itizenLight"/>
              </a:rPr>
              <a:t>Alta luminosidad en equipos port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01:23:17Z</dcterms:created>
  <dc:creator>Miriam Sattolo</dc:creator>
  <dc:description/>
  <dc:language>en-US</dc:language>
  <cp:lastModifiedBy>Miriam Sattolo</cp:lastModifiedBy>
  <dcterms:modified xsi:type="dcterms:W3CDTF">2001-12-13T22:05:55Z</dcterms:modified>
  <cp:revision>24</cp:revision>
  <dc:subject/>
  <dc:title>Sin título de diapositiva</dc:title>
</cp:coreProperties>
</file>