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4F80-409A-4FC0-89AC-D938AB59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3356-B01F-4FFE-823E-02EC6B1C7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FAB-FD72-4E4F-8F22-18F422195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B0D1-2F6D-4F23-9D45-0A4B1E19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D64C-BD8E-48ED-B2FD-7CC09F1B1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C36D-B712-4681-9A81-E4BDB417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E595-246A-42EA-BFB9-7880F67BC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B513E-9CA0-4DEF-83FC-A1BFECDD0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67D39-F945-4752-8EA8-850258DD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4EF5-FA44-449D-8B52-9FC9F287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A810-42CE-495B-8FC6-3F54B7AF4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43D6-0BBB-45D2-9951-59F37ED2A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5013-0A4D-420F-AE8B-F750D9D2D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1E944-AA45-467D-A0A6-995DBF2C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75B2-0AFB-4051-9856-45B804A0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2E9F-8D5A-4AB3-BD8F-EBE61BDC4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675E-1E94-4D51-A944-5A3B6B857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BB54-1040-4EAD-9A52-8193D08D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311E-C649-45F1-AB29-F3D7364E3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E724-6B91-466F-873B-AFD40C3B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7CB-8640-433D-9091-E35EBA63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919-8878-4D99-825C-0076D6390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256-FD30-484F-A70E-0AD806F7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EFF1-3007-4E9E-BA7C-0FD86AD7E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4731-AEF4-4581-84A6-C7DEF483AE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D8A5-3EB9-4107-98F7-4E98A58815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1600200"/>
            <a:ext cx="6172200" cy="3505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941280" y="29718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A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43200" y="2743200"/>
            <a:ext cx="3657600" cy="914400"/>
          </a:xfrm>
          <a:prstGeom prst="rightArrow">
            <a:avLst>
              <a:gd name="adj1" fmla="val 50000"/>
              <a:gd name="adj2" fmla="val 10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1523880"/>
            <a:ext cx="15228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6201800">
            <a:off x="857880" y="1997640"/>
            <a:ext cx="1177920" cy="312840"/>
          </a:xfrm>
          <a:prstGeom prst="rightArrow">
            <a:avLst>
              <a:gd name="adj1" fmla="val 50000"/>
              <a:gd name="adj2" fmla="val 94131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5400000">
            <a:off x="7064280" y="1949400"/>
            <a:ext cx="1130040" cy="304560"/>
          </a:xfrm>
          <a:prstGeom prst="rightArrow">
            <a:avLst>
              <a:gd name="adj1" fmla="val 48963"/>
              <a:gd name="adj2" fmla="val 72593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1508040"/>
            <a:ext cx="2438280" cy="1731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7553160" y="3817800"/>
            <a:ext cx="152640" cy="137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401800">
            <a:off x="6960240" y="4326480"/>
            <a:ext cx="1330560" cy="312480"/>
          </a:xfrm>
          <a:prstGeom prst="rightArrow">
            <a:avLst>
              <a:gd name="adj1" fmla="val 50000"/>
              <a:gd name="adj2" fmla="val 106452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834480" y="4401360"/>
            <a:ext cx="1226880" cy="349200"/>
          </a:xfrm>
          <a:prstGeom prst="rightArrow">
            <a:avLst>
              <a:gd name="adj1" fmla="val 42731"/>
              <a:gd name="adj2" fmla="val 72399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10800000">
            <a:off x="5267160" y="5027400"/>
            <a:ext cx="2438640" cy="161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0800000">
            <a:off x="1371600" y="5036760"/>
            <a:ext cx="229536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1440000"/>
            <a:ext cx="2743200" cy="312480"/>
          </a:xfrm>
          <a:prstGeom prst="rightArrow">
            <a:avLst>
              <a:gd name="adj1" fmla="val 58333"/>
              <a:gd name="adj2" fmla="val 101606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10080" y="1523880"/>
            <a:ext cx="228600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419800" y="1447920"/>
            <a:ext cx="2286000" cy="304560"/>
          </a:xfrm>
          <a:prstGeom prst="rightArrow">
            <a:avLst>
              <a:gd name="adj1" fmla="val 50000"/>
              <a:gd name="adj2" fmla="val 95909"/>
            </a:avLst>
          </a:prstGeom>
          <a:gradFill rotWithShape="0">
            <a:gsLst>
              <a:gs pos="0">
                <a:srgbClr val="ff0000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0800000">
            <a:off x="5028840" y="4936680"/>
            <a:ext cx="2590920" cy="336600"/>
          </a:xfrm>
          <a:prstGeom prst="rightArrow">
            <a:avLst>
              <a:gd name="adj1" fmla="val 48963"/>
              <a:gd name="adj2" fmla="val 104235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1447920" y="4936680"/>
            <a:ext cx="2286000" cy="352440"/>
          </a:xfrm>
          <a:prstGeom prst="rightArrow">
            <a:avLst>
              <a:gd name="adj1" fmla="val 43759"/>
              <a:gd name="adj2" fmla="val 90116"/>
            </a:avLst>
          </a:prstGeom>
          <a:gradFill rotWithShape="0">
            <a:gsLst>
              <a:gs pos="0">
                <a:srgbClr val="ff9900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00280" y="2666880"/>
            <a:ext cx="1218960" cy="1219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016080"/>
            <a:ext cx="129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mi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666880"/>
            <a:ext cx="1219320" cy="1219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10280" y="2997360"/>
            <a:ext cx="134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733920" y="1384200"/>
            <a:ext cx="1676160" cy="457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00440" y="1371600"/>
            <a:ext cx="17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ENS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45000" y="4889520"/>
            <a:ext cx="1765080" cy="45720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675240" y="487692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5:39Z</dcterms:modified>
  <cp:revision>24</cp:revision>
  <dc:subject/>
  <dc:title>Sin título de diapositiva</dc:title>
</cp:coreProperties>
</file>