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Robot02b.wav" ContentType="audio/x-wav"/>
  <Override PartName="/ppt/media/image5.wmf" ContentType="image/x-wmf"/>
  <Override PartName="/ppt/media/LASER.WAV" ContentType="audio/x-wav"/>
  <Override PartName="/ppt/media/Utopi02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7B7-366A-4C02-B19C-91160E2A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397-D74B-4156-9CAE-15612238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FD7-7A5F-475C-90DF-892647BD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C6C-8509-4FA4-B6D1-9A0379B8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455-D02D-4814-8FE7-54102D5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7C3-10A5-4385-BBEA-F8DB119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E02-2BCC-4B79-8016-66F775CC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E8E-94BF-47E8-B486-2C90EF7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C1D-FA9D-4001-8F37-5D3AA27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438-7647-4EFF-A14D-42FF3B4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C79-1F61-4FF4-9647-960E6AB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D14-FD2D-473B-8761-7F8C244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7736-808F-4908-A858-D54E8DF31B20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68B-4A0A-4A9A-9368-150ABE88B43B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Robot02b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Robot02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 síntesi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nterNet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es otra oportunidad más. No reemplaza libros, publicaciones períodicas, trabajos de campo, ni la comunicación cara a ca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 otro, uno más, un enorme proyecto abierto.    Y debemos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prevenirno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para que continúe, con mayor extensión y apertura.  Sin restricciones, sin costos, sin intervenciones exter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pacio donde si bien hay negocios y chatarra, también conlleva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ibertad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de expresión, extrema velocidad,  gran interactividad,  sin cens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B0E-3F4E-4873-B5F4-C05A981EF1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7E5E-F597-4BE7-B17F-B9E17CFD396B}" type="datetime1">
              <a:rPr lang="en-US"/>
              <a:t>07/30/26</a:t>
            </a:fld>
          </a:p>
        </p:txBody>
      </p:sp>
    </p:spTree>
  </p:cSld>
  <p:transition advTm="1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once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1294920"/>
            <a:ext cx="5843520" cy="48006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Identidad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en  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Diversida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5BD-70EB-48BA-BC4B-F4E57E4172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B0C4E-AE2C-4C3B-8849-87367AD613E5}" type="datetime1">
              <a:rPr lang="en-US"/>
              <a:t>07/30/26</a:t>
            </a:fld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Hoy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Aquí, entre nosotros, nos prometimos  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       ver  un poco  de Internet.  Entonces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Hoy nos acercamos a un programa que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nos llevará hacia ese espacio vir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just">
              <a:spcBef>
                <a:spcPts val="4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Está previsto que se active (en 10 segundos de terminada esta lectura) el ícono del programa  que nos sirve de “navegador”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                            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ffffcc"/>
                </a:solidFill>
                <a:latin typeface="Times New Roman"/>
              </a:rPr>
              <a:t>Internet Explorer 4  de  Microsof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666880"/>
            <a:ext cx="457200" cy="1295640"/>
          </a:xfrm>
          <a:custGeom>
            <a:avLst/>
            <a:gdLst>
              <a:gd name="textAreaLeft" fmla="*/ 61200 w 457200"/>
              <a:gd name="textAreaRight" fmla="*/ 396000 w 457200"/>
              <a:gd name="textAreaTop" fmla="*/ 250560 h 1295640"/>
              <a:gd name="textAreaBottom" fmla="*/ 966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926"/>
                </a:lnTo>
                <a:arcTo wR="21600" hR="8363" stAng="10800000" swAng="-3051069"/>
                <a:lnTo>
                  <a:pt x="15107" y="21213"/>
                </a:lnTo>
                <a:lnTo>
                  <a:pt x="21600" y="18507"/>
                </a:lnTo>
                <a:lnTo>
                  <a:pt x="15107" y="15026"/>
                </a:lnTo>
                <a:lnTo>
                  <a:pt x="15107" y="16338"/>
                </a:lnTo>
                <a:arcTo wR="21600" hR="8363" stAng="7748931" swAng="2761559"/>
                <a:lnTo>
                  <a:pt x="496" y="10144"/>
                </a:lnTo>
                <a:arcTo wR="21600" hR="8363" stAng="-10510490" swAng="5110490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89510"/>
                <a:lnTo>
                  <a:pt x="496" y="10144"/>
                </a:lnTo>
                <a:arcTo wR="21600" hR="8363" stAng="-10510490" swAng="5110490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312408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35B-6FD6-4F64-8198-E5ADC32F8A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0D8D-BE5B-4D74-B958-2802749E56BE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08D-F33F-4361-983E-EBACECC64DA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6F0BA-8774-404C-AB37-883EF8933415}" type="datetime1">
              <a:rPr lang="en-US"/>
              <a:t>07/30/26</a:t>
            </a:fld>
          </a:p>
        </p:txBody>
      </p:sp>
    </p:spTree>
  </p:cSld>
  <p:transition advTm="0">
    <p:zoom dir="in"/>
    <p:sndAc>
      <p:stSnd>
        <p:snd r:embed="rId2" name="Robot02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55A-B054-41E3-840E-DCC51AC7FDF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6FAF2-8903-4923-8047-EF2E700076C2}" type="datetime1">
              <a:rPr lang="en-US"/>
              <a:t>07/30/26</a:t>
            </a:fld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C437-9BB7-4E13-8F92-880FBDA088CC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F90-13EB-433F-ADC9-F383167EE31A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B3C-A1F2-4B3F-8DE5-29412CCCBD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62A-BDA4-43FC-86F7-003894A314F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Robot02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456-8E74-46A3-ABB7-97469801FF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C79-C912-406A-8D6E-136DF6734A0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5000-272C-4366-98DE-572C685DFB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3AD9-3CDB-46E8-9DAF-D6BC4B0D9A7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62E-FD60-44B7-BDEA-68B3FEFD510F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45AF-5ED7-4426-A444-98F9F6FECA88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1904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 Black"/>
              </a:rPr>
              <a:t>Internet</a:t>
            </a: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1.-   Empezar  a  navegar  en  la  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8E5-A720-4272-BD35-AF3914EFE6A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876B6-406C-4ED5-A640-8891AF590B1A}" type="datetime1">
              <a:rPr lang="en-US"/>
              <a:t>07/30/26</a:t>
            </a:fld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C1F-7556-459E-AE32-B850D94D594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CA74-B6C3-41B6-B558-4F9CFDC719EB}" type="datetime1">
              <a:rPr lang="en-US"/>
              <a:t>07/30/26</a:t>
            </a:fld>
          </a:p>
        </p:txBody>
      </p:sp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re nosotr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demos intentar reflexionar                         sobre la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laciones entre                                estas tecnologías,                                               la comunic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 (humana y social)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              la inform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(académica y científica)        que hacen a nuestros                              perfiles e incumbencias,                        tareas y proyectos profesionales (anteriores, actuales y futuros).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93F-395C-4814-BB78-A736BC2EF7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0F2FD-1E2F-4DE9-9203-A63AF09A7943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finalidad de ...</a:t>
            </a: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pensa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  propio  y  lo  apropiado;                lo  necesario,  posible  y  satisfactorio;                aquello  que es  sustentable con validez, confiabilidad, empiricidad, factibilidad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escribi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s  estilos  y  estrategias que favorecen nuestras mejores expectativas, actitudes  y  acciones  respecto a nuestra comunicación e inform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ED8-3177-4BA0-82DB-017C4B9DCA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342A7-E58A-46C3-82BE-AFC081495991}" type="datetime1">
              <a:rPr lang="en-US"/>
              <a:t>07/30/26</a:t>
            </a:fld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InterNet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62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abemos que cualquier traductor electrónico elemental traduce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indows”  por  VENTANA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Net”  por  RED o TELA ..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orld Wide Web”  ( que  se  abrevia  “WWW” )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lo traduce por  TELA ANCHA MUNDIAL  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           RED  ANCHA  MUNDIAL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Internet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Internacional, Telaraña Mundial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 de  rede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67C-E490-4691-85A8-2B83179BFE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A777E-923A-4975-A332-37F06952C522}" type="datetime1">
              <a:rPr lang="en-US"/>
              <a:t>07/30/26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osibilita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91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stablecer comunicaciones mediatizadas con múltiples procesadores de:            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textos, bases de datos, cálculos, íconos, gráficos, fotografías, vídeos, sonidos, música, voz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enviar / recibir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con otro interlocutor (humano  o  autómata)  enormes         cantidades  de  información  y          establecer “comunicaciones”                          a tiempo real  o  diferid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AC2-5CE9-4A02-AC38-A2947CB390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378A3-1A6A-4E6F-ACB0-73961F2968A4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Diversidad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  lenguas  maternas  (y  traducciones  en el  momento),  de  personas,  instituciones, grupos  de  trabajo,  temática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e  100  millones  de  usuarios  que buscan     e  intercambian  activamente  millones  de páginas,  productos,  servicios,  listas  de intercambio,  conversaciones  grupales  en línea,  problemas  e  hipótesis  de  trabajo, líneas de investigación, nuevos desarrollos,  docencia  mediatizada,  aviso de evento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969-958F-4E24-BBE1-F1721FB83D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25E6B-2E90-4BC5-A39C-626B544B2458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rincipalmente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62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os servicios más frecuentemente divulgado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as “búsquedas en Internet”:  en  las páginas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eb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   mediante el    ambiente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WW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;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 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os “envíos y recepciones de mensajes personalizados”:  con el uso del    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correo  electrónico</a:t>
            </a:r>
            <a:r>
              <a:rPr b="1" lang="es-E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mediante                 el entorno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-mai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524-E888-4267-9211-EB5103C244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E89AC-E9DF-4DC6-A67D-4A363F4ED7EC}" type="datetime1">
              <a:rPr lang="en-US"/>
              <a:t>07/30/26</a:t>
            </a:fld>
          </a:p>
        </p:txBody>
      </p:sp>
    </p:spTree>
  </p:cSld>
  <p:transition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mo universitari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 Black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muy  especialmente  en  la  </a:t>
            </a: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Escuela      de  Fonoaudiologí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consideramos  la comunicación  como  la  estrategia inexcusable para  procurarnos la información apropi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es-ES" sz="2800" spc="-1" strike="noStrike">
                <a:solidFill>
                  <a:srgbClr val="ffff66"/>
                </a:solidFill>
                <a:latin typeface="Arial Black"/>
              </a:rPr>
              <a:t>N</a:t>
            </a:r>
            <a:r>
              <a:rPr b="0" lang="es-ES" sz="2400" spc="-1" strike="noStrike">
                <a:solidFill>
                  <a:srgbClr val="ffff66"/>
                </a:solidFill>
                <a:latin typeface="Arial Black"/>
              </a:rPr>
              <a:t>uestra ciudadanía implic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               un  protagonismo inexcusable                 a  la  hora  de  la  accesibilidad,    obtención, divulgación y generación    del conocimiento en sus más diversas sentidos,  significados  y  proyec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A96-26EC-4DD4-B174-9BF8EDF0A9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36B7F-C4A2-4283-A2D1-54A0E3A43172}" type="datetime1">
              <a:rPr lang="en-US"/>
              <a:t>07/30/26</a:t>
            </a:fld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8:23:40Z</dcterms:created>
  <dc:creator>guillspa</dc:creator>
  <dc:description/>
  <dc:language>en-US</dc:language>
  <cp:lastModifiedBy>guillspa</cp:lastModifiedBy>
  <dcterms:modified xsi:type="dcterms:W3CDTF">1999-09-14T18:51:25Z</dcterms:modified>
  <cp:revision>10</cp:revision>
  <dc:subject/>
  <dc:title>Internet   (1)</dc:title>
</cp:coreProperties>
</file>