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7A0-C865-40CF-97A4-B4CDD46A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AAD-0632-4293-B672-3576A918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E11-76AF-426D-B456-96680F32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18D-CCB1-44BD-A523-42772095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2CD-34DB-401C-8871-CA91A126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338E-630D-4050-ADE2-E30AF7A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785-B342-4CA9-9F8F-7577E6D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405-241C-4E0F-94E6-FE5A0CE8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339-9BEC-42C5-B7C7-392AB0A0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266-9DC1-4CBA-A7A2-9392F96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711-9D70-4E18-A091-B382EB8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7B1-C05B-4EAD-AA49-65EAD0A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769-20E9-40EA-BF93-ED49455E4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62629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0520" y="0"/>
            <a:ext cx="62625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09:25:51Z</dcterms:created>
  <dc:creator>Pascal Amilhat</dc:creator>
  <dc:description/>
  <dc:language>en-US</dc:language>
  <cp:lastModifiedBy>Amilhat</cp:lastModifiedBy>
  <dcterms:modified xsi:type="dcterms:W3CDTF">1999-12-30T23:41:48Z</dcterms:modified>
  <cp:revision>3</cp:revision>
  <dc:subject/>
  <dc:title>No Slide Title</dc:title>
</cp:coreProperties>
</file>