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62D-7D19-4CAE-B721-514D4552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228-80AD-4703-93FA-E52EAF8F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7EF-D463-42E5-8F12-AB49D2D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62A-A217-4B24-860F-3713251B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A72-5041-4F48-ACA9-F3C6458E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1FE4-1F7A-4341-88BE-4F035936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E0D4-9D75-4A52-AA14-6559FA3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AA8-D853-439B-B543-89DD6B1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6582-01C5-4A24-AF79-6557396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69F-79FD-43C4-8746-87397064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13BB-CEC4-474B-BA3C-3603DF0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434-BE92-4283-BA21-B6AF976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C04F-0E36-4811-B12E-2F49280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FC8B-4B60-4B6D-9E24-BE64896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A602-E51E-4AFF-8FD3-821734D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1970-9BFF-47B7-AB5A-ED064A51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3FDE-B258-4E0C-B715-75C93543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320-6D01-4047-8B36-F89BBFFF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C43-5D02-4671-B056-FE895E7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BD4-FAAF-4B18-AD28-0F1F4844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520-1211-4D30-8BAB-A630073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276-98BE-4AEC-9F2A-9BFE390A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A76-3E6C-4210-97D8-0797CB4C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D18-E9F2-45C5-85FA-52DA361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1DBE-0CD5-4873-9558-B6E7AFADE05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A3A-7995-4101-9237-33517C852B4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Effective Study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99840" y="2693880"/>
            <a:ext cx="66294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 for College Succes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resented b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ook" descr="book"/>
          <p:cNvPicPr/>
          <p:nvPr/>
        </p:nvPicPr>
        <p:blipFill>
          <a:blip r:embed="rId1"/>
          <a:stretch/>
        </p:blipFill>
        <p:spPr>
          <a:xfrm>
            <a:off x="3429000" y="4876920"/>
            <a:ext cx="2647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Your Tim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ke a weekly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st specific study times for all su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 time for relaxation and sle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read study time throughout the wee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ick to your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se your schedule when necess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ing Cl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in the front of the 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questions at appropriate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hrase ideas in your own w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view immediately after cla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Your Textboo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vey th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d the summary and chapter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ad the chapter careful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ite the material in your own wo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brief notes in the margi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ew the entir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18:42Z</dcterms:created>
  <dc:creator>AMD</dc:creator>
  <dc:description/>
  <dc:language>en-US</dc:language>
  <cp:lastModifiedBy> Debbie</cp:lastModifiedBy>
  <dcterms:modified xsi:type="dcterms:W3CDTF">2002-05-05T21:03:39Z</dcterms:modified>
  <cp:revision>3</cp:revision>
  <dc:subject/>
  <dc:title>Effective Study Skills</dc:title>
</cp:coreProperties>
</file>