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2F2-85DD-4593-B03A-24E75F6B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B09-ECD7-4BFA-958C-82ABCCFD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9920-3BBA-4519-9916-CB00C824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925-18B5-40B7-81D8-06B60CD0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2EE4-EF8B-402B-93EA-854D4B57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FB5F-1EDA-4D84-8F05-756B89C8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D973-B3FD-416B-9C9C-A56FE9DC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9432-AF60-41B4-820F-04693C01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DFB1-1F38-4977-BA71-AD4D23BD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18BE-7EB2-449B-95DC-458A6FC5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574C-9EEE-44DE-A80C-88A0952F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947-D424-42AC-8429-7AC985D7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DAB0-3721-42E0-8C4B-F60855C4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3ED9-8BAC-471C-BE70-4A87FCD5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014B-BFB2-40EA-B409-DDDC6296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6E0E-538D-4EEC-8529-6921CDF2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AAD0-05C6-499D-8094-2998FADF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C6B2-1653-4F29-B7AF-A8E4FE03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920-0910-4935-B3FD-B6A4141B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C99-5E72-41C4-A30F-7FD1018A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43A1-D24A-43C1-8429-BDAE5B79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8D3-4C55-409C-ACAD-64D62422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A99-366F-411C-9DED-4B47DE70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F96-A305-4CF4-B17D-AA611482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26A3-4040-4309-BA1E-A22914472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34A8-4D74-443F-964A-C1A73E8AD36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BobbyMcDonaldA3@Yahoo.com" TargetMode="External"/><Relationship Id="rId2" Type="http://schemas.openxmlformats.org/officeDocument/2006/relationships/hyperlink" Target="http://www.geocities.com/BobbyMcDonaldA3/index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Fun-N-Sun Sojourn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114800" y="3580920"/>
            <a:ext cx="3960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Travel Agency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pecializing in Beach Resorts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3760" y="251460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hamas Re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tona De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West Ha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 Padre Del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each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4038840" cy="3048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286000" y="762120"/>
          <a:ext cx="5715000" cy="19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62120"/>
                    <a:ext cx="5715000" cy="19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286000" y="3048120"/>
          <a:ext cx="5791320" cy="2590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048120"/>
                    <a:ext cx="57913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We leave from a marina near you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264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62320" y="1828800"/>
            <a:ext cx="5339880" cy="4016160"/>
            <a:chOff x="2362320" y="1828800"/>
            <a:chExt cx="5339880" cy="4016160"/>
          </a:xfrm>
        </p:grpSpPr>
        <p:grpSp>
          <p:nvGrpSpPr>
            <p:cNvPr id="95" name=""/>
            <p:cNvGrpSpPr/>
            <p:nvPr/>
          </p:nvGrpSpPr>
          <p:grpSpPr>
            <a:xfrm>
              <a:off x="2370600" y="1835640"/>
              <a:ext cx="5321520" cy="4001400"/>
              <a:chOff x="2370600" y="1835640"/>
              <a:chExt cx="5321520" cy="400140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2370600" y="1835640"/>
                <a:ext cx="1928880" cy="363240"/>
                <a:chOff x="2370600" y="1835640"/>
                <a:chExt cx="1928880" cy="3632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370600" y="1835640"/>
                  <a:ext cx="1928880" cy="363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370600" y="1835640"/>
                  <a:ext cx="1928520" cy="362880"/>
                  <a:chOff x="2370600" y="1835640"/>
                  <a:chExt cx="1928520" cy="3628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2370600" y="1835640"/>
                    <a:ext cx="1928520" cy="362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Nam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2370600" y="1835640"/>
                    <a:ext cx="1928520" cy="3628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1" name=""/>
              <p:cNvGrpSpPr/>
              <p:nvPr/>
            </p:nvGrpSpPr>
            <p:grpSpPr>
              <a:xfrm>
                <a:off x="4299840" y="1835640"/>
                <a:ext cx="1920240" cy="363240"/>
                <a:chOff x="4299840" y="1835640"/>
                <a:chExt cx="1920240" cy="3632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299840" y="1835640"/>
                  <a:ext cx="1920240" cy="363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4299840" y="1835640"/>
                  <a:ext cx="1919880" cy="362880"/>
                  <a:chOff x="4299840" y="1835640"/>
                  <a:chExt cx="1919880" cy="36288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4299840" y="1835640"/>
                    <a:ext cx="1919880" cy="362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ddres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4299840" y="1835640"/>
                    <a:ext cx="1919880" cy="3628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" name=""/>
              <p:cNvGrpSpPr/>
              <p:nvPr/>
            </p:nvGrpSpPr>
            <p:grpSpPr>
              <a:xfrm>
                <a:off x="6220800" y="1835640"/>
                <a:ext cx="1471320" cy="363240"/>
                <a:chOff x="6220800" y="1835640"/>
                <a:chExt cx="1471320" cy="3632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220800" y="1835640"/>
                  <a:ext cx="1471320" cy="363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"/>
                <p:cNvGrpSpPr/>
                <p:nvPr/>
              </p:nvGrpSpPr>
              <p:grpSpPr>
                <a:xfrm>
                  <a:off x="6220800" y="1835640"/>
                  <a:ext cx="1470960" cy="362880"/>
                  <a:chOff x="6220800" y="1835640"/>
                  <a:chExt cx="1470960" cy="36288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6220800" y="1835640"/>
                    <a:ext cx="1470960" cy="362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Ci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6220800" y="1835640"/>
                    <a:ext cx="1470960" cy="3628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" name=""/>
              <p:cNvGrpSpPr/>
              <p:nvPr/>
            </p:nvGrpSpPr>
            <p:grpSpPr>
              <a:xfrm>
                <a:off x="2370600" y="2199240"/>
                <a:ext cx="1928880" cy="363240"/>
                <a:chOff x="2370600" y="2199240"/>
                <a:chExt cx="1928880" cy="363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370600" y="219924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an's Dock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70600" y="219924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299840" y="2199240"/>
                <a:ext cx="1920240" cy="363240"/>
                <a:chOff x="4299840" y="2199240"/>
                <a:chExt cx="1920240" cy="3632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299840" y="219924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14 Centr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299840" y="219924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6220800" y="2199240"/>
                <a:ext cx="1471320" cy="363240"/>
                <a:chOff x="6220800" y="2199240"/>
                <a:chExt cx="1471320" cy="3632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220800" y="219924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urt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220800" y="219924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2370600" y="2562840"/>
                <a:ext cx="1928880" cy="363240"/>
                <a:chOff x="2370600" y="2562840"/>
                <a:chExt cx="1928880" cy="3632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370600" y="256284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fton's Mari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370600" y="256284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299840" y="2562840"/>
                <a:ext cx="1920240" cy="363240"/>
                <a:chOff x="4299840" y="2562840"/>
                <a:chExt cx="1920240" cy="3632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299840" y="256284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 West 8t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299840" y="256284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6220800" y="2562840"/>
                <a:ext cx="1471320" cy="363240"/>
                <a:chOff x="6220800" y="2562840"/>
                <a:chExt cx="1471320" cy="3632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220800" y="256284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lenvi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220800" y="256284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370600" y="2926800"/>
                <a:ext cx="1928880" cy="363240"/>
                <a:chOff x="2370600" y="2926800"/>
                <a:chExt cx="1928880" cy="3632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370600" y="292680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rites Landin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70600" y="292680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299840" y="2926800"/>
                <a:ext cx="1920240" cy="363240"/>
                <a:chOff x="4299840" y="2926800"/>
                <a:chExt cx="1920240" cy="3632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299840" y="292680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1 Robi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299840" y="292680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220800" y="2926800"/>
                <a:ext cx="1471320" cy="363240"/>
                <a:chOff x="6220800" y="2926800"/>
                <a:chExt cx="1471320" cy="3632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220800" y="292680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urt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220800" y="292680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370600" y="3290400"/>
                <a:ext cx="1928880" cy="363240"/>
                <a:chOff x="2370600" y="3290400"/>
                <a:chExt cx="1928880" cy="363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370600" y="329040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lend Mari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370600" y="329040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299840" y="3290400"/>
                <a:ext cx="1920240" cy="363240"/>
                <a:chOff x="4299840" y="3290400"/>
                <a:chExt cx="1920240" cy="3632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299840" y="329040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2 Riv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299840" y="329040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220800" y="3290400"/>
                <a:ext cx="1471320" cy="363240"/>
                <a:chOff x="6220800" y="3290400"/>
                <a:chExt cx="1471320" cy="3632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6220800" y="329040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orin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220800" y="329040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370600" y="3654360"/>
                <a:ext cx="1928880" cy="363600"/>
                <a:chOff x="2370600" y="3654360"/>
                <a:chExt cx="1928880" cy="3636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370600" y="3654360"/>
                  <a:ext cx="192888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nton's Boa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370600" y="3654360"/>
                  <a:ext cx="1928880" cy="36360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299840" y="3654360"/>
                <a:ext cx="1920240" cy="363600"/>
                <a:chOff x="4299840" y="3654360"/>
                <a:chExt cx="1920240" cy="3636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299840" y="3654360"/>
                  <a:ext cx="192024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6 Bayvi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299840" y="3654360"/>
                  <a:ext cx="1920240" cy="36360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6220800" y="3654360"/>
                <a:ext cx="1471320" cy="363600"/>
                <a:chOff x="6220800" y="3654360"/>
                <a:chExt cx="1471320" cy="3636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220800" y="3654360"/>
                  <a:ext cx="147132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avel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220800" y="3654360"/>
                  <a:ext cx="1471320" cy="36360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370600" y="4018680"/>
                <a:ext cx="1928880" cy="363240"/>
                <a:chOff x="2370600" y="4018680"/>
                <a:chExt cx="1928880" cy="3632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370600" y="401868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dder Mai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370600" y="401868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299840" y="4018680"/>
                <a:ext cx="1920240" cy="363240"/>
                <a:chOff x="4299840" y="4018680"/>
                <a:chExt cx="1920240" cy="3632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299840" y="401868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3 Waterfron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299840" y="401868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220800" y="4018680"/>
                <a:ext cx="1471320" cy="363240"/>
                <a:chOff x="6220800" y="4018680"/>
                <a:chExt cx="1471320" cy="36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220800" y="401868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urt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220800" y="401868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370600" y="4382280"/>
                <a:ext cx="1928880" cy="363240"/>
                <a:chOff x="2370600" y="4382280"/>
                <a:chExt cx="1928880" cy="3632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370600" y="438228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JT Boat Clu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370600" y="438228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299840" y="4382280"/>
                <a:ext cx="1920240" cy="363240"/>
                <a:chOff x="4299840" y="4382280"/>
                <a:chExt cx="1920240" cy="3632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299840" y="438228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 Causewa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299840" y="438228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6220800" y="4382280"/>
                <a:ext cx="1471320" cy="363240"/>
                <a:chOff x="6220800" y="4382280"/>
                <a:chExt cx="1471320" cy="3632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6220800" y="438228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orin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220800" y="438228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370600" y="4746240"/>
                <a:ext cx="1928880" cy="363240"/>
                <a:chOff x="2370600" y="4746240"/>
                <a:chExt cx="1928880" cy="3632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370600" y="474624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elson's Whar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370600" y="474624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299840" y="4746240"/>
                <a:ext cx="1920240" cy="363240"/>
                <a:chOff x="4299840" y="4746240"/>
                <a:chExt cx="1920240" cy="363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99840" y="474624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7 Lak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299840" y="474624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220800" y="4746240"/>
                <a:ext cx="1471320" cy="363240"/>
                <a:chOff x="6220800" y="4746240"/>
                <a:chExt cx="1471320" cy="363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220800" y="474624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sonda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220800" y="474624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370600" y="5109840"/>
                <a:ext cx="1928880" cy="363240"/>
                <a:chOff x="2370600" y="5109840"/>
                <a:chExt cx="1928880" cy="3632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370600" y="510984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olton's Mar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370600" y="510984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299840" y="5109840"/>
                <a:ext cx="1920240" cy="363240"/>
                <a:chOff x="4299840" y="5109840"/>
                <a:chExt cx="1920240" cy="3632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299840" y="510984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67 Bay Bridg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299840" y="510984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220800" y="5109840"/>
                <a:ext cx="1471320" cy="363240"/>
                <a:chOff x="6220800" y="5109840"/>
                <a:chExt cx="1471320" cy="3632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220800" y="510984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lenvi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220800" y="510984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2370600" y="5473800"/>
                <a:ext cx="1928880" cy="363240"/>
                <a:chOff x="2370600" y="5473800"/>
                <a:chExt cx="1928880" cy="3632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370600" y="547380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he Ree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370600" y="547380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299840" y="5473800"/>
                <a:ext cx="1920240" cy="363240"/>
                <a:chOff x="4299840" y="5473800"/>
                <a:chExt cx="1920240" cy="3632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99840" y="547380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 East Ba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299840" y="547380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6220800" y="5473800"/>
                <a:ext cx="1471320" cy="363240"/>
                <a:chOff x="6220800" y="5473800"/>
                <a:chExt cx="1471320" cy="3632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6220800" y="547380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oodvi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220800" y="547380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1" name=""/>
            <p:cNvSpPr/>
            <p:nvPr/>
          </p:nvSpPr>
          <p:spPr>
            <a:xfrm>
              <a:off x="2362320" y="1828800"/>
              <a:ext cx="5339880" cy="401616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resented b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by McDon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ail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00"/>
                </a:solidFill>
                <a:uFillTx/>
                <a:latin typeface="Times New Roman"/>
                <a:hlinkClick r:id="rId1"/>
              </a:rPr>
              <a:t>BobbyMcDonaldA3@Yahoo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00"/>
                </a:solidFill>
                <a:uFillTx/>
                <a:latin typeface="Times New Roman"/>
                <a:hlinkClick r:id="rId2"/>
              </a:rPr>
              <a:t>http://www.geocities.com/BobbyMcDonaldA3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0:39:11Z</dcterms:created>
  <dc:creator>AMD</dc:creator>
  <dc:description/>
  <dc:language>en-US</dc:language>
  <cp:lastModifiedBy> Debbie</cp:lastModifiedBy>
  <dcterms:modified xsi:type="dcterms:W3CDTF">2002-05-05T20:55:52Z</dcterms:modified>
  <cp:revision>4</cp:revision>
  <dc:subject/>
  <dc:title>Fun-N-Sun Sojourn</dc:title>
</cp:coreProperties>
</file>