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247-CDCA-44BA-8C6B-ED156E21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DD3-E1A1-48D2-ADAD-D838E608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930-1E65-4407-B73A-1530DD8B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F64-A4E0-4C7E-86E9-865B99BC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130-2102-4926-B512-9481558D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CAB-2CF8-481D-802E-0B7F506C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FEB-6142-4D58-B43A-AAD9A567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C4A-DE98-4CAC-966A-E87B386A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C61-5B17-48A9-BE25-C1D7FA90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6F6-18BF-4ACF-B3D2-96D99AB0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515-3502-499F-90EF-B52A1B31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BC3-2077-4DAB-8AC7-66CE9D1C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A58C-6A66-4F27-9F65-67339E214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kg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4800" y="914400"/>
            <a:ext cx="914400" cy="457200"/>
          </a:xfrm>
          <a:custGeom>
            <a:avLst/>
            <a:gdLst>
              <a:gd name="textAreaLeft" fmla="*/ 376560 w 914400"/>
              <a:gd name="textAreaRight" fmla="*/ 537840 w 9144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03:20:34Z</dcterms:created>
  <dc:creator>JOSE BENIGNO PITTI</dc:creator>
  <dc:description/>
  <dc:language>en-US</dc:language>
  <cp:lastModifiedBy>JOSE BENIGNO PITTI</cp:lastModifiedBy>
  <dcterms:modified xsi:type="dcterms:W3CDTF">1999-11-25T03:46:14Z</dcterms:modified>
  <cp:revision>1</cp:revision>
  <dc:subject/>
  <dc:title>Sin título de diapositiva</dc:title>
</cp:coreProperties>
</file>