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077B-DEC9-4535-8B3F-37E16EFD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A5F-CADD-4D9E-B4DA-1D8A84C0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D10C-49FC-4402-89E4-D6B37401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B438-4ECE-457C-AD2B-A8CF1FAE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1732-6E0F-4D60-8B78-19318D8F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27C3-4179-4314-8824-899C8349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2E4E-D901-452D-BA22-42879B07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C08D-CA40-4B90-A145-141ABBD0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F6A6-931A-4FC0-A239-B373CF5C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15EA-EBE5-43E6-A548-EBF4ABDB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FF0F-D226-402D-8B55-8956E3E4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100-F944-42F1-837A-2DF086B1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F80B-88B6-430C-8658-D8B909C9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7DC2-99BA-43D7-8482-7DFC5D5C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4E79-DC7D-49DB-9CB8-C0090FE9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8CB4-1FEE-4824-9795-E5C3EE55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D7B4-A3FC-49AA-8F66-9FD95EB6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21E-525B-4722-AB4A-A35C83F0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6324-CE74-42B1-993E-975C9229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30DF-FED5-43EB-B873-2CC9DCA9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62AA-1E97-4A75-B4D0-AF9B719D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F665-59A2-4317-9D58-95894D5C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BFF-B32B-45DD-B88B-33DAE9FB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C1F-F676-496C-90CB-978BF0FB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3AEA-0C5A-41A8-819E-8ABCF3846C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AC26-73E0-427F-9ECC-F0AD9B82BE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47920" y="1066680"/>
            <a:ext cx="5975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SchoolBoy"/>
              </a:rPr>
              <a:t>Vacuol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SchoolBoy"/>
              <a:ea typeface="SchoolBoy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4191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SchoolBoy"/>
              </a:rPr>
              <a:t>The Most Important Parts of the Cell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548784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SchoolBoy"/>
              </a:rPr>
              <a:t>Mark Cruz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SchoolBoy"/>
              </a:rPr>
              <a:t>3B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02160" y="419112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SchoolBoy"/>
              </a:rPr>
              <a:t>Ever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41600" y="419112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SchoolBoy"/>
              </a:rPr>
              <a:t>Period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733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 Division of Cell Incorporat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066680" y="457200"/>
            <a:ext cx="7086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bdivisions of Vacuol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590920"/>
            <a:ext cx="701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ecff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lumbing Divi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waterteach2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3429000" cy="2728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93920" y="3429000"/>
            <a:ext cx="4522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ecff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aste Maintenance Divi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ecff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2600" y="4419720"/>
            <a:ext cx="43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ecff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tructural Support Divi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981080" y="304920"/>
            <a:ext cx="5181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lumbing Divis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2057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Responsible for water storag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36520" y="2819520"/>
            <a:ext cx="507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ontributes to storage of food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5053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igment storag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42670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Expel excess wate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133720" y="0"/>
            <a:ext cx="457992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ste Storag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0574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acuoles hold waste produc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9718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rocess and break down byproduc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39625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rotects cell from contamin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447920" y="304920"/>
            <a:ext cx="62481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ructural Suppor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22860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rge central vacuole in plant cel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124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urgor pressure supports cell wal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4114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acuole expands and contrac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676520" y="30492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ell Surviv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62520" y="1905120"/>
          <a:ext cx="4876560" cy="2527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1905120"/>
                    <a:ext cx="487656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04920" y="2209680"/>
            <a:ext cx="350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acuoles constitute large portions of the cel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724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acuole Division provides invaluable servi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5:51:38Z</dcterms:created>
  <dc:creator>VBPS</dc:creator>
  <dc:description/>
  <dc:language>en-US</dc:language>
  <cp:lastModifiedBy>Enriq</cp:lastModifiedBy>
  <dcterms:modified xsi:type="dcterms:W3CDTF">2001-10-19T00:25:00Z</dcterms:modified>
  <cp:revision>8</cp:revision>
  <dc:subject/>
  <dc:title>No Slide Title</dc:title>
</cp:coreProperties>
</file>