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973-B4AC-44D3-8DB9-6921E3E8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AC7-03F4-4BC8-8C77-40F1603C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45D-6268-4D4A-8798-F158C7B8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4E1-5C15-4B05-B025-DF08E2C4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F0A-FB45-4053-8A8E-436A6065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171-2741-4392-8090-D26A74BE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76A-9016-4818-9F52-D43A5172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B7A-2E90-49E0-AE81-4DA4323E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E48-B36C-41FE-B71B-85167F31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3A7-4461-46AB-803D-9146665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9E1-B936-4F13-AFB2-A5E0C13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DC7-3E18-4A5E-A425-8D6A021F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70C2-077A-410C-84CA-26604AE57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09480"/>
            <a:ext cx="1828800" cy="2743200"/>
            <a:chOff x="0" y="609480"/>
            <a:chExt cx="1828800" cy="2743200"/>
          </a:xfrm>
        </p:grpSpPr>
        <p:sp>
          <p:nvSpPr>
            <p:cNvPr id="42" name=""/>
            <p:cNvSpPr/>
            <p:nvPr/>
          </p:nvSpPr>
          <p:spPr>
            <a:xfrm>
              <a:off x="0" y="609480"/>
              <a:ext cx="1828800" cy="2743200"/>
            </a:xfrm>
            <a:prstGeom prst="rect">
              <a:avLst/>
            </a:prstGeom>
            <a:solidFill>
              <a:srgbClr val="008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14400"/>
              <a:ext cx="1218960" cy="1219320"/>
            </a:xfrm>
            <a:prstGeom prst="rect">
              <a:avLst/>
            </a:prstGeom>
            <a:solidFill>
              <a:srgbClr val="ff99ff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2133720"/>
              <a:ext cx="1218960" cy="914400"/>
            </a:xfrm>
            <a:prstGeom prst="rect">
              <a:avLst/>
            </a:prstGeom>
            <a:solidFill>
              <a:srgbClr val="ff99ff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0" y="3962520"/>
            <a:ext cx="1828800" cy="2743200"/>
            <a:chOff x="0" y="3962520"/>
            <a:chExt cx="1828800" cy="2743200"/>
          </a:xfrm>
        </p:grpSpPr>
        <p:sp>
          <p:nvSpPr>
            <p:cNvPr id="46" name=""/>
            <p:cNvSpPr/>
            <p:nvPr/>
          </p:nvSpPr>
          <p:spPr>
            <a:xfrm>
              <a:off x="0" y="3962520"/>
              <a:ext cx="1828800" cy="2743200"/>
            </a:xfrm>
            <a:prstGeom prst="rect">
              <a:avLst/>
            </a:prstGeom>
            <a:solidFill>
              <a:srgbClr val="008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4267080"/>
              <a:ext cx="1218960" cy="2133720"/>
            </a:xfrm>
            <a:prstGeom prst="rect">
              <a:avLst/>
            </a:prstGeom>
            <a:solidFill>
              <a:srgbClr val="ff99ff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0" y="3352680"/>
            <a:ext cx="1828800" cy="595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0"/>
            <a:ext cx="609480" cy="67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34520" y="0"/>
            <a:ext cx="609480" cy="67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609480"/>
            <a:ext cx="6096240" cy="6096240"/>
          </a:xfrm>
          <a:prstGeom prst="rect">
            <a:avLst/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3657600"/>
            <a:ext cx="91440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4572000"/>
            <a:ext cx="30492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486400"/>
            <a:ext cx="60948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5486400"/>
            <a:ext cx="60984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914400"/>
            <a:ext cx="60984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048120"/>
            <a:ext cx="91440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914400"/>
            <a:ext cx="91440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523880"/>
            <a:ext cx="914400" cy="121932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914400"/>
            <a:ext cx="121932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523880"/>
            <a:ext cx="609840" cy="30492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914400"/>
            <a:ext cx="60948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914400"/>
            <a:ext cx="91440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1523880"/>
            <a:ext cx="914400" cy="30492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914400"/>
            <a:ext cx="91440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523880"/>
            <a:ext cx="914400" cy="60984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2133720"/>
            <a:ext cx="914400" cy="30456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2438280"/>
            <a:ext cx="91440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5486400"/>
            <a:ext cx="91440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4572000"/>
            <a:ext cx="60948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5486400"/>
            <a:ext cx="91440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5486400"/>
            <a:ext cx="60948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8769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3657600"/>
            <a:ext cx="91440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4267080"/>
            <a:ext cx="914400" cy="121932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91440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486400"/>
            <a:ext cx="60948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48769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1337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21337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48769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48769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9625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0481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30481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39625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21337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21337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743200"/>
            <a:ext cx="1828800" cy="1828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000" cy="6705720"/>
            <a:chOff x="0" y="0"/>
            <a:chExt cx="9144000" cy="6705720"/>
          </a:xfrm>
        </p:grpSpPr>
        <p:grpSp>
          <p:nvGrpSpPr>
            <p:cNvPr id="92" name=""/>
            <p:cNvGrpSpPr/>
            <p:nvPr/>
          </p:nvGrpSpPr>
          <p:grpSpPr>
            <a:xfrm>
              <a:off x="304920" y="0"/>
              <a:ext cx="8534160" cy="6705720"/>
              <a:chOff x="304920" y="0"/>
              <a:chExt cx="8534160" cy="6705720"/>
            </a:xfrm>
          </p:grpSpPr>
          <p:sp>
            <p:nvSpPr>
              <p:cNvPr id="93" name=""/>
              <p:cNvSpPr/>
              <p:nvPr/>
            </p:nvSpPr>
            <p:spPr>
              <a:xfrm>
                <a:off x="3049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094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44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2193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238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8288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337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382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432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81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526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576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9625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670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720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769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814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4864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913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58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008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057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102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152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201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9246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2296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345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8390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8001000" y="152280"/>
            <a:ext cx="457200" cy="304920"/>
          </a:xfrm>
          <a:prstGeom prst="rightArrow">
            <a:avLst>
              <a:gd name="adj1" fmla="val 50000"/>
              <a:gd name="adj2" fmla="val 541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8610120" y="6248160"/>
            <a:ext cx="457200" cy="304920"/>
          </a:xfrm>
          <a:prstGeom prst="rightArrow">
            <a:avLst>
              <a:gd name="adj1" fmla="val 50000"/>
              <a:gd name="adj2" fmla="val 541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1904760" y="761760"/>
            <a:ext cx="457200" cy="304920"/>
          </a:xfrm>
          <a:prstGeom prst="rightArrow">
            <a:avLst>
              <a:gd name="adj1" fmla="val 50000"/>
              <a:gd name="adj2" fmla="val 541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152280"/>
            <a:ext cx="457200" cy="304920"/>
          </a:xfrm>
          <a:prstGeom prst="rightArrow">
            <a:avLst>
              <a:gd name="adj1" fmla="val 50000"/>
              <a:gd name="adj2" fmla="val 541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505320"/>
            <a:ext cx="457200" cy="304560"/>
          </a:xfrm>
          <a:prstGeom prst="rightArrow">
            <a:avLst>
              <a:gd name="adj1" fmla="val 50000"/>
              <a:gd name="adj2" fmla="val 54209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904760" y="4114440"/>
            <a:ext cx="457200" cy="304920"/>
          </a:xfrm>
          <a:prstGeom prst="rightArrow">
            <a:avLst>
              <a:gd name="adj1" fmla="val 50000"/>
              <a:gd name="adj2" fmla="val 541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3244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58672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55627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46483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49528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7339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124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5410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6324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5410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6324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0384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9718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9051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51460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1752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838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2952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90512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838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718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5146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19112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2578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61722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6324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5410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5410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6324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49528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49528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55627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080" y="35812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53280" y="40384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434340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3124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251460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3280" y="22096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22096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19051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1752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17524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838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6002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838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838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838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838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53280" y="12952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3280" y="160020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219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438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181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066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1981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200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3809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724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5791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1219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1066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5791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1219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1066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1066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1676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2133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27432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3962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6T04:44:04Z</dcterms:created>
  <dc:creator>Necromaster</dc:creator>
  <dc:description/>
  <dc:language>en-US</dc:language>
  <cp:lastModifiedBy>Necromaster</cp:lastModifiedBy>
  <dcterms:modified xsi:type="dcterms:W3CDTF">2000-05-06T04:50:21Z</dcterms:modified>
  <cp:revision>2</cp:revision>
  <dc:subject/>
  <dc:title>PowerPoint Presentation</dc:title>
</cp:coreProperties>
</file>