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372-9D81-4F41-8C35-15B58E99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A7C-236A-40D8-B4EB-9543560E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347-0DFF-408C-BDC5-112D7AD8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54D-6159-4A5B-9BE8-ACF54210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FC4C-F8B5-49BB-B004-A3A3BDDA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28DC-2A68-4967-9461-DA929F76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3DE0-DBC4-4390-954E-4F6B7A7E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0C29-7350-4FAD-A605-124A5453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B32D-FED1-4189-8677-8DB308B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B6DE-ECA1-4E92-8FBE-4D332171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3D73-A756-4458-A7F8-58E7055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5A4-460B-44F0-98D4-02450F91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1480-6B72-464F-9095-52594E69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801B-A4C8-4185-A699-153AFEFF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F4E1-9F99-4F99-AFDF-90A88274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4D2D-5613-40EE-AC65-4D6BA047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F4D2-560B-4AC2-84DA-D0BF2363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BDD-D91C-4D99-BFBA-3629EE98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D6C-96F0-433F-8F65-B50B533F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2BB-18DF-4789-807E-F9C1471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79E-DF8C-4F06-942A-5F7EA504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1E6-E332-430B-B86F-16D0587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621-3058-47FF-BB01-D4676BB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D7A-94A2-4116-A929-89978A14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C7B2-8D85-4463-823B-0D406ACCF5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13B7-1AD1-43CA-8171-A8E8A18305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++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Programm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ents in a C++ Pr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line comments start with ‘/*’ and end with ‘*/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line comments start with ‘//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tput Manipula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w() : can be inserted directly into a cout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 Cout &lt;&lt; “Name:” &lt;&lt; setw(10) &lt;&lt; “Jeev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display Name: then 10 spaces and then Jeev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 Manipulator: Like pressing 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out &lt;&lt; “Name” &lt;&lt; end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cklash  Charac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erts a backspace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erts a tab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ings a bell(alert)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ke endl, new line charac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stics of OO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or letter used to indicate some special operation during exec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opera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hmatic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-  *  /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ry Arithmatic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A , --A , A--, A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tional and Logic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compare two val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ditional Opera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if cond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&gt;b?a: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e conversion in expres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convert value of a variable while performing an operat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nt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 b=1.123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(int) 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und State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ead of a=a+1 you can use a*=1 same with -,*,% and 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– each program is designed around the data to be processed and Object Oriented Approach defines the relationship between data and its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rogram may be divided in to many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s used in C++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ters(Upper and Lower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mal Dig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jor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ata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d Data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er Type(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ger(-128 to 1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er(-32768 to 3276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integer(-2147483648 to 214748364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ing Point(flo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mal form(integers with decim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nent form(e.g 1234 e 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(Cont…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Type(char):  Non-numeric, numbers are not counted a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 Type(void) : Represents of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++ Toke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 of characters that logically belong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rs : Symbolic names used by the progra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words : Reserved word for c+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 : A number that doesn’t change during the execution of a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 : A Location in computer’s memory that is given a symbolic name and can store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put/Outpu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ol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ole In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ard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ffered version of ce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ructure of a C++ Pr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include &lt;header file 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9:13:14Z</dcterms:created>
  <dc:creator>a</dc:creator>
  <dc:description/>
  <dc:language>en-US</dc:language>
  <cp:lastModifiedBy>a</cp:lastModifiedBy>
  <dcterms:modified xsi:type="dcterms:W3CDTF">2001-02-01T19:43:36Z</dcterms:modified>
  <cp:revision>3</cp:revision>
  <dc:subject/>
  <dc:title>C++</dc:title>
</cp:coreProperties>
</file>