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73F-DEEE-4E38-ABCD-1E4D6DC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DB8-F045-46C4-82E7-B82D6CB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A17-D6AF-488B-8260-AE7F41A1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16A-55B9-41C8-BB19-3537CF7F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535-7532-4418-9401-5258380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265-4B8B-406E-9632-42D39E8A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CE1-6327-46DE-B261-6402D39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B3C-EE11-4D3A-8E24-74350A1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C7B-EEB5-4D38-9497-72F36DA7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792-7001-44BA-B002-1B7F1A9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86B-3FA1-4D4C-A898-E45A114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E3E-6BCD-41DA-AFDF-C8E3229B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F1B-A64E-4C27-AEBD-E169A8E84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My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 &amp;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an integer variable. You can define the variable and then assign a value to it later in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you can define it and immediately initializ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is a special function that is used to initialize the member of a class so that later you can de-initialize it(This results in efficient memory handlin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function has the same name as the class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tructor function is used to destroyed the initialized variable form the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or function has the same name as the constructor function except that it has a ~ symbol before th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variables and relat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used for creating a new data type, that has its own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a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defining objects from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  // Use this statement to define an object called Frisky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v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ver give a pet name to the defination of Cat, but you usually give a pet name to an animal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way c++ differentiates between classes and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dea of a cat 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risky is an animal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Class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the class members you use the same method as you used with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I want to access the weight of Fr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weight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ame way if I required to call the function Meow(), then 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Me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to Objects not to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you always assign values to variables not to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never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= 5;  // Compil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, you have to define a variable using int data type and then assign a valu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5;      or int x=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way you will never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.Age=5;    //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will declare a variable of type cat and then do it the following 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Age=8;  //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Vs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 everything is Pri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ccessed only within the methods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cannot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itsAge=2; //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have to use a function that is declared as public and then access itsAge throug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6:22:42Z</dcterms:created>
  <dc:creator>Ritesh</dc:creator>
  <dc:description/>
  <dc:language>en-US</dc:language>
  <cp:lastModifiedBy>Ritesh</cp:lastModifiedBy>
  <dcterms:modified xsi:type="dcterms:W3CDTF">2001-05-10T08:20:14Z</dcterms:modified>
  <cp:revision>5</cp:revision>
  <dc:subject/>
  <dc:title>Classes and Objects</dc:title>
</cp:coreProperties>
</file>