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BCC-0222-4BB6-B150-E1B1EEB6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5E9-E3DD-4F16-8C1C-FC5E2940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9B6-FD05-4933-8AEA-AA9D251F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5B2-82D4-4C24-AF1E-D7BD14A7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6F5-D0D7-4149-8BE2-C949BB8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14D-85AB-47EB-A619-0B6BF96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B9B-BF5F-4EDC-83E6-0C6D8BE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B7-32A2-4CA4-BE08-3336B87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D5-E2B1-42BA-ACBB-21A7731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051-9752-46A2-86C7-E9491C11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E57-69DE-4C2A-A8F7-8FADCB78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455-89AC-47B0-B61B-447B84A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9CF4-1226-4D9E-9F27-CB80642E8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al Number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l is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ng binary to octal is ea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1001 can be grouped in 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group with its octal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3 and 1 we get 31 a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write it 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0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forget to go through the data representation chapter in your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umbe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numbers(0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numbers(represented in combinations of 1s and 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decimal numbers(0-9 A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each 1s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1 from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each 1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positio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add all the 1s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0001001 will be calculated a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8+8+1     so the answer is :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from Decimal to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n dividing the number by 2, the remainder in reverse is your binary dig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12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62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3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1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7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3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Binary, Decimal &amp; Hexa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ractional decimal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an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eger part in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ction part becomes the new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he process till the fraction part is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column is your fractional binary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2343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Decima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1360" y="4227480"/>
            <a:ext cx="824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 the original number that was 0.625 was converted into a fractional binary number 0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should be written as (0.625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0.101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binary to fractional 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ut binary number as negative 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power of two into its decimal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se to give the decim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number : 0.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06:36:33Z</dcterms:created>
  <dc:creator>a</dc:creator>
  <dc:description/>
  <dc:language>en-US</dc:language>
  <cp:lastModifiedBy>Ritesh</cp:lastModifiedBy>
  <dcterms:modified xsi:type="dcterms:W3CDTF">2001-03-09T17:06:46Z</dcterms:modified>
  <cp:revision>6</cp:revision>
  <dc:subject/>
  <dc:title>Number Systems</dc:title>
</cp:coreProperties>
</file>