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C40-55BE-4F3B-B947-D6F9DD36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8B61-2CDF-4C34-860D-16DB5CAF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CB29-91BE-4D6C-9DDD-00AC978B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094-A469-40F1-8DF3-26E54FFA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7D0-D9CE-431A-B9E6-F9908980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706F-DB96-4DC4-8C8B-8D294AFB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AB5-CD69-4383-BD00-6EC6F28B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BCC1-8664-499B-A749-4B03F28E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2D3-85AE-49FF-9034-7BF50F35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4456-7F75-4647-9247-D7C7E4CE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379F-AD2F-459C-8350-BF388323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8AEA-838A-4E61-9D72-2F32EDA4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A4D6-F621-40B2-8885-656B175CB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s in C+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roup of related items of different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arrays but can have multiple types of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you cannot have a single array that will store name, age and marks but you can define a structure that will fulfill the s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create your own datatype using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define a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 student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 name[20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rol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sub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sub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sub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use a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rogram you can define a variable that uses the type you defined using the structure for example, we defined a structure named studend, not that structure becomes like a datatype for me. So I define a variable of type “student”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stud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defining a variable of the structure typ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use input output statement like shown bel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n &gt;&gt; stud1.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n &gt;&gt; stud1.rol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nt &gt;&gt; stud1.sub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nt &gt;&gt; stud1.sub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nt &gt;&gt; stud1.sub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use the structured data type for defining an arr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5T16:52:47Z</dcterms:created>
  <dc:creator>secretary</dc:creator>
  <dc:description/>
  <dc:language>en-US</dc:language>
  <cp:lastModifiedBy>secretary</cp:lastModifiedBy>
  <dcterms:modified xsi:type="dcterms:W3CDTF">1999-02-15T16:53:45Z</dcterms:modified>
  <cp:revision>1</cp:revision>
  <dc:subject/>
  <dc:title>Structures in C++</dc:title>
</cp:coreProperties>
</file>