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FF8-D4AB-4530-9F3A-81F511AB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10D-011E-4F83-B819-3F8118E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EF1-F076-420F-8552-A94ED9E8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8BF-C1DA-45FC-BB2C-5D08E2D6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217-5153-4583-844B-43D16471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4D9-6677-44EB-9ED8-17ED283B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BA0-8346-4C22-9548-AD00832A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636-234A-4405-8F80-13C2E00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A5D-B3AD-4B12-9768-1D173CAD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EF8-F13C-4838-8F06-F133B05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B95-4E4F-4CD2-8F84-494BEA09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9B8-8033-49FB-9107-E9C52DA5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94D3-A923-4AF1-9583-713A58761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62629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0520" y="0"/>
            <a:ext cx="62625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09:25:51Z</dcterms:created>
  <dc:creator>Pascal Amilhat</dc:creator>
  <dc:description/>
  <dc:language>en-US</dc:language>
  <cp:lastModifiedBy>Amilhat</cp:lastModifiedBy>
  <dcterms:modified xsi:type="dcterms:W3CDTF">1999-12-30T23:41:48Z</dcterms:modified>
  <cp:revision>3</cp:revision>
  <dc:subject/>
  <dc:title>No Slide Title</dc:title>
</cp:coreProperties>
</file>