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3F59-0EE6-4F70-947F-15A336CC3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2217-D62D-4A48-96CC-2CAC00C8A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2764-A668-47C7-A05D-9C33495CD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75B5-4FCD-4F30-8631-5220EE2BA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32974-748D-4782-9CF9-4293E5C79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5B301-2E6C-4141-859A-7E8E24FBA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AEFB3-EA1E-4476-ACF0-0E864F22F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798D3-47FA-480B-BC0C-37D95537A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61D7B-4E86-4050-AF87-2B2609FD7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E6242-24A0-4428-8AC6-9656A0AFF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368E4-5637-4E04-A3D4-C95C84E79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89BE-CBAF-4566-BDC9-ED50F6DD1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8EEDA-B369-440A-9EDA-BE5B56BCC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64A38-DA4D-4446-9F34-0528A652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0C331-E382-4E95-8BE0-560EB363E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F7337-F7EB-4BF6-A37E-0F2A40DED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3DD27-DFBB-4D0F-8251-C0A9B155C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85DA-A2E4-4C31-A93C-E2C832CB5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3EB5-1DAB-466D-BA05-8E2EF3958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FAD2-30E8-4B9E-94EA-67E536D60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D20D-5032-4898-81DA-116DE8F3B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1D0C-0A5A-4594-9176-CD60F8D38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F998-D80E-4D74-A9B1-CE8B35FF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8783-66B9-4545-9CD9-C0F5B3B7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F8C43-70C9-4C06-AC70-EA883E6ED1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strtegic1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8A129-6DAF-434A-B087-AEFA72F903EE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BobbyMcDonaldA3@Yahoo.com" TargetMode="External"/><Relationship Id="rId2" Type="http://schemas.openxmlformats.org/officeDocument/2006/relationships/hyperlink" Target="http://www.geocities.com/BobbyMcDonaldA3/index.html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Fun-N-Sun Sojourn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114800" y="3580920"/>
            <a:ext cx="396072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Times New Roman"/>
              </a:rPr>
              <a:t>Travel Agency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240" y="3805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Specializing in Beach Resorts</a:t>
            </a:r>
            <a:br>
              <a:rPr sz="4400"/>
            </a:b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3760" y="2514600"/>
            <a:ext cx="38098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hamas Rep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ytona Del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West Ha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th Padre Del S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beach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4038840" cy="3048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2286000" y="762120"/>
          <a:ext cx="5715000" cy="1966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62120"/>
                    <a:ext cx="5715000" cy="19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2286000" y="3048120"/>
          <a:ext cx="5791320" cy="25905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3048120"/>
                    <a:ext cx="5791320" cy="25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Times New Roman"/>
              </a:rPr>
              <a:t>We leave from a marina near you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22640" y="208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2362320" y="1828800"/>
            <a:ext cx="5339880" cy="4016160"/>
            <a:chOff x="2362320" y="1828800"/>
            <a:chExt cx="5339880" cy="4016160"/>
          </a:xfrm>
        </p:grpSpPr>
        <p:grpSp>
          <p:nvGrpSpPr>
            <p:cNvPr id="95" name=""/>
            <p:cNvGrpSpPr/>
            <p:nvPr/>
          </p:nvGrpSpPr>
          <p:grpSpPr>
            <a:xfrm>
              <a:off x="2370600" y="1835640"/>
              <a:ext cx="5321520" cy="4001400"/>
              <a:chOff x="2370600" y="1835640"/>
              <a:chExt cx="5321520" cy="4001400"/>
            </a:xfrm>
          </p:grpSpPr>
          <p:grpSp>
            <p:nvGrpSpPr>
              <p:cNvPr id="96" name=""/>
              <p:cNvGrpSpPr/>
              <p:nvPr/>
            </p:nvGrpSpPr>
            <p:grpSpPr>
              <a:xfrm>
                <a:off x="2370600" y="1835640"/>
                <a:ext cx="1928880" cy="363240"/>
                <a:chOff x="2370600" y="1835640"/>
                <a:chExt cx="1928880" cy="36324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2370600" y="1835640"/>
                  <a:ext cx="1928880" cy="3632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8" name=""/>
                <p:cNvGrpSpPr/>
                <p:nvPr/>
              </p:nvGrpSpPr>
              <p:grpSpPr>
                <a:xfrm>
                  <a:off x="2370600" y="1835640"/>
                  <a:ext cx="1928520" cy="362880"/>
                  <a:chOff x="2370600" y="1835640"/>
                  <a:chExt cx="1928520" cy="36288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>
                    <a:off x="2370600" y="1835640"/>
                    <a:ext cx="1928520" cy="3628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Nam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2370600" y="1835640"/>
                    <a:ext cx="1928520" cy="36288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1" name=""/>
              <p:cNvGrpSpPr/>
              <p:nvPr/>
            </p:nvGrpSpPr>
            <p:grpSpPr>
              <a:xfrm>
                <a:off x="4299840" y="1835640"/>
                <a:ext cx="1920240" cy="363240"/>
                <a:chOff x="4299840" y="1835640"/>
                <a:chExt cx="1920240" cy="36324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4299840" y="1835640"/>
                  <a:ext cx="1920240" cy="3632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3" name=""/>
                <p:cNvGrpSpPr/>
                <p:nvPr/>
              </p:nvGrpSpPr>
              <p:grpSpPr>
                <a:xfrm>
                  <a:off x="4299840" y="1835640"/>
                  <a:ext cx="1919880" cy="362880"/>
                  <a:chOff x="4299840" y="1835640"/>
                  <a:chExt cx="1919880" cy="362880"/>
                </a:xfrm>
              </p:grpSpPr>
              <p:sp>
                <p:nvSpPr>
                  <p:cNvPr id="104" name=""/>
                  <p:cNvSpPr/>
                  <p:nvPr/>
                </p:nvSpPr>
                <p:spPr>
                  <a:xfrm>
                    <a:off x="4299840" y="1835640"/>
                    <a:ext cx="1919880" cy="3628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Address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4299840" y="1835640"/>
                    <a:ext cx="1919880" cy="36288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6" name=""/>
              <p:cNvGrpSpPr/>
              <p:nvPr/>
            </p:nvGrpSpPr>
            <p:grpSpPr>
              <a:xfrm>
                <a:off x="6220800" y="1835640"/>
                <a:ext cx="1471320" cy="363240"/>
                <a:chOff x="6220800" y="1835640"/>
                <a:chExt cx="1471320" cy="36324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6220800" y="1835640"/>
                  <a:ext cx="1471320" cy="3632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8" name=""/>
                <p:cNvGrpSpPr/>
                <p:nvPr/>
              </p:nvGrpSpPr>
              <p:grpSpPr>
                <a:xfrm>
                  <a:off x="6220800" y="1835640"/>
                  <a:ext cx="1470960" cy="362880"/>
                  <a:chOff x="6220800" y="1835640"/>
                  <a:chExt cx="1470960" cy="362880"/>
                </a:xfrm>
              </p:grpSpPr>
              <p:sp>
                <p:nvSpPr>
                  <p:cNvPr id="109" name=""/>
                  <p:cNvSpPr/>
                  <p:nvPr/>
                </p:nvSpPr>
                <p:spPr>
                  <a:xfrm>
                    <a:off x="6220800" y="1835640"/>
                    <a:ext cx="1470960" cy="3628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City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>
                    <a:off x="6220800" y="1835640"/>
                    <a:ext cx="1470960" cy="36288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1" name=""/>
              <p:cNvGrpSpPr/>
              <p:nvPr/>
            </p:nvGrpSpPr>
            <p:grpSpPr>
              <a:xfrm>
                <a:off x="2370600" y="2199240"/>
                <a:ext cx="1928880" cy="363240"/>
                <a:chOff x="2370600" y="2199240"/>
                <a:chExt cx="1928880" cy="36324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2370600" y="2199240"/>
                  <a:ext cx="192888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lan's Dock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370600" y="2199240"/>
                  <a:ext cx="192888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4299840" y="2199240"/>
                <a:ext cx="1920240" cy="363240"/>
                <a:chOff x="4299840" y="2199240"/>
                <a:chExt cx="1920240" cy="36324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4299840" y="2199240"/>
                  <a:ext cx="192024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14 Central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4299840" y="2199240"/>
                  <a:ext cx="192024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6220800" y="2199240"/>
                <a:ext cx="1471320" cy="363240"/>
                <a:chOff x="6220800" y="2199240"/>
                <a:chExt cx="1471320" cy="36324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6220800" y="2199240"/>
                  <a:ext cx="147132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Burto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6220800" y="2199240"/>
                  <a:ext cx="147132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2370600" y="2562840"/>
                <a:ext cx="1928880" cy="363240"/>
                <a:chOff x="2370600" y="2562840"/>
                <a:chExt cx="1928880" cy="36324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2370600" y="2562840"/>
                  <a:ext cx="192888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fton's Marin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2370600" y="2562840"/>
                  <a:ext cx="192888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4299840" y="2562840"/>
                <a:ext cx="1920240" cy="363240"/>
                <a:chOff x="4299840" y="2562840"/>
                <a:chExt cx="1920240" cy="36324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4299840" y="2562840"/>
                  <a:ext cx="192024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1 West 8t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4299840" y="2562840"/>
                  <a:ext cx="192024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6220800" y="2562840"/>
                <a:ext cx="1471320" cy="363240"/>
                <a:chOff x="6220800" y="2562840"/>
                <a:chExt cx="1471320" cy="36324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6220800" y="2562840"/>
                  <a:ext cx="147132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Glenview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6220800" y="2562840"/>
                  <a:ext cx="147132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2370600" y="2926800"/>
                <a:ext cx="1928880" cy="363240"/>
                <a:chOff x="2370600" y="2926800"/>
                <a:chExt cx="1928880" cy="36324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2370600" y="2926800"/>
                  <a:ext cx="192888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Brites Landin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2370600" y="2926800"/>
                  <a:ext cx="192888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4299840" y="2926800"/>
                <a:ext cx="1920240" cy="363240"/>
                <a:chOff x="4299840" y="2926800"/>
                <a:chExt cx="1920240" cy="3632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4299840" y="2926800"/>
                  <a:ext cx="192024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81 Robi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299840" y="2926800"/>
                  <a:ext cx="192024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6220800" y="2926800"/>
                <a:ext cx="1471320" cy="363240"/>
                <a:chOff x="6220800" y="2926800"/>
                <a:chExt cx="1471320" cy="36324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6220800" y="2926800"/>
                  <a:ext cx="147132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Burto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220800" y="2926800"/>
                  <a:ext cx="147132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2370600" y="3290400"/>
                <a:ext cx="1928880" cy="363240"/>
                <a:chOff x="2370600" y="3290400"/>
                <a:chExt cx="1928880" cy="3632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2370600" y="3290400"/>
                  <a:ext cx="192888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lend Marin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2370600" y="3290400"/>
                  <a:ext cx="192888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299840" y="3290400"/>
                <a:ext cx="1920240" cy="363240"/>
                <a:chOff x="4299840" y="3290400"/>
                <a:chExt cx="1920240" cy="3632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299840" y="3290400"/>
                  <a:ext cx="192024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62 Riv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299840" y="3290400"/>
                  <a:ext cx="192024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6220800" y="3290400"/>
                <a:ext cx="1471320" cy="363240"/>
                <a:chOff x="6220800" y="3290400"/>
                <a:chExt cx="1471320" cy="36324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6220800" y="3290400"/>
                  <a:ext cx="147132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orino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220800" y="3290400"/>
                  <a:ext cx="147132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2370600" y="3654360"/>
                <a:ext cx="1928880" cy="363600"/>
                <a:chOff x="2370600" y="3654360"/>
                <a:chExt cx="1928880" cy="36360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2370600" y="3654360"/>
                  <a:ext cx="1928880" cy="36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Fenton's Boat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2370600" y="3654360"/>
                  <a:ext cx="1928880" cy="36360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4299840" y="3654360"/>
                <a:ext cx="1920240" cy="363600"/>
                <a:chOff x="4299840" y="3654360"/>
                <a:chExt cx="1920240" cy="36360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4299840" y="3654360"/>
                  <a:ext cx="1920240" cy="36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6 Bayview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4299840" y="3654360"/>
                  <a:ext cx="1920240" cy="36360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6220800" y="3654360"/>
                <a:ext cx="1471320" cy="363600"/>
                <a:chOff x="6220800" y="3654360"/>
                <a:chExt cx="1471320" cy="36360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6220800" y="3654360"/>
                  <a:ext cx="1471320" cy="36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Cavel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6220800" y="3654360"/>
                  <a:ext cx="1471320" cy="36360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2370600" y="4018680"/>
                <a:ext cx="1928880" cy="363240"/>
                <a:chOff x="2370600" y="4018680"/>
                <a:chExt cx="1928880" cy="36324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2370600" y="4018680"/>
                  <a:ext cx="192888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Fedder Main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2370600" y="4018680"/>
                  <a:ext cx="192888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4299840" y="4018680"/>
                <a:ext cx="1920240" cy="363240"/>
                <a:chOff x="4299840" y="4018680"/>
                <a:chExt cx="1920240" cy="36324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4299840" y="4018680"/>
                  <a:ext cx="192024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83 Waterfront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4299840" y="4018680"/>
                  <a:ext cx="192024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6220800" y="4018680"/>
                <a:ext cx="1471320" cy="363240"/>
                <a:chOff x="6220800" y="4018680"/>
                <a:chExt cx="1471320" cy="36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6220800" y="4018680"/>
                  <a:ext cx="147132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Burto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6220800" y="4018680"/>
                  <a:ext cx="147132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2370600" y="4382280"/>
                <a:ext cx="1928880" cy="363240"/>
                <a:chOff x="2370600" y="4382280"/>
                <a:chExt cx="1928880" cy="36324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2370600" y="4382280"/>
                  <a:ext cx="192888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JT Boat Club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2370600" y="4382280"/>
                  <a:ext cx="192888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4299840" y="4382280"/>
                <a:ext cx="1920240" cy="363240"/>
                <a:chOff x="4299840" y="4382280"/>
                <a:chExt cx="1920240" cy="36324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4299840" y="4382280"/>
                  <a:ext cx="192024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8 Causeway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4299840" y="4382280"/>
                  <a:ext cx="192024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6220800" y="4382280"/>
                <a:ext cx="1471320" cy="363240"/>
                <a:chOff x="6220800" y="4382280"/>
                <a:chExt cx="1471320" cy="36324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6220800" y="4382280"/>
                  <a:ext cx="147132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orino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6220800" y="4382280"/>
                  <a:ext cx="147132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2370600" y="4746240"/>
                <a:ext cx="1928880" cy="363240"/>
                <a:chOff x="2370600" y="4746240"/>
                <a:chExt cx="1928880" cy="36324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2370600" y="4746240"/>
                  <a:ext cx="192888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elson's Wharf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370600" y="4746240"/>
                  <a:ext cx="192888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4299840" y="4746240"/>
                <a:ext cx="1920240" cy="363240"/>
                <a:chOff x="4299840" y="4746240"/>
                <a:chExt cx="1920240" cy="36324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4299840" y="4746240"/>
                  <a:ext cx="192024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7 Lak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4299840" y="4746240"/>
                  <a:ext cx="192024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6220800" y="4746240"/>
                <a:ext cx="1471320" cy="363240"/>
                <a:chOff x="6220800" y="4746240"/>
                <a:chExt cx="1471320" cy="3632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6220800" y="4746240"/>
                  <a:ext cx="147132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asondal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6220800" y="4746240"/>
                  <a:ext cx="147132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2370600" y="5109840"/>
                <a:ext cx="1928880" cy="363240"/>
                <a:chOff x="2370600" y="5109840"/>
                <a:chExt cx="1928880" cy="36324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2370600" y="5109840"/>
                  <a:ext cx="192888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olton's Marin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2370600" y="5109840"/>
                  <a:ext cx="192888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4299840" y="5109840"/>
                <a:ext cx="1920240" cy="363240"/>
                <a:chOff x="4299840" y="5109840"/>
                <a:chExt cx="1920240" cy="36324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4299840" y="5109840"/>
                  <a:ext cx="192024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867 Bay Bridg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299840" y="5109840"/>
                  <a:ext cx="192024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6220800" y="5109840"/>
                <a:ext cx="1471320" cy="363240"/>
                <a:chOff x="6220800" y="5109840"/>
                <a:chExt cx="1471320" cy="36324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6220800" y="5109840"/>
                  <a:ext cx="147132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Glenview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6220800" y="5109840"/>
                  <a:ext cx="147132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2370600" y="5473800"/>
                <a:ext cx="1928880" cy="363240"/>
                <a:chOff x="2370600" y="5473800"/>
                <a:chExt cx="1928880" cy="36324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2370600" y="5473800"/>
                  <a:ext cx="192888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he Reef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2370600" y="5473800"/>
                  <a:ext cx="192888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4299840" y="5473800"/>
                <a:ext cx="1920240" cy="363240"/>
                <a:chOff x="4299840" y="5473800"/>
                <a:chExt cx="1920240" cy="36324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4299840" y="5473800"/>
                  <a:ext cx="192024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2 East Bay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299840" y="5473800"/>
                  <a:ext cx="192024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6220800" y="5473800"/>
                <a:ext cx="1471320" cy="363240"/>
                <a:chOff x="6220800" y="5473800"/>
                <a:chExt cx="1471320" cy="3632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6220800" y="5473800"/>
                  <a:ext cx="147132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Woodview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6220800" y="5473800"/>
                  <a:ext cx="147132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1" name=""/>
            <p:cNvSpPr/>
            <p:nvPr/>
          </p:nvSpPr>
          <p:spPr>
            <a:xfrm>
              <a:off x="2362320" y="1828800"/>
              <a:ext cx="5339880" cy="4016160"/>
            </a:xfrm>
            <a:prstGeom prst="rect">
              <a:avLst/>
            </a:prstGeom>
            <a:noFill/>
            <a:ln cap="sq"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Presented by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bby McDona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ail 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00"/>
                </a:solidFill>
                <a:uFillTx/>
                <a:latin typeface="Times New Roman"/>
                <a:hlinkClick r:id="rId1"/>
              </a:rPr>
              <a:t>BobbyMcDonaldA3@Yahoo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00"/>
                </a:solidFill>
                <a:uFillTx/>
                <a:latin typeface="Times New Roman"/>
                <a:hlinkClick r:id="rId2"/>
              </a:rPr>
              <a:t>http://www.geocities.com/BobbyMcDonaldA3/index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5T20:39:11Z</dcterms:created>
  <dc:creator>AMD</dc:creator>
  <dc:description/>
  <dc:language>en-US</dc:language>
  <cp:lastModifiedBy> Debbie</cp:lastModifiedBy>
  <dcterms:modified xsi:type="dcterms:W3CDTF">2002-05-05T20:55:52Z</dcterms:modified>
  <cp:revision>4</cp:revision>
  <dc:subject/>
  <dc:title>Fun-N-Sun Sojourn</dc:title>
</cp:coreProperties>
</file>