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324-792F-4C8B-8A28-40A4F821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E0A-AE6C-4318-87C4-D3659D83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76F-22CA-4592-BEFA-5DCF7050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ABF-67D6-486F-BBD5-052592F0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5F86-4E76-4B50-BB4F-173750B3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8A18-EAE8-4455-9E02-D05043DC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16A0-EE77-406A-8077-A82E0D82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63F6-2AE9-41FD-B288-BED43B38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8680-D19D-4BA4-83DA-7340B12A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43FD-F435-48AA-BB9A-1D73F0CE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33A8-58D5-4ADE-9A36-91E1AB49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98D-F521-46BC-AA32-D7AD9D03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872D-4E65-4236-B302-E8C4D44B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78B4-DF79-4D70-BDAB-E6A0D109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D837-BDE7-4FBB-9F28-AFC68CB6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F1A8-39B6-4EDB-9DD9-3639316F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BD82-2B26-4348-9574-7D54FB1A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67C-57E9-43FB-A29C-EC7879D7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B83-9C57-4398-9A30-87463C85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B291-4C75-4468-AF07-3D1D5498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525-5ECC-45C8-9087-7CF55DA7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7A2-A35D-45CA-B6CE-D936996D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710-B74B-4BAD-863F-B2E736DC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0F7-EC55-430A-A73E-DD54B8B2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48E4-D95F-4674-A1FD-71B5D27B56C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825B-CA56-45BB-A9AF-E7F26C48087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Effective Study Skill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99840" y="2693880"/>
            <a:ext cx="66294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ategies for College Success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resented b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obby McDona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book" descr="book"/>
          <p:cNvPicPr/>
          <p:nvPr/>
        </p:nvPicPr>
        <p:blipFill>
          <a:blip r:embed="rId1"/>
          <a:stretch/>
        </p:blipFill>
        <p:spPr>
          <a:xfrm>
            <a:off x="3429000" y="4876920"/>
            <a:ext cx="26478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Your Tim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ke a weekly schedu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st specific study times for all subje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an time for relaxation and sle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read study time throughout the wee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ick to your schedu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vise your schedule when necessa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ttending Cla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t in the front of the roo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k questions at appropriate tim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ke no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phrase ideas in your own w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view immediately after cla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ding Your Textboo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rvey the assig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ad the summary and chapter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ad the chapter careful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ite the material in your own wo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rite brief notes in the margi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view the entire assig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0:18:42Z</dcterms:created>
  <dc:creator>AMD</dc:creator>
  <dc:description/>
  <dc:language>en-US</dc:language>
  <cp:lastModifiedBy> Debbie</cp:lastModifiedBy>
  <dcterms:modified xsi:type="dcterms:W3CDTF">2002-05-05T21:03:39Z</dcterms:modified>
  <cp:revision>3</cp:revision>
  <dc:subject/>
  <dc:title>Effective Study Skills</dc:title>
</cp:coreProperties>
</file>