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0F6-6E0C-4810-BCB7-DFFBAB6F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FC2-C322-4FFF-9A1D-18EA5592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D1A-9B29-4B57-A18D-6CEE0CEC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CE5-9E65-4DAE-BDA1-C283FFA9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A29-959E-4872-8B38-9FD6E46F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B51-1B62-436D-B001-81B76B67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3D4-C838-4FBB-B87D-ADB65611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214-9744-4526-A8A3-8E4FB280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E1D-B279-4831-903E-A729BA3C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180-3285-4808-A868-C4755FA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1B1-AD41-4D14-A50F-DF8E9265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41B-BB73-4953-8719-33B4F837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CC20-D2CE-49BE-8B88-EAD89D5E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kg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114800" y="914400"/>
            <a:ext cx="914400" cy="457200"/>
          </a:xfrm>
          <a:custGeom>
            <a:avLst/>
            <a:gdLst>
              <a:gd name="textAreaLeft" fmla="*/ 376560 w 914400"/>
              <a:gd name="textAreaRight" fmla="*/ 537840 w 9144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03:20:34Z</dcterms:created>
  <dc:creator>JOSE BENIGNO PITTI</dc:creator>
  <dc:description/>
  <dc:language>en-US</dc:language>
  <cp:lastModifiedBy>JOSE BENIGNO PITTI</cp:lastModifiedBy>
  <dcterms:modified xsi:type="dcterms:W3CDTF">1999-11-25T03:46:14Z</dcterms:modified>
  <cp:revision>1</cp:revision>
  <dc:subject/>
  <dc:title>Sin título de diapositiva</dc:title>
</cp:coreProperties>
</file>