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360E-6271-42DB-B855-A6D8A5BB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2948-BD4A-4846-89CF-E1288199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335A-343E-4CC8-92E6-3A0222BDE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7BB6-099C-4806-A952-A78DDC0CD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307A-ABA8-424C-8E99-0BB0F8695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22FE-BE9D-4862-A5C7-7F815378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ACF1-2D58-4028-956D-A76624F9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E7DF-8F2A-474B-8B63-EE0E22E6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C7D0-6A04-483B-99B9-AAE9F4AD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1600-8CD2-4BC3-AE10-0F4F9222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6F4F-D0E3-49AD-B10A-20DE0F98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6FDA-058E-4DD4-884B-3E51878C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E1D2E-614E-4826-BECC-886D401D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6A56-EF41-4B9C-A119-C57E2DE8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8491-4B9C-4551-8A16-AF00CC20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61E1-7FF8-4F70-A9E8-D09B8D346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136F-31B4-4FEF-A766-D14A3EFE5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B0A3-BAAD-424F-B8C0-511654B5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5D49-BADE-4F31-8D18-945E1D29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A6AE-791F-4ECC-B869-8E0DFE08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5BD2-8CCA-4B5D-B508-FDD6DED0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98FE-93E3-44C1-8FC9-E7EA3850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1F90-6028-4B8F-87E1-B3D2EBAE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C138-DAED-49F6-B96C-EFFE8B37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80FE-4DDF-4C52-AD73-9D16A0704E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DFB1-EEBE-46EF-95DD-06C907E2F5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447920" y="1066680"/>
            <a:ext cx="59752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SchoolBoy"/>
              </a:rPr>
              <a:t>Vacuol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SchoolBoy"/>
              <a:ea typeface="SchoolBoy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41911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SchoolBoy"/>
              </a:rPr>
              <a:t>The Most Important Parts of the Cell.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238880" y="548784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SchoolBoy"/>
              </a:rPr>
              <a:t>Mark Cruz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SchoolBoy"/>
              </a:rPr>
              <a:t>3B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02160" y="4191120"/>
            <a:ext cx="9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SchoolBoy"/>
              </a:rPr>
              <a:t>Ever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41600" y="4191120"/>
            <a:ext cx="12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SchoolBoy"/>
              </a:rPr>
              <a:t>Period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37339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A Division of Cell Incorporated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066680" y="457200"/>
            <a:ext cx="7086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ubdivisions of Vacuol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2590920"/>
            <a:ext cx="7010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ccecff"/>
              </a:buClr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Plumbing Divis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2" name="waterteach2" descr=""/>
          <p:cNvPicPr/>
          <p:nvPr/>
        </p:nvPicPr>
        <p:blipFill>
          <a:blip r:embed="rId2"/>
          <a:stretch/>
        </p:blipFill>
        <p:spPr>
          <a:xfrm>
            <a:off x="5181480" y="2286000"/>
            <a:ext cx="3429000" cy="2728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93920" y="3429000"/>
            <a:ext cx="4522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ccecff"/>
              </a:buClr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Waste Maintenance Divis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ccecff"/>
              </a:buClr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2600" y="4419720"/>
            <a:ext cx="430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ecff"/>
              </a:buClr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tructural Support Divis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981080" y="304920"/>
            <a:ext cx="5181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lumbing Divisi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20574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Responsible for water storag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36520" y="2819520"/>
            <a:ext cx="507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ontributes to storage of food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35053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Pigment storag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42670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Expel excess water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133720" y="0"/>
            <a:ext cx="4579920" cy="15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aste Storag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205740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Vacuoles hold waste produc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297180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Process and break down byproduc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396252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Protects cell from contaminatio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447920" y="304920"/>
            <a:ext cx="62481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ructural Support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"/>
          <p:cNvSpPr/>
          <p:nvPr/>
        </p:nvSpPr>
        <p:spPr>
          <a:xfrm>
            <a:off x="1295280" y="22860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Large central vacuole in plant cell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31240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urgor pressure supports cell wal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41148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Vacuole expands and contract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676520" y="304920"/>
            <a:ext cx="5943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ell Survival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962520" y="1905120"/>
          <a:ext cx="4876560" cy="2527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2520" y="1905120"/>
                    <a:ext cx="4876560" cy="25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304920" y="2209680"/>
            <a:ext cx="350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Vacuoles constitute large portions of the cel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47242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Vacuole Division provides invaluable servic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8T15:51:38Z</dcterms:created>
  <dc:creator>VBPS</dc:creator>
  <dc:description/>
  <dc:language>en-US</dc:language>
  <cp:lastModifiedBy>Enriq</cp:lastModifiedBy>
  <dcterms:modified xsi:type="dcterms:W3CDTF">2001-10-19T00:25:00Z</dcterms:modified>
  <cp:revision>8</cp:revision>
  <dc:subject/>
  <dc:title>No Slide Title</dc:title>
</cp:coreProperties>
</file>