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01D-6055-41C4-86B7-1CEA2A23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BB5-D3B9-4B35-A95C-489AD1E3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4B5-7C17-492B-B34A-2C1096E6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149-A6B1-4484-A0F9-75FB9E1A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DB8-8A78-48D4-BF36-01A7CE6C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4E2-FA97-4E23-AA23-158BE932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9D1-F9C5-4872-B5FA-EBC3E3A0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19F-1C01-4B7C-AAF6-C9D11F7D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A48-F9BF-4C4D-8CA3-D31F62CB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592-56EB-4533-846A-9D374FC3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0E4-CF2C-4A3F-A488-EDC87AB3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DEE-ABBF-4F79-AEE5-CA2FCF65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35DA-D58D-488B-9A5B-534FFCFFD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09480"/>
            <a:ext cx="1828800" cy="2743200"/>
            <a:chOff x="0" y="609480"/>
            <a:chExt cx="1828800" cy="2743200"/>
          </a:xfrm>
        </p:grpSpPr>
        <p:sp>
          <p:nvSpPr>
            <p:cNvPr id="42" name=""/>
            <p:cNvSpPr/>
            <p:nvPr/>
          </p:nvSpPr>
          <p:spPr>
            <a:xfrm>
              <a:off x="0" y="609480"/>
              <a:ext cx="1828800" cy="2743200"/>
            </a:xfrm>
            <a:prstGeom prst="rect">
              <a:avLst/>
            </a:prstGeom>
            <a:solidFill>
              <a:srgbClr val="008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14400"/>
              <a:ext cx="1218960" cy="1219320"/>
            </a:xfrm>
            <a:prstGeom prst="rect">
              <a:avLst/>
            </a:prstGeom>
            <a:solidFill>
              <a:srgbClr val="ff99ff"/>
            </a:solidFill>
            <a:ln w="57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2133720"/>
              <a:ext cx="1218960" cy="914400"/>
            </a:xfrm>
            <a:prstGeom prst="rect">
              <a:avLst/>
            </a:prstGeom>
            <a:solidFill>
              <a:srgbClr val="ff99ff"/>
            </a:solidFill>
            <a:ln w="57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0" y="3962520"/>
            <a:ext cx="1828800" cy="2743200"/>
            <a:chOff x="0" y="3962520"/>
            <a:chExt cx="1828800" cy="2743200"/>
          </a:xfrm>
        </p:grpSpPr>
        <p:sp>
          <p:nvSpPr>
            <p:cNvPr id="46" name=""/>
            <p:cNvSpPr/>
            <p:nvPr/>
          </p:nvSpPr>
          <p:spPr>
            <a:xfrm>
              <a:off x="0" y="3962520"/>
              <a:ext cx="1828800" cy="2743200"/>
            </a:xfrm>
            <a:prstGeom prst="rect">
              <a:avLst/>
            </a:prstGeom>
            <a:solidFill>
              <a:srgbClr val="008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4267080"/>
              <a:ext cx="1218960" cy="2133720"/>
            </a:xfrm>
            <a:prstGeom prst="rect">
              <a:avLst/>
            </a:prstGeom>
            <a:solidFill>
              <a:srgbClr val="ff99ff"/>
            </a:solidFill>
            <a:ln w="57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0" y="3352680"/>
            <a:ext cx="1828800" cy="595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0"/>
            <a:ext cx="609480" cy="67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34520" y="0"/>
            <a:ext cx="609480" cy="67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595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38280" y="609480"/>
            <a:ext cx="6096240" cy="6096240"/>
          </a:xfrm>
          <a:prstGeom prst="rect">
            <a:avLst/>
          </a:prstGeom>
          <a:solidFill>
            <a:srgbClr val="3366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3657600"/>
            <a:ext cx="91440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5200" y="4572000"/>
            <a:ext cx="30492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5486400"/>
            <a:ext cx="60948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5486400"/>
            <a:ext cx="60984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914400"/>
            <a:ext cx="609840" cy="60948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048120"/>
            <a:ext cx="914400" cy="60948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914400"/>
            <a:ext cx="914400" cy="60948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523880"/>
            <a:ext cx="914400" cy="121932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914400"/>
            <a:ext cx="121932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523880"/>
            <a:ext cx="609840" cy="30492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914400"/>
            <a:ext cx="60948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914400"/>
            <a:ext cx="914400" cy="60948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1523880"/>
            <a:ext cx="914400" cy="30492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914400"/>
            <a:ext cx="914400" cy="60948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5200" y="1523880"/>
            <a:ext cx="914400" cy="60984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2133720"/>
            <a:ext cx="914400" cy="30456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2438280"/>
            <a:ext cx="91440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1320" y="5486400"/>
            <a:ext cx="91440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4572000"/>
            <a:ext cx="60948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5486400"/>
            <a:ext cx="91440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0120" y="5486400"/>
            <a:ext cx="60948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48769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3657600"/>
            <a:ext cx="914400" cy="60948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4267080"/>
            <a:ext cx="914400" cy="121932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5486400"/>
            <a:ext cx="91440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5486400"/>
            <a:ext cx="609480" cy="914400"/>
          </a:xfrm>
          <a:prstGeom prst="rect">
            <a:avLst/>
          </a:prstGeom>
          <a:solidFill>
            <a:srgbClr val="ff99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48769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21337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21337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48769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48769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9625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30481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30481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39625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21337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2133720"/>
            <a:ext cx="304560" cy="30456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2743200"/>
            <a:ext cx="1828800" cy="1828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0"/>
            <a:ext cx="9144000" cy="6705720"/>
            <a:chOff x="0" y="0"/>
            <a:chExt cx="9144000" cy="6705720"/>
          </a:xfrm>
        </p:grpSpPr>
        <p:grpSp>
          <p:nvGrpSpPr>
            <p:cNvPr id="92" name=""/>
            <p:cNvGrpSpPr/>
            <p:nvPr/>
          </p:nvGrpSpPr>
          <p:grpSpPr>
            <a:xfrm>
              <a:off x="304920" y="0"/>
              <a:ext cx="8534160" cy="6705720"/>
              <a:chOff x="304920" y="0"/>
              <a:chExt cx="8534160" cy="6705720"/>
            </a:xfrm>
          </p:grpSpPr>
          <p:sp>
            <p:nvSpPr>
              <p:cNvPr id="93" name=""/>
              <p:cNvSpPr/>
              <p:nvPr/>
            </p:nvSpPr>
            <p:spPr>
              <a:xfrm>
                <a:off x="3049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094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44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2193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5238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8288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337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382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432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481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3526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6576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9625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670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720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769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814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4864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913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958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008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057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102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152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6201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9246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22960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53452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839080" y="0"/>
                <a:ext cx="0" cy="67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0" y="304920"/>
              <a:ext cx="9144000" cy="6400800"/>
              <a:chOff x="0" y="304920"/>
              <a:chExt cx="9144000" cy="6400800"/>
            </a:xfrm>
          </p:grpSpPr>
          <p:sp>
            <p:nvSpPr>
              <p:cNvPr id="123" name=""/>
              <p:cNvSpPr/>
              <p:nvPr/>
            </p:nvSpPr>
            <p:spPr>
              <a:xfrm>
                <a:off x="0" y="3049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6094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9144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2193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15238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18288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21337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24382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27432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0481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3526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6576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9625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42670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45720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48769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51814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54864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57913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609588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640080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6705720"/>
                <a:ext cx="9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" name=""/>
          <p:cNvSpPr/>
          <p:nvPr/>
        </p:nvSpPr>
        <p:spPr>
          <a:xfrm>
            <a:off x="8001000" y="152280"/>
            <a:ext cx="457200" cy="304920"/>
          </a:xfrm>
          <a:prstGeom prst="rightArrow">
            <a:avLst>
              <a:gd name="adj1" fmla="val 50000"/>
              <a:gd name="adj2" fmla="val 5414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8610120" y="6248160"/>
            <a:ext cx="457200" cy="304920"/>
          </a:xfrm>
          <a:prstGeom prst="rightArrow">
            <a:avLst>
              <a:gd name="adj1" fmla="val 50000"/>
              <a:gd name="adj2" fmla="val 5414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1904760" y="761760"/>
            <a:ext cx="457200" cy="304920"/>
          </a:xfrm>
          <a:prstGeom prst="rightArrow">
            <a:avLst>
              <a:gd name="adj1" fmla="val 50000"/>
              <a:gd name="adj2" fmla="val 5414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95280" y="152280"/>
            <a:ext cx="457200" cy="304920"/>
          </a:xfrm>
          <a:prstGeom prst="rightArrow">
            <a:avLst>
              <a:gd name="adj1" fmla="val 50000"/>
              <a:gd name="adj2" fmla="val 5414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505320"/>
            <a:ext cx="457200" cy="304560"/>
          </a:xfrm>
          <a:prstGeom prst="rightArrow">
            <a:avLst>
              <a:gd name="adj1" fmla="val 50000"/>
              <a:gd name="adj2" fmla="val 54209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1904760" y="4114440"/>
            <a:ext cx="457200" cy="304920"/>
          </a:xfrm>
          <a:prstGeom prst="rightArrow">
            <a:avLst>
              <a:gd name="adj1" fmla="val 50000"/>
              <a:gd name="adj2" fmla="val 5414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3244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58672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556272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464832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66880" y="49528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373392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3124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5410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48320" y="63244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5410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63244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0384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97180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90512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251460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920" y="17524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838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2952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190512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838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7180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51460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419112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525780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617220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63244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5410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6600" y="5410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63244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49528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49528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63244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53280" y="556272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080" y="35812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53280" y="40384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8880" y="434340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38880" y="3124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251460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3280" y="22096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22096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38880" y="190512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17524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17524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838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600200"/>
            <a:ext cx="15228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7800" y="838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838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7120" y="838080"/>
            <a:ext cx="15228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8380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53280" y="1295280"/>
            <a:ext cx="152640" cy="152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53280" y="1600200"/>
            <a:ext cx="152640" cy="152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219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438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51814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0666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19810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3200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3809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47242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5791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1219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10666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1523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57913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1219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10666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3080" y="15238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467480" y="106668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67480" y="1676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2133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67480" y="27432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39625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4876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20120" y="4876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57913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6T04:44:04Z</dcterms:created>
  <dc:creator>Necromaster</dc:creator>
  <dc:description/>
  <dc:language>en-US</dc:language>
  <cp:lastModifiedBy>Necromaster</cp:lastModifiedBy>
  <dcterms:modified xsi:type="dcterms:W3CDTF">2000-05-06T04:50:21Z</dcterms:modified>
  <cp:revision>2</cp:revision>
  <dc:subject/>
  <dc:title>PowerPoint Presentation</dc:title>
</cp:coreProperties>
</file>