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F73-8BE3-4BB2-A494-F6548987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3B8-F21B-4D22-990F-27DD46B1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3A05-FDB0-49DC-AA9D-44A4C8B9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6DC-48CB-4E8D-B78D-94E882FB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D4A8-FC56-453D-8BF9-F8EF6CBE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8C93-0EFA-434C-949D-7E8C9348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0E92-74DE-4D72-A097-85DA43D4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E0B1-CD78-4EDB-B93B-57A96E7E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207A-2E4A-4241-B86B-CE085306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5FD0-D678-4A79-9802-331176B5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6CCB-9F30-4202-9323-AF962ED3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0C0-AD3D-4400-A3BF-0432FC9B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E03A-3519-4976-BA27-52F37DBA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1271-08F3-466D-8A18-455EF9D5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D811-39DD-4C5B-8055-DD363CC1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9F72-8333-4C36-B74D-92AF458C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4AAE-88E3-4B2A-BF5A-62C5A9DF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D2A-E3BA-4380-8193-C3F59232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30A-B71F-42A0-9F03-F43896CA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D36-B605-4C80-AC65-B3775947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4A3-B0EC-4BCE-A3D4-35F6D3EA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A2D-8DE4-4D76-8F49-1CCCC686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2AC-894F-4D58-BC6C-0A140F4D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876-EF9C-4D22-AADE-D5603FE8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4397-754E-476A-AC2F-A4B8A6341E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04B1-7A4F-4627-A162-647C7A9FDB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++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Oriented Programm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ments in a C++ Progra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line comments start with ‘/*’ and end with ‘*/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line comments start with ‘//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utput Manipulat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w() : can be inserted directly into a cout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 Cout &lt;&lt; “Name:” &lt;&lt; setw(10) &lt;&lt; “Jeeva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display Name: then 10 spaces and then Jeev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l Manipulator: Like pressing 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cout &lt;&lt; “Name” &lt;&lt; end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cklash  Charac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\b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serts a backspace in th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\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serts a tab in th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\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ings a bell(alert) in th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\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ke endl, new line charac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racteristics of OO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aps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 or letter used to indicate some special operation during exec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operato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thmatic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-  *  / 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ry Arithmatic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+A , --A , A--, A+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ational and Logic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compare two val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=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=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&amp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||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ditional Operat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if cond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&gt;b?a:b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ype conversion in express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convert value of a variable while performing an operat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nt 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at b=1.123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=(int) b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und State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ead of a=a+1 you can use a*=1 same with -,*,% and /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Oriented – each program is designed around the data to be processed and Object Oriented Approach defines the relationship between data and its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d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program may be divided in to many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racters used in C++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ters(Upper and Lower c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mal Dig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sic Data Typ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Major Categ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Data ty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ed Data ty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sic Data Typ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er Type(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ger(-128 to 12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er(-32768 to 3276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integer(-2147483648 to 214748364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ating Point(flo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mal form(integers with decim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nent form(e.g 1234 e 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sic Data Types(Cont…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 Type(char):  Non-numeric, numbers are not counted as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d Type(void) : Represents of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++ Toke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oup of characters that logically belong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ers : Symbolic names used by the program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words : Reserved word for c++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s : A number that doesn’t change during the execution of a progr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bles : A Location in computer’s memory that is given a symbolic name and can store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put/Outpu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sol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sole In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ndard err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ffered version of cer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ructure of a C++ Progra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include &lt;header file 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9:13:14Z</dcterms:created>
  <dc:creator>a</dc:creator>
  <dc:description/>
  <dc:language>en-US</dc:language>
  <cp:lastModifiedBy>a</cp:lastModifiedBy>
  <dcterms:modified xsi:type="dcterms:W3CDTF">2001-02-01T19:43:36Z</dcterms:modified>
  <cp:revision>3</cp:revision>
  <dc:subject/>
  <dc:title>C++</dc:title>
</cp:coreProperties>
</file>