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7C9D-6D61-41C9-8ADB-BAEAA1F51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9062-079E-48F4-86B9-441A2EA89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1700-5E37-48CD-95DB-3081CBCF0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5E30-E7D0-4170-9E09-E8DC1B3BC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F81A-17B6-4315-A388-16688D49E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F027-D5AE-47C5-8B70-FF6BECBC5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E934-72B5-40C6-B77D-0ED69F520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8D19-0289-48A1-898D-6C474CE3C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7A0C-795F-4145-8AC7-8D542929A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887D-5779-4DF2-9CE2-4D768A67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EB3B-06A9-4504-8D08-05889EDF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087A-BF05-4269-B9BB-5AF920A9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B1099-9376-438D-99CB-5918B1DB21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ber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ctal Number No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tal is 0-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ting binary to octal is eas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11001 can be grouped in two 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01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lace each group with its octal equival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is 3 and 1 we get 31 as the 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ce we write it a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1001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(31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n’t forget to go through the data representation chapter in your boo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fferent types of number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mal numbers(0-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ary numbers(represented in combinations of 1s and 0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xadecimal numbers(0-9 A-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verting Binary to Decim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each 1s pos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us 1 from th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 each 1 =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position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e end add all the 1s represen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10001001 will be calculated as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44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800" spc="-1" strike="noStrike" baseline="44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800" spc="-1" strike="noStrike" baseline="44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44000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44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44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8+8+1     so the answer is : 1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verting from Decimal to Bin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on dividing the number by 2, the remainder in reverse is your binary dig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 125 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   62   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   31 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   15 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     7 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     3 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     1 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  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67080" y="2743200"/>
            <a:ext cx="0" cy="32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952880" y="2743200"/>
            <a:ext cx="0" cy="32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9880" y="31240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9880" y="35053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09880" y="38862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43434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09880" y="47242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9880" y="51055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55627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e of Binary, Decimal &amp; Hexadeci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600200"/>
          <a:ext cx="8229600" cy="49150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m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a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xadecim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version of Fractional Decimal to Fractional Bin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y the fractional decimal by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sult will be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ra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t and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im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he integer part in a colum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raction part becomes the new f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e the process till the fraction part is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eger part column is your fractional binary dig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of fractional decimal to fractional bin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1600200"/>
          <a:ext cx="8229600" cy="234324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ctional Decimal Nu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ctional part of produ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er part of produ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y by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do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do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441360" y="4227480"/>
            <a:ext cx="824544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ce the original number that was 0.625 was converted into a fractional binary number 0.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sult should be written as (0.625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0.101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version of fractional binary to fractional decim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out binary number as negative powers of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 each power of two into its decimal equi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these to give the decimal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 number : 0.1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2T06:36:33Z</dcterms:created>
  <dc:creator>a</dc:creator>
  <dc:description/>
  <dc:language>en-US</dc:language>
  <cp:lastModifiedBy>Ritesh</cp:lastModifiedBy>
  <dcterms:modified xsi:type="dcterms:W3CDTF">2001-03-09T17:06:46Z</dcterms:modified>
  <cp:revision>6</cp:revision>
  <dc:subject/>
  <dc:title>Number Systems</dc:title>
</cp:coreProperties>
</file>