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E60-CC5D-4828-B3C1-A3181D16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A75-6FCC-498A-B3B4-AE7F46EC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CD3-508A-4879-948F-7E28B3B3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872-7040-45FF-8BEB-5A640E72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42A-8581-4DA5-97E8-471C34FE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029-AE45-437B-8449-69AF0993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CD8-CE0E-4540-9D07-35A97B68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1F0-72A4-49F3-9225-FA6720C7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D9F-50DD-4D50-9E73-A938034B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919-0C34-4B48-AE24-C7E80A2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2C7-E7E1-49C6-9AE7-96065F46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B0D-9400-49EA-8144-28B63A8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E1C2-9CBD-494F-8AE0-E0499EBCE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s in 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oup of related items of differe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rrays but can have multiple types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you cannot have a single array that will store name, age and marks but you can define a structure that will fulfill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reate your own datatype using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efine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 student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 name[2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ro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use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gram you can define a variable that uses the type you defined using the structure for example, we defined a structure named studend, not that structure becomes like a datatype for me. So I define a variable of type “student”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stud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defining a variable of the structure typ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input output statement like shown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 &gt;&gt; stud1.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 &gt;&gt; stud1.ro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use the structured data type for defining an arr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6:52:47Z</dcterms:created>
  <dc:creator>secretary</dc:creator>
  <dc:description/>
  <dc:language>en-US</dc:language>
  <cp:lastModifiedBy>secretary</cp:lastModifiedBy>
  <dcterms:modified xsi:type="dcterms:W3CDTF">1999-02-15T16:53:45Z</dcterms:modified>
  <cp:revision>1</cp:revision>
  <dc:subject/>
  <dc:title>Structures in C++</dc:title>
</cp:coreProperties>
</file>